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977-A949-437A-B907-9151EEA1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AAF-855F-4CD1-9C18-00E03A2C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2A4-C44C-4458-8850-EDFCAE97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F95-F09F-4394-A292-C1329247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F0DD-7C11-459C-93F4-5912E870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B5F3-771E-4382-AF2C-941FCC6A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8527-4209-4923-93AA-FA2A8A95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8742-CD50-424F-BE39-F9FF46C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48B-FE1B-49EF-9610-971ACF2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9DBC-DDB0-4A47-B3EF-975FEC78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E348-1230-4FED-A0FC-CAB6EE53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10E-644A-402C-8087-CDF926E9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B964-A7A0-4AE5-A2C2-60478D8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B7CF-2A74-48FE-8728-0897C97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74C-8379-41EB-B14C-2A411B6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4BC6-AD23-489B-B822-6AC9E9F8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5664-1766-49DF-ABB1-4592D266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111-213D-4250-8CAC-679F74B5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A10-182A-48CD-8363-86AC1EED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D6D-534A-4183-9761-FECD680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5BE-1BD1-48DB-AA60-20DC433A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765-711C-4B23-B473-20B2BBEF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FFA-7CB0-4DE0-9F9F-6D0E097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DCE-23F5-4A51-88A0-286A9ED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52A-64CF-4E13-B1C5-CDDCD606B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5863-4B61-4092-84EE-6D53403E2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1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291960"/>
            <a:ext cx="716292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imes New Roman"/>
              </a:rPr>
              <a:t>Юрт-Акбалык – священная земля…</a:t>
            </a: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Моё родное село в произведениях 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Елизаветы Стюарт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Юрия Магалифа</a:t>
            </a:r>
            <a:br>
              <a:rPr sz="3200"/>
            </a:br>
            <a:r>
              <a:rPr b="0" i="1" lang="ru-RU" sz="3200" spc="-1" strike="noStrike">
                <a:solidFill>
                  <a:srgbClr val="666633"/>
                </a:solidFill>
                <a:latin typeface="Times New Roman"/>
              </a:rPr>
              <a:t>Леонида Решетнико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7242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956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Авторы: Лукъянцев Виталий, Мухамедзянов Русла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Руководители: Абзалимова Альмира Камильев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ahoma"/>
              </a:rPr>
              <a:t>Ходжахмедова Замира Урынбасаровн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457200"/>
            <a:ext cx="655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следние годы жизни Елизавета Константиновна сильно болела. Одно из последних стихотворений связано с её прощальным приездом в 1983 год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22—25.08.83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пасибо, милый домик над ре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непокой твой и за твой по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длинные бессонницы и сон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за стихи — земной тебе покло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не очень труден расставанья миг.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слышишь мой непрозвучавший крик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слышишь мой невырвавшийся стон!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и за них — земной тебе поклон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— краткий свет уже в конце пути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я не возвращусь к тебе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рости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Я покидаю твой жестокий ра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ы только отпусти меня...  Прощай!.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76520" y="380880"/>
            <a:ext cx="69339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3 февраля 1984 года ушла из жизни Елизавета Стюарт. И как послание будущему поколению, нам, живущим, и как последний привет нашей деревне ещё одно стихотворение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оль поедешь в этот кра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т меня привет ты переда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уличкам над рекой Уень и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Костянике в лесу осеннем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долень - траве на грибной тропе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олотой паутинке в полете,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Еще клюковке на болоте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228600"/>
            <a:ext cx="7239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 другом поэте и писателе хочется начать говорить со слов Е. Стюар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Ю. МАГАЛИФ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похож на человек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с четверговой свечкой тонк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от он вышел в непогод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туманный путь далек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, прикрыв свечу от ветра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словно малого ребенка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шагает, сберегая ненадежный огонек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чь тревожна и огромн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дыханье ветра влажно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клубящиеся тучи провисают тяжело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чего ему не страшн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чего ему не важно.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Как во тьме ты шел — спросил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Он ответил: — Мне светло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испытываю зависть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росто зависть к человеку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 несет в ночи у сердц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уть прозрачную ладонь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завидую жестоко, потому что ветер век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огасил во мне до срок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тот спасительный огонь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380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28600"/>
            <a:ext cx="60199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Юрий Михайлович Магалиф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е менее известный писатель и поэт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Юрий Магалиф тоже любил отдыхать в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аших краях. В Юрт- Акбалык он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иезжал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 середины 50 –х годов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следний его приезд был в 1993 году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Юрий Михайлович жил жизнью нашего села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сал о его людях, о труде на земле, встречался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 детьми, читал им свои произведения, произведения других писателей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 словам очевидцев Юрий Михайлович великолепно читал стихи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десь он закончил знаменитую «Жаконю».. 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3808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04920"/>
            <a:ext cx="624816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з воспоминаний Сатышевой Халимы Мухамадшеевны, учителя Юрт-Акбалыкской школы: «Я помню, как Юрий Михайлович улыбался, склонившись над тетрадкой, за столом у нас в доме. Вдруг громко рассмеялся, как ребенок и весело мне подмигнув, сказал, что очень скоро познакомит меня с Жаконей. Тогда мне казалось, что этот человек с загадочным именем «Магалиф» и есть самый добрый волшебник, способный оживить сказку и дружить с её героями»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 нашем селе были написаны его повести «Что в сердце твоем» 1963- 74 годы, «Продается изба» 1972 – 74 годы, «Для всех и для тебя» 1973 – 75 годы. Цикл «Караярские рассказы» посвящён Юрт-Акбалыку. Прототипами для героев рассказов стали жители нашего села: братья Хабибулины, Мавлютов Малик и другие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дно из стихотворений Юрия Магалифа называется «Юрт- Акбалыкская школа.»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43200" y="239760"/>
            <a:ext cx="609588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Юрт-Акбалыкская школа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десь время наполнено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мным трудом               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ерьёзным трудом и веселым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жнее он многих на свете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десь дружно сидят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учебным столом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оветские добрые дети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тсюда с родного порога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ля каждого мастера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деле своем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ирокая ляжет дорога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 соснами длинны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венчатый дом –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 мире, о счастье мечтает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светлое облако легким крылом</a:t>
            </a: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покойно его прикрывае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791080" cy="4029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76520" y="380880"/>
            <a:ext cx="40384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еонид Васильевич Решетников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мнят в Юрт- Акбалыке и  Леонида Решетникова. Строки его стихов рождены живыми впечатлениями от красоты природы нашего края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 книгу Л. Решетникова «Годы», (Новосибирск. Западно-сибирское книжное издательство 1980 год) включен цикл стихов «Ранняя зима в Юрт- Акбалыке»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00200" y="228600"/>
            <a:ext cx="7086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а сеево с неба струится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 садится подоблачный пух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платки пуховые и лиц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деревья сквозные и луг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лошадку, что тихо и мудро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Долго хрумкает в торбе с овсом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ак на сдобе крупитчатой - пудр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 - повсюду, везде и на всем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А на тракторе, тянущем в гору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ору сена на санном ходу,-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и снежинки, как в летнюю пору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ишь сенинки дрожат на ходу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Снег, садясь на покатость капот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На железный, дымящийся лоб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Враз сдается, подобием пот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 капоту стекая в сугроб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380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09480"/>
            <a:ext cx="609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Молчит река, сама себя не слыш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од толщей льда и щеткой камыш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ишь белый снег на пряничные крыши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з белых туч струится не спеш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И этот снег - сверкающий как иней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ак белый пух - порхающ и текуч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н падает наклонно, из-за линий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Летящих низко-низко сизых туч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Куда глядит, бегущий вдоль сарая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усак, по насту гузку волоч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Треща крылом и снег перебирая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Озябшей лапой цвета кумача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57200"/>
            <a:ext cx="3429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има была белым-бел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о не однообразна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на горела и цвел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веркающе и разно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о - белым цветом с голубым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о – белым с фиолетовым,-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Любым огнём, цветком любым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помнившимся с лета ва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А то в начале самом дня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За песней глухариной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друг вспыхнут сполохи огня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ющие рябиной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Рябина, не тебя ль с лих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спели и оплакали?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еревья с рыжей голо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Стоят в снегу, как факелы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доль полисадов и оград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редя гуськом, как птицы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ни дымятся и горят,-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 снег вокруг дымится.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Юрт- Акбалык – небольшое село в Колыванском районе Новосибирской области. Численность населения около 300 человек, большую часть его составляют татары. Природа очень живописна и разнообразна. Кедры, сосны, река Уень, бескрайние луга и березовые околотки вызывают незабываемые впечатл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5335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80880"/>
            <a:ext cx="6705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ое маленькое село сыграло большую роль в жизни известных людей. Юрт – Акбалык был для них тихой пристанью, дарившей вдохновенье. И в благодарность они увековечили его в своих произведениях. Никогда не сотрутся из памяти строки Е. Стюарт, Ю. Магалифа, Л. Решетникова, воспевающие наш край. Сейчас в Сибири в маленьких селах и деревнях пустеют дома, смолкают голоса и деревеньки исчезают. Но мы уверены что наше село такая судьба не постигнет. Не может исчезнуть край, который стал целым поэтическим миром для Елизаветы Стюарт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ойди в мой мир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и ты его полюбишь: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Он полон той особой тишины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Когда видны невидимые глуби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И шорохи неслышные слышны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Край, который подарил Юрию Магалифу строки: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Как важно убедиться нам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 том, что от наших сочинени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Останется хоть миллиграмм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00"/>
                </a:solidFill>
                <a:latin typeface="Times New Roman"/>
              </a:rPr>
              <a:t>В крови далеких поколений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ы, новое поколение с благодарностью храним память об этих людях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Приложе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971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380880"/>
            <a:ext cx="693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Юрт – Акбалык славен известными людьми, которые приезжали на некоторое  время к нам в  деревню. Эти люди не просто отдыхали, а творчески работали. Многие свои произведения они написали именно у нас. Мы благодарны им за их труд, за то, что они воспели в своих произведениях наш край, землю, людей, которые на ней трудятся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У нас в деревне есть поверье. Говорят, кто испьет воды ключевой из родника, что у самой реки, тот не захочет от нас уезжать. А если не сможет остаться, то оставит у нас частичку своей души. Край могучего кедра, корабельной сосны и зеркальных озер словно магнит тянет к себе все прекрасное и нежное. Вдыхая аромат свежей смолы, умываясь росой, ты вдруг открываешь в себе то самое прекрасное, что таится где – то в глубине души. И даришь это людям, делая мир лучше и красивее. И мы верим, что в каждом из нас живет та частица добра, чистоты и нежности, которую оставили у нас поэты  Елизавета Стюарт, Юрий Магалиф, Леонид Решетников, Елена Коронатова, художники Владимир Колесников,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Фокин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Елизавета Стюарт: Я прошу: вспоминайте меня… http://www.vn.ru/data/2007_05/09/img85945/18b.jpg"/>
          <p:cNvPicPr/>
          <p:nvPr/>
        </p:nvPicPr>
        <p:blipFill>
          <a:blip r:embed="rId1"/>
          <a:stretch/>
        </p:blipFill>
        <p:spPr>
          <a:xfrm>
            <a:off x="6518160" y="0"/>
            <a:ext cx="2625840" cy="3543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1600" y="304920"/>
            <a:ext cx="49528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</a:rPr>
              <a:t>Елизавета Константиновна Стюарт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сть в поэзии имена, которые говорят сами за себя. Имя Елизаветы Стюарт как раз из них. За долгую жизнь она создала обширную и прекрасную поэтическую страну, где хватило места для взрослых и детей, пьесам и перевода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00"/>
                </a:solidFill>
                <a:latin typeface="Times New Roman"/>
              </a:rPr>
              <a:t>Войди в мой мир и ты его полюбишь:                                                    Он полон той особой тишины,                                                            Когда видны невидимые глуби                                                                 И шорохи неслышные слышны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ё собственные произведения тоже переведены на многие языки. И на российском поэтическом небосклоне она, безусловно, одна из звезд первой величины.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5335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380880"/>
            <a:ext cx="693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Юрт – Акбалык Елизавета Константиновна приезжала с 1960 года Многие из её произведений посвящены нашему селу. Сюда она стремилась, чтобы отдохнуть, вдохновляться и писать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Как она спешила уехать от шумной суеты города, сюда в тихий уютный уголок Сибир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зжаю к кедрам,                                                                                         Уезжаю к соснам.                                                                                         Буду самой первой                                                                                       Утром видеть солнце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чень живописно Стюарт говорит в своих стихах о нашей природ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а окошком кедры важны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Нянчат месяц молодой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везды те, что поотважнее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Ходят к речке за водой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асколько было важно для неё уединение и покой, который она обретала у нас можно судить по её произведениям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 них Елизавета Константиновна раскрыла всю красоту и очарование нашего края. Река Уень, сосны, кедры, луга словно оживают и становятся твоими собеседниками, понимают тебя, сочувствуют. Читая, стихи Елизаветы Стюарт видишь свою малою Родину как маленькую сказочную стран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3880" y="609480"/>
            <a:ext cx="457200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Юрт – Акбалык – священная земля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Зеленый мир на берегу Уен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Гуденье захмелевшего шмеля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Рябины рденье и стихов рождени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Песок прибрежный в крестиках следов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о кулички резвились на простор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Моих друзей гостеприимный кров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на губах недавний привкус горя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1968 г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нь это слово звенит как струн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ень – это речки название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У речки таинственная глуби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медленное дыхани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о влево, то вправо ухолит он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лилии сонно колышет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Такая над речкой стоит тишина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Что самое тайное слышит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1963 г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76520" y="380880"/>
            <a:ext cx="701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17.04.68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ЮРТ-АКБАЛЫКУ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в жизни знала горя мног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Быть может, только для того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 снова повела дорога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даль от порога моего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, не сгибая грузом плечи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Я выходила налегке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усть и не утром, а под вечер —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К твоим кедровникам навстречу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зимородку на рек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Чтоб снова я, тебя увидев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ля сердца обрела пок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воли не дала обиде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а то, что жизнь была такой..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24080" y="3078000"/>
            <a:ext cx="33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8748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ОМИК С ДЕРЕВЯННЫМ ПЕТУШКОМ НА КОНЬКЕ КРЫШИ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Был маленький домик в таежном краю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Хранил он тревожную душу мою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и в чем не винил, ни за что не кори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орою ночами стихи мне дари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арил мне зарницы и легкие сны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До осени поздней от ранней весны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А осенью двери за мной закрыва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 свидание верил и преданно жда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кто-то другой на крылечко взошел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сердце мое на пороге нашел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Звезда ли мелькнула, костер ли блеснул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болью меня этот свет полоснул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А тот, кто явился в чужое жилье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В нем занял законное место свое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о умерло прежнее чудо в дому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не было счастья пришельцу тому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Тропинка друзей от него увела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 трижды рябинка уже не цвел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Печурка при нем не хотела гореть,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Не мог он ни руки, ни душу согреть,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Ему петушок обернулся совой —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Избушку хранил не его домовой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0" y="30492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***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А ты простишь мне долгую отлучку?          Прости – ведь я не по своей вине…              Пусти ко  мне ту розовую тучку,                   Прошу тебя, пусти её ко мне!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Погладь меня колючей хвойной лапой,                   Дай кисть рябины, дай ручья глоток,          Позволь дождю небойкому закрапать, Навстречу вышли новенький росток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И я пойму, что ты меня простила,               Поверив, - не моя вина была,                             Что я давно у речки не гостила,                          В лес не ходила, ягод не брала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Меня сгибали годы и невзгоды                                   И покидали люди и стихи,                                  Но я всегда   в твои гляделась воды,                 Меня твои будили петухи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Хочу опять испить твоей росы я,              Избыть всю горечь душу не тая,              Кедровый рай,                                                                                                                            суровый край России, -                                        Судьба моя, кровиночка моя…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G</cp:lastModifiedBy>
  <dcterms:modified xsi:type="dcterms:W3CDTF">2007-12-26T05:30:2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