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353-ADFF-43F8-9FCC-8DA42294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C1E-62B0-431D-AD27-60E9D1FE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0FD-5E80-4350-925B-954BB156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09E-5DD3-4352-B838-4B231A8E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BB19-CF3A-405A-9A22-FEC46E88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5C2A-64A8-4BFD-AB66-126AD35F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62AA-F5BA-41F1-8DCA-1328E391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BF0C-45D7-48FD-88E7-50816320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0D7A-802C-4F0D-95B9-F963D774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8513-7627-42A1-80BA-87DCF106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D22F-1D3F-46D6-B38D-90C08D4E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0CD-14E0-4379-9FBF-A71D13F2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59AA-8B16-4A01-B056-F1DDF93C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4505-3BC6-44AE-9646-AEC1D32D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F9F7-07DE-42F6-AFE6-1D311158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1BD2-4CDB-4491-AC0C-13904F55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453F-CEAC-451A-A052-08928809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8C9-741F-4208-99D3-E6F54EAC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055-1B27-4546-8421-CE9601A1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C89-BA5F-4641-95ED-E0C8DC2A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63C8-9218-4CF1-BE1A-539B745B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FB36-A615-440A-A149-3AFDB038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A74-EA6C-4105-A148-C1E775B1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C3D-BA25-4320-A4FB-8568CF8D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38E9-5284-47F6-A559-97ECB1F084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A034-FB18-459D-BCBC-A83BBFDFA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1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520" y="291960"/>
            <a:ext cx="7162920" cy="412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33"/>
                </a:solidFill>
                <a:latin typeface="Times New Roman"/>
              </a:rPr>
              <a:t>Юрт-Акбалык – священная земля…</a:t>
            </a:r>
            <a:br>
              <a:rPr sz="4400"/>
            </a:br>
            <a:br>
              <a:rPr sz="4400"/>
            </a:br>
            <a:r>
              <a:rPr b="0" i="1" lang="ru-RU" sz="3200" spc="-1" strike="noStrike">
                <a:solidFill>
                  <a:srgbClr val="666633"/>
                </a:solidFill>
                <a:latin typeface="Times New Roman"/>
              </a:rPr>
              <a:t>Моё родное село в произведениях </a:t>
            </a:r>
            <a:br>
              <a:rPr sz="3200"/>
            </a:br>
            <a:r>
              <a:rPr b="0" i="1" lang="ru-RU" sz="3200" spc="-1" strike="noStrike">
                <a:solidFill>
                  <a:srgbClr val="666633"/>
                </a:solidFill>
                <a:latin typeface="Times New Roman"/>
              </a:rPr>
              <a:t>Елизаветы Стюарт</a:t>
            </a:r>
            <a:br>
              <a:rPr sz="3200"/>
            </a:br>
            <a:r>
              <a:rPr b="0" i="1" lang="ru-RU" sz="3200" spc="-1" strike="noStrike">
                <a:solidFill>
                  <a:srgbClr val="666633"/>
                </a:solidFill>
                <a:latin typeface="Times New Roman"/>
              </a:rPr>
              <a:t>Юрия Магалифа</a:t>
            </a:r>
            <a:br>
              <a:rPr sz="3200"/>
            </a:br>
            <a:r>
              <a:rPr b="0" i="1" lang="ru-RU" sz="3200" spc="-1" strike="noStrike">
                <a:solidFill>
                  <a:srgbClr val="666633"/>
                </a:solidFill>
                <a:latin typeface="Times New Roman"/>
              </a:rPr>
              <a:t>Леонида Решетников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47242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44956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ahoma"/>
              </a:rPr>
              <a:t>Авторы: Лукъянцев Виталий, Мухамедзянов Руслан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ahoma"/>
              </a:rPr>
              <a:t>Руководители: Абзалимова Альмира Камильевна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ahoma"/>
              </a:rPr>
              <a:t>Ходжахмедова Замира Урынбасаровна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0" y="457200"/>
            <a:ext cx="655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следние годы жизни Елизавета Константиновна сильно болела. Одно из последних стихотворений связано с её прощальным приездом в 1983 году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22—25.08.83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пасибо, милый домик над рекой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а непокой твой и за твой покой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а длинные бессонницы и сон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И за стихи — земной тебе поклон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не очень труден расставанья миг..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ы слышишь мой непрозвучавший крик!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ы слышишь мой невырвавшийся стон!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Но и за них — земной тебе поклон!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ы — краткий свет уже в конце пути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Но я не возвращусь к тебе…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             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рости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Я покидаю твой жестокий рай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ы только отпусти меня...  Прощай!.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76520" y="380880"/>
            <a:ext cx="693396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3 февраля 1984 года ушла из жизни Елизавета Стюарт. И как послание будущему поколению, нам, живущим, и как последний привет нашей деревне ещё одно стихотворение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Коль поедешь в этот край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т меня привет ты передай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Куличкам над рекой Уень и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Костянике в лесу осеннем,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долень - траве на грибной тропе,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Золотой паутинке в полете,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Еще клюковке на болоте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23880" y="228600"/>
            <a:ext cx="72392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О другом поэте и писателе хочется начать говорить со слов Е. Стюарт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Ю. МАГАЛИФУ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Он похож на человека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с четверговой свечкой тонкой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Вот он вышел в непогоду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туманный путь далек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о, прикрыв свечу от ветра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словно малого ребенка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Он шагает, сберегая ненадежный огонек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очь тревожна и огромна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дыханье ветра влажно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клубящиеся тучи провисают тяжело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ичего ему не страшно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ичего ему не важно. —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Как во тьме ты шел — спросили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Он ответил: — Мне светло!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Я испытываю зависть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просто зависть к человеку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Что несет в ночи у сердца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чуть прозрачную ладонь.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Я завидую жестоко, потому что ветер века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Погасил во мне до срока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тот спасительный огонь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600200" y="380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228600"/>
            <a:ext cx="601992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Юрий Михайлович Магалиф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Не менее известный писатель и поэт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Юрий Магалиф тоже любил отдыхать в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наших краях. В Юрт- Акбалык он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риезжал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с середины 50 –х годов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оследний его приезд был в 1993 году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Юрий Михайлович жил жизнью нашего села,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исал о его людях, о труде на земле, встречался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с детьми, читал им свои произведения, произведения других писателей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о словам очевидцев Юрий Михайлович великолепно читал стихи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Здесь он закончил знаменитую «Жаконю».. 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09680" y="3808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304920"/>
            <a:ext cx="6248160" cy="62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Из воспоминаний Сатышевой Халимы Мухамадшеевны, учителя Юрт-Акбалыкской школы: «Я помню, как Юрий Михайлович улыбался, склонившись над тетрадкой, за столом у нас в доме. Вдруг громко рассмеялся, как ребенок и весело мне подмигнув, сказал, что очень скоро познакомит меня с Жаконей. Тогда мне казалось, что этот человек с загадочным именем «Магалиф» и есть самый добрый волшебник, способный оживить сказку и дружить с её героями».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В нашем селе были написаны его повести «Что в сердце твоем» 1963- 74 годы, «Продается изба» 1972 – 74 годы, «Для всех и для тебя» 1973 – 75 годы. Цикл «Караярские рассказы» посвящён Юрт-Акбалыку. Прототипами для героев рассказов стали жители нашего села: братья Хабибулины, Мавлютов Малик и другие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Одно из стихотворений Юрия Магалифа называется «Юрт- Акбалыкская школа.»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743200" y="239760"/>
            <a:ext cx="6095880" cy="70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д соснами длинный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Бревенчатый дом –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Юрт-Акбалыкская школа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десь время наполнено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Умным трудом                        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ерьёзным трудом и веселым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д соснами длинный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Бревенчатый дом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ажнее он многих на свете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десь дружно сидят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а учебным столом  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оветские добрые дети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д соснами длинны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Бревенчатый дом –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Отсюда с родного порога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Для каждого мастера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 деле своем         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Широкая ляжет дорога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д соснами длинны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Бревенчатый дом –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О мире, о счастье мечтает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И светлое облако легким крылом</a:t>
            </a: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покойно его прикрывает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2791080" cy="4029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76520" y="380880"/>
            <a:ext cx="403848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Леонид Васильевич Решетников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Помнят в Юрт- Акбалыке и  Леонида Решетникова. Строки его стихов рождены живыми впечатлениями от красоты природы нашего края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В книгу Л. Решетникова «Годы», (Новосибирск. Западно-сибирское книжное издательство 1980 год) включен цикл стихов «Ранняя зима в Юрт- Акбалыке».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00200" y="228600"/>
            <a:ext cx="7086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Снега сеево с неба струится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И садится подоблачный пух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на платки пуховые и лиц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на деревья сквозные и луг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На лошадку, что тихо и мудро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Долго хрумкает в торбе с овсом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Как на сдобе крупитчатой - пудр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Снег - повсюду, везде и на всем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А на тракторе, тянущем в гору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ору сена на санном ходу,-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Ни снежинки, как в летнюю пору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Лишь сенинки дрожат на ходу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Снег, садясь на покатость капот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На железный, дымящийся лоб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Враз сдается, подобием пота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По капоту стекая в сугроб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752480" y="3808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609480"/>
            <a:ext cx="6096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Молчит река, сама себя не слыш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Под толщей льда и щеткой камыша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Лишь белый снег на пряничные крыши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Из белых туч струится не спеша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И этот снег - сверкающий как иней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Как белый пух - порхающ и текуч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Он падает наклонно, из-за линий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Летящих низко-низко сизых туч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Куда глядит, бегущий вдоль сарая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усак, по насту гузку волоч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Треща крылом и снег перебирая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Озябшей лапой цвета кумача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905120" y="762120"/>
            <a:ext cx="579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457200"/>
            <a:ext cx="342900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има была белым-бела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Но не однообразна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Она горела и цвела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веркающе и разно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о - белым цветом с голубым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о – белым с фиолетовым,-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Любым огнём, цветком любым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апомнившимся с лета вам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А то в начале самом дня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а песней глухариной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друг вспыхнут сполохи огня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ющие рябиной…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Рябина, не тебя ль с лихво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оспели и оплакали?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Деревья с рыжей голово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тоят в снегу, как факелы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доль полисадов и оград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Бредя гуськом, как птицы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Они дымятся и горят,-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И снег вокруг дымится.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Спра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Arial"/>
              </a:rPr>
              <a:t>Юрт- Акбалык – небольшое село в Колыванском районе Новосибирской области. Численность населения около 300 человек, большую часть его составляют татары. Природа очень живописна и разнообразна. Кедры, сосны, река Уень, бескрайние луга и березовые околотки вызывают незабываемые впечатлени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81080" y="533520"/>
            <a:ext cx="632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380880"/>
            <a:ext cx="670572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ое маленькое село сыграло большую роль в жизни известных людей. Юрт – Акбалык был для них тихой пристанью, дарившей вдохновенье. И в благодарность они увековечили его в своих произведениях. Никогда не сотрутся из памяти строки Е. Стюарт, Ю. Магалифа, Л. Решетникова, воспевающие наш край. Сейчас в Сибири в маленьких селах и деревнях пустеют дома, смолкают голоса и деревеньки исчезают. Но мы уверены что наше село такая судьба не постигнет. Не может исчезнуть край, который стал целым поэтическим миром для Елизаветы Стюарт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Войди в мой мир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и ты его полюбишь: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Он полон той особой тишины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Когда видны невидимые глуби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И шорохи неслышные слышны…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Край, который подарил Юрию Магалифу строки: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Как важно убедиться нам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В том, что от наших сочинени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Останется хоть миллиграмм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В крови далеких поколений…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ы, новое поколение с благодарностью храним память об этих людях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Приложение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29718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3880" y="380880"/>
            <a:ext cx="6934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Юрт – Акбалык славен известными людьми, которые приезжали на некоторое  время к нам в  деревню. Эти люди не просто отдыхали, а творчески работали. Многие свои произведения они написали именно у нас. Мы благодарны им за их труд, за то, что они воспели в своих произведениях наш край, землю, людей, которые на ней трудятся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У нас в деревне есть поверье. Говорят, кто испьет воды ключевой из родника, что у самой реки, тот не захочет от нас уезжать. А если не сможет остаться, то оставит у нас частичку своей души. Край могучего кедра, корабельной сосны и зеркальных озер словно магнит тянет к себе все прекрасное и нежное. Вдыхая аромат свежей смолы, умываясь росой, ты вдруг открываешь в себе то самое прекрасное, что таится где – то в глубине души. И даришь это людям, делая мир лучше и красивее. И мы верим, что в каждом из нас живет та частица добра, чистоты и нежности, которую оставили у нас поэты  Елизавета Стюарт, Юрий Магалиф, Леонид Решетников, Елена Коронатова, художники Владимир Колесников, 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Фокин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Елизавета Стюарт: Я прошу: вспоминайте меня… http://www.vn.ru/data/2007_05/09/img85945/18b.jpg"/>
          <p:cNvPicPr/>
          <p:nvPr/>
        </p:nvPicPr>
        <p:blipFill>
          <a:blip r:embed="rId1"/>
          <a:stretch/>
        </p:blipFill>
        <p:spPr>
          <a:xfrm>
            <a:off x="6518160" y="0"/>
            <a:ext cx="2625840" cy="3543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71600" y="304920"/>
            <a:ext cx="495288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ahoma"/>
              </a:rPr>
              <a:t>Елизавета Константиновна Стюарт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Есть в поэзии имена, которые говорят сами за себя. Имя Елизаветы Стюарт как раз из них. За долгую жизнь она создала обширную и прекрасную поэтическую страну, где хватило места для взрослых и детей, пьесам и переводам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00"/>
                </a:solidFill>
                <a:latin typeface="Times New Roman"/>
              </a:rPr>
              <a:t>Войди в мой мир и ты его полюбишь:                                                    Он полон той особой тишины,                                                            Когда видны невидимые глуби                                                                 И шорохи неслышные слышны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Её собственные произведения тоже переведены на многие языки. И на российском поэтическом небосклоне она, безусловно, одна из звезд первой величины.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28800" y="5335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380880"/>
            <a:ext cx="6934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 Юрт – Акбалык Елизавета Константиновна приезжала с 1960 года Многие из её произведений посвящены нашему селу. Сюда она стремилась, чтобы отдохнуть, вдохновляться и писать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Как она спешила уехать от шумной суеты города, сюда в тихий уютный уголок Сибири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Уезжаю к кедрам,                                                                                         Уезжаю к соснам.                                                                                         Буду самой первой                                                                                       Утром видеть солнце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Очень живописно Стюарт говорит в своих стихах о нашей природе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За окошком кедры важные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Нянчат месяц молодой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Звезды те, что поотважнее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Ходят к речке за водой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Насколько было важно для неё уединение и покой, который она обретала у нас можно судить по её произведениям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 них Елизавета Константиновна раскрыла всю красоту и очарование нашего края. Река Уень, сосны, кедры, луга словно оживают и становятся твоими собеседниками, понимают тебя, сочувствуют. Читая, стихи Елизаветы Стюарт видишь свою малою Родину как маленькую сказочную страну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3880" y="609480"/>
            <a:ext cx="457200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Юрт – Акбалык – священная земля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Зеленый мир на берегу Уени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Гуденье захмелевшего шмеля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Рябины рденье и стихов рождение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Песок прибрежный в крестиках следов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То кулички резвились на просторе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Моих друзей гостеприимный кров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И на губах недавний привкус горя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1968 г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Уень это слово звенит как струна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Уень – это речки название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У речки таинственная глубина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И медленное дыхание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То влево, то вправо ухолит она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И лилии сонно колышет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Такая над речкой стоит тишина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Что самое тайное слышит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1963 г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676520" y="380880"/>
            <a:ext cx="7010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17.04.68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ЮРТ-АКБАЛЫКУ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Я в жизни знала горя много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Быть может, только для того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Чтоб снова повела дорога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Вдаль от порога моего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Чтоб, не сгибая грузом плечи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Я выходила налегке —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Пусть и не утром, а под вечер —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К твоим кедровникам навстречу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зимородку на реке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Чтоб снова я, тебя увидев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Для сердца обрела поко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воли не дала обиде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а то, что жизнь была такой..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124080" y="3078000"/>
            <a:ext cx="33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8748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ДОМИК С ДЕРЕВЯННЫМ ПЕТУШКОМ НА КОНЬКЕ КРЫШИ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Был маленький домик в таежном краю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Хранил он тревожную душу мою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и в чем не винил, ни за что не корил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Порою ночами стихи мне дарил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Дарил мне зарницы и легкие сны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До осени поздней от ранней весны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А осенью двери за мной закрывал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В свидание верил и преданно ждал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о кто-то другой на крылечко взошел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сердце мое на пороге нашел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Звезда ли мелькнула, костер ли блеснул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о болью меня этот свет полоснул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А тот, кто явился в чужое жилье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В нем занял законное место свое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о умерло прежнее чудо в дому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не было счастья пришельцу тому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Тропинка друзей от него увела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трижды рябинка уже не цвела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Печурка при нем не хотела гореть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е мог он ни руки, ни душу согреть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Ему петушок обернулся совой —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збушку хранил не его домово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0" y="30492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А ты простишь мне долгую отлучку?          Прости – ведь я не по своей вине…              Пусти ко  мне ту розовую тучку,                   Прошу тебя, пусти её ко мне!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Погладь меня колючей хвойной лапой,                   Дай кисть рябины, дай ручья глоток,          Позволь дождю небойкому закрапать, Навстречу вышли новенький росток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И я пойму, что ты меня простила,               Поверив, - не моя вина была,                             Что я давно у речки не гостила,                          В лес не ходила, ягод не брала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Меня сгибали годы и невзгоды                                   И покидали люди и стихи,                                  Но я всегда   в твои гляделась воды,                 Меня твои будили петухи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Хочу опять испить твоей росы я,              Избыть всю горечь душу не тая,              Кедровый рай,                                                                                                                            суровый край России, -                                        Судьба моя, кровиночка моя…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G</cp:lastModifiedBy>
  <dcterms:modified xsi:type="dcterms:W3CDTF">2007-12-26T05:30:2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