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B0B-8F56-40AD-B976-EADD042F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AA3-EDF2-4D76-8A13-87070FAF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081-B8F9-426D-85CC-6881304D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FD2-7180-4422-881F-FCFB1B79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7A43-F307-4F06-80EB-8F7A7291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6BE7-774F-4B82-812B-5703729F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6A09-D0C0-45DA-9E13-25932A87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C7FA-03D2-4999-94F4-D3B9E01C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239B-964A-405C-8ABF-F59916F0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0514-78C3-41FE-83A5-BB3BBAEE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0CC9-010C-48E5-A07C-BF6E4D1C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E5A-B4FD-4584-B010-2C7C594C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98BD-F30C-46D7-B300-239C5A4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F2D-7D8A-410E-9012-D8A275CA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470B-E66E-4AC2-82E1-8DD7FCF5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DD3C-14D7-4BA8-B00F-3FB8267E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7C01-E90F-4D5F-A583-911560E1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E8B-240E-4388-A7C0-6E08AFF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229-8F76-41B0-AEFF-0B444BBE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2D3-007E-4448-A20A-D919BDA2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7C5-0503-41F1-9CBB-951978D8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6A0-DF70-417F-A20D-59857587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B4F-7BF9-4583-9750-275E6E9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B83-EE6A-4DE4-A4FE-A657C7CE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2597-EDE5-4BB9-8447-5F4CA6631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888B-7169-4EB1-B371-ACA4A41C9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1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291960"/>
            <a:ext cx="7162920" cy="41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imes New Roman"/>
              </a:rPr>
              <a:t>Юрт-Акбалык – священная земля…</a:t>
            </a:r>
            <a:br>
              <a:rPr sz="4400"/>
            </a:br>
            <a:br>
              <a:rPr sz="44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Моё родное село в произведениях </a:t>
            </a:r>
            <a:br>
              <a:rPr sz="32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Елизаветы Стюарт</a:t>
            </a:r>
            <a:br>
              <a:rPr sz="32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Юрия Магалифа</a:t>
            </a:r>
            <a:br>
              <a:rPr sz="32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Леонида Решетнико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7242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956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ahoma"/>
              </a:rPr>
              <a:t>Авторы: Лукъянцев Виталий, Мухамедзянов Руслан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ahoma"/>
              </a:rPr>
              <a:t>Руководители: Абзалимова Альмира Камильевн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ahoma"/>
              </a:rPr>
              <a:t>Ходжахмедова Замира Урынбасаровн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0" y="457200"/>
            <a:ext cx="655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следние годы жизни Елизавета Константиновна сильно болела. Одно из последних стихотворений связано с её прощальным приездом в 1983 году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22—25.08.83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пасибо, милый домик над рек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непокой твой и за твой пок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длинные бессонницы и сон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 за стихи — земной тебе поклон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не очень труден расставанья миг..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слышишь мой непрозвучавший крик!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слышишь мой невырвавшийся стон!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о и за них — земной тебе поклон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— краткий свет уже в конце пути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о я не возвращусь к тебе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рости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Я покидаю твой жестокий ра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только отпусти меня...  Прощай!.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76520" y="380880"/>
            <a:ext cx="693396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3 февраля 1984 года ушла из жизни Елизавета Стюарт. И как послание будущему поколению, нам, живущим, и как последний привет нашей деревне ещё одно стихотворение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Коль поедешь в этот край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т меня привет ты передай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Куличкам над рекой Уень и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Костянике в лесу осеннем,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долень - траве на грибной тропе,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олотой паутинке в полете,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Еще клюковке на болоте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3880" y="228600"/>
            <a:ext cx="7239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 другом поэте и писателе хочется начать говорить со слов Е. Стюарт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Ю. МАГАЛИФУ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н похож на человек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с четверговой свечкой тонк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от он вышел в непогоду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туманный путь далек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, прикрыв свечу от ветра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словно малого ребенка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н шагает, сберегая ненадежный огонек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чь тревожна и огромн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дыханье ветра влажно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клубящиеся тучи провисают тяжело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ичего ему не страшно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ичего ему не важно. —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Как во тьме ты шел — спросил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н ответил: — Мне светло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испытываю зависть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росто зависть к человеку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 несет в ночи у сердц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уть прозрачную ладонь.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завидую жестоко, потому что ветер век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огасил во мне до срок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тот спасительный огонь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0200" y="380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228600"/>
            <a:ext cx="60199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Юрий Михайлович Магалиф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Не менее известный писатель и поэт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Юрий Магалиф тоже любил отдыхать в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наших краях. В Юрт- Акбалык он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иезжал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 середины 50 –х годов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оследний его приезд был в 1993 году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Юрий Михайлович жил жизнью нашего села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исал о его людях, о труде на земле, встречался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 детьми, читал им свои произведения, произведения других писателей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о словам очевидцев Юрий Михайлович великолепно читал стихи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десь он закончил знаменитую «Жаконю».. 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3808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04920"/>
            <a:ext cx="624816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з воспоминаний Сатышевой Халимы Мухамадшеевны, учителя Юрт-Акбалыкской школы: «Я помню, как Юрий Михайлович улыбался, склонившись над тетрадкой, за столом у нас в доме. Вдруг громко рассмеялся, как ребенок и весело мне подмигнув, сказал, что очень скоро познакомит меня с Жаконей. Тогда мне казалось, что этот человек с загадочным именем «Магалиф» и есть самый добрый волшебник, способный оживить сказку и дружить с её героями»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 нашем селе были написаны его повести «Что в сердце твоем» 1963- 74 годы, «Продается изба» 1972 – 74 годы, «Для всех и для тебя» 1973 – 75 годы. Цикл «Караярские рассказы» посвящён Юрт-Акбалыку. Прототипами для героев рассказов стали жители нашего села: братья Хабибулины, Мавлютов Малик и другие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Одно из стихотворений Юрия Магалифа называется «Юрт- Акбалыкская школа.»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43200" y="239760"/>
            <a:ext cx="609588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–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Юрт-Акбалыкская школа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десь время наполнено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Умным трудом                      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ерьёзным трудом и веселым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ажнее он многих на свете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десь дружно сидят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учебным столом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оветские добрые дети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–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тсюда с родного порога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Для каждого мастера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 деле своем       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ирокая ляжет дорога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–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 мире, о счастье мечтает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 светлое облако легким крылом</a:t>
            </a: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покойно его прикрывает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791080" cy="4029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76520" y="380880"/>
            <a:ext cx="403848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Леонид Васильевич Решетников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мнят в Юрт- Акбалыке и  Леонида Решетникова. Строки его стихов рождены живыми впечатлениями от красоты природы нашего края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 книгу Л. Решетникова «Годы», (Новосибирск. Западно-сибирское книжное издательство 1980 год) включен цикл стихов «Ранняя зима в Юрт- Акбалыке»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00200" y="228600"/>
            <a:ext cx="7086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Снега сеево с неба струится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 садится подоблачный пух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платки пуховые и лиц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деревья сквозные и луг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лошадку, что тихо и мудро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Долго хрумкает в торбе с овсом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Как на сдобе крупитчатой - пудр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Снег - повсюду, везде и на всем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А на тракторе, тянущем в гору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ору сена на санном ходу,-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и снежинки, как в летнюю пору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Лишь сенинки дрожат на ходу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Снег, садясь на покатость капот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железный, дымящийся лоб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раз сдается, подобием пота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 капоту стекая в сугроб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52480" y="3808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609480"/>
            <a:ext cx="6096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Молчит река, сама себя не слыш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д толщей льда и щеткой камыш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Лишь белый снег на пряничные крыш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з белых туч струится не спеш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 этот снег - сверкающий как иней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Как белый пух - порхающ и текуч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Он падает наклонно, из-за линий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Летящих низко-низко сизых туч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Куда глядит, бегущий вдоль сарая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усак, по насту гузку волоч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Треща крылом и снег перебирая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Озябшей лапой цвета кумача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762120"/>
            <a:ext cx="579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57200"/>
            <a:ext cx="3429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има была белым-бела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о не однообразна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на горела и цвел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веркающе и разно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о - белым цветом с голубым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о – белым с фиолетовым,-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Любым огнём, цветком любым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помнившимся с лета вам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А то в начале самом дня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песней глухарин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друг вспыхнут сполохи огня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ющие рябиной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Рябина, не тебя ль с лихв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спели и оплакали?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Деревья с рыжей голов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тоят в снегу, как факелы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доль полисадов и оград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дя гуськом, как птицы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ни дымятся и горят,-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 снег вокруг дымится.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Arial"/>
              </a:rPr>
              <a:t>Юрт- Акбалык – небольшое село в Колыванском районе Новосибирской области. Численность населения около 300 человек, большую часть его составляют татары. Природа очень живописна и разнообразна. Кедры, сосны, река Уень, бескрайние луга и березовые околотки вызывают незабываемые впечатл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5335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380880"/>
            <a:ext cx="670572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ое маленькое село сыграло большую роль в жизни известных людей. Юрт – Акбалык был для них тихой пристанью, дарившей вдохновенье. И в благодарность они увековечили его в своих произведениях. Никогда не сотрутся из памяти строки Е. Стюарт, Ю. Магалифа, Л. Решетникова, воспевающие наш край. Сейчас в Сибири в маленьких селах и деревнях пустеют дома, смолкают голоса и деревеньки исчезают. Но мы уверены что наше село такая судьба не постигнет. Не может исчезнуть край, который стал целым поэтическим миром для Елизаветы Стюарт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Войди в мой мир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и ты его полюбишь: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Он полон той особой тишины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Когда видны невидимые глуби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И шорохи неслышные слышны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Край, который подарил Юрию Магалифу строки: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Как важно убедиться нам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В том, что от наших сочинени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Останется хоть миллиграмм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В крови далеких поколений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ы, новое поколение с благодарностью храним память об этих людях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Приложени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2971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380880"/>
            <a:ext cx="693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Юрт – Акбалык славен известными людьми, которые приезжали на некоторое  время к нам в  деревню. Эти люди не просто отдыхали, а творчески работали. Многие свои произведения они написали именно у нас. Мы благодарны им за их труд, за то, что они воспели в своих произведениях наш край, землю, людей, которые на ней трудятся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У нас в деревне есть поверье. Говорят, кто испьет воды ключевой из родника, что у самой реки, тот не захочет от нас уезжать. А если не сможет остаться, то оставит у нас частичку своей души. Край могучего кедра, корабельной сосны и зеркальных озер словно магнит тянет к себе все прекрасное и нежное. Вдыхая аромат свежей смолы, умываясь росой, ты вдруг открываешь в себе то самое прекрасное, что таится где – то в глубине души. И даришь это людям, делая мир лучше и красивее. И мы верим, что в каждом из нас живет та частица добра, чистоты и нежности, которую оставили у нас поэты  Елизавета Стюарт, Юрий Магалиф, Леонид Решетников, Елена Коронатова, художники Владимир Колесников, 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Фокин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Елизавета Стюарт: Я прошу: вспоминайте меня… http://www.vn.ru/data/2007_05/09/img85945/18b.jpg"/>
          <p:cNvPicPr/>
          <p:nvPr/>
        </p:nvPicPr>
        <p:blipFill>
          <a:blip r:embed="rId1"/>
          <a:stretch/>
        </p:blipFill>
        <p:spPr>
          <a:xfrm>
            <a:off x="6518160" y="0"/>
            <a:ext cx="2625840" cy="3543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71600" y="304920"/>
            <a:ext cx="49528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ahoma"/>
              </a:rPr>
              <a:t>Елизавета Константиновна Стюарт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Есть в поэзии имена, которые говорят сами за себя. Имя Елизаветы Стюарт как раз из них. За долгую жизнь она создала обширную и прекрасную поэтическую страну, где хватило места для взрослых и детей, пьесам и переводам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00"/>
                </a:solidFill>
                <a:latin typeface="Times New Roman"/>
              </a:rPr>
              <a:t>Войди в мой мир и ты его полюбишь:                                                    Он полон той особой тишины,                                                            Когда видны невидимые глуби                                                                 И шорохи неслышные слышны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Её собственные произведения тоже переведены на многие языки. И на российском поэтическом небосклоне она, безусловно, одна из звезд первой величины.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5335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380880"/>
            <a:ext cx="693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 Юрт – Акбалык Елизавета Константиновна приезжала с 1960 года Многие из её произведений посвящены нашему селу. Сюда она стремилась, чтобы отдохнуть, вдохновляться и писать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Как она спешила уехать от шумной суеты города, сюда в тихий уютный уголок Сибир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езжаю к кедрам,                                                                                         Уезжаю к соснам.                                                                                         Буду самой первой                                                                                       Утром видеть солнце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чень живописно Стюарт говорит в своих стихах о нашей природ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За окошком кедры важны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Нянчат месяц молодой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Звезды те, что поотважнее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Ходят к речке за водой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асколько было важно для неё уединение и покой, который она обретала у нас можно судить по её произведениям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 них Елизавета Константиновна раскрыла всю красоту и очарование нашего края. Река Уень, сосны, кедры, луга словно оживают и становятся твоими собеседниками, понимают тебя, сочувствуют. Читая, стихи Елизаветы Стюарт видишь свою малою Родину как маленькую сказочную страну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3880" y="609480"/>
            <a:ext cx="457200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Юрт – Акбалык – священная земля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Зеленый мир на берегу Уен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Гуденье захмелевшего шмеля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Рябины рденье и стихов рождени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Песок прибрежный в крестиках следов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То кулички резвились на простор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Моих друзей гостеприимный кров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на губах недавний привкус горя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1968 г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ень это слово звенит как струна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ень – это речки названи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 речки таинственная глубин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медленное дыхани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То влево, то вправо ухолит он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лилии сонно колышет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Такая над речкой стоит тишина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Что самое тайное слышит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1963 г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76520" y="380880"/>
            <a:ext cx="701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17.04.68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ЮРТ-АКБАЛЫКУ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в жизни знала горя много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Быть может, только для того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б снова повела дорог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даль от порога моего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б, не сгибая грузом плечи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выходила налегке —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усть и не утром, а под вечер —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К твоим кедровникам навстречу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зимородку на рек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б снова я, тебя увидев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ля сердца обрела пок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воли не дала обиде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а то, что жизнь была такой..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24080" y="3078000"/>
            <a:ext cx="33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8748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ОМИК С ДЕРЕВЯННЫМ ПЕТУШКОМ НА КОНЬКЕ КРЫШИ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Был маленький домик в таежном краю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Хранил он тревожную душу мою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и в чем не винил, ни за что не корил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орою ночами стихи мне дарил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арил мне зарницы и легкие сны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о осени поздней от ранней весны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А осенью двери за мной закрывал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 свидание верил и преданно ждал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 кто-то другой на крылечко взошел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сердце мое на пороге нашел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Звезда ли мелькнула, костер ли блеснул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 болью меня этот свет полоснул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А тот, кто явился в чужое жилье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 нем занял законное место сво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 умерло прежнее чудо в дому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не было счастья пришельцу тому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Тропинка друзей от него увел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трижды рябинка уже не цвел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ечурка при нем не хотела гореть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е мог он ни руки, ни душу согреть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Ему петушок обернулся совой —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збушку хранил не его домов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0" y="30492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А ты простишь мне долгую отлучку?          Прости – ведь я не по своей вине…              Пусти ко  мне ту розовую тучку,                   Прошу тебя, пусти её ко мне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Погладь меня колючей хвойной лапой,                   Дай кисть рябины, дай ручья глоток,          Позволь дождю небойкому закрапать, Навстречу вышли новенький росток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я пойму, что ты меня простила,               Поверив, - не моя вина была,                             Что я давно у речки не гостила,                          В лес не ходила, ягод не брал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Меня сгибали годы и невзгоды                                   И покидали люди и стихи,                                  Но я всегда   в твои гляделась воды,                 Меня твои будили петух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Хочу опять испить твоей росы я,              Избыть всю горечь душу не тая,              Кедровый рай,                                                                                                                            суровый край России, -                                        Судьба моя, кровиночка моя…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G</cp:lastModifiedBy>
  <dcterms:modified xsi:type="dcterms:W3CDTF">2007-12-26T05:30:2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