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86A8-0046-4DFA-98EF-0D457859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64C6-4075-4705-B5C1-7B9BE10D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AC46-8E7B-4478-890F-841B8C80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F7ED-28F3-44B8-9DB6-FEF73FF1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2D9C-903B-48EF-A8A0-648B241B6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99FF-99D5-47BA-B9F1-D7172DD3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5983-1A5A-4FDB-A6F0-AB7507D4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76FF-67C1-460D-9721-7984E22F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14E9-BED5-44FC-A478-427F1804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01FA-7354-4AFE-96D0-10855001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4791-2CEB-45E3-B4F0-E5EDF3B2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8C5D-2FB5-43E5-B1B5-28989990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A6E0-244C-4F19-9FA8-463EF93A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3276-17C0-4E76-80C2-4F332F61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03FC-FFF9-48C0-910D-D2CAF5ED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C6BA-7F42-4972-B6F6-801682D5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0A74-5AAC-46D1-956F-F09F414F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80FF-3E40-4D90-BFFD-88C3C143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9012-355E-4D84-A078-C8D0CB70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22DE-5FAE-471C-A492-00652FF0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6D50-CF4D-428B-A974-E7A76E9C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5992-3FF8-406E-A372-F3EE662F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B413-829D-47AA-ACD4-BEE108B3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2DC7-D221-437C-803C-29B4FBD9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048B-A655-4E56-B3FE-B020DC155A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90D7-F356-4926-AABF-C30B6485C4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МБОУ «Центр образования»</a:t>
            </a:r>
            <a:br>
              <a:rPr sz="1800"/>
            </a:br>
            <a:br>
              <a:rPr sz="4800"/>
            </a:br>
            <a:br>
              <a:rPr sz="4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Взаимодействие школы с семьями, находящимися в социально опасном положен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оржок 2013г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665720" y="243720"/>
            <a:ext cx="648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оциальный статус семей ___ клас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9080" y="1068480"/>
          <a:ext cx="910584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" y="1068480"/>
                    <a:ext cx="91058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665720" y="243720"/>
            <a:ext cx="648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оциальный статус семей ___ клас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9080" y="1068480"/>
          <a:ext cx="910584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" y="1068480"/>
                    <a:ext cx="91058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28600" y="2590920"/>
          <a:ext cx="4486320" cy="35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90920"/>
                    <a:ext cx="448632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800600" y="3124080"/>
          <a:ext cx="4219560" cy="333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124080"/>
                    <a:ext cx="421956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1842840" y="455760"/>
            <a:ext cx="6957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4d4d4d"/>
                </a:solidFill>
                <a:uFillTx/>
                <a:latin typeface="Arial"/>
                <a:ea typeface="Times New Roman"/>
              </a:rPr>
              <a:t>Жилищные условия ____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Жилищные условия сем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Проживают в коммунальных квартирах (общежитиях) 3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В отдельных квартирах 17 сем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Арендуют жилье 2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В частных домах 4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0" y="3543480"/>
          <a:ext cx="466740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43480"/>
                    <a:ext cx="466740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91080" y="3543480"/>
          <a:ext cx="4552920" cy="33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1080" y="3543480"/>
                    <a:ext cx="455292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1337040" y="29520"/>
            <a:ext cx="6142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4d4d4d"/>
                </a:solidFill>
                <a:uFillTx/>
                <a:latin typeface="Arial"/>
                <a:ea typeface="Times New Roman"/>
              </a:rPr>
              <a:t>Образовательный уровень родителей ____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Times New Roman"/>
              </a:rPr>
              <a:t>2. Образовательный уровень род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80880" y="685800"/>
          <a:ext cx="8305920" cy="257976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Образовательны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М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Оте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Высше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Неполное высш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Среднее техн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Среднее специа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Неполное средн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Занятость детей в кружках и секциях ______ класс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                                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55600" y="976320"/>
          <a:ext cx="870588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976320"/>
                    <a:ext cx="870588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Режим пребывания детей в школе</a:t>
            </a:r>
            <a:br>
              <a:rPr sz="2500"/>
            </a:b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______ класс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43080" y="1600200"/>
          <a:ext cx="8229600" cy="44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600200"/>
                    <a:ext cx="8229600" cy="44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Согласно ст.1 Федерального закона от 24.06.1999 №120-ФЗ «Об основах системы профилактики безнадзорности и правонарушений несовершеннолетних» (далее Закон) можно выделить две категории семей, подходящих под понятие «находящиеся в социально опасном положении».</a:t>
            </a:r>
            <a:br>
              <a:rPr sz="3800"/>
            </a:b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Это: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семьи, в которых дети вследствие безнадзорности или беспризорности находятся в обстановке, представляющей опасность для их жизни или здоровья либо не отвечающей требованиям к их воспитанию или содержанию, либо совершают правонарушения или антиобщественные дейст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семьи, в которых родители или иные законные представители детей не исполняют своих обязанностей по их воспитанию, обучению и (или) содержанию и (или) отрицательно влияют на их поведение либо жестко обращаются с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0033"/>
                </a:solidFill>
                <a:uFillTx/>
                <a:latin typeface="Times New Roman"/>
              </a:rPr>
              <a:t>В рамках оказания помощи семье в обучении детей школа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533520"/>
            <a:ext cx="77724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ивает внутришкольный контроль посещаемости детьми уроков, доводит результаты до сведения родителей и совместно с ними принимает меры по недопущению прогулов занятий данными деть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одит разъяснительную работу с родителями по поводу повышения родительской ответственности за посещение детьми школы, а также за их успеваем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тдельных случаях обеспечивает привод «детей-прогульщиков» в школу под контролем родите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здает необходимые условия для получения детьми из семей, находящимся в социально опасном положении, образования, с учетом количества пропущенных ими уроков (отставания по программе от других обучающихся) путем проведения дополнительных занятий с такими деть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наличии возможностей организует индивидуальное обучение детей с учетом особенностей каждого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зует родительский контроль за успеваемостью детей, в т.ч. путем посещения родителями занятий совместно с деть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наличии возможностей бесплатно обеспечивает детей из семей, находящихся в социально опасном положении, учебной литературой, если такие семьи в силу тяжелого материального положения не могут приобрести их самостоятельн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привлечением органов школьного самоуправления, а также иными заинтересованных лиц проводит среди детей из семей, находящихся в социально опасном положении, разъяснительную и агитационную работу, направленную на повышений интереса к учеб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991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0033"/>
                </a:solidFill>
                <a:uFillTx/>
                <a:latin typeface="Times New Roman"/>
              </a:rPr>
              <a:t>В рамках оказания помощи семье в воспитании детей школа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761760"/>
            <a:ext cx="77724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одит специальную психолого-педагогическую работу с деть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одит аналогическую работу с родителями, направленную на повышение их ответственности за обучение, воспитание реб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ует послеурочную и внеурочную занятость ребенка в школе в целях недопущения его безнадзорности в период отсутствия родителей до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влекает детей во внутришкольные мероприятия, секции, кружки по интересам в целях обеспечения дополнительного воспит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ует консультации родителей по вопросам воспитания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мках профориентации проводит беседы детей с представителями различных професс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атывает формы и методы воспитательной работы с детьми из семей, находящихся в социально опасном полож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ет условия для удовлетворения личных и бытовых потребностей детей в рамках школы: обеспечивает питанием, предоставляет возможность круглосуточного пребывания в школ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ривлечением представителей правоохранительных органов осуществляет беседы по профилактике правонару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33520" y="943200"/>
            <a:ext cx="792468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Школьного Совета по профилактике правонарушения и безнадзорности несовершеннолетних заключается в следующ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явление и учет несовершеннолетних, находящихся в социально опасном положении, а также не посещающих или систематически пропускающих по неуважительным причинам занятия в школе, применение мер по их воспитанию и получению ими средне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явление и учет семей, находящихся в социально опасном положении, и оказание им помощи в обучении и воспитании дет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0033"/>
                </a:solidFill>
                <a:latin typeface="Times New Roman"/>
              </a:rPr>
              <a:t>Модель организационной структуры управляющей системы</a:t>
            </a:r>
            <a:br>
              <a:rPr sz="1700"/>
            </a:br>
            <a:r>
              <a:rPr b="0" lang="en-US" sz="1700" spc="-1" strike="noStrike">
                <a:solidFill>
                  <a:srgbClr val="330033"/>
                </a:solidFill>
                <a:latin typeface="Times New Roman"/>
              </a:rPr>
              <a:t>МБОУ «Центр образования»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29840" y="807480"/>
            <a:ext cx="8528760" cy="2342520"/>
            <a:chOff x="429840" y="807480"/>
            <a:chExt cx="8528760" cy="2342520"/>
          </a:xfrm>
        </p:grpSpPr>
        <p:sp>
          <p:nvSpPr>
            <p:cNvPr id="101" name="_s9221"/>
            <p:cNvSpPr/>
            <p:nvPr/>
          </p:nvSpPr>
          <p:spPr>
            <a:xfrm flipH="1" flipV="1">
              <a:off x="3116880" y="1408680"/>
              <a:ext cx="1053720" cy="3830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9222"/>
            <p:cNvSpPr/>
            <p:nvPr/>
          </p:nvSpPr>
          <p:spPr>
            <a:xfrm>
              <a:off x="1714320" y="987120"/>
              <a:ext cx="1780920" cy="4701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Большой педагогически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сове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9223"/>
            <p:cNvSpPr/>
            <p:nvPr/>
          </p:nvSpPr>
          <p:spPr>
            <a:xfrm flipH="1" flipV="1">
              <a:off x="2151720" y="1761840"/>
              <a:ext cx="1704600" cy="1450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9224"/>
            <p:cNvSpPr/>
            <p:nvPr/>
          </p:nvSpPr>
          <p:spPr>
            <a:xfrm>
              <a:off x="429840" y="1455840"/>
              <a:ext cx="1780920" cy="47016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Совет по профилактик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безнадзорности 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правонарушени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9225"/>
            <p:cNvSpPr/>
            <p:nvPr/>
          </p:nvSpPr>
          <p:spPr>
            <a:xfrm flipH="1">
              <a:off x="2157480" y="2049840"/>
              <a:ext cx="1699200" cy="1468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9226"/>
            <p:cNvSpPr/>
            <p:nvPr/>
          </p:nvSpPr>
          <p:spPr>
            <a:xfrm>
              <a:off x="435240" y="2034000"/>
              <a:ext cx="1782360" cy="47052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Социально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психологическа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служб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9227"/>
            <p:cNvSpPr/>
            <p:nvPr/>
          </p:nvSpPr>
          <p:spPr>
            <a:xfrm flipH="1">
              <a:off x="3129120" y="2165400"/>
              <a:ext cx="1046880" cy="3826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9228"/>
            <p:cNvSpPr/>
            <p:nvPr/>
          </p:nvSpPr>
          <p:spPr>
            <a:xfrm>
              <a:off x="1726560" y="2501640"/>
              <a:ext cx="1780920" cy="4701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Аттестацио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комисс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9229"/>
            <p:cNvSpPr/>
            <p:nvPr/>
          </p:nvSpPr>
          <p:spPr>
            <a:xfrm>
              <a:off x="4691520" y="2209320"/>
              <a:ext cx="5040" cy="4719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9230"/>
            <p:cNvSpPr/>
            <p:nvPr/>
          </p:nvSpPr>
          <p:spPr>
            <a:xfrm>
              <a:off x="3809880" y="2679840"/>
              <a:ext cx="1780920" cy="47016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Служб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безопасност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9231"/>
            <p:cNvSpPr/>
            <p:nvPr/>
          </p:nvSpPr>
          <p:spPr>
            <a:xfrm>
              <a:off x="5205960" y="2165400"/>
              <a:ext cx="1053720" cy="3794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9232"/>
            <p:cNvSpPr/>
            <p:nvPr/>
          </p:nvSpPr>
          <p:spPr>
            <a:xfrm>
              <a:off x="5893200" y="2499840"/>
              <a:ext cx="1780920" cy="4705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Внебюджетна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деятельн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9233"/>
            <p:cNvSpPr/>
            <p:nvPr/>
          </p:nvSpPr>
          <p:spPr>
            <a:xfrm>
              <a:off x="5526720" y="2049840"/>
              <a:ext cx="1697760" cy="1436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9234"/>
            <p:cNvSpPr/>
            <p:nvPr/>
          </p:nvSpPr>
          <p:spPr>
            <a:xfrm>
              <a:off x="7177680" y="2031120"/>
              <a:ext cx="1780920" cy="4701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Бухгалтер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9235"/>
            <p:cNvSpPr/>
            <p:nvPr/>
          </p:nvSpPr>
          <p:spPr>
            <a:xfrm flipV="1">
              <a:off x="5526720" y="1758960"/>
              <a:ext cx="1692360" cy="1468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9236"/>
            <p:cNvSpPr/>
            <p:nvPr/>
          </p:nvSpPr>
          <p:spPr>
            <a:xfrm>
              <a:off x="7170840" y="1452600"/>
              <a:ext cx="1782360" cy="47016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Информационно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ресурсны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центр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9237"/>
            <p:cNvSpPr/>
            <p:nvPr/>
          </p:nvSpPr>
          <p:spPr>
            <a:xfrm flipV="1">
              <a:off x="5205960" y="1408320"/>
              <a:ext cx="1042920" cy="3798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9238"/>
            <p:cNvSpPr/>
            <p:nvPr/>
          </p:nvSpPr>
          <p:spPr>
            <a:xfrm>
              <a:off x="5880960" y="985320"/>
              <a:ext cx="1782360" cy="4705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Административны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сове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9239"/>
            <p:cNvSpPr/>
            <p:nvPr/>
          </p:nvSpPr>
          <p:spPr>
            <a:xfrm flipV="1">
              <a:off x="4685040" y="1276200"/>
              <a:ext cx="0" cy="4687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9240"/>
            <p:cNvSpPr/>
            <p:nvPr/>
          </p:nvSpPr>
          <p:spPr>
            <a:xfrm>
              <a:off x="3797640" y="807480"/>
              <a:ext cx="1780920" cy="47016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Совет школ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9241"/>
            <p:cNvSpPr/>
            <p:nvPr/>
          </p:nvSpPr>
          <p:spPr>
            <a:xfrm>
              <a:off x="3797640" y="1745280"/>
              <a:ext cx="1780920" cy="47016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Директор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52280" y="3200400"/>
            <a:ext cx="8852760" cy="3504960"/>
            <a:chOff x="152280" y="3200400"/>
            <a:chExt cx="8852760" cy="3504960"/>
          </a:xfrm>
        </p:grpSpPr>
        <p:cxnSp>
          <p:nvCxnSpPr>
            <p:cNvPr id="123" name="_s9244"/>
            <p:cNvCxnSpPr>
              <a:stCxn id="124" idx="3"/>
              <a:endCxn id="125" idx="2"/>
            </p:cNvCxnSpPr>
            <p:nvPr/>
          </p:nvCxnSpPr>
          <p:spPr>
            <a:xfrm flipV="1">
              <a:off x="4934160" y="4090320"/>
              <a:ext cx="327240" cy="138852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26" name="_s9245"/>
            <p:cNvCxnSpPr>
              <a:stCxn id="127" idx="3"/>
              <a:endCxn id="128" idx="2"/>
            </p:cNvCxnSpPr>
            <p:nvPr/>
          </p:nvCxnSpPr>
          <p:spPr>
            <a:xfrm flipV="1">
              <a:off x="7657200" y="4090680"/>
              <a:ext cx="326520" cy="8625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29" name="_s9246"/>
            <p:cNvCxnSpPr>
              <a:stCxn id="130" idx="3"/>
              <a:endCxn id="128" idx="2"/>
            </p:cNvCxnSpPr>
            <p:nvPr/>
          </p:nvCxnSpPr>
          <p:spPr>
            <a:xfrm flipV="1">
              <a:off x="7657200" y="4090320"/>
              <a:ext cx="326520" cy="3366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31" name="_s9247"/>
            <p:cNvCxnSpPr>
              <a:stCxn id="132" idx="3"/>
              <a:endCxn id="125" idx="2"/>
            </p:cNvCxnSpPr>
            <p:nvPr/>
          </p:nvCxnSpPr>
          <p:spPr>
            <a:xfrm flipV="1">
              <a:off x="4934160" y="4090680"/>
              <a:ext cx="327240" cy="8625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33" name="_s9248"/>
            <p:cNvCxnSpPr>
              <a:stCxn id="134" idx="3"/>
              <a:endCxn id="125" idx="2"/>
            </p:cNvCxnSpPr>
            <p:nvPr/>
          </p:nvCxnSpPr>
          <p:spPr>
            <a:xfrm flipV="1">
              <a:off x="4934160" y="4090320"/>
              <a:ext cx="327240" cy="3366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35" name="_s9249"/>
            <p:cNvCxnSpPr>
              <a:stCxn id="136" idx="3"/>
              <a:endCxn id="137" idx="2"/>
            </p:cNvCxnSpPr>
            <p:nvPr/>
          </p:nvCxnSpPr>
          <p:spPr>
            <a:xfrm flipV="1">
              <a:off x="2209320" y="4090320"/>
              <a:ext cx="327240" cy="24411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38" name="_s9250"/>
            <p:cNvCxnSpPr>
              <a:stCxn id="139" idx="3"/>
              <a:endCxn id="137" idx="2"/>
            </p:cNvCxnSpPr>
            <p:nvPr/>
          </p:nvCxnSpPr>
          <p:spPr>
            <a:xfrm flipV="1">
              <a:off x="2209320" y="4090680"/>
              <a:ext cx="327240" cy="19152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0" name="_s9251"/>
            <p:cNvCxnSpPr>
              <a:stCxn id="141" idx="3"/>
              <a:endCxn id="137" idx="2"/>
            </p:cNvCxnSpPr>
            <p:nvPr/>
          </p:nvCxnSpPr>
          <p:spPr>
            <a:xfrm flipV="1">
              <a:off x="2209320" y="4090680"/>
              <a:ext cx="327240" cy="13896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2" name="_s9252"/>
            <p:cNvCxnSpPr>
              <a:stCxn id="143" idx="3"/>
              <a:endCxn id="137" idx="2"/>
            </p:cNvCxnSpPr>
            <p:nvPr/>
          </p:nvCxnSpPr>
          <p:spPr>
            <a:xfrm flipV="1">
              <a:off x="2209320" y="4090680"/>
              <a:ext cx="327240" cy="8625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4" name="_s9253"/>
            <p:cNvCxnSpPr>
              <a:stCxn id="145" idx="3"/>
              <a:endCxn id="137" idx="2"/>
            </p:cNvCxnSpPr>
            <p:nvPr/>
          </p:nvCxnSpPr>
          <p:spPr>
            <a:xfrm flipV="1">
              <a:off x="2209320" y="4090320"/>
              <a:ext cx="327240" cy="3366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6" name="_s9254"/>
            <p:cNvCxnSpPr>
              <a:stCxn id="128" idx="0"/>
              <a:endCxn id="147" idx="2"/>
            </p:cNvCxnSpPr>
            <p:nvPr/>
          </p:nvCxnSpPr>
          <p:spPr>
            <a:xfrm flipV="1" rot="16200000">
              <a:off x="6547320" y="2275200"/>
              <a:ext cx="146880" cy="2725560"/>
            </a:xfrm>
            <a:prstGeom prst="bentConnector3">
              <a:avLst>
                <a:gd name="adj1" fmla="val 49877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8" name="_s9255"/>
            <p:cNvCxnSpPr>
              <a:stCxn id="125" idx="0"/>
              <a:endCxn id="147" idx="2"/>
            </p:cNvCxnSpPr>
            <p:nvPr/>
          </p:nvCxnSpPr>
          <p:spPr>
            <a:xfrm flipV="1" rot="16200000">
              <a:off x="5186160" y="3636360"/>
              <a:ext cx="146880" cy="3240"/>
            </a:xfrm>
            <a:prstGeom prst="bentConnector3">
              <a:avLst>
                <a:gd name="adj1" fmla="val 49877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9" name="_s9256"/>
            <p:cNvCxnSpPr>
              <a:stCxn id="137" idx="0"/>
              <a:endCxn id="147" idx="2"/>
            </p:cNvCxnSpPr>
            <p:nvPr/>
          </p:nvCxnSpPr>
          <p:spPr>
            <a:xfrm flipH="1" flipV="1" rot="5400000">
              <a:off x="3823560" y="2277000"/>
              <a:ext cx="146880" cy="2722320"/>
            </a:xfrm>
            <a:prstGeom prst="bentConnector3">
              <a:avLst>
                <a:gd name="adj1" fmla="val 49877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47" name="_s9257"/>
            <p:cNvSpPr/>
            <p:nvPr/>
          </p:nvSpPr>
          <p:spPr>
            <a:xfrm>
              <a:off x="4236840" y="3200400"/>
              <a:ext cx="2043360" cy="35028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Заместители директора школ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9258"/>
            <p:cNvSpPr/>
            <p:nvPr/>
          </p:nvSpPr>
          <p:spPr>
            <a:xfrm>
              <a:off x="1514520" y="3726000"/>
              <a:ext cx="2043360" cy="3502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Заместитель директора по УВ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9259"/>
            <p:cNvSpPr/>
            <p:nvPr/>
          </p:nvSpPr>
          <p:spPr>
            <a:xfrm>
              <a:off x="4239360" y="3726000"/>
              <a:ext cx="2043360" cy="3502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Заместитель директора по В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9260"/>
            <p:cNvSpPr/>
            <p:nvPr/>
          </p:nvSpPr>
          <p:spPr>
            <a:xfrm>
              <a:off x="6961680" y="3726000"/>
              <a:ext cx="2043360" cy="3502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Заместитель директора по АХ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9261"/>
            <p:cNvSpPr/>
            <p:nvPr/>
          </p:nvSpPr>
          <p:spPr>
            <a:xfrm>
              <a:off x="154080" y="4251960"/>
              <a:ext cx="2041200" cy="350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Малый педагогический сов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9262"/>
            <p:cNvSpPr/>
            <p:nvPr/>
          </p:nvSpPr>
          <p:spPr>
            <a:xfrm>
              <a:off x="154080" y="4777560"/>
              <a:ext cx="2041200" cy="350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Методический сов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9263"/>
            <p:cNvSpPr/>
            <p:nvPr/>
          </p:nvSpPr>
          <p:spPr>
            <a:xfrm>
              <a:off x="154080" y="5303520"/>
              <a:ext cx="2041200" cy="350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Аттестационная комисс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9264"/>
            <p:cNvSpPr/>
            <p:nvPr/>
          </p:nvSpPr>
          <p:spPr>
            <a:xfrm>
              <a:off x="154080" y="5829120"/>
              <a:ext cx="2041200" cy="350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Методические объедин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учител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9265"/>
            <p:cNvSpPr/>
            <p:nvPr/>
          </p:nvSpPr>
          <p:spPr>
            <a:xfrm>
              <a:off x="152280" y="6355080"/>
              <a:ext cx="2043360" cy="350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Психолого-медико-педагогически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консилиу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9266"/>
            <p:cNvSpPr/>
            <p:nvPr/>
          </p:nvSpPr>
          <p:spPr>
            <a:xfrm>
              <a:off x="2879280" y="4251960"/>
              <a:ext cx="2041200" cy="350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Творческий семинар воспитател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и классных руководител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9267"/>
            <p:cNvSpPr/>
            <p:nvPr/>
          </p:nvSpPr>
          <p:spPr>
            <a:xfrm>
              <a:off x="2879280" y="4777560"/>
              <a:ext cx="2041200" cy="350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рганы ученическог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амоуправ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9268"/>
            <p:cNvSpPr/>
            <p:nvPr/>
          </p:nvSpPr>
          <p:spPr>
            <a:xfrm>
              <a:off x="5604120" y="4251960"/>
              <a:ext cx="2038680" cy="350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Бухгалтер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9269"/>
            <p:cNvSpPr/>
            <p:nvPr/>
          </p:nvSpPr>
          <p:spPr>
            <a:xfrm>
              <a:off x="5601960" y="4777560"/>
              <a:ext cx="2040840" cy="350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Административно-хозяйствен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ча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9270"/>
            <p:cNvSpPr/>
            <p:nvPr/>
          </p:nvSpPr>
          <p:spPr>
            <a:xfrm>
              <a:off x="2877120" y="5303520"/>
              <a:ext cx="2043360" cy="3488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бъединения педагог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по дополнительному образовани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V="1">
            <a:off x="5105520" y="2057040"/>
            <a:ext cx="380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2133720"/>
            <a:ext cx="228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78560" y="181440"/>
            <a:ext cx="68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«Трудные» обучающие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состоящие на внутришкольном контр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28600" y="1295280"/>
          <a:ext cx="86868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6868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673720" y="334080"/>
            <a:ext cx="465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Совершили правонару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719280" y="1660680"/>
          <a:ext cx="7866000" cy="43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" y="1660680"/>
                    <a:ext cx="7866000" cy="43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78520" y="319680"/>
            <a:ext cx="84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График состоящих на учете ПДН с 2006 по 2008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990720"/>
          <a:ext cx="861048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861048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15160" y="289800"/>
            <a:ext cx="85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График состоящих на учете ПДН за 2006-2007 и 2007-2008 учебные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80880" y="1066680"/>
          <a:ext cx="84582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84582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371600" y="15192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Рассмотрено дел на заседании КД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04920" y="1143000"/>
          <a:ext cx="84582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4582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3818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Направления деятельности социального педагога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77724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о-педагогическое исследование с целью выявления социальных и личностных проблем детей всех возрас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о-педагогическая защита прав реб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ение социально-педагогической поддержки семье в формировании личности обучающего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о-педагогическое консультир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о-педагогическая профилактика, коррекция и реабилит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йствие созданию педагогически ориентированной среды для оптимального развития личности реб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ационно-методическая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687240" y="74880"/>
            <a:ext cx="7768440" cy="6718680"/>
            <a:chOff x="687240" y="74880"/>
            <a:chExt cx="7768440" cy="6718680"/>
          </a:xfrm>
        </p:grpSpPr>
        <p:sp>
          <p:nvSpPr>
            <p:cNvPr id="155" name="_s12292"/>
            <p:cNvSpPr/>
            <p:nvPr/>
          </p:nvSpPr>
          <p:spPr>
            <a:xfrm flipH="1" flipV="1">
              <a:off x="2654640" y="3132360"/>
              <a:ext cx="959400" cy="28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2293"/>
            <p:cNvSpPr/>
            <p:nvPr/>
          </p:nvSpPr>
          <p:spPr>
            <a:xfrm>
              <a:off x="687240" y="1950840"/>
              <a:ext cx="2015640" cy="1809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абота 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оциально незащищенн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атегорией детей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2294"/>
            <p:cNvSpPr/>
            <p:nvPr/>
          </p:nvSpPr>
          <p:spPr>
            <a:xfrm flipH="1">
              <a:off x="3384000" y="4425120"/>
              <a:ext cx="596160" cy="73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2295"/>
            <p:cNvSpPr/>
            <p:nvPr/>
          </p:nvSpPr>
          <p:spPr>
            <a:xfrm>
              <a:off x="1788480" y="4984920"/>
              <a:ext cx="2015280" cy="18086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ндивидуаль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 групповая рабо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 «трудными детьми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2296"/>
            <p:cNvSpPr/>
            <p:nvPr/>
          </p:nvSpPr>
          <p:spPr>
            <a:xfrm>
              <a:off x="5162760" y="4425120"/>
              <a:ext cx="593640" cy="73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2297"/>
            <p:cNvSpPr/>
            <p:nvPr/>
          </p:nvSpPr>
          <p:spPr>
            <a:xfrm>
              <a:off x="5342400" y="4984920"/>
              <a:ext cx="2015640" cy="1808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Рабо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 документаци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2298"/>
            <p:cNvSpPr/>
            <p:nvPr/>
          </p:nvSpPr>
          <p:spPr>
            <a:xfrm flipV="1">
              <a:off x="5528520" y="3135240"/>
              <a:ext cx="962280" cy="28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2299"/>
            <p:cNvSpPr/>
            <p:nvPr/>
          </p:nvSpPr>
          <p:spPr>
            <a:xfrm>
              <a:off x="6440040" y="1950840"/>
              <a:ext cx="2015640" cy="1809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ндивидуаль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 группов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абота с родителя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2300"/>
            <p:cNvSpPr/>
            <p:nvPr/>
          </p:nvSpPr>
          <p:spPr>
            <a:xfrm flipV="1">
              <a:off x="4571640" y="1883520"/>
              <a:ext cx="0" cy="90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2301"/>
            <p:cNvSpPr/>
            <p:nvPr/>
          </p:nvSpPr>
          <p:spPr>
            <a:xfrm>
              <a:off x="3563640" y="74880"/>
              <a:ext cx="2015640" cy="1808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 классны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уководителя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2302"/>
            <p:cNvSpPr/>
            <p:nvPr/>
          </p:nvSpPr>
          <p:spPr>
            <a:xfrm>
              <a:off x="3563640" y="2790720"/>
              <a:ext cx="2015640" cy="180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Форм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работ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В условиях становления индивидуально ориентированных систем воспитания и педагогической поддержки детей существенно расширился круг задач перед школой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7724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ндивидуальная работа с каждым учени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работа с классом с опорой на знание воспитательной среды обучаю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тесная связь с микросоциумом, семьей, внеурочными заведениями, общественными объединениями, организациями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38080" y="68328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циальный паспорт учащегося и его семь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предназначен для накопления и систематизации материала по индивидуальной работе с родителями и обучающимися в том числе с осложненным и девиантным пове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циальный паспорт класс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рабочий документ социального педагога (в помощь классному руководителю) по накоплению и анализу количественных и качественных данных по основным направлениям воспитательн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1084320" y="0"/>
          <a:ext cx="6977160" cy="6857640"/>
        </p:xfrm>
        <a:graphic>
          <a:graphicData uri="http://schemas.openxmlformats.org/drawingml/2006/table">
            <a:tbl>
              <a:tblPr/>
              <a:tblGrid>
                <a:gridCol w="6977160"/>
              </a:tblGrid>
              <a:tr h="685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МБОУ «Центр образования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СОЦИАЛЬНЫЙ ПАСПОРТ _____КЛАСС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КЛАССНЫЙ РУКОВОДИТЕЛ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Социальный педагог: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Times New Roman"/>
              </a:rPr>
              <a:t>Состав семей ______ класса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8600" y="519120"/>
          <a:ext cx="8534520" cy="6338880"/>
        </p:xfrm>
        <a:graphic>
          <a:graphicData uri="http://schemas.openxmlformats.org/drawingml/2006/table">
            <a:tbl>
              <a:tblPr/>
              <a:tblGrid>
                <a:gridCol w="2514600"/>
                <a:gridCol w="1066680"/>
                <a:gridCol w="990720"/>
                <a:gridCol w="1219320"/>
                <a:gridCol w="1218960"/>
                <a:gridCol w="15242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 сем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ро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машний адрес. Телеф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детные сем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лные (потеря одного из родител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лные (родители в развод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лные (матери-одиночк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обеспеченные сем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-инвали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находящиеся под опек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ые сем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из семей беженцев и переселенц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благополучные сем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, входящие в «группу риска». Склонные к правонаруше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ственные дети в семье (количеств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ют братьев и сес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cover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513440" y="243720"/>
            <a:ext cx="648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оциальный статус семей ___ клас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9080" y="1068480"/>
          <a:ext cx="910584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" y="1068480"/>
                    <a:ext cx="91058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1-06T19:50:1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