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F7C-52A4-416B-8362-E5898192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F19-E386-486B-B94B-14FE6D67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076-BB16-40B5-A4B9-84D073B9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DF0-1CDB-45BD-8A6B-E38A002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75E-58D3-46F2-8D83-95B9EDAE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3BB-92FB-4A63-B1A4-FA2E811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3CA-E9D7-404D-B6CB-802004D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DA27-63AF-41FD-8A8A-08A8224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6D4-5976-4143-BB64-98B9F56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50CD-7464-4ABB-AEC6-BD33EAE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C11-1962-4B4C-A453-FEBFD3E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4A7-D0A5-4D8A-8E56-4EF0090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8F4-6BFA-48E3-A040-461668E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7B2-58EE-4276-AE1D-8C29571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889E-335B-4EC0-AD61-905D8A63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DAE-1E4B-447D-AD78-8B861922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3399-022E-42E6-8DFE-E2ECCCD7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7B4-57B8-4FC3-B9FF-DFE6938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767-4063-4A5F-BB02-6651DE6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887-5843-4B36-9672-DF141518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CEB-9185-4AC8-93D1-40DB655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7F9-EFD2-4A6D-9603-8845699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81C-67DE-4A76-9AAF-09F763C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F14-4E3B-48BF-BF83-C100AC1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0F5-2E01-494C-B9C8-1DB77811F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F30-8974-4101-9902-A0081013AB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br>
              <a:rPr sz="1800"/>
            </a:br>
            <a:br>
              <a:rPr sz="4800"/>
            </a:br>
            <a:br>
              <a:rPr sz="4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Взаимодействие школы с семьями, находящимися в социально опасном полож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ржок 2013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2590920"/>
          <a:ext cx="44863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44863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3124080"/>
          <a:ext cx="4219560" cy="33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124080"/>
                    <a:ext cx="421956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42840" y="455760"/>
            <a:ext cx="69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Жилищные условия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Жилищные условия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Проживают в коммунальных квартирах (общежитиях) 3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отдельных квартирах 17 сем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Арендуют жилье 2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частных домах 4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3543480"/>
          <a:ext cx="466740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43480"/>
                    <a:ext cx="46674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91080" y="3543480"/>
          <a:ext cx="4552920" cy="33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3543480"/>
                    <a:ext cx="4552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337040" y="29520"/>
            <a:ext cx="614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Образовательный уровень родителей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2. Образовательный уровень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880" y="685800"/>
          <a:ext cx="8305920" cy="2579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бразовате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ш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выс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Занятость детей в кружках и секциях ______ класс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           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5600" y="976320"/>
          <a:ext cx="87058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76320"/>
                    <a:ext cx="87058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Режим пребывания детей в школе</a:t>
            </a:r>
            <a:br>
              <a:rPr sz="25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______ класс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3080" y="1600200"/>
          <a:ext cx="822960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600200"/>
                    <a:ext cx="822960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Согласно ст.1 Федерального закона от 24.06.1999 №120-ФЗ «Об основах системы профилактики безнадзорности и правонарушений несовершеннолетних» (далее Закон) можно выделить две категории семей, подходящих под понятие «находящиеся в социально опасном положении».</a:t>
            </a:r>
            <a:br>
              <a:rPr sz="3800"/>
            </a:b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Это: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дети вследствие безнадзорности или беспризорности находятся в обстановке, представляющей опасность для их жизни или здоровья либо не отвечающей требованиям к их воспитанию или содержанию, либо совершают правонарушения или антиобщественные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родители или иные законные представители детей не исполняют своих обязанностей по их воспитанию, обучению и (или) содержанию и (или) отрицательно влияют на их поведение либо жестко обращаютс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обуче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внутришкольный контроль посещаемости детьми уроков, доводит результаты до сведения родителей и совместно с ними принимает меры по недопущению прогулов занятий данны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разъяснительную работу с родителями по поводу повышения родительской ответственности за посещение детьми школы, а также за их успеваем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дельных случаях обеспечивает привод «детей-прогульщиков» в школу под контролем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ет необходимые условия для получения детьми из семей, находящимся в социально опасном положении, образования, с учетом количества пропущенных ими уроков (отставания по программе от других обучающихся) путем проведения дополнительных занятий с таки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организует индивидуальное обучение детей с учетом особенностей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ует родительский контроль за успеваемостью детей, в т.ч. путем посещения родителями занятий совместно с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бесплатно обеспечивает детей из семей, находящихся в социально опасном положении, учебной литературой, если такие семьи в силу тяжелого материального положения не могут приобрести их самостояте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ивлечением органов школьного самоуправления, а также иными заинтересованных лиц проводит среди детей из семей, находящихся в социально опасном положении, разъяснительную и агитационную работу, направленную на повышений интереса к уч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воспита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специальную психолого-педагогическую работу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аналогическую работу с родителями, направленную на повышение их ответственности за обучение, воспитание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послеурочную и внеурочную занятость ребенка в школе в целях недопущения его безнадзорности в период отсутствия родителей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лекает детей во внутришкольные мероприятия, секции, кружки по интересам в целях обеспечения дополнительного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консультации родителей по вопросам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ах профориентации проводит беседы детей с представителями различных профес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атывает формы и методы воспитательной работы с детьми из семей, находящихся в социально опасном поло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 условия для удовлетворения личных и бытовых потребностей детей в рамках школы: обеспечивает питанием, предоставляет возможность круглосуточного пребывания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ивлечением представителей правоохранительных органов осуществляет беседы по профилактике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943200"/>
            <a:ext cx="79246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Школьного Совета по профилактике правонарушения и безнадзорности несовершеннолетних заключае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школе, применение мер по их воспитанию и получению ими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семей, находящихся в социально опасном положении, и оказание им помощи в обучении и воспитании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одель организационной структуры управляющей системы</a:t>
            </a:r>
            <a:br>
              <a:rPr sz="1700"/>
            </a:b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9840" y="807480"/>
            <a:ext cx="8528760" cy="2342520"/>
            <a:chOff x="429840" y="807480"/>
            <a:chExt cx="8528760" cy="2342520"/>
          </a:xfrm>
        </p:grpSpPr>
        <p:sp>
          <p:nvSpPr>
            <p:cNvPr id="101" name="_s9221"/>
            <p:cNvSpPr/>
            <p:nvPr/>
          </p:nvSpPr>
          <p:spPr>
            <a:xfrm flipH="1" flipV="1">
              <a:off x="3116880" y="1408680"/>
              <a:ext cx="1053720" cy="383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22"/>
            <p:cNvSpPr/>
            <p:nvPr/>
          </p:nvSpPr>
          <p:spPr>
            <a:xfrm>
              <a:off x="1714320" y="987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ольшой педагог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23"/>
            <p:cNvSpPr/>
            <p:nvPr/>
          </p:nvSpPr>
          <p:spPr>
            <a:xfrm flipH="1" flipV="1">
              <a:off x="2151720" y="1761840"/>
              <a:ext cx="1704600" cy="145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24"/>
            <p:cNvSpPr/>
            <p:nvPr/>
          </p:nvSpPr>
          <p:spPr>
            <a:xfrm>
              <a:off x="429840" y="1455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по профилактик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надзорности 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равонаруш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5"/>
            <p:cNvSpPr/>
            <p:nvPr/>
          </p:nvSpPr>
          <p:spPr>
            <a:xfrm flipH="1">
              <a:off x="2157480" y="2049840"/>
              <a:ext cx="169920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9226"/>
            <p:cNvSpPr/>
            <p:nvPr/>
          </p:nvSpPr>
          <p:spPr>
            <a:xfrm>
              <a:off x="435240" y="203400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циаль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сихолог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7"/>
            <p:cNvSpPr/>
            <p:nvPr/>
          </p:nvSpPr>
          <p:spPr>
            <a:xfrm flipH="1">
              <a:off x="3129120" y="2165400"/>
              <a:ext cx="1046880" cy="382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9228"/>
            <p:cNvSpPr/>
            <p:nvPr/>
          </p:nvSpPr>
          <p:spPr>
            <a:xfrm>
              <a:off x="1726560" y="25016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ттест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комисс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9"/>
            <p:cNvSpPr/>
            <p:nvPr/>
          </p:nvSpPr>
          <p:spPr>
            <a:xfrm>
              <a:off x="4691520" y="2209320"/>
              <a:ext cx="5040" cy="47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30"/>
            <p:cNvSpPr/>
            <p:nvPr/>
          </p:nvSpPr>
          <p:spPr>
            <a:xfrm>
              <a:off x="3809880" y="2679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опас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9231"/>
            <p:cNvSpPr/>
            <p:nvPr/>
          </p:nvSpPr>
          <p:spPr>
            <a:xfrm>
              <a:off x="5205960" y="2165400"/>
              <a:ext cx="1053720" cy="379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9232"/>
            <p:cNvSpPr/>
            <p:nvPr/>
          </p:nvSpPr>
          <p:spPr>
            <a:xfrm>
              <a:off x="5893200" y="2499840"/>
              <a:ext cx="1780920" cy="470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Внебюджетн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9233"/>
            <p:cNvSpPr/>
            <p:nvPr/>
          </p:nvSpPr>
          <p:spPr>
            <a:xfrm>
              <a:off x="5526720" y="2049840"/>
              <a:ext cx="1697760" cy="143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9234"/>
            <p:cNvSpPr/>
            <p:nvPr/>
          </p:nvSpPr>
          <p:spPr>
            <a:xfrm>
              <a:off x="7177680" y="2031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9235"/>
            <p:cNvSpPr/>
            <p:nvPr/>
          </p:nvSpPr>
          <p:spPr>
            <a:xfrm flipV="1">
              <a:off x="5526720" y="1758960"/>
              <a:ext cx="169236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9236"/>
            <p:cNvSpPr/>
            <p:nvPr/>
          </p:nvSpPr>
          <p:spPr>
            <a:xfrm>
              <a:off x="7170840" y="1452600"/>
              <a:ext cx="1782360" cy="470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Информацион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ресурс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цент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 flipV="1">
              <a:off x="5205960" y="1408320"/>
              <a:ext cx="1042920" cy="379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9238"/>
            <p:cNvSpPr/>
            <p:nvPr/>
          </p:nvSpPr>
          <p:spPr>
            <a:xfrm>
              <a:off x="5880960" y="98532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дминистратив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239"/>
            <p:cNvSpPr/>
            <p:nvPr/>
          </p:nvSpPr>
          <p:spPr>
            <a:xfrm flipV="1">
              <a:off x="4685040" y="1276200"/>
              <a:ext cx="0" cy="468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9240"/>
            <p:cNvSpPr/>
            <p:nvPr/>
          </p:nvSpPr>
          <p:spPr>
            <a:xfrm>
              <a:off x="3797640" y="8074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41"/>
            <p:cNvSpPr/>
            <p:nvPr/>
          </p:nvSpPr>
          <p:spPr>
            <a:xfrm>
              <a:off x="3797640" y="17452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ирект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280" y="3200400"/>
            <a:ext cx="8852760" cy="3504960"/>
            <a:chOff x="152280" y="3200400"/>
            <a:chExt cx="8852760" cy="3504960"/>
          </a:xfrm>
        </p:grpSpPr>
        <p:cxnSp>
          <p:nvCxnSpPr>
            <p:cNvPr id="123" name="_s9244"/>
            <p:cNvCxnSpPr>
              <a:stCxn id="124" idx="3"/>
              <a:endCxn id="125" idx="2"/>
            </p:cNvCxnSpPr>
            <p:nvPr/>
          </p:nvCxnSpPr>
          <p:spPr>
            <a:xfrm flipV="1">
              <a:off x="4934160" y="4090320"/>
              <a:ext cx="327240" cy="13885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_s9245"/>
            <p:cNvCxnSpPr>
              <a:stCxn id="127" idx="3"/>
              <a:endCxn id="128" idx="2"/>
            </p:cNvCxnSpPr>
            <p:nvPr/>
          </p:nvCxnSpPr>
          <p:spPr>
            <a:xfrm flipV="1">
              <a:off x="7657200" y="4090680"/>
              <a:ext cx="32652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9" name="_s9246"/>
            <p:cNvCxnSpPr>
              <a:stCxn id="130" idx="3"/>
              <a:endCxn id="128" idx="2"/>
            </p:cNvCxnSpPr>
            <p:nvPr/>
          </p:nvCxnSpPr>
          <p:spPr>
            <a:xfrm flipV="1">
              <a:off x="7657200" y="4090320"/>
              <a:ext cx="32652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_s9247"/>
            <p:cNvCxnSpPr>
              <a:stCxn id="132" idx="3"/>
              <a:endCxn id="125" idx="2"/>
            </p:cNvCxnSpPr>
            <p:nvPr/>
          </p:nvCxnSpPr>
          <p:spPr>
            <a:xfrm flipV="1">
              <a:off x="493416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3" name="_s9248"/>
            <p:cNvCxnSpPr>
              <a:stCxn id="134" idx="3"/>
              <a:endCxn id="125" idx="2"/>
            </p:cNvCxnSpPr>
            <p:nvPr/>
          </p:nvCxnSpPr>
          <p:spPr>
            <a:xfrm flipV="1">
              <a:off x="493416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5" name="_s9249"/>
            <p:cNvCxnSpPr>
              <a:stCxn id="136" idx="3"/>
              <a:endCxn id="137" idx="2"/>
            </p:cNvCxnSpPr>
            <p:nvPr/>
          </p:nvCxnSpPr>
          <p:spPr>
            <a:xfrm flipV="1">
              <a:off x="2209320" y="4090320"/>
              <a:ext cx="327240" cy="2441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8" name="_s9250"/>
            <p:cNvCxnSpPr>
              <a:stCxn id="139" idx="3"/>
              <a:endCxn id="137" idx="2"/>
            </p:cNvCxnSpPr>
            <p:nvPr/>
          </p:nvCxnSpPr>
          <p:spPr>
            <a:xfrm flipV="1">
              <a:off x="2209320" y="4090680"/>
              <a:ext cx="327240" cy="19152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9251"/>
            <p:cNvCxnSpPr>
              <a:stCxn id="141" idx="3"/>
              <a:endCxn id="137" idx="2"/>
            </p:cNvCxnSpPr>
            <p:nvPr/>
          </p:nvCxnSpPr>
          <p:spPr>
            <a:xfrm flipV="1">
              <a:off x="2209320" y="4090680"/>
              <a:ext cx="327240" cy="1389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9252"/>
            <p:cNvCxnSpPr>
              <a:stCxn id="143" idx="3"/>
              <a:endCxn id="137" idx="2"/>
            </p:cNvCxnSpPr>
            <p:nvPr/>
          </p:nvCxnSpPr>
          <p:spPr>
            <a:xfrm flipV="1">
              <a:off x="220932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9253"/>
            <p:cNvCxnSpPr>
              <a:stCxn id="145" idx="3"/>
              <a:endCxn id="137" idx="2"/>
            </p:cNvCxnSpPr>
            <p:nvPr/>
          </p:nvCxnSpPr>
          <p:spPr>
            <a:xfrm flipV="1">
              <a:off x="220932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9254"/>
            <p:cNvCxnSpPr>
              <a:stCxn id="128" idx="0"/>
              <a:endCxn id="147" idx="2"/>
            </p:cNvCxnSpPr>
            <p:nvPr/>
          </p:nvCxnSpPr>
          <p:spPr>
            <a:xfrm flipV="1" rot="16200000">
              <a:off x="6547320" y="2275200"/>
              <a:ext cx="146880" cy="272556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8" name="_s9255"/>
            <p:cNvCxnSpPr>
              <a:stCxn id="125" idx="0"/>
              <a:endCxn id="147" idx="2"/>
            </p:cNvCxnSpPr>
            <p:nvPr/>
          </p:nvCxnSpPr>
          <p:spPr>
            <a:xfrm flipV="1" rot="16200000">
              <a:off x="5186160" y="3636360"/>
              <a:ext cx="146880" cy="324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9" name="_s9256"/>
            <p:cNvCxnSpPr>
              <a:stCxn id="137" idx="0"/>
              <a:endCxn id="147" idx="2"/>
            </p:cNvCxnSpPr>
            <p:nvPr/>
          </p:nvCxnSpPr>
          <p:spPr>
            <a:xfrm flipH="1" flipV="1" rot="5400000">
              <a:off x="3823560" y="2277000"/>
              <a:ext cx="146880" cy="272232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7" name="_s9257"/>
            <p:cNvSpPr/>
            <p:nvPr/>
          </p:nvSpPr>
          <p:spPr>
            <a:xfrm>
              <a:off x="4236840" y="32004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местители директора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9258"/>
            <p:cNvSpPr/>
            <p:nvPr/>
          </p:nvSpPr>
          <p:spPr>
            <a:xfrm>
              <a:off x="151452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У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59"/>
            <p:cNvSpPr/>
            <p:nvPr/>
          </p:nvSpPr>
          <p:spPr>
            <a:xfrm>
              <a:off x="423936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60"/>
            <p:cNvSpPr/>
            <p:nvPr/>
          </p:nvSpPr>
          <p:spPr>
            <a:xfrm>
              <a:off x="696168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АХ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61"/>
            <p:cNvSpPr/>
            <p:nvPr/>
          </p:nvSpPr>
          <p:spPr>
            <a:xfrm>
              <a:off x="1540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алый педагог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62"/>
            <p:cNvSpPr/>
            <p:nvPr/>
          </p:nvSpPr>
          <p:spPr>
            <a:xfrm>
              <a:off x="1540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63"/>
            <p:cNvSpPr/>
            <p:nvPr/>
          </p:nvSpPr>
          <p:spPr>
            <a:xfrm>
              <a:off x="154080" y="53035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ттестационная комисс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9264"/>
            <p:cNvSpPr/>
            <p:nvPr/>
          </p:nvSpPr>
          <p:spPr>
            <a:xfrm>
              <a:off x="154080" y="58291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е объеди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уч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65"/>
            <p:cNvSpPr/>
            <p:nvPr/>
          </p:nvSpPr>
          <p:spPr>
            <a:xfrm>
              <a:off x="152280" y="635508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о-медико-педагогическ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силиу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66"/>
            <p:cNvSpPr/>
            <p:nvPr/>
          </p:nvSpPr>
          <p:spPr>
            <a:xfrm>
              <a:off x="28792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ий семинар воспита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 классных руков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67"/>
            <p:cNvSpPr/>
            <p:nvPr/>
          </p:nvSpPr>
          <p:spPr>
            <a:xfrm>
              <a:off x="28792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рганы учениче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амоу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68"/>
            <p:cNvSpPr/>
            <p:nvPr/>
          </p:nvSpPr>
          <p:spPr>
            <a:xfrm>
              <a:off x="5604120" y="4251960"/>
              <a:ext cx="203868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9269"/>
            <p:cNvSpPr/>
            <p:nvPr/>
          </p:nvSpPr>
          <p:spPr>
            <a:xfrm>
              <a:off x="5601960" y="4777560"/>
              <a:ext cx="204084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дминистративно-хозяй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а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70"/>
            <p:cNvSpPr/>
            <p:nvPr/>
          </p:nvSpPr>
          <p:spPr>
            <a:xfrm>
              <a:off x="2877120" y="5303520"/>
              <a:ext cx="2043360" cy="348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я педаг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 дополнительному образован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105520" y="205704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78560" y="18144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«Трудные» обучающие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стоящие на внутришкольном контр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295280"/>
          <a:ext cx="8686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73720" y="33408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вершили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19280" y="1660680"/>
          <a:ext cx="7866000" cy="43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660680"/>
                    <a:ext cx="786600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8520" y="31968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с 2006 по 200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990720"/>
          <a:ext cx="8610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610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15160" y="289800"/>
            <a:ext cx="85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за 2006-2007 и 2007-2008 учебны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1066680"/>
          <a:ext cx="845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151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Рассмотрено дел на заседании КД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143000"/>
          <a:ext cx="8458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Направления деятельности социального педагог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исследование с целью выявления социальных и личностных проблем детей всех возра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защита прав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социально-педагогической поддержки семье в формировании личности обучающ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консуль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профилактика, коррекция и реабили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йствие созданию педагогически ориентированной среды для оптимального развития личност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87240" y="74880"/>
            <a:ext cx="7768440" cy="6718680"/>
            <a:chOff x="687240" y="74880"/>
            <a:chExt cx="7768440" cy="6718680"/>
          </a:xfrm>
        </p:grpSpPr>
        <p:sp>
          <p:nvSpPr>
            <p:cNvPr id="155" name="_s12292"/>
            <p:cNvSpPr/>
            <p:nvPr/>
          </p:nvSpPr>
          <p:spPr>
            <a:xfrm flipH="1" flipV="1">
              <a:off x="2654640" y="3132360"/>
              <a:ext cx="95940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2293"/>
            <p:cNvSpPr/>
            <p:nvPr/>
          </p:nvSpPr>
          <p:spPr>
            <a:xfrm>
              <a:off x="687240" y="1950840"/>
              <a:ext cx="2015640" cy="180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о незащищ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тегорией дете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294"/>
            <p:cNvSpPr/>
            <p:nvPr/>
          </p:nvSpPr>
          <p:spPr>
            <a:xfrm flipH="1">
              <a:off x="3384000" y="4425120"/>
              <a:ext cx="596160" cy="7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2295"/>
            <p:cNvSpPr/>
            <p:nvPr/>
          </p:nvSpPr>
          <p:spPr>
            <a:xfrm>
              <a:off x="1788480" y="4984920"/>
              <a:ext cx="2015280" cy="180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 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«трудными детьм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296"/>
            <p:cNvSpPr/>
            <p:nvPr/>
          </p:nvSpPr>
          <p:spPr>
            <a:xfrm>
              <a:off x="5162760" y="4425120"/>
              <a:ext cx="5936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2297"/>
            <p:cNvSpPr/>
            <p:nvPr/>
          </p:nvSpPr>
          <p:spPr>
            <a:xfrm>
              <a:off x="5342400" y="4984920"/>
              <a:ext cx="2015640" cy="180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 документаци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298"/>
            <p:cNvSpPr/>
            <p:nvPr/>
          </p:nvSpPr>
          <p:spPr>
            <a:xfrm flipV="1">
              <a:off x="5528520" y="3135240"/>
              <a:ext cx="962280" cy="28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299"/>
            <p:cNvSpPr/>
            <p:nvPr/>
          </p:nvSpPr>
          <p:spPr>
            <a:xfrm>
              <a:off x="6440040" y="1950840"/>
              <a:ext cx="2015640" cy="1809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00"/>
            <p:cNvSpPr/>
            <p:nvPr/>
          </p:nvSpPr>
          <p:spPr>
            <a:xfrm flipV="1">
              <a:off x="4571640" y="1883520"/>
              <a:ext cx="0" cy="9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2301"/>
            <p:cNvSpPr/>
            <p:nvPr/>
          </p:nvSpPr>
          <p:spPr>
            <a:xfrm>
              <a:off x="3563640" y="74880"/>
              <a:ext cx="2015640" cy="180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классны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02"/>
            <p:cNvSpPr/>
            <p:nvPr/>
          </p:nvSpPr>
          <p:spPr>
            <a:xfrm>
              <a:off x="3563640" y="2790720"/>
              <a:ext cx="2015640" cy="180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рабо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В условиях становления индивидуально ориентированных систем воспитания и педагогической поддержки детей существенно расширился круг задач перед школой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 с каждым уче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работа с классом с опорой на знание воспитательной среды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тесная связь с микросоциумом, семьей, внеурочными заведениями, общественными объединениями, организация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6832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учащегося и его семь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назначен для накопления и систематизации материала по индивидуальной работе с родителями и обучающимися в том числе с осложненным и девиантным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класс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абочий документ социального педагога (в помощь классному руководителю) по накоплению и анализу количественных и качественных данных по основным направлениям воспита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84320" y="0"/>
          <a:ext cx="6977160" cy="6857640"/>
        </p:xfrm>
        <a:graphic>
          <a:graphicData uri="http://schemas.openxmlformats.org/drawingml/2006/table">
            <a:tbl>
              <a:tblPr/>
              <a:tblGrid>
                <a:gridCol w="697716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БОУ «Центр образовани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ЦИАЛЬНЫЙ ПАСПОРТ _____КЛАСС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ЛАССНЫЙ РУКОВОДИТ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циальный педагог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Состав семей ______ класс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519120"/>
          <a:ext cx="8534520" cy="6338880"/>
        </p:xfrm>
        <a:graphic>
          <a:graphicData uri="http://schemas.openxmlformats.org/drawingml/2006/table">
            <a:tbl>
              <a:tblPr/>
              <a:tblGrid>
                <a:gridCol w="2514600"/>
                <a:gridCol w="1066680"/>
                <a:gridCol w="990720"/>
                <a:gridCol w="1219320"/>
                <a:gridCol w="1218960"/>
                <a:gridCol w="1524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й адрес.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дет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потеря одного из родите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родители в развод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матери-одиноч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обеспечен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находящиеся под опе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из семей беженцев и переселен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, входящие в «группу риска». Склонные к правонаруш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ые дети в семье (коли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братьев и се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1344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06T19:50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