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C1-0538-4C10-A893-539F2D7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278-7DB0-442C-9D2B-3D72C63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91B-34A1-4D59-8D78-ABA679B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378-B953-4084-A7CE-F0702655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DD92-EE2B-4AC1-ACC9-BCD05F96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D0E8-56CF-4656-9FD1-5FF5FE4C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49BA-0A93-4B9C-AA5F-09B44BD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B11-1824-46F5-9BD8-4B5FC2C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F8B-F6F5-4A8A-87CD-03B92C2E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D5B-D193-4069-9F0D-061D89C4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BEBB-86E7-44D5-AF6E-44E36CD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6BC-C8AE-4AF4-8FC9-93ADC191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A81B-0FFF-4490-97C4-C14020A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7BF9-6762-4C4B-8C1D-81F6BCF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BE6-7164-4320-92DD-9BD17A3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5FA6-7C9C-4B25-BCF7-6A214528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0770-017A-43CF-9332-7DE55462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0847A-5FEA-4647-94FD-5EFF188C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BB561-7A2C-45F3-9DC0-1F5273D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1B64F-F316-4F08-877A-E6D6081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6D5B2-7839-4D15-90C6-0677419C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65EB4-FB24-40A1-8922-A130676D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305-8FB9-419F-889F-2BDA8F12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DF079-E15A-42BA-AB67-CB64BFE9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3F5C9-D3CA-4A7B-B84C-E27C70B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DE647-517B-4B3B-8112-3F597718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1C1A9-51E5-48DD-96EF-81054A1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E7ECD-DC62-4671-A636-EA9A078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4CE87-4207-49CB-9EEC-662DF350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DD15B-D95D-4190-8621-C3EE1B3B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EA688-2DDE-4D39-83CF-EF9D02D3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025E-3AA0-4188-8A90-911A272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FA0A-87B5-4AC5-A413-44D5865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D71-CE0F-4638-8098-56155FBD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C430-A06B-400D-85A1-2BD286E7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D6C1-7C0B-4605-8AC5-5833FED2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9D53-3583-4797-BC3C-7E4222C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7FAC-78F0-4E47-B755-CF89754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92FA-E32E-4844-9CF5-18D4D38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221-1E29-48A7-8FCB-0F110C7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8F6A-79BC-455D-903D-A201730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8C09-E72E-4CF5-999D-474516A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CAC8-5405-4953-8B27-72C513B2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6F984-855E-438F-907C-9406F586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C67-F651-49D3-A147-85C7DE0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D6459-4A72-4655-9A83-977E69F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7CF06-B96F-4C78-9958-E59582D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67F2E-682B-4B93-96A6-C5B4A2C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D19F7-C139-4395-81EB-E006793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E7850-7BD6-478A-B3CB-49AE1411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9B1C2-A8E3-44CC-BE92-52495A0F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2B48E-1049-4961-897F-D13752F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15029-1FC9-48D2-9301-64ACE26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338E3-7309-4032-8958-CF366E6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6F4B4-2A41-4DF9-9B46-D4C9A14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B3D-7BBC-41A8-91FC-534BA6A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70820-823C-4BEF-BB26-C2FC4551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B2F4C-B276-4DCB-9F24-D11303FA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18CF6-C2B7-47EE-93CC-B2633F2C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8D26F-8E2A-4305-A5E1-E3D5880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61830-6238-4A0E-91A3-E21EF60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EDE70-D16B-4D79-AEEF-CA5053F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D361D-8512-4B60-B2C7-97FB5E6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9445E-8E6E-4241-B7C5-21B9AA9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7FD40-FC95-4A6C-AC8D-B52AABE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31AB7-4AD7-401B-AA50-A4C8522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635-8E66-41D7-952F-87B7C95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3FD4E-8D0A-47FD-9595-7CB7FE7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9ADAA-0721-40EC-B840-9694BA84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B0920-2FAB-4284-B8C9-A003E41E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F6D74-F53B-41BF-A255-3B55FFDC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67FB6-D7D4-42D0-A9D0-58E518CA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036DB-1F58-4126-8098-2B80D82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D531C-76A8-4FFD-AD4B-14C9BBC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BFE49-82F1-4F95-B87C-189CFAC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F8080-DE5A-42BC-AB05-D39C334F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D57D5-9BD2-490A-A6B7-E6944800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D70-5518-4B09-A753-578915F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8BCF5-F4C3-4B5D-A323-13198F7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D143C-1FDF-45D7-83EA-55C1020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DC041-5B85-47AE-93F5-5D26EB6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41113-AE6C-4545-AD5E-12D5A498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33770-C726-4341-B1A5-B8EB53B1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473-977E-4E3A-B2C7-DCAA654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5A4-F66C-43C8-A82D-03AA965258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DCE0-5BD2-4B62-850C-FCD7EC01E9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194-B71D-418A-94D4-A8C27C3B60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BAE4-ED70-4BED-ABBB-3BD2034D98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072-FD9C-4DC9-B433-C7C4A95A81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794-932E-45FA-AFF2-9E31C8C685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06A-69BF-4718-A851-B468BC3E23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comments_pic/1049/04labt0fc129171542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qs.ru/products_pictures/97914_big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841400" y="353880"/>
            <a:ext cx="6620040" cy="3248280"/>
          </a:xfrm>
          <a:prstGeom prst="rect">
            <a:avLst/>
          </a:prstGeom>
          <a:ln w="0">
            <a:noFill/>
          </a:ln>
        </p:spPr>
      </p:pic>
      <p:pic>
        <p:nvPicPr>
          <p:cNvPr id="352" name="Подзаголовок 2" descr=""/>
          <p:cNvPicPr/>
          <p:nvPr/>
        </p:nvPicPr>
        <p:blipFill>
          <a:blip r:embed="rId2"/>
          <a:stretch/>
        </p:blipFill>
        <p:spPr>
          <a:xfrm>
            <a:off x="2577960" y="4529160"/>
            <a:ext cx="6242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85480" y="0"/>
            <a:ext cx="80722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тяг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ходи с дороги ко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раст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перёк – толс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учки – хва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и за что не упадёт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ожки – бегушечк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Картинка 14 из 6657"/>
          <p:cNvPicPr/>
          <p:nvPr/>
        </p:nvPicPr>
        <p:blipFill>
          <a:blip r:embed="rId1"/>
          <a:stretch/>
        </p:blipFill>
        <p:spPr>
          <a:xfrm>
            <a:off x="2000160" y="2928960"/>
            <a:ext cx="469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СТАРШИХ ДЕТ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2000160"/>
            <a:ext cx="5143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душки, ладуш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были? - У бабу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ели? – К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пили? – Простокв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или, по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мой поле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головку с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сенку зап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4" descr="Картинка 87 из 6774"/>
          <p:cNvPicPr/>
          <p:nvPr/>
        </p:nvPicPr>
        <p:blipFill>
          <a:blip r:embed="rId1"/>
          <a:stretch/>
        </p:blipFill>
        <p:spPr>
          <a:xfrm>
            <a:off x="4572000" y="1785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КУП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гуся 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Дашеньки худоб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 вниз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Дашенька вверх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Картинка 82 из 6774"/>
          <p:cNvPicPr/>
          <p:nvPr/>
        </p:nvPicPr>
        <p:blipFill>
          <a:blip r:embed="rId1"/>
          <a:stretch/>
        </p:blipFill>
        <p:spPr>
          <a:xfrm>
            <a:off x="4929120" y="1785960"/>
            <a:ext cx="2982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ОТ СЛЁЗ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2143080"/>
            <a:ext cx="746748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лачь, не плач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калач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хнычь, не н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друг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лёзы у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тебе т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Картинка 115 из 6774"/>
          <p:cNvPicPr/>
          <p:nvPr/>
        </p:nvPicPr>
        <p:blipFill>
          <a:blip r:embed="rId1"/>
          <a:stretch/>
        </p:blipFill>
        <p:spPr>
          <a:xfrm>
            <a:off x="4643280" y="164304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ДЛЯ УМЫВ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28400" y="221436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, водич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ой нос и личик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глазоньки блест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щёчки красн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смеялся рот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кусался зуб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Картинка 107 из 6774"/>
          <p:cNvPicPr/>
          <p:nvPr/>
        </p:nvPicPr>
        <p:blipFill>
          <a:blip r:embed="rId1"/>
          <a:stretch/>
        </p:blipFill>
        <p:spPr>
          <a:xfrm>
            <a:off x="5143680" y="17859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 ЕД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143080"/>
            <a:ext cx="41148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ница, Катеньк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ь кашку сладеньк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кусную, пушистую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гкую, душисту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Картинка 263 из 6773"/>
          <p:cNvPicPr/>
          <p:nvPr/>
        </p:nvPicPr>
        <p:blipFill>
          <a:blip r:embed="rId1"/>
          <a:stretch/>
        </p:blipFill>
        <p:spPr>
          <a:xfrm>
            <a:off x="4643280" y="192888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АССАЖ С ПОТЕШКО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2643120"/>
            <a:ext cx="5786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учку ручкою поглади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альчик пальчиком потр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тдохнём совсем немног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потом опять нач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Картинка 36 из 6774"/>
          <p:cNvPicPr/>
          <p:nvPr/>
        </p:nvPicPr>
        <p:blipFill>
          <a:blip r:embed="rId1"/>
          <a:stretch/>
        </p:blipFill>
        <p:spPr>
          <a:xfrm>
            <a:off x="5500800" y="1643040"/>
            <a:ext cx="237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5726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СОЧИНЯТЬ ПОТЕШКИ МОГУТ ВС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2920" y="1599840"/>
            <a:ext cx="8572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тешки прабабки Ва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на, Леночка, Лено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, Серёжа, засыпа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ьми вкусный пирожок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пко глазки закрыва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рожочек кушай,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ыпай скоре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абушку слушай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астёшь быстр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Картинка 397 из 6772"/>
          <p:cNvPicPr/>
          <p:nvPr/>
        </p:nvPicPr>
        <p:blipFill>
          <a:blip r:embed="rId1"/>
          <a:stretch/>
        </p:blipFill>
        <p:spPr>
          <a:xfrm>
            <a:off x="3071880" y="4214880"/>
            <a:ext cx="1725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ДНОКЛАССНИК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857520" y="2428920"/>
            <a:ext cx="53578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ня, Танечка, не плач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куплю тебе кала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м тебе конфет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городе вырву реп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олодянкина Даш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Картинка 16 из 6774"/>
          <p:cNvPicPr/>
          <p:nvPr/>
        </p:nvPicPr>
        <p:blipFill>
          <a:blip r:embed="rId1"/>
          <a:stretch/>
        </p:blipFill>
        <p:spPr>
          <a:xfrm>
            <a:off x="4594320" y="1857240"/>
            <a:ext cx="3983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ОИ ПОТЕШ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680" y="1571760"/>
            <a:ext cx="828648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ули-гу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гулень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по полю прыг – пры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Живу я у бабуленьки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ножками дрыг – дры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а поит молочком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в лужу заскочил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ал я выше росточко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вои ножки обмочи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Картинка 373 из 6772"/>
          <p:cNvPicPr/>
          <p:nvPr/>
        </p:nvPicPr>
        <p:blipFill>
          <a:blip r:embed="rId1"/>
          <a:stretch/>
        </p:blipFill>
        <p:spPr>
          <a:xfrm>
            <a:off x="2714760" y="35002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, что такое потешки и для кого они создавали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42876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Содержимое 2"/>
          <p:cNvSpPr/>
          <p:nvPr/>
        </p:nvSpPr>
        <p:spPr>
          <a:xfrm>
            <a:off x="571680" y="4214880"/>
            <a:ext cx="7467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возникновении потеш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чём потеш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используются потешки в жизн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Картинка 68 из 5907"/>
          <p:cNvPicPr/>
          <p:nvPr/>
        </p:nvPicPr>
        <p:blipFill>
          <a:blip r:embed="rId1"/>
          <a:stretch/>
        </p:blipFill>
        <p:spPr>
          <a:xfrm>
            <a:off x="6357960" y="2357280"/>
            <a:ext cx="20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712800"/>
            <a:ext cx="8400960" cy="2792520"/>
          </a:xfrm>
          <a:prstGeom prst="rect">
            <a:avLst/>
          </a:prstGeom>
          <a:ln w="0">
            <a:noFill/>
          </a:ln>
        </p:spPr>
      </p:pic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493560" y="4992840"/>
            <a:ext cx="748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ГИПОТЕЗ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320" y="1785960"/>
            <a:ext cx="778644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аны дав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радуют, поднимают настро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ывают только взрослые, поэ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Картинка 111 из 67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357720"/>
            <a:ext cx="2411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БЪЕКТ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59984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фольклорное творчество для создания положительных эмо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50004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5c01"/>
                </a:solidFill>
                <a:latin typeface="Century Schoolbook"/>
              </a:rPr>
              <a:t>ПРЕДМЕТ ИССЛЕДОВАНИЯ</a:t>
            </a:r>
            <a:r>
              <a:rPr b="0" lang="en-US" sz="3300" spc="-1" strike="noStrike">
                <a:solidFill>
                  <a:srgbClr val="e75c01"/>
                </a:solidFill>
                <a:latin typeface="Century Schoolbook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500040" y="4357800"/>
            <a:ext cx="74674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создания потешек и использования их в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ЕТОД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9680" y="2714760"/>
            <a:ext cx="746748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бота с информационными источ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Картинка 296 из 6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357120"/>
            <a:ext cx="24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ЧТО ТАКОЕ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есенка-приговорка, сопутствующая игре с пальцами, руками и ногами ребё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Толковый словарь С. Ожег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короткие стишки (реже песенки), предназначенные для детей младенческого возраста и сопровождающиеся элементарными игровыми движениями во время приговаривания или пропевания поте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Гуманитарный словар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57120" y="1356840"/>
            <a:ext cx="5143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оявились в далёкой древности. Это доказывают и литературные источн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создавались для детей с целью успокоить, развеселить малыш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Картинка 73 из 6774"/>
          <p:cNvPicPr/>
          <p:nvPr/>
        </p:nvPicPr>
        <p:blipFill>
          <a:blip r:embed="rId1"/>
          <a:stretch/>
        </p:blipFill>
        <p:spPr>
          <a:xfrm>
            <a:off x="5715000" y="928800"/>
            <a:ext cx="2643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42600" y="642600"/>
            <a:ext cx="80010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ая потешка «Сорока – ворона кашу варила» знакома почти всем европейским народ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ие потешки известны и в других регионах стр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im6-tub-ru.yandex.net/i?id=306964399-16-72"/>
          <p:cNvPicPr/>
          <p:nvPr/>
        </p:nvPicPr>
        <p:blipFill>
          <a:blip r:embed="rId1"/>
          <a:stretch/>
        </p:blipFill>
        <p:spPr>
          <a:xfrm>
            <a:off x="2928960" y="300024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 ЧЁМ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тешки сочинялись на разные темы: о частях тела, выражали различные чувства, о живот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свящались младенцам: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- дед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осик, носик, лоби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баб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Щёчки, подбородо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пап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шки, глаз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мам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шенькины сказ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т и вся моя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35:30Z</dcterms:created>
  <dc:creator>obuhova</dc:creator>
  <dc:description/>
  <dc:language>en-US</dc:language>
  <cp:lastModifiedBy>oen</cp:lastModifiedBy>
  <dcterms:modified xsi:type="dcterms:W3CDTF">2011-12-09T11:24:25Z</dcterms:modified>
  <cp:revision>67</cp:revision>
  <dc:subject/>
  <dc:title>Вятские потешки</dc:title>
</cp:coreProperties>
</file>