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57D-6155-4F5D-8B50-EEA8F070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07F-75C8-461D-A371-1BBC9D2B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C52-B52F-42C9-869B-B6569C1C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7B8-CED8-45D0-B2B5-66E5A21C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5E8B-FA7E-4DFD-86B1-2F7DAFF5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A046-E6DB-48B2-9FDB-D5AE33C6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8204-5831-4A34-9A19-AB15E83F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1C47-DF66-4E49-977D-4D1CECA6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DE9F-D0CC-461E-B220-B9511C04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B61B-BBC5-436E-AE90-B2732799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1800-7B53-4C86-900A-319D3EF2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39B-A0E2-46E3-B33B-5B862AE2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2BCE-F8E8-4169-B547-1E69AAEB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1352-939D-4B6B-B905-976B63B4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805D-05F5-4001-A58F-B3042015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6330-98CA-4A4E-8CCC-8D2DA883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5A80-C32E-4DBC-ADFE-BBF1ECEE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ADA50-0BA1-4847-B02E-3B783D41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B69B6-AF1B-46FF-AD92-D9EBB319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FA058-2630-406C-9345-95ABFAFF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0831E-EA53-44B5-84C7-F8C04F73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D513B-2B30-44E6-8835-CCAD2459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DB8-09CC-46B2-A17C-16A182E9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EE82C-BED2-4CC9-ACE3-764C28F0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D29C2-59D3-4F42-9100-3F0C8A18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56922-7870-41D4-AB6E-8C7D0FC2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9BDE9-8A1E-4584-BDB4-2E0091EA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79258-07A7-4642-ADF6-78D9E374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6F375-E446-44BF-91E3-9703C597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DB713-BBB7-4CB2-8615-432824C2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1068-2FF1-4D56-AE03-38631689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4090C-10E5-420B-9FF3-5F2E3E24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5B930-69EB-4E5A-9FC5-E0B18532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488-4826-4111-83FC-979CB842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A89C2-DCE9-4AC0-9A1F-27B0F433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1A500-DAFC-49C5-A060-721A822B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C6954-C401-4004-A847-A943705A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B2C8B-61C0-4DCC-851F-7E2D5CC5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BF0D8-F14A-4344-86E3-17D34557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7835E-92C0-4F2A-8594-326C97EC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A00AE-E7F3-4D93-98C1-D7D8B5E0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25B65-D6F3-41A8-B15C-FD5B8693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923A4-289A-46B7-AA47-2886A1C5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3F183-AEC5-4AA0-8C0A-AA723E77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7CA-E145-430A-9455-C262A74E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AD06B-EB95-4DCD-8F48-B5ED8C0D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D15ED-CAE9-48E1-B281-A8A7605F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387E15-B81B-40AB-B0E7-64AC391C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08678-5D45-497B-83A7-8B6C7CB7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F2C88-B2F1-42FD-9820-218E164C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B380A-B6B8-47A5-873F-7BCC5C37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7FDCB-4625-4AF8-93FB-BEC50D7B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89AF4-86CD-4069-A11B-D9792DEA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6FBF1-55B2-4141-8BF2-A982DACD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F7CC9-C529-4345-83A6-DCED9F4D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B42-6782-426E-9D66-84B93BC8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5EE7D-BE91-4579-AEC9-F7B97621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E695E9-2F8B-4FE5-8E28-9B78C695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AFBF8-96F3-4C91-98B7-AC226EC9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CC10E-11B3-4EF3-A534-C82507E8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DDFA6F-A573-4A7E-BB69-2F7297D6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8AAF6-4FD4-40EF-85AC-F236B07F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03DA5D-820D-4E0C-B281-048D2B1E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19124-6386-427C-81BF-A44B6F7F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231D3-E6AF-49A9-9483-2004FA3B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1B6826-82F3-4A09-9119-1C302D15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FFF1-B228-4AC7-8DA8-3C617F8B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E81060-C378-4C6C-A6BE-BA540FCD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84419A-8A5B-422B-B115-13A108DA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A0EC54-2ECE-49D9-8631-8B261E12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6C3C6E-C62E-4B5B-96C9-B0D3C2C8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1A8838-92BC-48ED-A2DB-C7BBB163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871A2C-3B76-4FE3-8B77-3F76F108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EC6A2-7711-4BCA-9B0E-BF6344C1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0CDF6-E7E6-49DC-94BD-F5DE0ADE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E69FFD-6AF8-4774-8AD1-A670C763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49BCD8-D80E-47E1-9B4E-07511EA6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7D4-63A5-43A4-9DD9-11B17CD5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EC9719-13F0-4F4A-84F4-A535D41A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F33633-27EC-4C42-9D66-D7B15C7E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13467-56CA-48A0-A161-039D565F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F1F741-F5A1-40C3-A299-3FA0D028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C6D418-6328-4758-A6E5-5DDF5073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2B7-DE73-4495-B27F-9D1E3CBF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2580-7746-4DA0-BD64-BF56C08D809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8C21-4737-426B-93EB-FF2B368EC3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AE8F-3B37-4C3A-B97A-82C30C08F4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78BB-ADF4-41BD-86FC-2C1B8A0FB08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148A-E9E5-4049-BA69-086EBCBE80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D1AF-AE93-4CE9-9404-9CBA683CCF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5043-6819-44FC-9509-286740AB6E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.labirint.ru/images/comments_pic/1049/04labt0fc1291715423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oqs.ru/products_pictures/97914_big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841400" y="353880"/>
            <a:ext cx="6620040" cy="3248280"/>
          </a:xfrm>
          <a:prstGeom prst="rect">
            <a:avLst/>
          </a:prstGeom>
          <a:ln w="0">
            <a:noFill/>
          </a:ln>
        </p:spPr>
      </p:pic>
      <p:pic>
        <p:nvPicPr>
          <p:cNvPr id="352" name="Подзаголовок 2" descr=""/>
          <p:cNvPicPr/>
          <p:nvPr/>
        </p:nvPicPr>
        <p:blipFill>
          <a:blip r:embed="rId2"/>
          <a:stretch/>
        </p:blipFill>
        <p:spPr>
          <a:xfrm>
            <a:off x="2577960" y="4529160"/>
            <a:ext cx="62420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85480" y="0"/>
            <a:ext cx="807228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тягушечки!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ходи с дороги кот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растушечки!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ша Танечка идёт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перёк – толстушечки,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ша Танечка идёт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учки – хватушечки,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и за что не упадёт!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ожки – бегушечк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Картинка 14 из 6657"/>
          <p:cNvPicPr/>
          <p:nvPr/>
        </p:nvPicPr>
        <p:blipFill>
          <a:blip r:embed="rId1"/>
          <a:stretch/>
        </p:blipFill>
        <p:spPr>
          <a:xfrm>
            <a:off x="2000160" y="2928960"/>
            <a:ext cx="4699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49968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И ДЛЯ СТАРШИХ ДЕТЕЙ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2000160"/>
            <a:ext cx="5143680" cy="41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адушки, ладушк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де были? - У бабуш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ели? – Каш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пили? – Простокваш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или, пое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мой полете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головку се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сенку запе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4" descr="Картинка 87 из 6774"/>
          <p:cNvPicPr/>
          <p:nvPr/>
        </p:nvPicPr>
        <p:blipFill>
          <a:blip r:embed="rId1"/>
          <a:stretch/>
        </p:blipFill>
        <p:spPr>
          <a:xfrm>
            <a:off x="4572000" y="17859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И ДЛЯ КУПАНИЯ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2571480"/>
            <a:ext cx="746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44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 гуся в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 Дашеньки худоб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одичка вниз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А Дашенька вверх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Картинка 82 из 6774"/>
          <p:cNvPicPr/>
          <p:nvPr/>
        </p:nvPicPr>
        <p:blipFill>
          <a:blip r:embed="rId1"/>
          <a:stretch/>
        </p:blipFill>
        <p:spPr>
          <a:xfrm>
            <a:off x="4929120" y="1785960"/>
            <a:ext cx="2982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А ОТ СЛЁЗ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28400" y="2143080"/>
            <a:ext cx="7467480" cy="30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е плачь, не плачь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уплю калач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е хнычь, не но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уплю друг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лёзы ут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уплю тебе тр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2" descr="Картинка 115 из 6774"/>
          <p:cNvPicPr/>
          <p:nvPr/>
        </p:nvPicPr>
        <p:blipFill>
          <a:blip r:embed="rId1"/>
          <a:stretch/>
        </p:blipFill>
        <p:spPr>
          <a:xfrm>
            <a:off x="4643280" y="1643040"/>
            <a:ext cx="3762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А ДЛЯ УМЫВАНИЯ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28400" y="2214360"/>
            <a:ext cx="74674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одичка, водичк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Умой нос и личико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Чтобы глазоньки блесте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Чтобы щёчки красне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Чтоб смеялся роток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Чтоб кусался зуб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Картинка 107 из 6774"/>
          <p:cNvPicPr/>
          <p:nvPr/>
        </p:nvPicPr>
        <p:blipFill>
          <a:blip r:embed="rId1"/>
          <a:stretch/>
        </p:blipFill>
        <p:spPr>
          <a:xfrm>
            <a:off x="5143680" y="1785960"/>
            <a:ext cx="3076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И О ЕДЕ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2143080"/>
            <a:ext cx="41148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ница, Катенька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шь кашку сладеньк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кусную, пушистую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ягкую, душисту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2" descr="Картинка 263 из 6773"/>
          <p:cNvPicPr/>
          <p:nvPr/>
        </p:nvPicPr>
        <p:blipFill>
          <a:blip r:embed="rId1"/>
          <a:stretch/>
        </p:blipFill>
        <p:spPr>
          <a:xfrm>
            <a:off x="4643280" y="192888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МАССАЖ С ПОТЕШКОЙ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2643120"/>
            <a:ext cx="5786280" cy="33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53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Ручку ручкою погладим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53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альчик пальчиком потр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53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тдохнём совсем немного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53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А потом опять начн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Picture 2" descr="Картинка 36 из 6774"/>
          <p:cNvPicPr/>
          <p:nvPr/>
        </p:nvPicPr>
        <p:blipFill>
          <a:blip r:embed="rId1"/>
          <a:stretch/>
        </p:blipFill>
        <p:spPr>
          <a:xfrm>
            <a:off x="5500800" y="1643040"/>
            <a:ext cx="2371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3840" y="571320"/>
            <a:ext cx="857268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СОЧИНЯТЬ ПОТЕШКИ МОГУТ ВСЕ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2920" y="1599840"/>
            <a:ext cx="8572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отешки прабабки Вал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на, Леночка, Ленок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и, Серёжа, засыпа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зьми вкусный пирожок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епко глазки закрыва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ирожочек кушай,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сыпай скоре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абушку слушай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астёшь быстр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2" descr="Картинка 397 из 6772"/>
          <p:cNvPicPr/>
          <p:nvPr/>
        </p:nvPicPr>
        <p:blipFill>
          <a:blip r:embed="rId1"/>
          <a:stretch/>
        </p:blipFill>
        <p:spPr>
          <a:xfrm>
            <a:off x="3071880" y="4214880"/>
            <a:ext cx="1725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И ОДНОКЛАССНИКОВ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857520" y="2428920"/>
            <a:ext cx="535788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107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ня, Танечка, не плачь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07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 куплю тебе кала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07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ам тебе конфет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07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огороде вырву реп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07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Солодянкина Даш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2" descr="Картинка 16 из 6774"/>
          <p:cNvPicPr/>
          <p:nvPr/>
        </p:nvPicPr>
        <p:blipFill>
          <a:blip r:embed="rId1"/>
          <a:stretch/>
        </p:blipFill>
        <p:spPr>
          <a:xfrm>
            <a:off x="4594320" y="1857240"/>
            <a:ext cx="3983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МОИ ПОТЕШКИ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71680" y="1571760"/>
            <a:ext cx="8286480" cy="41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Гули-гу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гулень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йчик по полю прыг – пры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Живу я у бабуленьки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йчик ножками дрыг – дрыг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на поит молочком,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йчик в лужу заскочил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тал я выше росточком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вои ножки обмочил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2" descr="Картинка 373 из 6772"/>
          <p:cNvPicPr/>
          <p:nvPr/>
        </p:nvPicPr>
        <p:blipFill>
          <a:blip r:embed="rId1"/>
          <a:stretch/>
        </p:blipFill>
        <p:spPr>
          <a:xfrm>
            <a:off x="2714760" y="3500280"/>
            <a:ext cx="30002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ЦЕЛЬ: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знать, что такое потешки и для кого они создавалис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Заголовок 1"/>
          <p:cNvSpPr/>
          <p:nvPr/>
        </p:nvSpPr>
        <p:spPr>
          <a:xfrm>
            <a:off x="428760" y="2857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Содержимое 2"/>
          <p:cNvSpPr/>
          <p:nvPr/>
        </p:nvSpPr>
        <p:spPr>
          <a:xfrm>
            <a:off x="571680" y="4214880"/>
            <a:ext cx="74674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знать о возникновении потеше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 чём потешк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используются потешки в жизн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2" descr="Картинка 68 из 5907"/>
          <p:cNvPicPr/>
          <p:nvPr/>
        </p:nvPicPr>
        <p:blipFill>
          <a:blip r:embed="rId1"/>
          <a:stretch/>
        </p:blipFill>
        <p:spPr>
          <a:xfrm>
            <a:off x="6357960" y="2357280"/>
            <a:ext cx="2036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712800"/>
            <a:ext cx="8400960" cy="2792520"/>
          </a:xfrm>
          <a:prstGeom prst="rect">
            <a:avLst/>
          </a:prstGeom>
          <a:ln w="0">
            <a:noFill/>
          </a:ln>
        </p:spPr>
      </p:pic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493560" y="4992840"/>
            <a:ext cx="7480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ГИПОТЕЗЫ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71320" y="1785960"/>
            <a:ext cx="778644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тешки придуманы давн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тешки радуют, поднимают настро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тешки придумывают только взрослые, поэ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Картинка 111 из 67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71880" y="3357720"/>
            <a:ext cx="24112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ОБЪЕКТ ИССЛЕДОВАНИЯ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599840"/>
            <a:ext cx="74674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тешк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фольклорное творчество для создания положительных эмо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Заголовок 1"/>
          <p:cNvSpPr/>
          <p:nvPr/>
        </p:nvSpPr>
        <p:spPr>
          <a:xfrm>
            <a:off x="500040" y="2857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75c01"/>
                </a:solidFill>
                <a:latin typeface="Century Schoolbook"/>
              </a:rPr>
              <a:t>ПРЕДМЕТ ИССЛЕДОВАНИЯ</a:t>
            </a:r>
            <a:r>
              <a:rPr b="0" lang="en-US" sz="3300" spc="-1" strike="noStrike">
                <a:solidFill>
                  <a:srgbClr val="e75c01"/>
                </a:solidFill>
                <a:latin typeface="Century Schoolbook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Содержимое 2"/>
          <p:cNvSpPr/>
          <p:nvPr/>
        </p:nvSpPr>
        <p:spPr>
          <a:xfrm>
            <a:off x="500040" y="4357800"/>
            <a:ext cx="746748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ы создания потешек и использования их в жизн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855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МЕТОДЫ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99680" y="2714760"/>
            <a:ext cx="746748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про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Анкетир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Работа с информационными источника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актическая рабо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2" descr="Картинка 296 из 67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357120"/>
            <a:ext cx="24861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ЧТО ТАКОЕ ПОТЕШКИ?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теш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есенка-приговорка, сопутствующая игре с пальцами, руками и ногами ребён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Толковый словарь С. Ожегов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тешк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короткие стишки (реже песенки), предназначенные для детей младенческого возраста и сопровождающиеся элементарными игровыми движениями во время приговаривания или пропевания потеш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Гуманитарный словарь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57120" y="1356840"/>
            <a:ext cx="51436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тешки появились в далёкой древности. Это доказывают и литературные источни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тешки создавались для детей с целью успокоить, развеселить малыш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4" descr="Картинка 73 из 6774"/>
          <p:cNvPicPr/>
          <p:nvPr/>
        </p:nvPicPr>
        <p:blipFill>
          <a:blip r:embed="rId1"/>
          <a:stretch/>
        </p:blipFill>
        <p:spPr>
          <a:xfrm>
            <a:off x="5715000" y="928800"/>
            <a:ext cx="26431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42600" y="642600"/>
            <a:ext cx="80010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ятская потешка «Сорока – ворона кашу варила» знакома почти всем европейским народа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ятские потешки известны и в других регионах стра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2" descr="http://im6-tub-ru.yandex.net/i?id=306964399-16-72"/>
          <p:cNvPicPr/>
          <p:nvPr/>
        </p:nvPicPr>
        <p:blipFill>
          <a:blip r:embed="rId1"/>
          <a:stretch/>
        </p:blipFill>
        <p:spPr>
          <a:xfrm>
            <a:off x="2928960" y="3000240"/>
            <a:ext cx="2743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О ЧЁМ ПОТЕШКИ?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8296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тешки сочинялись на разные темы: о частях тела, выражали различные чувства, о животны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Посвящались младенцам: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т пальчик - дедушка,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осик, носик, лобик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т пальчик – бабушка,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Щёчки, подбородок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т пальчик – папочка,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шки, глазки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т пальчик – мамочка,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ашенькины сказк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т пальчик – 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от и вся моя семья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06:35:30Z</dcterms:created>
  <dc:creator>obuhova</dc:creator>
  <dc:description/>
  <dc:language>en-US</dc:language>
  <cp:lastModifiedBy>oen</cp:lastModifiedBy>
  <dcterms:modified xsi:type="dcterms:W3CDTF">2011-12-09T11:24:25Z</dcterms:modified>
  <cp:revision>67</cp:revision>
  <dc:subject/>
  <dc:title>Вятские потешки</dc:title>
</cp:coreProperties>
</file>