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538B-5A0A-4F2E-BC4B-89AF12EB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8FF-DCDE-4F26-8154-BBCB95E3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B9BC-EC29-43E8-891F-AAEFE392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FED1-B274-47E7-87B2-42025796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6310-ADF3-415E-AF01-A6827E86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36E6-6E89-43E9-B659-503EFD22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AB84-F7CC-4B92-9BD0-78C8DF82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7C76-A75E-4947-8554-E0E786F2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8B43-449C-4739-B315-C3AFE93D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DDF1-A8D8-4C8C-BB51-77AF6542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064A-4F60-4E15-A8A8-EC08A0FB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887-D81C-43B6-918A-57E06F39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6A77-0BA3-41D9-9814-63B83F6A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9EAD-9B92-4BAB-9499-681CF579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A54A-CB90-4059-86D9-E4F0F562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A1B7-3A6C-435F-97E7-1BCCFE96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654B-08D4-4F87-B3AA-6E38DA66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6C7F0-7E63-4848-90A7-C09485AD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D8680-5214-4A11-9CE0-679F2185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8C9A6-AA2A-4257-85B4-9D84BC95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893C6-A8AE-4200-A045-2742E897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6D64F-D028-487D-BDC8-5FDA6C5E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6350-6F8F-4CAD-A912-38502D4C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B1DE4-0D05-486A-928C-4A58D28C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247EB-5C4A-4D7A-8764-221C01B1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FD6E56-C2F2-4025-9EAD-3B165D6D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92E669-4A8A-4138-9F28-A7462584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74B153-99A7-4DC2-99D6-334E8E4C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E00F47-1E95-4568-B2C0-C37640D3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45F790-F13C-4034-96F6-F5302C35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AFAC4-6F76-4F6E-AAA0-BA1A7377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F13B9-6090-4755-BB26-A536A07A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1FD5D-110E-40BE-A4A8-346F4875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D79A-7BF1-4F58-97F4-0A537185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EA6B7-5EFF-4890-8C46-FF2068D1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74357-440B-40EA-8AE4-A024C5B4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041A5-D103-4043-8D7B-3348E4B9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654C0-F298-4419-B270-F850F310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A785D-4A2F-4A42-9A24-31A52C65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CCD6D-5029-4169-ABA7-355F690D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4ECF2-6589-46A7-9C50-B4802CE3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CD212-E03B-4DA0-91F9-4B561F58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B0084-B42A-4C2B-BDD4-922C761D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876F3C-6CA5-4C6A-A047-67E3404F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CA62-1C06-4A07-A085-DFBF2625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DCCBA9-17E4-48AF-9B72-3937892D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B0DE84-7C3F-4D0A-A50A-BECC7EF8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149A5F-36B1-4E23-AB51-143C53F4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5BF4F-B630-47AA-BABC-6EF8BACA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9CF453-5682-41FA-B2A5-D499C8CD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9DC730-AA85-4A04-B4F9-3471BED6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F48344-E01C-4FB8-B7CE-EB8CAD56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7D193D-FA51-4237-B3B2-158FDDB6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B708F9-F0F2-4B76-A48D-50EC3AFF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0DE452-C150-432B-87B9-14707E70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AFEB-FA87-4FD5-AD1C-3ADA6D95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6ED445-373D-4FF0-84FF-EF02E92A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1D4781-7A50-478D-A0CB-69E8917D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306782-765B-4E1A-825D-3732C3A5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2F437B-FD8A-4765-8BC0-C41B3A77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E19419-D082-4528-9C58-6D2A8826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326F1C-E238-4F8D-BEDD-302A5ECC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2A3F34-7B8C-400A-AB02-2837980B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573269-8674-4160-B982-0D4048A8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446D03-01F9-4085-80A2-81FBE9ED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6FFBA3-6745-4AEA-89DF-F68A0F6F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13A-B254-4ADB-8AB3-35925019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6F3D65-84BB-4A51-AB41-0C442542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FF136B-560B-4468-A5FC-0A24CD43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26A0A8-25B5-4C8C-9108-E221BEA4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901EA5-0928-48BB-9B0E-9D16A93A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161E5E-1D6C-4FFB-AB8D-2ADC359A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385335-BE3B-441D-B318-0174C33D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727C30-A18D-4509-89FD-2B3070C4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4EC8B8-68A5-4E57-9859-B507E69D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07A646-3B51-4B9C-8511-35B8E187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03B395-55A4-41F5-A119-69EEE40B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FABF-AB78-493B-B1A0-1890F978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DD14E2-20BF-47C9-AAC2-A93EE48A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21FB59-8B0D-4439-A9BA-B7251E9D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6F4DA0-5AB7-41A2-9A5D-0A69532F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1E265F-C63C-4F8D-B49A-012092F4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3BFF01-A8BF-472A-B409-2F1BFEA3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4463-AE8D-4CCF-A8F5-4118F68C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617F-232B-42A4-967E-516F94BF0F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6834-49D9-488B-9413-EF991B691B4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2F06-C0FD-42CC-AFF0-C2FB710969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3B52-E912-4D9E-AF06-C1162F846E0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C2F2-924B-4EF0-B131-929BFD2B29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6FD6-6714-4149-8E0D-FD268634A3A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7350-103C-4328-8598-235C2DDD5EC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.labirint.ru/images/comments_pic/1049/04labt0fc1291715423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ooqs.ru/products_pictures/97914_big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1841400" y="353880"/>
            <a:ext cx="6620040" cy="3248280"/>
          </a:xfrm>
          <a:prstGeom prst="rect">
            <a:avLst/>
          </a:prstGeom>
          <a:ln w="0">
            <a:noFill/>
          </a:ln>
        </p:spPr>
      </p:pic>
      <p:pic>
        <p:nvPicPr>
          <p:cNvPr id="352" name="Подзаголовок 2" descr=""/>
          <p:cNvPicPr/>
          <p:nvPr/>
        </p:nvPicPr>
        <p:blipFill>
          <a:blip r:embed="rId2"/>
          <a:stretch/>
        </p:blipFill>
        <p:spPr>
          <a:xfrm>
            <a:off x="2577960" y="4529160"/>
            <a:ext cx="624204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85480" y="0"/>
            <a:ext cx="807228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6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6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6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тягушечки!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Уходи с дороги кот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6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растушечки!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аша Танечка идёт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6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перёк – толстушечки,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аша Танечка идёт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6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учки – хватушечки,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и за что не упадёт!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6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ожки – бегушечк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2" descr="Картинка 14 из 6657"/>
          <p:cNvPicPr/>
          <p:nvPr/>
        </p:nvPicPr>
        <p:blipFill>
          <a:blip r:embed="rId1"/>
          <a:stretch/>
        </p:blipFill>
        <p:spPr>
          <a:xfrm>
            <a:off x="2000160" y="2928960"/>
            <a:ext cx="46990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56760" y="49968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ПОТЕШКИ ДЛЯ СТАРШИХ ДЕТЕЙ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2000160"/>
            <a:ext cx="5143680" cy="41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адушки, ладушк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де были? - У бабуш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 ели? – Кашк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пили? – Простоквашк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пили, поел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мой полетел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головку сел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сенку запел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4" descr="Картинка 87 из 6774"/>
          <p:cNvPicPr/>
          <p:nvPr/>
        </p:nvPicPr>
        <p:blipFill>
          <a:blip r:embed="rId1"/>
          <a:stretch/>
        </p:blipFill>
        <p:spPr>
          <a:xfrm>
            <a:off x="4572000" y="17859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ПОТЕШКИ ДЛЯ КУПАНИЯ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2571480"/>
            <a:ext cx="74674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44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С гуся в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С Дашеньки худоб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одичка вниз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А Дашенька вверх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Картинка 82 из 6774"/>
          <p:cNvPicPr/>
          <p:nvPr/>
        </p:nvPicPr>
        <p:blipFill>
          <a:blip r:embed="rId1"/>
          <a:stretch/>
        </p:blipFill>
        <p:spPr>
          <a:xfrm>
            <a:off x="4929120" y="1785960"/>
            <a:ext cx="2982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ПОТЕШКА ОТ СЛЁЗ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28400" y="2143080"/>
            <a:ext cx="7467480" cy="30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е плачь, не плачь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уплю калач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е хнычь, не ной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уплю друг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Слёзы ут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уплю тебе тр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Picture 2" descr="Картинка 115 из 6774"/>
          <p:cNvPicPr/>
          <p:nvPr/>
        </p:nvPicPr>
        <p:blipFill>
          <a:blip r:embed="rId1"/>
          <a:stretch/>
        </p:blipFill>
        <p:spPr>
          <a:xfrm>
            <a:off x="4643280" y="1643040"/>
            <a:ext cx="3762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ПОТЕШКА ДЛЯ УМЫВАНИЯ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28400" y="2214360"/>
            <a:ext cx="746748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9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одичка, водичка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9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Умой нос и личико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9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Чтобы глазоньки блестел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9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Чтобы щёчки краснел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9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Чтоб смеялся роток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9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Чтоб кусался зубо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2" descr="Картинка 107 из 6774"/>
          <p:cNvPicPr/>
          <p:nvPr/>
        </p:nvPicPr>
        <p:blipFill>
          <a:blip r:embed="rId1"/>
          <a:stretch/>
        </p:blipFill>
        <p:spPr>
          <a:xfrm>
            <a:off x="5143680" y="1785960"/>
            <a:ext cx="3076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ПОТЕШКИ О ЕДЕ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2143080"/>
            <a:ext cx="411480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17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ница, Катенька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17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шь кашку сладеньку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17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кусную, пушистую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17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ягкую, душисту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2" descr="Картинка 263 из 6773"/>
          <p:cNvPicPr/>
          <p:nvPr/>
        </p:nvPicPr>
        <p:blipFill>
          <a:blip r:embed="rId1"/>
          <a:stretch/>
        </p:blipFill>
        <p:spPr>
          <a:xfrm>
            <a:off x="4643280" y="1928880"/>
            <a:ext cx="37148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МАССАЖ С ПОТЕШКОЙ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2643120"/>
            <a:ext cx="5786280" cy="33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53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Ручку ручкою погладим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53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альчик пальчиком потрё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53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Отдохнём совсем немного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53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А потом опять начнё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5" name="Picture 2" descr="Картинка 36 из 6774"/>
          <p:cNvPicPr/>
          <p:nvPr/>
        </p:nvPicPr>
        <p:blipFill>
          <a:blip r:embed="rId1"/>
          <a:stretch/>
        </p:blipFill>
        <p:spPr>
          <a:xfrm>
            <a:off x="5500800" y="1643040"/>
            <a:ext cx="2371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3840" y="571320"/>
            <a:ext cx="857268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СОЧИНЯТЬ ПОТЕШКИ МОГУТ ВСЕ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2920" y="1599840"/>
            <a:ext cx="8572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отешки прабабки Вал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ена, Леночка, Ленок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и, Серёжа, засыпай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зьми вкусный пирожок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епко глазки закрыва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ирожочек кушай,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сыпай скорей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абушку слушай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растёшь быстр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Picture 2" descr="Картинка 397 из 6772"/>
          <p:cNvPicPr/>
          <p:nvPr/>
        </p:nvPicPr>
        <p:blipFill>
          <a:blip r:embed="rId1"/>
          <a:stretch/>
        </p:blipFill>
        <p:spPr>
          <a:xfrm>
            <a:off x="3071880" y="4214880"/>
            <a:ext cx="1725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ПОТЕШКИ ОДНОКЛАССНИКОВ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857520" y="2428920"/>
            <a:ext cx="535788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107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ня, Танечка, не плачь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107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 куплю тебе кала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107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ам тебе конфетк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107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огороде вырву репк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107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Солодянкина Даш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2" descr="Картинка 16 из 6774"/>
          <p:cNvPicPr/>
          <p:nvPr/>
        </p:nvPicPr>
        <p:blipFill>
          <a:blip r:embed="rId1"/>
          <a:stretch/>
        </p:blipFill>
        <p:spPr>
          <a:xfrm>
            <a:off x="4594320" y="1857240"/>
            <a:ext cx="39830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МОИ ПОТЕШКИ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71680" y="1571760"/>
            <a:ext cx="8286480" cy="41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Гули-гу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гулень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йчик по полю прыг – прыг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Живу я у бабуленьки.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йчик ножками дрыг – дрыг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на поит молочком,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йчик в лужу заскочил,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тал я выше росточком.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вои ножки обмочил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2" descr="Картинка 373 из 6772"/>
          <p:cNvPicPr/>
          <p:nvPr/>
        </p:nvPicPr>
        <p:blipFill>
          <a:blip r:embed="rId1"/>
          <a:stretch/>
        </p:blipFill>
        <p:spPr>
          <a:xfrm>
            <a:off x="2714760" y="3500280"/>
            <a:ext cx="30002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ЦЕЛЬ: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знать, что такое потешки и для кого они создавалис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Заголовок 1"/>
          <p:cNvSpPr/>
          <p:nvPr/>
        </p:nvSpPr>
        <p:spPr>
          <a:xfrm>
            <a:off x="428760" y="2857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Содержимое 2"/>
          <p:cNvSpPr/>
          <p:nvPr/>
        </p:nvSpPr>
        <p:spPr>
          <a:xfrm>
            <a:off x="571680" y="4214880"/>
            <a:ext cx="74674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знать о возникновении потеше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 чём потешки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используются потешки в жизни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2" descr="Картинка 68 из 5907"/>
          <p:cNvPicPr/>
          <p:nvPr/>
        </p:nvPicPr>
        <p:blipFill>
          <a:blip r:embed="rId1"/>
          <a:stretch/>
        </p:blipFill>
        <p:spPr>
          <a:xfrm>
            <a:off x="6357960" y="2357280"/>
            <a:ext cx="2036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3320" y="712800"/>
            <a:ext cx="8400960" cy="2792520"/>
          </a:xfrm>
          <a:prstGeom prst="rect">
            <a:avLst/>
          </a:prstGeom>
          <a:ln w="0">
            <a:noFill/>
          </a:ln>
        </p:spPr>
      </p:pic>
      <p:pic>
        <p:nvPicPr>
          <p:cNvPr id="406" name="Заголовок 1" descr=""/>
          <p:cNvPicPr/>
          <p:nvPr/>
        </p:nvPicPr>
        <p:blipFill>
          <a:blip r:embed="rId2"/>
          <a:stretch/>
        </p:blipFill>
        <p:spPr>
          <a:xfrm>
            <a:off x="493560" y="4992840"/>
            <a:ext cx="7480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ГИПОТЕЗЫ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71320" y="1785960"/>
            <a:ext cx="778644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тешки придуманы давн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тешки радуют, поднимают настрое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тешки придумывают только взрослые, поэ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Картинка 111 из 67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71880" y="3357720"/>
            <a:ext cx="24112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ОБЪЕКТ ИССЛЕДОВАНИЯ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599840"/>
            <a:ext cx="74674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тешк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фольклорное творчество для создания положительных эмоц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Заголовок 1"/>
          <p:cNvSpPr/>
          <p:nvPr/>
        </p:nvSpPr>
        <p:spPr>
          <a:xfrm>
            <a:off x="500040" y="2857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75c01"/>
                </a:solidFill>
                <a:latin typeface="Century Schoolbook"/>
              </a:rPr>
              <a:t>ПРЕДМЕТ ИССЛЕДОВАНИЯ</a:t>
            </a:r>
            <a:r>
              <a:rPr b="0" lang="en-US" sz="3300" spc="-1" strike="noStrike">
                <a:solidFill>
                  <a:srgbClr val="e75c01"/>
                </a:solidFill>
                <a:latin typeface="Century Schoolbook"/>
              </a:rPr>
              <a:t>: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Содержимое 2"/>
          <p:cNvSpPr/>
          <p:nvPr/>
        </p:nvSpPr>
        <p:spPr>
          <a:xfrm>
            <a:off x="500040" y="4357800"/>
            <a:ext cx="746748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чины создания потешек и использования их в жизн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8552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МЕТОДЫ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99680" y="2714760"/>
            <a:ext cx="746748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блюд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Опро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Анкетирова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Работа с информационными источника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актическая рабо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2" descr="Картинка 296 из 67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9160" y="357120"/>
            <a:ext cx="24861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ЧТО ТАКОЕ ПОТЕШКИ?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тешк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песенка-приговорка, сопутствующая игре с пальцами, руками и ногами ребён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Толковый словарь С. Ожегов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тешк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короткие стишки (реже песенки), предназначенные для детей младенческого возраста и сопровождающиеся элементарными игровыми движениями во время приговаривания или пропевания потеш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Гуманитарный словарь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57120" y="1356840"/>
            <a:ext cx="51436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тешки появились в далёкой древности. Это доказывают и литературные источни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тешки создавались для детей с целью успокоить, развеселить малыш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4" descr="Картинка 73 из 6774"/>
          <p:cNvPicPr/>
          <p:nvPr/>
        </p:nvPicPr>
        <p:blipFill>
          <a:blip r:embed="rId1"/>
          <a:stretch/>
        </p:blipFill>
        <p:spPr>
          <a:xfrm>
            <a:off x="5715000" y="928800"/>
            <a:ext cx="26431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642600" y="642600"/>
            <a:ext cx="800100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ятская потешка «Сорока – ворона кашу варила» знакома почти всем европейским народа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ятские потешки известны и в других регионах стра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2" descr="http://im6-tub-ru.yandex.net/i?id=306964399-16-72"/>
          <p:cNvPicPr/>
          <p:nvPr/>
        </p:nvPicPr>
        <p:blipFill>
          <a:blip r:embed="rId1"/>
          <a:stretch/>
        </p:blipFill>
        <p:spPr>
          <a:xfrm>
            <a:off x="2928960" y="3000240"/>
            <a:ext cx="27432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entury Schoolbook"/>
              </a:rPr>
              <a:t>О ЧЁМ ПОТЕШКИ?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8296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тешки сочинялись на разные темы: о частях тела, выражали различные чувства, о животны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Посвящались младенцам: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тот пальчик - дедушка,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осик, носик, лобик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тот пальчик – бабушка,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Щёчки, подбородок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тот пальчик – папочка,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шки, глазки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тот пальчик – мамочка,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ашенькины сказк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тот пальчик – 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от и вся моя семья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06:35:30Z</dcterms:created>
  <dc:creator>obuhova</dc:creator>
  <dc:description/>
  <dc:language>en-US</dc:language>
  <cp:lastModifiedBy>oen</cp:lastModifiedBy>
  <dcterms:modified xsi:type="dcterms:W3CDTF">2011-12-09T11:24:25Z</dcterms:modified>
  <cp:revision>67</cp:revision>
  <dc:subject/>
  <dc:title>Вятские потешки</dc:title>
</cp:coreProperties>
</file>