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27.jpeg" ContentType="image/jpeg"/>
  <Override PartName="/ppt/media/image10.png" ContentType="image/png"/>
  <Override PartName="/ppt/media/image29.jpeg" ContentType="image/jpe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%D0%B0%D0%B2%D1%82%D0%BE%D1%80%D1%8B%20%D0%A9%D0%B5%D0%BB%D0%BA.wav" ContentType="audio/x-wav"/>
  <Override PartName="/ppt/media/image1.png" ContentType="image/png"/>
  <Override PartName="/ppt/media/image2.png" ContentType="image/png"/>
  <Override PartName="/ppt/media/image25.jpeg" ContentType="image/jpeg"/>
  <Override PartName="/ppt/media/image13.jpeg" ContentType="image/jpeg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8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469-F739-4B7C-8496-DBC16096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B23-BAEB-46CF-89A0-EA00534B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2B3-46CC-42E8-874C-0368FEF5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A99C-A2F7-4053-813B-B977CE79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52B6-123F-4899-A3FA-6A0728CF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29F8-FCB1-4801-B24E-4A1B6848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D8C8-1B92-4223-95EB-44013FFC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0C5C-0028-405E-AEA7-C75ABD3D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6A7C-9E04-4922-9B67-C9406C09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D192-D625-47C7-9677-F41871B9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740D-219B-4691-BB1E-3C107330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6427-2D80-4AFE-96A0-AF5BF2B1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B700-2334-4496-B4E7-4CBC2357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60DB-6EEE-45B0-AA2B-CF577185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A6CE-A741-43E2-B3D5-25BC23CC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BC2A-1D20-4324-96CF-000AFD31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9473-8116-4359-84AC-EA55AECB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9C6B-7308-48F7-AA39-4C4C5BB8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80F82-10BF-49EF-857F-3234DB58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13BF3-47DD-456E-BDAA-BD15D1B9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D089E-65B7-413B-8CE2-6F147066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BF315-FBD3-4D27-9C8D-CAAE5EBE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D97-48EE-4C0B-A013-D9D41818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2D11A-BE18-4D49-B838-5D5E373D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D0637-BC2A-435A-BE56-C3AABB0C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03D2E-B5E5-473C-9DED-54F3CDAB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979A4-D457-4C48-8222-C7DB8625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8362F-91CF-4AF7-AF6F-22E23C62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AF4C4-4A12-40E7-872A-040A351F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B8FE7-69D1-44E7-AC3E-F7D1EF60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5DE4C-39E9-414B-A3F5-D68210EA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57D62-46FB-4F6E-905D-4F5735D2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1EAB2-3E60-4617-8AF6-AA083F03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2BFA-9CE2-4992-B6C1-3A7D9DDD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68940-A32F-471B-AB15-0A441AD1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619BD-85A4-4943-81EF-73533FB6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101B6-2736-483A-A0AD-D2A0CAA8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3D573-32FB-4C0B-9C6F-220CBF60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B2480-FE6F-48C7-9011-78BF3D11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A50BA-DC5C-4CC1-AA74-27592CDD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7B102-B51A-465D-88A3-4981E608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CC2EF-EFBF-4BFB-8E40-010ACA6D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7F80E-CBFE-4776-94EF-8C616036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0DC72-1700-41DD-88BE-83130085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084-EF67-46D8-89DF-EA897E4D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BD7B4-7586-4720-933B-DCB112FE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42DA0-BCB0-4C16-B10E-D29CD6C2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AFCD3-C80B-4ABE-B989-FBF537F4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B96E9-EF99-41C8-B05F-293F3630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04497-EF48-4E28-91A1-EB58DC0D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E6E86-922D-4A7D-8F96-E1C7DE6C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0747A-D5A5-4FAE-9237-A4BAD688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586CD-0521-4F02-B61F-EFCB16F1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75762-99F5-40CB-90A8-D54E5B62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D4340-D5ED-424F-A490-C4FCDC45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D4E-F940-45E4-9DBF-2DCE03D3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9F771-ECC3-4D09-A699-CFA9EE62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7BB-7812-459D-B7DD-2E72A50A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A41-9E9F-48FD-9947-1AF276DC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74E-F1D7-49CE-84E5-B99CF4F2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15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7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e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D915-12A2-4C3B-957F-05C0BEC9E5DC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15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7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e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BE76-3C13-43C0-9D3C-BBD2F8C86B0E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15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7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e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F5C4-6BEF-40A7-98C7-1F805D60ED9D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15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7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e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5514-5DAD-4EA2-8439-C084651042E6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15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7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e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83E2-2D99-431E-88A7-8D620D6A4C41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llgrafica.ru/photoshop/costyum/29950-detskij-fotoshablon-usadba.html" TargetMode="External"/><Relationship Id="rId2" Type="http://schemas.openxmlformats.org/officeDocument/2006/relationships/hyperlink" Target="http://vse.kz/topic/444460-uroki-dlja-samih-malenkih-ot15-let/" TargetMode="External"/><Relationship Id="rId3" Type="http://schemas.openxmlformats.org/officeDocument/2006/relationships/hyperlink" Target="http://vse.kz/topic/444460-uroki-dlja-samih-malenkih-ot15-let/" TargetMode="External"/><Relationship Id="rId4" Type="http://schemas.openxmlformats.org/officeDocument/2006/relationships/hyperlink" Target="http://900igr.net/fotografii/literatura/Tolstoj-Aleksej/013-V-1878-godu-cherez-tri-goda-posle-smerti-A.K.-Tolstogo-Petr-Ilich.html" TargetMode="External"/><Relationship Id="rId5" Type="http://schemas.openxmlformats.org/officeDocument/2006/relationships/hyperlink" Target="http://lib.znate.ru/docs/index-116735.html" TargetMode="External"/><Relationship Id="rId6" Type="http://schemas.openxmlformats.org/officeDocument/2006/relationships/hyperlink" Target="http://www.kinomore.ru/viewcategory.php?id=0&amp;Page=505" TargetMode="External"/><Relationship Id="rId7" Type="http://schemas.openxmlformats.org/officeDocument/2006/relationships/hyperlink" Target="http://www.teatral-online.ru/news/5887/" TargetMode="External"/><Relationship Id="rId8" Type="http://schemas.openxmlformats.org/officeDocument/2006/relationships/hyperlink" Target="http://albertina.dpni-tula.org/mixail-ivanovich-glinka-russkij-kompazitor.html" TargetMode="External"/><Relationship Id="rId9" Type="http://schemas.openxmlformats.org/officeDocument/2006/relationships/hyperlink" Target="http://hfpbestq.coolpage.biz/53/smeshnaya-peredelka-pesni-shokoladn.php" TargetMode="External"/><Relationship Id="rId10" Type="http://schemas.openxmlformats.org/officeDocument/2006/relationships/hyperlink" Target="http://900igr.net/fotografii/muzyka/Opera/004-Opera-Ruslan-i-Ljudmila.html" TargetMode="External"/><Relationship Id="rId11" Type="http://schemas.openxmlformats.org/officeDocument/2006/relationships/hyperlink" Target="http://www.musicaneo.com/ru/composers/biography/353_mihail_glinka.html" TargetMode="External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muzruk.info/?p=7550" TargetMode="External"/><Relationship Id="rId2" Type="http://schemas.openxmlformats.org/officeDocument/2006/relationships/hyperlink" Target="http://www.newreferat.com/ref-4136-2.html" TargetMode="External"/><Relationship Id="rId3" Type="http://schemas.openxmlformats.org/officeDocument/2006/relationships/hyperlink" Target="http://www.liveinternet.ru/users/2010239/post69620085" TargetMode="External"/><Relationship Id="rId4" Type="http://schemas.openxmlformats.org/officeDocument/2006/relationships/hyperlink" Target="http://prekrasna-vasilisa.org/post102149619/" TargetMode="External"/><Relationship Id="rId5" Type="http://schemas.openxmlformats.org/officeDocument/2006/relationships/hyperlink" Target="http://www.allrus.info/main.php?ID=223329&amp;arc_new=1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ETA-Hoffmann.JPG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audio" Target="../media/&#1072;&#1074;&#1090;&#1086;&#1088;&#1099;%20&#1065;&#1077;&#1083;&#1082;.wav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571320"/>
            <a:ext cx="7772400" cy="257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5b7e"/>
                </a:solidFill>
                <a:latin typeface="Verdana"/>
              </a:rPr>
              <a:t> </a:t>
            </a:r>
            <a:endParaRPr b="1" lang="en-US" sz="45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7b7f"/>
              </a:solidFill>
              <a:latin typeface="Verdana"/>
            </a:endParaRPr>
          </a:p>
        </p:txBody>
      </p:sp>
      <p:pic>
        <p:nvPicPr>
          <p:cNvPr id="222" name="песенка чудесенка - копия.wav" descr=""/>
          <p:cNvPicPr/>
          <p:nvPr/>
        </p:nvPicPr>
        <p:blipFill>
          <a:blip r:embed="rId1"/>
          <a:stretch/>
        </p:blipFill>
        <p:spPr>
          <a:xfrm>
            <a:off x="8143920" y="6000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20" y="357120"/>
            <a:ext cx="8429760" cy="61437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7"/>
          <p:cNvSpPr/>
          <p:nvPr/>
        </p:nvSpPr>
        <p:spPr>
          <a:xfrm>
            <a:off x="1000080" y="264312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2754"/>
                </a:solidFill>
                <a:latin typeface="Arial"/>
              </a:rPr>
              <a:t>Всюду музыка жи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4143240" y="435780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ахова Лидия Юрь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музыки МАОУ Многопрофильный лицей №20 города Ульянов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Прямоугольник 1" descr=""/>
          <p:cNvPicPr/>
          <p:nvPr/>
        </p:nvPicPr>
        <p:blipFill>
          <a:blip r:embed="rId1"/>
          <a:stretch/>
        </p:blipFill>
        <p:spPr>
          <a:xfrm>
            <a:off x="920880" y="3060720"/>
            <a:ext cx="7369200" cy="8827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3"/>
          <p:cNvSpPr/>
          <p:nvPr/>
        </p:nvSpPr>
        <p:spPr>
          <a:xfrm>
            <a:off x="3868560" y="2143080"/>
            <a:ext cx="16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п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4071960" y="4429080"/>
            <a:ext cx="135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по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571680" y="28584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зыку к опере по сказке-поэме А.С.Пушкина «Руслан и Людмила» написал Михаил Иванович Глинка – великий русский компози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1" descr="глинка"/>
          <p:cNvPicPr/>
          <p:nvPr/>
        </p:nvPicPr>
        <p:blipFill>
          <a:blip r:embed="rId1"/>
          <a:stretch/>
        </p:blipFill>
        <p:spPr>
          <a:xfrm>
            <a:off x="1000080" y="1643040"/>
            <a:ext cx="1641600" cy="218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3" name="Picture 12" descr="пушкин"/>
          <p:cNvPicPr/>
          <p:nvPr/>
        </p:nvPicPr>
        <p:blipFill>
          <a:blip r:embed="rId2"/>
          <a:stretch/>
        </p:blipFill>
        <p:spPr>
          <a:xfrm>
            <a:off x="6429240" y="1571760"/>
            <a:ext cx="2022480" cy="22669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254" name="Picture 6" descr="5"/>
          <p:cNvPicPr/>
          <p:nvPr/>
        </p:nvPicPr>
        <p:blipFill>
          <a:blip r:embed="rId3"/>
          <a:stretch/>
        </p:blipFill>
        <p:spPr>
          <a:xfrm>
            <a:off x="2500200" y="3714840"/>
            <a:ext cx="4103640" cy="28526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1" descr="18.01.jpg"/>
          <p:cNvPicPr/>
          <p:nvPr/>
        </p:nvPicPr>
        <p:blipFill>
          <a:blip r:embed="rId1"/>
          <a:stretch/>
        </p:blipFill>
        <p:spPr>
          <a:xfrm>
            <a:off x="208080" y="2567160"/>
            <a:ext cx="5271840" cy="383364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3"/>
          <p:cNvSpPr/>
          <p:nvPr/>
        </p:nvSpPr>
        <p:spPr>
          <a:xfrm>
            <a:off x="500040" y="500040"/>
            <a:ext cx="757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Кто исполняет музыку для оперы и  балет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500040" y="1285920"/>
            <a:ext cx="7858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Кто управляет симфоническим оркестро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9" descr=""/>
          <p:cNvPicPr/>
          <p:nvPr/>
        </p:nvPicPr>
        <p:blipFill>
          <a:blip r:embed="rId2"/>
          <a:stretch/>
        </p:blipFill>
        <p:spPr>
          <a:xfrm>
            <a:off x="5857920" y="2786040"/>
            <a:ext cx="29289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357120" y="189000"/>
            <a:ext cx="84297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262626"/>
                </a:solidFill>
                <a:latin typeface="Arial"/>
              </a:rPr>
              <a:t>Игра «А верите ли вы … ?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76680" y="1413000"/>
            <a:ext cx="7903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852f74"/>
                </a:solidFill>
                <a:latin typeface="Arial"/>
              </a:rPr>
              <a:t>А верите ли вы, что Моцарт начал св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852f74"/>
                </a:solidFill>
                <a:latin typeface="Arial"/>
              </a:rPr>
              <a:t>концертную деятельность в 6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24000" y="2500200"/>
            <a:ext cx="8462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а, со своей сестрой он давал концер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2714760" y="3286080"/>
            <a:ext cx="3500280" cy="3286080"/>
          </a:xfrm>
          <a:prstGeom prst="rect">
            <a:avLst/>
          </a:prstGeom>
          <a:ln w="0">
            <a:noFill/>
          </a:ln>
        </p:spPr>
      </p:pic>
      <p:pic>
        <p:nvPicPr>
          <p:cNvPr id="263" name="как чудно как нежно - со словами.mp3" descr=""/>
          <p:cNvPicPr/>
          <p:nvPr/>
        </p:nvPicPr>
        <p:blipFill>
          <a:blip r:embed="rId2"/>
          <a:stretch/>
        </p:blipFill>
        <p:spPr>
          <a:xfrm>
            <a:off x="764388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30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Содержимое 3" descr="65672-1-1.jpg"/>
          <p:cNvPicPr/>
          <p:nvPr/>
        </p:nvPicPr>
        <p:blipFill>
          <a:blip r:embed="rId1"/>
          <a:stretch/>
        </p:blipFill>
        <p:spPr>
          <a:xfrm>
            <a:off x="857160" y="749160"/>
            <a:ext cx="728676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973800" y="189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95280" y="428760"/>
            <a:ext cx="8177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6406"/>
                </a:solidFill>
                <a:latin typeface="Arial"/>
              </a:rPr>
              <a:t>А верите ли вы, что  это композитор Петр Ильич Чайковск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428760" y="2071800"/>
            <a:ext cx="835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Arial"/>
              </a:rPr>
              <a:t>НЕТ – ЭТО Сергей Сергеевич Прокофь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2643120" y="3600360"/>
            <a:ext cx="38577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981000" y="189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714240" y="428760"/>
            <a:ext cx="8215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А верите вы, что это музыка Михаила Ивановича Глин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642960" y="1714680"/>
            <a:ext cx="814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НЕТ – ЭТО  музыка Сергея Сергеевича Прокофь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5857920" y="2857680"/>
            <a:ext cx="2571840" cy="3643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2"/>
          <a:stretch/>
        </p:blipFill>
        <p:spPr>
          <a:xfrm>
            <a:off x="571680" y="2754360"/>
            <a:ext cx="3143160" cy="38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981000" y="189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428760" y="214200"/>
            <a:ext cx="50720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6205"/>
                </a:solidFill>
                <a:latin typeface="Arial"/>
              </a:rPr>
              <a:t>А верите вы, что это му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6205"/>
                </a:solidFill>
                <a:latin typeface="Arial"/>
              </a:rPr>
              <a:t>Михаила Ивановича Глин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285840" y="1357200"/>
            <a:ext cx="53578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Да – это Увертюра из оп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«Руслан и Людмил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357120" y="3143160"/>
            <a:ext cx="3571920" cy="3368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5500800" y="285840"/>
            <a:ext cx="3429000" cy="2143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"/>
          <p:cNvPicPr/>
          <p:nvPr/>
        </p:nvPicPr>
        <p:blipFill>
          <a:blip r:embed="rId3"/>
          <a:stretch/>
        </p:blipFill>
        <p:spPr>
          <a:xfrm>
            <a:off x="5715000" y="3357720"/>
            <a:ext cx="3205080" cy="2928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русл 1"/>
          <p:cNvPicPr/>
          <p:nvPr/>
        </p:nvPicPr>
        <p:blipFill>
          <a:blip r:embed="rId4"/>
          <a:stretch/>
        </p:blipFill>
        <p:spPr>
          <a:xfrm>
            <a:off x="3071880" y="2643120"/>
            <a:ext cx="3214800" cy="3932280"/>
          </a:xfrm>
          <a:prstGeom prst="rect">
            <a:avLst/>
          </a:prstGeom>
          <a:ln w="0">
            <a:noFill/>
          </a:ln>
        </p:spPr>
      </p:pic>
      <p:pic>
        <p:nvPicPr>
          <p:cNvPr id="281" name="увертюра глинка - руслан и людмила .mp3" descr=""/>
          <p:cNvPicPr/>
          <p:nvPr/>
        </p:nvPicPr>
        <p:blipFill>
          <a:blip r:embed="rId5"/>
          <a:stretch/>
        </p:blipFill>
        <p:spPr>
          <a:xfrm>
            <a:off x="807228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335169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14080" y="-142920"/>
            <a:ext cx="3932280" cy="6572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Verdana"/>
              </a:rPr>
              <a:t>Что делают в опер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Какую оперу написал Вольфганг Амадей Моцарт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34"/>
                </a:solidFill>
                <a:latin typeface="Verdana"/>
              </a:rPr>
              <a:t>Сколько лет было Сергею Сергеевичу Прокофье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34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5c1f34"/>
                </a:solidFill>
                <a:latin typeface="Verdana"/>
              </a:rPr>
              <a:t>когда он написал оперу «Великан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В каких музыкальных жанрах музыка живет без слов, как таинственная невидимк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Содержимое 3" descr=""/>
          <p:cNvPicPr/>
          <p:nvPr/>
        </p:nvPicPr>
        <p:blipFill>
          <a:blip r:embed="rId1"/>
          <a:stretch/>
        </p:blipFill>
        <p:spPr>
          <a:xfrm>
            <a:off x="4748040" y="-6480"/>
            <a:ext cx="3945240" cy="651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571320"/>
            <a:ext cx="4432320" cy="442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3000"/>
          </a:bodyPr>
          <a:p>
            <a:pPr marL="246240" indent="-24624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ольфганг Амадей Моцарт начал сочинять музыку когда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Сколько Вольфгангу Амадею Моцарту  было лет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ергей Сергеевич Прокофьев начал сочинять музыку когда он побывал на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00720" y="529920"/>
            <a:ext cx="435744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8000"/>
          </a:bodyPr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ал взрослы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 раннем детств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Два го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Пять 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Четыре го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пектак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але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ер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онцер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9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2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0" dur="2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" dur="2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8" dur="2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20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6" dur="2000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9" dur="2000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2" dur="2000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pic>
        <p:nvPicPr>
          <p:cNvPr id="227" name="я_хочу_услышать_музыку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2379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8215200" cy="4876920"/>
          </a:xfrm>
          <a:prstGeom prst="rect">
            <a:avLst/>
          </a:prstGeom>
          <a:gradFill rotWithShape="0">
            <a:gsLst>
              <a:gs pos="0">
                <a:srgbClr val="b83d68"/>
              </a:gs>
              <a:gs pos="50000">
                <a:srgbClr val="ffffff"/>
              </a:gs>
              <a:gs pos="100000">
                <a:srgbClr val="b83d68"/>
              </a:gs>
            </a:gsLst>
            <a:lin ang="5400000"/>
          </a:gra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Едва  только  ветер  подует с  реки–             К  нам  музыка в  окна  стучится:              Ведут перекличку  трамваев  звонки  Чирикает  первая  птица.                           Это  чудо!  Это  чудо!                                   Это  музыка повсюду!                      Прилетает ниоткуда и играет, и  поёт.              На  концерте соловьином,                                 В  дальнем  крике  журавлином,                    Даже  в  писке  комарином –                       Всюду музыка  живет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84360" y="1268280"/>
            <a:ext cx="8215200" cy="4876920"/>
          </a:xfrm>
          <a:prstGeom prst="rect">
            <a:avLst/>
          </a:prstGeom>
          <a:gradFill rotWithShape="0">
            <a:gsLst>
              <a:gs pos="0">
                <a:srgbClr val="b83d68"/>
              </a:gs>
              <a:gs pos="50000">
                <a:srgbClr val="ffffff"/>
              </a:gs>
              <a:gs pos="100000">
                <a:srgbClr val="b83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Веселая  музыка  в  доме моём                Со скрипкой  дружна  и  с фаготом.            И  если вы спросите,  как  мы  живем,      Ответим: - Живем,  как  по  нотам!             Это  чудо!  Это  чудо!                                   Это  музыка повсюду!                      Прилетает ниоткуда и играет, и  поёт.              На  концерте соловьином,                                 В  дальнем  крике  журавлином,                    Даже  в  писке  комарином –                       Всюду музыка  жив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684360" y="1268280"/>
            <a:ext cx="8215200" cy="4876920"/>
          </a:xfrm>
          <a:prstGeom prst="rect">
            <a:avLst/>
          </a:prstGeom>
          <a:gradFill rotWithShape="0">
            <a:gsLst>
              <a:gs pos="0">
                <a:srgbClr val="b83d68"/>
              </a:gs>
              <a:gs pos="50000">
                <a:srgbClr val="ffffff"/>
              </a:gs>
              <a:gs pos="100000">
                <a:srgbClr val="b83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Нам  с  нею  легко на  параде  шагать,   И  что-нибудь  делать  не скучно.             А  если  захочется  нам  помечтать,                 То  с  нами  она  неразлучна.                  Это  чудо!  Это  чудо!                                   Это  музыка повсюду!                      Прилетает ниоткуда и играет, и  поёт.              На  концерте соловьином,                                 В  дальнем  крике  журавлином,                    Даже  в  писке  комарином –                       Всюду музыка  жив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214200" y="1268280"/>
            <a:ext cx="8643960" cy="5303880"/>
          </a:xfrm>
          <a:prstGeom prst="rect">
            <a:avLst/>
          </a:prstGeom>
          <a:gradFill rotWithShape="0">
            <a:gsLst>
              <a:gs pos="0">
                <a:srgbClr val="b83d68"/>
              </a:gs>
              <a:gs pos="50000">
                <a:srgbClr val="ffffff"/>
              </a:gs>
              <a:gs pos="100000">
                <a:srgbClr val="b83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Привет,  тебе  ветра  веселый  гопак!  Привет  тебе,  дождик  звенящий!       Нельзя без друзей  нам  на  свете ника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А  музыка – друг  настоящий!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Это  чудо!  Это  чудо!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Это  музыка повсюду!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Прилетает ниоткуда и играет, и  поёт.              На  концерте соловьином,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В  дальнем  крике  журавлином,                    Даже  в  писке  комарином –                       Всюду музыка  жив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7"/>
          <p:cNvSpPr txBox="1"/>
          <p:nvPr/>
        </p:nvSpPr>
        <p:spPr>
          <a:xfrm>
            <a:off x="684360" y="0"/>
            <a:ext cx="75596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Всюду  музыка  живет</a:t>
            </a:r>
            <a:endParaRPr b="1" lang="en-US" sz="1800" spc="1" strike="noStrike">
              <a:ln cap="sq"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293" name="всюду  музыка  живет.mid" descr=""/>
          <p:cNvPicPr/>
          <p:nvPr/>
        </p:nvPicPr>
        <p:blipFill>
          <a:blip r:embed="rId1"/>
          <a:stretch/>
        </p:blipFill>
        <p:spPr>
          <a:xfrm>
            <a:off x="324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212100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3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0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0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0">
                                  <p:stCondLst>
                                    <p:cond delay="98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0">
                                  <p:stCondLst>
                                    <p:cond delay="98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14256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емая литератур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ставка-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1"/>
              </a:rPr>
              <a:t>http://www.allgrafica.ru/photoshop/costyum/29950-detskij-fotoshablon-usadb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итульный лист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2"/>
              </a:rPr>
              <a:t>http://vse.kz/topic/444460-uroki-dlja-samih-malenkih-ot15-let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айковский П.И.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4"/>
              </a:rPr>
              <a:t>http://900igr.net/fotografii/literatura/Tolstoj-Aleksej/013-V-1878-godu-cherez-tri-goda-posle-smerti-A.K.-Tolstogo-Petr-Ilich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фман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5"/>
              </a:rPr>
              <a:t>http://lib.znate.ru/docs/index-116735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рлеанская де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6"/>
              </a:rPr>
              <a:t>http://www.kinomore.ru/viewcategory.php?id=0&amp;Page=5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цена из оперы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7"/>
              </a:rPr>
              <a:t>http://www.teatral-online.ru/news/5887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линка М.И.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8"/>
              </a:rPr>
              <a:t>http://albertina.dpni-tula.org/mixail-ivanovich-glinka-russkij-kompazitor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ушкин А.С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9"/>
              </a:rPr>
              <a:t>http://hfpbestq.coolpage.biz/53/smeshnaya-peredelka-pesni-shokoladn.ph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цена из оп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10"/>
              </a:rPr>
              <a:t>http://900igr.net/fotografii/muzyka/Opera/004-Opera-Ruslan-i-Ljudmil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линка М.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11"/>
              </a:rPr>
              <a:t>http://www.musicaneo.com/ru/composers/biography/353_mihail_glink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0" y="673200"/>
            <a:ext cx="9144000" cy="618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номор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900igr.net/kartinki/muzyka/Opera/010-Opera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аян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1"/>
              </a:rPr>
              <a:t>http://muzruk.info/?p=755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услан и Людмила-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2"/>
              </a:rPr>
              <a:t>http://www.newreferat.com/ref-4136-2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кофьев -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3"/>
              </a:rPr>
              <a:t>http://www.liveinternet.ru/users/2010239/post696200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кофьев в детстве -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4"/>
              </a:rPr>
              <a:t>http://prekrasna-vasilisa.org/post102149619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рижер 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5"/>
              </a:rPr>
              <a:t>http://www.allrus.info/main.php?ID=223329&amp;arc_new=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аян на холме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rushkolnik.ru/docs/index-2317691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царт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blogs.privet.ru/community/gernov51/tags/79000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вушка играет на флейте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livemaster.ru/gallery/3816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овала презентацию песни«Музыка. Композитора Струве» Александровой И.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дведь и балет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blogs.privet.ru/community/myfriend?tag_id=4847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Щелкунчик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antigorod.com/lastnews/page/328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алерина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triinochka.ru/post199952832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ркестр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intoclassics.net/news/51-0-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14080" y="530280"/>
            <a:ext cx="3932280" cy="5898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ускай твердят кому не лень, что я, мол, косолап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а я медвед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 не олень, похож на маму с пап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Я косолапый, спору нет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о я не огорчаюс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, например, идти в балет совсем не собираю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4714920" y="1071720"/>
            <a:ext cx="39304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232" name="Содержимое 3" descr="0926b55091b062726e4bc5870a40e8c6.gif"/>
          <p:cNvPicPr/>
          <p:nvPr/>
        </p:nvPicPr>
        <p:blipFill>
          <a:blip r:embed="rId1"/>
          <a:stretch/>
        </p:blipFill>
        <p:spPr>
          <a:xfrm>
            <a:off x="3063960" y="530280"/>
            <a:ext cx="3062160" cy="4187880"/>
          </a:xfrm>
          <a:prstGeom prst="rect">
            <a:avLst/>
          </a:prstGeom>
          <a:ln w="0">
            <a:noFill/>
          </a:ln>
        </p:spPr>
      </p:pic>
      <p:pic>
        <p:nvPicPr>
          <p:cNvPr id="233" name="%BBет__Щелкунчик__-_Танец_Феи_Драже.mp3" descr=""/>
          <p:cNvPicPr/>
          <p:nvPr/>
        </p:nvPicPr>
        <p:blipFill>
          <a:blip r:embed="rId2"/>
          <a:stretch/>
        </p:blipFill>
        <p:spPr>
          <a:xfrm>
            <a:off x="828684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24453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7b7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2286000" y="571680"/>
            <a:ext cx="4572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Балет  ( с фр. –танец) – вид театрального искусства , где содержание, мысли и чувства действующих лиц передаются при помощи музыки и хореограф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200px-ETA-Hoffmann">
            <a:hlinkClick r:id="rId1"/>
          </p:cNvPr>
          <p:cNvPicPr/>
          <p:nvPr/>
        </p:nvPicPr>
        <p:blipFill>
          <a:blip r:embed="rId2"/>
          <a:srcRect l="1901" t="0" r="0" b="11089"/>
          <a:stretch/>
        </p:blipFill>
        <p:spPr>
          <a:xfrm>
            <a:off x="250920" y="353880"/>
            <a:ext cx="3198600" cy="6504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pic"/>
          <p:cNvPicPr/>
          <p:nvPr/>
        </p:nvPicPr>
        <p:blipFill>
          <a:blip r:embed="rId3"/>
          <a:srcRect l="101" t="0" r="0" b="9418"/>
          <a:stretch/>
        </p:blipFill>
        <p:spPr>
          <a:xfrm>
            <a:off x="5867280" y="353880"/>
            <a:ext cx="3210120" cy="6504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shelk"/>
          <p:cNvPicPr/>
          <p:nvPr/>
        </p:nvPicPr>
        <p:blipFill>
          <a:blip r:embed="rId4"/>
          <a:srcRect l="732" t="0" r="0" b="45234"/>
          <a:stretch/>
        </p:blipFill>
        <p:spPr>
          <a:xfrm>
            <a:off x="3564000" y="-6480"/>
            <a:ext cx="2147760" cy="6864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shelk"/>
          <p:cNvPicPr/>
          <p:nvPr/>
        </p:nvPicPr>
        <p:blipFill>
          <a:blip r:embed="rId5"/>
          <a:srcRect l="0" t="0" r="-566" b="45234"/>
          <a:stretch/>
        </p:blipFill>
        <p:spPr>
          <a:xfrm>
            <a:off x="3548160" y="-6480"/>
            <a:ext cx="2176200" cy="6864480"/>
          </a:xfrm>
          <a:prstGeom prst="rect">
            <a:avLst/>
          </a:prstGeom>
          <a:ln w="0">
            <a:noFill/>
          </a:ln>
        </p:spPr>
      </p:pic>
      <p:pic>
        <p:nvPicPr>
          <p:cNvPr id="241" name="вальс цветов.mp3" descr=""/>
          <p:cNvPicPr/>
          <p:nvPr/>
        </p:nvPicPr>
        <p:blipFill>
          <a:blip r:embed="rId6"/>
          <a:stretch/>
        </p:blipFill>
        <p:spPr>
          <a:xfrm>
            <a:off x="8501040" y="6000840"/>
            <a:ext cx="4287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0%D0%B2%D1%82%D0%BE%D1%80%D1%8B%20%D0%A9%D0%B5%D0%BB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1600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6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150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6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500" autoRev="1" fill="hold"/>
                                        <p:tgtEl>
                                          <p:spTgt spid="2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740493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чайковский - хор менестрелей из оперы- орлеанская дева чайковского.mp3" descr=""/>
          <p:cNvPicPr/>
          <p:nvPr/>
        </p:nvPicPr>
        <p:blipFill>
          <a:blip r:embed="rId1"/>
          <a:stretch/>
        </p:blipFill>
        <p:spPr>
          <a:xfrm>
            <a:off x="8143920" y="6000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642960" y="428760"/>
            <a:ext cx="78264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928800" y="428760"/>
            <a:ext cx="7326360" cy="5500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155"/>
                </a:solidFill>
                <a:latin typeface="Verdana"/>
              </a:rPr>
              <a:t>Орлеанская дева.</a:t>
            </a:r>
            <a:br>
              <a:rPr sz="4000"/>
            </a:br>
            <a:r>
              <a:rPr b="1" lang="en-US" sz="4000" spc="-1" strike="noStrike">
                <a:solidFill>
                  <a:srgbClr val="90f155"/>
                </a:solidFill>
                <a:latin typeface="Verdana"/>
              </a:rPr>
              <a:t>П. И. Чайковского.</a:t>
            </a:r>
            <a:endParaRPr b="1" lang="en-US" sz="4000" spc="-1" strike="noStrike">
              <a:solidFill>
                <a:srgbClr val="90f155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1214280" y="35712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Орлеанская дева. П. И. Чайковс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"/>
          <p:cNvSpPr/>
          <p:nvPr/>
        </p:nvSpPr>
        <p:spPr>
          <a:xfrm>
            <a:off x="2286000" y="114300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Волшебный тот цв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Приносил зол забве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Таинственным огнем он 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Сжигает кров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Он в душу льет пев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Восторг и вдохнове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О чудный талисм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Тебя зовут люб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Да! Лишь один цветок волшеб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Нам в утешенье Небом д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Силой чудный и целеб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Полн дивный талис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4:54:37Z</dcterms:created>
  <dc:creator>мо</dc:creator>
  <dc:description/>
  <dc:language>en-US</dc:language>
  <cp:lastModifiedBy>Мама</cp:lastModifiedBy>
  <dcterms:modified xsi:type="dcterms:W3CDTF">2013-07-20T23:32:26Z</dcterms:modified>
  <cp:revision>133</cp:revision>
  <dc:subject/>
  <dc:title>Давайте поиграем.</dc:title>
</cp:coreProperties>
</file>