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4.jpeg" ContentType="image/jpeg"/>
  <Override PartName="/ppt/media/image8.png" ContentType="image/png"/>
  <Override PartName="/ppt/media/image27.jpeg" ContentType="image/jpeg"/>
  <Override PartName="/ppt/media/image10.png" ContentType="image/png"/>
  <Override PartName="/ppt/media/image29.jpeg" ContentType="image/jpeg"/>
  <Override PartName="/ppt/media/image3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%D0%B0%D0%B2%D1%82%D0%BE%D1%80%D1%8B%20%D0%A9%D0%B5%D0%BB%D0%BA.wav" ContentType="audio/x-wav"/>
  <Override PartName="/ppt/media/image1.png" ContentType="image/png"/>
  <Override PartName="/ppt/media/image2.png" ContentType="image/png"/>
  <Override PartName="/ppt/media/image25.jpeg" ContentType="image/jpeg"/>
  <Override PartName="/ppt/media/image13.jpeg" ContentType="image/jpeg"/>
  <Override PartName="/ppt/media/image2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0.png" ContentType="image/png"/>
  <Override PartName="/ppt/media/image28.jpeg" ContentType="image/jpeg"/>
  <Override PartName="/ppt/media/image2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B292-9FA0-41A7-B7B6-51A86379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12C6-77E1-4A25-8725-8ED7729C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307B-40A6-4E5F-A0DA-AACA0D5D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1C5F-46ED-4D5F-9292-4CFE0207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0CE1-3669-4E76-BE62-170C7E94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C42B-E39F-4CC4-85E2-FF09D7B9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9B19-FD21-46A6-A9DB-42E5FE76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B7F6-DDB5-47D3-A67B-AE093077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5364-6488-446F-A6CF-91CEC086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0621-C7BB-4C3A-8AEF-1F9542BA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6C4B-A3E8-41ED-B496-42239498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01A6-A8F2-47A2-B5AF-290C5026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7386-06BD-409E-83BD-3E3CE7B4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2137-0082-45ED-AC9F-09D6FEB9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B82A-F637-40A6-B8F9-1E978D12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1A4D-CEDE-4AA7-97A4-518A882D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D787-F3A9-4D94-8F0A-10203F14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91649-1C06-4040-A543-FEE818C9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F730A-76AB-43BC-8B73-CF1AD47D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37CEA-F053-40ED-8312-8A83F6EC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78E62-9B93-4F75-A9E3-5294D786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99B6D-BFEB-4507-93A3-6A80E075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EA5F-6371-4842-9496-25BE133F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D98C8-2299-4314-9CCF-3C5E1A89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22653-C932-4181-8438-C8941671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8E741-C2A8-41DA-B5CB-5A92EB3F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CEF65-7A7D-4B81-BCD7-861883D3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5AFAD-40EC-49A8-BD41-6534DF51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CB73F-E4CC-4785-949D-079D8A2A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05B06-EB1B-450C-904D-C00EFF0E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41966-49CC-40D0-AB30-8A629055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391F9-36E6-41B5-AE83-DF08E085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52C54-1A84-41ED-BC62-EC2078B9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7DF0-424F-46D8-9A89-D6F1BF84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07C9B-45A0-4F07-BA07-0A520C69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8D051-5C6B-4067-BDA8-21B4EADE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AACEC-3BE1-46FF-ABFA-DB8F99B9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D1D64-D8D2-477C-9CD7-69BF0A06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773F6-63CF-41E5-A072-7DC2D001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364C4-F404-4452-A782-316791E8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B5C68-B8D9-4140-AF1D-ED8BD1C6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404C5-2713-45B2-94ED-6346E4CC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60858-D3D4-47AC-8AF9-BC40F52D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1F15D-BB1C-44F9-8798-E51073B0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B2FC-7B24-4292-9658-3F2970F9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7110C-0A6B-4E18-AC5A-A1E705B8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93627-4D26-4C28-BC6D-ECA4A36C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4ABA7-F7AA-428F-BF25-55DCDB9D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06152-6C52-4238-9358-515F2683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737C9-FFF6-4329-ABD4-A6F89865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CB993-1E96-48F4-A36F-2883DBA8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BF3E7-8BC7-4644-9550-B2C019CE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B2AC1-2A77-4B4C-9D16-57CAA746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FE43A-FF26-40AE-AB79-62F76954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55213-C5FB-4B5E-9435-24136C6B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85EE-D44D-43F1-9320-9DFB4635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FE1A2-E46F-434B-8B16-C7BD275C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ACAD-13EB-4942-B585-F2C24677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D2DE-F35E-49F0-A7ED-B99CA5BF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C9DD-DCD1-47B8-989A-625E7F19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f15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7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e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E165-E34D-46F0-BB3F-19D51BCF80A2}" type="slidenum"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f15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7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e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118B-FDFC-4A1B-9AED-06998CC22B88}" type="slidenum"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f15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7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e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4790-AE4D-4E26-ABE1-06D10B5C30AE}" type="slidenum"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f15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7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e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7BD7-F08C-4E1C-9FD3-B4F0037E03BB}" type="slidenum"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f15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7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e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232D-9AE0-47C7-B111-C20125DECFAA}" type="slidenum">
              <a:rPr b="0" lang="en-US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llgrafica.ru/photoshop/costyum/29950-detskij-fotoshablon-usadba.html" TargetMode="External"/><Relationship Id="rId2" Type="http://schemas.openxmlformats.org/officeDocument/2006/relationships/hyperlink" Target="http://vse.kz/topic/444460-uroki-dlja-samih-malenkih-ot15-let/" TargetMode="External"/><Relationship Id="rId3" Type="http://schemas.openxmlformats.org/officeDocument/2006/relationships/hyperlink" Target="http://vse.kz/topic/444460-uroki-dlja-samih-malenkih-ot15-let/" TargetMode="External"/><Relationship Id="rId4" Type="http://schemas.openxmlformats.org/officeDocument/2006/relationships/hyperlink" Target="http://900igr.net/fotografii/literatura/Tolstoj-Aleksej/013-V-1878-godu-cherez-tri-goda-posle-smerti-A.K.-Tolstogo-Petr-Ilich.html" TargetMode="External"/><Relationship Id="rId5" Type="http://schemas.openxmlformats.org/officeDocument/2006/relationships/hyperlink" Target="http://lib.znate.ru/docs/index-116735.html" TargetMode="External"/><Relationship Id="rId6" Type="http://schemas.openxmlformats.org/officeDocument/2006/relationships/hyperlink" Target="http://www.kinomore.ru/viewcategory.php?id=0&amp;Page=505" TargetMode="External"/><Relationship Id="rId7" Type="http://schemas.openxmlformats.org/officeDocument/2006/relationships/hyperlink" Target="http://www.teatral-online.ru/news/5887/" TargetMode="External"/><Relationship Id="rId8" Type="http://schemas.openxmlformats.org/officeDocument/2006/relationships/hyperlink" Target="http://albertina.dpni-tula.org/mixail-ivanovich-glinka-russkij-kompazitor.html" TargetMode="External"/><Relationship Id="rId9" Type="http://schemas.openxmlformats.org/officeDocument/2006/relationships/hyperlink" Target="http://hfpbestq.coolpage.biz/53/smeshnaya-peredelka-pesni-shokoladn.php" TargetMode="External"/><Relationship Id="rId10" Type="http://schemas.openxmlformats.org/officeDocument/2006/relationships/hyperlink" Target="http://900igr.net/fotografii/muzyka/Opera/004-Opera-Ruslan-i-Ljudmila.html" TargetMode="External"/><Relationship Id="rId11" Type="http://schemas.openxmlformats.org/officeDocument/2006/relationships/hyperlink" Target="http://www.musicaneo.com/ru/composers/biography/353_mihail_glinka.html" TargetMode="External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muzruk.info/?p=7550" TargetMode="External"/><Relationship Id="rId2" Type="http://schemas.openxmlformats.org/officeDocument/2006/relationships/hyperlink" Target="http://www.newreferat.com/ref-4136-2.html" TargetMode="External"/><Relationship Id="rId3" Type="http://schemas.openxmlformats.org/officeDocument/2006/relationships/hyperlink" Target="http://www.liveinternet.ru/users/2010239/post69620085" TargetMode="External"/><Relationship Id="rId4" Type="http://schemas.openxmlformats.org/officeDocument/2006/relationships/hyperlink" Target="http://prekrasna-vasilisa.org/post102149619/" TargetMode="External"/><Relationship Id="rId5" Type="http://schemas.openxmlformats.org/officeDocument/2006/relationships/hyperlink" Target="http://www.allrus.info/main.php?ID=223329&amp;arc_new=1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ETA-Hoffmann.JPG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audio" Target="../media/&#1072;&#1074;&#1090;&#1086;&#1088;&#1099;%20&#1065;&#1077;&#1083;&#1082;.wav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571320"/>
            <a:ext cx="7772400" cy="2571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5b7e"/>
                </a:solidFill>
                <a:latin typeface="Verdana"/>
              </a:rPr>
              <a:t> </a:t>
            </a:r>
            <a:endParaRPr b="1" lang="en-US" sz="45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7b7f"/>
              </a:solidFill>
              <a:latin typeface="Verdana"/>
            </a:endParaRPr>
          </a:p>
        </p:txBody>
      </p:sp>
      <p:pic>
        <p:nvPicPr>
          <p:cNvPr id="222" name="песенка чудесенка - копия.wav" descr=""/>
          <p:cNvPicPr/>
          <p:nvPr/>
        </p:nvPicPr>
        <p:blipFill>
          <a:blip r:embed="rId1"/>
          <a:stretch/>
        </p:blipFill>
        <p:spPr>
          <a:xfrm>
            <a:off x="8143920" y="6000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20" y="357120"/>
            <a:ext cx="8429760" cy="61437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7"/>
          <p:cNvSpPr/>
          <p:nvPr/>
        </p:nvSpPr>
        <p:spPr>
          <a:xfrm>
            <a:off x="1000080" y="264312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2754"/>
                </a:solidFill>
                <a:latin typeface="Arial"/>
              </a:rPr>
              <a:t>Всюду музыка жи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4143240" y="4357800"/>
            <a:ext cx="471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пахова Лидия Юрь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музыки МАОУ Многопрофильный лицей №20 города Ульянов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Прямоугольник 1" descr=""/>
          <p:cNvPicPr/>
          <p:nvPr/>
        </p:nvPicPr>
        <p:blipFill>
          <a:blip r:embed="rId1"/>
          <a:stretch/>
        </p:blipFill>
        <p:spPr>
          <a:xfrm>
            <a:off x="920880" y="3060720"/>
            <a:ext cx="7369200" cy="882720"/>
          </a:xfrm>
          <a:prstGeom prst="rect">
            <a:avLst/>
          </a:prstGeom>
          <a:ln w="0">
            <a:noFill/>
          </a:ln>
        </p:spPr>
      </p:pic>
      <p:sp>
        <p:nvSpPr>
          <p:cNvPr id="249" name="TextBox 3"/>
          <p:cNvSpPr/>
          <p:nvPr/>
        </p:nvSpPr>
        <p:spPr>
          <a:xfrm>
            <a:off x="3868560" y="2143080"/>
            <a:ext cx="169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п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4071960" y="4429080"/>
            <a:ext cx="135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по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571680" y="28584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зыку к опере по сказке-поэме А.С.Пушкина «Руслан и Людмила» написал Михаил Иванович Глинка – великий русский композит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1" descr="глинка"/>
          <p:cNvPicPr/>
          <p:nvPr/>
        </p:nvPicPr>
        <p:blipFill>
          <a:blip r:embed="rId1"/>
          <a:stretch/>
        </p:blipFill>
        <p:spPr>
          <a:xfrm>
            <a:off x="1000080" y="1643040"/>
            <a:ext cx="1641600" cy="218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3" name="Picture 12" descr="пушкин"/>
          <p:cNvPicPr/>
          <p:nvPr/>
        </p:nvPicPr>
        <p:blipFill>
          <a:blip r:embed="rId2"/>
          <a:stretch/>
        </p:blipFill>
        <p:spPr>
          <a:xfrm>
            <a:off x="6429240" y="1571760"/>
            <a:ext cx="2022480" cy="22669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254" name="Picture 6" descr="5"/>
          <p:cNvPicPr/>
          <p:nvPr/>
        </p:nvPicPr>
        <p:blipFill>
          <a:blip r:embed="rId3"/>
          <a:stretch/>
        </p:blipFill>
        <p:spPr>
          <a:xfrm>
            <a:off x="2500200" y="3714840"/>
            <a:ext cx="4103640" cy="28526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1" descr="18.01.jpg"/>
          <p:cNvPicPr/>
          <p:nvPr/>
        </p:nvPicPr>
        <p:blipFill>
          <a:blip r:embed="rId1"/>
          <a:stretch/>
        </p:blipFill>
        <p:spPr>
          <a:xfrm>
            <a:off x="208080" y="2567160"/>
            <a:ext cx="5271840" cy="383364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3"/>
          <p:cNvSpPr/>
          <p:nvPr/>
        </p:nvSpPr>
        <p:spPr>
          <a:xfrm>
            <a:off x="500040" y="500040"/>
            <a:ext cx="757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Кто исполняет музыку для оперы и  балет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4"/>
          <p:cNvSpPr/>
          <p:nvPr/>
        </p:nvSpPr>
        <p:spPr>
          <a:xfrm>
            <a:off x="500040" y="1285920"/>
            <a:ext cx="7858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Кто управляет симфоническим оркестро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9" descr=""/>
          <p:cNvPicPr/>
          <p:nvPr/>
        </p:nvPicPr>
        <p:blipFill>
          <a:blip r:embed="rId2"/>
          <a:stretch/>
        </p:blipFill>
        <p:spPr>
          <a:xfrm>
            <a:off x="5857920" y="2786040"/>
            <a:ext cx="292896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357120" y="189000"/>
            <a:ext cx="84297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262626"/>
                </a:solidFill>
                <a:latin typeface="Arial"/>
              </a:rPr>
              <a:t>Игра «А верите ли вы … ?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76680" y="1413000"/>
            <a:ext cx="7903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852f74"/>
                </a:solidFill>
                <a:latin typeface="Arial"/>
              </a:rPr>
              <a:t>А верите ли вы, что Моцарт начал св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2f74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852f74"/>
                </a:solidFill>
                <a:latin typeface="Arial"/>
              </a:rPr>
              <a:t>концертную деятельность в 6 л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24000" y="2500200"/>
            <a:ext cx="8462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а, со своей сестрой он давал концер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2714760" y="3286080"/>
            <a:ext cx="3500280" cy="3286080"/>
          </a:xfrm>
          <a:prstGeom prst="rect">
            <a:avLst/>
          </a:prstGeom>
          <a:ln w="0">
            <a:noFill/>
          </a:ln>
        </p:spPr>
      </p:pic>
      <p:pic>
        <p:nvPicPr>
          <p:cNvPr id="263" name="как чудно как нежно - со словами.mp3" descr=""/>
          <p:cNvPicPr/>
          <p:nvPr/>
        </p:nvPicPr>
        <p:blipFill>
          <a:blip r:embed="rId2"/>
          <a:stretch/>
        </p:blipFill>
        <p:spPr>
          <a:xfrm>
            <a:off x="7643880" y="59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300"/>
                            </p:stCondLst>
                            <p:childTnLst>
                              <p:par>
                                <p:cTn id="1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1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Содержимое 3" descr="65672-1-1.jpg"/>
          <p:cNvPicPr/>
          <p:nvPr/>
        </p:nvPicPr>
        <p:blipFill>
          <a:blip r:embed="rId1"/>
          <a:stretch/>
        </p:blipFill>
        <p:spPr>
          <a:xfrm>
            <a:off x="857160" y="749160"/>
            <a:ext cx="728676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973800" y="189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95280" y="428760"/>
            <a:ext cx="8177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6406"/>
                </a:solidFill>
                <a:latin typeface="Arial"/>
              </a:rPr>
              <a:t>А верите ли вы, что  это композитор Петр Ильич Чайковск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428760" y="2071800"/>
            <a:ext cx="835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Arial"/>
              </a:rPr>
              <a:t>НЕТ – ЭТО Сергей Сергеевич Прокофь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2643120" y="3600360"/>
            <a:ext cx="385776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4"/>
          <p:cNvSpPr/>
          <p:nvPr/>
        </p:nvSpPr>
        <p:spPr>
          <a:xfrm>
            <a:off x="981000" y="189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714240" y="428760"/>
            <a:ext cx="8215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А верите вы, что это музыка Михаила Ивановича Глин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642960" y="1714680"/>
            <a:ext cx="8143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НЕТ – ЭТО  музыка Сергея Сергеевича Прокофье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5857920" y="2857680"/>
            <a:ext cx="2571840" cy="3643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"/>
          <p:cNvPicPr/>
          <p:nvPr/>
        </p:nvPicPr>
        <p:blipFill>
          <a:blip r:embed="rId2"/>
          <a:stretch/>
        </p:blipFill>
        <p:spPr>
          <a:xfrm>
            <a:off x="571680" y="2754360"/>
            <a:ext cx="3143160" cy="38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4"/>
          <p:cNvSpPr/>
          <p:nvPr/>
        </p:nvSpPr>
        <p:spPr>
          <a:xfrm>
            <a:off x="981000" y="189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428760" y="214200"/>
            <a:ext cx="50720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6205"/>
                </a:solidFill>
                <a:latin typeface="Arial"/>
              </a:rPr>
              <a:t>А верите вы, что это музы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6205"/>
                </a:solidFill>
                <a:latin typeface="Arial"/>
              </a:rPr>
              <a:t>Михаила Ивановича Глин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285840" y="1357200"/>
            <a:ext cx="53578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Да – это Увертюра из оп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«Руслан и Людмил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357120" y="3143160"/>
            <a:ext cx="3571920" cy="33688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2"/>
          <a:stretch/>
        </p:blipFill>
        <p:spPr>
          <a:xfrm>
            <a:off x="5500800" y="285840"/>
            <a:ext cx="3429000" cy="2143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"/>
          <p:cNvPicPr/>
          <p:nvPr/>
        </p:nvPicPr>
        <p:blipFill>
          <a:blip r:embed="rId3"/>
          <a:stretch/>
        </p:blipFill>
        <p:spPr>
          <a:xfrm>
            <a:off x="5715000" y="3357720"/>
            <a:ext cx="3205080" cy="2928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1" descr="русл 1"/>
          <p:cNvPicPr/>
          <p:nvPr/>
        </p:nvPicPr>
        <p:blipFill>
          <a:blip r:embed="rId4"/>
          <a:stretch/>
        </p:blipFill>
        <p:spPr>
          <a:xfrm>
            <a:off x="3071880" y="2643120"/>
            <a:ext cx="3214800" cy="3932280"/>
          </a:xfrm>
          <a:prstGeom prst="rect">
            <a:avLst/>
          </a:prstGeom>
          <a:ln w="0">
            <a:noFill/>
          </a:ln>
        </p:spPr>
      </p:pic>
      <p:pic>
        <p:nvPicPr>
          <p:cNvPr id="281" name="увертюра глинка - руслан и людмила .mp3" descr=""/>
          <p:cNvPicPr/>
          <p:nvPr/>
        </p:nvPicPr>
        <p:blipFill>
          <a:blip r:embed="rId5"/>
          <a:stretch/>
        </p:blipFill>
        <p:spPr>
          <a:xfrm>
            <a:off x="807228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335169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14080" y="-142920"/>
            <a:ext cx="3932280" cy="6572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Verdana"/>
              </a:rPr>
              <a:t>Что делают в опере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Какую оперу написал Вольфганг Амадей Моцарт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34"/>
                </a:solidFill>
                <a:latin typeface="Verdana"/>
              </a:rPr>
              <a:t>Сколько лет было Сергею Сергеевичу Прокофьев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34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5c1f34"/>
                </a:solidFill>
                <a:latin typeface="Verdana"/>
              </a:rPr>
              <a:t>когда он написал оперу «Великан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В каких музыкальных жанрах музыка живет без слов, как таинственная невидимк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Содержимое 3" descr=""/>
          <p:cNvPicPr/>
          <p:nvPr/>
        </p:nvPicPr>
        <p:blipFill>
          <a:blip r:embed="rId1"/>
          <a:stretch/>
        </p:blipFill>
        <p:spPr>
          <a:xfrm>
            <a:off x="4748040" y="-6480"/>
            <a:ext cx="3945240" cy="651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571320"/>
            <a:ext cx="4432320" cy="4429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3000"/>
          </a:bodyPr>
          <a:p>
            <a:pPr marL="246240" indent="-24624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ольфганг Амадей Моцарт начал сочинять музыку когда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Сколько Вольфгангу Амадею Моцарту  было лет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ергей Сергеевич Прокофьев начал сочинять музыку когда он побывал на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00720" y="529920"/>
            <a:ext cx="435744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8000"/>
          </a:bodyPr>
          <a:p>
            <a:pPr marL="232920" indent="-23292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ал взрослы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 раннем детстве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Два го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Пять 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Четыре го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пектак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але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пер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онцер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spcBef>
                <a:spcPts val="249"/>
              </a:spcBef>
              <a:buClr>
                <a:srgbClr val="b83d6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4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9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2" dur="2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7" dur="2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0" dur="20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3" dur="20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8" dur="2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3" dur="2000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6" dur="2000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9" dur="2000"/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2" dur="2000"/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" dur="500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pic>
        <p:nvPicPr>
          <p:cNvPr id="227" name="я_хочу_услышать_музыку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223791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8215200" cy="4876920"/>
          </a:xfrm>
          <a:prstGeom prst="rect">
            <a:avLst/>
          </a:prstGeom>
          <a:gradFill rotWithShape="0">
            <a:gsLst>
              <a:gs pos="0">
                <a:srgbClr val="b83d68"/>
              </a:gs>
              <a:gs pos="50000">
                <a:srgbClr val="ffffff"/>
              </a:gs>
              <a:gs pos="100000">
                <a:srgbClr val="b83d68"/>
              </a:gs>
            </a:gsLst>
            <a:lin ang="5400000"/>
          </a:gra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Едва  только  ветер  подует с  реки–             К  нам  музыка в  окна  стучится:              Ведут перекличку  трамваев  звонки  Чирикает  первая  птица.                           Это  чудо!  Это  чудо!                                   Это  музыка повсюду!                      Прилетает ниоткуда и играет, и  поёт.              На  концерте соловьином,                                 В  дальнем  крике  журавлином,                    Даже  в  писке  комарином –                       Всюду музыка  живет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84360" y="1268280"/>
            <a:ext cx="8215200" cy="4876920"/>
          </a:xfrm>
          <a:prstGeom prst="rect">
            <a:avLst/>
          </a:prstGeom>
          <a:gradFill rotWithShape="0">
            <a:gsLst>
              <a:gs pos="0">
                <a:srgbClr val="b83d68"/>
              </a:gs>
              <a:gs pos="50000">
                <a:srgbClr val="ffffff"/>
              </a:gs>
              <a:gs pos="100000">
                <a:srgbClr val="b83d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e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Веселая  музыка  в  доме моём                Со скрипкой  дружна  и  с фаготом.            И  если вы спросите,  как  мы  живем,      Ответим: - Живем,  как  по  нотам!             Это  чудо!  Это  чудо!                                   Это  музыка повсюду!                      Прилетает ниоткуда и играет, и  поёт.              На  концерте соловьином,                                 В  дальнем  крике  журавлином,                    Даже  в  писке  комарином –                       Всюду музыка  жив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684360" y="1268280"/>
            <a:ext cx="8215200" cy="4876920"/>
          </a:xfrm>
          <a:prstGeom prst="rect">
            <a:avLst/>
          </a:prstGeom>
          <a:gradFill rotWithShape="0">
            <a:gsLst>
              <a:gs pos="0">
                <a:srgbClr val="b83d68"/>
              </a:gs>
              <a:gs pos="50000">
                <a:srgbClr val="ffffff"/>
              </a:gs>
              <a:gs pos="100000">
                <a:srgbClr val="b83d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e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Нам  с  нею  легко на  параде  шагать,   И  что-нибудь  делать  не скучно.             А  если  захочется  нам  помечтать,                 То  с  нами  она  неразлучна.                  Это  чудо!  Это  чудо!                                   Это  музыка повсюду!                      Прилетает ниоткуда и играет, и  поёт.              На  концерте соловьином,                                 В  дальнем  крике  журавлином,                    Даже  в  писке  комарином –                       Всюду музыка  жив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214200" y="1268280"/>
            <a:ext cx="8643960" cy="5303880"/>
          </a:xfrm>
          <a:prstGeom prst="rect">
            <a:avLst/>
          </a:prstGeom>
          <a:gradFill rotWithShape="0">
            <a:gsLst>
              <a:gs pos="0">
                <a:srgbClr val="b83d68"/>
              </a:gs>
              <a:gs pos="50000">
                <a:srgbClr val="ffffff"/>
              </a:gs>
              <a:gs pos="100000">
                <a:srgbClr val="b83d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de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Привет,  тебе  ветра  веселый  гопак!  Привет  тебе,  дождик  звенящий!       Нельзя без друзей  нам  на  свете ника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А  музыка – друг  настоящий!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Это  чудо!  Это  чудо!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Это  музыка повсюду!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Прилетает ниоткуда и играет, и  поёт.              На  концерте соловьином,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В  дальнем  крике  журавлином,                    Даже  в  писке  комарином –                       Всюду музыка  жив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WordArt 7"/>
          <p:cNvSpPr txBox="1"/>
          <p:nvPr/>
        </p:nvSpPr>
        <p:spPr>
          <a:xfrm>
            <a:off x="684360" y="0"/>
            <a:ext cx="755964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1260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Всюду  музыка  живет</a:t>
            </a:r>
            <a:endParaRPr b="1" lang="en-US" sz="1800" spc="1" strike="noStrike">
              <a:ln cap="sq" w="1260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293" name="всюду  музыка  живет.mid" descr=""/>
          <p:cNvPicPr/>
          <p:nvPr/>
        </p:nvPicPr>
        <p:blipFill>
          <a:blip r:embed="rId1"/>
          <a:stretch/>
        </p:blipFill>
        <p:spPr>
          <a:xfrm>
            <a:off x="32400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212100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3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0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0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0">
                                  <p:stCondLst>
                                    <p:cond delay="98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0">
                                  <p:stCondLst>
                                    <p:cond delay="98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0">
                                  <p:stCondLst>
                                    <p:cond delay="146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0">
                                  <p:stCondLst>
                                    <p:cond delay="146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2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0">
                                  <p:stCondLst>
                                    <p:cond delay="146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5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0">
                                  <p:stCondLst>
                                    <p:cond delay="146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0">
                                  <p:stCondLst>
                                    <p:cond delay="146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0">
                                  <p:stCondLst>
                                    <p:cond delay="146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0">
                                  <p:stCondLst>
                                    <p:cond delay="146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14256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емая литератур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ставка-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Verdana"/>
                <a:hlinkClick r:id="rId1"/>
              </a:rPr>
              <a:t>http://www.allgrafica.ru/photoshop/costyum/29950-detskij-fotoshablon-usadba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итульный лист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Arial"/>
                <a:hlinkClick r:id="rId2"/>
              </a:rPr>
              <a:t>http://vse.kz/topic/444460-uroki-dlja-samih-malenkih-ot15-let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айковский П.И.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Verdana"/>
                <a:hlinkClick r:id="rId4"/>
              </a:rPr>
              <a:t>http://900igr.net/fotografii/literatura/Tolstoj-Aleksej/013-V-1878-godu-cherez-tri-goda-posle-smerti-A.K.-Tolstogo-Petr-Ilich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фман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Arial"/>
                <a:hlinkClick r:id="rId5"/>
              </a:rPr>
              <a:t>http://lib.znate.ru/docs/index-116735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рлеанская де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Arial"/>
                <a:hlinkClick r:id="rId6"/>
              </a:rPr>
              <a:t>http://www.kinomore.ru/viewcategory.php?id=0&amp;Page=5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цена из оперы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Arial"/>
                <a:hlinkClick r:id="rId7"/>
              </a:rPr>
              <a:t>http://www.teatral-online.ru/news/5887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линка М.И.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Verdana"/>
                <a:hlinkClick r:id="rId8"/>
              </a:rPr>
              <a:t>http://albertina.dpni-tula.org/mixail-ivanovich-glinka-russkij-kompazitor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ушкин А.С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Verdana"/>
                <a:hlinkClick r:id="rId9"/>
              </a:rPr>
              <a:t>http://hfpbestq.coolpage.biz/53/smeshnaya-peredelka-pesni-shokoladn.ph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цена из оп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Arial"/>
                <a:hlinkClick r:id="rId10"/>
              </a:rPr>
              <a:t>http://900igr.net/fotografii/muzyka/Opera/004-Opera-Ruslan-i-Ljudmila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линка М.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Arial"/>
                <a:hlinkClick r:id="rId11"/>
              </a:rPr>
              <a:t>http://www.musicaneo.com/ru/composers/biography/353_mihail_glinka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0" y="673200"/>
            <a:ext cx="9144000" cy="618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номор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900igr.net/kartinki/muzyka/Opera/010-Opera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аян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Verdana"/>
                <a:hlinkClick r:id="rId1"/>
              </a:rPr>
              <a:t>http://muzruk.info/?p=755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услан и Людмила-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Verdana"/>
                <a:hlinkClick r:id="rId2"/>
              </a:rPr>
              <a:t>http://www.newreferat.com/ref-4136-2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кофьев -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Verdana"/>
                <a:hlinkClick r:id="rId3"/>
              </a:rPr>
              <a:t>http://www.liveinternet.ru/users/2010239/post6962008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кофьев в детстве -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Verdana"/>
                <a:hlinkClick r:id="rId4"/>
              </a:rPr>
              <a:t>http://prekrasna-vasilisa.org/post102149619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ирижер 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 u="sng">
                <a:solidFill>
                  <a:srgbClr val="ffde66"/>
                </a:solidFill>
                <a:uFillTx/>
                <a:latin typeface="Verdana"/>
                <a:hlinkClick r:id="rId5"/>
              </a:rPr>
              <a:t>http://www.allrus.info/main.php?ID=223329&amp;arc_new=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аян на холме 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rushkolnik.ru/docs/index-23176919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царт 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blogs.privet.ru/community/gernov51/tags/79000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вушка играет на флейте 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livemaster.ru/gallery/3816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пользовала презентацию песни«Музыка. Композитора Струве» Александровой И.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дведь и балет 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blogs.privet.ru/community/myfriend?tag_id=4847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Щелкунчик 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antigorod.com/lastnews/page/328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алерина 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triinochka.ru/post199952832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ркестр 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intoclassics.net/news/51-0-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0f155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14080" y="530280"/>
            <a:ext cx="3932280" cy="5898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ускай твердят кому не лень, что я, мол, косолап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а я медведь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 не олень, похож на маму с пап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Я косолапый, спору нет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о я не огорчаюс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, например, идти в балет совсем не собираю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4714920" y="1071720"/>
            <a:ext cx="39304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pic>
        <p:nvPicPr>
          <p:cNvPr id="232" name="Содержимое 3" descr="0926b55091b062726e4bc5870a40e8c6.gif"/>
          <p:cNvPicPr/>
          <p:nvPr/>
        </p:nvPicPr>
        <p:blipFill>
          <a:blip r:embed="rId1"/>
          <a:stretch/>
        </p:blipFill>
        <p:spPr>
          <a:xfrm>
            <a:off x="3063960" y="530280"/>
            <a:ext cx="3062160" cy="4187880"/>
          </a:xfrm>
          <a:prstGeom prst="rect">
            <a:avLst/>
          </a:prstGeom>
          <a:ln w="0">
            <a:noFill/>
          </a:ln>
        </p:spPr>
      </p:pic>
      <p:pic>
        <p:nvPicPr>
          <p:cNvPr id="233" name="%BBет__Щелкунчик__-_Танец_Феи_Драже.mp3" descr=""/>
          <p:cNvPicPr/>
          <p:nvPr/>
        </p:nvPicPr>
        <p:blipFill>
          <a:blip r:embed="rId2"/>
          <a:stretch/>
        </p:blipFill>
        <p:spPr>
          <a:xfrm>
            <a:off x="8286840" y="6072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24453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7b7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95c00"/>
              </a:solidFill>
              <a:latin typeface="Verdana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2286000" y="571680"/>
            <a:ext cx="4572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Балет  ( с фр. –танец) – вид театрального искусства , где содержание, мысли и чувства действующих лиц передаются при помощи музыки и хореограф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5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200px-ETA-Hoffmann">
            <a:hlinkClick r:id="rId1"/>
          </p:cNvPr>
          <p:cNvPicPr/>
          <p:nvPr/>
        </p:nvPicPr>
        <p:blipFill>
          <a:blip r:embed="rId2"/>
          <a:srcRect l="1901" t="0" r="0" b="11089"/>
          <a:stretch/>
        </p:blipFill>
        <p:spPr>
          <a:xfrm>
            <a:off x="250920" y="353880"/>
            <a:ext cx="3198600" cy="6504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pic"/>
          <p:cNvPicPr/>
          <p:nvPr/>
        </p:nvPicPr>
        <p:blipFill>
          <a:blip r:embed="rId3"/>
          <a:srcRect l="101" t="0" r="0" b="9418"/>
          <a:stretch/>
        </p:blipFill>
        <p:spPr>
          <a:xfrm>
            <a:off x="5867280" y="353880"/>
            <a:ext cx="3210120" cy="6504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shelk"/>
          <p:cNvPicPr/>
          <p:nvPr/>
        </p:nvPicPr>
        <p:blipFill>
          <a:blip r:embed="rId4"/>
          <a:srcRect l="732" t="0" r="0" b="45234"/>
          <a:stretch/>
        </p:blipFill>
        <p:spPr>
          <a:xfrm>
            <a:off x="3564000" y="-6480"/>
            <a:ext cx="2147760" cy="6864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shelk"/>
          <p:cNvPicPr/>
          <p:nvPr/>
        </p:nvPicPr>
        <p:blipFill>
          <a:blip r:embed="rId5"/>
          <a:srcRect l="0" t="0" r="-566" b="45234"/>
          <a:stretch/>
        </p:blipFill>
        <p:spPr>
          <a:xfrm>
            <a:off x="3548160" y="-6480"/>
            <a:ext cx="2176200" cy="6864480"/>
          </a:xfrm>
          <a:prstGeom prst="rect">
            <a:avLst/>
          </a:prstGeom>
          <a:ln w="0">
            <a:noFill/>
          </a:ln>
        </p:spPr>
      </p:pic>
      <p:pic>
        <p:nvPicPr>
          <p:cNvPr id="241" name="вальс цветов.mp3" descr=""/>
          <p:cNvPicPr/>
          <p:nvPr/>
        </p:nvPicPr>
        <p:blipFill>
          <a:blip r:embed="rId6"/>
          <a:stretch/>
        </p:blipFill>
        <p:spPr>
          <a:xfrm>
            <a:off x="8501040" y="6000840"/>
            <a:ext cx="4287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B0%D0%B2%D1%82%D0%BE%D1%80%D1%8B%20%D0%A9%D0%B5%D0%BB%D0%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>
                                  <p:stCondLst>
                                    <p:cond delay="600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>
                                  <p:stCondLst>
                                    <p:cond delay="16000"/>
                                  </p:stCondLst>
                                  <p:childTnLst>
                                    <p:animRot by="21600000">
                                      <p:cBhvr>
                                        <p:cTn id="5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26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150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6">
                                  <p:stCondLst>
                                    <p:cond delay="2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500" autoRev="1" fill="hold"/>
                                        <p:tgtEl>
                                          <p:spTgt spid="2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740493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чайковский - хор менестрелей из оперы- орлеанская дева чайковского.mp3" descr=""/>
          <p:cNvPicPr/>
          <p:nvPr/>
        </p:nvPicPr>
        <p:blipFill>
          <a:blip r:embed="rId1"/>
          <a:stretch/>
        </p:blipFill>
        <p:spPr>
          <a:xfrm>
            <a:off x="8143920" y="6000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>
            <a:off x="642960" y="428760"/>
            <a:ext cx="78264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928800" y="428760"/>
            <a:ext cx="7326360" cy="55004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28760"/>
            <a:ext cx="81835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0f155"/>
                </a:solidFill>
                <a:latin typeface="Verdana"/>
              </a:rPr>
              <a:t>Орлеанская дева.</a:t>
            </a:r>
            <a:br>
              <a:rPr sz="4000"/>
            </a:br>
            <a:r>
              <a:rPr b="1" lang="en-US" sz="4000" spc="-1" strike="noStrike">
                <a:solidFill>
                  <a:srgbClr val="90f155"/>
                </a:solidFill>
                <a:latin typeface="Verdana"/>
              </a:rPr>
              <a:t>П. И. Чайковского.</a:t>
            </a:r>
            <a:endParaRPr b="1" lang="en-US" sz="4000" spc="-1" strike="noStrike">
              <a:solidFill>
                <a:srgbClr val="90f155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"/>
          <p:cNvSpPr/>
          <p:nvPr/>
        </p:nvSpPr>
        <p:spPr>
          <a:xfrm>
            <a:off x="1214280" y="35712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Орлеанская дева. П. И. Чайковск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2"/>
          <p:cNvSpPr/>
          <p:nvPr/>
        </p:nvSpPr>
        <p:spPr>
          <a:xfrm>
            <a:off x="2286000" y="114300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Волшебный тот цв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Приносил зол забвен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Таинственным огнем он 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Сжигает кров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Он в душу льет пев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Восторг и вдохновен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О чудный талисм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Тебя зовут любо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Да! Лишь один цветок волшеб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Нам в утешенье Небом д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Силой чудный и целеб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Полн дивный талисм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4:54:37Z</dcterms:created>
  <dc:creator>мо</dc:creator>
  <dc:description/>
  <dc:language>en-US</dc:language>
  <cp:lastModifiedBy>Мама</cp:lastModifiedBy>
  <dcterms:modified xsi:type="dcterms:W3CDTF">2013-07-20T23:32:26Z</dcterms:modified>
  <cp:revision>133</cp:revision>
  <dc:subject/>
  <dc:title>Давайте поиграем.</dc:title>
</cp:coreProperties>
</file>