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27.jpeg" ContentType="image/jpeg"/>
  <Override PartName="/ppt/media/image10.png" ContentType="image/png"/>
  <Override PartName="/ppt/media/image29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%D0%B0%D0%B2%D1%82%D0%BE%D1%80%D1%8B%20%D0%A9%D0%B5%D0%BB%D0%BA.wav" ContentType="audio/x-wav"/>
  <Override PartName="/ppt/media/image1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279-F268-4592-A10C-5F47114B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430-9E92-4331-8A24-F5EE150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C25-FBA1-4A8F-86E2-DE15E307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E1C-C57C-4FDA-9C45-599C2631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FF67-7A46-4240-8599-464ABBA6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10E6-835B-4798-A4C2-0214218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A17C-0A4B-4775-8414-A2BEAF3D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1F52-0777-4D02-AA3D-7BB68BF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D55A-8988-4B37-9EDA-C16CBC51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4F09-FA67-4880-81FB-C63C551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A37F-0BD0-4591-94EC-074964F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2CB-5F96-4283-A27F-FB57407C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9C9-8C82-4BF9-9E15-08DB9DA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D77-33D9-4275-889D-46EE3A8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53FC-E316-4C1A-844D-092E0958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0381-C40E-4F4B-B663-D7E67AE7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84E6-01F5-405A-AF60-742EDFA6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0E89-BC7D-4A47-82DC-B3C31A0A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2CC3-DF22-46AF-BAF4-60D5A10B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0782-4120-4194-AC7F-3CA251CC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7AA9-DB89-495A-9C9F-580A28D1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74EF-829E-4525-BFD2-51FFCC1B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630-DF69-403E-9BE7-B4A0B92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1184-1EE7-4794-A42B-70DC35B9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6F9F-D03B-4E3B-A30F-CF0AD37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9B52-A8C1-46F4-8567-86487D4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77DBE-698D-48BF-AB92-AA4CA45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4CC4-DF5D-49BD-B571-AD6FFD20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9CBC-BD81-457A-B0AF-EFD08EAD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3F0E-F4B3-401D-A3AD-6681FE6B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537F-68F6-4B4F-A5DA-DB5A1259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D23E-2D96-4C05-8275-E0A57EEF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0447-CBC4-44F2-A233-3B63ABC4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24F-9269-4FD1-8700-63DCD59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0A05-3D1B-457C-AF40-666A373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2EA3-4801-4868-B376-9C006999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FA5C-9D9E-4E3B-819E-8EF9AEFC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6CF7-F0EE-4229-9E43-4EAC98F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1D1B-5767-4E63-9A7C-704F175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6589-459A-4F30-A92F-9116F89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6016-C523-4886-88B0-593856C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CF1E-752B-4C62-82EB-39D7C5EE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DB93-7F44-4A55-8CD3-E35D0825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8127-0F82-4EAA-B318-D27DBAEC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620-E1E5-410A-B9A5-8D3DD06A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6A99A-1CDB-41CC-826D-8505843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2BF2B-D7B4-47B7-8EF3-2FD9B10C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B6DF-B2C2-4221-86D3-F97EDD80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D471-2326-4D09-A23B-C4563F6B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76BA-E922-40C4-9A0F-E9B718BD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E32F-60EA-4699-9858-28CCFAE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2AF35-56BA-4A0B-9D06-9EB2E7F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308D-9D25-4AE0-93D6-9B08D396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395F9-ED6B-4A3F-9A38-564D8901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DD3B2-EB40-4300-934D-2D5CE1DF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E6C-6F6A-4C51-B973-EE41899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8B80-9A21-40B0-BFA8-B21C0CF7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4B4-69DA-44F1-A09B-466BFCD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0AB-CB40-4F8C-81D9-B55B499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C65-9378-41B0-B60B-9D321B0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BBA7-DD9B-4A11-93F3-12178D5DB30F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979-BC21-4CE7-ADE2-7698010BB1EB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FF08-A019-4A14-8D26-F700FAB976FB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D71F-7BF9-43F2-A2D2-8C62848F7C8E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9A89-F712-49F7-851A-15ED19F3FB1C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grafica.ru/photoshop/costyum/29950-detskij-fotoshablon-usadba.html" TargetMode="External"/><Relationship Id="rId2" Type="http://schemas.openxmlformats.org/officeDocument/2006/relationships/hyperlink" Target="http://vse.kz/topic/444460-uroki-dlja-samih-malenkih-ot15-let/" TargetMode="External"/><Relationship Id="rId3" Type="http://schemas.openxmlformats.org/officeDocument/2006/relationships/hyperlink" Target="http://vse.kz/topic/444460-uroki-dlja-samih-malenkih-ot15-let/" TargetMode="External"/><Relationship Id="rId4" Type="http://schemas.openxmlformats.org/officeDocument/2006/relationships/hyperlink" Target="http://900igr.net/fotografii/literatura/Tolstoj-Aleksej/013-V-1878-godu-cherez-tri-goda-posle-smerti-A.K.-Tolstogo-Petr-Ilich.html" TargetMode="External"/><Relationship Id="rId5" Type="http://schemas.openxmlformats.org/officeDocument/2006/relationships/hyperlink" Target="http://lib.znate.ru/docs/index-116735.html" TargetMode="External"/><Relationship Id="rId6" Type="http://schemas.openxmlformats.org/officeDocument/2006/relationships/hyperlink" Target="http://www.kinomore.ru/viewcategory.php?id=0&amp;Page=505" TargetMode="External"/><Relationship Id="rId7" Type="http://schemas.openxmlformats.org/officeDocument/2006/relationships/hyperlink" Target="http://www.teatral-online.ru/news/5887/" TargetMode="External"/><Relationship Id="rId8" Type="http://schemas.openxmlformats.org/officeDocument/2006/relationships/hyperlink" Target="http://albertina.dpni-tula.org/mixail-ivanovich-glinka-russkij-kompazitor.html" TargetMode="External"/><Relationship Id="rId9" Type="http://schemas.openxmlformats.org/officeDocument/2006/relationships/hyperlink" Target="http://hfpbestq.coolpage.biz/53/smeshnaya-peredelka-pesni-shokoladn.php" TargetMode="External"/><Relationship Id="rId10" Type="http://schemas.openxmlformats.org/officeDocument/2006/relationships/hyperlink" Target="http://900igr.net/fotografii/muzyka/Opera/004-Opera-Ruslan-i-Ljudmila.html" TargetMode="External"/><Relationship Id="rId11" Type="http://schemas.openxmlformats.org/officeDocument/2006/relationships/hyperlink" Target="http://www.musicaneo.com/ru/composers/biography/353_mihail_glinka.html" TargetMode="Externa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uzruk.info/?p=7550" TargetMode="External"/><Relationship Id="rId2" Type="http://schemas.openxmlformats.org/officeDocument/2006/relationships/hyperlink" Target="http://www.newreferat.com/ref-4136-2.html" TargetMode="External"/><Relationship Id="rId3" Type="http://schemas.openxmlformats.org/officeDocument/2006/relationships/hyperlink" Target="http://www.liveinternet.ru/users/2010239/post69620085" TargetMode="External"/><Relationship Id="rId4" Type="http://schemas.openxmlformats.org/officeDocument/2006/relationships/hyperlink" Target="http://prekrasna-vasilisa.org/post102149619/" TargetMode="External"/><Relationship Id="rId5" Type="http://schemas.openxmlformats.org/officeDocument/2006/relationships/hyperlink" Target="http://www.allrus.info/main.php?ID=223329&amp;arc_new=1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ETA-Hoffmann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&#1072;&#1074;&#1090;&#1086;&#1088;&#1099;%20&#1065;&#1077;&#1083;&#1082;.wav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57132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5b7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222" name="песенка чудесенка - копия.wav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1000080" y="26431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2754"/>
                </a:solidFill>
                <a:latin typeface="Arial"/>
              </a:rPr>
              <a:t>Всюду музыка жи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4143240" y="43578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ахова Лидия Ю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узыки МАОУ Многопрофильный лицей №20 города Ульянов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3060720"/>
            <a:ext cx="7369200" cy="882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868560" y="2143080"/>
            <a:ext cx="16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п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071960" y="442908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57168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ыку к опере по сказке-поэме А.С.Пушкина «Руслан и Людмила» написал Михаил Иванович Глинка – великий русский компози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глинка"/>
          <p:cNvPicPr/>
          <p:nvPr/>
        </p:nvPicPr>
        <p:blipFill>
          <a:blip r:embed="rId1"/>
          <a:stretch/>
        </p:blipFill>
        <p:spPr>
          <a:xfrm>
            <a:off x="1000080" y="1643040"/>
            <a:ext cx="16416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12" descr="пушкин"/>
          <p:cNvPicPr/>
          <p:nvPr/>
        </p:nvPicPr>
        <p:blipFill>
          <a:blip r:embed="rId2"/>
          <a:stretch/>
        </p:blipFill>
        <p:spPr>
          <a:xfrm>
            <a:off x="6429240" y="1571760"/>
            <a:ext cx="2022480" cy="22669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54" name="Picture 6" descr="5"/>
          <p:cNvPicPr/>
          <p:nvPr/>
        </p:nvPicPr>
        <p:blipFill>
          <a:blip r:embed="rId3"/>
          <a:stretch/>
        </p:blipFill>
        <p:spPr>
          <a:xfrm>
            <a:off x="2500200" y="3714840"/>
            <a:ext cx="4103640" cy="2852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18.01.jpg"/>
          <p:cNvPicPr/>
          <p:nvPr/>
        </p:nvPicPr>
        <p:blipFill>
          <a:blip r:embed="rId1"/>
          <a:stretch/>
        </p:blipFill>
        <p:spPr>
          <a:xfrm>
            <a:off x="208080" y="2567160"/>
            <a:ext cx="5271840" cy="3833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500040" y="500040"/>
            <a:ext cx="757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то исполняет музыку для оперы и  бале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500040" y="1285920"/>
            <a:ext cx="785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то управляет симфоническим оркес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tretch/>
        </p:blipFill>
        <p:spPr>
          <a:xfrm>
            <a:off x="5857920" y="2786040"/>
            <a:ext cx="29289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57120" y="189000"/>
            <a:ext cx="84297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62626"/>
                </a:solidFill>
                <a:latin typeface="Arial"/>
              </a:rPr>
              <a:t>Игра «А верите ли вы … ?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6680" y="1413000"/>
            <a:ext cx="790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А верите ли вы, что Моцарт начал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концертную деятельность в 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24000" y="2500200"/>
            <a:ext cx="846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, со своей сестрой он давал конц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714760" y="328608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63" name="как чудно как нежно - со словами.mp3" descr=""/>
          <p:cNvPicPr/>
          <p:nvPr/>
        </p:nvPicPr>
        <p:blipFill>
          <a:blip r:embed="rId2"/>
          <a:stretch/>
        </p:blipFill>
        <p:spPr>
          <a:xfrm>
            <a:off x="76438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одержимое 3" descr="65672-1-1.jpg"/>
          <p:cNvPicPr/>
          <p:nvPr/>
        </p:nvPicPr>
        <p:blipFill>
          <a:blip r:embed="rId1"/>
          <a:stretch/>
        </p:blipFill>
        <p:spPr>
          <a:xfrm>
            <a:off x="857160" y="749160"/>
            <a:ext cx="72867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738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95280" y="428760"/>
            <a:ext cx="817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406"/>
                </a:solidFill>
                <a:latin typeface="Arial"/>
              </a:rPr>
              <a:t>А верите ли вы, что  это композитор Петр Ильич Чайковск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28760" y="2071800"/>
            <a:ext cx="835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НЕТ – ЭТО Сергей Сергеевич Прокоф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643120" y="3600360"/>
            <a:ext cx="38577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14240" y="428760"/>
            <a:ext cx="821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верите вы, что это музыка 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42960" y="1714680"/>
            <a:ext cx="814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НЕТ – ЭТО  музыка Сергея Сергеевича Прокофь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857920" y="285768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571680" y="2754360"/>
            <a:ext cx="314316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28760" y="214200"/>
            <a:ext cx="507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А верите вы, что это му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85840" y="1357200"/>
            <a:ext cx="5357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Да – это Увертюра из оп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«Руслан и Людми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57120" y="3143160"/>
            <a:ext cx="3571920" cy="336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50080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715000" y="3357720"/>
            <a:ext cx="3205080" cy="2928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русл 1"/>
          <p:cNvPicPr/>
          <p:nvPr/>
        </p:nvPicPr>
        <p:blipFill>
          <a:blip r:embed="rId4"/>
          <a:stretch/>
        </p:blipFill>
        <p:spPr>
          <a:xfrm>
            <a:off x="3071880" y="2643120"/>
            <a:ext cx="3214800" cy="3932280"/>
          </a:xfrm>
          <a:prstGeom prst="rect">
            <a:avLst/>
          </a:prstGeom>
          <a:ln w="0">
            <a:noFill/>
          </a:ln>
        </p:spPr>
      </p:pic>
      <p:pic>
        <p:nvPicPr>
          <p:cNvPr id="281" name="увертюра глинка - руслан и людмила .mp3" descr=""/>
          <p:cNvPicPr/>
          <p:nvPr/>
        </p:nvPicPr>
        <p:blipFill>
          <a:blip r:embed="rId5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33516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4080" y="-142920"/>
            <a:ext cx="3932280" cy="657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Что делают в опер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Какую оперу написал Вольфганг Амадей Моцар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Сколько лет было Сергею Сергеевичу Прокофье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когда он написал оперу «Великан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В каких музыкальных жанрах музыка живет без слов, как таинственная невидим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4748040" y="-6480"/>
            <a:ext cx="394524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571320"/>
            <a:ext cx="44323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льфганг Амадей Моцарт начал сочинять музыку когда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Сколько Вольфгангу Амадею Моцарту  было ле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ргей Сергеевич Прокофьев начал сочинять музыку когда он побывал на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00720" y="529920"/>
            <a:ext cx="43574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ал взросл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раннем детств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Два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Пять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Четыре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ектак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але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е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нцер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pic>
        <p:nvPicPr>
          <p:cNvPr id="227" name="я_хочу_услышать_музыку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379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два  только  ветер  подует с  реки–             К  нам  музыка в  окна  стучится:              Ведут перекличку  трамваев  звонки  Чирикает  первая  птица.         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еселая  музыка  в  доме моём                Со скрипкой  дружна  и  с фаготом.            И  если вы спросите,  как  мы  живем,      Ответим: - Живем,  как  по  нотам!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Нам  с  нею  легко на  параде  шагать,   И  что-нибудь  делать  не скучно.             А  если  захочется  нам  помечтать,                 То  с  нами  она  неразлучна.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14200" y="1268280"/>
            <a:ext cx="8643960" cy="530388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вет,  тебе  ветра  веселый  гопак!  Привет  тебе,  дождик  звенящий!       Нельзя без друзей  нам  на  свете ник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А  музыка – друг  настоящий!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чудо!  Это  чудо!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музыка повсюду!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летает ниоткуда и играет, и  поёт.              На  концерте соловьином,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7"/>
          <p:cNvSpPr txBox="1"/>
          <p:nvPr/>
        </p:nvSpPr>
        <p:spPr>
          <a:xfrm>
            <a:off x="684360" y="0"/>
            <a:ext cx="7559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сюду  музыка  живет</a:t>
            </a:r>
            <a:endParaRPr b="1" lang="en-US" sz="1800" spc="1" strike="noStrike">
              <a:ln cap="sq"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93" name="всюду  музыка  живет.mid" descr=""/>
          <p:cNvPicPr/>
          <p:nvPr/>
        </p:nvPicPr>
        <p:blipFill>
          <a:blip r:embed="rId1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2121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25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ставк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www.allgrafica.ru/photoshop/costyum/29950-detskij-fotoshablon-usadb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тульный лист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http://vse.kz/topic/444460-uroki-dlja-samih-malenkih-ot15-let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йковский П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900igr.net/fotografii/literatura/Tolstoj-Aleksej/013-V-1878-godu-cherez-tri-goda-posle-smerti-A.K.-Tolstogo-Petr-Ilich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фман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http://lib.znate.ru/docs/index-11673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леанская д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http://www.kinomore.ru/viewcategory.php?id=0&amp;Page=5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http://www.teatral-online.ru/news/5887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8"/>
              </a:rPr>
              <a:t>http://albertina.dpni-tula.org/mixail-ivanovich-glinka-russkij-kompazitor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ушкин А.С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9"/>
              </a:rPr>
              <a:t>http://hfpbestq.coolpage.biz/53/smeshnaya-peredelka-pesni-shokoladn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http://900igr.net/fotografii/muzyka/Opera/004-Opera-Ruslan-i-Ljudmil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http://www.musicaneo.com/ru/composers/biography/353_mihail_glink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673200"/>
            <a:ext cx="9144000" cy="618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омор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900igr.net/kartinki/muzyka/Opera/010-Opera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muzruk.info/?p=75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слан и Людмил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2"/>
              </a:rPr>
              <a:t>http://www.newreferat.com/ref-4136-2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3"/>
              </a:rPr>
              <a:t>http://www.liveinternet.ru/users/2010239/post696200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в детстве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prekrasna-vasilisa.org/post10214961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ижер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5"/>
              </a:rPr>
              <a:t>http://www.allrus.info/main.php?ID=223329&amp;arc_new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 на холм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rushkolnik.ru/docs/index-2317691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цар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gernov51/tags/79000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ушка играет на флейт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livemaster.ru/gallery/3816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ла презентацию песни«Музыка. Композитора Струве» Александровой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дведь и бале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myfriend?tag_id=484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Щелкунчик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ntigorod.com/lastnews/page/328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лер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triinochka.ru/post199952832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кестр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toclassics.net/news/51-0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4080" y="530280"/>
            <a:ext cx="3932280" cy="589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кай твердят кому не лень, что я, мол, косолап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 я медвед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 не олень, похож на маму с па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Я косолапый, спору не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 я не огорчаю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, например, идти в балет совсем не собираю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930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32" name="Содержимое 3" descr="0926b55091b062726e4bc5870a40e8c6.gif"/>
          <p:cNvPicPr/>
          <p:nvPr/>
        </p:nvPicPr>
        <p:blipFill>
          <a:blip r:embed="rId1"/>
          <a:stretch/>
        </p:blipFill>
        <p:spPr>
          <a:xfrm>
            <a:off x="3063960" y="530280"/>
            <a:ext cx="3062160" cy="4187880"/>
          </a:xfrm>
          <a:prstGeom prst="rect">
            <a:avLst/>
          </a:prstGeom>
          <a:ln w="0">
            <a:noFill/>
          </a:ln>
        </p:spPr>
      </p:pic>
      <p:pic>
        <p:nvPicPr>
          <p:cNvPr id="233" name="%BBет__Щелкунчик__-_Танец_Феи_Драже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445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7b7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2286000" y="571680"/>
            <a:ext cx="4572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Балет  ( с фр. –танец) – вид театрального искусства , где содержание, мысли и чувства действующих лиц передаются при помощи музыки и хореограф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00px-ETA-Hoffmann">
            <a:hlinkClick r:id="rId1"/>
          </p:cNvPr>
          <p:cNvPicPr/>
          <p:nvPr/>
        </p:nvPicPr>
        <p:blipFill>
          <a:blip r:embed="rId2"/>
          <a:srcRect l="1901" t="0" r="0" b="11089"/>
          <a:stretch/>
        </p:blipFill>
        <p:spPr>
          <a:xfrm>
            <a:off x="250920" y="353880"/>
            <a:ext cx="3198600" cy="650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pic"/>
          <p:cNvPicPr/>
          <p:nvPr/>
        </p:nvPicPr>
        <p:blipFill>
          <a:blip r:embed="rId3"/>
          <a:srcRect l="101" t="0" r="0" b="9418"/>
          <a:stretch/>
        </p:blipFill>
        <p:spPr>
          <a:xfrm>
            <a:off x="5867280" y="353880"/>
            <a:ext cx="3210120" cy="650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shelk"/>
          <p:cNvPicPr/>
          <p:nvPr/>
        </p:nvPicPr>
        <p:blipFill>
          <a:blip r:embed="rId4"/>
          <a:srcRect l="732" t="0" r="0" b="45234"/>
          <a:stretch/>
        </p:blipFill>
        <p:spPr>
          <a:xfrm>
            <a:off x="3564000" y="-6480"/>
            <a:ext cx="2147760" cy="686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elk"/>
          <p:cNvPicPr/>
          <p:nvPr/>
        </p:nvPicPr>
        <p:blipFill>
          <a:blip r:embed="rId5"/>
          <a:srcRect l="0" t="0" r="-566" b="45234"/>
          <a:stretch/>
        </p:blipFill>
        <p:spPr>
          <a:xfrm>
            <a:off x="3548160" y="-6480"/>
            <a:ext cx="2176200" cy="6864480"/>
          </a:xfrm>
          <a:prstGeom prst="rect">
            <a:avLst/>
          </a:prstGeom>
          <a:ln w="0">
            <a:noFill/>
          </a:ln>
        </p:spPr>
      </p:pic>
      <p:pic>
        <p:nvPicPr>
          <p:cNvPr id="241" name="вальс цветов.mp3" descr=""/>
          <p:cNvPicPr/>
          <p:nvPr/>
        </p:nvPicPr>
        <p:blipFill>
          <a:blip r:embed="rId6"/>
          <a:stretch/>
        </p:blipFill>
        <p:spPr>
          <a:xfrm>
            <a:off x="8501040" y="6000840"/>
            <a:ext cx="428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0%D0%B2%D1%82%D0%BE%D1%80%D1%8B%20%D0%A9%D0%B5%D0%BB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1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4049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чайковский - хор менестрелей из оперы- орлеанская дева чайковского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826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7326360" cy="5500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Орлеанская дева.</a:t>
            </a:r>
            <a:br>
              <a:rPr sz="4000"/>
            </a:b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П. И. Чайковского.</a:t>
            </a:r>
            <a:endParaRPr b="1" lang="en-US" sz="4000" spc="-1" strike="noStrike">
              <a:solidFill>
                <a:srgbClr val="90f155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214280" y="3571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Орлеанская дева. П. И. Чай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286000" y="1143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лшебный тот 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риносил зол заб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аинственным огнем он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жигает кров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н в душу льет пе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сторг и вдохно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 чудный талисм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ебя зовут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Да! Лишь один цветок волше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м в утешенье Небом д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илой чудный и цел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олн дивный талис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54:37Z</dcterms:created>
  <dc:creator>мо</dc:creator>
  <dc:description/>
  <dc:language>en-US</dc:language>
  <cp:lastModifiedBy>Мама</cp:lastModifiedBy>
  <dcterms:modified xsi:type="dcterms:W3CDTF">2013-07-20T23:32:26Z</dcterms:modified>
  <cp:revision>133</cp:revision>
  <dc:subject/>
  <dc:title>Давайте поиграем.</dc:title>
</cp:coreProperties>
</file>