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8C21-B0BD-4EF4-B3D4-8506683A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FF05-069C-4D71-AFF4-1D2439C5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3924B-0521-4EE9-8FB6-4347649C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0886F-104B-4580-92BE-3A327AD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94AE-906E-4FE1-92EC-0AB8D402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C1B5A-7C23-4661-A47A-C761EC7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4541-4D08-4015-BDDE-1480FF2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22989-B751-456C-97D3-85ED44E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F16CA-943E-49B7-800C-647C173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039C-96C6-4A8C-ACE5-65A0911B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2EDD6-2F69-42BC-A952-0F1DC5D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A223-8AB2-4613-85EE-687CD58A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D59B-B0D6-4594-AA80-02A40A92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F8D4C-47E6-4108-881A-23EE6A4D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CF2E7-C8F1-4FB7-BEF9-FD0E2293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B1DFB-4E3F-4A73-BBED-E1D1A18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18B9B-2209-4BFF-A01D-A39C118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9A55B-62D5-41F8-9186-FE768B32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AB838-0B26-4D9C-8CC4-7A7C4A8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0B59B-E717-41CC-8E5A-C24C8D7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A0E7D-5E99-450F-9510-B471FC4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B02B6-968C-4FA7-B46E-461B7F74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8C37F-C3C5-41E1-922E-9D7AF62B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4326-75FE-4321-B221-D5F540A5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E476C-E572-46D9-BBE0-E0558BF0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622BE-1AF7-4B48-B904-B62A8937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5E4B-C152-4EA5-AE36-E6C3874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16851-1F25-440B-BCD5-315DB158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86C9-0FF9-43B3-8101-3137061F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FEAF3-C5F3-443E-9E3E-F589E5A2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7EE5-B0E8-42DA-97B9-EBAD23F4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0B0C1-0C52-4244-8D38-7244855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7B517-D0EA-44A2-BB02-28101DD1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B502-390A-4E1C-BE51-77DF6FF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D44E-4240-4A44-BA01-9589596A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7DC98-2A84-42AB-B4D3-0732BC1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77A77-1385-4E35-84EB-64C4B541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FE84E-A010-45D2-B308-19B6A3A6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AA543-7483-4F1D-944F-2BDAA039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FE85E-E2E3-420F-8DB2-EA4CDF5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E4530-F7CB-41B4-8D60-7442110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387A-62BC-498D-96C4-EFB3E110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10933-38D1-4D7B-A86C-72358EE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C5C4C-463D-4862-BC9E-D16E2641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C3784-6022-4CCD-AB5B-4B9439D3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BA14-8701-4664-BB99-14C9C98F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2767E-0693-4F32-BD19-5E79DE6E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3B3FD-0E86-44E7-972E-8856014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D42A1-7178-4E66-A57E-EEA316B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59705-7980-4F9B-A1A7-72635081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5393E-6656-4CE4-9978-E4E688FA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14E9B-D63D-4CAE-9DA1-AAD742EE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01A92-4177-4455-A3BF-419B6EF0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7423F-81A2-4326-BF7E-FEA96B62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C406E-5850-4D7F-86C9-8CB5A113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63174-40FB-4015-94C4-8A88B30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BB4-AABF-4ED6-AEC3-DD302A5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D1387-4873-4914-BC60-B29CBE97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6DECA-F425-45C1-97E7-F1725A4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4D41D-EFC5-497A-A40C-9D931779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217ED-2B33-4BDC-9750-6B4C571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CDBEC-3544-49F6-8CF3-27A85B72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CA1FD-7CCC-4C8C-8286-8BAB2881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3D399-2B13-4F9B-A079-8027E54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22EC9-387B-453F-AE5B-D4CB768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81CC4-932B-4D99-B5AA-B4C8826E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F8D67-1D68-447C-8474-3B52DD0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3F56-2EDF-437D-AB63-3811629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23870-E961-4C45-AAA4-156E2E1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673BE-2DDD-4864-B176-3E09174D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3DEDC-94B2-42A7-B5D2-5E946A0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0F4E5-4D6E-4159-83CC-2C503FE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87574-B307-472C-9819-C1B05CA5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EE9BC-787E-49C5-ADBC-8093B16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FF14F-6689-4A6A-A750-086F5B17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8A4BB-0A31-41E4-8219-FAF2C3FB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1370A-481A-4341-934F-744254DF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1B5DC-56AD-46B3-892B-9B348931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0D19-8591-4C8F-ABF4-C40B079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BC1EA-585A-4DB1-BD3A-0A32C2E8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428CC-35AA-42F7-8088-0B36E6B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38CD5-AE92-4B4D-AB17-1C907A4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AD018-4FC0-41DD-A58D-8D3CC82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14ED7-4B95-4080-A203-C0CC38F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9FDF4-09C9-40EE-B20F-9D25A46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F22D5-D95B-414E-9C7E-5F5C09A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76699-5416-44DC-9A6A-45B3833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C17E0-5810-4D5A-B74C-DB6D58BE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D5BDB-6EBF-4042-86D3-B88E31C1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83B-0F46-40ED-BAF4-3EE7FAFC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09A4D-B24B-478F-BDF4-224C085E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DDC65-5CBF-4224-94BE-91943FA5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59764-B6BC-4AF6-8292-C1985C6B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DBBD3-2577-434C-ADF3-8D8FEC69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7D2E5-BA82-4386-B6C9-6D105F7A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EEC05-A9FF-4438-A5EA-51991C5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2489F-E19E-4077-A008-D1A0377F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D5832-86D9-46AD-B973-EE4D3E8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9D46F-F254-4FD0-ABA5-D44256D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E98BB-0D17-45DD-B8CC-F44BAA9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0A25-51FB-4CBC-8A46-194139A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50504-A4F9-44F8-B452-4D477AA6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5EAD6-E3EA-442E-A1CC-A47473DA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0F16F-41F5-419D-A2AA-0ADCBC22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9C5D-E868-47BF-923E-8973DAF4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FB5-CA24-49E8-B972-A77A0282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9472-69B2-487F-9E63-3617679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B06A-2B42-4B9B-8E1F-8F6A86FD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CC85-9735-4442-8AAA-3B37B816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2271-947C-481C-82F8-C49FA0A4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C471-BE0B-4544-B3A8-333A978D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5374-AF2A-438E-8A29-1EAB958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5648-6E62-42E6-9D8B-5B2E01A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523B-8F2D-4C8D-B03C-820AF75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F2D1-EEDD-4DAC-AD53-EED4676F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EB6B-E510-41A8-AD55-FDE4B77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10C1-7F43-407C-8DD8-BEE64A8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C069-57D7-427B-B9DD-B6B6E22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EB97-1168-4FD0-A235-B071672F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BD9E-C44F-4E2F-8B1E-9FD3C22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6E25-AEE5-4CF6-A144-A86C6AD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9579-C4B4-4D18-84F0-3D48E22B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877C-E53B-4C89-83D2-5D5B3259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DEFD-1A86-450D-BC34-C088E505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E8B1-3CAD-4422-AF8B-D4E19786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B291-56E0-41C4-B478-0A23960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3762-2C54-488C-8422-3AA8A304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20B9-5CB1-4C88-82D5-BD894FB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23A6-212E-4DF1-93BA-DD59D06D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6533-3AF0-44A7-AA83-71CE164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F043-D356-4660-983F-4A9F853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44EA-4426-4076-9ADA-999F67D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DD64-8062-44CB-BCC8-FD9E89F5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6467-1D02-49B8-A1A1-09E59849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E0D9-A9D6-4C99-8AAE-F516584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4B98-55C0-4FB6-A6F9-1CC278F6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50CB32-8817-4A57-A34E-98BE91C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8DAE-5C10-47FD-BE65-8D001B1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54D304-C7FD-4098-93A7-3EBA6505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B25FA-246A-47C0-B5B2-690D3364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B5735-8EC4-4C99-8705-19B3C1D3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6555B-3359-4BDB-B5F8-DF7F7DB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2F042-875A-42D8-AECF-3EE5A4C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B79E9-D7E2-4A5C-9B6C-B566899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6C0D52-B494-4A24-9014-0BD2FE41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98579D-952E-4073-AB49-9F4A6782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6773C-8F4E-4FEA-BEB7-EA8079F4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57BC14-9A52-4857-85F1-DCB45E7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34D0-2413-4960-BEE0-21B1E616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15F10-7F4E-4F2F-B807-1BB025E9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4A80-178A-4C2B-8E74-0FB73B1B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EE5F-6ED2-493E-86A7-04EE6C9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32724-DDBC-40BC-8C70-6C09547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97B2-1AFD-4735-810D-35840793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14E0-F875-415A-9BEF-CF0A8EF0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A9372-40C2-4F08-BE6E-69E4421E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B462A-7465-4549-A48A-65F7AA5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A058-4E34-46F7-8293-4C32923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DC13-659B-4EB4-8122-D03890B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78F1-4A2F-4FE2-9A9D-832065D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85FD-3CC4-4302-B0D1-2B7AD3FB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A6207-0CF2-43B8-B39E-4F259AA4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BE35-78BA-4AC9-8C3E-DD9C0A86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45F5-F186-432E-961C-41FB142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1FB0D-6600-4F16-BE86-4DBA739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A473F-0136-49B8-B328-8DF1717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7AE6-F4AF-4059-9589-558B1858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4458-091F-43BB-81DF-EC2C3CF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9838D-95DF-4D6A-A3A5-0CC94F6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24DC-CDC4-471A-9E9A-68FDA8B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AC20-CB79-4357-A833-0CEA6CB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F8E59-D584-4A59-9FA1-E3A0A0F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98106-85F0-4C42-B7AF-0632080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62A8-F171-4CCD-8A57-F3BC351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9C380-3421-4CA2-A70F-6D0B8A11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499C4-FF53-4158-9779-D636E376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1D68-CD9D-4FE5-AC43-BF168FBA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B00C-FAE9-4175-B2BE-03367A1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5BB83-2F30-420D-B7A4-0F774CD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89E62-906A-492C-BF03-C8631959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8D665-F4E3-4518-B019-5D7D5A3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8094-1900-4E4F-AB3D-AAFC3EA4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2025-3A5A-4E57-BB21-00670A1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F54E-0C1E-48F3-BA3C-10D5DAC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013F0-F18D-4B18-8D25-3133099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31290-4594-4079-B46C-FE47126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26E4-B848-42F9-8A5D-F645424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A791-29CD-450A-B822-9EBD2214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3F4CE-97A6-41B7-9D9E-F907F078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BED0-C5FB-420D-919D-81F99F62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DC419-7180-47CA-81B3-EC988B0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24633-E80A-4282-B4FE-018CEBF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5382-DA53-45C1-AE34-49FB3DA0A1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5338-44A2-473E-B257-3B24FAE93F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08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9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9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14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5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5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5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21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24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BA5E-C1D4-4A68-9278-26025317702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3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3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3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3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4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DA15-E89E-4EAD-A0D5-D9CC7B273DA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2E94-7D7C-4C76-976D-ADC3D0A4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A358-E944-4F83-A58D-B425D722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9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09B-44FA-4914-99A0-192CC261B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3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4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4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dt" idx="4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ftr" idx="4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EFA-8299-48CA-B51D-D552F27FC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80E6-E0DA-4162-AB01-6364AF4AC0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2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3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4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CEC-F8E7-4150-BB3C-353E22F07E5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1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2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3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3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DF0-CE48-4B98-94A3-D55253213C3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5A2-1B2D-4F0E-94BD-7BE587D3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4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ABC-AB5A-4970-87E3-6E211A50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0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8338-25A7-454B-9B7A-C7F762BC3C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C87-A3BD-4F43-A0B9-F532C619AB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168-1325-4729-87CC-729299CAA9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3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0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ee62a"/>
                </a:solidFill>
                <a:latin typeface="Stencil"/>
              </a:rPr>
              <a:t>Я ТАК ЛЮБЛЮ ШОКОЛАД!!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87640" y="2852640"/>
            <a:ext cx="1714680" cy="40053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179280" y="765000"/>
            <a:ext cx="3313080" cy="1440000"/>
          </a:xfrm>
          <a:prstGeom prst="cloudCallout">
            <a:avLst>
              <a:gd name="adj1" fmla="val 51342"/>
              <a:gd name="adj2" fmla="val 10115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72000" y="692280"/>
            <a:ext cx="3384720" cy="1511280"/>
          </a:xfrm>
          <a:prstGeom prst="cloudCallout">
            <a:avLst>
              <a:gd name="adj1" fmla="val -68574"/>
              <a:gd name="adj2" fmla="val 9422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4"/>
          <a:stretch/>
        </p:blipFill>
        <p:spPr>
          <a:xfrm>
            <a:off x="1042920" y="981000"/>
            <a:ext cx="1257480" cy="939960"/>
          </a:xfrm>
          <a:prstGeom prst="rect">
            <a:avLst/>
          </a:prstGeom>
          <a:ln w="0">
            <a:noFill/>
          </a:ln>
        </p:spPr>
      </p:pic>
      <p:pic>
        <p:nvPicPr>
          <p:cNvPr id="1692" name="" descr=""/>
          <p:cNvPicPr/>
          <p:nvPr/>
        </p:nvPicPr>
        <p:blipFill>
          <a:blip r:embed="rId5"/>
          <a:stretch/>
        </p:blipFill>
        <p:spPr>
          <a:xfrm>
            <a:off x="5435640" y="981000"/>
            <a:ext cx="1257120" cy="939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6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6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6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бята, у вас завтра контрольная?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3719520"/>
            <a:ext cx="769608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ъешьте кусочек шоколада, чтобы у вас хватило ума и сил на рабо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3708360" y="1828800"/>
            <a:ext cx="2448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7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Вся правда о шоколаде: </a:t>
            </a:r>
            <a:br>
              <a:rPr sz="4600"/>
            </a:b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 или </a:t>
            </a:r>
            <a:r>
              <a:rPr b="1" i="1" lang="en-US" sz="4600" spc="-1" strike="noStrike">
                <a:solidFill>
                  <a:srgbClr val="ffffcc"/>
                </a:solidFill>
                <a:latin typeface="Tahoma"/>
              </a:rPr>
              <a:t>против</a:t>
            </a:r>
            <a:r>
              <a:rPr b="0" lang="en-US" sz="4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744640" y="1600200"/>
            <a:ext cx="36547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Самые большие плантации какао в Африк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457200" y="1808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5808600" y="1600200"/>
            <a:ext cx="1716120" cy="215100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3"/>
          <a:stretch/>
        </p:blipFill>
        <p:spPr>
          <a:xfrm>
            <a:off x="5913360" y="3903840"/>
            <a:ext cx="15066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9,79,7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>
            <a:off x="1601640" y="1600200"/>
            <a:ext cx="5940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Monotype Corsiva"/>
              </a:rPr>
              <a:t>Шоколад – изысканный напиток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1403280" y="1701720"/>
            <a:ext cx="6718320" cy="424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Классификация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шокола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ристый шоколад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з добавлен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с начинк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белы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околад диабетиче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Шоколадные рекорды Гиннесс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ый большой шоколадный брусочек - 2280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высокая шоколадка – 8,5 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ое большое шоколадное сердце – 922 к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большая в России плитка шоколада – 500 кг, длина 2 м 73 см, ширина 1м 25 см, толщина 14 см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ая огромная конфетка (трюфель из горького шоколада) – 3 тонны, высотой более 2 м, в ней поместилось бы 700 тыс. конфет обычного разме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олезен или вреден шоколад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– виновник лишнего веса? – От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ридает энергию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полезен для сердца? –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ызывает головную боль? – Это воз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вреден для зубов? –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околад способствует перевозбуждению? - 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CR A Extended"/>
              </a:rPr>
              <a:t>энерги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250920" y="1773360"/>
            <a:ext cx="2449440" cy="3743280"/>
            <a:chOff x="250920" y="1773360"/>
            <a:chExt cx="2449440" cy="3743280"/>
          </a:xfrm>
        </p:grpSpPr>
        <p:pic>
          <p:nvPicPr>
            <p:cNvPr id="1711" name="" descr=""/>
            <p:cNvPicPr/>
            <p:nvPr/>
          </p:nvPicPr>
          <p:blipFill>
            <a:blip r:embed="rId1"/>
            <a:stretch/>
          </p:blipFill>
          <p:spPr>
            <a:xfrm>
              <a:off x="250920" y="1773360"/>
              <a:ext cx="244944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 txBox="1"/>
            <p:nvPr/>
          </p:nvSpPr>
          <p:spPr>
            <a:xfrm>
              <a:off x="250920" y="1773360"/>
              <a:ext cx="244944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100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3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844720" cy="319392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 txBox="1"/>
          <p:nvPr/>
        </p:nvSpPr>
        <p:spPr>
          <a:xfrm>
            <a:off x="3132000" y="2349360"/>
            <a:ext cx="25923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Ё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715" name=""/>
          <p:cNvSpPr/>
          <p:nvPr/>
        </p:nvSpPr>
        <p:spPr>
          <a:xfrm>
            <a:off x="6948360" y="422100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OCR A Extended"/>
              </a:rPr>
              <a:t>СИЛ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500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4:51:09Z</dcterms:created>
  <dc:creator>Таня</dc:creator>
  <dc:description/>
  <dc:language>en-US</dc:language>
  <cp:lastModifiedBy>Олег</cp:lastModifiedBy>
  <dcterms:modified xsi:type="dcterms:W3CDTF">2007-11-10T11:53:54Z</dcterms:modified>
  <cp:revision>7</cp:revision>
  <dc:subject/>
  <dc:title>Вся правда о шоколаде:  за или против.</dc:title>
</cp:coreProperties>
</file>