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A10B-81A6-4929-A204-5EF96D8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3D8E-2A61-4AC5-A02A-318B5EF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08D0D-219C-4BBE-A3B2-0F7D089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DA71-A40E-4899-AE48-15B6C578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5D751-ECF3-42F7-AA7D-C8FAD71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7EDD8-E535-4BFB-9615-EDB7994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E9C81-AC0B-4937-BE26-CC4AD84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AA4CB-D4B1-4175-87B5-29C27D4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AF41A-1FE5-4CD2-B830-0372146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EA051-4AF5-47C6-B728-1C8DE34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5A16-0173-4A24-9CC9-931A465F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9471-EA92-4D7F-898E-A66B5CF6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A5D0-2F83-4F9C-8B70-764DC23A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AC20C-C7A3-4919-A555-5BF479FD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661E9-F201-418E-8914-CDD2137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0A36-0672-4CDE-AD54-ACE6AFB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789F-D86D-4EAF-875A-87EB8730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91D65-EDBA-49AE-A103-38074EE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F135C-EDD8-4E4A-BD56-2E8CDC4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2D51-05FB-4E31-B0FC-F5749FA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433F2-F670-42D3-8323-0068B83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CBCB2-F0F2-4700-A3F4-79C95991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38A19-29FC-4760-8E01-D033EE86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A954-87D9-4A90-BC08-099C414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8D38-52B8-4E25-80AF-55919FD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530A-A772-48DC-B5AF-70AE6D0D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C71B9-91CD-477D-A96F-6BA42A5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B686-6BE1-49DB-A6BF-283D019E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3E0B4-2ECA-47DC-BBE9-7F06929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B39A-59EC-4A52-9786-E3D2E235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B408-B2BE-4511-83D5-483E80D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60162-A11B-4CB5-90A1-32FB394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E65B-F423-4021-B799-2755380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5BF04-9059-4483-8B88-C168BBF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C6F-7B25-41ED-BACD-8F11D972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A75D-139A-4B32-953C-C2AF305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3601-CD90-4990-AC56-4E153894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1F27-AEA1-4ECE-9E55-8EFB1966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CD7AD-2736-4B40-A718-85E76E26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8395E-2A6C-4B62-9283-443681EE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EED10-B9C1-4814-AC3E-579433A3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8E287-7487-4B9F-B81A-948DD3DE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E15D-1922-4B21-958C-060E8AA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F08AD-DF45-4476-AA67-E341B97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470F6-F9A8-4C6C-8747-4DE3E01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6EF4-B878-4808-9192-C45A4636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8D75A-8FCC-4A7D-B311-69C0FD9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843B6-7722-4EEE-B6CC-917AFD6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B4C71-01A8-4E9D-845B-E95C3877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5D72E-CE33-4F7A-AE42-1A7BFA5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CDCED-625E-4AA7-BC92-BCFBE1BA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DF010-8554-4183-AF3E-A68F2EFF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459FF-5242-4CF9-83F9-9E2A682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DD2D8-CC07-46A0-933D-A47039A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A87C5-5F16-420A-90D2-D83EC61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5B1E0-7FAA-4EF3-AB71-F93C939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793B-7308-4A9C-BE55-DF0F6F6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C3F26-C8AF-4AF3-A4F4-414942C4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7C27A-2B21-4388-A0AF-B1B95C2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4FBC1-1206-4D8A-8887-619C63A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53777-94E8-42E0-A77E-9EF5DA9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84F2A-C722-42F1-B48F-3EC60858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6B6F3-022A-4046-B746-A9A6C3DB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F6B43-EAEA-4982-804D-F75630D3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6E54C-ABCC-4321-ABD2-4CBB61C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D80CD-F7D5-4E9F-8284-7FA3E8B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DB8D9-2D32-4B60-A233-9834BC9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1F04-35DA-4AFE-8F3B-3C0568B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39C9E-9862-4DEC-9304-B8484C0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0D80-6CE5-4B49-A6B0-2876D836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50050-FD0C-44BC-91CA-7C28AB0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CA7A7-3EBE-4699-930A-0228CBE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3D394-917D-4481-A9E0-68764D2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4963C-96E4-47A6-9C5D-488384D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E660D-2145-4F37-8A04-586ABB7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67F05-1F03-41F9-8E46-E469664A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95D66-4611-4095-AE3C-172F0559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1F1D4-48F6-4559-8B18-5D56F65A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BD9-A077-4458-800C-3F9A77B9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5DAFE-96FD-4B7C-BDF6-DBE54D41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FC79C-B9ED-49B7-BB16-21A1DD7E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883BD-084A-48BC-84CA-7B60B73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827E0-7913-4398-8476-8482E957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5CFDD-A271-4B11-9C97-366152A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E3518-420F-4640-A4AE-28E6D58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F5A02-681E-482C-A80B-2DF81C8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6E77C-EBF6-4EF8-BEE3-0406B68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25141-2301-45BF-8F7E-22331908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48144-7D33-47A6-A598-00B0D8A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0ACD-18D5-48A2-9292-3DAF4E03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6DC75-2810-4A86-9B50-0CBEB072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71BF0-5357-499E-B7F8-D38DF9E8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2C627-CE6F-48FA-8CFF-59E8CB5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9E7A0-878F-4040-8D68-BD2CFA0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41971-6580-4165-B8EE-1B782B5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96ED2-5C57-4619-94E6-CC2F5DF9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D111B-43C4-46A8-997E-F693D1B9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28D1B-6005-4695-9854-F46D7C2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504A1-E9D0-47CD-9B66-126F37A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173DC-9EEA-4B9E-B9A9-E7C2CBDA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388-08BA-4E5F-A908-C8D0411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BB623-FB8A-4212-9E23-F26EFD45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EAD7C-0CDF-47E2-8319-6179ED7E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CCF02-1735-403C-91C8-D9358A63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E6A5-F280-452A-962B-907DB79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AE6-EF9E-4FFB-A134-8B4CA2F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130-506C-45DF-9AE9-B878234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8B4F-A342-45B6-81E1-F853882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C98-3D75-4F0E-8E03-3321AE61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AB9-C74B-49C8-8423-9669CB07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B661-A47C-44D7-BFA9-18FD9A82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D2C4-A22E-41E0-81CF-33F3583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1C6D-30BB-4E1F-9AE7-5527B041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10C6-037D-4EE5-843D-BE090429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4FE9-B120-4DB5-AB1D-DDD628A0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BDB9-781C-4F82-9671-80346D1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A894-FB5F-4931-AFA7-5BEC4646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005D-D9FF-4C6D-9EB7-823416D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C8B2-AB5B-4385-B2B3-93D9435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2344-8F94-4F82-A8D7-55AE49C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3074-893A-4069-8001-3489203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E904-37A0-4F3A-B5AA-5A281BF3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3F83-DC67-4EBE-8890-25B5D5AA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A435-F3D0-4147-A0E3-5824D09F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E348-89C0-46BC-954F-292EAD4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442B-080E-41A8-83DC-4F682B20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0697-11B8-4D0F-9311-4DE691C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0DA1-937C-476C-8395-EA45867D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FCA0-8CE8-43B6-9DAA-3556C6F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0ACF-C10D-4570-BBF0-AA827AD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8332-436F-458F-A8C8-B8B959D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7ACC-561D-44FC-959D-237AD56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283C-CB8A-4F6F-8743-CC4B1A7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4501-D5DF-409A-9A77-E647264F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3FF3-E5FB-4B3B-99C3-5FA6E356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07BE-DC65-4E13-869C-15EA48D5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BC7DBA-1531-4E8C-A0B4-E6B63FC6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C039-2D4C-43D8-9754-840DF637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CC35B-8CFC-4937-AFAC-37F9DC7D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BFBC0-6DD9-4E2A-A43C-A6558C4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7C57F-270D-4B81-90DA-0F58654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EDEE0-7CEA-4B41-BEE4-C76460C3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3D4E4-A83F-452E-A5FD-F22DD08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2B414-8A41-4F0F-813D-3CA64DE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A5197-1E1B-4111-972D-20E03CE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9DBC6-6C36-47AE-9CC7-CA25984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07C8E-41EA-4C85-9161-9574AE3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82F3E-13D0-4AA1-97A3-9DC70CAA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61AC-9446-4A3F-B322-8D501FB2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E0B30-37AC-4046-9AAD-19025F6E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57A41-DB8E-4CAF-9D2E-BCCFD073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1354-3810-46F3-9965-A68E2804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FAAC-7925-4282-93C3-B033B4A2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5CC1-020B-4FAF-8CE2-1DF2B75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B30B-28F9-42DD-9DA7-A9019EC1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5AA6F-5791-492E-B63C-6738F1EE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54CA-7737-484F-B565-FE504AD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6E1B-C5BF-46ED-93C6-9B3F761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4D7D-9D7C-4F5C-8235-7C091FB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1A6F-8324-47B2-8644-9757982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F8DA-4D91-4047-85A9-A590171A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2BF7-E122-4373-BF77-992C5EFA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D078-94F5-4B83-A58A-6F55D3F5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BFC2-9935-4C4C-B666-93717961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FEFB-6395-4664-B76F-52992528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9E616-7C8A-47C6-A975-C6681A32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CC7B-63B7-4683-A47E-43A7A2EF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58182-9C66-4735-A415-79A65C50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89F6-575D-40E5-A44D-E86F4022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C8B8-0B24-4D23-A083-11F1356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8522-5BA1-487E-A79B-E7074F6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5773-63B7-46DF-AF20-216E3F7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F519-2AFC-430C-959E-3EC5E85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637B-9A5D-476F-BD64-E87CD56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F05E-4DE1-4944-B91C-8F1D271B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AF3F-BBF4-4673-ABC4-419A741A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6146-2B44-4F61-A0E9-F5A64A8F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BE60-1CB7-404E-B0D6-7BDD1CB7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8408-6856-4653-9050-AD624EDE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ECD2-D579-429F-9508-F87998B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24D05-D854-4351-848B-493613F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3B27-A5F9-4572-B278-8224BBB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4990-6BC3-4299-8253-5576C79E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0B12-1486-4247-8421-2A087E3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A5DA-4DAA-435B-8E88-B5C0943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5FF5-7619-4CD7-B7BF-B4E9749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E0571-3A82-4DA9-BCAD-C72CC667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C111-2C2E-4E0E-BD29-106B62C8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C22B-DA3B-4611-9C8C-2A65980A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7E3D-6374-42E7-8243-19559DF5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8F7DE-90D5-4B3F-BCA6-0946975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FA90E-0D36-44B2-B41A-78CC1F9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65F5-E556-4CBE-A331-997BD2C846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D5F1-796C-4F48-8A66-D33F3944EC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8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9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9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1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3C33-874C-4053-AF28-2B643BDAFB0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3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3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3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3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4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CB8-4527-4E3B-9532-4F08A6EA478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FF0-9756-4521-BC9B-EBB8A0404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F0F-1E97-41E3-9951-AC3183966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1AB-9623-4DD5-A1D2-65C7950A7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867-626E-4764-97B1-FF92BB4325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96FA-6934-4929-B552-3159D34034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2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3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4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0A9-A764-4DB9-870B-FC1C9AB48F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1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2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3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3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BE6-75C2-4C2C-AD3A-9E485E1F2F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34D7-867F-46ED-8505-E9FCB1B8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4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E3E-01A0-4D3D-8B02-7C1E0BC7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21A-40CC-4575-B27B-D47489984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EEBC-D867-4771-A54A-B1B2D807B5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E55-BD09-481D-9EA6-9702498013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3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0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ee62a"/>
                </a:solidFill>
                <a:latin typeface="Stencil"/>
              </a:rPr>
              <a:t>Я ТАК ЛЮБЛЮ ШОКОЛАД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2852640"/>
            <a:ext cx="1714680" cy="40053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179280" y="765000"/>
            <a:ext cx="3313080" cy="1440000"/>
          </a:xfrm>
          <a:prstGeom prst="cloudCallout">
            <a:avLst>
              <a:gd name="adj1" fmla="val 51342"/>
              <a:gd name="adj2" fmla="val 10115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0" y="692280"/>
            <a:ext cx="3384720" cy="1511280"/>
          </a:xfrm>
          <a:prstGeom prst="cloudCallout">
            <a:avLst>
              <a:gd name="adj1" fmla="val -68574"/>
              <a:gd name="adj2" fmla="val 9422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4"/>
          <a:stretch/>
        </p:blipFill>
        <p:spPr>
          <a:xfrm>
            <a:off x="1042920" y="981000"/>
            <a:ext cx="1257480" cy="939960"/>
          </a:xfrm>
          <a:prstGeom prst="rect">
            <a:avLst/>
          </a:prstGeom>
          <a:ln w="0">
            <a:noFill/>
          </a:ln>
        </p:spPr>
      </p:pic>
      <p:pic>
        <p:nvPicPr>
          <p:cNvPr id="1692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1257120" cy="939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6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бята, у вас завтра контрольная?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371952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ъешьте кусочек шоколада, чтобы у вас хватило ума и сил на рабо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3708360" y="182880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7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Вся правда о шоколаде: </a:t>
            </a:r>
            <a:br>
              <a:rPr sz="4600"/>
            </a:b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 или </a:t>
            </a: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против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744640" y="1600200"/>
            <a:ext cx="36547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Самые большие плантации какао в Африк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457200" y="1808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5808600" y="1600200"/>
            <a:ext cx="1716120" cy="215100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3"/>
          <a:stretch/>
        </p:blipFill>
        <p:spPr>
          <a:xfrm>
            <a:off x="5913360" y="3903840"/>
            <a:ext cx="15066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Monotype Corsiva"/>
              </a:rPr>
              <a:t>Шоколад – изысканный напиток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1403280" y="1701720"/>
            <a:ext cx="67183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лассификация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шокола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ристый шокола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з добавлен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с начинк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л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диабетиче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Шоколадные рекорды Гиннесс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ый большой шоколадный брусочек - 2280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высокая шоколадка – 8,5 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ое большое шоколадное сердце – 922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большая в России плитка шоколада – 500 кг, длина 2 м 73 см, ширина 1м 25 см, толщина 14 см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огромная конфетка (трюфель из горького шоколада) – 3 тонны, высотой более 2 м, в ней поместилось бы 700 тыс. конфет обычного разме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лезен или вреден шоколад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– виновник лишнего веса? – От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ридает энергию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олезен для сердца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ызывает головную боль? – Это воз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реден для зубов?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способствует перевозбуждению? -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CR A Extended"/>
              </a:rPr>
              <a:t>энерги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250920" y="1773360"/>
            <a:ext cx="2449440" cy="3743280"/>
            <a:chOff x="250920" y="1773360"/>
            <a:chExt cx="2449440" cy="3743280"/>
          </a:xfrm>
        </p:grpSpPr>
        <p:pic>
          <p:nvPicPr>
            <p:cNvPr id="1711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44944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 txBox="1"/>
            <p:nvPr/>
          </p:nvSpPr>
          <p:spPr>
            <a:xfrm>
              <a:off x="250920" y="1773360"/>
              <a:ext cx="244944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100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3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844720" cy="319392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 txBox="1"/>
          <p:nvPr/>
        </p:nvSpPr>
        <p:spPr>
          <a:xfrm>
            <a:off x="3132000" y="2349360"/>
            <a:ext cx="25923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15" name=""/>
          <p:cNvSpPr/>
          <p:nvPr/>
        </p:nvSpPr>
        <p:spPr>
          <a:xfrm>
            <a:off x="6948360" y="422100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OCR A Extended"/>
              </a:rPr>
              <a:t>СИЛ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4:51:09Z</dcterms:created>
  <dc:creator>Таня</dc:creator>
  <dc:description/>
  <dc:language>en-US</dc:language>
  <cp:lastModifiedBy>Олег</cp:lastModifiedBy>
  <dcterms:modified xsi:type="dcterms:W3CDTF">2007-11-10T11:53:54Z</dcterms:modified>
  <cp:revision>7</cp:revision>
  <dc:subject/>
  <dc:title>Вся правда о шоколаде:  за или против.</dc:title>
</cp:coreProperties>
</file>