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FD0B-4060-43C6-ABB2-F9796BE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5E50-17A0-4665-872D-B79B911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60CA1-DEFD-4C83-A4CC-50B18DD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DDBCF-C1CB-41D3-9B49-23D6D20B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1F297-F673-4C53-B469-B301F0FE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41C9-DC9C-44D9-B930-714C1F8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09C78-9C5E-4047-8567-8298353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49C75-B19B-49C5-A6CD-FFF3278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7587A-E2FD-492B-8AD5-09BB005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FD549-FDC3-4226-A123-260DFEC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7743-6528-4608-B3D9-0622A7F4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D3097-8A4C-40C1-B49F-BBE04E20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894B-10E4-4D3D-A3C7-C4B8CBA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0F633-542A-473E-91D2-0F86D6B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2CA41-E704-4FB8-A75D-BCFC782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E6F9F-6395-4EE5-AC62-BB01AE6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9A191-A8DE-4C1F-97B7-91071C1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E061F-073B-4D9C-A1B9-2DA008C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3EB64-87CC-4FB4-9839-02EB751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14BA3-9F57-4D79-B37B-6A4C0EF0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7ACF4-A45F-460A-AE5C-6150753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E17E8-73D4-4848-B7C0-5C30254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4F06E-FA5B-402C-974A-3A5F299F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565C-A483-4BA1-B672-9A93723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AD78B-FF1F-4962-BB18-5614D5DB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F9FBA-0E46-4477-975C-F13D6605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1FB2F-AB5D-49E6-903D-98D88CA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D2AF-EBB7-426D-87B5-74A649D8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55066-1B77-4795-93DB-2060A80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2E773-2CED-458B-83C3-4E7D613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2D986-3EFD-40A1-BEAD-0D3C898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13DDB-C583-4B99-BAB0-6BF6034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8C53-32BE-4DC7-B998-17CED32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5550A-D8C8-48A6-B3D2-E5D98D3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20E-3F11-4474-A18C-693C7513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794CC-43E1-47FC-B726-6989C0F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C27E9-4FBF-4613-84B8-170F80A2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6FCB-E79E-4B55-87E8-F4E0A97C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6D8A8-3D9B-4EB4-AE69-D5A25505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95095-8C43-41F4-BB2A-7C2CD33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88EB3-5B8D-4B32-8311-7B11804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7B776-5B0E-4181-94F3-7AC4397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62DF-A4A5-4CD1-9A2B-534C1F2D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0AC10-95A6-4D76-A9DE-279597AE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168DD-5D0B-40F7-A9EA-62D3AED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153-DE35-452E-8E17-2294D95E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AB379-81E9-4F78-9038-3A4983D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4BA9-24E4-4B14-81AA-F81BAE7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C522D-ECAD-4F94-A610-F05B939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A823-4181-4D88-9E13-BEB5660A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FD267-93E5-4BE2-A8BD-D71F2B4E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227FC-448B-4BBB-A58A-E3E14727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62856-3521-4E85-BAE1-95CD119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B3B81-7BC9-4057-91C6-428A902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CF846-2F2B-41D1-BDD4-DE56475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D09C7-1E28-43E1-BF77-0F3F2503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D64-C254-4419-B048-F626A0B8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78109-D88A-4B82-A36B-DA03D69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EAE1-491B-4475-8223-092F9581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54467-1205-4467-AA9D-CD21E2C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22D39-ABB5-49C6-A38E-191A271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2BE6E-65AA-4CB7-8170-5819CD4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0EC0-F492-48F7-B457-5DAA6392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A7D0D-FDBD-4624-A5F1-2D6C9DF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8EC25-7206-4708-B9F7-0BB82B2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28ECC-0ED3-499C-AC1E-C5D7F90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87C89-FA47-45BF-AB6B-474BE04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B8FF-174B-4D76-9E8C-C5FF75E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A268B-3F2B-44D1-A9AA-37BB18BC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69DF7-16D5-4B41-BFEC-01843C2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FBDAD-2063-4F68-AEE3-9E5ADF2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1E1D8-3366-4EF5-AB67-53B683A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8C8E0-769B-408D-B3E1-EE164C1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FF419-62FA-4611-9588-9E5D101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D9928-6CB1-49DF-8918-64717A8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E1699-94BB-48A9-8D81-D0BF3010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7FC39-F03E-4027-9617-5EE6DEF0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1E821-25DB-49F9-9445-1977136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4F7A-EDF6-45C1-B1B4-BBC4711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357C1-B26F-4675-8745-04B0957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E1B17-DE63-4D07-A316-1AE8AD8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04627-E3A2-434F-9F19-12340B89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FFAE6-4D17-4F8C-B300-D3FCC91E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71430-4DC6-464B-A515-444EA55F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9FC2B-8330-44BC-A3FF-BE2B9AA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D081B-5E69-4EFE-B941-388BF3C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4412F-A9B3-4D26-A671-D1449850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3573C-EBB0-417F-B893-DF70AD8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233CD-F431-4D7D-84EB-A4AECF73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488-8D62-40B3-923E-8C2DD316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32302-0150-4841-8A6D-0E80C9B3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9C5A8-A39C-4075-A3BC-F7ACF514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0988C-FF0D-48FD-97BD-FA271A8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50E0D-7A57-48D8-BD06-6DF6DC1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3CCD2-EC58-416A-B77F-953B5AA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054DB-43A2-4C37-9CE6-9D28AEE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8E8FE-4E81-4E99-B904-EBA7D76E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E93F7-8270-4911-BAD2-42D3989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8506F-2916-451D-A730-E9D4A3C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F2A8D-E789-470B-85AD-A1855DF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2CF-1DC6-4993-85EE-A8DBCBB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FBFC3-3076-477A-BA53-A28FD11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F3935-22BD-46C2-8F28-85AF2848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07853-C27A-4E06-A824-8803F769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5C1A-23F2-47DF-AA9D-0534171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A38-FC92-429D-8FFF-11B5027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F03C-77A0-4026-8CFC-473FDE7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CBF-4C33-470F-85FC-5658514E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A616-AB82-472D-8B52-05ADF1CA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2649-3A7F-4F3E-BF49-96A53E0F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F629-B451-48AF-A227-E4277A97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A5A1-B355-4B82-8A53-CC851A8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00A5-F604-4ED5-A861-9889107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96C4-3939-4C2A-B5DB-7D38CA2B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A888-485C-4C8F-B813-FB87D40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5618-64A4-403D-BEC9-6825C586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1AB8-F91B-4EC2-A318-163181E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BF16-ECD5-4416-B72D-D036122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A2AC-77F8-49F5-85EE-941429A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BB53-FE8D-4A8F-8B0F-E04302A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2C1A-939D-4042-BBC1-1A048C01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571D-40B8-4C20-9D5B-11E40BEB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9EFD-F2C1-424B-BDA5-13D6D4E1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A690-A19F-4A50-9200-0807A7E2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5D21-1D40-41F5-BE5B-566D9896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C60A-83F0-444C-BDD6-47970E2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14B0-255B-4761-AF4B-31E05109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97E8-4CB2-468C-A7DE-CF1DBC68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D9CA-EB8A-4AFE-BB63-DB8176C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5684-7A3C-4BD5-8ABB-E22189D8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31E8-15AD-401F-B6BB-F578760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2978-1B64-42A6-AD02-64508222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E9E6-BA2C-4681-BE2A-5E1251E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0A85-DA30-401F-8375-F81C88B1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768B-E340-428D-A348-972A9FC9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D22A-5F8B-46F1-BF38-E1769796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F1BCA-262E-4D7A-8027-F8FC06F8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C102-ACB0-461A-B7C3-A5DF31C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D4964-894D-4546-84F9-020AEAD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A184A-FF86-4827-8B49-4338ABFF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1F934F-1B97-4D30-9366-05B52148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838B9-4708-42F6-BA0D-3C0121C1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65C72-95C9-4301-B596-D444D263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07232-E137-43AA-903C-33CD5E7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9A6B4-F021-4EBA-A331-9B19C5E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B5D0A-10AC-43F1-A12C-170AFB5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3D4FD-44A2-4E78-8595-ECB23336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8D71E-B2D5-4E7B-AFA3-E6C80661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5E5B-9147-4CEB-B473-3A0343CA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435C9-3218-4ABB-9AA7-9A212F1F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88FB-E18C-4BC7-8042-C0D31718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E6CF-F406-43C7-BD74-15A01E05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C69D-D9DA-412D-B69F-5E84EE6C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C081-EF82-4DE9-B524-4068F96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990D-7858-4E9F-98DB-09F12E7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12FBC-4EBC-4163-B4A4-6A101B7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674B-A32C-4456-88BF-98BF54E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0E2A-9402-42AE-B943-C5E22D0F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AF8A-6366-418E-A06C-6C71177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0C58-CEB8-4F3C-A0A0-6CFB694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D53F8-C75E-433A-BFEE-68BE741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1AD9-14C3-4116-AAEB-1B67EC99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A521-AAD6-418B-87BC-A817E4D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72BC3-53E5-477D-98D3-22ABBE44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87EE-EF00-4A58-A14A-7F4A877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EF65-A792-4C6E-98A6-6BFDAD9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F461-13D7-4E3A-9468-1B04623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2BFC-61D2-4A15-B0B9-5236C6EF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DCCD-4535-427F-A93B-EF94B09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A746-2A75-465D-A13C-811C2A27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21BB-497C-4CEF-8A73-3138E4D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7D9F-FEFF-4004-B8D9-C9018DC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862D-2B4D-406B-B509-93121CA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2218-C1B7-47D2-AB4C-D6BB064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D87ED-C331-41F9-B532-B2FFE2A5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FF7F-21AE-4A48-8304-BE9C0B75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40D0-994E-435D-BF68-6EBE7E76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FAA0-F623-4383-97E2-2ABE048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4681-E24E-4796-8B81-7168AF1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69E4-DA3E-4C47-8728-304416E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70DB-91E5-4478-A3F8-775423D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F869-2A32-4996-9FE2-C4466C95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7A85-C928-414D-B784-40A7174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EC6B-F43F-41FD-9973-6D92E55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6A93-72B4-4691-9634-BE67A2A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289F-E432-4AB5-ABED-5BD88BE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2030-07DD-454A-9A2D-9D0393EC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A82E-01E2-47C0-B6CF-2B1B920E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D5A8B-46BE-4486-A69A-20B5BC52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5E5DA-AEA7-43A4-902F-D7646271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306CB-AFB3-4256-AAAF-A0DB129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B86B5-E0D6-4B15-A761-66D5B394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D111-B940-47E2-9D06-BD8B61D5DB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BC7-D058-47FB-BF8F-1AF833147D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8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9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9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1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DAB0-C00F-4B9C-A84F-514ED3572CA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3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3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3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3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4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539-4AFC-41D9-AC0E-075D03C449A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18A-C967-4723-A7CA-A1875D2F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051E-7129-494D-9F23-E332D691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581-4542-47BA-8E5A-CA1224C96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A1D-CA76-4BAE-896F-0028D685A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D50-CB17-48CC-AD1E-EE614F8753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2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3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4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6AA-BD1B-4FD0-A7C6-E2FC4A001B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1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2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3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3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F1B-4176-4082-B7FC-B948C5AF66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31F8-C29E-4D82-8A3E-064529D2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4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4F7-4D8C-4FC0-9F7F-9E75D35A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DEE-C064-4625-87D2-4094E4507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C7C-DCD5-42BE-BA06-B15C39E61F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E51-248C-4867-AA6E-3D08370E03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3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0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ee62a"/>
                </a:solidFill>
                <a:latin typeface="Stencil"/>
              </a:rPr>
              <a:t>Я ТАК ЛЮБЛЮ ШОКОЛАД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2852640"/>
            <a:ext cx="1714680" cy="40053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179280" y="765000"/>
            <a:ext cx="3313080" cy="1440000"/>
          </a:xfrm>
          <a:prstGeom prst="cloudCallout">
            <a:avLst>
              <a:gd name="adj1" fmla="val 51342"/>
              <a:gd name="adj2" fmla="val 10115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0" y="692280"/>
            <a:ext cx="3384720" cy="1511280"/>
          </a:xfrm>
          <a:prstGeom prst="cloudCallout">
            <a:avLst>
              <a:gd name="adj1" fmla="val -68574"/>
              <a:gd name="adj2" fmla="val 9422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4"/>
          <a:stretch/>
        </p:blipFill>
        <p:spPr>
          <a:xfrm>
            <a:off x="1042920" y="981000"/>
            <a:ext cx="1257480" cy="939960"/>
          </a:xfrm>
          <a:prstGeom prst="rect">
            <a:avLst/>
          </a:prstGeom>
          <a:ln w="0">
            <a:noFill/>
          </a:ln>
        </p:spPr>
      </p:pic>
      <p:pic>
        <p:nvPicPr>
          <p:cNvPr id="1692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1257120" cy="939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6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бята, у вас завтра контрольная?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371952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ъешьте кусочек шоколада, чтобы у вас хватило ума и сил на рабо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3708360" y="182880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7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Вся правда о шоколаде: </a:t>
            </a:r>
            <a:br>
              <a:rPr sz="4600"/>
            </a:b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 или </a:t>
            </a: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против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744640" y="1600200"/>
            <a:ext cx="36547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Самые большие плантации какао в Африк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457200" y="1808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5808600" y="1600200"/>
            <a:ext cx="1716120" cy="215100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3"/>
          <a:stretch/>
        </p:blipFill>
        <p:spPr>
          <a:xfrm>
            <a:off x="5913360" y="3903840"/>
            <a:ext cx="15066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Monotype Corsiva"/>
              </a:rPr>
              <a:t>Шоколад – изысканный напиток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1403280" y="1701720"/>
            <a:ext cx="67183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лассификация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шокола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ристый шокола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з добавлен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с начинк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л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диабетиче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Шоколадные рекорды Гиннесс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ый большой шоколадный брусочек - 2280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высокая шоколадка – 8,5 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ое большое шоколадное сердце – 922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большая в России плитка шоколада – 500 кг, длина 2 м 73 см, ширина 1м 25 см, толщина 14 см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огромная конфетка (трюфель из горького шоколада) – 3 тонны, высотой более 2 м, в ней поместилось бы 700 тыс. конфет обычного разме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лезен или вреден шоколад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– виновник лишнего веса? – От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ридает энергию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олезен для сердца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ызывает головную боль? – Это воз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реден для зубов?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способствует перевозбуждению? -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CR A Extended"/>
              </a:rPr>
              <a:t>энерги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250920" y="1773360"/>
            <a:ext cx="2449440" cy="3743280"/>
            <a:chOff x="250920" y="1773360"/>
            <a:chExt cx="2449440" cy="3743280"/>
          </a:xfrm>
        </p:grpSpPr>
        <p:pic>
          <p:nvPicPr>
            <p:cNvPr id="1711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44944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 txBox="1"/>
            <p:nvPr/>
          </p:nvSpPr>
          <p:spPr>
            <a:xfrm>
              <a:off x="250920" y="1773360"/>
              <a:ext cx="244944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100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3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844720" cy="319392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 txBox="1"/>
          <p:nvPr/>
        </p:nvSpPr>
        <p:spPr>
          <a:xfrm>
            <a:off x="3132000" y="2349360"/>
            <a:ext cx="25923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15" name=""/>
          <p:cNvSpPr/>
          <p:nvPr/>
        </p:nvSpPr>
        <p:spPr>
          <a:xfrm>
            <a:off x="6948360" y="422100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OCR A Extended"/>
              </a:rPr>
              <a:t>СИЛ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4:51:09Z</dcterms:created>
  <dc:creator>Таня</dc:creator>
  <dc:description/>
  <dc:language>en-US</dc:language>
  <cp:lastModifiedBy>Олег</cp:lastModifiedBy>
  <dcterms:modified xsi:type="dcterms:W3CDTF">2007-11-10T11:53:54Z</dcterms:modified>
  <cp:revision>7</cp:revision>
  <dc:subject/>
  <dc:title>Вся правда о шоколаде:  за или против.</dc:title>
</cp:coreProperties>
</file>