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B49-8C04-4A04-87D0-88B2137C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5FA-0EA3-42C6-B8C3-CC65EDA8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9BC-EC1F-4EF5-A01C-BCCBF810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98A-E76F-4F8A-9535-6F3A8983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AC3E-1EA9-4BAD-AC79-F2065018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E62E-0892-4153-BBD7-0FCACD6B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BBD5-6271-4225-BD79-B0B004AB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D1C1-0D26-44A3-A1BE-E419E9AB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548A-0AF8-494B-80D8-EABE1ECE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6358-C058-4A6D-BAF9-D705B77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177F-E453-4012-AB87-E379B70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8AB-AE30-42AE-A501-0089FFE5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F4A-1B40-48FC-BCF7-941E9AF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59DF-8F32-4BEB-973C-87EE6BF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A445-EFB6-4340-8F7F-ECC10481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8145-C2BA-47E8-BF7F-917ACECB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14A5-980C-49AD-9899-40DEEB1A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C304-5704-4B20-AB01-46D8D550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EEC0-4010-4568-946D-51B7D9CF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F3FE-A6BE-4BBD-B8E5-E4D95682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2298-F3A6-429E-96BF-E3BE2A2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E2EE-6B71-4EA2-A9FF-97892AC1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10D-187E-4EE1-8EF0-656586B9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6739-4054-4586-BFC6-1649AD74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F3B2-D942-4692-BBCD-EDDAFA01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5004-375F-4182-8CF8-4FDEB51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F0F0-EB47-45E2-B0A3-5B8DF70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D36F-6CBC-4754-88F5-E88C4F4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DDA3-6739-4BEB-9FC4-E7B2366E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9275-6040-4F9F-9A9B-72E08162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09E9-6366-4AFE-B124-2578DA71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2E3C-D65D-4D5B-B3F4-B4AD95D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0098-B32F-4FE0-8831-CFC79B77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A7C-F990-4FB9-A37C-F4300E5F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0F09E-622F-49B1-84CE-E1D74431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A854-BCA8-4453-AEB1-2771BE98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F431-C87F-4E22-BD2D-65AA56D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4915-E94F-4F15-8780-CE3F74E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46B1-9FDF-41C9-91F9-6001C628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3490-5308-4B76-A326-C1DE827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EA948-BD0F-4833-A98D-2665FB86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36DE-E5C0-4A98-A59D-5AAA7DBB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5A64-489E-46C5-B337-4E5E4649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850-FFCF-4AE6-9BB8-E151DA2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2C5-C41A-4791-85BE-E041A57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E2E-B009-4AB1-83CB-3A7DF919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29B-CFF7-4D62-87BA-47507F7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232-ADB9-4074-B49B-474AA24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A828-9B69-47F6-836F-E68044F2B3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6A2-AB9B-4DDC-9B8A-A7A232AE436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091-4A10-4E10-90BE-52BC471206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F317-508A-43D2-9193-F9F11753A93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98048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9720" y="4857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втор Бондарева Е.Ф.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У «Екатерининская средня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ретьяковского района Алтайского кра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D:\asu\мама\Биология\FOTO\LUDI\124.JPG"/>
          <p:cNvPicPr/>
          <p:nvPr/>
        </p:nvPicPr>
        <p:blipFill>
          <a:blip r:embed="rId2"/>
          <a:stretch/>
        </p:blipFill>
        <p:spPr>
          <a:xfrm>
            <a:off x="1214280" y="3929040"/>
            <a:ext cx="14194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ледств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вное напряж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вное расстрой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вро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пре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7" descr="D:\asu\мама\Биология\FOTO\MIMIKA\109.JPG"/>
          <p:cNvPicPr/>
          <p:nvPr/>
        </p:nvPicPr>
        <p:blipFill>
          <a:blip r:embed="rId1"/>
          <a:stretch/>
        </p:blipFill>
        <p:spPr>
          <a:xfrm>
            <a:off x="5286240" y="1714680"/>
            <a:ext cx="31114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го ждет от вас ребенок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юбов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и во в мне нуждаю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им дор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просто хорош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 «Как хорошо, что ты у нас есть», «Я люблю, когда ты дома»,»Я рада тебя видеть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ятий, прикосновений и поцелуе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рджиния Сатир советует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имать ребенка несколько раз в д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объятия необходимы для простого выжи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менее 8 объятий для хорошего самочувств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счастья намного больш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ажнейшая среда формирования лич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главнейший институт воспит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ает семья ребенку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изненный опы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вые наблюд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ение вести себя в разных ситуация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дители для ребе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чник эмоционального тепла и поддерж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асть, высшая инстанция, распорядитель бла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, пример для подраж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руг и советч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5" descr="D:\asu\мама\Биология\FOTO\PRAVA\122.JPG"/>
          <p:cNvPicPr/>
          <p:nvPr/>
        </p:nvPicPr>
        <p:blipFill>
          <a:blip r:embed="rId1"/>
          <a:stretch/>
        </p:blipFill>
        <p:spPr>
          <a:xfrm>
            <a:off x="4857840" y="3643200"/>
            <a:ext cx="3857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и семейного воспит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пустительский (либеральный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итар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мократ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пустительский (либеральный ) стил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ие всяческих отношений: отстраненность и отчужденность членов семейного союза друг от друга, их полное безразличие к делам и чувствам друго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росткам позволяется делать все, что им вздумается, их делами никто не интересу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едение подростков не контролиру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вторитарный сти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04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апелляционное о бесцеремонное отношение членов семьи друг к дру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есток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гре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икта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ая требовательность и контро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лодное, отвергающее отношение к ребен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 в таких семьях обычно замыкаются, их общение с родителями наруша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D:\asu\мама\Биология\FOTO\MIMIKA\135.JPG"/>
          <p:cNvPicPr/>
          <p:nvPr/>
        </p:nvPicPr>
        <p:blipFill>
          <a:blip r:embed="rId1"/>
          <a:stretch/>
        </p:blipFill>
        <p:spPr>
          <a:xfrm>
            <a:off x="7358040" y="2000160"/>
            <a:ext cx="1449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емократический сти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трудниче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аимопомощ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ая культура чувств и эмо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линное равноправие всех членов семь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ует поддержанию нормальных отношений с деть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ует у детей такие важнейшие качества личности, как инициатива, ответственность, самостоятельность и акти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8" descr="D:\asu\мама\Биология\FOTO\MIMIKA\131.JPG"/>
          <p:cNvPicPr/>
          <p:nvPr/>
        </p:nvPicPr>
        <p:blipFill>
          <a:blip r:embed="rId1"/>
          <a:stretch/>
        </p:blipFill>
        <p:spPr>
          <a:xfrm>
            <a:off x="7416720" y="1785960"/>
            <a:ext cx="1441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онфликт ( я не плохой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способление ( конфликт с самим собой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тест (конфликт с родителями)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6" descr="D:\asu\мама\Биология\FOTO\MIMIKA\104.JPG"/>
          <p:cNvPicPr/>
          <p:nvPr/>
        </p:nvPicPr>
        <p:blipFill>
          <a:blip r:embed="rId1"/>
          <a:stretch/>
        </p:blipFill>
        <p:spPr>
          <a:xfrm>
            <a:off x="5857920" y="5000760"/>
            <a:ext cx="240660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3:07:13Z</dcterms:created>
  <dc:creator>Елена</dc:creator>
  <dc:description/>
  <dc:language>en-US</dc:language>
  <cp:lastModifiedBy>Елена</cp:lastModifiedBy>
  <dcterms:modified xsi:type="dcterms:W3CDTF">2004-12-31T20:53:05Z</dcterms:modified>
  <cp:revision>18</cp:revision>
  <dc:subject/>
  <dc:title>Воспитание ребенка в семье</dc:title>
</cp:coreProperties>
</file>