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FE1-4761-46B4-8E86-BC8D3EC9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C6C-612A-49CD-9D4C-95124949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DF4-5DB0-4CCF-AD05-998FB0FE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564-1444-4378-93C5-4A5BAB05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E792-EF37-4EEF-BD04-40076CF5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F401-A4E9-4C46-A29E-06117195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1B97-F981-4E16-A2A8-698CA050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17F2-B6E6-4084-B1B5-659D87C3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F266-EFF9-47CF-9816-D665A444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654F-9955-4944-B644-968AC4DC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CF11-8859-4741-B401-FCAE4444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A84-9214-4494-BBFB-D6549127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81BD-458E-4E05-9C1C-65F6295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A149-DD65-4793-9B69-515E00C6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1282-B0D8-4605-A106-0B5C5F16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F3E2-80D9-4E13-95EC-82907164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3A19-C474-47B7-BC36-0E4EBC2F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160A-BC06-4326-8A6E-283FA422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1007-3A00-4360-8201-B3114B31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DB53E-FED3-436A-AFCA-16A2C4B1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CD16-08FA-46A1-893E-FA40BCF9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BE5A-E6F5-41A1-AFB9-5438929D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967-8B98-4F37-9550-F2C398A4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97AE-FB7D-4324-927B-041796BD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DC81-7A68-457C-9D88-C134FAAE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AEF4-C12E-4ED4-A8DB-74C8F3A9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5546-0407-4293-AB17-B62BB78D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BEF51-A127-4184-97F5-18973846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7638-029E-497C-A5BC-DA2DCC66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17F6-9039-4658-96A2-F6CAA206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2A174-9081-415D-8961-01E6A816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96E6B-E9DC-404B-94E5-354B697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FD9D9-D902-44DA-9A1F-5F834642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D68-41C1-4455-9F9A-4BCE8304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43A12-E8E1-4E68-9AC5-FAF96D53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9D5D7-43C1-4A49-BAB3-A9886DBF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020B-F79E-453A-A296-B873C0DD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6C0E2-45F6-4876-AA39-2F9FF706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55509-3648-4E14-A07F-F2EC0DB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EEF51-B8E9-435B-AD92-9578AF63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8E45D-9C61-4A6E-9E2B-0A56AB86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B2084-6A7B-4544-9C33-C766C4F4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51B8D-3386-4636-92C6-34B6C117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5B6-D455-45CA-993F-0AEF689C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2C3-B5EE-41FE-9C15-EE6079EB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99A-CAF0-406B-81CF-DDCE1B3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27C-9B62-49AA-9C07-6E64FD53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F5D-ED64-434C-9E5B-7A5E785F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DB4-DE21-4009-87F8-5BCE11E7929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2428-397E-46C0-8307-E4C369D4CBA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D660-C6B6-4C59-A3DE-6689E1945F1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0B29-DDA8-42AF-AC64-F041242A2F1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980480" cy="248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9720" y="4857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втор Бондарева Е.Ф.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ОУ «Екатерининская средня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ретьяковского района Алтайского кра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D:\asu\мама\Биология\FOTO\LUDI\124.JPG"/>
          <p:cNvPicPr/>
          <p:nvPr/>
        </p:nvPicPr>
        <p:blipFill>
          <a:blip r:embed="rId2"/>
          <a:stretch/>
        </p:blipFill>
        <p:spPr>
          <a:xfrm>
            <a:off x="1214280" y="3929040"/>
            <a:ext cx="14194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следстви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рвное напряж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рвное расстрой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вро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пресс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7" descr="D:\asu\мама\Биология\FOTO\MIMIKA\109.JPG"/>
          <p:cNvPicPr/>
          <p:nvPr/>
        </p:nvPicPr>
        <p:blipFill>
          <a:blip r:embed="rId1"/>
          <a:stretch/>
        </p:blipFill>
        <p:spPr>
          <a:xfrm>
            <a:off x="5286240" y="1714680"/>
            <a:ext cx="31114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го ждет от вас ребенок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юбов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ители во в мне нуждают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им дор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просто хорош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ва «Как хорошо, что ты у нас есть», «Я люблю, когда ты дома»,»Я рада тебя видеть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ъятий, прикосновений и поцелуе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рджиния Сатир советует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нимать ребенка несколько раз в д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 объятия необходимы для простого выжи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менее 8 объятий для хорошего самочувств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счастья намного больш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Семь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ажнейшая среда формирования лич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главнейший институт воспита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дает семья ребенку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изненный опы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вые наблюд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мение вести себя в разных ситуация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дители для ребе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точник эмоционального тепла и поддерж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ласть, высшая инстанция, распорядитель бла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, пример для подраж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руг и советчи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5" descr="D:\asu\мама\Биология\FOTO\PRAVA\122.JPG"/>
          <p:cNvPicPr/>
          <p:nvPr/>
        </p:nvPicPr>
        <p:blipFill>
          <a:blip r:embed="rId1"/>
          <a:stretch/>
        </p:blipFill>
        <p:spPr>
          <a:xfrm>
            <a:off x="4857840" y="3643200"/>
            <a:ext cx="38574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или семейного воспит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пустительский (либеральный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вторитарн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емократическ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пустительский (либеральный ) стил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утствие всяческих отношений: отстраненность и отчужденность членов семейного союза друг от друга, их полное безразличие к делам и чувствам другог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росткам позволяется делать все, что им вздумается, их делами никто не интересу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едение подростков не контролиру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вторитарный сти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004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запелляционное о бесцеремонное отношение членов семьи друг к друг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есток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гресс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икта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кая требовательность и контрол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лодное, отвергающее отношение к ребен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ти в таких семьях обычно замыкаются, их общение с родителями наруша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D:\asu\мама\Биология\FOTO\MIMIKA\135.JPG"/>
          <p:cNvPicPr/>
          <p:nvPr/>
        </p:nvPicPr>
        <p:blipFill>
          <a:blip r:embed="rId1"/>
          <a:stretch/>
        </p:blipFill>
        <p:spPr>
          <a:xfrm>
            <a:off x="7358040" y="2000160"/>
            <a:ext cx="1449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емократический сти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трудниче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аимопомощ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тая культура чувств и эмоц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линное равноправие всех членов семь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особствует поддержанию нормальных отношений с деть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ует у детей такие важнейшие качества личности, как инициатива, ответственность, самостоятельность и актив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8" descr="D:\asu\мама\Биология\FOTO\MIMIKA\131.JPG"/>
          <p:cNvPicPr/>
          <p:nvPr/>
        </p:nvPicPr>
        <p:blipFill>
          <a:blip r:embed="rId1"/>
          <a:stretch/>
        </p:blipFill>
        <p:spPr>
          <a:xfrm>
            <a:off x="7416720" y="1785960"/>
            <a:ext cx="1441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онфликт ( я не плохой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испособление ( конфликт с самим собой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отест (конфликт с родителями)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6" descr="D:\asu\мама\Биология\FOTO\MIMIKA\104.JPG"/>
          <p:cNvPicPr/>
          <p:nvPr/>
        </p:nvPicPr>
        <p:blipFill>
          <a:blip r:embed="rId1"/>
          <a:stretch/>
        </p:blipFill>
        <p:spPr>
          <a:xfrm>
            <a:off x="5857920" y="5000760"/>
            <a:ext cx="240660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13:07:13Z</dcterms:created>
  <dc:creator>Елена</dc:creator>
  <dc:description/>
  <dc:language>en-US</dc:language>
  <cp:lastModifiedBy>Елена</cp:lastModifiedBy>
  <dcterms:modified xsi:type="dcterms:W3CDTF">2004-12-31T20:53:05Z</dcterms:modified>
  <cp:revision>18</cp:revision>
  <dc:subject/>
  <dc:title>Воспитание ребенка в семье</dc:title>
</cp:coreProperties>
</file>