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6C1-517A-433C-844B-5E5699C0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04F-5DF3-44D3-AB5C-2DA67D02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09C-E803-47EE-9D40-79297A75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B29-DD6E-4B1C-A11B-6A28FE27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63EF-4F62-43D8-B1C0-D93A6453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822E-C028-49C6-817A-1D9D7C16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6089-CADE-447C-AA1D-7EFEC25A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446D-880B-4721-8AEB-CD21FFB0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1F91-BDA2-4A74-A809-71BE10EA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78DD-C7BF-4EAF-8144-BD99D776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1840-E5F1-4C71-8967-9FD450C4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C0D-8965-4874-86AA-D8AC7C02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4BF2-F68C-4D4E-AF58-8A6DF31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D0EE-2D12-4AD8-9590-4653DE26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011D-B7E4-40B4-A503-3D5C30AF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C4DE-A980-4CFA-B5E1-03AB595A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094D-AB9E-4A62-8664-49DFDA06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BDD8-F94A-4068-809E-8C92B044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EB60-DDBB-4448-BD3E-13DD0ADC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4DFE-D283-4D90-B798-F6966FC9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1065-EBA0-4FA2-AF1D-B68CC3E8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3647-352A-4518-AD36-430043FF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0E9-4F3F-4B4D-9C61-76F82210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5054C-FD92-44DA-BD43-7482352A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3E24B-29AB-4D68-AB07-78A489A8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4DE3-F443-41EB-BA7B-ED686797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904A-2322-44C2-8CB6-87EE10B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40B4-D2F2-4420-9E5C-7E6E2590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25AA-438D-4CAA-B2A9-A0DD4741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CD5B-698B-4D8F-803F-71BBC90D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EDCC-A3AF-40C8-945A-156B1C50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7FAE-957F-4473-AD0D-15E367B8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C6D75-82FA-41C1-B2AC-C9B43B40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0C0-2082-4F42-A82A-16FD6BB0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761C2-7F3B-47AA-A7D5-53685804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324A-8A04-4285-B1BD-7F954B56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CDF4D-BE0A-47A8-8B12-F1081151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B007-25DD-4C7E-8207-C063A30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9353-406D-4F13-8EC6-2837F96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08BD-CBE1-4C42-8EF1-44F3107E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2F8CD-FC0B-4E88-9173-6F3A00D0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AF913-5AF9-4F94-8471-8D5F8BA3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D31F6-5055-4036-AD3D-E0910ED6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FE4-58C8-4DF8-8031-E9C6D86B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DFD-C0E8-45BC-9EDA-C45181AC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8F5-D203-45D9-9F67-B0A90B01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F74-05AE-4646-8F04-7996C65F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E72-3924-4B38-9144-CFCC8AF0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D7F5-72A8-443B-8BC2-18D8C042683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25F5-3878-4AAF-9BC2-B3BCC4BD1F8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1CD4-9638-4206-B11E-FA6FEED655D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E33B-13D3-49BD-B296-B20780C9C55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980480" cy="248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9720" y="4857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втор Бондарева Е.Ф.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ОУ «Екатерининская средня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ретьяковского района Алтайского кра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D:\asu\мама\Биология\FOTO\LUDI\124.JPG"/>
          <p:cNvPicPr/>
          <p:nvPr/>
        </p:nvPicPr>
        <p:blipFill>
          <a:blip r:embed="rId2"/>
          <a:stretch/>
        </p:blipFill>
        <p:spPr>
          <a:xfrm>
            <a:off x="1214280" y="3929040"/>
            <a:ext cx="14194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следстви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рвное напряж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рвное расстрой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вро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пресс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7" descr="D:\asu\мама\Биология\FOTO\MIMIKA\109.JPG"/>
          <p:cNvPicPr/>
          <p:nvPr/>
        </p:nvPicPr>
        <p:blipFill>
          <a:blip r:embed="rId1"/>
          <a:stretch/>
        </p:blipFill>
        <p:spPr>
          <a:xfrm>
            <a:off x="5286240" y="1714680"/>
            <a:ext cx="31114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го ждет от вас ребенок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юбов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ители во в мне нуждают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им дор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просто хорош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ва «Как хорошо, что ты у нас есть», «Я люблю, когда ты дома»,»Я рада тебя видеть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ъятий, прикосновений и поцелуе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рджиния Сатир советует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нимать ребенка несколько раз в д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 объятия необходимы для простого выжи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менее 8 объятий для хорошего самочувств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счастья намного больш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Семь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ажнейшая среда формирования лич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главнейший институт воспитани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дает семья ребенку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изненный опы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вые наблюд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мение вести себя в разных ситуация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одители для ребе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точник эмоционального тепла и поддерж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ласть, высшая инстанция, распорядитель бла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, пример для подраж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руг и советчи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5" descr="D:\asu\мама\Биология\FOTO\PRAVA\122.JPG"/>
          <p:cNvPicPr/>
          <p:nvPr/>
        </p:nvPicPr>
        <p:blipFill>
          <a:blip r:embed="rId1"/>
          <a:stretch/>
        </p:blipFill>
        <p:spPr>
          <a:xfrm>
            <a:off x="4857840" y="3643200"/>
            <a:ext cx="38574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или семейного воспит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пустительский (либеральный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вторитарн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емократическ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пустительский (либеральный ) стил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утствие всяческих отношений: отстраненность и отчужденность членов семейного союза друг от друга, их полное безразличие к делам и чувствам другог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росткам позволяется делать все, что им вздумается, их делами никто не интересу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едение подростков не контролиру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вторитарный сти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004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запелляционное о бесцеремонное отношение членов семьи друг к друг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есток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гресс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икта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кая требовательность и контрол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лодное, отвергающее отношение к ребен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ти в таких семьях обычно замыкаются, их общение с родителями наруша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D:\asu\мама\Биология\FOTO\MIMIKA\135.JPG"/>
          <p:cNvPicPr/>
          <p:nvPr/>
        </p:nvPicPr>
        <p:blipFill>
          <a:blip r:embed="rId1"/>
          <a:stretch/>
        </p:blipFill>
        <p:spPr>
          <a:xfrm>
            <a:off x="7358040" y="2000160"/>
            <a:ext cx="1449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емократический сти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трудниче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аимопомощ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тая культура чувств и эмоц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линное равноправие всех членов семь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особствует поддержанию нормальных отношений с деть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ует у детей такие важнейшие качества личности, как инициатива, ответственность, самостоятельность и актив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8" descr="D:\asu\мама\Биология\FOTO\MIMIKA\131.JPG"/>
          <p:cNvPicPr/>
          <p:nvPr/>
        </p:nvPicPr>
        <p:blipFill>
          <a:blip r:embed="rId1"/>
          <a:stretch/>
        </p:blipFill>
        <p:spPr>
          <a:xfrm>
            <a:off x="7416720" y="1785960"/>
            <a:ext cx="1441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онфликт ( я не плохой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испособление ( конфликт с самим собой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отест (конфликт с родителями)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6" descr="D:\asu\мама\Биология\FOTO\MIMIKA\104.JPG"/>
          <p:cNvPicPr/>
          <p:nvPr/>
        </p:nvPicPr>
        <p:blipFill>
          <a:blip r:embed="rId1"/>
          <a:stretch/>
        </p:blipFill>
        <p:spPr>
          <a:xfrm>
            <a:off x="5857920" y="5000760"/>
            <a:ext cx="240660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13:07:13Z</dcterms:created>
  <dc:creator>Елена</dc:creator>
  <dc:description/>
  <dc:language>en-US</dc:language>
  <cp:lastModifiedBy>Елена</cp:lastModifiedBy>
  <dcterms:modified xsi:type="dcterms:W3CDTF">2004-12-31T20:53:05Z</dcterms:modified>
  <cp:revision>18</cp:revision>
  <dc:subject/>
  <dc:title>Воспитание ребенка в семье</dc:title>
</cp:coreProperties>
</file>