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C1005-373E-424F-AFBC-6122EED60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FE67D-73EB-4974-918D-260C2C95D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02255-FC9F-4014-948C-57BD02D0A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3BB5A-E52B-46C4-B87F-5B1F741B9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6EFE8-0989-43BE-AFF7-A72E70362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BCBC3-A723-493A-9B57-9C1E0F5A9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BBD87-6E3C-45A3-9EE7-F3E0A2DB6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F83E1-09B1-4C8F-B327-8EECCC762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99521-3B7C-4DB8-A048-12FC3AE9F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8E90D-378C-4DD8-9EA1-73B7E6414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0DA16-21F2-4D68-B624-08F308B8A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91F43-7BD3-44B2-80D1-6E83A2B8C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6814A-CECE-4467-9E33-584B0B5DB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D7B9F-7002-4A58-9104-F00DF7F5B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690BE-38C6-4945-8895-07C70ACE3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3320F-6E78-4493-8BE7-461717D7E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8FA9D-F876-4071-8BB9-B74658CA5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FD36D-11CC-47C8-8910-6A3CED4A0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7199D-BB1D-44A3-8B46-AB4061C3A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6E576-469C-4D49-9E85-9881C2341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E11A5-6D81-4355-937C-D2894C7A9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036E2-9549-4B73-BFE9-0BF8782EC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DAB1C-3409-42D6-A5CA-8A5ABFFF4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1A30F-7D95-4D9B-A6A5-EA5BDF791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21BD8-9666-4F7D-B1BA-C073DC980BE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4360" y="2968560"/>
              <a:ext cx="738000" cy="474840"/>
              <a:chOff x="414360" y="2968560"/>
              <a:chExt cx="7380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4440" y="2968560"/>
                <a:ext cx="36792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4E1E2-BCCD-4A0E-BD48-B4224A7FC8CF}" type="slidenum">
              <a:rPr b="0" lang="ru-RU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cc"/>
                </a:solidFill>
                <a:latin typeface="Dotum"/>
              </a:rPr>
              <a:t>Живой журнал</a:t>
            </a:r>
            <a:r>
              <a:rPr b="0" lang="ru-RU" sz="44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1" lang="ru-RU" sz="4400" spc="-1" strike="noStrike">
                <a:solidFill>
                  <a:srgbClr val="3333cc"/>
                </a:solidFill>
                <a:latin typeface="Tahoma"/>
              </a:rPr>
              <a:t>«Студенческая жизнь»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475920"/>
            <a:ext cx="7792920" cy="911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Tahoma"/>
              </a:rPr>
              <a:t>Методические рекомендации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Рекомендации руководителю или куратору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Рекомендации «команде», которая готовит встречу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Ресурсы (кадровые, материально-технические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333360"/>
            <a:ext cx="7792920" cy="984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Tahoma"/>
              </a:rPr>
              <a:t>Ожидаемые результаты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 результате проведения первого студенческого дня первокурсники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ознакомятся с содержанием ООП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ознакомятся друг с другом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ыберут студенческий совет групп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ыберут старосту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формулируют свои ожидания от обучени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475920"/>
            <a:ext cx="7792920" cy="695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Tahoma"/>
              </a:rPr>
              <a:t>Оценка результативности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2 блока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анализ продуктов деятельности студентов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пособность студентов высказывать свое мнение и отстаивать его в процессе обсуждения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Tahoma"/>
              </a:rPr>
              <a:t>Экспертный лист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1116000" y="1125360"/>
          <a:ext cx="7416720" cy="4846680"/>
        </p:xfrm>
        <a:graphic>
          <a:graphicData uri="http://schemas.openxmlformats.org/drawingml/2006/table">
            <a:tbl>
              <a:tblPr/>
              <a:tblGrid>
                <a:gridCol w="3743280"/>
                <a:gridCol w="504720"/>
                <a:gridCol w="863640"/>
                <a:gridCol w="865440"/>
                <a:gridCol w="503280"/>
                <a:gridCol w="936360"/>
              </a:tblGrid>
              <a:tr h="396720"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ритер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оказател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8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корее д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корее н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рудно сказа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8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формированный Совет студенческой групп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ыбранный староста групп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пектр ожиданий студент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аличие в студ.группе лидер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18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пособность большинства студентов высказывать свою точку зр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18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роявление у большинства заинтересованности в происходяще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18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Готовность работать в таком же режиме дальше в процессе обуч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6920" y="549360"/>
            <a:ext cx="8188560" cy="768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ahoma"/>
              </a:rPr>
              <a:t>Структура методической разработки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ведени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Участник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Цел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Задач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писание методики организации и проведения формы воспитательной деятельност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Методические рекомендации по подготовке и созданию страниц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жидаемые результаты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ценка результативност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1042920" y="1844280"/>
            <a:ext cx="7912080" cy="428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Участники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туденты 1 курс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руководитель ОПП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аспиранты кафедр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туденты старших курсов (3-4 курс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Время: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1,5 час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1187280" y="2205000"/>
            <a:ext cx="7772400" cy="256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Цель: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риобщение первокурсников к культуре Герценовского университета (ценностям, традициям т.д.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98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Tahoma"/>
              </a:rPr>
              <a:t>Описание методики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ервые страницы журнала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траница руководителя программ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траница «Мы будущие специалисты»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траница выборов: Совета студенческой группы и старосты групп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траница «Мои первые успехи»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Tahoma"/>
              </a:rPr>
              <a:t>Страница руководителя программы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313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редставление образовательной программ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Форма: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мини-лекци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«Наш образовательный маршрут»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Tahoma"/>
              </a:rPr>
              <a:t>Страница</a:t>
            </a:r>
            <a:br>
              <a:rPr sz="3600"/>
            </a:br>
            <a:r>
              <a:rPr b="1" lang="ru-RU" sz="3600" spc="-1" strike="noStrike">
                <a:solidFill>
                  <a:srgbClr val="333399"/>
                </a:solidFill>
                <a:latin typeface="Tahoma"/>
              </a:rPr>
              <a:t>«Мы будущие специалисты»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Разработка и представление визиток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Визитка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название микрогруппы («команды»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девиз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ожидания от образовательной программ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92160" y="475920"/>
            <a:ext cx="8043840" cy="1343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Tahoma"/>
              </a:rPr>
              <a:t>Страница выборов: Совета студенческой группы и старосты группы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305080"/>
            <a:ext cx="7772400" cy="313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ыбор Совета студенческой групп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ыбор старосты групп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71440" y="47628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Tahoma"/>
              </a:rPr>
              <a:t>Страница «Мои первые успехи»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одведение итогов первого студенческого дня (рефлексия студентами своей деятельности)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Форма: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«Букет настроения»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4T09:51:56Z</dcterms:created>
  <dc:creator>Olga</dc:creator>
  <dc:description/>
  <dc:language>en-US</dc:language>
  <cp:lastModifiedBy>Коля</cp:lastModifiedBy>
  <dcterms:modified xsi:type="dcterms:W3CDTF">2013-04-23T11:13:32Z</dcterms:modified>
  <cp:revision>7</cp:revision>
  <dc:subject/>
  <dc:title>Живой журнал «Студенческая жизнь»</dc:title>
</cp:coreProperties>
</file>