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23A-D5C7-428F-A471-BB38C608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891-0CF7-4FBE-A40B-EFA8810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0BA-0FCE-4859-A3A0-69F3244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DB5-CF9B-4EA7-B324-43E9B651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EBCC-F508-4BD7-ABE4-08C3B738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75F2-F847-4482-82AE-6E4D7B6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3F0-10BE-4A81-A336-8CF28FCD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609-A790-4429-A7AF-4815A02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E20-6F16-45EE-81DA-FBF10224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068-CA8A-4B04-90EA-63E9F65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138C-FA64-44F3-976D-1CBB8D9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61B-B6B9-4B9D-B3E4-503F71B6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2431-8E7C-4591-B4FB-CA21CFC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42B9-B686-4907-A7CD-A9F1B49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F5FF-56D8-459F-8006-2619F98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C70-976F-4830-BCA3-B3BEA91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D3C-7A23-4E6E-9D65-481DEE49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81D-2CAC-4B72-A8F9-CC5E7A9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0D7-0B39-43D5-8A23-3FBE8F1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43-E007-47A2-825F-AF18824C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47A-E33E-4C75-B687-D22F2FFD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D0C-101E-4057-B01C-6C0655A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BD7-FFB0-4291-A897-AE04148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874-4B92-467D-B36B-84031D9C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FBB8-B077-4F0D-B96E-567A3730A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FE9E-AACD-40C8-8128-4AAC2A47A14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Dotum"/>
              </a:rPr>
              <a:t>Живой журнал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Студенческая жизн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тодические рекоменд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руководителю или курато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«команде», которая готовит встреч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урсы (кадровые, материально-техническ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жидаемые результа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зультате проведения первого студенческого дня первокурсн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с содержанием ОО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друг с дру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уденческий совет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арос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формулируют свои ожидания от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ценка результатив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 бло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ализ продуктов деятельности студен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ность студентов высказывать свое мнение и отстаивать его в процессе обсу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кспертный лис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1125360"/>
          <a:ext cx="7416720" cy="4846680"/>
        </p:xfrm>
        <a:graphic>
          <a:graphicData uri="http://schemas.openxmlformats.org/drawingml/2006/table">
            <a:tbl>
              <a:tblPr/>
              <a:tblGrid>
                <a:gridCol w="3743280"/>
                <a:gridCol w="504720"/>
                <a:gridCol w="863640"/>
                <a:gridCol w="865440"/>
                <a:gridCol w="503280"/>
                <a:gridCol w="93636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 сказ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формированный Совет студенческой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ранный староста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р ожиданий студ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ичие в студ.группе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ность большинства студентов высказывать свою точку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явление у большинства заинтересованности в происходящ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товность работать в таком же режиме дальше в процессе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188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уктура методической разработ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методики организации и проведения формы воспит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ические рекомендации по подготовке и созданию стра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и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844280"/>
            <a:ext cx="79120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1 кур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 ОП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пиранты кафед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старших курсов (3-4 курс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рем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,5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общение первокурсников к культуре Герценовского университета (ценностям, традициям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писание метод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е страницы журн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руководителя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ы будущие специалист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ои первые успех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руководителя програм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ение образователь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ни-лек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аш образовательный маршру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«Мы будущие специалисты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и представление визи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зит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вание микрогруппы («команды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в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жидания от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2160" y="475920"/>
            <a:ext cx="804384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овета студенческой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таросты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«Мои первые успех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дение итогов первого студенческого дня (рефлексия студентами своей деятельност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Букет настро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9:51:56Z</dcterms:created>
  <dc:creator>Olga</dc:creator>
  <dc:description/>
  <dc:language>en-US</dc:language>
  <cp:lastModifiedBy>Коля</cp:lastModifiedBy>
  <dcterms:modified xsi:type="dcterms:W3CDTF">2013-04-23T11:13:32Z</dcterms:modified>
  <cp:revision>7</cp:revision>
  <dc:subject/>
  <dc:title>Живой журнал «Студенческая жизнь»</dc:title>
</cp:coreProperties>
</file>