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84C-A7A1-417C-9248-F9B9A521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65C-9CE9-4B68-BA6D-44B2FCE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4B8-8007-41B5-8457-321228F0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90D-0A9C-4C64-A29F-08AECDA3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9D66-2EC8-403A-BE0F-6C80A524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FF6-79F3-4176-AC41-5B1FD65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315-78E9-41EC-B12B-94C74A6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ECEC-C6DA-48F9-BEC0-15BC67B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9D92-0788-4A03-BBF0-B16AD99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DC21-8DC4-4033-820E-0824FF0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D9BE-C928-4866-8EB4-B37A611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28B-B903-4016-94CF-30F2829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CE50-2293-40FE-BC22-56A18FE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E61-91FF-4485-9BCE-D26AE9E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DAF-9208-44BC-955A-A06B9BF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B9C-3372-4772-9B44-CE606D66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7893-5B94-4DEF-B4B8-5892181D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E16-073A-4D8D-BD36-9D864B8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80F-E9AA-458B-8A8E-C5D231B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DDB-F379-4A73-831D-50713A2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6B1-7F34-4229-B957-53E1FC3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4F8-6C71-4BAB-A3B6-57DEE25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D63-31CE-4CAC-B943-4F970E8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CE5-A591-4DB2-B0ED-F3EAFF1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7D2-A49E-4BBC-AA9A-800346A4B8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B9FB-A331-4EAC-B317-6F24AFD1397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Dotum"/>
              </a:rPr>
              <a:t>Живой журнал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Студенческая жизн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тодические рекоменд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руководителю или курато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«команде», которая готовит встреч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урсы (кадровые, материально-техническ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жидаемые результа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зультате проведения первого студенческого дня первокурсн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с содержанием ОО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друг с дру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уденческий совет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арос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формулируют свои ожидания от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ценка результатив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 бло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ализ продуктов деятельности студен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ность студентов высказывать свое мнение и отстаивать его в процессе обсу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кспертный лис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1125360"/>
          <a:ext cx="7416720" cy="4846680"/>
        </p:xfrm>
        <a:graphic>
          <a:graphicData uri="http://schemas.openxmlformats.org/drawingml/2006/table">
            <a:tbl>
              <a:tblPr/>
              <a:tblGrid>
                <a:gridCol w="3743280"/>
                <a:gridCol w="504720"/>
                <a:gridCol w="863640"/>
                <a:gridCol w="865440"/>
                <a:gridCol w="503280"/>
                <a:gridCol w="93636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 сказ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формированный Совет студенческой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ранный староста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р ожиданий студ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ичие в студ.группе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ность большинства студентов высказывать свою точку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явление у большинства заинтересованности в происходящ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товность работать в таком же режиме дальше в процессе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188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уктура методической разработ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методики организации и проведения формы воспит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ические рекомендации по подготовке и созданию стра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и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844280"/>
            <a:ext cx="79120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1 кур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 ОП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пиранты кафед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старших курсов (3-4 курс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рем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,5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общение первокурсников к культуре Герценовского университета (ценностям, традициям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писание метод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е страницы журн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руководителя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ы будущие специалист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ои первые успех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руководителя програм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ение образователь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ни-лек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аш образовательный маршру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«Мы будущие специалисты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и представление визи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зит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вание микрогруппы («команды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в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жидания от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2160" y="475920"/>
            <a:ext cx="804384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овета студенческой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таросты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«Мои первые успех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дение итогов первого студенческого дня (рефлексия студентами своей деятельност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Букет настро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9:51:56Z</dcterms:created>
  <dc:creator>Olga</dc:creator>
  <dc:description/>
  <dc:language>en-US</dc:language>
  <cp:lastModifiedBy>Коля</cp:lastModifiedBy>
  <dcterms:modified xsi:type="dcterms:W3CDTF">2013-04-23T11:13:32Z</dcterms:modified>
  <cp:revision>7</cp:revision>
  <dc:subject/>
  <dc:title>Живой журнал «Студенческая жизнь»</dc:title>
</cp:coreProperties>
</file>