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975-079B-42AB-89E2-82277437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102-F4B4-4FA3-A922-5618E2F1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B09-A9CC-4FB9-B4D4-29D15D0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739-80AA-44A6-B78A-4B4F4F9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6A8-0CEE-4E20-953F-8F009501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5A8-F982-45FB-AECF-B0FB85CF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94B-9ABA-498A-BB99-172CF43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6CC5-F732-41B9-976A-91353F6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70F-E421-4F72-9ABD-67529A07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7BB5-213F-438D-A42F-274622D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5B5-C113-48A5-9D48-B006ABD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9A3-FE26-41F1-9EDA-1C4B9A6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5B7-99A6-4E34-857F-79B86EFE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963D-4DA9-4C21-ABE1-C30FE2D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E2A-521D-4DE5-B8B0-4F1ABDC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663-1498-4B34-BC82-A102B102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AF9-A728-4DB0-AF03-2CE58D7F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FAE-A01A-4F3C-B9B3-F5CC49A9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F0-743B-4C95-A02D-6B68D3F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409-F4AF-4DEE-9456-35FCA78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E04-D968-4CFC-BAD7-72AADB8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C33-9BF0-4628-9276-DCEE85D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F23-2909-45B6-B2A3-5FC049B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702-B4A2-46F7-935B-89CFC78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6CB-7325-41EC-B02A-715E4AF9B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CE6-CF6F-4594-81C4-4F61E02BDE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1295280"/>
            <a:ext cx="7696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ОВРЕМЕННЫЕ 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ТЕХНОЛОГИИ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ВОСПИТАТЕЛЬНОГО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ЦЕСС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16668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578520"/>
            <a:ext cx="73152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ыполнение проектов в старших классах преследует несколько ц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подготовка учащихся к самостоятельной работе с литературой по определённой теме, с периодик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воспитание культуры самостоятельного тру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творческих способнос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интереса к отдельным областям знаний, не только предусмотренных программой, но и не включенных в не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развитие аналитического мышл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-индивидуализация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350"/>
                            </p:stCondLst>
                            <p:childTnLst>
                              <p:par>
                                <p:cTn id="3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35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35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35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35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83268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В современной педагогике определено множество технологий, направленных на воспитание ребёнка. Воспитатель, как специалист, должен уметь выбрать и грамотно применить тот или иной «инструментарий», помня святую заповедь всех работающих с самым хрупким и ранимым материалом – детской душой – «Не навреди!». Необходимо помнить о том, что какое сейчас мы посеем зерно (жадность или щедрость, зло или добро, уважение или хамство…), в таком мире мы окажемся через несколько десятков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87084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00"/>
                </a:solidFill>
                <a:uFillTx/>
                <a:latin typeface="Georgia"/>
              </a:rPr>
              <a:t>Ян Амос Камен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«Скажут: тем не менее есть тупейшие головы, в которые ничего нельзя вложить. Отвечаю: едва ли есть настолько загрязнённое зеркало, чтобы оно всё-таки как-нибудь не воспринимало изображения; едва ли есть столь шерховатая доска, чтобы на ней всё-таки чего-нибудь и как-нибудь нельзя было напис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Georgia"/>
              </a:rPr>
              <a:t>Однако, если попадётся зеркало, загрязнённое пылью или пятнами, его предварительно нужно вытереть, а шерховатую доску нужно выстрогать; после этого они годны будут для употребления. Равным образом следует поступать и в деле воспитания юношеств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184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воспитания общественного творчества в условиях КТД И.П. Ив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личностно-ориентированной КТД С.Д. Поляк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я педагогической поддержки О.Г. Газм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Система нравственного воспитания через курс «Этическая грамматика» А.И. Шемшуриной (1-9 кл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-Технологии, разработанные группой педагогов Н.Е.Щурковой,  Л.Д. Рогозиной, А.П. Савченко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404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66ff"/>
                </a:solidFill>
                <a:uFillTx/>
                <a:latin typeface="Monotype Corsiva"/>
              </a:rPr>
              <a:t>Частно-методические и локальные (модульные) технологии воспитания</a:t>
            </a:r>
            <a:r>
              <a:rPr b="1" i="1" lang="ru-RU" sz="3200" spc="-1" strike="noStrike">
                <a:solidFill>
                  <a:srgbClr val="cc66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21716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66ff"/>
                </a:solidFill>
                <a:uFillTx/>
                <a:latin typeface="Georgia"/>
              </a:rPr>
              <a:t>Главные особенности организации групповых технологий</a:t>
            </a:r>
            <a:r>
              <a:rPr b="1" lang="en-US" sz="2000" spc="-1" strike="noStrike">
                <a:solidFill>
                  <a:srgbClr val="cc66ff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деление класса на группы для решения конкретных задач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каждая группа получает определенное задание (одинаковое, дифференцированное) и выполняет его сообща под руководством лидера группы или педагог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 возможность учесть и оценить вклад каждого члена групп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-состав группы непостоянный и подбирается с учетом возможности максимально эффективной реализации, способностей каждого участника в зависимости от содержания и характер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47920" y="533520"/>
            <a:ext cx="670536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ШОУ- ТЕХНОЛОГИ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03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В мире сказ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581280"/>
            <a:ext cx="220968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Новогоднее чу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581280"/>
            <a:ext cx="27432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ёк Горбунок и Нов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2895480" cy="206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410080" y="4114800"/>
            <a:ext cx="3530880" cy="20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266688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19920" y="6095880"/>
            <a:ext cx="2743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Гореч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морской вол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6095880"/>
            <a:ext cx="25146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От Романова-на Мурм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до Мурма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95880"/>
            <a:ext cx="2667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Times New Roman"/>
              </a:rPr>
              <a:t>Конкурс строя и пес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1249200"/>
            <a:ext cx="754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Этап подготовки: разработка игры, разработка сценария, план деловой игры, общее описание игры, содержание инструктажа, подготовка материальн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Ввод в игру. Постановка проблемы, целей. Условия, инструктаж. Регламент, правила. Распределение ролей. Формирование групп. Консуль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Этап проведения. Групповая работа над заданием. Межгрупповая дискуссия. Выступления груп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щита результатов. Правила дискуссии. Работа экспертов Этап анализа и обоб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5.Вывод из игры - анализ, рефлексия - оценка и самооценка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09680" y="533520"/>
            <a:ext cx="5105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ЛОВАЯ ИГР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8600" y="380880"/>
            <a:ext cx="8534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НСТРУКТО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КОЛЛЕКТИВНЫХ ТВОРЧЕСКИХ ДЕЛ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5253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Технологическая цепоч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1.Коллективное целеполагание. Предварительная анкета, опросник, стартовое собр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2.Коллективное планирование. Деление на группы по интересам.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«Мозговой штурм»,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 общая дискуссия, «Дерево идей», экспертный совет, «Банк иде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3.Коллективная подготовка. Распределение групповых и индивидуальных пору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4.Проведение коллективного дела. Сочетание групповых (командных) и индивидуальных заданий, конкурсо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5.Коллективный анализ. Анкета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Georgia"/>
              </a:rPr>
              <a:t>разговор в кругу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, «открытая трибуна», «свободный микрофон», незаконченный тезис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15000" y="228600"/>
            <a:ext cx="3048120" cy="20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2133720"/>
            <a:ext cx="7391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007           Городские конкурсы снежных фигур        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289548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838080" y="4648320"/>
            <a:ext cx="3353040" cy="1960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2133720" cy="195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495680" y="464832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4191120"/>
            <a:ext cx="26668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Видяево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6400800"/>
            <a:ext cx="5105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День осеннего именинника       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886200" y="2590920"/>
            <a:ext cx="101772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952880" y="2590920"/>
            <a:ext cx="1501920" cy="167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4191120"/>
            <a:ext cx="23619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8 м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553080" y="2611440"/>
            <a:ext cx="2210040" cy="161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4191120"/>
            <a:ext cx="213372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Georgia"/>
              </a:rPr>
              <a:t>23 февра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81080"/>
            <a:ext cx="80010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66ff"/>
                </a:solidFill>
                <a:uFillTx/>
                <a:latin typeface="Georgia"/>
              </a:rPr>
              <a:t>Технологическая цепоч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1.Подготовка к выполнению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Определение проблемы, темы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Актуальность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2.Групповая раб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а). Изучение периодики, литературы по теме про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б). Планирование работы, определение форм и мет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в). Распределение заданий внутри группы и выполнение практического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3. Обсуждение результатов работы в группе. Обсуждение общего задания группы. Подведение ито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.Заключительная часть. Представление результатов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ЕКТНАЯ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ДЕЯТЕЛЬНОСТЬ УЧАЩИХСЯ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6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6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6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6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4290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600200" cy="101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352680" y="1600200"/>
            <a:ext cx="1378080" cy="141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9880" y="60958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7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467480" y="5943600"/>
            <a:ext cx="107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8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943600" y="17524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7772400" y="1752480"/>
            <a:ext cx="108576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7315200" y="3276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7315200" y="449568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943600" y="327672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57200" y="4876920"/>
            <a:ext cx="2438280" cy="13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762120" y="6095880"/>
            <a:ext cx="122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eorgia"/>
              </a:rPr>
              <a:t>2006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867280" y="5181480"/>
            <a:ext cx="1524240" cy="1235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609480"/>
            <a:ext cx="2057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ЕВЕР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ПАЛИ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33520"/>
            <a:ext cx="320040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КАК ТЕБЕ СЛУЖ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С КЕМ ТЕБЕ ДРУЖ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В НАШЕМ СУРОВОМ КРА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685800"/>
            <a:ext cx="25146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МЫ – ЗА ЗДОР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Monotype Corsiva"/>
              </a:rPr>
              <a:t>ОБРАЗ ЖИЗ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О</cp:lastModifiedBy>
  <dcterms:modified xsi:type="dcterms:W3CDTF">2009-02-25T20:20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