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4999-62EC-487A-BD8B-5C6043448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E9E8-3F5C-4FDC-88B1-32576D28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8545-B4D7-4E24-9390-C7994E13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6F14-FD08-4CEC-9632-720D4F7F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E827-1743-4F60-9B55-0579A8DE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47DF-B9DD-46C7-BD03-D0A05AD2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CF2B-EFAB-4413-8D81-90A5CF02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5A2E-3008-457B-A9FB-11991DFC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DC06-AD44-49F2-AA45-747FA901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48CE-0C16-4D36-A8A2-7377FEB7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A2B2-FAE1-4404-8BAA-ADF316B5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210A-318F-4B36-AA6F-A54C4961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CF39-A15F-4560-842F-BCEFC84F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C681-2388-4389-B49B-A355215B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AC22-35EA-40B0-A1D9-C7FD8BF2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1BAE-FBC3-4919-8645-965D207BE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CB52-2F8F-47F2-A301-B9B2C3023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660D-BBBC-40F0-84FD-07C5AB2D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ACBA-5884-4D56-AC15-3F3311CC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F955-4594-4FB7-BAFB-C475D1FC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E3C6-3211-4420-9EFC-9B7E6616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F54F-7190-49E4-A8C1-21F27F99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EE31-C079-40CB-BAFC-5CCFAEB8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D323-41C8-48EA-9FE2-ACB711DB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ECB7-5E01-402E-BF2E-1F2FCD349C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A6C2-63E4-41B5-ABAD-6A129FEFB9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image" Target="../media/image29.jpeg"/><Relationship Id="rId13" Type="http://schemas.openxmlformats.org/officeDocument/2006/relationships/image" Target="../media/image30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762120" y="1295280"/>
            <a:ext cx="769608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52040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СОВРЕМЕННЫЕ </a:t>
            </a:r>
            <a:endParaRPr b="1" lang="en-US" sz="1800" spc="1" strike="noStrike">
              <a:ln w="1260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520402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52040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 </a:t>
            </a:r>
            <a:r>
              <a:rPr b="1" lang="en-US" sz="1800" spc="1" strike="noStrike">
                <a:ln w="1260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52040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ТЕХНОЛОГИИ</a:t>
            </a:r>
            <a:endParaRPr b="1" lang="en-US" sz="1800" spc="1" strike="noStrike">
              <a:ln w="1260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520402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52040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ВОСПИТАТЕЛЬНОГО</a:t>
            </a:r>
            <a:endParaRPr b="1" lang="en-US" sz="1800" spc="1" strike="noStrike">
              <a:ln w="1260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520402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52040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ПРОЦЕССА</a:t>
            </a:r>
            <a:endParaRPr b="1" lang="en-US" sz="1800" spc="1" strike="noStrike">
              <a:ln w="1260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520402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934320" y="4343400"/>
            <a:ext cx="166680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066680" y="578520"/>
            <a:ext cx="731520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Выполнение проектов в старших классах преследует несколько целе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Georgia"/>
              </a:rPr>
              <a:t>-подготовка учащихся к самостоятельной работе с литературой по определённой теме, с периодико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Georgia"/>
              </a:rPr>
              <a:t>-воспитание культуры самостоятельного труд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Georgia"/>
              </a:rPr>
              <a:t>-развитие творческих способносте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Georgia"/>
              </a:rPr>
              <a:t>-развитие интереса к отдельным областям знаний, не только предусмотренных программой, но и не включенных в не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Georgia"/>
              </a:rPr>
              <a:t>-развитие аналитического мышлени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Georgia"/>
              </a:rPr>
              <a:t>-индивидуализация обу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350"/>
                            </p:stCondLst>
                            <p:childTnLst>
                              <p:par>
                                <p:cTn id="31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350"/>
                            </p:stCondLst>
                            <p:childTnLst>
                              <p:par>
                                <p:cTn id="3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7350"/>
                            </p:stCondLst>
                            <p:childTnLst>
                              <p:par>
                                <p:cTn id="3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9350"/>
                            </p:stCondLst>
                            <p:childTnLst>
                              <p:par>
                                <p:cTn id="3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1350"/>
                            </p:stCondLst>
                            <p:childTnLst>
                              <p:par>
                                <p:cTn id="3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3350"/>
                            </p:stCondLst>
                            <p:childTnLst>
                              <p:par>
                                <p:cTn id="3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832680"/>
            <a:ext cx="7467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Georgia"/>
              </a:rPr>
              <a:t>В современной педагогике определено множество технологий, направленных на воспитание ребёнка. Воспитатель, как специалист, должен уметь выбрать и грамотно применить тот или иной «инструментарий», помня святую заповедь всех работающих с самым хрупким и ранимым материалом – детской душой – «Не навреди!». Необходимо помнить о том, что какое сейчас мы посеем зерно (жадность или щедрость, зло или добро, уважение или хамство…), в таком мире мы окажемся через несколько десятков 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38080" y="870840"/>
            <a:ext cx="7543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ffff00"/>
                </a:solidFill>
                <a:uFillTx/>
                <a:latin typeface="Georgia"/>
              </a:rPr>
              <a:t>Ян Амос Каменски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00"/>
                </a:solidFill>
                <a:latin typeface="Georgia"/>
              </a:rPr>
              <a:t>«Скажут: тем не менее есть тупейшие головы, в которые ничего нельзя вложить. Отвечаю: едва ли есть настолько загрязнённое зеркало, чтобы оно всё-таки как-нибудь не воспринимало изображения; едва ли есть столь шерховатая доска, чтобы на ней всё-таки чего-нибудь и как-нибудь нельзя было написат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00"/>
                </a:solidFill>
                <a:latin typeface="Georgia"/>
              </a:rPr>
              <a:t>Однако, если попадётся зеркало, загрязнённое пылью или пятнами, его предварительно нужно вытереть, а шерховатую доску нужно выстрогать; после этого они годны будут для употребления. Равным образом следует поступать и в деле воспитания юношества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167184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-Технология воспитания общественного творчества в условиях КТД И.П. Ивано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-Технология личностно-ориентированной КТД С.Д. Поляко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-Технология педагогической поддержки О.Г. Газма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-Система нравственного воспитания через курс «Этическая грамматика» А.И. Шемшуриной (1-9 кл.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-Технологии, разработанные группой педагогов Н.Е.Щурковой,  Л.Д. Рогозиной, А.П. Савченко 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404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66ff"/>
                </a:solidFill>
                <a:uFillTx/>
                <a:latin typeface="Monotype Corsiva"/>
              </a:rPr>
              <a:t>Частно-методические и локальные (модульные) технологии воспитания</a:t>
            </a:r>
            <a:r>
              <a:rPr b="1" i="1" lang="ru-RU" sz="3200" spc="-1" strike="noStrike">
                <a:solidFill>
                  <a:srgbClr val="cc66ff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09480" y="1217160"/>
            <a:ext cx="7772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66ff"/>
                </a:solidFill>
                <a:uFillTx/>
                <a:latin typeface="Georgia"/>
              </a:rPr>
              <a:t>Главные особенности организации групповых технологий</a:t>
            </a:r>
            <a:r>
              <a:rPr b="1" lang="en-US" sz="2000" spc="-1" strike="noStrike">
                <a:solidFill>
                  <a:srgbClr val="cc66ff"/>
                </a:solidFill>
                <a:latin typeface="Georgi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-деление класса на группы для решения конкретных задач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-каждая группа получает определенное задание (одинаковое, дифференцированное) и выполняет его сообща под руководством лидера группы или педагог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- возможность учесть и оценить вклад каждого члена групп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-состав группы непостоянный и подбирается с учетом возможности максимально эффективной реализации, способностей каждого участника в зависимости от содержания и характера рабо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9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447920" y="533520"/>
            <a:ext cx="6705360" cy="95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ШОУ- ТЕХНОЛОГИИ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2895480" cy="2068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943600" y="16002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429000" y="1600200"/>
            <a:ext cx="2286000" cy="2030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62120" y="3581280"/>
            <a:ext cx="220968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3300"/>
                </a:solidFill>
                <a:latin typeface="Times New Roman"/>
              </a:rPr>
              <a:t>В мире сказо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3581280"/>
            <a:ext cx="220968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3300"/>
                </a:solidFill>
                <a:latin typeface="Times New Roman"/>
              </a:rPr>
              <a:t>Новогоднее чуд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3581280"/>
            <a:ext cx="274320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3300"/>
                </a:solidFill>
                <a:latin typeface="Times New Roman"/>
              </a:rPr>
              <a:t>Конёк Горбунок и Новый г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228600" y="4114800"/>
            <a:ext cx="2895480" cy="2062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5410080" y="4114800"/>
            <a:ext cx="3530880" cy="2025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3200400" y="4114800"/>
            <a:ext cx="2666880" cy="2030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019920" y="6095880"/>
            <a:ext cx="27432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3300"/>
                </a:solidFill>
                <a:latin typeface="Times New Roman"/>
              </a:rPr>
              <a:t>Гореч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3300"/>
                </a:solidFill>
                <a:latin typeface="Times New Roman"/>
              </a:rPr>
              <a:t>морской вол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6095880"/>
            <a:ext cx="25146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3300"/>
                </a:solidFill>
                <a:latin typeface="Times New Roman"/>
              </a:rPr>
              <a:t>От Романова-на Мурма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cc3300"/>
                </a:solidFill>
                <a:latin typeface="Times New Roman"/>
              </a:rPr>
              <a:t>до Мурманс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6095880"/>
            <a:ext cx="266724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3300"/>
                </a:solidFill>
                <a:latin typeface="Times New Roman"/>
              </a:rPr>
              <a:t>Конкурс строя и песн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1249200"/>
            <a:ext cx="7543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Georgia"/>
              </a:rPr>
              <a:t>Технологическая цепочк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1.Этап подготовки: разработка игры, разработка сценария, план деловой игры, общее описание игры, содержание инструктажа, подготовка материального обеспе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2.Ввод в игру. Постановка проблемы, целей. Условия, инструктаж. Регламент, правила. Распределение ролей. Формирование групп. Консульта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3.Этап проведения. Групповая работа над заданием. Межгрупповая дискуссия. Выступления групп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4.Защита результатов. Правила дискуссии. Работа экспертов Этап анализа и обобщ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5.Вывод из игры - анализ, рефлексия - оценка и самооценка рабо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09680" y="533520"/>
            <a:ext cx="51055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ДЕЛОВАЯ ИГРА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28600" y="380880"/>
            <a:ext cx="8534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КОНСТРУКТОР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КОЛЛЕКТИВНЫХ ТВОРЧЕСКИХ ДЕЛ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52532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00"/>
                </a:solidFill>
                <a:uFillTx/>
                <a:latin typeface="Georgia"/>
              </a:rPr>
              <a:t>Технологическая цепоч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1.Коллективное целеполагание. Предварительная анкета, опросник, стартовое собра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2.Коллективное планирование. Деление на группы по интересам.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Georgia"/>
              </a:rPr>
              <a:t>«Мозговой штурм»,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 общая дискуссия, «Дерево идей», экспертный совет, «Банк идей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3.Коллективная подготовка. Распределение групповых и индивидуальных поручен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4.Проведение коллективного дела. Сочетание групповых (командных) и индивидуальных заданий, конкурсов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5.Коллективный анализ. Анкета,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Georgia"/>
              </a:rPr>
              <a:t>разговор в кругу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, «открытая трибуна», «свободный микрофон», незаконченный тезис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62520" y="228600"/>
            <a:ext cx="1542960" cy="2057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90720" y="2286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715000" y="228600"/>
            <a:ext cx="3048120" cy="2089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219320" y="2133720"/>
            <a:ext cx="7391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Georgia"/>
              </a:rPr>
              <a:t>2007           Городские конкурсы снежных фигур        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914400" y="2590920"/>
            <a:ext cx="2895480" cy="1666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838080" y="4648320"/>
            <a:ext cx="3353040" cy="1960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6324480" y="4724280"/>
            <a:ext cx="2133720" cy="1959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4495680" y="4648320"/>
            <a:ext cx="1486080" cy="1981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90720" y="4191120"/>
            <a:ext cx="26668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Georgia"/>
              </a:rPr>
              <a:t>Видяево-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6400800"/>
            <a:ext cx="51055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Georgia"/>
              </a:rPr>
              <a:t>День осеннего именинника       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3886200" y="2590920"/>
            <a:ext cx="1017720" cy="1676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4952880" y="2590920"/>
            <a:ext cx="1501920" cy="1676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62520" y="4191120"/>
            <a:ext cx="236196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Georgia"/>
              </a:rPr>
              <a:t>8 мар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0"/>
          <a:stretch/>
        </p:blipFill>
        <p:spPr>
          <a:xfrm>
            <a:off x="6553080" y="2611440"/>
            <a:ext cx="2210040" cy="1617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553080" y="4191120"/>
            <a:ext cx="213372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Georgia"/>
              </a:rPr>
              <a:t>23 февра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181080"/>
            <a:ext cx="800100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66ff"/>
                </a:solidFill>
                <a:uFillTx/>
                <a:latin typeface="Georgia"/>
              </a:rPr>
              <a:t>Технологическая цепоч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1.Подготовка к выполнению зад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а). Определение проблемы, темы работ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б). Актуальность тем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2.Групповая рабо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а). Изучение периодики, литературы по теме проек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б). Планирование работы, определение форм и метод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в). Распределение заданий внутри группы и выполнение практического зад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3. Обсуждение результатов работы в группе. Обсуждение общего задания группы. Подведение итог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4.Заключительная часть. Представление результатов рабо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228600"/>
            <a:ext cx="7772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ПРОЕКТНАЯ 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ДЕЯТЕЛЬНОСТЬ УЧАЩИХСЯ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600"/>
                            </p:stCondLst>
                            <p:childTnLst>
                              <p:par>
                                <p:cTn id="24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600"/>
                            </p:stCondLst>
                            <p:childTnLst>
                              <p:par>
                                <p:cTn id="26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600"/>
                            </p:stCondLst>
                            <p:childTnLst>
                              <p:par>
                                <p:cTn id="2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9600"/>
                            </p:stCondLst>
                            <p:childTnLst>
                              <p:par>
                                <p:cTn id="30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438280" cy="1676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57200" y="3200400"/>
            <a:ext cx="2438280" cy="17524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114800" y="266688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3429000" y="3733920"/>
            <a:ext cx="1600200" cy="11998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4038480" y="4876920"/>
            <a:ext cx="1600200" cy="1017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3352680" y="1600200"/>
            <a:ext cx="1378080" cy="1419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3809880" y="6095880"/>
            <a:ext cx="1143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Georgia"/>
              </a:rPr>
              <a:t>2007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467480" y="5943600"/>
            <a:ext cx="1073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Georgia"/>
              </a:rPr>
              <a:t>2008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5943600" y="1752480"/>
            <a:ext cx="1752480" cy="1428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7772400" y="1752480"/>
            <a:ext cx="1085760" cy="1447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>
            <a:off x="7315200" y="32767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0"/>
          <a:stretch/>
        </p:blipFill>
        <p:spPr>
          <a:xfrm>
            <a:off x="7315200" y="4495680"/>
            <a:ext cx="1523880" cy="1258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1"/>
          <a:stretch/>
        </p:blipFill>
        <p:spPr>
          <a:xfrm>
            <a:off x="5943600" y="3276720"/>
            <a:ext cx="1333440" cy="1778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2"/>
          <a:stretch/>
        </p:blipFill>
        <p:spPr>
          <a:xfrm>
            <a:off x="457200" y="4876920"/>
            <a:ext cx="2438280" cy="13906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762120" y="6095880"/>
            <a:ext cx="1225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Georgia"/>
              </a:rPr>
              <a:t>2006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3"/>
          <a:stretch/>
        </p:blipFill>
        <p:spPr>
          <a:xfrm>
            <a:off x="5867280" y="5181480"/>
            <a:ext cx="1524240" cy="12351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57200" y="609480"/>
            <a:ext cx="2057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Monotype Corsiva"/>
              </a:rPr>
              <a:t>СЕВЕР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Monotype Corsiva"/>
              </a:rPr>
              <a:t>ПАЛИТ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19520" y="533520"/>
            <a:ext cx="3200400" cy="10666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Monotype Corsiva"/>
              </a:rPr>
              <a:t>КАК ТЕБЕ СЛУЖИТС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Monotype Corsiva"/>
              </a:rPr>
              <a:t>С КЕМ ТЕБЕ ДРУЖИ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Monotype Corsiva"/>
              </a:rPr>
              <a:t>В НАШЕМ СУРОВОМ КРА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00800" y="685800"/>
            <a:ext cx="25146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Monotype Corsiva"/>
              </a:rPr>
              <a:t>МЫ – ЗА ЗДОРОВ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Monotype Corsiva"/>
              </a:rPr>
              <a:t>ОБРАЗ ЖИЗНИ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О</cp:lastModifiedBy>
  <dcterms:modified xsi:type="dcterms:W3CDTF">2009-02-25T20:20:1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