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46.gif" ContentType="image/gif"/>
  <Override PartName="/ppt/media/image1.jpeg" ContentType="image/jpeg"/>
  <Override PartName="/ppt/media/image35.jpeg" ContentType="image/jpeg"/>
  <Override PartName="/ppt/media/image24.jpeg" ContentType="image/jpeg"/>
  <Override PartName="/ppt/media/image59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10.wmf" ContentType="image/x-wmf"/>
  <Override PartName="/ppt/media/image44.jpeg" ContentType="image/jpeg"/>
  <Override PartName="/ppt/media/image40.jpeg" ContentType="image/jpeg"/>
  <Override PartName="/ppt/media/image38.jpeg" ContentType="image/jpeg"/>
  <Override PartName="/ppt/media/image45.jpeg" ContentType="image/jpeg"/>
  <Override PartName="/ppt/media/image43.jpeg" ContentType="image/jpeg"/>
  <Override PartName="/ppt/media/image47.gif" ContentType="image/gif"/>
  <Override PartName="/ppt/media/image53.jpeg" ContentType="image/jpeg"/>
  <Override PartName="/ppt/media/image48.gif" ContentType="image/gif"/>
  <Override PartName="/ppt/media/image49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51.jpeg" ContentType="image/jpeg"/>
  <Override PartName="/ppt/media/image58.png" ContentType="image/png"/>
  <Override PartName="/ppt/media/image55.jpeg" ContentType="image/jpeg"/>
  <Override PartName="/ppt/media/image11.wmf" ContentType="image/x-wmf"/>
  <Override PartName="/ppt/media/image17.jpeg" ContentType="image/jpeg"/>
  <Override PartName="/ppt/media/image56.jpeg" ContentType="image/jpeg"/>
  <Override PartName="/ppt/media/image57.jpeg" ContentType="image/jpeg"/>
  <Override PartName="/ppt/media/image6.wmf" ContentType="image/x-wmf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9.wmf" ContentType="image/x-wmf"/>
  <Override PartName="/ppt/media/image19.jpeg" ContentType="image/jpeg"/>
  <Override PartName="/ppt/media/image42.jpeg" ContentType="image/jpeg"/>
  <Override PartName="/ppt/media/image54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9E9-A4A9-4B4E-9BEE-1046E496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8DD-D84B-421E-9860-F12C39AE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E62-9BE5-4162-85CA-8676A66D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621-460C-498D-8019-BA2A6354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E15-D47D-4854-B095-DCC7684A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B14-2BF8-4CF7-9F22-137774AD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54F-99CB-42E3-8391-38F95AFF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660-FC80-41E0-9DBB-79ABE6FB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2F7-95BC-407A-826A-ED8676D8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BED-1A8D-4C84-AAEA-838B491A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0C1-16FB-4A4B-9344-FD6F5B0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377-3F2A-44D5-BFB0-F78D11B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98AC-2C8D-4E1F-B7DE-ACB776AF3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wmf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060640"/>
            <a:ext cx="822960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ота, гармония, симметрия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4365720"/>
            <a:ext cx="623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симметрична ли красота?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ота, гармония, симметрия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92360" y="4581360"/>
            <a:ext cx="6237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симметрична ли красота?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9418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рцева Елена Васильевна МОУ СОШ №19 пос. Пироговский Мытищ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прямой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двустороння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смотритесь внимательно и вы увидите, что правая сторона – есть зеркальное отображение левой. В математике – это симметрия относительно прямой (осевая симметрия), в биологии – двусторонняя 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2241720"/>
            <a:ext cx="3168360" cy="2077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1873080" cy="1616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2421000"/>
            <a:ext cx="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203640" y="3213000"/>
            <a:ext cx="295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637000"/>
            <a:ext cx="0" cy="158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6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48000" y="4869000"/>
            <a:ext cx="127008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8360" y="404640"/>
            <a:ext cx="547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нтральная сим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1576200">
            <a:off x="3203280" y="2133360"/>
            <a:ext cx="227808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087640" cy="171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 rot="704400">
            <a:off x="6803640" y="242100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84360" y="3141720"/>
            <a:ext cx="1593720" cy="2160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588000" y="404640"/>
            <a:ext cx="15400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064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относительно точки О, если О середина отрезка А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716280"/>
            <a:ext cx="4321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350028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059280" y="32839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5002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357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9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50028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350028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86064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86064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3860640"/>
            <a:ext cx="14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55640" y="2852640"/>
            <a:ext cx="936360" cy="17287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78136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2852640"/>
            <a:ext cx="3527280" cy="1800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565360"/>
            <a:ext cx="217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393372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5653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92640"/>
            <a:ext cx="21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565360"/>
            <a:ext cx="144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292640"/>
            <a:ext cx="1429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278136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472428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508464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мметрич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к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= 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 не симметрична М1, т.к. М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М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симметрична сама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6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6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238200" cy="33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2708280"/>
            <a:ext cx="0" cy="3745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149720"/>
            <a:ext cx="1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414972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37920" y="4076640"/>
            <a:ext cx="18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2781360"/>
            <a:ext cx="4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645000"/>
            <a:ext cx="432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 точки О, если для каждой точки фигуры, симметричная ей точка ,относительно точки О, также принадлежит этой фиг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132000" y="3645000"/>
            <a:ext cx="2952720" cy="1800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3789360"/>
            <a:ext cx="2736720" cy="16574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645000"/>
            <a:ext cx="144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7162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494172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4581360"/>
            <a:ext cx="3311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64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419640" y="3499560"/>
            <a:ext cx="215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4941720"/>
            <a:ext cx="28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292640"/>
            <a:ext cx="144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516640"/>
            <a:ext cx="216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05360"/>
            <a:ext cx="2771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– центр сим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6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87560"/>
            <a:ext cx="896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имметрия воспринимается нами как покой, скованность, закономерность, тогда как асимметрия означает движение, свободу, случайность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87920"/>
            <a:ext cx="864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древности слово «симметрия» употреблялось как «гармония», «красот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4292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23454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мерили 72 студента-добровольца. Данные подтвердили интуитивно предполагаемый факт: юноши с правильными лицами - те, у кого отклонения от симметрии не превышали 1 - 2 процентов, были найдены более привлекательными в целом, тогда как менее симметричные студенты - с отклонениями в 5 - 7 процентов - были признаны менее привлекательными, "некрасивыми" в обычном смыс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404640"/>
            <a:ext cx="46670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ажды в Америк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87308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точки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лучева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смотритесь внимательно и вы увидите, что лепестки каждого тела расходятся во все стороны, как лучи от источника света. В математике  - это симметрия относительно точки (центральная симметрия), в биологии – лучевая 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111400" cy="216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2089080" cy="2032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85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3961080" cy="2931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5950080"/>
            <a:ext cx="7127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969080" cy="4815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3680" y="549360"/>
            <a:ext cx="80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Симметрия в архитекту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0920" y="620640"/>
            <a:ext cx="85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всех ли объектах симметрия красива?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6165720"/>
            <a:ext cx="8620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ли красивые объекты симметричны?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метрия в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5689440" cy="213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33112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564000" y="1700280"/>
            <a:ext cx="4941720" cy="3162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55640" y="3860640"/>
            <a:ext cx="777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6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77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8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мметрия в бы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337120" cy="1157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804000" y="3500280"/>
            <a:ext cx="1471680" cy="1486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716360" y="4508640"/>
            <a:ext cx="1943280" cy="1671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5280" y="4005360"/>
            <a:ext cx="1584360" cy="1803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3429000"/>
            <a:ext cx="770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342900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7110360" y="486900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2340000" y="4792680"/>
            <a:ext cx="20876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6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77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5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мметрия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2049480" cy="1594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300720" y="472428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3059280" y="4653000"/>
            <a:ext cx="2232000" cy="1946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2781360"/>
            <a:ext cx="3166920" cy="2141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324000" y="3213000"/>
            <a:ext cx="2160360" cy="1621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3645000"/>
            <a:ext cx="777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6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90680" y="2833560"/>
            <a:ext cx="566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анит оделася Не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ты повисли над в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озелеными са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е покрылись остр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5280" y="371628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2240" y="5132520"/>
            <a:ext cx="42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шкин А.С. «Медный всад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24000" y="836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метрия в поэз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5772240" y="2205000"/>
          <a:ext cx="3371760" cy="34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2240" y="2205000"/>
                    <a:ext cx="33717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2205000"/>
            <a:ext cx="56516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333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619280" y="476280"/>
            <a:ext cx="5616720" cy="157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ПОЛЬЗУЕМ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РИАЛ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920" y="2492280"/>
            <a:ext cx="6409080" cy="33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WWW. CULTINFO.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WWW. FTF. MARSU. 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WWW. FOTOKONKURS.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WWW. REF. B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2421000"/>
            <a:ext cx="71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45d0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0045d0"/>
                </a:solidFill>
                <a:latin typeface="Arial"/>
              </a:rPr>
              <a:t>Симметрия (от греческого symmetria - «соразмерность») - понятие, означающее сохраняемость, повторяемость, «инвариантность» каких-либо особенностей структуры изучаемого объекта при проведении с ним определенных преобразований</a:t>
            </a:r>
            <a:r>
              <a:rPr b="0" i="1" lang="ru-RU" sz="2800" spc="-1" strike="noStrike">
                <a:solidFill>
                  <a:srgbClr val="0045d0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9120" y="1000080"/>
            <a:ext cx="35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04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98900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учить распознавать симметричные фигуры среди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знакомить учащихся с использованием симметрии в природе, быту, искусстве, тех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вать умения анализировать и сравнивать предме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7480" y="18900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7628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Человек- это часть природы,  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не ее мы не можем представить свое сущ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3645000" cy="4105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3743280" cy="45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 rot="21596400">
            <a:off x="2627280" y="2127240"/>
            <a:ext cx="5467320" cy="3821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58920" y="3429000"/>
            <a:ext cx="331164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 rot="1587000">
            <a:off x="4140000" y="2133360"/>
            <a:ext cx="2735280" cy="4475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2449800" cy="201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растительном и животном мире мы наблюдаем  различные виды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771640" y="2924280"/>
            <a:ext cx="316872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771640" y="2924280"/>
            <a:ext cx="316872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166400">
            <a:off x="5148360" y="2349360"/>
            <a:ext cx="3168720" cy="324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20631000">
            <a:off x="324000" y="2565000"/>
            <a:ext cx="316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6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32720" y="2060640"/>
            <a:ext cx="1342800" cy="1666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714400" cy="210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4360" y="620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ры симметричных фигур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659640" y="4508640"/>
            <a:ext cx="1422360" cy="109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42920" y="2133720"/>
            <a:ext cx="1428840" cy="1485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996840" cy="23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269720" cy="110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2398680" cy="2187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620640"/>
            <a:ext cx="46670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евая сим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189000"/>
            <a:ext cx="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77080" y="4941360"/>
            <a:ext cx="17272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176220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95640" y="2421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2539800" cy="158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4149720"/>
            <a:ext cx="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844640"/>
            <a:ext cx="14436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0680" y="2006640"/>
            <a:ext cx="71280" cy="28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имметрия относительно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67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 относительно прямой «а»,  если данная прямая проходит через середину отрезка АА1 и перпендикулярна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4149720"/>
            <a:ext cx="45370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29264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3357720"/>
            <a:ext cx="0" cy="1584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357720"/>
            <a:ext cx="14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79736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393372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3933720"/>
            <a:ext cx="14292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933720"/>
            <a:ext cx="0" cy="21600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3645000"/>
            <a:ext cx="1443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4508640"/>
            <a:ext cx="1443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37372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537372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Точки прямой «а» симметричны сами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«а» - ось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6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11280" y="3068640"/>
            <a:ext cx="4321440" cy="2592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973080" y="126828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 относительно прямой «а», если для каждой точки фигуры, симметричная ей точка относительно прямой «а» также принадлежит этой фиг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213000"/>
            <a:ext cx="0" cy="2592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73408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458136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436572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653000"/>
            <a:ext cx="7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437000"/>
            <a:ext cx="727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36572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472428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4797360"/>
            <a:ext cx="2880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6:49:01Z</dcterms:created>
  <dc:creator>Елена</dc:creator>
  <dc:description/>
  <dc:language>en-US</dc:language>
  <cp:lastModifiedBy>Лена</cp:lastModifiedBy>
  <dcterms:modified xsi:type="dcterms:W3CDTF">2010-04-28T16:42:06Z</dcterms:modified>
  <cp:revision>5</cp:revision>
  <dc:subject/>
  <dc:title>1111111111</dc:title>
</cp:coreProperties>
</file>