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90A-721E-4811-A187-9FF44427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47D-BEE0-4BA9-95B1-732107F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BA9-E1A3-4C4D-B9A4-EF5CE728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D18-A7C5-4E66-9B44-FD859F63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6EE-2EC2-4358-831D-3D943624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E34-B4AD-4F5E-A6B4-5EAFCDD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FF7-FB4C-4B45-8F06-B5410BC8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4FA-AC9D-4314-AFF0-F46F9DB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434-6F34-4132-B6DB-A4CD7916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71D-C546-4966-8542-CB07408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2E6-A194-4353-95C0-DE4AE8F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F9F-D45D-4B93-8E0E-360C48C6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C84A-94BF-4D3C-A6BB-DB382DF7FDE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antiquebooks.ru/pic/8/424/6062_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amic.ru/report/book_2005/008-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osetia.kvaisa.ru/data/uploaded/63_2_b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home-edu.ru/pages/filippova/texts10/kn04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museum.vladimir.ru/image/collect/dragi/small/b63_524.jpg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luxury-info.ru/show/bpic_news_5755.jpg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du.ru/db/portal/e-library/00000050/Knigopechat/Chto_takoe/Oklad_b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2.files/BROKER(1).files/BROKER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zpsh.ru/files/Slon2008/kursi/chitaem%20starie%20rukopisi/&#1086;&#1088;&#1085;&#1072;&#1084;&#1077;&#1085;&#1090;/&#1045;&#1074;&#1072;&#1085;&#1075;&#1077;&#1083;&#1080;&#1077;%20&#1050;&#1086;&#1085;&#1089;&#1090;&#1072;&#1085;&#1090;&#1080;&#1085;&#1072;(&#1080;&#1085;&#1080;&#1094;&#1080;&#1072;&#1083;).files/BROKER(1).files/BROKER.JPG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1.files/BROKER(1).files/BROKER.JPG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3.files/BROKER(1).files/BROKER.JPG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www.sibupk.nsk.su/New/04/chairs/c_regional/Pivovarov/img/1_4_2.jpg" TargetMode="External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archunion.com.ua/img/history_001/st-005/osnova_10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hyperlink" Target="http://logol.info/pics/kili/0_d0b2_6becaa14_orig.jpe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nlr.ru/fonds/manuscripts/images/rus/63_b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008.radikal.ru/0712/6a/c9d93b161db9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bsolutgallery.narod.ru/alexander_nevskiy/index.html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bin-gud.nnover.ru/data/uf/3379331/2/76/27679_psy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novgorod.fio.ru/projects/Project1380/master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ebuk.ru/img/beresta-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hyperlink" Target="http://eldesign.ru/upload/Image/sreda/2007-05-23/letter_r02.gif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udar-mb.narod.ru/image/book2/drevknigi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133720"/>
            <a:ext cx="7058160" cy="194292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143080" y="6334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сударственное образовательное учреждение  Центр образования города Москвы № 148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25840" y="162864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ЕКТ-ПРЕЗЕНТ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421000"/>
            <a:ext cx="6191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Slavjanic"/>
              </a:rPr>
              <a:t>РУКОПИСНЫЕ КНИГИ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 flipV="1" rot="10800000">
            <a:off x="682560" y="443592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вина Марина Викторов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3" name="Picture 3" descr="Картинка 1 из 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929040"/>
            <a:ext cx="421488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857840" y="3571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писанные листы украшали рисунками, одевали в переплеты делали изображения-тиснения. На обложках помещали драгоценные камни, золотые или серебряные застеж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85840" y="414324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нига стоила больших денег. Часто под монастырскими сводами книги хранили прикованными к полкам цеп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5" descr="Картинка 15 из 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214200"/>
            <a:ext cx="41432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плёты    древних  кни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Картинка 4 из 11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857160"/>
            <a:ext cx="4071960" cy="200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Картинка 46 из 1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6160" y="857160"/>
            <a:ext cx="464364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артинка 76 из 1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7160" y="2928960"/>
            <a:ext cx="242892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35 из 574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29080" y="300024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4" name="Picture 3" descr="Картинка 65 из 6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4357800" cy="6091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4643280" y="50004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 каждой такой книгой много месяцев трудился не один человек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Премудрость"/>
          <p:cNvPicPr/>
          <p:nvPr/>
        </p:nvPicPr>
        <p:blipFill>
          <a:blip r:embed="rId5"/>
          <a:stretch/>
        </p:blipFill>
        <p:spPr>
          <a:xfrm>
            <a:off x="4857840" y="2428920"/>
            <a:ext cx="3786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2" descr=""/>
          <p:cNvPicPr/>
          <p:nvPr/>
        </p:nvPicPr>
        <p:blipFill>
          <a:blip r:embed="rId1"/>
          <a:stretch/>
        </p:blipFill>
        <p:spPr>
          <a:xfrm>
            <a:off x="-6480" y="1279440"/>
            <a:ext cx="5127840" cy="387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Картинка 14 из 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214200"/>
            <a:ext cx="2647800" cy="385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Картинка 14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214200"/>
            <a:ext cx="3000600" cy="385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Картинка 14 из 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7120" y="214200"/>
            <a:ext cx="2643120" cy="385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Картинка 14 из 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2000160" cy="23576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428920" y="4357800"/>
            <a:ext cx="5143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чинался текст с заглавной буквы, которую часто писали красной краской, отсюда и произошел современный термин красная стро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2" descr="Картинка 25 из 65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143840" y="4357800"/>
            <a:ext cx="17143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одержимое 2"/>
          <p:cNvGrpSpPr/>
          <p:nvPr/>
        </p:nvGrpSpPr>
        <p:grpSpPr>
          <a:xfrm>
            <a:off x="-6480" y="-6480"/>
            <a:ext cx="4797720" cy="6870960"/>
            <a:chOff x="-6480" y="-6480"/>
            <a:chExt cx="4797720" cy="6870960"/>
          </a:xfrm>
        </p:grpSpPr>
        <p:pic>
          <p:nvPicPr>
            <p:cNvPr id="9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4797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0"/>
              <a:ext cx="4786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Древнейшие славянские рукописные книги написаны двумя видами азбук -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кириллицей и глаголицей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Кириллица была более простым видом и стала родоначальником современной письменности славянских народов. Глаголица дальнейшего развития не получила.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7" name="Picture 6" descr="Картинка 134 из 6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9" name="Picture 2" descr="http://logol.info/pics/kili/0_d0b0_6bb48a2e_orig.jpeg"/>
          <p:cNvPicPr/>
          <p:nvPr/>
        </p:nvPicPr>
        <p:blipFill>
          <a:blip r:embed="rId3"/>
          <a:stretch/>
        </p:blipFill>
        <p:spPr>
          <a:xfrm>
            <a:off x="428760" y="214200"/>
            <a:ext cx="3855960" cy="535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40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0760" y="285840"/>
            <a:ext cx="3857400" cy="52149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714240" y="54738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иевские глаголические лист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-10 век, древнейшая восточнославянская книга. Сохранилось 7 листов. Содержит церковные текс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3" name="Прямоугольник 1"/>
          <p:cNvSpPr/>
          <p:nvPr/>
        </p:nvSpPr>
        <p:spPr>
          <a:xfrm>
            <a:off x="4287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42920" y="464328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содержанию рукописные книги периода Древней Руси преимущественно духовные, связаны с христианским вероуч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4714920" y="357120"/>
            <a:ext cx="4286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ое количество рукописных книг, обеспечивали  книгописные мастерские. Перепиской книг занимались обычно монахи и церковнослуж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Картинка 2 из 6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142920"/>
            <a:ext cx="4286520" cy="435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Картинка 334 из 6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7840" y="3429000"/>
            <a:ext cx="40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4" descr="Добродетели князя Александра Невског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14200"/>
            <a:ext cx="5286240" cy="65008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5500800" y="550080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"Добродетели князя Александра Невского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786280" y="285840"/>
            <a:ext cx="3071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ниги украшали миниатюрам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евнейшим центром книжности Руси был Новгоро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2286000" y="310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4" name="Прямоугольник 1"/>
          <p:cNvSpPr/>
          <p:nvPr/>
        </p:nvSpPr>
        <p:spPr>
          <a:xfrm>
            <a:off x="357120" y="4143240"/>
            <a:ext cx="4357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жество книг погибло в пожарах, множество было уничтожено во время войн. Гибли они и от человеческого невежества и равнодуш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"/>
          <p:cNvSpPr/>
          <p:nvPr/>
        </p:nvSpPr>
        <p:spPr>
          <a:xfrm flipV="1" rot="10800000">
            <a:off x="5143320" y="73440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нижные богатства Древней Руси составляли 130-140 тысяч томов. Из них до нас дошла только малая часть - менее 1%: в современных книгохранилищах и архивах хранится всего 190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и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копис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7" descr="Картинка 157 из 1213"/>
          <p:cNvPicPr/>
          <p:nvPr/>
        </p:nvPicPr>
        <p:blipFill>
          <a:blip r:embed="rId3"/>
          <a:stretch/>
        </p:blipFill>
        <p:spPr>
          <a:xfrm>
            <a:off x="214200" y="214200"/>
            <a:ext cx="4429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Картинка 230 из 3847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5" descr="Повесть о Горе-Злочастии, XVII в."/>
          <p:cNvPicPr/>
          <p:nvPr/>
        </p:nvPicPr>
        <p:blipFill>
          <a:blip r:embed="rId2"/>
          <a:stretch/>
        </p:blipFill>
        <p:spPr>
          <a:xfrm>
            <a:off x="357120" y="357120"/>
            <a:ext cx="4000680" cy="6215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5000760" y="714240"/>
            <a:ext cx="378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евнерусские переписчики знали истинную цену книгам и недаром называли их источниками мудрости, верными «подпорами» в жиз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Картинка 146 из 38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УКОПИСНЫЕ   КНИ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Картинка 1 из 6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0" name="Picture 2" descr="http://www.manwb.ru/pub/Pictures-Articles/Articles81-100/100/1.jpg"/>
          <p:cNvPicPr/>
          <p:nvPr/>
        </p:nvPicPr>
        <p:blipFill>
          <a:blip r:embed="rId3"/>
          <a:stretch/>
        </p:blipFill>
        <p:spPr>
          <a:xfrm>
            <a:off x="1000080" y="0"/>
            <a:ext cx="7000920" cy="4340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57120" y="45007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писные книги – это произведение письменности, текст и иллюстрации которого в отличие от печатной книги, воспроизведенной средствами полиграфии, исполнены от руки чернилами, красками, карандашом или выцарапаны на плоской поверх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3" name="Прямоугольник 1"/>
          <p:cNvSpPr/>
          <p:nvPr/>
        </p:nvSpPr>
        <p:spPr>
          <a:xfrm>
            <a:off x="357120" y="500040"/>
            <a:ext cx="4000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ревнейшие времена человеческая память была единственным средством сохранения и передачи опыта, информации о событиях и людях. Известны бесписьменные цивилизации, где огромное количество сведений просто заучивалось наизус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Картинка 24 из 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85840"/>
            <a:ext cx="4143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6" name="Прямоугольник 2"/>
          <p:cNvSpPr/>
          <p:nvPr/>
        </p:nvSpPr>
        <p:spPr>
          <a:xfrm>
            <a:off x="214200" y="301680"/>
            <a:ext cx="4214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нятие христианства в 988 году на Руси вызвало потребность в священнослужителях, государственных чиновниках и книга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ревней Руси грамотных людей было не мало. В России в старину простой люд писал на бересте, а государственные бумаги - указы и грамоты -  на пергамент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Рисунок 5" descr="image007.jpg"/>
          <p:cNvPicPr/>
          <p:nvPr/>
        </p:nvPicPr>
        <p:blipFill>
          <a:blip r:embed="rId3"/>
          <a:stretch/>
        </p:blipFill>
        <p:spPr>
          <a:xfrm>
            <a:off x="4786200" y="500040"/>
            <a:ext cx="4000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Картинка 3 из 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608840" y="6334200"/>
            <a:ext cx="65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 письменности на бере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1" name="Picture 6" descr="Разворот Остромирова Евангелия hi-edu.ru"/>
          <p:cNvPicPr/>
          <p:nvPr/>
        </p:nvPicPr>
        <p:blipFill>
          <a:blip r:embed="rId3"/>
          <a:stretch/>
        </p:blipFill>
        <p:spPr>
          <a:xfrm>
            <a:off x="477720" y="214200"/>
            <a:ext cx="8166240" cy="4929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85920" y="5000400"/>
            <a:ext cx="78580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1056—1057 годах было создано старейшее из сохранившихся точно датированных рукописей на пергамене - Остромирово Евангел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-385776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5" name="Рисунок 4" descr="letter_r09.gif"/>
          <p:cNvPicPr/>
          <p:nvPr/>
        </p:nvPicPr>
        <p:blipFill>
          <a:blip r:embed="rId3"/>
          <a:stretch/>
        </p:blipFill>
        <p:spPr>
          <a:xfrm>
            <a:off x="4643280" y="285840"/>
            <a:ext cx="4214880" cy="5500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786200" y="571500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уквица Р из Остромирова евангелия, 1056—1057 гг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3" descr="Картинка 13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28584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9"/>
          <p:cNvSpPr/>
          <p:nvPr/>
        </p:nvSpPr>
        <p:spPr>
          <a:xfrm>
            <a:off x="428760" y="3000240"/>
            <a:ext cx="3929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Книгописец Григорий вместе с помощниками переписал и украсил книгу за 8 месяцев для новгородского посадника Остромир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0" name="Прямоугольник 4"/>
          <p:cNvSpPr/>
          <p:nvPr/>
        </p:nvSpPr>
        <p:spPr>
          <a:xfrm>
            <a:off x="785880" y="485784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изготовление одной-единственной рукописи-книги уходило иногда пять-семь лет. Писец должен был обладать четким и красивым почерком. Каждая буква часто даже не писалась, а рисовала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Картинка 1 из 57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14292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07:28Z</dcterms:created>
  <dc:creator>John Smyth</dc:creator>
  <dc:description/>
  <dc:language>en-US</dc:language>
  <cp:lastModifiedBy>Class221</cp:lastModifiedBy>
  <dcterms:modified xsi:type="dcterms:W3CDTF">2010-03-05T05:21:45Z</dcterms:modified>
  <cp:revision>43</cp:revision>
  <dc:subject/>
  <dc:title>Презентация PowerPoint</dc:title>
</cp:coreProperties>
</file>