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12E-101A-4E6A-9288-DD665A42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410-BA70-42E9-B837-497A6694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BB0-0B01-4DC1-8C84-932264BE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44F6-15CF-4E90-8388-E94DFEDD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961A-D849-4FC2-B250-721186A5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DCF-1B38-42CF-BB7A-26983BC7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63D-38C2-4D6C-9361-8772A0FA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D3C-F4BD-44C6-A675-5D44F9FF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F0A6-418F-45BD-B8FF-15ACD224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F29-15A7-4274-A2C6-02298ECA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6C4-1C8E-463F-9477-F31605F8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28D-2CF5-48C6-8467-681505A4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49DA-8A93-4970-A476-2718831C470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antiquebooks.ru/pic/8/424/6062_1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amic.ru/report/book_2005/008-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osetia.kvaisa.ru/data/uploaded/63_2_b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home-edu.ru/pages/filippova/texts10/kn04.jpg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www.museum.vladimir.ru/image/collect/dragi/small/b63_524.jpg" TargetMode="External"/><Relationship Id="rId8" Type="http://schemas.openxmlformats.org/officeDocument/2006/relationships/image" Target="../media/image16.jpeg"/><Relationship Id="rId9" Type="http://schemas.openxmlformats.org/officeDocument/2006/relationships/hyperlink" Target="http://luxury-info.ru/show/bpic_news_5755.jpg" TargetMode="External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du.ru/db/portal/e-library/00000050/Knigopechat/Chto_takoe/Oklad_b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zpsh.ru/files/Slon2008/kursi/chitaem%20starie%20rukopisi/&#1086;&#1088;&#1085;&#1072;&#1084;&#1077;&#1085;&#1090;/&#1045;&#1074;&#1072;&#1085;&#1077;&#1075;&#1083;&#1080;&#1077;%20&#1060;&#1077;&#1076;&#1086;&#1088;&#1072;%20&#1050;&#1086;&#1096;&#1082;&#1080;(&#1080;&#1085;&#1080;&#1094;&#1080;&#1072;&#1083;)2.files/BROKER(1).files/BROKER.JPG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www.zpsh.ru/files/Slon2008/kursi/chitaem%20starie%20rukopisi/&#1086;&#1088;&#1085;&#1072;&#1084;&#1077;&#1085;&#1090;/&#1045;&#1074;&#1072;&#1085;&#1075;&#1077;&#1083;&#1080;&#1077;%20&#1050;&#1086;&#1085;&#1089;&#1090;&#1072;&#1085;&#1090;&#1080;&#1085;&#1072;(&#1080;&#1085;&#1080;&#1094;&#1080;&#1072;&#1083;).files/BROKER(1).files/BROKER.JPG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www.zpsh.ru/files/Slon2008/kursi/chitaem%20starie%20rukopisi/&#1086;&#1088;&#1085;&#1072;&#1084;&#1077;&#1085;&#1090;/&#1045;&#1074;&#1072;&#1085;&#1077;&#1075;&#1083;&#1080;&#1077;%20&#1060;&#1077;&#1076;&#1086;&#1088;&#1072;%20&#1050;&#1086;&#1096;&#1082;&#1080;(&#1080;&#1085;&#1080;&#1094;&#1080;&#1072;&#1083;)1.files/BROKER(1).files/BROKER.JPG" TargetMode="External"/><Relationship Id="rId7" Type="http://schemas.openxmlformats.org/officeDocument/2006/relationships/image" Target="../media/image23.jpeg"/><Relationship Id="rId8" Type="http://schemas.openxmlformats.org/officeDocument/2006/relationships/hyperlink" Target="http://www.zpsh.ru/files/Slon2008/kursi/chitaem%20starie%20rukopisi/&#1086;&#1088;&#1085;&#1072;&#1084;&#1077;&#1085;&#1090;/&#1045;&#1074;&#1072;&#1085;&#1077;&#1075;&#1083;&#1080;&#1077;%20&#1060;&#1077;&#1076;&#1086;&#1088;&#1072;%20&#1050;&#1086;&#1096;&#1082;&#1080;(&#1080;&#1085;&#1080;&#1094;&#1080;&#1072;&#1083;)3.files/BROKER(1).files/BROKER.JPG" TargetMode="External"/><Relationship Id="rId9" Type="http://schemas.openxmlformats.org/officeDocument/2006/relationships/image" Target="../media/image24.jpeg"/><Relationship Id="rId10" Type="http://schemas.openxmlformats.org/officeDocument/2006/relationships/hyperlink" Target="http://www.sibupk.nsk.su/New/04/chairs/c_regional/Pivovarov/img/1_4_2.jpg" TargetMode="External"/><Relationship Id="rId11" Type="http://schemas.openxmlformats.org/officeDocument/2006/relationships/image" Target="../media/image25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archunion.com.ua/img/history_001/st-005/osnova_10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28.jpeg"/><Relationship Id="rId4" Type="http://schemas.openxmlformats.org/officeDocument/2006/relationships/hyperlink" Target="http://logol.info/pics/kili/0_d0b2_6becaa14_orig.jpeg" TargetMode="External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nlr.ru/fonds/manuscripts/images/rus/63_b.jpg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i008.radikal.ru/0712/6a/c9d93b161db9.jpg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absolutgallery.narod.ru/alexander_nevskiy/index.html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obin-gud.nnover.ru/data/uf/3379331/2/76/27679_psy7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novgorod.fio.ru/projects/Project1380/master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hebuk.ru/img/beresta-0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hyperlink" Target="http://eldesign.ru/upload/Image/sreda/2007-05-23/letter_r02.gif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hotoshop-master.ru/lessons/2007/160907/old_book/BOO_18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sudar-mb.narod.ru/image/book2/drevknigi.gif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133720"/>
            <a:ext cx="7058160" cy="1942920"/>
          </a:xfrm>
          <a:prstGeom prst="bevel">
            <a:avLst>
              <a:gd name="adj" fmla="val 125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2143080" y="6334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26028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осударственное образовательное учреждение  Центр образования города Москвы № 148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2625840" y="1628640"/>
            <a:ext cx="38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ЕКТ-ПРЕЗЕНТ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2421000"/>
            <a:ext cx="6191280" cy="22885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Slavjanic"/>
              </a:rPr>
              <a:t>РУКОПИСНЫЕ КНИГИ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 flipV="1" rot="10800000">
            <a:off x="682560" y="443592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овина Марина Викторов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3" name="Picture 3" descr="Картинка 1 из 8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3929040"/>
            <a:ext cx="421488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4857840" y="357120"/>
            <a:ext cx="400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писанные листы украшали рисунками, одевали в переплеты делали изображения-тиснения. На обложках помещали драгоценные камни, золотые или серебряные застежк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285840" y="4143240"/>
            <a:ext cx="407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нига стоила больших денег. Часто под монастырскими сводами книги хранили прикованными к полкам цеп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Picture 5" descr="Картинка 15 из 8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840" y="214200"/>
            <a:ext cx="414324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8" name=""/>
          <p:cNvSpPr txBox="1"/>
          <p:nvPr/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ереплёты    древних  кни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Картинка 4 из 11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2920" y="857160"/>
            <a:ext cx="4071960" cy="2000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Картинка 46 из 10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6160" y="857160"/>
            <a:ext cx="4643640" cy="2071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Картинка 76 из 10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57160" y="2928960"/>
            <a:ext cx="2428920" cy="364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Картинка 35 из 574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429080" y="3000240"/>
            <a:ext cx="4357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4" name="Picture 3" descr="Картинка 65 из 6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285840"/>
            <a:ext cx="4357800" cy="60912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4643280" y="500040"/>
            <a:ext cx="407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д каждой такой книгой много месяцев трудился не один человек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4" descr="Премудрость"/>
          <p:cNvPicPr/>
          <p:nvPr/>
        </p:nvPicPr>
        <p:blipFill>
          <a:blip r:embed="rId5"/>
          <a:stretch/>
        </p:blipFill>
        <p:spPr>
          <a:xfrm>
            <a:off x="4857840" y="2428920"/>
            <a:ext cx="3786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2" descr=""/>
          <p:cNvPicPr/>
          <p:nvPr/>
        </p:nvPicPr>
        <p:blipFill>
          <a:blip r:embed="rId1"/>
          <a:stretch/>
        </p:blipFill>
        <p:spPr>
          <a:xfrm>
            <a:off x="-6480" y="1279440"/>
            <a:ext cx="5127840" cy="387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Картинка 14 из 5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86680" y="214200"/>
            <a:ext cx="2647800" cy="3857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Картинка 14 из 5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43160" y="214200"/>
            <a:ext cx="3000600" cy="3857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Картинка 14 из 5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7120" y="214200"/>
            <a:ext cx="2643120" cy="3857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Картинка 14 из 5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7120" y="4286160"/>
            <a:ext cx="2000160" cy="235764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9"/>
          <p:cNvSpPr/>
          <p:nvPr/>
        </p:nvSpPr>
        <p:spPr>
          <a:xfrm>
            <a:off x="2428920" y="4357800"/>
            <a:ext cx="5143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чинался текст с заглавной буквы, которую часто писали красной краской, отсюда и произошел современный термин красная строк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2" descr="Картинка 25 из 658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143840" y="4357800"/>
            <a:ext cx="171432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Содержимое 2"/>
          <p:cNvGrpSpPr/>
          <p:nvPr/>
        </p:nvGrpSpPr>
        <p:grpSpPr>
          <a:xfrm>
            <a:off x="-6480" y="-6480"/>
            <a:ext cx="4797720" cy="6870960"/>
            <a:chOff x="-6480" y="-6480"/>
            <a:chExt cx="4797720" cy="6870960"/>
          </a:xfrm>
        </p:grpSpPr>
        <p:pic>
          <p:nvPicPr>
            <p:cNvPr id="95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47977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0" y="0"/>
              <a:ext cx="4786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Древнейшие славянские рукописные книги написаны двумя видами азбук -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</a:rPr>
                <a:t>кириллицей и глаголицей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Кириллица была более простым видом и стала родоначальником современной письменности славянских народов. Глаголица дальнейшего развития не получила.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97" name="Picture 6" descr="Картинка 134 из 6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9" name="Picture 2" descr="http://logol.info/pics/kili/0_d0b0_6bb48a2e_orig.jpeg"/>
          <p:cNvPicPr/>
          <p:nvPr/>
        </p:nvPicPr>
        <p:blipFill>
          <a:blip r:embed="rId3"/>
          <a:stretch/>
        </p:blipFill>
        <p:spPr>
          <a:xfrm>
            <a:off x="428760" y="214200"/>
            <a:ext cx="3855960" cy="5357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Картинка 40 из 5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00760" y="285840"/>
            <a:ext cx="3857400" cy="52149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5"/>
          <p:cNvSpPr/>
          <p:nvPr/>
        </p:nvSpPr>
        <p:spPr>
          <a:xfrm>
            <a:off x="714240" y="547380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иевские глаголические лист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-10 век, древнейшая восточнославянская книга. Сохранилось 7 листов. Содержит церковные текс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3" name="Прямоугольник 1"/>
          <p:cNvSpPr/>
          <p:nvPr/>
        </p:nvSpPr>
        <p:spPr>
          <a:xfrm>
            <a:off x="428760" y="214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142920" y="4643280"/>
            <a:ext cx="442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содержанию рукописные книги периода Древней Руси преимущественно духовные, связаны с христианским вероучен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4714920" y="357120"/>
            <a:ext cx="4286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статочное количество рукописных книг, обеспечивали  книгописные мастерские. Перепиской книг занимались обычно монахи и церковнослужител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2" descr="Картинка 2 из 6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142920"/>
            <a:ext cx="4286520" cy="435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Картинка 334 из 65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7840" y="3429000"/>
            <a:ext cx="402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4" descr="Добродетели князя Александра Невского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2920" y="214200"/>
            <a:ext cx="5286240" cy="65008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"/>
          <p:cNvSpPr/>
          <p:nvPr/>
        </p:nvSpPr>
        <p:spPr>
          <a:xfrm>
            <a:off x="5500800" y="5500800"/>
            <a:ext cx="33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"Добродетели князя Александра Невского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5786280" y="285840"/>
            <a:ext cx="30718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ниги украшали миниатюрам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ревнейшим центром книжности Руси был Новгород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2286000" y="3105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4" name="Прямоугольник 1"/>
          <p:cNvSpPr/>
          <p:nvPr/>
        </p:nvSpPr>
        <p:spPr>
          <a:xfrm>
            <a:off x="357120" y="4143240"/>
            <a:ext cx="4357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ножество книг погибло в пожарах, множество было уничтожено во время войн. Гибли они и от человеческого невежества и равнодуш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1"/>
          <p:cNvSpPr/>
          <p:nvPr/>
        </p:nvSpPr>
        <p:spPr>
          <a:xfrm flipV="1" rot="10800000">
            <a:off x="5143320" y="734400"/>
            <a:ext cx="350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нижные богатства Древней Руси составляли 130-140 тысяч томов. Из них до нас дошла только малая часть - менее 1%: в современных книгохранилищах и архивах хранится всего 190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ревнерусски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укопис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7" descr="Картинка 157 из 1213"/>
          <p:cNvPicPr/>
          <p:nvPr/>
        </p:nvPicPr>
        <p:blipFill>
          <a:blip r:embed="rId3"/>
          <a:stretch/>
        </p:blipFill>
        <p:spPr>
          <a:xfrm>
            <a:off x="214200" y="214200"/>
            <a:ext cx="44290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Картинка 230 из 3847"/>
          <p:cNvPicPr/>
          <p:nvPr/>
        </p:nvPicPr>
        <p:blipFill>
          <a:blip r:embed="rId1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5" descr="Повесть о Горе-Злочастии, XVII в."/>
          <p:cNvPicPr/>
          <p:nvPr/>
        </p:nvPicPr>
        <p:blipFill>
          <a:blip r:embed="rId2"/>
          <a:stretch/>
        </p:blipFill>
        <p:spPr>
          <a:xfrm>
            <a:off x="357120" y="357120"/>
            <a:ext cx="4000680" cy="62150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5000760" y="714240"/>
            <a:ext cx="3786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ревнерусские переписчики знали истинную цену книгам и недаром называли их источниками мудрости, верными «подпорами» в жизн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Картинка 146 из 38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РУКОПИСНЫЕ   КНИГ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Картинка 1 из 6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0" name="Picture 2" descr="http://www.manwb.ru/pub/Pictures-Articles/Articles81-100/100/1.jpg"/>
          <p:cNvPicPr/>
          <p:nvPr/>
        </p:nvPicPr>
        <p:blipFill>
          <a:blip r:embed="rId3"/>
          <a:stretch/>
        </p:blipFill>
        <p:spPr>
          <a:xfrm>
            <a:off x="1000080" y="0"/>
            <a:ext cx="7000920" cy="43401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357120" y="4500720"/>
            <a:ext cx="857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укописные книги – это произведение письменности, текст и иллюстрации которого в отличие от печатной книги, воспроизведенной средствами полиграфии, исполнены от руки чернилами, красками, карандашом или выцарапаны на плоской поверх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3" name="Прямоугольник 1"/>
          <p:cNvSpPr/>
          <p:nvPr/>
        </p:nvSpPr>
        <p:spPr>
          <a:xfrm>
            <a:off x="357120" y="500040"/>
            <a:ext cx="40006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древнейшие времена человеческая память была единственным средством сохранения и передачи опыта, информации о событиях и людях. Известны бесписьменные цивилизации, где огромное количество сведений просто заучивалось наизуст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4" descr="Картинка 24 из 5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285840"/>
            <a:ext cx="4143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6" name="Прямоугольник 2"/>
          <p:cNvSpPr/>
          <p:nvPr/>
        </p:nvSpPr>
        <p:spPr>
          <a:xfrm>
            <a:off x="214200" y="301680"/>
            <a:ext cx="4214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нятие христианства в 988 году на Руси вызвало потребность в священнослужителях, государственных чиновниках и книга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Древней Руси грамотных людей было не мало. В России в старину простой люд писал на бересте, а государственные бумаги - указы и грамоты -  на пергамент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Рисунок 5" descr="image007.jpg"/>
          <p:cNvPicPr/>
          <p:nvPr/>
        </p:nvPicPr>
        <p:blipFill>
          <a:blip r:embed="rId3"/>
          <a:stretch/>
        </p:blipFill>
        <p:spPr>
          <a:xfrm>
            <a:off x="4786200" y="500040"/>
            <a:ext cx="4000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Картинка 3 из 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1608840" y="6334200"/>
            <a:ext cx="65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мер письменности на берест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1" name="Picture 6" descr="Разворот Остромирова Евангелия hi-edu.ru"/>
          <p:cNvPicPr/>
          <p:nvPr/>
        </p:nvPicPr>
        <p:blipFill>
          <a:blip r:embed="rId3"/>
          <a:stretch/>
        </p:blipFill>
        <p:spPr>
          <a:xfrm>
            <a:off x="477720" y="214200"/>
            <a:ext cx="8166240" cy="4929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85920" y="5000400"/>
            <a:ext cx="785808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 1056—1057 годах было создано старейшее из сохранившихся точно датированных рукописей на пергамене - Остромирово Евангел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-3857760" y="1643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5" name="Рисунок 4" descr="letter_r09.gif"/>
          <p:cNvPicPr/>
          <p:nvPr/>
        </p:nvPicPr>
        <p:blipFill>
          <a:blip r:embed="rId3"/>
          <a:stretch/>
        </p:blipFill>
        <p:spPr>
          <a:xfrm>
            <a:off x="4643280" y="285840"/>
            <a:ext cx="4214880" cy="55004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6"/>
          <p:cNvSpPr/>
          <p:nvPr/>
        </p:nvSpPr>
        <p:spPr>
          <a:xfrm>
            <a:off x="4786200" y="5715000"/>
            <a:ext cx="43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уквица Р из Остромирова евангелия, 1056—1057 гг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3" descr="Картинка 13 из 5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20" y="285840"/>
            <a:ext cx="4357800" cy="24289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9"/>
          <p:cNvSpPr/>
          <p:nvPr/>
        </p:nvSpPr>
        <p:spPr>
          <a:xfrm>
            <a:off x="428760" y="3000240"/>
            <a:ext cx="39290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Книгописец Григорий вместе с помощниками переписал и украсил книгу за 8 месяцев для новгородского посадника Остромира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Картинка 230 из 3847">
            <a:hlinkClick r:id="rId1"/>
          </p:cNvPr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0" name="Прямоугольник 4"/>
          <p:cNvSpPr/>
          <p:nvPr/>
        </p:nvSpPr>
        <p:spPr>
          <a:xfrm>
            <a:off x="785880" y="4857840"/>
            <a:ext cx="82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изготовление одной-единственной рукописи-книги уходило иногда пять-семь лет. Писец должен был обладать четким и красивым почерком. Каждая буква часто даже не писалась, а рисовалас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2" descr="Картинка 1 из 57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840" y="142920"/>
            <a:ext cx="85723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2:07:28Z</dcterms:created>
  <dc:creator>John Smyth</dc:creator>
  <dc:description/>
  <dc:language>en-US</dc:language>
  <cp:lastModifiedBy>Class221</cp:lastModifiedBy>
  <dcterms:modified xsi:type="dcterms:W3CDTF">2010-03-05T05:21:45Z</dcterms:modified>
  <cp:revision>43</cp:revision>
  <dc:subject/>
  <dc:title>Презентация PowerPoint</dc:title>
</cp:coreProperties>
</file>