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BF03-609B-4277-AC49-B3B69652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296-D68D-4D74-84B8-FEF9BEFE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EA2-FFC8-4058-B004-E0F404A2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0C26-BE2D-4FA0-9BB5-727BB0A9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65DDA-26BC-4684-935D-321A9A27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37DCC-0CBC-45F4-98CC-38F020DC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22EC7-CDEC-4AFB-B58C-148D25F8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4F3A7-5459-491E-839B-8DB063EA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7EBBB-F8A9-4F3D-BFCC-B3A9C15A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7A193-D887-403B-A1F9-40F8B5F7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714C8-F9D9-400E-A138-F81C4936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93BF-514F-48D8-B0AD-10C0C3E5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5157E-319A-492F-B44A-EDD81D70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70DFA-FA79-4FEB-905E-E5D739CF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11074-37CB-4120-A083-AF7C6807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B0F8D-5B56-4CEF-84F5-4A43F09E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1F754-BFF1-45A7-9360-34E8FF933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FCD8-F92A-4B25-9FA3-0171EB13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50DD-B179-49D6-8B13-3E3AB676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DC97-C48B-435B-904C-59BE819B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37E4-FA27-4002-A84C-5C571436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17A1-FF77-45E2-A558-901593BD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8FF3-77AB-4D9D-A4B5-2AC2C83C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AB6C-9BCA-4437-A9D3-99E9C1B0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EC0A-2ECB-4704-A3A1-FC10B54661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0414-9BDD-461C-A058-207E5BCFA1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52.radikal.ru/i137/1009/74/fe38d4440954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photos.lifeisphoto.ru/70/0/704722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extracar.od.ua/wp-content/gallery/auto_sign/mitsubishi.jpg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www.disput.az/uploads/av-26039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ikolyaseaman.ru/Bukmekers/terminologia.php?bukva=F" TargetMode="External"/><Relationship Id="rId3" Type="http://schemas.openxmlformats.org/officeDocument/2006/relationships/hyperlink" Target="http://nikolyaseaman.ru/Bukmekers/terminologia.php?bukva=F" TargetMode="External"/><Relationship Id="rId4" Type="http://schemas.openxmlformats.org/officeDocument/2006/relationships/hyperlink" Target="http://nikolyaseaman.ru/Bukmekers/terminologia.php?bukva=F" TargetMode="External"/><Relationship Id="rId5" Type="http://schemas.openxmlformats.org/officeDocument/2006/relationships/hyperlink" Target="http://nikolyaseaman.ru/Bukmekers/terminologia.php?bukva=F" TargetMode="External"/><Relationship Id="rId6" Type="http://schemas.openxmlformats.org/officeDocument/2006/relationships/hyperlink" Target="http://nikolyaseaman.ru/Bukmekers/terminologia.php?bukva=F" TargetMode="External"/><Relationship Id="rId7" Type="http://schemas.openxmlformats.org/officeDocument/2006/relationships/hyperlink" Target="http://nikolyaseaman.ru/Bukmekers/terminologia.php?bukva=F" TargetMode="External"/><Relationship Id="rId8" Type="http://schemas.openxmlformats.org/officeDocument/2006/relationships/hyperlink" Target="http://nikolyaseaman.ru/Bukmekers/terminologia.php?bukva=F" TargetMode="External"/><Relationship Id="rId9" Type="http://schemas.openxmlformats.org/officeDocument/2006/relationships/hyperlink" Target="http://www.pihtinauto.rostov.ru/" TargetMode="External"/><Relationship Id="rId10" Type="http://schemas.openxmlformats.org/officeDocument/2006/relationships/hyperlink" Target="http://www.pihtinauto.rostov.ru/" TargetMode="External"/><Relationship Id="rId11" Type="http://schemas.openxmlformats.org/officeDocument/2006/relationships/hyperlink" Target="http://www.pihtinauto.rostov.ru/" TargetMode="External"/><Relationship Id="rId12" Type="http://schemas.openxmlformats.org/officeDocument/2006/relationships/hyperlink" Target="http://www.pihtinauto.rostov.ru/" TargetMode="External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llaboutcards.files.wordpress.com/2009/07/queen-diamonds.pn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Comic Sans MS"/>
              </a:rPr>
              <a:t>РОМБ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боту выполнил Требушинин Ива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ченик 8А класс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ОУ  СОШ  №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. Михайловс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вердловской обла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692000" y="1628640"/>
            <a:ext cx="2879640" cy="10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92360" y="2637000"/>
            <a:ext cx="2735280" cy="115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427640" y="2707920"/>
            <a:ext cx="288108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628640"/>
            <a:ext cx="273672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чи для устной рабо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Найдите периметр ромба, если одна его сторона равна 4 с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Найдите углы ромба, если острый угол равен 3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2565360"/>
            <a:ext cx="3384360" cy="100800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3640" y="4508640"/>
            <a:ext cx="1008000" cy="180000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 задаче 1: Р =16 с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 задаче 2: по свойству - противоположные углы ромба равны, значит в ромбе два угла по 3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и 2 угла по 14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омб в жиз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мкра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игура военных летч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мб используют, как знак автомоби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Картинка 3 из 3724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1413000"/>
            <a:ext cx="2016000" cy="1582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Картинка 9 из 89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2060640"/>
            <a:ext cx="3276720" cy="2089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Картинка 1 из 188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042920" y="5286240"/>
            <a:ext cx="2232000" cy="1571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Картинка 12 из 111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227640" y="5086440"/>
            <a:ext cx="15685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казк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Жил был мистер Цилиндр и был он очень богатым банкиром. И жил мистер Квадрат, который был не очень богатым. Однажды мистер квадрат взял деньги в долг у мистера цилиндра...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ходит месяц, два , а мистер квадрат так и не отдаёт деньги мистеру цилиндру. Тогда мистер цилиндр идёт к мистеру квадрату и говорит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Отдавай деньги.- но мистер квадрат не отдал и тогда мистер цилиндр разозлился и попрыгал на мистере квадрате и получился мистер ромб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т и сказке конец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нтересные факты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олее 100 парашютистов сделали самую большой ромб в ми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омб, в котором проведены диагонал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читается одной из самых крепких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носливых конструкций. Такую конструкци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чень широко используют для построй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стов, зданий, и даже, для рамы мотоцикл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Картинка 7 из 133"/>
          <p:cNvPicPr/>
          <p:nvPr/>
        </p:nvPicPr>
        <p:blipFill>
          <a:blip r:embed="rId2"/>
          <a:stretch/>
        </p:blipFill>
        <p:spPr>
          <a:xfrm>
            <a:off x="5629320" y="2276640"/>
            <a:ext cx="35146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сыл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nikolyaseaman.ru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Bukmekers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/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terminologia.php?bukva=F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http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://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www.pihtinauto.rostov.ru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http://extracar.od.ua/cto?pid=382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http://www.lifeisphoto.ru/photo.aspx?id=704722&amp;repostid=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http://renika.beon.ru/3373-019-skazka-pro-romb.z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http://www.cx75planet.ru/forum/txt/index.php/t10368.htm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Что такое ромб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мб- это параллелограмм, у которого все стороны рав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556000" y="3500280"/>
            <a:ext cx="4176720" cy="208944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386064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08720" y="5013360"/>
            <a:ext cx="287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508360" y="3860640"/>
            <a:ext cx="21564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492360" y="5013360"/>
            <a:ext cx="28764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явление ромб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мб (от греч.) бубен. Если сейчас бубны делают круглой формы, то раньше их делали как раз в форме ромб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стати,  карты масти бубн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меют знак в форме ромб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Картинка 1 из 22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43640" y="4149720"/>
            <a:ext cx="18003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войства ромб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тивоположные сторон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мба рав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иагонали точкой пересечен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лятся попола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иагонали взаим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пендикуляр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Диагонали деля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лы попола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084720" y="1628640"/>
            <a:ext cx="1214640" cy="121464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27640" y="1916280"/>
            <a:ext cx="144720" cy="14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877080" y="1916280"/>
            <a:ext cx="216000" cy="14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77080" y="2492280"/>
            <a:ext cx="21600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300360" y="2421000"/>
            <a:ext cx="144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6000" y="2997360"/>
            <a:ext cx="1225440" cy="1512720"/>
          </a:xfrm>
          <a:prstGeom prst="flowChartSor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106" idx="0"/>
            <a:endCxn id="106" idx="1"/>
          </p:cNvCxnSpPr>
          <p:nvPr/>
        </p:nvCxnSpPr>
        <p:spPr>
          <a:xfrm flipV="1">
            <a:off x="6408360" y="2997000"/>
            <a:ext cx="1080" cy="15134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6372360" y="3429000"/>
            <a:ext cx="7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72360" y="4076640"/>
            <a:ext cx="7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84720" y="364500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364500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88000" y="364500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59640" y="364500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67160" y="4508640"/>
            <a:ext cx="2736720" cy="1224000"/>
          </a:xfrm>
          <a:prstGeom prst="flowChartSor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4" idx="0"/>
            <a:endCxn id="114" idx="1"/>
          </p:cNvCxnSpPr>
          <p:nvPr/>
        </p:nvCxnSpPr>
        <p:spPr>
          <a:xfrm>
            <a:off x="4835160" y="4508640"/>
            <a:ext cx="1080" cy="1224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 rot="10800000">
            <a:off x="4655880" y="4941360"/>
            <a:ext cx="3603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6" idx="1"/>
            <a:endCxn id="116" idx="3"/>
          </p:cNvCxnSpPr>
          <p:nvPr/>
        </p:nvCxnSpPr>
        <p:spPr>
          <a:xfrm flipH="1">
            <a:off x="4656960" y="5122440"/>
            <a:ext cx="36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18" name=""/>
          <p:cNvCxnSpPr>
            <a:stCxn id="116" idx="2"/>
            <a:endCxn id="116" idx="0"/>
          </p:cNvCxnSpPr>
          <p:nvPr/>
        </p:nvCxnSpPr>
        <p:spPr>
          <a:xfrm>
            <a:off x="4836600" y="494316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9" name=""/>
          <p:cNvSpPr/>
          <p:nvPr/>
        </p:nvSpPr>
        <p:spPr>
          <a:xfrm>
            <a:off x="3708360" y="5516640"/>
            <a:ext cx="3960720" cy="112392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9" idx="1"/>
            <a:endCxn id="119" idx="3"/>
          </p:cNvCxnSpPr>
          <p:nvPr/>
        </p:nvCxnSpPr>
        <p:spPr>
          <a:xfrm>
            <a:off x="3708360" y="6078240"/>
            <a:ext cx="396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21" name=""/>
          <p:cNvCxnSpPr>
            <a:stCxn id="119" idx="0"/>
            <a:endCxn id="119" idx="2"/>
          </p:cNvCxnSpPr>
          <p:nvPr/>
        </p:nvCxnSpPr>
        <p:spPr>
          <a:xfrm>
            <a:off x="5689080" y="5516640"/>
            <a:ext cx="1080" cy="1124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4285440" y="5877000"/>
            <a:ext cx="43056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139280" y="5876640"/>
            <a:ext cx="57672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435640" y="5301720"/>
            <a:ext cx="57672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435640" y="6308640"/>
            <a:ext cx="57672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437080" y="5300280"/>
            <a:ext cx="57456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588000" y="5877000"/>
            <a:ext cx="57744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588000" y="5876640"/>
            <a:ext cx="57456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6308640"/>
            <a:ext cx="5774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изнаки ромб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Если в параллелограмме диагонали взаимно перпендикулярны, то это-ром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Если в параллелограмме диагонали делят углы пополам, то это-ром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3203640" y="3284640"/>
            <a:ext cx="3960720" cy="112392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"/>
          <p:cNvCxnSpPr/>
          <p:nvPr/>
        </p:nvCxnSpPr>
        <p:spPr>
          <a:xfrm>
            <a:off x="3203640" y="3860280"/>
            <a:ext cx="396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4" name=""/>
          <p:cNvCxnSpPr/>
          <p:nvPr/>
        </p:nvCxnSpPr>
        <p:spPr>
          <a:xfrm>
            <a:off x="5148000" y="3284640"/>
            <a:ext cx="1080" cy="1124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5435640" y="3716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3716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6" idx="0"/>
            <a:endCxn id="135" idx="0"/>
          </p:cNvCxnSpPr>
          <p:nvPr/>
        </p:nvCxnSpPr>
        <p:spPr>
          <a:xfrm>
            <a:off x="4858920" y="3715920"/>
            <a:ext cx="577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8" name=""/>
          <p:cNvCxnSpPr>
            <a:stCxn id="136" idx="1"/>
            <a:endCxn id="135" idx="1"/>
          </p:cNvCxnSpPr>
          <p:nvPr/>
        </p:nvCxnSpPr>
        <p:spPr>
          <a:xfrm>
            <a:off x="4858920" y="4005000"/>
            <a:ext cx="577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5183280" y="5734080"/>
            <a:ext cx="3960720" cy="112392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0" name=""/>
          <p:cNvCxnSpPr/>
          <p:nvPr/>
        </p:nvCxnSpPr>
        <p:spPr>
          <a:xfrm>
            <a:off x="5183280" y="6308280"/>
            <a:ext cx="396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1" name=""/>
          <p:cNvCxnSpPr/>
          <p:nvPr/>
        </p:nvCxnSpPr>
        <p:spPr>
          <a:xfrm>
            <a:off x="7164000" y="5734080"/>
            <a:ext cx="1080" cy="1124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6733080" y="6568920"/>
            <a:ext cx="72000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651640" y="6091920"/>
            <a:ext cx="57744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6720" y="6093000"/>
            <a:ext cx="43056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64000" y="6021360"/>
            <a:ext cx="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8101080" y="6093000"/>
            <a:ext cx="57672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8101080" y="6091920"/>
            <a:ext cx="57384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77080" y="6570720"/>
            <a:ext cx="72000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6877080" y="5517000"/>
            <a:ext cx="576720" cy="57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877440" y="5515560"/>
            <a:ext cx="5738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673200" y="50796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ериметр ромб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3200" y="212076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=a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имет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рона ромб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– кол-во стор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Формула площад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=1/2 </a:t>
            </a:r>
            <a:r>
              <a:rPr b="0" lang="ru-RU" sz="3600" spc="-1" strike="noStrike" baseline="30000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3600" spc="-1" strike="noStrike" baseline="30000">
                <a:solidFill>
                  <a:srgbClr val="ffffff"/>
                </a:solidFill>
                <a:latin typeface="Tahoma"/>
              </a:rPr>
              <a:t> .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 –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лощад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первая диагонал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вторая диагона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4716000" y="3068640"/>
            <a:ext cx="1513080" cy="208764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7" idx="2"/>
            <a:endCxn id="157" idx="0"/>
          </p:cNvCxnSpPr>
          <p:nvPr/>
        </p:nvCxnSpPr>
        <p:spPr>
          <a:xfrm>
            <a:off x="4431960" y="4113000"/>
            <a:ext cx="20883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9" name=""/>
          <p:cNvCxnSpPr>
            <a:stCxn id="157" idx="2"/>
            <a:endCxn id="157" idx="0"/>
          </p:cNvCxnSpPr>
          <p:nvPr/>
        </p:nvCxnSpPr>
        <p:spPr>
          <a:xfrm>
            <a:off x="4431960" y="4113000"/>
            <a:ext cx="20883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60" name=""/>
          <p:cNvSpPr/>
          <p:nvPr/>
        </p:nvSpPr>
        <p:spPr>
          <a:xfrm>
            <a:off x="3635280" y="5516640"/>
            <a:ext cx="2521080" cy="134136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60" idx="2"/>
            <a:endCxn id="160" idx="0"/>
          </p:cNvCxnSpPr>
          <p:nvPr/>
        </p:nvCxnSpPr>
        <p:spPr>
          <a:xfrm flipV="1">
            <a:off x="4895640" y="5516280"/>
            <a:ext cx="1080" cy="1342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5435640" y="1700280"/>
            <a:ext cx="2449440" cy="129708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62" idx="0"/>
            <a:endCxn id="162" idx="2"/>
          </p:cNvCxnSpPr>
          <p:nvPr/>
        </p:nvCxnSpPr>
        <p:spPr>
          <a:xfrm>
            <a:off x="6660720" y="1699920"/>
            <a:ext cx="1080" cy="12978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64" name=""/>
          <p:cNvCxnSpPr>
            <a:stCxn id="162" idx="1"/>
            <a:endCxn id="162" idx="3"/>
          </p:cNvCxnSpPr>
          <p:nvPr/>
        </p:nvCxnSpPr>
        <p:spPr>
          <a:xfrm>
            <a:off x="5435640" y="2349000"/>
            <a:ext cx="24498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чи на закрепл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68360" y="1773360"/>
          <a:ext cx="8229600" cy="4187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=1/2</a:t>
                      </a:r>
                      <a:r>
                        <a:rPr b="0" lang="ru-RU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1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r>
                        <a:rPr b="0" lang="ru-RU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2S/ d</a:t>
                      </a:r>
                      <a:r>
                        <a:rPr b="0" lang="ru-RU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r>
                        <a:rPr b="0" lang="ru-RU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2S/ d</a:t>
                      </a:r>
                      <a:r>
                        <a:rPr b="0" lang="ru-RU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,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735120" y="56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905120"/>
          <a:ext cx="8229600" cy="4116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=1/2</a:t>
                      </a:r>
                      <a:r>
                        <a:rPr b="0" lang="ru-RU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1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r>
                        <a:rPr b="0" lang="ru-RU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2S/ d</a:t>
                      </a:r>
                      <a:r>
                        <a:rPr b="0" lang="ru-RU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r>
                        <a:rPr b="0" lang="ru-RU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2S/ d</a:t>
                      </a:r>
                      <a:r>
                        <a:rPr b="0" lang="ru-RU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,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11:37:47Z</dcterms:created>
  <dc:creator>Customer</dc:creator>
  <dc:description/>
  <dc:language>en-US</dc:language>
  <cp:lastModifiedBy>HOME</cp:lastModifiedBy>
  <dcterms:modified xsi:type="dcterms:W3CDTF">2011-01-27T18:46:38Z</dcterms:modified>
  <cp:revision>10</cp:revision>
  <dc:subject/>
  <dc:title>РОМБ </dc:title>
</cp:coreProperties>
</file>