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37C-08EB-4A6F-A7C6-D21D84B4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927-7793-4984-A441-06A237D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FF0-AC91-49B6-BA9A-10CF2A7B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55A-4E9A-4D00-A81A-51F5AEEB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01942-358F-4F95-812E-572AD72A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8799B-B8C9-4FD1-BF96-90C9921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3D23C-581B-40F3-B1F1-DA1D23F4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4BBF6-9DCC-48ED-A9C2-8EB90C07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663B5-D2DF-4C92-9014-038DB1F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47CC-BA0F-4C56-B014-5E8F7E4B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0444-945A-4B3B-AAE9-3A4D9D95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9A5-A3FC-4D29-8D41-0987BFEF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864F1-46D7-4815-963D-96C40DB4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19E17-64C0-4355-A13B-52CDEC9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ED39-1A13-4D59-9DC8-8D6272C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7865A-48E6-440E-ACEF-E503E56D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4B8F-0767-46BD-AAEB-BD897602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780-4275-4BBB-AC68-38462FF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CB8-9BB6-4564-A9EA-30713D6B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D74-4A59-465D-9572-55E59159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11D-114C-46B3-9D18-6F78E117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2D85-C067-4F36-BEBA-0834723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938-06FD-4A16-99A5-666A237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0070-2BCD-4404-829F-9071630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1849-4EFC-4150-BE8E-302103548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4C8A-7CC0-4A66-A306-52500FB90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52.radikal.ru/i137/1009/74/fe38d4440954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photos.lifeisphoto.ru/70/0/704722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extracar.od.ua/wp-content/gallery/auto_sign/mitsubishi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www.disput.az/uploads/av-26039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ikolyaseaman.ru/Bukmekers/terminologia.php?bukva=F" TargetMode="External"/><Relationship Id="rId3" Type="http://schemas.openxmlformats.org/officeDocument/2006/relationships/hyperlink" Target="http://nikolyaseaman.ru/Bukmekers/terminologia.php?bukva=F" TargetMode="External"/><Relationship Id="rId4" Type="http://schemas.openxmlformats.org/officeDocument/2006/relationships/hyperlink" Target="http://nikolyaseaman.ru/Bukmekers/terminologia.php?bukva=F" TargetMode="External"/><Relationship Id="rId5" Type="http://schemas.openxmlformats.org/officeDocument/2006/relationships/hyperlink" Target="http://nikolyaseaman.ru/Bukmekers/terminologia.php?bukva=F" TargetMode="External"/><Relationship Id="rId6" Type="http://schemas.openxmlformats.org/officeDocument/2006/relationships/hyperlink" Target="http://nikolyaseaman.ru/Bukmekers/terminologia.php?bukva=F" TargetMode="External"/><Relationship Id="rId7" Type="http://schemas.openxmlformats.org/officeDocument/2006/relationships/hyperlink" Target="http://nikolyaseaman.ru/Bukmekers/terminologia.php?bukva=F" TargetMode="External"/><Relationship Id="rId8" Type="http://schemas.openxmlformats.org/officeDocument/2006/relationships/hyperlink" Target="http://nikolyaseaman.ru/Bukmekers/terminologia.php?bukva=F" TargetMode="External"/><Relationship Id="rId9" Type="http://schemas.openxmlformats.org/officeDocument/2006/relationships/hyperlink" Target="http://www.pihtinauto.rostov.ru/" TargetMode="External"/><Relationship Id="rId10" Type="http://schemas.openxmlformats.org/officeDocument/2006/relationships/hyperlink" Target="http://www.pihtinauto.rostov.ru/" TargetMode="External"/><Relationship Id="rId11" Type="http://schemas.openxmlformats.org/officeDocument/2006/relationships/hyperlink" Target="http://www.pihtinauto.rostov.ru/" TargetMode="External"/><Relationship Id="rId12" Type="http://schemas.openxmlformats.org/officeDocument/2006/relationships/hyperlink" Target="http://www.pihtinauto.rostov.ru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aboutcards.files.wordpress.com/2009/07/queen-diamonds.pn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Comic Sans MS"/>
              </a:rPr>
              <a:t>РОМБ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 Требушинин Ива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к 8А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 СОШ 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ердл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000" y="1628640"/>
            <a:ext cx="28796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637000"/>
            <a:ext cx="273528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27640" y="2707920"/>
            <a:ext cx="28810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28640"/>
            <a:ext cx="273672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для устной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Найдите периметр ромба, если одна его сторона равна 4 с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Найдите углы ромба, если острый угол равен 3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565360"/>
            <a:ext cx="3384360" cy="1008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4508640"/>
            <a:ext cx="1008000" cy="180000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1: Р =16 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задаче 2: по свойству - противоположные углы ромба равны, значит в ромбе два угла по 3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 2 угла по 14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мб в жи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мкра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гура военных летч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используют, как знак автомоби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Картинка 3 из 372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1413000"/>
            <a:ext cx="2016000" cy="1582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Картинка 9 из 8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2060640"/>
            <a:ext cx="3276720" cy="2089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1 из 18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42920" y="5286240"/>
            <a:ext cx="2232000" cy="15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12 из 111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5086440"/>
            <a:ext cx="1568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каз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л был мистер Цилиндр и был он очень богатым банкиром. И жил мистер Квадрат, который был не очень богатым. Однажды мистер квадрат взял деньги в долг у мистера цилиндра...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ходит месяц, два , а мистер квадрат так и не отдаёт деньги мистеру цилиндру. Тогда мистер цилиндр идёт к мистеру квадрату и говорит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Отдавай деньги.- но мистер квадрат не отдал и тогда мистер цилиндр разозлился и попрыгал на мистере квадрате и получился мистер ромб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т и сказке конец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есные факт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олее 100 парашютистов сделали самую большой ромб в ми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омб, в котором проведены диагонал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читается одной из самых крепких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носливых конструкций. Такую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чень широко используют для построй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стов, зданий, и даже, для рамы мотоцик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7 из 133"/>
          <p:cNvPicPr/>
          <p:nvPr/>
        </p:nvPicPr>
        <p:blipFill>
          <a:blip r:embed="rId2"/>
          <a:stretch/>
        </p:blipFill>
        <p:spPr>
          <a:xfrm>
            <a:off x="5629320" y="2276640"/>
            <a:ext cx="3514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сыл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nikolyaseaman.ru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Bukmekers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terminologia.php?bukva=F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www.pihtinauto.rostov.ru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extracar.od.ua/cto?pid=382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lifeisphoto.ru/photo.aspx?id=704722&amp;repostid=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renika.beon.ru/3373-019-skazka-pro-romb.z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http://www.cx75planet.ru/forum/txt/index.php/t10368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такое ромб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- это параллелограмм, у которого все стороны ра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500280"/>
            <a:ext cx="4176720" cy="20894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860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501336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08360" y="3860640"/>
            <a:ext cx="21564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92360" y="5013360"/>
            <a:ext cx="287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явление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мб (от греч.) бубен. Если сейчас бубны делают круглой формы, то раньше их делали как раз в форме ромб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стати,  карты масти буб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еют знак в форме ромб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Картинка 1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43640" y="4149720"/>
            <a:ext cx="1800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войства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оположные стор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мба ра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точкой пересеч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ятся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онали взаим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Диагонали деля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ы попол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1628640"/>
            <a:ext cx="1214640" cy="1214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1916280"/>
            <a:ext cx="1447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877080" y="1916280"/>
            <a:ext cx="2160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2492280"/>
            <a:ext cx="21600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300360" y="242100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997360"/>
            <a:ext cx="1225440" cy="151272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6" idx="0"/>
            <a:endCxn id="106" idx="1"/>
          </p:cNvCxnSpPr>
          <p:nvPr/>
        </p:nvCxnSpPr>
        <p:spPr>
          <a:xfrm flipV="1">
            <a:off x="6408360" y="2997000"/>
            <a:ext cx="1080" cy="1513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372360" y="342900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07664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3645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67160" y="4508640"/>
            <a:ext cx="2736720" cy="1224000"/>
          </a:xfrm>
          <a:prstGeom prst="flowChartSor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4" idx="1"/>
          </p:cNvCxnSpPr>
          <p:nvPr/>
        </p:nvCxnSpPr>
        <p:spPr>
          <a:xfrm>
            <a:off x="4835160" y="4508640"/>
            <a:ext cx="1080" cy="122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 rot="10800000">
            <a:off x="4655880" y="4941360"/>
            <a:ext cx="3603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1"/>
            <a:endCxn id="116" idx="3"/>
          </p:cNvCxnSpPr>
          <p:nvPr/>
        </p:nvCxnSpPr>
        <p:spPr>
          <a:xfrm flipH="1">
            <a:off x="4656960" y="5122440"/>
            <a:ext cx="3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8" name=""/>
          <p:cNvCxnSpPr>
            <a:stCxn id="116" idx="2"/>
            <a:endCxn id="116" idx="0"/>
          </p:cNvCxnSpPr>
          <p:nvPr/>
        </p:nvCxnSpPr>
        <p:spPr>
          <a:xfrm>
            <a:off x="4836600" y="494316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3708360" y="5516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9" idx="3"/>
          </p:cNvCxnSpPr>
          <p:nvPr/>
        </p:nvCxnSpPr>
        <p:spPr>
          <a:xfrm>
            <a:off x="3708360" y="607824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21" name=""/>
          <p:cNvCxnSpPr>
            <a:stCxn id="119" idx="0"/>
            <a:endCxn id="119" idx="2"/>
          </p:cNvCxnSpPr>
          <p:nvPr/>
        </p:nvCxnSpPr>
        <p:spPr>
          <a:xfrm>
            <a:off x="5689080" y="5516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285440" y="5877000"/>
            <a:ext cx="430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139280" y="587664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435640" y="5301720"/>
            <a:ext cx="57672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435640" y="6308640"/>
            <a:ext cx="576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437080" y="5300280"/>
            <a:ext cx="57456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588000" y="587700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588000" y="5876640"/>
            <a:ext cx="57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30864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знаки ромб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Если в параллелограмме диагонали взаимно перпендикулярны, то это-ро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Если в параллелограмме диагонали делят углы пополам, то это-ром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328464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3203640" y="3860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5148000" y="328464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543564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716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0"/>
            <a:endCxn id="135" idx="0"/>
          </p:cNvCxnSpPr>
          <p:nvPr/>
        </p:nvCxnSpPr>
        <p:spPr>
          <a:xfrm>
            <a:off x="4858920" y="371592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8" name=""/>
          <p:cNvCxnSpPr>
            <a:stCxn id="136" idx="1"/>
            <a:endCxn id="135" idx="1"/>
          </p:cNvCxnSpPr>
          <p:nvPr/>
        </p:nvCxnSpPr>
        <p:spPr>
          <a:xfrm>
            <a:off x="4858920" y="4005000"/>
            <a:ext cx="57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5183280" y="5734080"/>
            <a:ext cx="3960720" cy="112392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5183280" y="6308280"/>
            <a:ext cx="396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>
            <a:off x="7164000" y="5734080"/>
            <a:ext cx="1080" cy="1124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6733080" y="6568920"/>
            <a:ext cx="72000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651640" y="6091920"/>
            <a:ext cx="5774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720" y="6093000"/>
            <a:ext cx="430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6021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101080" y="6093000"/>
            <a:ext cx="5767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8101080" y="6091920"/>
            <a:ext cx="573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77080" y="6570720"/>
            <a:ext cx="720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877080" y="5517000"/>
            <a:ext cx="57672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77440" y="5515560"/>
            <a:ext cx="5738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673200" y="5079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риметр ром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21207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=a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име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рона ром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– кол-во стор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ормула площ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=1/2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ahoma"/>
              </a:rPr>
              <a:t> 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–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щад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первая диагонал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вторая диагона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716000" y="3068640"/>
            <a:ext cx="1513080" cy="208764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9" name=""/>
          <p:cNvCxnSpPr>
            <a:stCxn id="157" idx="2"/>
            <a:endCxn id="157" idx="0"/>
          </p:cNvCxnSpPr>
          <p:nvPr/>
        </p:nvCxnSpPr>
        <p:spPr>
          <a:xfrm>
            <a:off x="4431960" y="4113000"/>
            <a:ext cx="2088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3635280" y="5516640"/>
            <a:ext cx="2521080" cy="134136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2"/>
            <a:endCxn id="160" idx="0"/>
          </p:cNvCxnSpPr>
          <p:nvPr/>
        </p:nvCxnSpPr>
        <p:spPr>
          <a:xfrm flipV="1">
            <a:off x="4895640" y="5516280"/>
            <a:ext cx="1080" cy="13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5435640" y="1700280"/>
            <a:ext cx="2449440" cy="12970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6660720" y="1699920"/>
            <a:ext cx="1080" cy="12978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64" name=""/>
          <p:cNvCxnSpPr>
            <a:stCxn id="162" idx="1"/>
            <a:endCxn id="162" idx="3"/>
          </p:cNvCxnSpPr>
          <p:nvPr/>
        </p:nvCxnSpPr>
        <p:spPr>
          <a:xfrm>
            <a:off x="5435640" y="2349000"/>
            <a:ext cx="2449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на закреп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1773360"/>
          <a:ext cx="8229600" cy="418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73512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905120"/>
          <a:ext cx="8229600" cy="411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1/2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1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=2S/ d</a:t>
                      </a:r>
                      <a:r>
                        <a:rPr b="0" lang="ru-RU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,5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1:37:47Z</dcterms:created>
  <dc:creator>Customer</dc:creator>
  <dc:description/>
  <dc:language>en-US</dc:language>
  <cp:lastModifiedBy>HOME</cp:lastModifiedBy>
  <dcterms:modified xsi:type="dcterms:W3CDTF">2011-01-27T18:46:38Z</dcterms:modified>
  <cp:revision>10</cp:revision>
  <dc:subject/>
  <dc:title>РОМБ </dc:title>
</cp:coreProperties>
</file>