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C5E4-D56C-4408-9C3F-1FD87A4DD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0D87-2BB1-4B00-AE14-2B28A4E3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C00C-901A-4540-8645-5DC0B7392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7491-B32F-429D-AA78-C100FACFC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E9B17-F515-4FA3-AC96-69C07A73C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35F3C-6759-4744-A22E-2C6EBF89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E6AB0-7733-48CC-9AF7-95DEFA38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AD578-8528-469C-8301-725E28F0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05B95-14BD-41B0-A319-C8DF04FF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75A8E-5E3A-4AB4-B3C2-1A9C22DD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1EB05-6DE1-457A-8435-299F8D85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E24A-BF26-4848-9B5F-1C4BA958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CA168-DC72-4B4E-A2E5-4DDC2CB9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A73CE-4E2B-4CAC-A44B-30FB9F10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0955B-5CD8-4CE4-B906-3BFE90D3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1B737-3490-465E-89CB-1B9AECCA8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B0103-12A7-493B-9F3E-680377986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70BE-4D88-429C-A5CE-A226AD4B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F582-8D50-4F9E-87E9-4D38A851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291D-8C70-489C-9F74-D2475BA8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FBE2-D33A-4B8F-A7CD-C33B08B5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A00E-1F47-42A0-923E-D45AEAB4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5738-1F8E-4F09-B16E-40A92D62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95F1-C2A5-4268-8C2C-63E35F8B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11A5-111E-4AF9-9DC3-E2A64D66A4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D901-EE60-43FE-83F9-2228A87735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52.radikal.ru/i137/1009/74/fe38d4440954.jp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photos.lifeisphoto.ru/70/0/704722.jpg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extracar.od.ua/wp-content/gallery/auto_sign/mitsubishi.jpg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www.disput.az/uploads/av-26039.jpg" TargetMode="External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ikolyaseaman.ru/Bukmekers/terminologia.php?bukva=F" TargetMode="External"/><Relationship Id="rId3" Type="http://schemas.openxmlformats.org/officeDocument/2006/relationships/hyperlink" Target="http://nikolyaseaman.ru/Bukmekers/terminologia.php?bukva=F" TargetMode="External"/><Relationship Id="rId4" Type="http://schemas.openxmlformats.org/officeDocument/2006/relationships/hyperlink" Target="http://nikolyaseaman.ru/Bukmekers/terminologia.php?bukva=F" TargetMode="External"/><Relationship Id="rId5" Type="http://schemas.openxmlformats.org/officeDocument/2006/relationships/hyperlink" Target="http://nikolyaseaman.ru/Bukmekers/terminologia.php?bukva=F" TargetMode="External"/><Relationship Id="rId6" Type="http://schemas.openxmlformats.org/officeDocument/2006/relationships/hyperlink" Target="http://nikolyaseaman.ru/Bukmekers/terminologia.php?bukva=F" TargetMode="External"/><Relationship Id="rId7" Type="http://schemas.openxmlformats.org/officeDocument/2006/relationships/hyperlink" Target="http://nikolyaseaman.ru/Bukmekers/terminologia.php?bukva=F" TargetMode="External"/><Relationship Id="rId8" Type="http://schemas.openxmlformats.org/officeDocument/2006/relationships/hyperlink" Target="http://nikolyaseaman.ru/Bukmekers/terminologia.php?bukva=F" TargetMode="External"/><Relationship Id="rId9" Type="http://schemas.openxmlformats.org/officeDocument/2006/relationships/hyperlink" Target="http://www.pihtinauto.rostov.ru/" TargetMode="External"/><Relationship Id="rId10" Type="http://schemas.openxmlformats.org/officeDocument/2006/relationships/hyperlink" Target="http://www.pihtinauto.rostov.ru/" TargetMode="External"/><Relationship Id="rId11" Type="http://schemas.openxmlformats.org/officeDocument/2006/relationships/hyperlink" Target="http://www.pihtinauto.rostov.ru/" TargetMode="External"/><Relationship Id="rId12" Type="http://schemas.openxmlformats.org/officeDocument/2006/relationships/hyperlink" Target="http://www.pihtinauto.rostov.ru/" TargetMode="External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llaboutcards.files.wordpress.com/2009/07/queen-diamonds.png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170028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Comic Sans MS"/>
              </a:rPr>
              <a:t>РОМБ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боту выполнил Требушинин Ива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ченик 8А класс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ОУ  СОШ  №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. Михайловс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вердловской област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692000" y="1628640"/>
            <a:ext cx="2879640" cy="100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92360" y="2637000"/>
            <a:ext cx="2735280" cy="115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427640" y="2707920"/>
            <a:ext cx="288108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1628640"/>
            <a:ext cx="273672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адачи для устной рабо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Найдите периметр ромба, если одна его сторона равна 4 с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Найдите углы ромба, если острый угол равен 35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0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2565360"/>
            <a:ext cx="3384360" cy="1008000"/>
          </a:xfrm>
          <a:prstGeom prst="diamond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3640" y="4508640"/>
            <a:ext cx="1008000" cy="1800000"/>
          </a:xfrm>
          <a:prstGeom prst="diamond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 задаче 1: Р =16 с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 задаче 2: по свойству - противоположные углы ромба равны, значит в ромбе два угла по 3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и 2 угла по 14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0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омб в жизн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омкра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Фигура военных летчи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омб используют, как знак автомоби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" descr="Картинка 3 из 3724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59280" y="1413000"/>
            <a:ext cx="2016000" cy="15825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Картинка 9 из 89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67280" y="2060640"/>
            <a:ext cx="3276720" cy="20890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Картинка 1 из 1885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042920" y="5286240"/>
            <a:ext cx="2232000" cy="15717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Картинка 12 из 1110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227640" y="5086440"/>
            <a:ext cx="156852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казк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Жил был мистер Цилиндр и был он очень богатым банкиром. И жил мистер Квадрат, который был не очень богатым. Однажды мистер квадрат взял деньги в долг у мистера цилиндра...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ходит месяц, два , а мистер квадрат так и не отдаёт деньги мистеру цилиндру. Тогда мистер цилиндр идёт к мистеру квадрату и говорит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Отдавай деньги.- но мистер квадрат не отдал и тогда мистер цилиндр разозлился и попрыгал на мистере квадрате и получился мистер ромб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т и сказке конец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нтересные факты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олее 100 парашютистов сделали самую большой ромб в ми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омб, в котором проведены диагонал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читается одной из самых крепких 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ыносливых конструкций. Такую конструкци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чень широко используют для постройк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остов, зданий, и даже, для рамы мотоцикл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" descr="Картинка 7 из 133"/>
          <p:cNvPicPr/>
          <p:nvPr/>
        </p:nvPicPr>
        <p:blipFill>
          <a:blip r:embed="rId2"/>
          <a:stretch/>
        </p:blipFill>
        <p:spPr>
          <a:xfrm>
            <a:off x="5629320" y="2276640"/>
            <a:ext cx="351468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сыл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://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nikolyaseaman.ru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/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Bukmekers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/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terminologia.php?bukva=F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http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://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www.pihtinauto.rostov.ru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http://extracar.od.ua/cto?pid=382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http://www.lifeisphoto.ru/photo.aspx?id=704722&amp;repostid=0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http://renika.beon.ru/3373-019-skazka-pro-romb.z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http://www.cx75planet.ru/forum/txt/index.php/t10368.htm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Что такое ромб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омб- это параллелограмм, у которого все стороны рав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2556000" y="3500280"/>
            <a:ext cx="4176720" cy="2089440"/>
          </a:xfrm>
          <a:prstGeom prst="diamond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386064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08720" y="5013360"/>
            <a:ext cx="28728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508360" y="3860640"/>
            <a:ext cx="21564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492360" y="5013360"/>
            <a:ext cx="28764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оявление ромб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омб (от греч.) бубен. Если сейчас бубны делают круглой формы, то раньше их делали как раз в форме ромб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стати,  карты масти бубн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меют знак в форме ромба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Картинка 1 из 22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43640" y="4149720"/>
            <a:ext cx="18003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войства ромб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тивоположные сторон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мба рав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иагонали точкой пересечен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лятся попола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иагонали взаимн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пендикуляр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Диагонали деля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глы попола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6084720" y="1628640"/>
            <a:ext cx="1214640" cy="1214640"/>
          </a:xfrm>
          <a:prstGeom prst="diamond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27640" y="1916280"/>
            <a:ext cx="144720" cy="142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877080" y="1916280"/>
            <a:ext cx="216000" cy="142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77080" y="2492280"/>
            <a:ext cx="21600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300360" y="2421000"/>
            <a:ext cx="14436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96000" y="2997360"/>
            <a:ext cx="1225440" cy="1512720"/>
          </a:xfrm>
          <a:prstGeom prst="flowChartSor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106" idx="0"/>
            <a:endCxn id="106" idx="1"/>
          </p:cNvCxnSpPr>
          <p:nvPr/>
        </p:nvCxnSpPr>
        <p:spPr>
          <a:xfrm flipV="1">
            <a:off x="6408360" y="2997000"/>
            <a:ext cx="1080" cy="15134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6372360" y="3429000"/>
            <a:ext cx="7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72360" y="4076640"/>
            <a:ext cx="7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84720" y="364500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12000" y="364500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88000" y="364500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59640" y="364500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67160" y="4508640"/>
            <a:ext cx="2736720" cy="1224000"/>
          </a:xfrm>
          <a:prstGeom prst="flowChartSor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4" idx="0"/>
            <a:endCxn id="114" idx="1"/>
          </p:cNvCxnSpPr>
          <p:nvPr/>
        </p:nvCxnSpPr>
        <p:spPr>
          <a:xfrm>
            <a:off x="4835160" y="4508640"/>
            <a:ext cx="1080" cy="12247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16" name=""/>
          <p:cNvSpPr/>
          <p:nvPr/>
        </p:nvSpPr>
        <p:spPr>
          <a:xfrm rot="10800000">
            <a:off x="4655880" y="4941360"/>
            <a:ext cx="3603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16" idx="1"/>
            <a:endCxn id="116" idx="3"/>
          </p:cNvCxnSpPr>
          <p:nvPr/>
        </p:nvCxnSpPr>
        <p:spPr>
          <a:xfrm flipH="1">
            <a:off x="4656960" y="5122440"/>
            <a:ext cx="36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18" name=""/>
          <p:cNvCxnSpPr>
            <a:stCxn id="116" idx="2"/>
            <a:endCxn id="116" idx="0"/>
          </p:cNvCxnSpPr>
          <p:nvPr/>
        </p:nvCxnSpPr>
        <p:spPr>
          <a:xfrm>
            <a:off x="4836600" y="494316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19" name=""/>
          <p:cNvSpPr/>
          <p:nvPr/>
        </p:nvSpPr>
        <p:spPr>
          <a:xfrm>
            <a:off x="3708360" y="5516640"/>
            <a:ext cx="3960720" cy="1123920"/>
          </a:xfrm>
          <a:prstGeom prst="diamond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19" idx="1"/>
            <a:endCxn id="119" idx="3"/>
          </p:cNvCxnSpPr>
          <p:nvPr/>
        </p:nvCxnSpPr>
        <p:spPr>
          <a:xfrm>
            <a:off x="3708360" y="6078240"/>
            <a:ext cx="396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21" name=""/>
          <p:cNvCxnSpPr>
            <a:stCxn id="119" idx="0"/>
            <a:endCxn id="119" idx="2"/>
          </p:cNvCxnSpPr>
          <p:nvPr/>
        </p:nvCxnSpPr>
        <p:spPr>
          <a:xfrm>
            <a:off x="5689080" y="5516640"/>
            <a:ext cx="1080" cy="1124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4285440" y="5877000"/>
            <a:ext cx="43056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139280" y="5876640"/>
            <a:ext cx="57672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5435640" y="5301720"/>
            <a:ext cx="576720" cy="5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435640" y="6308640"/>
            <a:ext cx="57672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437080" y="5300280"/>
            <a:ext cx="57456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588000" y="5877000"/>
            <a:ext cx="57744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6588000" y="5876640"/>
            <a:ext cx="57456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35640" y="6308640"/>
            <a:ext cx="57744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ризнаки ромб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Если в параллелограмме диагонали взаимно перпендикулярны, то это-ром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Если в параллелограмме диагонали делят углы пополам, то это-ром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3203640" y="3284640"/>
            <a:ext cx="3960720" cy="1123920"/>
          </a:xfrm>
          <a:prstGeom prst="diamond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3" name=""/>
          <p:cNvCxnSpPr/>
          <p:nvPr/>
        </p:nvCxnSpPr>
        <p:spPr>
          <a:xfrm>
            <a:off x="3203640" y="3860280"/>
            <a:ext cx="396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34" name=""/>
          <p:cNvCxnSpPr/>
          <p:nvPr/>
        </p:nvCxnSpPr>
        <p:spPr>
          <a:xfrm>
            <a:off x="5148000" y="3284640"/>
            <a:ext cx="1080" cy="1124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35" name=""/>
          <p:cNvSpPr/>
          <p:nvPr/>
        </p:nvSpPr>
        <p:spPr>
          <a:xfrm>
            <a:off x="5435640" y="3716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3716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6" idx="0"/>
            <a:endCxn id="135" idx="0"/>
          </p:cNvCxnSpPr>
          <p:nvPr/>
        </p:nvCxnSpPr>
        <p:spPr>
          <a:xfrm>
            <a:off x="4858920" y="3715920"/>
            <a:ext cx="577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38" name=""/>
          <p:cNvCxnSpPr>
            <a:stCxn id="136" idx="1"/>
            <a:endCxn id="135" idx="1"/>
          </p:cNvCxnSpPr>
          <p:nvPr/>
        </p:nvCxnSpPr>
        <p:spPr>
          <a:xfrm>
            <a:off x="4858920" y="4005000"/>
            <a:ext cx="577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39" name=""/>
          <p:cNvSpPr/>
          <p:nvPr/>
        </p:nvSpPr>
        <p:spPr>
          <a:xfrm>
            <a:off x="5183280" y="5734080"/>
            <a:ext cx="3960720" cy="1123920"/>
          </a:xfrm>
          <a:prstGeom prst="diamond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0" name=""/>
          <p:cNvCxnSpPr/>
          <p:nvPr/>
        </p:nvCxnSpPr>
        <p:spPr>
          <a:xfrm>
            <a:off x="5183280" y="6308280"/>
            <a:ext cx="396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41" name=""/>
          <p:cNvCxnSpPr/>
          <p:nvPr/>
        </p:nvCxnSpPr>
        <p:spPr>
          <a:xfrm>
            <a:off x="7164000" y="5734080"/>
            <a:ext cx="1080" cy="1124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42" name=""/>
          <p:cNvSpPr/>
          <p:nvPr/>
        </p:nvSpPr>
        <p:spPr>
          <a:xfrm>
            <a:off x="6733080" y="6568920"/>
            <a:ext cx="72000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651640" y="6091920"/>
            <a:ext cx="57744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6720" y="6093000"/>
            <a:ext cx="43056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64000" y="6021360"/>
            <a:ext cx="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8101080" y="6093000"/>
            <a:ext cx="57672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8101080" y="6091920"/>
            <a:ext cx="57384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877080" y="6570720"/>
            <a:ext cx="720000" cy="5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6877080" y="5517000"/>
            <a:ext cx="576720" cy="57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877440" y="5515560"/>
            <a:ext cx="57384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673200" y="50796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ериметр ромб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3200" y="212076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=a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имет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орона ромб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 – кол-во стор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Формула площад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=1/2 </a:t>
            </a:r>
            <a:r>
              <a:rPr b="0" lang="ru-RU" sz="3600" spc="-1" strike="noStrike" baseline="30000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3600" spc="-1" strike="noStrike" baseline="30000">
                <a:solidFill>
                  <a:srgbClr val="ffffff"/>
                </a:solidFill>
                <a:latin typeface="Tahoma"/>
              </a:rPr>
              <a:t> .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 –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лощад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первая диагонал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вторая диагона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4716000" y="3068640"/>
            <a:ext cx="1513080" cy="2087640"/>
          </a:xfrm>
          <a:prstGeom prst="diamond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57" idx="2"/>
            <a:endCxn id="157" idx="0"/>
          </p:cNvCxnSpPr>
          <p:nvPr/>
        </p:nvCxnSpPr>
        <p:spPr>
          <a:xfrm>
            <a:off x="4431960" y="4113000"/>
            <a:ext cx="20883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59" name=""/>
          <p:cNvCxnSpPr>
            <a:stCxn id="157" idx="2"/>
            <a:endCxn id="157" idx="0"/>
          </p:cNvCxnSpPr>
          <p:nvPr/>
        </p:nvCxnSpPr>
        <p:spPr>
          <a:xfrm>
            <a:off x="4431960" y="4113000"/>
            <a:ext cx="20883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60" name=""/>
          <p:cNvSpPr/>
          <p:nvPr/>
        </p:nvSpPr>
        <p:spPr>
          <a:xfrm>
            <a:off x="3635280" y="5516640"/>
            <a:ext cx="2521080" cy="1341360"/>
          </a:xfrm>
          <a:prstGeom prst="diamond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1" name=""/>
          <p:cNvCxnSpPr>
            <a:stCxn id="160" idx="2"/>
            <a:endCxn id="160" idx="0"/>
          </p:cNvCxnSpPr>
          <p:nvPr/>
        </p:nvCxnSpPr>
        <p:spPr>
          <a:xfrm flipV="1">
            <a:off x="4895640" y="5516280"/>
            <a:ext cx="1080" cy="1342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5435640" y="1700280"/>
            <a:ext cx="2449440" cy="1297080"/>
          </a:xfrm>
          <a:prstGeom prst="diamond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3" name=""/>
          <p:cNvCxnSpPr>
            <a:stCxn id="162" idx="0"/>
            <a:endCxn id="162" idx="2"/>
          </p:cNvCxnSpPr>
          <p:nvPr/>
        </p:nvCxnSpPr>
        <p:spPr>
          <a:xfrm>
            <a:off x="6660720" y="1699920"/>
            <a:ext cx="1080" cy="12978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64" name=""/>
          <p:cNvCxnSpPr>
            <a:stCxn id="162" idx="1"/>
            <a:endCxn id="162" idx="3"/>
          </p:cNvCxnSpPr>
          <p:nvPr/>
        </p:nvCxnSpPr>
        <p:spPr>
          <a:xfrm>
            <a:off x="5435640" y="2349000"/>
            <a:ext cx="24498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адачи на закрепле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68360" y="1773360"/>
          <a:ext cx="8229600" cy="41875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4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=1/2</a:t>
                      </a:r>
                      <a:r>
                        <a:rPr b="0" lang="ru-RU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1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</a:t>
                      </a:r>
                      <a:r>
                        <a:rPr b="0" lang="ru-RU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2S/ d</a:t>
                      </a:r>
                      <a:r>
                        <a:rPr b="0" lang="ru-RU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</a:t>
                      </a:r>
                      <a:r>
                        <a:rPr b="0" lang="ru-RU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2S/ d</a:t>
                      </a:r>
                      <a:r>
                        <a:rPr b="0" lang="ru-RU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,5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735120" y="56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905120"/>
          <a:ext cx="8229600" cy="4116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=1/2</a:t>
                      </a:r>
                      <a:r>
                        <a:rPr b="0" lang="ru-RU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1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</a:t>
                      </a:r>
                      <a:r>
                        <a:rPr b="0" lang="ru-RU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2S/ d</a:t>
                      </a:r>
                      <a:r>
                        <a:rPr b="0" lang="ru-RU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</a:t>
                      </a:r>
                      <a:r>
                        <a:rPr b="0" lang="ru-RU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2S/ d</a:t>
                      </a:r>
                      <a:r>
                        <a:rPr b="0" lang="ru-RU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,5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9T11:37:47Z</dcterms:created>
  <dc:creator>Customer</dc:creator>
  <dc:description/>
  <dc:language>en-US</dc:language>
  <cp:lastModifiedBy>HOME</cp:lastModifiedBy>
  <dcterms:modified xsi:type="dcterms:W3CDTF">2011-01-27T18:46:38Z</dcterms:modified>
  <cp:revision>10</cp:revision>
  <dc:subject/>
  <dc:title>РОМБ </dc:title>
</cp:coreProperties>
</file>