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2.png" ContentType="image/png"/>
  <Override PartName="/ppt/media/image24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283-9AE2-4D54-98B9-6B6AF0C1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BAC-4BE4-4838-BB41-1E94452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F35-8E2A-4D3B-AE84-1C26A16B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46E-2C7C-46B4-91F4-497435B5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3E6DC-9D31-4AB8-8C63-D605DCF3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B29ED-BA83-44A7-AF26-8C375DC2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79CB-D0BF-48A0-9C19-3A80AD2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39B9-500E-4DD8-9A85-7A8FFED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6DBAF-669F-4955-B517-E789B08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2B932-0E79-47DE-AD10-0DA4C14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A8895-0746-4FE4-9955-B246AEF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BDD-E1E4-430B-A601-962E67B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EEAC-37D4-47DF-AD16-803917E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441BA-9AFA-4271-B7BD-73E54C3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CF4B-E140-46F9-B110-D73F5A01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1A1A-7871-48EE-89C0-46D92D44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5765-55DE-481E-821F-32F93EC2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20A5-9ACB-491D-B5B7-AE3541C8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1A8A-2C9F-4B28-AD03-D2D8484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FEE7-72BF-4DEC-B2D4-B17460A7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05CF-77BC-4CAB-8836-CFAE1A0A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4C61-9D3A-4353-B039-958D2423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2F1-AF2E-44EF-B73E-95A42AC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8316-EF0C-4BD2-B2CA-F46316F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11D8-FAD2-4648-B5D1-74F1863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535F-1258-4693-9E3E-7458AE2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28F4-F635-4BAD-97A7-77CFCB9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BF9D-3397-4B3A-B4A7-F1D21E19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99EB-4E43-4DDD-9348-A4FC85D3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A612-99C3-43A4-8703-0997448D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FC0B4-4BAF-47C8-8DA3-CAF880FD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DC853-6EDE-4E67-9F22-CAC20DC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D2E56-A70D-4D65-854F-AEB8FA78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70E-6C2B-4153-B12C-6BC10129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5E191-F022-4B35-955C-E26ACA56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07BED-35F9-42AF-994A-51615FEF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C5A97-335F-452B-985C-4C1241F7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5CD35-0009-4E2A-B93D-4D7E3C7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D365A-DA62-4613-ABF6-5EE5174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586C6-AED7-4F4C-B38E-6470CD9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0671B-05C6-4EAC-AC0B-D6191B65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C7C6B-3113-42D2-A205-3F44DC8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81B0CA-3EF5-49A8-B573-A7CDA6EA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2D9-566E-4512-A22D-65D150EE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0E1-1F65-427A-9B68-2E11987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BDE-6491-47D7-8BC5-64A67539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052-DFBA-48AD-B6FC-DF602B3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189-92F4-4FFD-9B24-B20AF7E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0DB-AD28-497F-90AB-D3A9AF8C8994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E8BD-68B7-4B1A-8F4D-56C20F452D8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95A-8B48-4D06-B7D8-DB93741DDBD7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FFD6-0675-459E-AF9C-B95C9590B72E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1920" y="1628640"/>
            <a:ext cx="84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оль портр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художественной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273480" y="465300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верева Анастасия, 10 РН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ководитель: Демченко И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539640" y="0"/>
            <a:ext cx="80582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856880"/>
            <a:ext cx="79246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2% опрошенных считают, что портрет более живой и естественный, чем фотография, передаёт чувства и эмо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0% опрошенных считают, что любой портрет – это видение самого художника, т.е. с помощью портрета мы можем посмотреть на себя со сторо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38% опрошенных отдают своё предпочтение фотографиям, считая, что они наиболее точные и реалистичны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4d26"/>
                </a:solidFill>
                <a:latin typeface="Constantia"/>
              </a:rPr>
              <a:t>Только 38% всех опрошенных имеют свой рисованный портр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Текст 1" descr=""/>
          <p:cNvPicPr/>
          <p:nvPr/>
        </p:nvPicPr>
        <p:blipFill>
          <a:blip r:embed="rId1"/>
          <a:stretch/>
        </p:blipFill>
        <p:spPr>
          <a:xfrm>
            <a:off x="249120" y="1195560"/>
            <a:ext cx="4657680" cy="12492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6" descr="Юрий Лотман.JPG"/>
          <p:cNvPicPr/>
          <p:nvPr/>
        </p:nvPicPr>
        <p:blipFill>
          <a:blip r:embed="rId2"/>
          <a:stretch/>
        </p:blipFill>
        <p:spPr>
          <a:xfrm>
            <a:off x="900000" y="2637000"/>
            <a:ext cx="3071880" cy="357156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7" descr="Латур.jpg"/>
          <p:cNvPicPr/>
          <p:nvPr/>
        </p:nvPicPr>
        <p:blipFill>
          <a:blip r:embed="rId3"/>
          <a:stretch/>
        </p:blipFill>
        <p:spPr>
          <a:xfrm>
            <a:off x="5219640" y="2708280"/>
            <a:ext cx="291456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17" name="Текст 5"/>
          <p:cNvGrpSpPr/>
          <p:nvPr/>
        </p:nvGrpSpPr>
        <p:grpSpPr>
          <a:xfrm>
            <a:off x="4200480" y="1407960"/>
            <a:ext cx="4943520" cy="774720"/>
            <a:chOff x="4200480" y="1407960"/>
            <a:chExt cx="4943520" cy="774720"/>
          </a:xfrm>
        </p:grpSpPr>
        <p:pic>
          <p:nvPicPr>
            <p:cNvPr id="218" name="Текст 5" descr=""/>
            <p:cNvPicPr/>
            <p:nvPr/>
          </p:nvPicPr>
          <p:blipFill>
            <a:blip r:embed="rId4"/>
            <a:stretch/>
          </p:blipFill>
          <p:spPr>
            <a:xfrm>
              <a:off x="4200480" y="1407960"/>
              <a:ext cx="4943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08400" y="1417680"/>
              <a:ext cx="4929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44d26"/>
                  </a:solidFill>
                  <a:latin typeface="Constantia"/>
                </a:rPr>
                <a:t>Латур – французский портрет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470160" y="404640"/>
            <a:ext cx="84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гляд на роль портрета в разных видах искус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4" descr="Военная галерея Зимнего дворца.jpg"/>
          <p:cNvPicPr/>
          <p:nvPr/>
        </p:nvPicPr>
        <p:blipFill>
          <a:blip r:embed="rId2"/>
          <a:stretch/>
        </p:blipFill>
        <p:spPr>
          <a:xfrm>
            <a:off x="684360" y="1125360"/>
            <a:ext cx="3384360" cy="4415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3836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6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Военная галерея Зимнего двор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42560" y="33336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роль портрета –украшение  помещений и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память о людях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446280" cy="412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35840" y="5661000"/>
            <a:ext cx="27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Генрих </a:t>
            </a:r>
            <a:r>
              <a:rPr b="1" lang="en-US" sz="2400" spc="-1" strike="noStrike">
                <a:solidFill>
                  <a:srgbClr val="444d26"/>
                </a:solidFill>
                <a:latin typeface="Georgia"/>
              </a:rPr>
              <a:t>VIII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Georgia"/>
              </a:rPr>
              <a:t>король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280" y="333000"/>
            <a:ext cx="817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Рассмотрев современную роль портрета и отношение к нему людей, сопоставив  несколько литературных произведений, в которых используется портрет,     я пришла к выводу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чт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ртрет в литературе приобретает больше функций, чем в живописи и фотоискусств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- описание героя, которое присутствует                       в  каждом произведен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является деталью интерьера, неся какую-то информацию о герое (например, в рассказе А.С.Пушкина «Станционный смотритель»; в поэме Некрасова «Кому на Руси жить хорошо»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ртрет является действующим лицом произведения, то есть  имеет важную роль в произведении (например, в повести Н.В.Гоголя «Портрет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4" descr="Лужин. Д.Шмаринов.jpeg"/>
          <p:cNvPicPr/>
          <p:nvPr/>
        </p:nvPicPr>
        <p:blipFill>
          <a:blip r:embed="rId1"/>
          <a:stretch/>
        </p:blipFill>
        <p:spPr>
          <a:xfrm>
            <a:off x="611280" y="1557360"/>
            <a:ext cx="3549600" cy="4727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00360" y="1483920"/>
            <a:ext cx="43606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ртрет живописный показывает внешность человека и может передать эмоции, чувства, частично внутренний ми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ртрет литературный более полно и подробно описывает внешность и внутренний мир геро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И литературный, и живописный портрет изображается так, как видит человека автор, художни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0560" y="404640"/>
            <a:ext cx="8620200" cy="85752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а и различия портрета живописного и портрета литературного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Текст 1" descr=""/>
          <p:cNvPicPr/>
          <p:nvPr/>
        </p:nvPicPr>
        <p:blipFill>
          <a:blip r:embed="rId1"/>
          <a:stretch/>
        </p:blipFill>
        <p:spPr>
          <a:xfrm>
            <a:off x="469800" y="1554120"/>
            <a:ext cx="4052880" cy="77472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6" descr="Настасья Филипповна.А.Галеркин.jpeg"/>
          <p:cNvPicPr/>
          <p:nvPr/>
        </p:nvPicPr>
        <p:blipFill>
          <a:blip r:embed="rId2"/>
          <a:stretch/>
        </p:blipFill>
        <p:spPr>
          <a:xfrm>
            <a:off x="826920" y="2349360"/>
            <a:ext cx="3175200" cy="422280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7" descr="Настасья Филипповна.И.Глазунов.jpeg"/>
          <p:cNvPicPr/>
          <p:nvPr/>
        </p:nvPicPr>
        <p:blipFill>
          <a:blip r:embed="rId3"/>
          <a:stretch/>
        </p:blipFill>
        <p:spPr>
          <a:xfrm>
            <a:off x="5292720" y="2421000"/>
            <a:ext cx="2849400" cy="4151160"/>
          </a:xfrm>
          <a:prstGeom prst="rect">
            <a:avLst/>
          </a:prstGeom>
          <a:ln w="0">
            <a:noFill/>
          </a:ln>
        </p:spPr>
      </p:pic>
      <p:grpSp>
        <p:nvGrpSpPr>
          <p:cNvPr id="233" name="Текст 5"/>
          <p:cNvGrpSpPr/>
          <p:nvPr/>
        </p:nvGrpSpPr>
        <p:grpSpPr>
          <a:xfrm>
            <a:off x="4638600" y="1554120"/>
            <a:ext cx="4054680" cy="774720"/>
            <a:chOff x="4638600" y="1554120"/>
            <a:chExt cx="4054680" cy="774720"/>
          </a:xfrm>
        </p:grpSpPr>
        <p:pic>
          <p:nvPicPr>
            <p:cNvPr id="234" name="Текст 5" descr=""/>
            <p:cNvPicPr/>
            <p:nvPr/>
          </p:nvPicPr>
          <p:blipFill>
            <a:blip r:embed="rId4"/>
            <a:stretch/>
          </p:blipFill>
          <p:spPr>
            <a:xfrm>
              <a:off x="4638600" y="1554120"/>
              <a:ext cx="4054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46520" y="1562040"/>
              <a:ext cx="404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444d26"/>
                  </a:solidFill>
                  <a:latin typeface="Constantia"/>
                </a:rPr>
                <a:t>Художник И.Глазуно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974160" y="333360"/>
            <a:ext cx="735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ллюстрированный портр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стасьи Филиппо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ероини романа Ф.М.Достоевского «Иди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2"/>
          <p:cNvSpPr/>
          <p:nvPr/>
        </p:nvSpPr>
        <p:spPr>
          <a:xfrm>
            <a:off x="2071800" y="214200"/>
            <a:ext cx="4143240" cy="13575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ртре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писание гер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Прямая со стрелкой 4"/>
          <p:cNvCxnSpPr>
            <a:stCxn id="237" idx="3"/>
          </p:cNvCxnSpPr>
          <p:nvPr/>
        </p:nvCxnSpPr>
        <p:spPr>
          <a:xfrm flipH="1">
            <a:off x="1999440" y="1372680"/>
            <a:ext cx="678600" cy="6994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39" name="Прямоугольник 5"/>
          <p:cNvSpPr/>
          <p:nvPr/>
        </p:nvSpPr>
        <p:spPr>
          <a:xfrm>
            <a:off x="714240" y="2143080"/>
            <a:ext cx="200052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7"/>
          <p:cNvCxnSpPr>
            <a:stCxn id="237" idx="5"/>
          </p:cNvCxnSpPr>
          <p:nvPr/>
        </p:nvCxnSpPr>
        <p:spPr>
          <a:xfrm>
            <a:off x="5580000" y="1413000"/>
            <a:ext cx="892800" cy="699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41" name="Прямоугольник 8"/>
          <p:cNvSpPr/>
          <p:nvPr/>
        </p:nvSpPr>
        <p:spPr>
          <a:xfrm>
            <a:off x="5643720" y="2143080"/>
            <a:ext cx="20001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утренн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9"/>
          <p:cNvSpPr/>
          <p:nvPr/>
        </p:nvSpPr>
        <p:spPr>
          <a:xfrm>
            <a:off x="571680" y="3214800"/>
            <a:ext cx="2214360" cy="3071880"/>
          </a:xfrm>
          <a:custGeom>
            <a:avLst/>
            <a:gdLst>
              <a:gd name="textAreaLeft" fmla="*/ 108000 w 2214360"/>
              <a:gd name="textAreaRight" fmla="*/ 2106360 w 2214360"/>
              <a:gd name="textAreaTop" fmla="*/ 108000 h 3071880"/>
              <a:gd name="textAreaBottom" fmla="*/ 2963880 h 3071880"/>
            </a:gdLst>
            <a:ahLst/>
            <a:rect l="textAreaLeft" t="textAreaTop" r="textAreaRight" b="textAreaBottom"/>
            <a:pathLst>
              <a:path w="21600" h="29963">
                <a:moveTo>
                  <a:pt x="3600" y="0"/>
                </a:moveTo>
                <a:arcTo wR="3600" hR="3600" stAng="16200000" swAng="-5400000"/>
                <a:lnTo>
                  <a:pt x="0" y="26363"/>
                </a:lnTo>
                <a:arcTo wR="3600" hR="3600" stAng="10800000" swAng="-5400000"/>
                <a:lnTo>
                  <a:pt x="18000" y="29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Очень худоща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ерненький господин,  заросший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есь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бакенбардами,  усами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спаньолкой. Он был одет с умышленной небрежност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5643720" y="3286080"/>
            <a:ext cx="2071440" cy="7146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иалоги и монологи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3"/>
          <p:cNvSpPr/>
          <p:nvPr/>
        </p:nvSpPr>
        <p:spPr>
          <a:xfrm>
            <a:off x="5643720" y="4357800"/>
            <a:ext cx="2000160" cy="5713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31"/>
          <p:cNvSpPr/>
          <p:nvPr/>
        </p:nvSpPr>
        <p:spPr>
          <a:xfrm flipH="1">
            <a:off x="6643800" y="4930920"/>
            <a:ext cx="1440" cy="35712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2"/>
          <p:cNvSpPr/>
          <p:nvPr/>
        </p:nvSpPr>
        <p:spPr>
          <a:xfrm>
            <a:off x="5643720" y="5214960"/>
            <a:ext cx="20714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ведение,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7"/>
          <p:cNvSpPr/>
          <p:nvPr/>
        </p:nvSpPr>
        <p:spPr>
          <a:xfrm>
            <a:off x="5643720" y="6072120"/>
            <a:ext cx="200016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39"/>
          <p:cNvSpPr/>
          <p:nvPr/>
        </p:nvSpPr>
        <p:spPr>
          <a:xfrm flipH="1">
            <a:off x="6643800" y="3000240"/>
            <a:ext cx="1440" cy="307368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4" descr="Сон Обломова. Табурин.jpeg"/>
          <p:cNvPicPr/>
          <p:nvPr/>
        </p:nvPicPr>
        <p:blipFill>
          <a:blip r:embed="rId1"/>
          <a:stretch/>
        </p:blipFill>
        <p:spPr>
          <a:xfrm>
            <a:off x="611280" y="1413000"/>
            <a:ext cx="4579920" cy="5087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580000" y="1557000"/>
            <a:ext cx="30513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444d26"/>
                </a:solidFill>
                <a:latin typeface="Constantia"/>
              </a:rPr>
              <a:t>Хочется ему и  в овраг сбегать: он всего саженях в пятидесяти от  сада; ребенок уж прибегал к краю, зажмурил  глаза, хотел заглянуть,  как  в кратер вулкана..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63080" cy="542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Обломова. В.Табурин.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Сикстинская Мадонна"/>
          <p:cNvPicPr/>
          <p:nvPr/>
        </p:nvPicPr>
        <p:blipFill>
          <a:blip r:embed="rId1"/>
          <a:stretch/>
        </p:blipFill>
        <p:spPr>
          <a:xfrm>
            <a:off x="285840" y="428760"/>
            <a:ext cx="4403520" cy="59990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4929120" y="50004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го, как герой увидел картину «Сикстинская мадонн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 тем бесчисленные сним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ртины, которые мне приход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, оставляли меня в совершенном недоумении, чем тут можно восхищаться. Мне нрав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два ангелочка внизу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смотра картины геро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вдруг – незаметно, нечувствительно – все вокруг как будто стало исч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ли люди и стены. Исчез вычурный иконостас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герой увидел карт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душе было так, как будто в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илось что-то очень важное и особенное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идел, и вдруг светлая, подним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у радость охватила меня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549360"/>
            <a:ext cx="806436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Моя гипотеза подтвердилас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Литературный портрет нужен для тог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чтобы лучше понять героя произведения, представить его себе таким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каким представлял его авто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Когда автор использует портрет в роли героя произведения,  он показывает функции портрета             в обычной жизни, приближая произведение                        к реальности, что не только помогает луч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44d26"/>
                </a:solidFill>
                <a:latin typeface="Arial"/>
              </a:rPr>
              <a:t>понять и осмыслить произведение,                             но и увидеть истинные ценности жизни через это художественное произведен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Анна Одинцова Боровский.jpeg"/>
          <p:cNvPicPr/>
          <p:nvPr/>
        </p:nvPicPr>
        <p:blipFill>
          <a:blip r:embed="rId1"/>
          <a:stretch/>
        </p:blipFill>
        <p:spPr>
          <a:xfrm>
            <a:off x="684360" y="549360"/>
            <a:ext cx="3355920" cy="5087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1640" y="620640"/>
            <a:ext cx="40006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Constantia"/>
              </a:rPr>
              <a:t>Анна Одинцо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Constantia"/>
              </a:rPr>
              <a:t>в описании  И.С.Турге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44d26"/>
                </a:solidFill>
                <a:latin typeface="Constantia"/>
              </a:rPr>
              <a:t>       </a:t>
            </a:r>
            <a:r>
              <a:rPr b="1" i="1" lang="ru-RU" sz="2400" spc="-1" strike="noStrike">
                <a:solidFill>
                  <a:srgbClr val="444d26"/>
                </a:solidFill>
                <a:latin typeface="Constantia"/>
              </a:rPr>
              <a:t>Женщина высокого роста,  с достоинством осанки. «Спокойно и умно, именно спокойно, а не задумчиво, глядели светлые глаза из-под немного нависшего белого лба, и губы улыбались едва замет-ною улыбкою. Какою-то ласковой и мягкой силой веяло от ее лица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11280" y="5661000"/>
            <a:ext cx="3240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Анна Одинцова                           в представлении художника  Д.Бор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5" descr="Обломов.Мазурин.jpeg"/>
          <p:cNvPicPr/>
          <p:nvPr/>
        </p:nvPicPr>
        <p:blipFill>
          <a:blip r:embed="rId1"/>
          <a:stretch/>
        </p:blipFill>
        <p:spPr>
          <a:xfrm>
            <a:off x="2857680" y="1928880"/>
            <a:ext cx="3500280" cy="435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57160" y="999720"/>
            <a:ext cx="70516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Литературный портрет нужен для того, чтобы раскрыть внутренний мир героя и воздействовать на читател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99680" y="285480"/>
            <a:ext cx="3119400" cy="78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44600" y="585720"/>
            <a:ext cx="8059680" cy="1206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7120" y="2071440"/>
            <a:ext cx="79250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Рассмотреть, что такое портрет в разных видах искус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Сравнить портрет живописный и портрет литератур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ровести опрос об отношении школьников к портрету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Посмотреть на особенности изображения портретов                                 в художественных произведен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Сделать вывод по исследовательской рабо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1" name="Содержимое 6" descr="76.gif"/>
          <p:cNvPicPr/>
          <p:nvPr/>
        </p:nvPicPr>
        <p:blipFill>
          <a:blip r:embed="rId2"/>
          <a:stretch/>
        </p:blipFill>
        <p:spPr>
          <a:xfrm>
            <a:off x="1000080" y="2286000"/>
            <a:ext cx="29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7" descr="Гравюра.jpg"/>
          <p:cNvPicPr/>
          <p:nvPr/>
        </p:nvPicPr>
        <p:blipFill>
          <a:blip r:embed="rId3"/>
          <a:stretch/>
        </p:blipFill>
        <p:spPr>
          <a:xfrm>
            <a:off x="5286240" y="2286000"/>
            <a:ext cx="2692440" cy="39132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4" descr=""/>
          <p:cNvPicPr/>
          <p:nvPr/>
        </p:nvPicPr>
        <p:blipFill>
          <a:blip r:embed="rId4"/>
          <a:stretch/>
        </p:blipFill>
        <p:spPr>
          <a:xfrm>
            <a:off x="420840" y="281160"/>
            <a:ext cx="82422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84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85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444d26"/>
                  </a:solidFill>
                  <a:latin typeface="Constantia"/>
                </a:rPr>
                <a:t>Гравю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Текст 1" descr=""/>
          <p:cNvPicPr/>
          <p:nvPr/>
        </p:nvPicPr>
        <p:blipFill>
          <a:blip r:embed="rId2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6" descr="Графичесуий портрет.jpg"/>
          <p:cNvPicPr/>
          <p:nvPr/>
        </p:nvPicPr>
        <p:blipFill>
          <a:blip r:embed="rId3"/>
          <a:stretch/>
        </p:blipFill>
        <p:spPr>
          <a:xfrm>
            <a:off x="857160" y="2286000"/>
            <a:ext cx="2982960" cy="39132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Константин.jpg"/>
          <p:cNvPicPr/>
          <p:nvPr/>
        </p:nvPicPr>
        <p:blipFill>
          <a:blip r:embed="rId4"/>
          <a:stretch/>
        </p:blipFill>
        <p:spPr>
          <a:xfrm>
            <a:off x="5076720" y="2286000"/>
            <a:ext cx="306720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90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91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Скульптур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3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7937640" cy="888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14240" y="1857240"/>
            <a:ext cx="79250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Constantia"/>
              </a:rPr>
              <a:t>«Штольц ровесник Обломову: и ему уже за тридцать лет.    Он весь составлен  из костей, мускулов и нервов, как кровная английская лошадь.  Он  худощав; щек у него  почти  вовсе  нет, то есть  кость  да мускул, но  ни признака  жирной округлости; цвет лица ровный,  смугловатый и никакого румянца; глаза хотя немного зеленоватые, но выразительные.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6" descr="Амбрауаз Воллар. Ренуар(импрессионизм).jpg"/>
          <p:cNvPicPr/>
          <p:nvPr/>
        </p:nvPicPr>
        <p:blipFill>
          <a:blip r:embed="rId2"/>
          <a:stretch/>
        </p:blipFill>
        <p:spPr>
          <a:xfrm>
            <a:off x="900000" y="2205000"/>
            <a:ext cx="3213360" cy="39132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4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993960"/>
          </a:xfrm>
          <a:prstGeom prst="rect">
            <a:avLst/>
          </a:prstGeom>
          <a:ln w="0">
            <a:noFill/>
          </a:ln>
        </p:spPr>
      </p:pic>
      <p:grpSp>
        <p:nvGrpSpPr>
          <p:cNvPr id="197" name="Текст 5"/>
          <p:cNvGrpSpPr/>
          <p:nvPr/>
        </p:nvGrpSpPr>
        <p:grpSpPr>
          <a:xfrm>
            <a:off x="249120" y="1341360"/>
            <a:ext cx="4438800" cy="773280"/>
            <a:chOff x="249120" y="1341360"/>
            <a:chExt cx="4438800" cy="773280"/>
          </a:xfrm>
        </p:grpSpPr>
        <p:pic>
          <p:nvPicPr>
            <p:cNvPr id="198" name="Текст 5" descr=""/>
            <p:cNvPicPr/>
            <p:nvPr/>
          </p:nvPicPr>
          <p:blipFill>
            <a:blip r:embed="rId4"/>
            <a:stretch/>
          </p:blipFill>
          <p:spPr>
            <a:xfrm>
              <a:off x="249120" y="1341360"/>
              <a:ext cx="44388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4160" y="1346040"/>
              <a:ext cx="442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Ренуа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импрессион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Содержимое 6" descr="Амбруаз Воллар. Сезанн(постимпрессионизм).jpg"/>
          <p:cNvPicPr/>
          <p:nvPr/>
        </p:nvPicPr>
        <p:blipFill>
          <a:blip r:embed="rId5"/>
          <a:stretch/>
        </p:blipFill>
        <p:spPr>
          <a:xfrm>
            <a:off x="5219640" y="2349360"/>
            <a:ext cx="32115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201" name="Текст 5"/>
          <p:cNvGrpSpPr/>
          <p:nvPr/>
        </p:nvGrpSpPr>
        <p:grpSpPr>
          <a:xfrm>
            <a:off x="4356000" y="1341360"/>
            <a:ext cx="4438800" cy="772920"/>
            <a:chOff x="4356000" y="1341360"/>
            <a:chExt cx="4438800" cy="772920"/>
          </a:xfrm>
        </p:grpSpPr>
        <p:pic>
          <p:nvPicPr>
            <p:cNvPr id="202" name="Текст 5" descr=""/>
            <p:cNvPicPr/>
            <p:nvPr/>
          </p:nvPicPr>
          <p:blipFill>
            <a:blip r:embed="rId6"/>
            <a:stretch/>
          </p:blipFill>
          <p:spPr>
            <a:xfrm>
              <a:off x="4356000" y="1341360"/>
              <a:ext cx="4438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361040" y="1349280"/>
              <a:ext cx="442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Сезан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постимпрессион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7" descr="Амбруаз Воллар. Фотография.jpg"/>
          <p:cNvPicPr/>
          <p:nvPr/>
        </p:nvPicPr>
        <p:blipFill>
          <a:blip r:embed="rId2"/>
          <a:stretch/>
        </p:blipFill>
        <p:spPr>
          <a:xfrm>
            <a:off x="4932360" y="1773360"/>
            <a:ext cx="3362400" cy="4505040"/>
          </a:xfrm>
          <a:prstGeom prst="rect">
            <a:avLst/>
          </a:prstGeom>
          <a:ln w="0">
            <a:noFill/>
          </a:ln>
        </p:spPr>
      </p:pic>
      <p:grpSp>
        <p:nvGrpSpPr>
          <p:cNvPr id="205" name="Текст 5"/>
          <p:cNvGrpSpPr/>
          <p:nvPr/>
        </p:nvGrpSpPr>
        <p:grpSpPr>
          <a:xfrm>
            <a:off x="4572000" y="549360"/>
            <a:ext cx="4054320" cy="774720"/>
            <a:chOff x="4572000" y="549360"/>
            <a:chExt cx="4054320" cy="774720"/>
          </a:xfrm>
        </p:grpSpPr>
        <p:pic>
          <p:nvPicPr>
            <p:cNvPr id="206" name="Текст 5" descr=""/>
            <p:cNvPicPr/>
            <p:nvPr/>
          </p:nvPicPr>
          <p:blipFill>
            <a:blip r:embed="rId3"/>
            <a:stretch/>
          </p:blipFill>
          <p:spPr>
            <a:xfrm>
              <a:off x="4572000" y="549360"/>
              <a:ext cx="4054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9560" y="55908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Фотографи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Содержимое 7" descr="Амбруаз Воллар. Пикассо(аналитический кубизм).jpg"/>
          <p:cNvPicPr/>
          <p:nvPr/>
        </p:nvPicPr>
        <p:blipFill>
          <a:blip r:embed="rId4"/>
          <a:stretch/>
        </p:blipFill>
        <p:spPr>
          <a:xfrm>
            <a:off x="900000" y="1773360"/>
            <a:ext cx="33321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Текст 5"/>
          <p:cNvGrpSpPr/>
          <p:nvPr/>
        </p:nvGrpSpPr>
        <p:grpSpPr>
          <a:xfrm>
            <a:off x="468360" y="765000"/>
            <a:ext cx="4437000" cy="773280"/>
            <a:chOff x="468360" y="765000"/>
            <a:chExt cx="4437000" cy="773280"/>
          </a:xfrm>
        </p:grpSpPr>
        <p:pic>
          <p:nvPicPr>
            <p:cNvPr id="210" name="Текст 5" descr=""/>
            <p:cNvPicPr/>
            <p:nvPr/>
          </p:nvPicPr>
          <p:blipFill>
            <a:blip r:embed="rId5"/>
            <a:stretch/>
          </p:blipFill>
          <p:spPr>
            <a:xfrm>
              <a:off x="468360" y="765000"/>
              <a:ext cx="44370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73040" y="769680"/>
              <a:ext cx="4426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Пикассо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44d26"/>
                  </a:solidFill>
                  <a:latin typeface="Constantia"/>
                </a:rPr>
                <a:t>(аналитический кубизм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04T00:15:16Z</dcterms:modified>
  <cp:revision>43</cp:revision>
  <dc:subject/>
  <dc:title>Слайд 1</dc:title>
</cp:coreProperties>
</file>