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641-A2DE-41BF-AB06-4205C2B8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E6A-83B9-49BD-B203-5AD1E87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800-7BF8-4AE8-B1A6-6E0060B9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637-DE85-4CA0-BAAC-C8697366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D57C-AED7-432E-AAAF-BBB3D093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59FB-8E55-4429-B679-86C4567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03227-01E2-4C45-BC6C-67E665D6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1F1C-9E4F-42C7-AF77-7E246B2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C8AF-45C3-4195-B710-974237FC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D9243-9DB5-44B2-B312-793A8676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6350F-EFE6-4192-8B0F-B98AA51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74F-D6B6-467D-B363-50EEFA7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6F0C9-4818-460D-AD87-82C1C1B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215C0-7AAF-4ECA-B0D5-EFCC542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FB67-4ADD-4166-B312-E87F915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0B51A-578D-46C3-A6D9-224F475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D63D4-6A7C-4BF6-BBB1-BC8B743D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DBE0-C633-4790-AB53-B7CD583D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EB36-EE96-4FFC-9EB8-24C66E1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6A91-1788-4F1B-B1B3-13C7645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0894-C5F3-4B39-AA3F-730ED219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951C-0C6D-4251-A957-9512585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D32-38FD-4940-A9DA-4C410D5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3BB2-8E9A-40FB-BC78-92E167D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9761-8F08-4896-B7A7-6918141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14D3-BBB8-46DB-9B6D-B85DC0B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A5C3-E332-4F17-8694-9BD5286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55F9-23AC-4449-BF20-8095D3A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26AB-C513-4DB2-A230-DD9C8FD0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D851-27B1-4F4D-8513-40BD322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D56C0-7C91-419B-9AA0-AF3F9360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789F2-9CD5-4C46-A7CF-AF6ADD39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AA464-E5CD-4882-9C25-7BEA575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BC8-D7B7-4814-BE88-E2A969A2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FBCD0-701B-45F0-B6DD-2C7BC1A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6D711-0D6F-4155-906A-468688F2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04D0CA-0790-4D61-8213-9460B92F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358C2-7556-4C49-A159-872F7DE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45620-C482-43D6-A348-B8FA496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A1966-5B70-4C60-9992-48929BE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5897B-2025-4BB0-A046-F8E90C6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1993E-63C1-4B0F-AB72-4CC767B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4F303-7FA0-4FB0-B76D-2AEE478E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1B9-4B2A-4F60-94F6-00247D19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DF8-09A2-41D1-9436-36ECED2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238-3040-4F68-A8DA-E123EEB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E54-068B-4F3D-804D-86C0783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128-9A15-43E4-957D-DDCE020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1D4-5FD0-46A1-88A2-6D431EBE8C0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5D3-B36E-46C7-AFE3-A267531C4D8D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8AF-69BE-4B9B-9526-978128AB8D3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181-968F-4520-AE7F-3628311F7F50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1920" y="162864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оль портр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художественной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273480" y="465300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верева Анастасия, 10 РН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ководитель: Демченко И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80582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856880"/>
            <a:ext cx="79246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2% опрошенных считают, что портрет более живой и естественный, чем фотография, передаёт чувства и эмо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0% опрошенных считают, что любой портрет – это видение самого художника, т.е. с помощью портрета мы можем посмотреть на себя со сторо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8% опрошенных отдают своё предпочтение фотографиям, считая, что они наиболее точные и реалистичны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Только 38% всех опрошенных имеют свой рисованный портр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Текст 1" descr=""/>
          <p:cNvPicPr/>
          <p:nvPr/>
        </p:nvPicPr>
        <p:blipFill>
          <a:blip r:embed="rId1"/>
          <a:stretch/>
        </p:blipFill>
        <p:spPr>
          <a:xfrm>
            <a:off x="249120" y="1195560"/>
            <a:ext cx="4657680" cy="12492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6" descr="Юрий Лотман.JPG"/>
          <p:cNvPicPr/>
          <p:nvPr/>
        </p:nvPicPr>
        <p:blipFill>
          <a:blip r:embed="rId2"/>
          <a:stretch/>
        </p:blipFill>
        <p:spPr>
          <a:xfrm>
            <a:off x="900000" y="2637000"/>
            <a:ext cx="3071880" cy="357156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7" descr="Латур.jpg"/>
          <p:cNvPicPr/>
          <p:nvPr/>
        </p:nvPicPr>
        <p:blipFill>
          <a:blip r:embed="rId3"/>
          <a:stretch/>
        </p:blipFill>
        <p:spPr>
          <a:xfrm>
            <a:off x="5219640" y="2708280"/>
            <a:ext cx="291456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17" name="Текст 5"/>
          <p:cNvGrpSpPr/>
          <p:nvPr/>
        </p:nvGrpSpPr>
        <p:grpSpPr>
          <a:xfrm>
            <a:off x="4200480" y="1407960"/>
            <a:ext cx="4943520" cy="774720"/>
            <a:chOff x="4200480" y="1407960"/>
            <a:chExt cx="4943520" cy="774720"/>
          </a:xfrm>
        </p:grpSpPr>
        <p:pic>
          <p:nvPicPr>
            <p:cNvPr id="218" name="Текст 5" descr=""/>
            <p:cNvPicPr/>
            <p:nvPr/>
          </p:nvPicPr>
          <p:blipFill>
            <a:blip r:embed="rId4"/>
            <a:stretch/>
          </p:blipFill>
          <p:spPr>
            <a:xfrm>
              <a:off x="4200480" y="1407960"/>
              <a:ext cx="4943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08400" y="1417680"/>
              <a:ext cx="4929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44d26"/>
                  </a:solidFill>
                  <a:latin typeface="Constantia"/>
                </a:rPr>
                <a:t>Латур – французский портрет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470160" y="404640"/>
            <a:ext cx="84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гляд на роль портрета в разных видах искус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4" descr="Военная галерея Зимнего дворца.jpg"/>
          <p:cNvPicPr/>
          <p:nvPr/>
        </p:nvPicPr>
        <p:blipFill>
          <a:blip r:embed="rId2"/>
          <a:stretch/>
        </p:blipFill>
        <p:spPr>
          <a:xfrm>
            <a:off x="684360" y="1125360"/>
            <a:ext cx="3384360" cy="4415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3836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Военная галерея Зимнего двор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42560" y="33336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роль портрета –украшение  помещений и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память о людях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446280" cy="412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35840" y="5661000"/>
            <a:ext cx="27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Генрих </a:t>
            </a:r>
            <a:r>
              <a:rPr b="1" lang="en-US" sz="2400" spc="-1" strike="noStrike">
                <a:solidFill>
                  <a:srgbClr val="444d26"/>
                </a:solidFill>
                <a:latin typeface="Georgia"/>
              </a:rPr>
              <a:t>VIII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король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333000"/>
            <a:ext cx="817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ссмотрев современную роль портрета и отношение к нему людей, сопоставив  несколько литературных произведений, в которых используется портрет,     я пришла к выводу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чт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трет в литературе приобретает больше функций, чем в живописи и фотоискусств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- описание героя, которое присутствует                       в  каждом произведен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талью интерьера, неся какую-то информацию о герое (например, в рассказе А.С.Пушкина «Станционный смотритель»; в поэме Некрасова «Кому на Руси жить хорошо»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йствующим лицом произведения, то есть  имеет важную роль в произведении (например, в повести Н.В.Гоголя «Портрет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4" descr="Лужин. Д.Шмаринов.jpeg"/>
          <p:cNvPicPr/>
          <p:nvPr/>
        </p:nvPicPr>
        <p:blipFill>
          <a:blip r:embed="rId1"/>
          <a:stretch/>
        </p:blipFill>
        <p:spPr>
          <a:xfrm>
            <a:off x="611280" y="1557360"/>
            <a:ext cx="3549600" cy="4727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00360" y="1483920"/>
            <a:ext cx="43606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живописный показывает внешность человека и может передать эмоции, чувства, частично внутренний ми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литературный более полно и подробно описывает внешность и внутренний мир геро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И литературный, и живописный портрет изображается так, как видит человека автор, художни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0560" y="404640"/>
            <a:ext cx="8620200" cy="85752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а и различия портрета живописного и портрета литературног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Текст 1" descr=""/>
          <p:cNvPicPr/>
          <p:nvPr/>
        </p:nvPicPr>
        <p:blipFill>
          <a:blip r:embed="rId1"/>
          <a:stretch/>
        </p:blipFill>
        <p:spPr>
          <a:xfrm>
            <a:off x="469800" y="1554120"/>
            <a:ext cx="4052880" cy="77472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6" descr="Настасья Филипповна.А.Галеркин.jpeg"/>
          <p:cNvPicPr/>
          <p:nvPr/>
        </p:nvPicPr>
        <p:blipFill>
          <a:blip r:embed="rId2"/>
          <a:stretch/>
        </p:blipFill>
        <p:spPr>
          <a:xfrm>
            <a:off x="826920" y="2349360"/>
            <a:ext cx="3175200" cy="422280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Настасья Филипповна.И.Глазунов.jpeg"/>
          <p:cNvPicPr/>
          <p:nvPr/>
        </p:nvPicPr>
        <p:blipFill>
          <a:blip r:embed="rId3"/>
          <a:stretch/>
        </p:blipFill>
        <p:spPr>
          <a:xfrm>
            <a:off x="5292720" y="2421000"/>
            <a:ext cx="2849400" cy="4151160"/>
          </a:xfrm>
          <a:prstGeom prst="rect">
            <a:avLst/>
          </a:prstGeom>
          <a:ln w="0">
            <a:noFill/>
          </a:ln>
        </p:spPr>
      </p:pic>
      <p:grpSp>
        <p:nvGrpSpPr>
          <p:cNvPr id="233" name="Текст 5"/>
          <p:cNvGrpSpPr/>
          <p:nvPr/>
        </p:nvGrpSpPr>
        <p:grpSpPr>
          <a:xfrm>
            <a:off x="4638600" y="1554120"/>
            <a:ext cx="4054680" cy="774720"/>
            <a:chOff x="4638600" y="1554120"/>
            <a:chExt cx="4054680" cy="774720"/>
          </a:xfrm>
        </p:grpSpPr>
        <p:pic>
          <p:nvPicPr>
            <p:cNvPr id="234" name="Текст 5" descr=""/>
            <p:cNvPicPr/>
            <p:nvPr/>
          </p:nvPicPr>
          <p:blipFill>
            <a:blip r:embed="rId4"/>
            <a:stretch/>
          </p:blipFill>
          <p:spPr>
            <a:xfrm>
              <a:off x="4638600" y="1554120"/>
              <a:ext cx="4054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46520" y="1562040"/>
              <a:ext cx="404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Художник И.Глазун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974160" y="333360"/>
            <a:ext cx="735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ллюстрированный портр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стасьи Филиппо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ероини романа Ф.М.Достоевского «Иди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2"/>
          <p:cNvSpPr/>
          <p:nvPr/>
        </p:nvSpPr>
        <p:spPr>
          <a:xfrm>
            <a:off x="2071800" y="214200"/>
            <a:ext cx="4143240" cy="13575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ртре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писание гер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Прямая со стрелкой 4"/>
          <p:cNvCxnSpPr>
            <a:stCxn id="237" idx="3"/>
          </p:cNvCxnSpPr>
          <p:nvPr/>
        </p:nvCxnSpPr>
        <p:spPr>
          <a:xfrm flipH="1">
            <a:off x="1999440" y="1372680"/>
            <a:ext cx="678600" cy="6994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39" name="Прямоугольник 5"/>
          <p:cNvSpPr/>
          <p:nvPr/>
        </p:nvSpPr>
        <p:spPr>
          <a:xfrm>
            <a:off x="714240" y="2143080"/>
            <a:ext cx="200052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7"/>
          <p:cNvCxnSpPr>
            <a:stCxn id="237" idx="5"/>
          </p:cNvCxnSpPr>
          <p:nvPr/>
        </p:nvCxnSpPr>
        <p:spPr>
          <a:xfrm>
            <a:off x="5580000" y="1413000"/>
            <a:ext cx="892800" cy="69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41" name="Прямоугольник 8"/>
          <p:cNvSpPr/>
          <p:nvPr/>
        </p:nvSpPr>
        <p:spPr>
          <a:xfrm>
            <a:off x="5643720" y="2143080"/>
            <a:ext cx="20001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утренн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/>
          <p:cNvSpPr/>
          <p:nvPr/>
        </p:nvSpPr>
        <p:spPr>
          <a:xfrm>
            <a:off x="571680" y="3214800"/>
            <a:ext cx="2214360" cy="3071880"/>
          </a:xfrm>
          <a:custGeom>
            <a:avLst/>
            <a:gdLst>
              <a:gd name="textAreaLeft" fmla="*/ 108000 w 2214360"/>
              <a:gd name="textAreaRight" fmla="*/ 2106360 w 2214360"/>
              <a:gd name="textAreaTop" fmla="*/ 108000 h 3071880"/>
              <a:gd name="textAreaBottom" fmla="*/ 2963880 h 3071880"/>
            </a:gdLst>
            <a:ahLst/>
            <a:rect l="textAreaLeft" t="textAreaTop" r="textAreaRight" b="textAreaBottom"/>
            <a:pathLst>
              <a:path w="21600" h="29963">
                <a:moveTo>
                  <a:pt x="3600" y="0"/>
                </a:moveTo>
                <a:arcTo wR="3600" hR="3600" stAng="16200000" swAng="-5400000"/>
                <a:lnTo>
                  <a:pt x="0" y="26363"/>
                </a:lnTo>
                <a:arcTo wR="3600" hR="3600" stAng="10800000" swAng="-5400000"/>
                <a:lnTo>
                  <a:pt x="18000" y="29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Очень худоща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ерненький господин,  заросший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есь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бакенбардами,  усами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спаньолкой. Он был одет с умышленной небрежност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5643720" y="3286080"/>
            <a:ext cx="2071440" cy="714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иалоги и монолог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5643720" y="4357800"/>
            <a:ext cx="2000160" cy="5713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31"/>
          <p:cNvSpPr/>
          <p:nvPr/>
        </p:nvSpPr>
        <p:spPr>
          <a:xfrm flipH="1">
            <a:off x="6643800" y="4930920"/>
            <a:ext cx="1440" cy="35712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5643720" y="5214960"/>
            <a:ext cx="20714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ведение,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7"/>
          <p:cNvSpPr/>
          <p:nvPr/>
        </p:nvSpPr>
        <p:spPr>
          <a:xfrm>
            <a:off x="5643720" y="6072120"/>
            <a:ext cx="200016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39"/>
          <p:cNvSpPr/>
          <p:nvPr/>
        </p:nvSpPr>
        <p:spPr>
          <a:xfrm flipH="1">
            <a:off x="6643800" y="3000240"/>
            <a:ext cx="1440" cy="307368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Сон Обломова. Табурин.jpeg"/>
          <p:cNvPicPr/>
          <p:nvPr/>
        </p:nvPicPr>
        <p:blipFill>
          <a:blip r:embed="rId1"/>
          <a:stretch/>
        </p:blipFill>
        <p:spPr>
          <a:xfrm>
            <a:off x="611280" y="1413000"/>
            <a:ext cx="4579920" cy="5087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580000" y="1557000"/>
            <a:ext cx="305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444d26"/>
                </a:solidFill>
                <a:latin typeface="Constantia"/>
              </a:rPr>
              <a:t>Хочется ему и  в овраг сбегать: он всего саженях в пятидесяти от  сада; ребенок уж прибегал к краю, зажмурил  глаза, хотел заглянуть,  как  в кратер вулкана..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63080" cy="542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Обломова. В.Табурин.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Сикстинская Мадонна"/>
          <p:cNvPicPr/>
          <p:nvPr/>
        </p:nvPicPr>
        <p:blipFill>
          <a:blip r:embed="rId1"/>
          <a:stretch/>
        </p:blipFill>
        <p:spPr>
          <a:xfrm>
            <a:off x="285840" y="428760"/>
            <a:ext cx="4403520" cy="59990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4929120" y="50004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, как герой увидел картину «Сикстинская мадонн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 тем бесчисленные сним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ртины, которые мне приход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, оставляли меня в совершенном недоумении, чем тут можно восхищаться. Мне нр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два ангелочка внизу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смотра картины геро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вдруг – незаметно, нечувствительно – все вокруг как будто стало исч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ли люди и стены. Исчез вычурный иконостас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герой увидел карт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душе было так, как будто в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ось что-то очень важное и особенное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идел, и вдруг светлая, подним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у радость охватила мен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549360"/>
            <a:ext cx="80643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Моя гипотеза подтвердилас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Литературный портрет нужен для тог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чтобы лучше понять героя произведения, представить его себе таким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аким представлял его авто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огда автор использует портрет в роли героя произведения,  он показывает функции портрета             в обычной жизни, приближая произведение                        к реальности, что не только помогает луч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понять и осмыслить произведение,                             но и увидеть истинные ценности жизни через это художественное произведен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Анна Одинцова Боровский.jpeg"/>
          <p:cNvPicPr/>
          <p:nvPr/>
        </p:nvPicPr>
        <p:blipFill>
          <a:blip r:embed="rId1"/>
          <a:stretch/>
        </p:blipFill>
        <p:spPr>
          <a:xfrm>
            <a:off x="684360" y="549360"/>
            <a:ext cx="3355920" cy="5087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1640" y="620640"/>
            <a:ext cx="40006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Анна Одинц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в описании  И.С.Турге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44d26"/>
                </a:solidFill>
                <a:latin typeface="Constantia"/>
              </a:rPr>
              <a:t>       </a:t>
            </a:r>
            <a:r>
              <a:rPr b="1" i="1" lang="ru-RU" sz="2400" spc="-1" strike="noStrike">
                <a:solidFill>
                  <a:srgbClr val="444d26"/>
                </a:solidFill>
                <a:latin typeface="Constantia"/>
              </a:rPr>
              <a:t>Женщина высокого роста,  с достоинством осанки. «Спокойно и умно, именно спокойно, а не задумчиво, глядели светлые глаза из-под немного нависшего белого лба, и губы улыбались едва замет-ною улыбкою. Какою-то ласковой и мягкой силой веяло от ее лица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11280" y="5661000"/>
            <a:ext cx="3240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Анна Одинцова                           в представлении художника  Д.Бор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5" descr="Обломов.Мазурин.jpeg"/>
          <p:cNvPicPr/>
          <p:nvPr/>
        </p:nvPicPr>
        <p:blipFill>
          <a:blip r:embed="rId1"/>
          <a:stretch/>
        </p:blipFill>
        <p:spPr>
          <a:xfrm>
            <a:off x="2857680" y="1928880"/>
            <a:ext cx="3500280" cy="435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0516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Литературный портрет нужен для того, чтобы раскрыть внутренний мир героя и воздействовать на читате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99680" y="285480"/>
            <a:ext cx="3119400" cy="78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8059680" cy="1206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071440"/>
            <a:ext cx="79250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Рассмотреть, что такое портрет в разных видах искус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равнить портрет живописный и портрет литератур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ровести опрос об отношении школьников к портрет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смотреть на особенности изображения портретов                                 в художественных произведен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делать вывод по исследовательской рабо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1" name="Содержимое 6" descr="76.gif"/>
          <p:cNvPicPr/>
          <p:nvPr/>
        </p:nvPicPr>
        <p:blipFill>
          <a:blip r:embed="rId2"/>
          <a:stretch/>
        </p:blipFill>
        <p:spPr>
          <a:xfrm>
            <a:off x="1000080" y="2286000"/>
            <a:ext cx="29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7" descr="Гравюра.jpg"/>
          <p:cNvPicPr/>
          <p:nvPr/>
        </p:nvPicPr>
        <p:blipFill>
          <a:blip r:embed="rId3"/>
          <a:stretch/>
        </p:blipFill>
        <p:spPr>
          <a:xfrm>
            <a:off x="5286240" y="2286000"/>
            <a:ext cx="2692440" cy="39132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4" descr=""/>
          <p:cNvPicPr/>
          <p:nvPr/>
        </p:nvPicPr>
        <p:blipFill>
          <a:blip r:embed="rId4"/>
          <a:stretch/>
        </p:blipFill>
        <p:spPr>
          <a:xfrm>
            <a:off x="420840" y="281160"/>
            <a:ext cx="82422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84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5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Гравю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Текст 1" descr=""/>
          <p:cNvPicPr/>
          <p:nvPr/>
        </p:nvPicPr>
        <p:blipFill>
          <a:blip r:embed="rId2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6" descr="Графичесуий портрет.jpg"/>
          <p:cNvPicPr/>
          <p:nvPr/>
        </p:nvPicPr>
        <p:blipFill>
          <a:blip r:embed="rId3"/>
          <a:stretch/>
        </p:blipFill>
        <p:spPr>
          <a:xfrm>
            <a:off x="857160" y="2286000"/>
            <a:ext cx="2982960" cy="39132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Константин.jpg"/>
          <p:cNvPicPr/>
          <p:nvPr/>
        </p:nvPicPr>
        <p:blipFill>
          <a:blip r:embed="rId4"/>
          <a:stretch/>
        </p:blipFill>
        <p:spPr>
          <a:xfrm>
            <a:off x="5076720" y="2286000"/>
            <a:ext cx="306720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90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91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кульпту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3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7937640" cy="88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14240" y="1857240"/>
            <a:ext cx="79250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«Штольц ровесник Обломову: и ему уже за тридцать лет.    Он весь составлен  из костей, мускулов и нервов, как кровная английская лошадь.  Он  худощав; щек у него  почти  вовсе  нет, то есть  кость  да мускул, но  ни признака  жирной округлости; цвет лица ровный,  смугловатый и никакого румянца; глаза хотя немного зеленоватые, но выразительные.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6" descr="Амбрауаз Воллар. Ренуар(импрессионизм).jpg"/>
          <p:cNvPicPr/>
          <p:nvPr/>
        </p:nvPicPr>
        <p:blipFill>
          <a:blip r:embed="rId2"/>
          <a:stretch/>
        </p:blipFill>
        <p:spPr>
          <a:xfrm>
            <a:off x="900000" y="2205000"/>
            <a:ext cx="3213360" cy="39132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993960"/>
          </a:xfrm>
          <a:prstGeom prst="rect">
            <a:avLst/>
          </a:prstGeom>
          <a:ln w="0">
            <a:noFill/>
          </a:ln>
        </p:spPr>
      </p:pic>
      <p:grpSp>
        <p:nvGrpSpPr>
          <p:cNvPr id="197" name="Текст 5"/>
          <p:cNvGrpSpPr/>
          <p:nvPr/>
        </p:nvGrpSpPr>
        <p:grpSpPr>
          <a:xfrm>
            <a:off x="249120" y="1341360"/>
            <a:ext cx="4438800" cy="773280"/>
            <a:chOff x="249120" y="1341360"/>
            <a:chExt cx="4438800" cy="773280"/>
          </a:xfrm>
        </p:grpSpPr>
        <p:pic>
          <p:nvPicPr>
            <p:cNvPr id="198" name="Текст 5" descr=""/>
            <p:cNvPicPr/>
            <p:nvPr/>
          </p:nvPicPr>
          <p:blipFill>
            <a:blip r:embed="rId4"/>
            <a:stretch/>
          </p:blipFill>
          <p:spPr>
            <a:xfrm>
              <a:off x="249120" y="1341360"/>
              <a:ext cx="44388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4160" y="1346040"/>
              <a:ext cx="442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Ренуа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Содержимое 6" descr="Амбруаз Воллар. Сезанн(постимпрессионизм).jpg"/>
          <p:cNvPicPr/>
          <p:nvPr/>
        </p:nvPicPr>
        <p:blipFill>
          <a:blip r:embed="rId5"/>
          <a:stretch/>
        </p:blipFill>
        <p:spPr>
          <a:xfrm>
            <a:off x="5219640" y="2349360"/>
            <a:ext cx="32115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Текст 5"/>
          <p:cNvGrpSpPr/>
          <p:nvPr/>
        </p:nvGrpSpPr>
        <p:grpSpPr>
          <a:xfrm>
            <a:off x="4356000" y="1341360"/>
            <a:ext cx="4438800" cy="772920"/>
            <a:chOff x="4356000" y="1341360"/>
            <a:chExt cx="4438800" cy="772920"/>
          </a:xfrm>
        </p:grpSpPr>
        <p:pic>
          <p:nvPicPr>
            <p:cNvPr id="202" name="Текст 5" descr=""/>
            <p:cNvPicPr/>
            <p:nvPr/>
          </p:nvPicPr>
          <p:blipFill>
            <a:blip r:embed="rId6"/>
            <a:stretch/>
          </p:blipFill>
          <p:spPr>
            <a:xfrm>
              <a:off x="4356000" y="1341360"/>
              <a:ext cx="4438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361040" y="1349280"/>
              <a:ext cx="442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езан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пост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7" descr="Амбруаз Воллар. Фотография.jpg"/>
          <p:cNvPicPr/>
          <p:nvPr/>
        </p:nvPicPr>
        <p:blipFill>
          <a:blip r:embed="rId2"/>
          <a:stretch/>
        </p:blipFill>
        <p:spPr>
          <a:xfrm>
            <a:off x="4932360" y="1773360"/>
            <a:ext cx="3362400" cy="4505040"/>
          </a:xfrm>
          <a:prstGeom prst="rect">
            <a:avLst/>
          </a:prstGeom>
          <a:ln w="0">
            <a:noFill/>
          </a:ln>
        </p:spPr>
      </p:pic>
      <p:grpSp>
        <p:nvGrpSpPr>
          <p:cNvPr id="205" name="Текст 5"/>
          <p:cNvGrpSpPr/>
          <p:nvPr/>
        </p:nvGrpSpPr>
        <p:grpSpPr>
          <a:xfrm>
            <a:off x="4572000" y="549360"/>
            <a:ext cx="4054320" cy="774720"/>
            <a:chOff x="4572000" y="549360"/>
            <a:chExt cx="4054320" cy="774720"/>
          </a:xfrm>
        </p:grpSpPr>
        <p:pic>
          <p:nvPicPr>
            <p:cNvPr id="206" name="Текст 5" descr=""/>
            <p:cNvPicPr/>
            <p:nvPr/>
          </p:nvPicPr>
          <p:blipFill>
            <a:blip r:embed="rId3"/>
            <a:stretch/>
          </p:blipFill>
          <p:spPr>
            <a:xfrm>
              <a:off x="4572000" y="549360"/>
              <a:ext cx="4054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9560" y="55908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Фотографи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Содержимое 7" descr="Амбруаз Воллар. Пикассо(аналитический кубизм).jpg"/>
          <p:cNvPicPr/>
          <p:nvPr/>
        </p:nvPicPr>
        <p:blipFill>
          <a:blip r:embed="rId4"/>
          <a:stretch/>
        </p:blipFill>
        <p:spPr>
          <a:xfrm>
            <a:off x="900000" y="1773360"/>
            <a:ext cx="33321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Текст 5"/>
          <p:cNvGrpSpPr/>
          <p:nvPr/>
        </p:nvGrpSpPr>
        <p:grpSpPr>
          <a:xfrm>
            <a:off x="468360" y="765000"/>
            <a:ext cx="4437000" cy="773280"/>
            <a:chOff x="468360" y="765000"/>
            <a:chExt cx="4437000" cy="773280"/>
          </a:xfrm>
        </p:grpSpPr>
        <p:pic>
          <p:nvPicPr>
            <p:cNvPr id="210" name="Текст 5" descr=""/>
            <p:cNvPicPr/>
            <p:nvPr/>
          </p:nvPicPr>
          <p:blipFill>
            <a:blip r:embed="rId5"/>
            <a:stretch/>
          </p:blipFill>
          <p:spPr>
            <a:xfrm>
              <a:off x="468360" y="765000"/>
              <a:ext cx="44370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73040" y="769680"/>
              <a:ext cx="4426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Пикассо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аналитический куб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04T00:15:16Z</dcterms:modified>
  <cp:revision>43</cp:revision>
  <dc:subject/>
  <dc:title>Слайд 1</dc:title>
</cp:coreProperties>
</file>