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2.png" ContentType="image/png"/>
  <Override PartName="/ppt/media/image24.jpeg" ContentType="image/jpeg"/>
  <Override PartName="/ppt/media/image29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113-E86A-46BF-944A-E911A6CD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4B8-FEC3-4E82-AE0F-B3D0529D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6AC-E385-4190-8E2F-DE96A839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833-1A31-4441-BC9F-22B020AD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020BB-4365-4C1B-A1C8-43F8B4D9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F6925-ED88-47C8-A6B4-8F99C50A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66EBB-DA0D-4D20-A4E1-18394C42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4BCAA-0435-4910-9DC2-9C10E6A7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EAF9C-F4D0-48D4-BC69-957E22AC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95275-31EE-4934-8AAE-C47D4F2D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4235B-2F34-49C7-A01B-46F4145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DAF-F1A7-4CF7-A67D-500FBA58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A7DE3-DC13-4E8E-B75A-40C51672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94DE8-BBF4-4658-8A55-98135206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1E2F8-DD30-4EE8-AE34-69C22272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A5DB8-9775-4F1D-8A68-E55855E6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207C4-9B8B-4CCC-AAC5-F46069F9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A10B-12B1-4941-82D6-F92B191B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7EB1-258F-4B50-B94C-5C8A250F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774B-1A89-4907-BED7-7B988085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9290C-629C-44BD-A96F-7CC816B4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CE4C-58A6-45D2-AB09-4FE5E7FF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992-22F3-4E06-8AF8-0506F6E8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E2D6-A3F3-482A-9996-F544FBF2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5A27-690E-471C-AB6A-A9CC5FCD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F1A8-8BD4-4E7B-8BC4-5D833D8F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F904-A38F-4D76-936D-11878672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927F0-CBBC-417B-840D-36EF7673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EE24-A9BA-4D2D-A7B3-87BDFDBD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5ED76-2628-4D76-8784-45877DF7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25903-1A31-4EC2-9E59-0AC8EFF3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09429-7FBC-4987-BFDC-DB7376F6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92FE1-828B-4DCE-8369-60B3423B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580-A9AB-418D-88D3-592263A6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B10EF-F7E2-42A9-A0E9-08AA4BBC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9B4B7-0107-4FE7-AC09-CABE3424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46CB3-5D18-4B20-9594-B74BB9F9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F1FFA-34B1-4749-A103-191750FF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DBA5E-7B32-46D1-8D90-52E2A59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95322-7457-42E1-8448-269254B7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F7508-6A10-4B3D-9757-731102B6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F0923-386D-4754-9C6E-136012FA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8AF12-627D-48C9-A4AF-FA3BC097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C58-FFB9-4954-801E-F276B5B7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BC0-6E07-4874-AF62-31535AF4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48D-2045-42A2-91A9-DDDB5AFA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037-E083-4F62-92D8-980064DF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4A9-536E-4C04-B304-C483EFEF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2D34-ED0C-4FCE-82C4-B8826D7359E0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4E58-B8EB-4C8E-961E-675D793854D1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3DDD-95D9-469C-B81B-1081235C7E16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9289-6CC2-48F2-B9EB-204453782B93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31920" y="1628640"/>
            <a:ext cx="84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оль портр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 художественной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273480" y="4653000"/>
            <a:ext cx="53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верева Анастасия, 10 РН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уководитель: Демченко И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539640" y="0"/>
            <a:ext cx="8058240" cy="1511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1856880"/>
            <a:ext cx="79246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32% опрошенных считают, что портрет более живой и естественный, чем фотография, передаёт чувства и эмо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30% опрошенных считают, что любой портрет – это видение самого художника, т.е. с помощью портрета мы можем посмотреть на себя со сторо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38% опрошенных отдают своё предпочтение фотографиям, считая, что они наиболее точные и реалистичны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Только 38% всех опрошенных имеют свой рисованный портр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Текст 1" descr=""/>
          <p:cNvPicPr/>
          <p:nvPr/>
        </p:nvPicPr>
        <p:blipFill>
          <a:blip r:embed="rId1"/>
          <a:stretch/>
        </p:blipFill>
        <p:spPr>
          <a:xfrm>
            <a:off x="249120" y="1195560"/>
            <a:ext cx="4657680" cy="124920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6" descr="Юрий Лотман.JPG"/>
          <p:cNvPicPr/>
          <p:nvPr/>
        </p:nvPicPr>
        <p:blipFill>
          <a:blip r:embed="rId2"/>
          <a:stretch/>
        </p:blipFill>
        <p:spPr>
          <a:xfrm>
            <a:off x="900000" y="2637000"/>
            <a:ext cx="3071880" cy="357156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7" descr="Латур.jpg"/>
          <p:cNvPicPr/>
          <p:nvPr/>
        </p:nvPicPr>
        <p:blipFill>
          <a:blip r:embed="rId3"/>
          <a:stretch/>
        </p:blipFill>
        <p:spPr>
          <a:xfrm>
            <a:off x="5219640" y="2708280"/>
            <a:ext cx="291456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17" name="Текст 5"/>
          <p:cNvGrpSpPr/>
          <p:nvPr/>
        </p:nvGrpSpPr>
        <p:grpSpPr>
          <a:xfrm>
            <a:off x="4200480" y="1407960"/>
            <a:ext cx="4943520" cy="774720"/>
            <a:chOff x="4200480" y="1407960"/>
            <a:chExt cx="4943520" cy="774720"/>
          </a:xfrm>
        </p:grpSpPr>
        <p:pic>
          <p:nvPicPr>
            <p:cNvPr id="218" name="Текст 5" descr=""/>
            <p:cNvPicPr/>
            <p:nvPr/>
          </p:nvPicPr>
          <p:blipFill>
            <a:blip r:embed="rId4"/>
            <a:stretch/>
          </p:blipFill>
          <p:spPr>
            <a:xfrm>
              <a:off x="4200480" y="1407960"/>
              <a:ext cx="49435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208400" y="1417680"/>
              <a:ext cx="4929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44d26"/>
                  </a:solidFill>
                  <a:latin typeface="Constantia"/>
                </a:rPr>
                <a:t>Латур – французский портрети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9"/>
          <p:cNvSpPr/>
          <p:nvPr/>
        </p:nvSpPr>
        <p:spPr>
          <a:xfrm>
            <a:off x="470160" y="404640"/>
            <a:ext cx="84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згляд на роль портрета в разных видах искус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одержимое 4" descr="Военная галерея Зимнего дворца.jpg"/>
          <p:cNvPicPr/>
          <p:nvPr/>
        </p:nvPicPr>
        <p:blipFill>
          <a:blip r:embed="rId2"/>
          <a:stretch/>
        </p:blipFill>
        <p:spPr>
          <a:xfrm>
            <a:off x="684360" y="1125360"/>
            <a:ext cx="3384360" cy="44150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38368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6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Военная галерея Зимнего двор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42560" y="33336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t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роль портрета –украшение  помещений и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память о людях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3446280" cy="4122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235840" y="5661000"/>
            <a:ext cx="27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Генрих </a:t>
            </a:r>
            <a:r>
              <a:rPr b="1" lang="en-US" sz="2400" spc="-1" strike="noStrike">
                <a:solidFill>
                  <a:srgbClr val="444d26"/>
                </a:solidFill>
                <a:latin typeface="Georgia"/>
              </a:rPr>
              <a:t>VIII</a:t>
            </a: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король Анг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95280" y="333000"/>
            <a:ext cx="8175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Рассмотрев современную роль портрета и отношение к нему людей, сопоставив  несколько литературных произведений, в которых используется портрет,     я пришла к выводу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что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ртрет в литературе приобретает больше функций, чем в живописи и фотоискусств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ртрет - описание героя, которое присутствует                       в  каждом произведен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ртрет является деталью интерьера, неся какую-то информацию о герое (например, в рассказе А.С.Пушкина «Станционный смотритель»; в поэме Некрасова «Кому на Руси жить хорошо»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ртрет является действующим лицом произведения, то есть  имеет важную роль в произведении (например, в повести Н.В.Гоголя «Портрет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Содержимое 4" descr="Лужин. Д.Шмаринов.jpeg"/>
          <p:cNvPicPr/>
          <p:nvPr/>
        </p:nvPicPr>
        <p:blipFill>
          <a:blip r:embed="rId1"/>
          <a:stretch/>
        </p:blipFill>
        <p:spPr>
          <a:xfrm>
            <a:off x="611280" y="1557360"/>
            <a:ext cx="3549600" cy="47275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00360" y="1483920"/>
            <a:ext cx="436068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ортрет живописный показывает внешность человека и может передать эмоции, чувства, частично внутренний мир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ортрет литературный более полно и подробно описывает внешность и внутренний мир геро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И литературный, и живописный портрет изображается так, как видит человека автор, художни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50560" y="404640"/>
            <a:ext cx="8620200" cy="857520"/>
          </a:xfrm>
          <a:prstGeom prst="rect">
            <a:avLst/>
          </a:prstGeom>
          <a:noFill/>
          <a:ln w="0">
            <a:noFill/>
          </a:ln>
        </p:spPr>
        <p:txBody>
          <a:bodyPr t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ства и различия портрета живописного и портрета литературного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Текст 1" descr=""/>
          <p:cNvPicPr/>
          <p:nvPr/>
        </p:nvPicPr>
        <p:blipFill>
          <a:blip r:embed="rId1"/>
          <a:stretch/>
        </p:blipFill>
        <p:spPr>
          <a:xfrm>
            <a:off x="469800" y="1554120"/>
            <a:ext cx="4052880" cy="77472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6" descr="Настасья Филипповна.А.Галеркин.jpeg"/>
          <p:cNvPicPr/>
          <p:nvPr/>
        </p:nvPicPr>
        <p:blipFill>
          <a:blip r:embed="rId2"/>
          <a:stretch/>
        </p:blipFill>
        <p:spPr>
          <a:xfrm>
            <a:off x="826920" y="2349360"/>
            <a:ext cx="3175200" cy="422280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7" descr="Настасья Филипповна.И.Глазунов.jpeg"/>
          <p:cNvPicPr/>
          <p:nvPr/>
        </p:nvPicPr>
        <p:blipFill>
          <a:blip r:embed="rId3"/>
          <a:stretch/>
        </p:blipFill>
        <p:spPr>
          <a:xfrm>
            <a:off x="5292720" y="2421000"/>
            <a:ext cx="2849400" cy="4151160"/>
          </a:xfrm>
          <a:prstGeom prst="rect">
            <a:avLst/>
          </a:prstGeom>
          <a:ln w="0">
            <a:noFill/>
          </a:ln>
        </p:spPr>
      </p:pic>
      <p:grpSp>
        <p:nvGrpSpPr>
          <p:cNvPr id="233" name="Текст 5"/>
          <p:cNvGrpSpPr/>
          <p:nvPr/>
        </p:nvGrpSpPr>
        <p:grpSpPr>
          <a:xfrm>
            <a:off x="4638600" y="1554120"/>
            <a:ext cx="4054680" cy="774720"/>
            <a:chOff x="4638600" y="1554120"/>
            <a:chExt cx="4054680" cy="774720"/>
          </a:xfrm>
        </p:grpSpPr>
        <p:pic>
          <p:nvPicPr>
            <p:cNvPr id="234" name="Текст 5" descr=""/>
            <p:cNvPicPr/>
            <p:nvPr/>
          </p:nvPicPr>
          <p:blipFill>
            <a:blip r:embed="rId4"/>
            <a:stretch/>
          </p:blipFill>
          <p:spPr>
            <a:xfrm>
              <a:off x="4638600" y="1554120"/>
              <a:ext cx="40546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46520" y="1562040"/>
              <a:ext cx="4040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444d26"/>
                  </a:solidFill>
                  <a:latin typeface="Constantia"/>
                </a:rPr>
                <a:t>Художник И.Глазуно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9"/>
          <p:cNvSpPr/>
          <p:nvPr/>
        </p:nvSpPr>
        <p:spPr>
          <a:xfrm>
            <a:off x="974160" y="333360"/>
            <a:ext cx="735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ллюстрированный портр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стасьи Филиппов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ероини романа Ф.М.Достоевского «Иди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2"/>
          <p:cNvSpPr/>
          <p:nvPr/>
        </p:nvSpPr>
        <p:spPr>
          <a:xfrm>
            <a:off x="2071800" y="214200"/>
            <a:ext cx="4143240" cy="13575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ртре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писание гер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Прямая со стрелкой 4"/>
          <p:cNvCxnSpPr>
            <a:stCxn id="237" idx="3"/>
          </p:cNvCxnSpPr>
          <p:nvPr/>
        </p:nvCxnSpPr>
        <p:spPr>
          <a:xfrm flipH="1">
            <a:off x="1999440" y="1372680"/>
            <a:ext cx="678600" cy="6994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39" name="Прямоугольник 5"/>
          <p:cNvSpPr/>
          <p:nvPr/>
        </p:nvSpPr>
        <p:spPr>
          <a:xfrm>
            <a:off x="714240" y="2143080"/>
            <a:ext cx="2000520" cy="8571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неш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 стрелкой 7"/>
          <p:cNvCxnSpPr>
            <a:stCxn id="237" idx="5"/>
          </p:cNvCxnSpPr>
          <p:nvPr/>
        </p:nvCxnSpPr>
        <p:spPr>
          <a:xfrm>
            <a:off x="5580000" y="1413000"/>
            <a:ext cx="892800" cy="69912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41" name="Прямоугольник 8"/>
          <p:cNvSpPr/>
          <p:nvPr/>
        </p:nvSpPr>
        <p:spPr>
          <a:xfrm>
            <a:off x="5643720" y="2143080"/>
            <a:ext cx="2000160" cy="8571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нутренн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9"/>
          <p:cNvSpPr/>
          <p:nvPr/>
        </p:nvSpPr>
        <p:spPr>
          <a:xfrm>
            <a:off x="571680" y="3214800"/>
            <a:ext cx="2214360" cy="3071880"/>
          </a:xfrm>
          <a:custGeom>
            <a:avLst/>
            <a:gdLst>
              <a:gd name="textAreaLeft" fmla="*/ 108000 w 2214360"/>
              <a:gd name="textAreaRight" fmla="*/ 2106360 w 2214360"/>
              <a:gd name="textAreaTop" fmla="*/ 108000 h 3071880"/>
              <a:gd name="textAreaBottom" fmla="*/ 2963880 h 3071880"/>
            </a:gdLst>
            <a:ahLst/>
            <a:rect l="textAreaLeft" t="textAreaTop" r="textAreaRight" b="textAreaBottom"/>
            <a:pathLst>
              <a:path w="21600" h="29963">
                <a:moveTo>
                  <a:pt x="3600" y="0"/>
                </a:moveTo>
                <a:arcTo wR="3600" hR="3600" stAng="16200000" swAng="-5400000"/>
                <a:lnTo>
                  <a:pt x="0" y="26363"/>
                </a:lnTo>
                <a:arcTo wR="3600" hR="3600" stAng="10800000" swAng="-5400000"/>
                <a:lnTo>
                  <a:pt x="18000" y="29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Очень худоща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ерненький господин,  заросший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есь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бакенбардами,  усами 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спаньолкой. Он был одет с умышленной небрежность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2"/>
          <p:cNvSpPr/>
          <p:nvPr/>
        </p:nvSpPr>
        <p:spPr>
          <a:xfrm>
            <a:off x="5643720" y="3286080"/>
            <a:ext cx="2071440" cy="7146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иалоги и монологи гер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3"/>
          <p:cNvSpPr/>
          <p:nvPr/>
        </p:nvSpPr>
        <p:spPr>
          <a:xfrm>
            <a:off x="5643720" y="4357800"/>
            <a:ext cx="2000160" cy="5713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31"/>
          <p:cNvSpPr/>
          <p:nvPr/>
        </p:nvSpPr>
        <p:spPr>
          <a:xfrm flipH="1">
            <a:off x="6643800" y="4930920"/>
            <a:ext cx="1440" cy="35712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2"/>
          <p:cNvSpPr/>
          <p:nvPr/>
        </p:nvSpPr>
        <p:spPr>
          <a:xfrm>
            <a:off x="5643720" y="5214960"/>
            <a:ext cx="20714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ведение,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7"/>
          <p:cNvSpPr/>
          <p:nvPr/>
        </p:nvSpPr>
        <p:spPr>
          <a:xfrm>
            <a:off x="5643720" y="6072120"/>
            <a:ext cx="200016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39"/>
          <p:cNvSpPr/>
          <p:nvPr/>
        </p:nvSpPr>
        <p:spPr>
          <a:xfrm flipH="1">
            <a:off x="6643800" y="3000240"/>
            <a:ext cx="1440" cy="307368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4" descr="Сон Обломова. Табурин.jpeg"/>
          <p:cNvPicPr/>
          <p:nvPr/>
        </p:nvPicPr>
        <p:blipFill>
          <a:blip r:embed="rId1"/>
          <a:stretch/>
        </p:blipFill>
        <p:spPr>
          <a:xfrm>
            <a:off x="611280" y="1413000"/>
            <a:ext cx="4579920" cy="50878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580000" y="1557000"/>
            <a:ext cx="30513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just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444d26"/>
                </a:solidFill>
                <a:latin typeface="Constantia"/>
              </a:rPr>
              <a:t>Хочется ему и  в овраг сбегать: он всего саженях в пятидесяти от  сада; ребенок уж прибегал к краю, зажмурил  глаза, хотел заглянуть,  как  в кратер вулкана...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63080" cy="542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Обломова. В.Табурин.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Сикстинская Мадонна"/>
          <p:cNvPicPr/>
          <p:nvPr/>
        </p:nvPicPr>
        <p:blipFill>
          <a:blip r:embed="rId1"/>
          <a:stretch/>
        </p:blipFill>
        <p:spPr>
          <a:xfrm>
            <a:off x="285840" y="428760"/>
            <a:ext cx="4403520" cy="59990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4929120" y="500040"/>
            <a:ext cx="4214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того, как герой увидел картину «Сикстинская мадонн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 тем бесчисленные сним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ртины, которые мне приход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, оставляли меня в совершенном недоумении, чем тут можно восхищаться. Мне нрави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два ангелочка внизу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смотра картины геро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вдруг – незаметно, нечувствительно – все вокруг как будто стало исче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чезли люди и стены. Исчез вычурный иконостас.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, как герой увидел карти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душе было так, как будто в жи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илось что-то очень важное и особенное.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сидел, и вдруг светлая, подним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у радость охватила меня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549360"/>
            <a:ext cx="806436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Моя гипотеза подтвердилас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Литературный портрет нужен для тог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чтобы лучше понять героя произведения, представить его себе таким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каким представлял его автор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Когда автор использует портрет в роли героя произведения,  он показывает функции портрета             в обычной жизни, приближая произведение                        к реальности, что не только помогает луч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понять и осмыслить произведение,                             но и увидеть истинные ценности жизни через это художественное произведени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4" descr="Анна Одинцова Боровский.jpeg"/>
          <p:cNvPicPr/>
          <p:nvPr/>
        </p:nvPicPr>
        <p:blipFill>
          <a:blip r:embed="rId1"/>
          <a:stretch/>
        </p:blipFill>
        <p:spPr>
          <a:xfrm>
            <a:off x="684360" y="549360"/>
            <a:ext cx="3355920" cy="50878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1640" y="620640"/>
            <a:ext cx="40006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Constantia"/>
              </a:rPr>
              <a:t>Анна Одинцов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Constantia"/>
              </a:rPr>
              <a:t>в описании  И.С.Тургенев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44d26"/>
                </a:solidFill>
                <a:latin typeface="Constantia"/>
              </a:rPr>
              <a:t>       </a:t>
            </a:r>
            <a:r>
              <a:rPr b="1" i="1" lang="ru-RU" sz="2400" spc="-1" strike="noStrike">
                <a:solidFill>
                  <a:srgbClr val="444d26"/>
                </a:solidFill>
                <a:latin typeface="Constantia"/>
              </a:rPr>
              <a:t>Женщина высокого роста,  с достоинством осанки. «Спокойно и умно, именно спокойно, а не задумчиво, глядели светлые глаза из-под немного нависшего белого лба, и губы улыбались едва замет-ною улыбкою. Какою-то ласковой и мягкой силой веяло от ее лица.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11280" y="5661000"/>
            <a:ext cx="32400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Анна Одинцова                           в представлении художника  Д.Бор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одержимое 5" descr="Обломов.Мазурин.jpeg"/>
          <p:cNvPicPr/>
          <p:nvPr/>
        </p:nvPicPr>
        <p:blipFill>
          <a:blip r:embed="rId1"/>
          <a:stretch/>
        </p:blipFill>
        <p:spPr>
          <a:xfrm>
            <a:off x="2857680" y="1928880"/>
            <a:ext cx="3500280" cy="4357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57160" y="999720"/>
            <a:ext cx="705168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Литературный портрет нужен для того, чтобы раскрыть внутренний мир героя и воздействовать на читател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99680" y="285480"/>
            <a:ext cx="3119400" cy="785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44600" y="585720"/>
            <a:ext cx="8059680" cy="1206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57120" y="2071440"/>
            <a:ext cx="79250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Рассмотреть, что такое портрет в разных видах искус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Сравнить портрет живописный и портрет литератур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ровести опрос об отношении школьников к портрету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осмотреть на особенности изображения портретов                                 в художественных произведения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Сделать вывод по исследовательской рабо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181" name="Содержимое 6" descr="76.gif"/>
          <p:cNvPicPr/>
          <p:nvPr/>
        </p:nvPicPr>
        <p:blipFill>
          <a:blip r:embed="rId2"/>
          <a:stretch/>
        </p:blipFill>
        <p:spPr>
          <a:xfrm>
            <a:off x="1000080" y="2286000"/>
            <a:ext cx="2924280" cy="380988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7" descr="Гравюра.jpg"/>
          <p:cNvPicPr/>
          <p:nvPr/>
        </p:nvPicPr>
        <p:blipFill>
          <a:blip r:embed="rId3"/>
          <a:stretch/>
        </p:blipFill>
        <p:spPr>
          <a:xfrm>
            <a:off x="5286240" y="2286000"/>
            <a:ext cx="2692440" cy="391320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4" descr=""/>
          <p:cNvPicPr/>
          <p:nvPr/>
        </p:nvPicPr>
        <p:blipFill>
          <a:blip r:embed="rId4"/>
          <a:stretch/>
        </p:blipFill>
        <p:spPr>
          <a:xfrm>
            <a:off x="420840" y="281160"/>
            <a:ext cx="82422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84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185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444d26"/>
                  </a:solidFill>
                  <a:latin typeface="Constantia"/>
                </a:rPr>
                <a:t>Гравюр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Текст 1" descr=""/>
          <p:cNvPicPr/>
          <p:nvPr/>
        </p:nvPicPr>
        <p:blipFill>
          <a:blip r:embed="rId2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6" descr="Графичесуий портрет.jpg"/>
          <p:cNvPicPr/>
          <p:nvPr/>
        </p:nvPicPr>
        <p:blipFill>
          <a:blip r:embed="rId3"/>
          <a:stretch/>
        </p:blipFill>
        <p:spPr>
          <a:xfrm>
            <a:off x="857160" y="2286000"/>
            <a:ext cx="2982960" cy="391320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7" descr="Константин.jpg"/>
          <p:cNvPicPr/>
          <p:nvPr/>
        </p:nvPicPr>
        <p:blipFill>
          <a:blip r:embed="rId4"/>
          <a:stretch/>
        </p:blipFill>
        <p:spPr>
          <a:xfrm>
            <a:off x="5076720" y="2286000"/>
            <a:ext cx="3067200" cy="3929040"/>
          </a:xfrm>
          <a:prstGeom prst="rect">
            <a:avLst/>
          </a:prstGeom>
          <a:ln w="0">
            <a:noFill/>
          </a:ln>
        </p:spPr>
      </p:pic>
      <p:grpSp>
        <p:nvGrpSpPr>
          <p:cNvPr id="190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191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Скульптур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3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7937640" cy="888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14240" y="1857240"/>
            <a:ext cx="79250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«Штольц ровесник Обломову: и ему уже за тридцать лет.    Он весь составлен  из костей, мускулов и нервов, как кровная английская лошадь.  Он  худощав; щек у него  почти  вовсе  нет, то есть  кость  да мускул, но  ни признака  жирной округлости; цвет лица ровный,  смугловатый и никакого румянца; глаза хотя немного зеленоватые, но выразительные.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6" descr="Амбрауаз Воллар. Ренуар(импрессионизм).jpg"/>
          <p:cNvPicPr/>
          <p:nvPr/>
        </p:nvPicPr>
        <p:blipFill>
          <a:blip r:embed="rId2"/>
          <a:stretch/>
        </p:blipFill>
        <p:spPr>
          <a:xfrm>
            <a:off x="900000" y="2205000"/>
            <a:ext cx="3213360" cy="39132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4" descr=""/>
          <p:cNvPicPr/>
          <p:nvPr/>
        </p:nvPicPr>
        <p:blipFill>
          <a:blip r:embed="rId3"/>
          <a:stretch/>
        </p:blipFill>
        <p:spPr>
          <a:xfrm>
            <a:off x="450720" y="152280"/>
            <a:ext cx="8242560" cy="993960"/>
          </a:xfrm>
          <a:prstGeom prst="rect">
            <a:avLst/>
          </a:prstGeom>
          <a:ln w="0">
            <a:noFill/>
          </a:ln>
        </p:spPr>
      </p:pic>
      <p:grpSp>
        <p:nvGrpSpPr>
          <p:cNvPr id="197" name="Текст 5"/>
          <p:cNvGrpSpPr/>
          <p:nvPr/>
        </p:nvGrpSpPr>
        <p:grpSpPr>
          <a:xfrm>
            <a:off x="249120" y="1341360"/>
            <a:ext cx="4438800" cy="773280"/>
            <a:chOff x="249120" y="1341360"/>
            <a:chExt cx="4438800" cy="773280"/>
          </a:xfrm>
        </p:grpSpPr>
        <p:pic>
          <p:nvPicPr>
            <p:cNvPr id="198" name="Текст 5" descr=""/>
            <p:cNvPicPr/>
            <p:nvPr/>
          </p:nvPicPr>
          <p:blipFill>
            <a:blip r:embed="rId4"/>
            <a:stretch/>
          </p:blipFill>
          <p:spPr>
            <a:xfrm>
              <a:off x="249120" y="1341360"/>
              <a:ext cx="44388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54160" y="1346040"/>
              <a:ext cx="4425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Ренуа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(импрессионизм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Содержимое 6" descr="Амбруаз Воллар. Сезанн(постимпрессионизм).jpg"/>
          <p:cNvPicPr/>
          <p:nvPr/>
        </p:nvPicPr>
        <p:blipFill>
          <a:blip r:embed="rId5"/>
          <a:stretch/>
        </p:blipFill>
        <p:spPr>
          <a:xfrm>
            <a:off x="5219640" y="2349360"/>
            <a:ext cx="3211560" cy="4000680"/>
          </a:xfrm>
          <a:prstGeom prst="rect">
            <a:avLst/>
          </a:prstGeom>
          <a:ln w="0">
            <a:noFill/>
          </a:ln>
        </p:spPr>
      </p:pic>
      <p:grpSp>
        <p:nvGrpSpPr>
          <p:cNvPr id="201" name="Текст 5"/>
          <p:cNvGrpSpPr/>
          <p:nvPr/>
        </p:nvGrpSpPr>
        <p:grpSpPr>
          <a:xfrm>
            <a:off x="4356000" y="1341360"/>
            <a:ext cx="4438800" cy="772920"/>
            <a:chOff x="4356000" y="1341360"/>
            <a:chExt cx="4438800" cy="772920"/>
          </a:xfrm>
        </p:grpSpPr>
        <p:pic>
          <p:nvPicPr>
            <p:cNvPr id="202" name="Текст 5" descr=""/>
            <p:cNvPicPr/>
            <p:nvPr/>
          </p:nvPicPr>
          <p:blipFill>
            <a:blip r:embed="rId6"/>
            <a:stretch/>
          </p:blipFill>
          <p:spPr>
            <a:xfrm>
              <a:off x="4356000" y="1341360"/>
              <a:ext cx="4438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361040" y="1349280"/>
              <a:ext cx="442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Сезанн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(постимпрессионизм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Содержимое 7" descr="Амбруаз Воллар. Фотография.jpg"/>
          <p:cNvPicPr/>
          <p:nvPr/>
        </p:nvPicPr>
        <p:blipFill>
          <a:blip r:embed="rId2"/>
          <a:stretch/>
        </p:blipFill>
        <p:spPr>
          <a:xfrm>
            <a:off x="4932360" y="1773360"/>
            <a:ext cx="3362400" cy="4505040"/>
          </a:xfrm>
          <a:prstGeom prst="rect">
            <a:avLst/>
          </a:prstGeom>
          <a:ln w="0">
            <a:noFill/>
          </a:ln>
        </p:spPr>
      </p:pic>
      <p:grpSp>
        <p:nvGrpSpPr>
          <p:cNvPr id="205" name="Текст 5"/>
          <p:cNvGrpSpPr/>
          <p:nvPr/>
        </p:nvGrpSpPr>
        <p:grpSpPr>
          <a:xfrm>
            <a:off x="4572000" y="549360"/>
            <a:ext cx="4054320" cy="774720"/>
            <a:chOff x="4572000" y="549360"/>
            <a:chExt cx="4054320" cy="774720"/>
          </a:xfrm>
        </p:grpSpPr>
        <p:pic>
          <p:nvPicPr>
            <p:cNvPr id="206" name="Текст 5" descr=""/>
            <p:cNvPicPr/>
            <p:nvPr/>
          </p:nvPicPr>
          <p:blipFill>
            <a:blip r:embed="rId3"/>
            <a:stretch/>
          </p:blipFill>
          <p:spPr>
            <a:xfrm>
              <a:off x="4572000" y="549360"/>
              <a:ext cx="40543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9560" y="55908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Фотографи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Содержимое 7" descr="Амбруаз Воллар. Пикассо(аналитический кубизм).jpg"/>
          <p:cNvPicPr/>
          <p:nvPr/>
        </p:nvPicPr>
        <p:blipFill>
          <a:blip r:embed="rId4"/>
          <a:stretch/>
        </p:blipFill>
        <p:spPr>
          <a:xfrm>
            <a:off x="900000" y="1773360"/>
            <a:ext cx="3332160" cy="4537080"/>
          </a:xfrm>
          <a:prstGeom prst="rect">
            <a:avLst/>
          </a:prstGeom>
          <a:ln w="0">
            <a:noFill/>
          </a:ln>
        </p:spPr>
      </p:pic>
      <p:grpSp>
        <p:nvGrpSpPr>
          <p:cNvPr id="209" name="Текст 5"/>
          <p:cNvGrpSpPr/>
          <p:nvPr/>
        </p:nvGrpSpPr>
        <p:grpSpPr>
          <a:xfrm>
            <a:off x="468360" y="765000"/>
            <a:ext cx="4437000" cy="773280"/>
            <a:chOff x="468360" y="765000"/>
            <a:chExt cx="4437000" cy="773280"/>
          </a:xfrm>
        </p:grpSpPr>
        <p:pic>
          <p:nvPicPr>
            <p:cNvPr id="210" name="Текст 5" descr=""/>
            <p:cNvPicPr/>
            <p:nvPr/>
          </p:nvPicPr>
          <p:blipFill>
            <a:blip r:embed="rId5"/>
            <a:stretch/>
          </p:blipFill>
          <p:spPr>
            <a:xfrm>
              <a:off x="468360" y="765000"/>
              <a:ext cx="44370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73040" y="769680"/>
              <a:ext cx="4426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Пикассо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(аналитический кубизм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3-04T00:15:16Z</dcterms:modified>
  <cp:revision>43</cp:revision>
  <dc:subject/>
  <dc:title>Слайд 1</dc:title>
</cp:coreProperties>
</file>