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9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11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12.png" ContentType="image/png"/>
  <Override PartName="/ppt/media/image34.jpeg" ContentType="image/jpeg"/>
  <Override PartName="/ppt/media/image40.png" ContentType="image/png"/>
  <Override PartName="/ppt/media/image20.png" ContentType="image/png"/>
  <Override PartName="/ppt/media/image36.jpeg" ContentType="image/jpeg"/>
  <Override PartName="/ppt/media/image5.png" ContentType="image/png"/>
  <Override PartName="/ppt/media/image7.jpeg" ContentType="image/jpeg"/>
  <Override PartName="/ppt/media/image28.png" ContentType="image/png"/>
  <Override PartName="/ppt/media/image30.png" ContentType="image/png"/>
  <Override PartName="/ppt/media/image37.jpeg" ContentType="image/jpeg"/>
  <Override PartName="/ppt/media/image13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38.png" ContentType="image/png"/>
  <Override PartName="/ppt/media/image8.png" ContentType="image/png"/>
  <Override PartName="/ppt/media/image18.png" ContentType="image/png"/>
  <Override PartName="/ppt/media/image6.jpeg" ContentType="image/jpeg"/>
  <Override PartName="/ppt/media/image35.jpeg" ContentType="image/jpeg"/>
  <Override PartName="/ppt/media/image10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369C-2149-4A52-BB69-2867E77B6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208A-E1CF-42EE-9CA8-7E60AE936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63DA-499D-4FBE-BCEF-0261315E3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51A0-0AAB-4C6A-9995-37CC708EC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42D2D-6161-46F6-826A-092E1B8AD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F7A42-A566-42CF-8C52-D01791CDD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DEFE8-A8C4-4CF0-868F-BFDBCAC88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DCBC2-9DAC-4915-B1B0-03CE00F23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AB81F-8CA0-448F-9953-176FB7C32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31266-DDB5-4CD2-9CD1-23BE5EB6C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2E78C-2B6C-4F89-817E-0B20AC30A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BF2E-EA74-4A58-AC10-810761EB5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01061-3244-406E-9E94-3FA981318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1D3DE-A3D0-461A-A418-10E1C105F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A97DA-32A6-433B-A566-71B71F12E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3E087-0804-4D12-9A0B-166B5939C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A104D-309A-4946-97BE-4C2BA417C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B667A-0088-45A0-B845-D25D9F3A1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72D47-FC2D-4470-B245-3EB937B26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5CC70-6636-4463-8B97-D65E0846E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12BB1-F505-451D-A328-DC9A7DEC7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B516D-809E-4A4D-A445-420780EFC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5CF2-45DC-4E16-9EBE-C2006E5FB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54046-D69D-4C9B-AFCA-862E67801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3ADE2-E643-4B96-9186-AFDF45CF7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1A519-73DF-4C4C-8A63-28547C0D3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D8056-A5C4-4450-BB0E-9ED9685FF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C804D-7E52-458C-9E6A-2583E35EE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455FE-F93B-4A73-9AD8-9B2869E4C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674F8-FEE6-4674-9B64-9D5D8508E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E6A2-0840-44FB-A34F-96FA07CDB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3E34-C4F5-4E10-9549-74E39D39F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C034-E88B-4C8F-BDF1-A31E65819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28AF-054B-4FED-B7DD-0DD94784C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DE9E-1888-414D-832B-F779AD885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630B-3BFA-438C-8AE7-A865829A2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99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6338F-747E-42C0-8811-2A81D621089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99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99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99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99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CAD37-1741-4265-B8DB-F393A321B05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cc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cc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F3B7B-C730-4824-914B-E1EC83035D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image" Target="../media/image30.png"/><Relationship Id="rId15" Type="http://schemas.openxmlformats.org/officeDocument/2006/relationships/image" Target="../media/image31.png"/><Relationship Id="rId16" Type="http://schemas.openxmlformats.org/officeDocument/2006/relationships/image" Target="../media/image32.png"/><Relationship Id="rId17" Type="http://schemas.openxmlformats.org/officeDocument/2006/relationships/image" Target="../media/image33.png"/><Relationship Id="rId1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46080" y="1143000"/>
            <a:ext cx="68864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Развитие пространственного мышления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е уб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е укра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е сотвори себе куми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е лжесвидетельству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озлюби ближнего, как самого себ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Times New Roman"/>
              </a:rPr>
              <a:t>Интернет! Интернет? Интернет…</a:t>
            </a:r>
            <a:endParaRPr b="0" lang="en-US" sz="3800" spc="-1" strike="noStrike">
              <a:solidFill>
                <a:srgbClr val="cc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835280" y="1708200"/>
            <a:ext cx="5284800" cy="457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Times New Roman"/>
              </a:rPr>
              <a:t>Виды учебной работы в сетях</a:t>
            </a: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68160" y="2390760"/>
            <a:ext cx="325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ероприят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670200" y="3962520"/>
            <a:ext cx="24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роек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121440" y="2414520"/>
            <a:ext cx="219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ур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2355480" y="1665360"/>
            <a:ext cx="855720" cy="866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630680" y="1628640"/>
            <a:ext cx="0" cy="2392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932440" y="1641600"/>
            <a:ext cx="644400" cy="79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500"/>
                            </p:stCondLst>
                            <p:childTnLst>
                              <p:par>
                                <p:cTn id="2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Times New Roman"/>
              </a:rPr>
              <a:t>Эстетическая роль информатики</a:t>
            </a:r>
            <a:endParaRPr b="0" lang="en-US" sz="48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Times New Roman"/>
              </a:rPr>
              <a:t>Дизайн</a:t>
            </a: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63480" y="1736640"/>
            <a:ext cx="3711600" cy="27846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2022480" y="2349360"/>
            <a:ext cx="3252960" cy="21384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677880" y="4070520"/>
            <a:ext cx="3308400" cy="24811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2558880" y="3746520"/>
            <a:ext cx="2449800" cy="20289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5"/>
          <a:stretch/>
        </p:blipFill>
        <p:spPr>
          <a:xfrm>
            <a:off x="5452920" y="3354480"/>
            <a:ext cx="3691080" cy="36907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6"/>
          <a:stretch/>
        </p:blipFill>
        <p:spPr>
          <a:xfrm>
            <a:off x="4889520" y="5008680"/>
            <a:ext cx="2460600" cy="18493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7"/>
          <a:stretch/>
        </p:blipFill>
        <p:spPr>
          <a:xfrm>
            <a:off x="5234040" y="3429000"/>
            <a:ext cx="1857240" cy="13939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8"/>
          <a:stretch/>
        </p:blipFill>
        <p:spPr>
          <a:xfrm>
            <a:off x="5376960" y="708120"/>
            <a:ext cx="3767040" cy="376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Times New Roman"/>
              </a:rPr>
              <a:t>Золотое сечение</a:t>
            </a: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125360" y="1697040"/>
            <a:ext cx="6931080" cy="444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09480" y="1627200"/>
            <a:ext cx="7994880" cy="3736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Глаза сломаешь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39840" y="1582560"/>
            <a:ext cx="8475480" cy="3376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33cc"/>
                </a:solidFill>
                <a:latin typeface="Arial"/>
              </a:rPr>
              <a:t>НИКОГДА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58840" y="1897200"/>
            <a:ext cx="8491320" cy="26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Один из показателей развития пространственного мышления</a:t>
            </a:r>
            <a:endParaRPr b="0" lang="en-US" sz="36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00240" y="2314080"/>
            <a:ext cx="7386480" cy="32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мение создавать исходный геометрический образ, т.е. в графической модели передавать форму, размеры и взаимное расположение отдельных элементов объе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Times New Roman"/>
              </a:rPr>
              <a:t>Олимпийские кольца</a:t>
            </a:r>
            <a:endParaRPr b="0" lang="en-US" sz="3800" spc="-1" strike="noStrike">
              <a:solidFill>
                <a:srgbClr val="cc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508040" y="1709640"/>
            <a:ext cx="6127920" cy="39052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508040" y="1709640"/>
            <a:ext cx="6127920" cy="39052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1508040" y="1709640"/>
            <a:ext cx="6127920" cy="39052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1508040" y="1709640"/>
            <a:ext cx="6127920" cy="39052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>
            <a:off x="1508040" y="1709640"/>
            <a:ext cx="6127920" cy="390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Умение мысленно производить различные преобразования над исходным геометрическим образом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58680" y="1839960"/>
            <a:ext cx="757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пользуются следующие геометрические преобразовани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611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    перенос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611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    сжати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611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    растяжени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611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    поворо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611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    симметр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611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    гомотет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Times New Roman"/>
              </a:rPr>
              <a:t>Мозаика «Остров»</a:t>
            </a:r>
            <a:endParaRPr b="0" lang="en-US" sz="3800" spc="-1" strike="noStrike">
              <a:solidFill>
                <a:srgbClr val="cc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708360" y="1071720"/>
            <a:ext cx="5435640" cy="54352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666720" y="2881440"/>
            <a:ext cx="2994120" cy="19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Умение мысленно изменять структуру геометрического образа</a:t>
            </a:r>
            <a:endParaRPr b="0" lang="en-US" sz="36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25560" y="2522520"/>
            <a:ext cx="774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начале мысленное, а затем реальное удаление или добавление на экране компьютера некоторых элементов построенной фигуры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Times New Roman"/>
              </a:rPr>
              <a:t>Разрежьте квадраты разными способами на 4 равные части.</a:t>
            </a:r>
            <a:endParaRPr b="0" lang="en-US" sz="3800" spc="-1" strike="noStrike">
              <a:solidFill>
                <a:srgbClr val="cc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347920" y="2154240"/>
            <a:ext cx="4172040" cy="39528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2347920" y="2154240"/>
            <a:ext cx="4172040" cy="39528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2335320" y="2141640"/>
            <a:ext cx="4171680" cy="39528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2340000" y="2143080"/>
            <a:ext cx="4172040" cy="39528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5"/>
          <a:stretch/>
        </p:blipFill>
        <p:spPr>
          <a:xfrm>
            <a:off x="2340000" y="2133720"/>
            <a:ext cx="4172040" cy="39528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6"/>
          <a:stretch/>
        </p:blipFill>
        <p:spPr>
          <a:xfrm>
            <a:off x="2338560" y="2143080"/>
            <a:ext cx="4171680" cy="39528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7"/>
          <a:stretch/>
        </p:blipFill>
        <p:spPr>
          <a:xfrm>
            <a:off x="2332080" y="2133720"/>
            <a:ext cx="4172040" cy="39528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8"/>
          <a:stretch/>
        </p:blipFill>
        <p:spPr>
          <a:xfrm>
            <a:off x="2338560" y="2143080"/>
            <a:ext cx="4171680" cy="39528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476520" y="3030480"/>
            <a:ext cx="1765440" cy="1754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9"/>
          <a:stretch/>
        </p:blipFill>
        <p:spPr>
          <a:xfrm>
            <a:off x="1325520" y="2182680"/>
            <a:ext cx="6851520" cy="367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3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4000"/>
                            </p:stCondLst>
                            <p:childTnLst>
                              <p:par>
                                <p:cTn id="4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0"/>
                            </p:stCondLst>
                            <p:childTnLst>
                              <p:par>
                                <p:cTn id="4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6000"/>
                            </p:stCondLst>
                            <p:childTnLst>
                              <p:par>
                                <p:cTn id="4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9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7000"/>
                            </p:stCondLst>
                            <p:childTnLst>
                              <p:par>
                                <p:cTn id="5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8000"/>
                            </p:stCondLst>
                            <p:childTnLst>
                              <p:par>
                                <p:cTn id="56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9000"/>
                            </p:stCondLst>
                            <p:childTnLst>
                              <p:par>
                                <p:cTn id="6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1000"/>
                            </p:stCondLst>
                            <p:childTnLst>
                              <p:par>
                                <p:cTn id="6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2000"/>
                            </p:stCondLst>
                            <p:childTnLst>
                              <p:par>
                                <p:cTn id="7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3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3000"/>
                            </p:stCondLst>
                            <p:childTnLst>
                              <p:par>
                                <p:cTn id="7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4000"/>
                            </p:stCondLst>
                            <p:childTnLst>
                              <p:par>
                                <p:cTn id="80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0"/>
                            </p:stCondLst>
                            <p:childTnLst>
                              <p:par>
                                <p:cTn id="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6000"/>
                            </p:stCondLst>
                            <p:childTnLst>
                              <p:par>
                                <p:cTn id="8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9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7000"/>
                            </p:stCondLst>
                            <p:childTnLst>
                              <p:par>
                                <p:cTn id="9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Times New Roman"/>
              </a:rPr>
              <a:t>Построение сечения куба плоскостью</a:t>
            </a:r>
            <a:endParaRPr b="0" lang="en-US" sz="3800" spc="-1" strike="noStrike">
              <a:solidFill>
                <a:srgbClr val="cc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979560" y="1876320"/>
            <a:ext cx="7095960" cy="49816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979560" y="1876320"/>
            <a:ext cx="7095960" cy="49816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979560" y="1876320"/>
            <a:ext cx="7095960" cy="49816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979560" y="1876320"/>
            <a:ext cx="7094520" cy="49816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5"/>
          <a:stretch/>
        </p:blipFill>
        <p:spPr>
          <a:xfrm>
            <a:off x="979560" y="1876320"/>
            <a:ext cx="7094520" cy="49816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6"/>
          <a:stretch/>
        </p:blipFill>
        <p:spPr>
          <a:xfrm>
            <a:off x="979560" y="1876320"/>
            <a:ext cx="7095960" cy="49816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7"/>
          <a:stretch/>
        </p:blipFill>
        <p:spPr>
          <a:xfrm>
            <a:off x="979560" y="1876320"/>
            <a:ext cx="7094520" cy="49816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8"/>
          <a:stretch/>
        </p:blipFill>
        <p:spPr>
          <a:xfrm>
            <a:off x="979560" y="1876320"/>
            <a:ext cx="7094520" cy="49816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9"/>
          <a:stretch/>
        </p:blipFill>
        <p:spPr>
          <a:xfrm>
            <a:off x="979560" y="1876320"/>
            <a:ext cx="7095960" cy="49816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10"/>
          <a:stretch/>
        </p:blipFill>
        <p:spPr>
          <a:xfrm>
            <a:off x="979560" y="1876320"/>
            <a:ext cx="7095960" cy="49816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11"/>
          <a:stretch/>
        </p:blipFill>
        <p:spPr>
          <a:xfrm>
            <a:off x="979560" y="1876320"/>
            <a:ext cx="7094520" cy="49816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2"/>
          <a:stretch/>
        </p:blipFill>
        <p:spPr>
          <a:xfrm>
            <a:off x="979560" y="1876320"/>
            <a:ext cx="7095960" cy="49816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13"/>
          <a:stretch/>
        </p:blipFill>
        <p:spPr>
          <a:xfrm>
            <a:off x="979560" y="1876320"/>
            <a:ext cx="7095960" cy="49816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14"/>
          <a:stretch/>
        </p:blipFill>
        <p:spPr>
          <a:xfrm>
            <a:off x="979560" y="1876320"/>
            <a:ext cx="7095960" cy="4981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15"/>
          <a:stretch/>
        </p:blipFill>
        <p:spPr>
          <a:xfrm>
            <a:off x="979560" y="1876320"/>
            <a:ext cx="7094520" cy="49816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16"/>
          <a:stretch/>
        </p:blipFill>
        <p:spPr>
          <a:xfrm>
            <a:off x="979560" y="1876320"/>
            <a:ext cx="7095960" cy="49816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17"/>
          <a:stretch/>
        </p:blipFill>
        <p:spPr>
          <a:xfrm>
            <a:off x="979560" y="1876320"/>
            <a:ext cx="7095960" cy="498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3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6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70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80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900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300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6000"/>
                            </p:stCondLst>
                            <p:childTnLst>
                              <p:par>
                                <p:cTn id="1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80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Воспитание информационной культуры школьников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4T11:34:17Z</dcterms:created>
  <dc:creator>Svechka</dc:creator>
  <dc:description/>
  <dc:language>en-US</dc:language>
  <cp:lastModifiedBy>Светлана</cp:lastModifiedBy>
  <dcterms:modified xsi:type="dcterms:W3CDTF">2008-02-06T13:08:34Z</dcterms:modified>
  <cp:revision>29</cp:revision>
  <dc:subject/>
  <dc:title>Развитие пространственного мышления при изучении работы с графическими объектами на уроках информатики </dc:title>
</cp:coreProperties>
</file>