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4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9BE-1010-4BD7-AAEE-EBBCEC4F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827-49C7-486A-854D-3C2DC9CA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506-C2C7-4357-A336-0E692F99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776-EAE5-4BB4-BC37-6AF93645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1DF4-EE6A-45B0-8E53-A73A8235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516E-5079-4DE8-90F4-B25035B0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73AF-B7DC-4DC1-A757-EEEBF6B7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C650-50DC-4EB3-BF1A-E146AF23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E4D6-B2B6-46CE-B039-C5AF19EB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CB17-2B86-449F-A3FA-9A0FEADA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C1FD-E918-4774-B5AB-8E000F4A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EE9-A4B5-48E6-83E0-1089FED2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9A23-CA1C-4781-A1B9-C790603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48CF-321F-411B-8EA6-34637E26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4490-F6C4-4BBF-B201-6B898B4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3167-5ECF-4BF9-AB05-681E54AF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253B-71AD-43D3-944D-2C6A178C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B0733-405D-4656-AA5A-B159AFD5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675F-5ED0-471B-A310-C36BA392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2A38-EB7E-4E0E-9F20-DBE4C19B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F790-3495-413C-8694-1EE12C9E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FB12-B3A7-41ED-846E-2CA9D97D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29A-DCFB-4611-AED1-9981D66D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35B3-FB23-4A46-9312-728AC32B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E6D8-33F2-446E-819E-65698E0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8398-9B86-4CB8-ABBE-B8459F88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E083-5B18-4E6D-9C6C-CA887B3F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6CC2-5173-4D2F-97FB-CE1F9BCF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F1C4-F142-40B5-A414-0EC3D67D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7E0A-DDFD-4367-86EC-FEE34B52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895-25BD-4756-A4A9-A02DD5AA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EB0-C25A-4FC3-A6DE-F42DB966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20F-39EE-4096-9AF5-1B06CF6A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7FC-EBA7-43BD-B8C4-106D9BC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882-E35C-46F2-9BB1-879232BB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94A-2F6E-42ED-B3D1-B6F30C3D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8875-8D0B-4006-A81B-15070C9E13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3118-1615-4E17-867D-84F1FB9E23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498C-2FCD-4040-952D-26E64BB77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46080" y="1143000"/>
            <a:ext cx="6886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Развитие пространственного мышления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уб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ук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отвори себе ку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лжесвидетель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злюби ближнего, как самого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Интернет! Интернет? Интернет…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35280" y="1708200"/>
            <a:ext cx="528480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Виды учебной работы в сетях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8160" y="239076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70200" y="396252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1440" y="241452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355480" y="1665360"/>
            <a:ext cx="855720" cy="866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30680" y="1628640"/>
            <a:ext cx="0" cy="239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2440" y="1641600"/>
            <a:ext cx="644400" cy="79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Эстетическая роль информатики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Дизайн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3480" y="1736640"/>
            <a:ext cx="3711600" cy="278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022480" y="2349360"/>
            <a:ext cx="3252960" cy="2138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7880" y="4070520"/>
            <a:ext cx="3308400" cy="2481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558880" y="3746520"/>
            <a:ext cx="2449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452920" y="3354480"/>
            <a:ext cx="3691080" cy="369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889520" y="5008680"/>
            <a:ext cx="2460600" cy="1849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5234040" y="3429000"/>
            <a:ext cx="1857240" cy="1393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5376960" y="708120"/>
            <a:ext cx="37670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Золотое сечение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25360" y="1697040"/>
            <a:ext cx="693108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1627200"/>
            <a:ext cx="7994880" cy="3736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Глаза сломаешь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39840" y="1582560"/>
            <a:ext cx="8475480" cy="3376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Arial"/>
              </a:rPr>
              <a:t>НИКОГДА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8840" y="1897200"/>
            <a:ext cx="8491320" cy="26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дин из показателей развития пространственного мышления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00240" y="2314080"/>
            <a:ext cx="738648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создавать исходный геометрический образ, т.е. в графической модели передавать форму, размеры и взаимное расположение отдельных элементов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Олимпийские кольца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Умение мысленно производить различные преобразования над исходным геометрическим образом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58680" y="1839960"/>
            <a:ext cx="757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ются следующие геометрические преобраз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перено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сжат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растяж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повор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симметр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гомот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Мозаика «Остров»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708360" y="1071720"/>
            <a:ext cx="5435640" cy="543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6720" y="2881440"/>
            <a:ext cx="29941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Умение мысленно изменять структуру геометрического образа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5560" y="252252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ачале мысленное, а затем реальное удаление или добавление на экране компьютера некоторых элементов построенной фигур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Разрежьте квадраты разными способами на 4 равные части.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47920" y="215424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347920" y="215424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335320" y="2141640"/>
            <a:ext cx="4171680" cy="3952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340000" y="214308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340000" y="213372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338560" y="2143080"/>
            <a:ext cx="4171680" cy="3952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332080" y="213372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338560" y="2143080"/>
            <a:ext cx="4171680" cy="3952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76520" y="3030480"/>
            <a:ext cx="1765440" cy="1754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1325520" y="2182680"/>
            <a:ext cx="685152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Построение сечения куба плоскостью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3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5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6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Воспитание информационной культуры школьников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1:34:17Z</dcterms:created>
  <dc:creator>Svechka</dc:creator>
  <dc:description/>
  <dc:language>en-US</dc:language>
  <cp:lastModifiedBy>Светлана</cp:lastModifiedBy>
  <dcterms:modified xsi:type="dcterms:W3CDTF">2008-02-06T13:08:34Z</dcterms:modified>
  <cp:revision>29</cp:revision>
  <dc:subject/>
  <dc:title>Развитие пространственного мышления при изучении работы с графическими объектами на уроках информатики </dc:title>
</cp:coreProperties>
</file>