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4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308-67F7-4B17-80CF-45326390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842-0B13-4FA5-B3D1-8938CD5B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A65-5140-4854-A7D6-C5B49338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C90-A18A-47C4-8C19-14B8C9D8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7C0D-763E-4846-9876-DBBF22E1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7F05-CEAD-41BB-910B-2691583C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929C-9BDB-4977-B037-EA0878B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C933-EAED-4ADA-990B-4313FAFF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F4B3-66F6-47C3-AD4D-4B59473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93EF-F821-4502-ADF8-E1437A68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7544-F3F9-4350-8A1C-E64E4349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C29-5A2B-4776-A5CD-83FE3D37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B039-B2E3-40E3-AD61-2104709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B86E-C0EB-4612-A7BE-5B2CB389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187F-28C2-4A84-90AE-655F282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E90F-CC3C-43D2-A9A7-AE7EBECA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0162-9DCF-4B1F-9954-A4B98A95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74C3-3C6F-4B5A-9EAF-997D5B20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F8AE-ACB3-4AE5-83A1-2AA04B8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E61D-D01E-4C15-A617-E248DDDD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8C7E-B304-43D4-A882-F260CF2D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82FB-27C4-4137-AE14-1F18DEBC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C64-7158-4E5F-A1D6-8AF5AF45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599D-014D-4A23-8D6B-084DBD1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E7B8-E04F-4B7A-AA97-2A8008B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C40F6-7F65-423C-83BF-E237675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A6AE-953D-448B-92BC-B63DBA1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20DA-2534-4F29-9227-EF2A79E4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ABB0-303F-44DC-B960-79F016BE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D9DF-6297-484C-8DA2-E29661C1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EF4-A1B8-464D-A1FA-6304485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B1B-A2A6-477E-AEEA-8857E6C7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FFC-6460-46B3-8D7F-7601FEBD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09C-61F2-4D9A-8B5A-8CA966B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EC4-A57A-4929-9AC8-B33991D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146-9A57-49B8-9545-F4F1C402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691-BA37-4340-A3AD-F746B9CB3D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9F01-5207-40D8-88FE-F22C966A8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372-D1A1-436C-AA5E-567D6420D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46080" y="1143000"/>
            <a:ext cx="6886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Развитие пространственного мышления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б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к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отвори себе ку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лжесвидетель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злюби ближнего, как самого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Интернет! Интернет? Интернет…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1708200"/>
            <a:ext cx="528480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Виды учебной работы в сетях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8160" y="239076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70200" y="396252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1440" y="241452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355480" y="1665360"/>
            <a:ext cx="855720" cy="866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30680" y="1628640"/>
            <a:ext cx="0" cy="239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2440" y="1641600"/>
            <a:ext cx="64440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Эстетическая роль информатики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Дизайн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3480" y="1736640"/>
            <a:ext cx="3711600" cy="278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22480" y="2349360"/>
            <a:ext cx="3252960" cy="2138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7880" y="407052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558880" y="3746520"/>
            <a:ext cx="2449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452920" y="3354480"/>
            <a:ext cx="3691080" cy="369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889520" y="5008680"/>
            <a:ext cx="2460600" cy="1849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5234040" y="3429000"/>
            <a:ext cx="1857240" cy="1393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5376960" y="708120"/>
            <a:ext cx="37670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Золотое сечение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25360" y="1697040"/>
            <a:ext cx="693108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1627200"/>
            <a:ext cx="7994880" cy="3736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Глаза сломаеш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9840" y="1582560"/>
            <a:ext cx="8475480" cy="337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Arial"/>
              </a:rPr>
              <a:t>НИКОГДА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8840" y="1897200"/>
            <a:ext cx="8491320" cy="26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дин из показателей развития пространственного мышления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00240" y="2314080"/>
            <a:ext cx="738648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создавать исходный геометрический образ, т.е. в графической модели передавать форму, размеры и взаимное расположение отдельных элементов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Олимпийские кольца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Умение мысленно производить различные преобразования над исходным геометрическим образом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58680" y="1839960"/>
            <a:ext cx="757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ются следующие геометрические преобраз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перено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сжат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растяж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повор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симметр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гомот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Мозаика «Остров»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08360" y="1071720"/>
            <a:ext cx="5435640" cy="543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6720" y="2881440"/>
            <a:ext cx="29941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Умение мысленно изменять структуру геометрического образа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5560" y="252252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ачале мысленное, а затем реальное удаление или добавление на экране компьютера некоторых элементов построенной фигур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Разрежьте квадраты разными способами на 4 равные части.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47920" y="215424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347920" y="215424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335320" y="2141640"/>
            <a:ext cx="4171680" cy="3952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340000" y="214308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340000" y="213372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338560" y="2143080"/>
            <a:ext cx="4171680" cy="3952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332080" y="213372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338560" y="2143080"/>
            <a:ext cx="4171680" cy="3952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76520" y="3030480"/>
            <a:ext cx="1765440" cy="175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1325520" y="2182680"/>
            <a:ext cx="68515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Построение сечения куба плоскостью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Воспитание информационной культуры школьников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1:34:17Z</dcterms:created>
  <dc:creator>Svechka</dc:creator>
  <dc:description/>
  <dc:language>en-US</dc:language>
  <cp:lastModifiedBy>Светлана</cp:lastModifiedBy>
  <dcterms:modified xsi:type="dcterms:W3CDTF">2008-02-06T13:08:34Z</dcterms:modified>
  <cp:revision>29</cp:revision>
  <dc:subject/>
  <dc:title>Развитие пространственного мышления при изучении работы с графическими объектами на уроках информатики </dc:title>
</cp:coreProperties>
</file>