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7.wmf" ContentType="image/x-wmf"/>
  <Override PartName="/ppt/media/image12.png" ContentType="image/png"/>
  <Override PartName="/ppt/media/image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20.wmf" ContentType="image/x-wmf"/>
  <Override PartName="/ppt/media/image19.wmf" ContentType="image/x-wmf"/>
  <Override PartName="/ppt/media/image18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24.png" ContentType="image/png"/>
  <Override PartName="/ppt/media/image1.png" ContentType="image/png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F6AC-1783-4DD7-BC47-AB44CD59CA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7C63-8296-446C-A745-E97042B3D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0D94-DFC7-4D45-8A46-97C40F48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EABE-A5E5-4130-973B-02528C29A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9EDD-7D28-4DAE-A839-E86A31AE8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98CA-D9AA-4BD1-B5EC-39CDE99A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9797-4273-4C15-9A69-208D90B8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FFC2-B20D-4E0E-84BF-AFE95974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5741-4D7B-4255-9DB6-34266A94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7F94-BE08-4FB8-B58C-E9C9F11B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EC2D-A4A0-479B-9FC8-13DE3A1B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751C-974A-446D-9719-FE16CC71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3E31-7F0B-416C-9513-8CB01FEF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BEFB-A02F-4C7F-B54E-9055A45BE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5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5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РАССТОЯНИЕ ОТ ТОЧКИ ДО ПРЯМОЙ И ПЛОСК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05320" y="990720"/>
            <a:ext cx="5333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Расстоянием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от точки до прямой в пространстве называется длина перпендикуляра, опущенного из данной точки на данную пряму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2489040" cy="2182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505320" y="3581280"/>
            <a:ext cx="5333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Расстоянием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от точки до плоскости в пространстве называется длина перпендикуляра, опущенного из данной точки на данную плоскос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52280" y="3886200"/>
            <a:ext cx="332280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Упражнение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68580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правильной треугольной призме со стороной основания </a:t>
            </a:r>
            <a:r>
              <a:rPr b="0" i="1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и боковым ребром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расстояния между скрещивающимися ребр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03360" y="5257800"/>
            <a:ext cx="2368440" cy="787320"/>
            <a:chOff x="603360" y="5257800"/>
            <a:chExt cx="2368440" cy="787320"/>
          </a:xfrm>
        </p:grpSpPr>
        <p:sp>
          <p:nvSpPr>
            <p:cNvPr id="113" name=""/>
            <p:cNvSpPr/>
            <p:nvPr/>
          </p:nvSpPr>
          <p:spPr>
            <a:xfrm>
              <a:off x="603360" y="5410080"/>
              <a:ext cx="236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4" name=""/>
            <p:cNvGraphicFramePr/>
            <p:nvPr/>
          </p:nvGraphicFramePr>
          <p:xfrm>
            <a:off x="1676520" y="5257800"/>
            <a:ext cx="977760" cy="787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76520" y="5257800"/>
                      <a:ext cx="97776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200400" y="1676520"/>
            <a:ext cx="3216240" cy="36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Упражнение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685800"/>
            <a:ext cx="883944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Для куба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..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с ребром </a:t>
            </a:r>
            <a:r>
              <a:rPr b="0" i="1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расстояние между скрещивающимися прямыми: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)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D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; б)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C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D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; в)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D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; г)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C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; д)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C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D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; е)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C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743200" y="1981080"/>
            <a:ext cx="3697200" cy="3141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85800" y="5486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) 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362320" y="5283360"/>
            <a:ext cx="1981080" cy="787320"/>
            <a:chOff x="2362320" y="5283360"/>
            <a:chExt cx="1981080" cy="787320"/>
          </a:xfrm>
        </p:grpSpPr>
        <p:sp>
          <p:nvSpPr>
            <p:cNvPr id="122" name=""/>
            <p:cNvSpPr/>
            <p:nvPr/>
          </p:nvSpPr>
          <p:spPr>
            <a:xfrm>
              <a:off x="2362320" y="54864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б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3" name=""/>
            <p:cNvGraphicFramePr/>
            <p:nvPr/>
          </p:nvGraphicFramePr>
          <p:xfrm>
            <a:off x="2730600" y="5283360"/>
            <a:ext cx="761760" cy="787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730600" y="5283360"/>
                      <a:ext cx="76176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5" name=""/>
          <p:cNvSpPr/>
          <p:nvPr/>
        </p:nvSpPr>
        <p:spPr>
          <a:xfrm>
            <a:off x="350532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9112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г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876920" y="5334120"/>
            <a:ext cx="1218960" cy="787320"/>
            <a:chOff x="4876920" y="5334120"/>
            <a:chExt cx="1218960" cy="787320"/>
          </a:xfrm>
        </p:grpSpPr>
        <p:graphicFrame>
          <p:nvGraphicFramePr>
            <p:cNvPr id="128" name=""/>
            <p:cNvGraphicFramePr/>
            <p:nvPr/>
          </p:nvGraphicFramePr>
          <p:xfrm>
            <a:off x="5334120" y="5334120"/>
            <a:ext cx="761760" cy="787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334120" y="5334120"/>
                      <a:ext cx="76176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" name=""/>
            <p:cNvSpPr/>
            <p:nvPr/>
          </p:nvSpPr>
          <p:spPr>
            <a:xfrm>
              <a:off x="4876920" y="54864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д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172200" y="5327640"/>
            <a:ext cx="1206360" cy="800280"/>
            <a:chOff x="6172200" y="5327640"/>
            <a:chExt cx="1206360" cy="800280"/>
          </a:xfrm>
        </p:grpSpPr>
        <p:sp>
          <p:nvSpPr>
            <p:cNvPr id="132" name=""/>
            <p:cNvSpPr/>
            <p:nvPr/>
          </p:nvSpPr>
          <p:spPr>
            <a:xfrm>
              <a:off x="6172200" y="54864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е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3" name=""/>
            <p:cNvGraphicFramePr/>
            <p:nvPr/>
          </p:nvGraphicFramePr>
          <p:xfrm>
            <a:off x="6642000" y="5327640"/>
            <a:ext cx="736560" cy="8002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3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642000" y="5327640"/>
                      <a:ext cx="73656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Упражнение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68580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Найдите геометрическое место точек пространства, равноудаленных от двух параллельных прямы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5486400"/>
            <a:ext cx="424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Плоскость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Упражнение 1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68580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правильной треугольной пирамиде сторона основания равна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боковое ребро -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 Найдите высоту пирамид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182760" y="2068560"/>
            <a:ext cx="2778480" cy="272088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685800" y="5334120"/>
            <a:ext cx="3581280" cy="863640"/>
            <a:chOff x="685800" y="5334120"/>
            <a:chExt cx="3581280" cy="863640"/>
          </a:xfrm>
        </p:grpSpPr>
        <p:sp>
          <p:nvSpPr>
            <p:cNvPr id="142" name=""/>
            <p:cNvSpPr/>
            <p:nvPr/>
          </p:nvSpPr>
          <p:spPr>
            <a:xfrm>
              <a:off x="685800" y="548640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                 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.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3" name=""/>
            <p:cNvGraphicFramePr/>
            <p:nvPr/>
          </p:nvGraphicFramePr>
          <p:xfrm>
            <a:off x="1905120" y="5334120"/>
            <a:ext cx="1295280" cy="863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905120" y="5334120"/>
                      <a:ext cx="1295280" cy="86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Упражнение 1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68580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правильной четырехугольной пирамиде сторона основания равна 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высота - 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h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 Найдите боковое ребро пирамид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685800" y="5340240"/>
            <a:ext cx="3581280" cy="851040"/>
            <a:chOff x="685800" y="5340240"/>
            <a:chExt cx="3581280" cy="851040"/>
          </a:xfrm>
        </p:grpSpPr>
        <p:sp>
          <p:nvSpPr>
            <p:cNvPr id="148" name=""/>
            <p:cNvSpPr/>
            <p:nvPr/>
          </p:nvSpPr>
          <p:spPr>
            <a:xfrm>
              <a:off x="685800" y="548640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                 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.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9" name=""/>
            <p:cNvGraphicFramePr/>
            <p:nvPr/>
          </p:nvGraphicFramePr>
          <p:xfrm>
            <a:off x="1892160" y="5340240"/>
            <a:ext cx="1320840" cy="851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92160" y="5340240"/>
                      <a:ext cx="1320840" cy="85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3102120" y="2031840"/>
            <a:ext cx="2939760" cy="27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Упражнение 1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280" y="68580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Ребро куба равно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 Найдите расстояние между скрещивающимися диагоналями смежных гране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685800" y="5334120"/>
            <a:ext cx="3581280" cy="799920"/>
            <a:chOff x="685800" y="5334120"/>
            <a:chExt cx="3581280" cy="799920"/>
          </a:xfrm>
        </p:grpSpPr>
        <p:sp>
          <p:nvSpPr>
            <p:cNvPr id="155" name=""/>
            <p:cNvSpPr/>
            <p:nvPr/>
          </p:nvSpPr>
          <p:spPr>
            <a:xfrm>
              <a:off x="685800" y="548640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6" name=""/>
            <p:cNvGraphicFramePr/>
            <p:nvPr/>
          </p:nvGraphicFramePr>
          <p:xfrm>
            <a:off x="1828800" y="5334120"/>
            <a:ext cx="698400" cy="799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5334120"/>
                      <a:ext cx="69840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2743200" y="1981080"/>
            <a:ext cx="369720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Упражнение 1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68580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Дана плоскость </a:t>
            </a:r>
            <a:r>
              <a:rPr b="0" lang="ru-RU" sz="2800" spc="-1" strike="noStrike">
                <a:solidFill>
                  <a:srgbClr val="00cc99"/>
                </a:solidFill>
                <a:latin typeface="Symbol"/>
                <a:ea typeface="Symbol"/>
              </a:rPr>
              <a:t>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две точк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по одну сторону от нее. Найдите точку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 плоскости </a:t>
            </a:r>
            <a:r>
              <a:rPr b="0" lang="ru-RU" sz="2800" spc="-1" strike="noStrike">
                <a:solidFill>
                  <a:srgbClr val="00cc99"/>
                </a:solidFill>
                <a:latin typeface="Symbol"/>
                <a:ea typeface="Symbol"/>
              </a:rPr>
              <a:t>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чтобы сумма расстояний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C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B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была наименьш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685960" y="2384280"/>
            <a:ext cx="3772080" cy="2087640"/>
          </a:xfrm>
          <a:prstGeom prst="rect">
            <a:avLst/>
          </a:prstGeom>
          <a:ln w="0">
            <a:noFill/>
          </a:ln>
        </p:spPr>
      </p:pic>
      <p:grpSp>
        <p:nvGrpSpPr>
          <p:cNvPr id="162" name=""/>
          <p:cNvGrpSpPr/>
          <p:nvPr/>
        </p:nvGrpSpPr>
        <p:grpSpPr>
          <a:xfrm>
            <a:off x="609480" y="2136600"/>
            <a:ext cx="8305920" cy="4418640"/>
            <a:chOff x="609480" y="2136600"/>
            <a:chExt cx="8305920" cy="4418640"/>
          </a:xfrm>
        </p:grpSpPr>
        <p:sp>
          <p:nvSpPr>
            <p:cNvPr id="163" name=""/>
            <p:cNvSpPr/>
            <p:nvPr/>
          </p:nvSpPr>
          <p:spPr>
            <a:xfrm>
              <a:off x="609480" y="5181480"/>
              <a:ext cx="83059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ru-RU" sz="2800" spc="-1" strike="noStrike">
                  <a:solidFill>
                    <a:srgbClr val="00cc99"/>
                  </a:solidFill>
                  <a:latin typeface="Times New Roman"/>
                </a:rPr>
                <a:t>Обозначим </a:t>
              </a:r>
              <a:r>
                <a:rPr b="0" i="1" lang="en-US" sz="2800" spc="-1" strike="noStrike">
                  <a:solidFill>
                    <a:srgbClr val="00cc99"/>
                  </a:solidFill>
                  <a:latin typeface="Times New Roman"/>
                </a:rPr>
                <a:t>B’ </a:t>
              </a:r>
              <a:r>
                <a:rPr b="0" lang="ru-RU" sz="2800" spc="-1" strike="noStrike">
                  <a:solidFill>
                    <a:srgbClr val="00cc99"/>
                  </a:solidFill>
                  <a:latin typeface="Times New Roman"/>
                </a:rPr>
                <a:t>точку симметричную точке </a:t>
              </a:r>
              <a:r>
                <a:rPr b="0" i="1" lang="en-US" sz="28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r>
                <a:rPr b="0" lang="ru-RU" sz="2800" spc="-1" strike="noStrike">
                  <a:solidFill>
                    <a:srgbClr val="00cc99"/>
                  </a:solidFill>
                  <a:latin typeface="Times New Roman"/>
                </a:rPr>
                <a:t> относительно плоскости </a:t>
              </a:r>
              <a:r>
                <a:rPr b="0" lang="ru-RU" sz="2800" spc="-1" strike="noStrike">
                  <a:solidFill>
                    <a:srgbClr val="00cc99"/>
                  </a:solidFill>
                  <a:latin typeface="Symbol"/>
                  <a:ea typeface="Symbol"/>
                </a:rPr>
                <a:t></a:t>
              </a:r>
              <a:r>
                <a:rPr b="0" lang="ru-RU" sz="2800" spc="-1" strike="noStrike">
                  <a:solidFill>
                    <a:srgbClr val="00cc99"/>
                  </a:solidFill>
                  <a:latin typeface="Times New Roman"/>
                </a:rPr>
                <a:t>. Искомая точка </a:t>
              </a:r>
              <a:r>
                <a:rPr b="0" i="1" lang="en-US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ru-RU" sz="2800" spc="-1" strike="noStrike">
                  <a:solidFill>
                    <a:srgbClr val="00cc99"/>
                  </a:solidFill>
                  <a:latin typeface="Times New Roman"/>
                </a:rPr>
                <a:t> будет точкой пересечения прямой </a:t>
              </a:r>
              <a:r>
                <a:rPr b="0" i="1" lang="en-US" sz="2800" spc="-1" strike="noStrike">
                  <a:solidFill>
                    <a:srgbClr val="00cc99"/>
                  </a:solidFill>
                  <a:latin typeface="Times New Roman"/>
                </a:rPr>
                <a:t>AB’ </a:t>
              </a:r>
              <a:r>
                <a:rPr b="0" lang="ru-RU" sz="2800" spc="-1" strike="noStrike">
                  <a:solidFill>
                    <a:srgbClr val="00cc99"/>
                  </a:solidFill>
                  <a:latin typeface="Times New Roman"/>
                </a:rPr>
                <a:t>и плоскости </a:t>
              </a:r>
              <a:r>
                <a:rPr b="0" lang="ru-RU" sz="2800" spc="-1" strike="noStrike">
                  <a:solidFill>
                    <a:srgbClr val="00cc99"/>
                  </a:solidFill>
                  <a:latin typeface="Symbol"/>
                  <a:ea typeface="Symbol"/>
                </a:rPr>
                <a:t></a:t>
              </a:r>
              <a:r>
                <a:rPr b="0" lang="ru-RU" sz="2800" spc="-1" strike="noStrike">
                  <a:solidFill>
                    <a:srgbClr val="00cc99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2"/>
            <a:stretch/>
          </p:blipFill>
          <p:spPr>
            <a:xfrm>
              <a:off x="2685960" y="2136600"/>
              <a:ext cx="3772080" cy="2583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РАССТОЯНИЕ МЕЖДУ ПРЯМЫМИ И ПЛОСКОСТЯ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838080"/>
            <a:ext cx="5334120" cy="36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cc99"/>
                </a:solidFill>
                <a:latin typeface="Times New Roman"/>
              </a:rPr>
              <a:t>Расстоянием</a:t>
            </a:r>
            <a:r>
              <a:rPr b="0" lang="ru-RU" sz="2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двумя </a:t>
            </a:r>
            <a:r>
              <a:rPr b="0" lang="ru-RU" sz="2200" spc="-1" strike="noStrike">
                <a:solidFill>
                  <a:srgbClr val="00cc99"/>
                </a:solidFill>
                <a:latin typeface="Times New Roman"/>
              </a:rPr>
              <a:t>не</a:t>
            </a:r>
            <a:r>
              <a:rPr b="0" lang="ru-RU" sz="2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пересекающимися прямыми в пространстве называется </a:t>
            </a:r>
            <a:r>
              <a:rPr b="0" lang="ru-RU" sz="2200" spc="-1" strike="noStrike">
                <a:solidFill>
                  <a:srgbClr val="00cc99"/>
                </a:solidFill>
                <a:latin typeface="Times New Roman"/>
              </a:rPr>
              <a:t>длина общего перпендикуляра, проведенного к этим прямым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cc99"/>
                </a:solidFill>
                <a:latin typeface="Times New Roman"/>
              </a:rPr>
              <a:t>Если одна из двух данных прямых лежит в плоскости, а другая –  параллельна этой плоскости, то расстояние между данными прямыми равно расстоянию между прямой и плоскостью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3387960" cy="2298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733920" y="4572000"/>
            <a:ext cx="52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Расстоянием между двумя параллельными плоскостями называется расстояние от какой-нибудь точки одной плоскости до другой плоск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6320" y="4191120"/>
            <a:ext cx="356868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Упражнение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685800"/>
            <a:ext cx="883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Из точки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не принадлежащей плоскости α, проведена наклонная к этой плоскости. Определите угол между этой наклонной и плоскостью α, если расстояние от точки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до плоскости α: а) равно ортогональной проекции наклонной; б) в два раза меньше самой наклонн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5486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) 45</a:t>
            </a:r>
            <a:r>
              <a:rPr b="0" lang="en-US" sz="2400" spc="-1" strike="noStrike" baseline="30000">
                <a:solidFill>
                  <a:srgbClr val="00cc99"/>
                </a:solidFill>
                <a:latin typeface="Times New Roman"/>
              </a:rPr>
              <a:t>о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5486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б) 30</a:t>
            </a:r>
            <a:r>
              <a:rPr b="0" lang="en-US" sz="2400" spc="-1" strike="noStrike" baseline="30000">
                <a:solidFill>
                  <a:srgbClr val="00cc99"/>
                </a:solidFill>
                <a:latin typeface="Times New Roman"/>
              </a:rPr>
              <a:t>о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Упражнение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685800"/>
            <a:ext cx="88394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кубе </a:t>
            </a:r>
            <a:r>
              <a:rPr b="0" i="1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..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с ребром </a:t>
            </a:r>
            <a:r>
              <a:rPr b="0" i="1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расстояние между вершиной </a:t>
            </a:r>
            <a:r>
              <a:rPr b="0" i="1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: а) ребром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; б) диагональю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; в) диагональю </a:t>
            </a:r>
            <a:r>
              <a:rPr b="0" i="1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С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722680" y="1857240"/>
            <a:ext cx="3697200" cy="314172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228600" y="5467320"/>
            <a:ext cx="2031840" cy="478800"/>
            <a:chOff x="228600" y="5467320"/>
            <a:chExt cx="2031840" cy="478800"/>
          </a:xfrm>
        </p:grpSpPr>
        <p:sp>
          <p:nvSpPr>
            <p:cNvPr id="66" name=""/>
            <p:cNvSpPr/>
            <p:nvPr/>
          </p:nvSpPr>
          <p:spPr>
            <a:xfrm>
              <a:off x="228600" y="54864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а)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7" name=""/>
            <p:cNvGraphicFramePr/>
            <p:nvPr/>
          </p:nvGraphicFramePr>
          <p:xfrm>
            <a:off x="1600200" y="5467320"/>
            <a:ext cx="660240" cy="4190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0200" y="5467320"/>
                      <a:ext cx="66024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9" name=""/>
          <p:cNvGrpSpPr/>
          <p:nvPr/>
        </p:nvGrpSpPr>
        <p:grpSpPr>
          <a:xfrm>
            <a:off x="2362320" y="5283360"/>
            <a:ext cx="1981080" cy="787320"/>
            <a:chOff x="2362320" y="5283360"/>
            <a:chExt cx="1981080" cy="787320"/>
          </a:xfrm>
        </p:grpSpPr>
        <p:sp>
          <p:nvSpPr>
            <p:cNvPr id="70" name=""/>
            <p:cNvSpPr/>
            <p:nvPr/>
          </p:nvSpPr>
          <p:spPr>
            <a:xfrm>
              <a:off x="2362320" y="54864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б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1" name=""/>
            <p:cNvGraphicFramePr/>
            <p:nvPr/>
          </p:nvGraphicFramePr>
          <p:xfrm>
            <a:off x="2730600" y="5283360"/>
            <a:ext cx="761760" cy="787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730600" y="5283360"/>
                      <a:ext cx="76176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3" name=""/>
          <p:cNvGrpSpPr/>
          <p:nvPr/>
        </p:nvGrpSpPr>
        <p:grpSpPr>
          <a:xfrm>
            <a:off x="3505320" y="5276880"/>
            <a:ext cx="1981080" cy="799920"/>
            <a:chOff x="3505320" y="5276880"/>
            <a:chExt cx="1981080" cy="799920"/>
          </a:xfrm>
        </p:grpSpPr>
        <p:sp>
          <p:nvSpPr>
            <p:cNvPr id="74" name=""/>
            <p:cNvSpPr/>
            <p:nvPr/>
          </p:nvSpPr>
          <p:spPr>
            <a:xfrm>
              <a:off x="3505320" y="54864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в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5" name=""/>
            <p:cNvGraphicFramePr/>
            <p:nvPr/>
          </p:nvGraphicFramePr>
          <p:xfrm>
            <a:off x="3886200" y="5276880"/>
            <a:ext cx="736560" cy="7999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886200" y="5276880"/>
                      <a:ext cx="73656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Упражнение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6858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Чему равно расстояние между параллельными гранями в куб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5486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Ребру куба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Упражнение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685800"/>
            <a:ext cx="883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кубе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..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с ребром </a:t>
            </a:r>
            <a:r>
              <a:rPr b="0" i="1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расстояние: а) от  вершины  </a:t>
            </a:r>
            <a:r>
              <a:rPr b="0" i="1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до плоскости грани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CD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; б) от вершины </a:t>
            </a:r>
            <a:r>
              <a:rPr b="0" i="1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до плоскости грани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B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; в) от вершины </a:t>
            </a:r>
            <a:r>
              <a:rPr b="0" i="1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до плоскости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743200" y="1981080"/>
            <a:ext cx="3697200" cy="3141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5800" y="5486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) 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362320" y="5283360"/>
            <a:ext cx="1981080" cy="787320"/>
            <a:chOff x="2362320" y="5283360"/>
            <a:chExt cx="1981080" cy="787320"/>
          </a:xfrm>
        </p:grpSpPr>
        <p:sp>
          <p:nvSpPr>
            <p:cNvPr id="85" name=""/>
            <p:cNvSpPr/>
            <p:nvPr/>
          </p:nvSpPr>
          <p:spPr>
            <a:xfrm>
              <a:off x="2362320" y="54864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б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6" name=""/>
            <p:cNvGraphicFramePr/>
            <p:nvPr/>
          </p:nvGraphicFramePr>
          <p:xfrm>
            <a:off x="2730600" y="5283360"/>
            <a:ext cx="761760" cy="787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730600" y="5283360"/>
                      <a:ext cx="76176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8" name=""/>
          <p:cNvGrpSpPr/>
          <p:nvPr/>
        </p:nvGrpSpPr>
        <p:grpSpPr>
          <a:xfrm>
            <a:off x="3505320" y="5276880"/>
            <a:ext cx="1981080" cy="799920"/>
            <a:chOff x="3505320" y="5276880"/>
            <a:chExt cx="1981080" cy="799920"/>
          </a:xfrm>
        </p:grpSpPr>
        <p:sp>
          <p:nvSpPr>
            <p:cNvPr id="89" name=""/>
            <p:cNvSpPr/>
            <p:nvPr/>
          </p:nvSpPr>
          <p:spPr>
            <a:xfrm>
              <a:off x="3505320" y="54864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в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0" name=""/>
            <p:cNvGraphicFramePr/>
            <p:nvPr/>
          </p:nvGraphicFramePr>
          <p:xfrm>
            <a:off x="3892680" y="5276880"/>
            <a:ext cx="723600" cy="7999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92680" y="5276880"/>
                      <a:ext cx="72360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Упражнение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685800"/>
            <a:ext cx="88394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Найдите расстояние между вершиной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плоскостью 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куба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i="1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если ребро куба равно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743200" y="1676520"/>
            <a:ext cx="3697200" cy="314172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603360" y="5257800"/>
            <a:ext cx="1981080" cy="800280"/>
            <a:chOff x="603360" y="5257800"/>
            <a:chExt cx="1981080" cy="800280"/>
          </a:xfrm>
        </p:grpSpPr>
        <p:sp>
          <p:nvSpPr>
            <p:cNvPr id="96" name=""/>
            <p:cNvSpPr/>
            <p:nvPr/>
          </p:nvSpPr>
          <p:spPr>
            <a:xfrm>
              <a:off x="603360" y="54100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7" name=""/>
            <p:cNvGraphicFramePr/>
            <p:nvPr/>
          </p:nvGraphicFramePr>
          <p:xfrm>
            <a:off x="1676520" y="5257800"/>
            <a:ext cx="723960" cy="800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76520" y="5257800"/>
                      <a:ext cx="72396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Упражнение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68580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прямой четырехугольной призме, в основании которой - ромб со стороной </a:t>
            </a:r>
            <a:r>
              <a:rPr b="0" i="1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и острым углом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φ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найдите расстояние между противоположными боковыми граня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3360" y="5410080"/>
            <a:ext cx="23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sin </a:t>
            </a: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873520" y="2009880"/>
            <a:ext cx="339696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Упражнение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68580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Ребро правильного тетраэдра равно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 Найдите расстояние между его скрещивающимися ребр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038400" y="2073240"/>
            <a:ext cx="3067200" cy="271152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603360" y="5257800"/>
            <a:ext cx="2368440" cy="787320"/>
            <a:chOff x="603360" y="5257800"/>
            <a:chExt cx="2368440" cy="787320"/>
          </a:xfrm>
        </p:grpSpPr>
        <p:sp>
          <p:nvSpPr>
            <p:cNvPr id="107" name=""/>
            <p:cNvSpPr/>
            <p:nvPr/>
          </p:nvSpPr>
          <p:spPr>
            <a:xfrm>
              <a:off x="603360" y="5410080"/>
              <a:ext cx="236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8" name=""/>
            <p:cNvGraphicFramePr/>
            <p:nvPr/>
          </p:nvGraphicFramePr>
          <p:xfrm>
            <a:off x="1600200" y="5257800"/>
            <a:ext cx="711360" cy="787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0200" y="5257800"/>
                      <a:ext cx="71136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6:06:58Z</dcterms:created>
  <dc:creator>*</dc:creator>
  <dc:description/>
  <dc:language>en-US</dc:language>
  <cp:lastModifiedBy>*</cp:lastModifiedBy>
  <dcterms:modified xsi:type="dcterms:W3CDTF">2008-07-25T03:28:08Z</dcterms:modified>
  <cp:revision>22</cp:revision>
  <dc:subject/>
  <dc:title>УГОЛ МЕЖДУ ПРЯМЫМИ В ПРОСТРАНСТВЕ</dc:title>
</cp:coreProperties>
</file>