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FAAB-B98D-48FC-AC1F-71F40BB98D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AFA-F34B-4EF6-99C3-B64962F8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C41-F23D-4F64-AC47-73592DCF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D41-D6D0-4BEF-9CB8-7DDE399F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E47-AFF3-483D-A087-7A824847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CD0-D6DB-4A8E-819E-8BD4326D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383-38FC-479A-A3F3-E725C998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881-AAA4-453F-891E-3F29DDAA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0B6-83E4-4A44-9E47-3D45FEEC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D3F-B600-4EF7-AFB1-B1C2B8CF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716-57F0-4C32-BBB6-0AF7CE43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A85-446E-40FA-BB4E-40854C1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DF2-241D-41A2-9DC6-B6A05D4E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8ADB-98F0-4DDE-9B80-DE6624D02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ОТ ТОЧКИ ДО ПРЯМОЙ И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от точки до прямой в пространстве называется длина перпендикуляра, опущенного из данной точки на данную пряму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489040" cy="2182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3581280"/>
            <a:ext cx="533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от точки до плоскости в пространстве называется длина перпендикуляра, опущенного из данной точки на данную плоск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3886200"/>
            <a:ext cx="3322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85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треугольной призме со стороной основания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боковым ребром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я между скрещивающимися реб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3360" y="5257800"/>
            <a:ext cx="2368440" cy="787320"/>
            <a:chOff x="603360" y="5257800"/>
            <a:chExt cx="2368440" cy="787320"/>
          </a:xfrm>
        </p:grpSpPr>
        <p:sp>
          <p:nvSpPr>
            <p:cNvPr id="113" name=""/>
            <p:cNvSpPr/>
            <p:nvPr/>
          </p:nvSpPr>
          <p:spPr>
            <a:xfrm>
              <a:off x="603360" y="5410080"/>
              <a:ext cx="23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1676520" y="5257800"/>
            <a:ext cx="977760" cy="78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5257800"/>
                      <a:ext cx="977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00400" y="1676520"/>
            <a:ext cx="32162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85800"/>
            <a:ext cx="88394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куб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 ребром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е между скрещивающимися прямыми: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г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д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е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97200" cy="314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62320" y="5283360"/>
            <a:ext cx="1981080" cy="787320"/>
            <a:chOff x="2362320" y="5283360"/>
            <a:chExt cx="1981080" cy="787320"/>
          </a:xfrm>
        </p:grpSpPr>
        <p:sp>
          <p:nvSpPr>
            <p:cNvPr id="122" name=""/>
            <p:cNvSpPr/>
            <p:nvPr/>
          </p:nvSpPr>
          <p:spPr>
            <a:xfrm>
              <a:off x="2362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730600" y="5283360"/>
            <a:ext cx="7617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30600" y="528336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350532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76920" y="5334120"/>
            <a:ext cx="1218960" cy="787320"/>
            <a:chOff x="4876920" y="5334120"/>
            <a:chExt cx="1218960" cy="787320"/>
          </a:xfrm>
        </p:grpSpPr>
        <p:graphicFrame>
          <p:nvGraphicFramePr>
            <p:cNvPr id="128" name=""/>
            <p:cNvGraphicFramePr/>
            <p:nvPr/>
          </p:nvGraphicFramePr>
          <p:xfrm>
            <a:off x="5334120" y="5334120"/>
            <a:ext cx="7617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4120" y="533412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487692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д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172200" y="5327640"/>
            <a:ext cx="1206360" cy="800280"/>
            <a:chOff x="6172200" y="5327640"/>
            <a:chExt cx="1206360" cy="800280"/>
          </a:xfrm>
        </p:grpSpPr>
        <p:sp>
          <p:nvSpPr>
            <p:cNvPr id="132" name=""/>
            <p:cNvSpPr/>
            <p:nvPr/>
          </p:nvSpPr>
          <p:spPr>
            <a:xfrm>
              <a:off x="617220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е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6642000" y="5327640"/>
            <a:ext cx="73656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42000" y="5327640"/>
                      <a:ext cx="7365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6858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геометрическое место точек пространства, равноудаленных от двух параллельных прям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486400"/>
            <a:ext cx="42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скость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6858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треугольной пирамиде сторона основания равн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боковое ребро -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высоту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82760" y="2068560"/>
            <a:ext cx="2778480" cy="27208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685800" y="5334120"/>
            <a:ext cx="3581280" cy="863640"/>
            <a:chOff x="685800" y="5334120"/>
            <a:chExt cx="3581280" cy="863640"/>
          </a:xfrm>
        </p:grpSpPr>
        <p:sp>
          <p:nvSpPr>
            <p:cNvPr id="142" name=""/>
            <p:cNvSpPr/>
            <p:nvPr/>
          </p:nvSpPr>
          <p:spPr>
            <a:xfrm>
              <a:off x="685800" y="548640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1905120" y="5334120"/>
            <a:ext cx="1295280" cy="863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334120"/>
                      <a:ext cx="129528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858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четырехугольной пирамиде сторона основания равна 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высота - 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боковое ребро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" y="5340240"/>
            <a:ext cx="3581280" cy="851040"/>
            <a:chOff x="685800" y="5340240"/>
            <a:chExt cx="3581280" cy="851040"/>
          </a:xfrm>
        </p:grpSpPr>
        <p:sp>
          <p:nvSpPr>
            <p:cNvPr id="148" name=""/>
            <p:cNvSpPr/>
            <p:nvPr/>
          </p:nvSpPr>
          <p:spPr>
            <a:xfrm>
              <a:off x="685800" y="548640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1892160" y="5340240"/>
            <a:ext cx="1320840" cy="85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2160" y="5340240"/>
                      <a:ext cx="1320840" cy="8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102120" y="2031840"/>
            <a:ext cx="293976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858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ебро куба равно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сстояние между скрещивающимися диагоналями смежных гран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5334120"/>
            <a:ext cx="3581280" cy="799920"/>
            <a:chOff x="685800" y="5334120"/>
            <a:chExt cx="3581280" cy="799920"/>
          </a:xfrm>
        </p:grpSpPr>
        <p:sp>
          <p:nvSpPr>
            <p:cNvPr id="155" name=""/>
            <p:cNvSpPr/>
            <p:nvPr/>
          </p:nvSpPr>
          <p:spPr>
            <a:xfrm>
              <a:off x="685800" y="548640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828800" y="5334120"/>
            <a:ext cx="698400" cy="79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5334120"/>
                      <a:ext cx="6984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43200" y="1981080"/>
            <a:ext cx="36972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6858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ана плоскость </a:t>
            </a:r>
            <a:r>
              <a:rPr b="0" lang="ru-RU" sz="28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две точк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о одну сторону от нее. Найдите точку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 плоскости </a:t>
            </a:r>
            <a:r>
              <a:rPr b="0" lang="ru-RU" sz="28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чтобы сумма расстояни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B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ыла наименьш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85960" y="2384280"/>
            <a:ext cx="3772080" cy="208764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609480" y="2136600"/>
            <a:ext cx="8305920" cy="4418640"/>
            <a:chOff x="609480" y="2136600"/>
            <a:chExt cx="8305920" cy="4418640"/>
          </a:xfrm>
        </p:grpSpPr>
        <p:sp>
          <p:nvSpPr>
            <p:cNvPr id="163" name=""/>
            <p:cNvSpPr/>
            <p:nvPr/>
          </p:nvSpPr>
          <p:spPr>
            <a:xfrm>
              <a:off x="609480" y="5181480"/>
              <a:ext cx="8305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Обозначим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B’ 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точку симметричную точке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 относительно плоскости </a:t>
              </a:r>
              <a:r>
                <a:rPr b="0" lang="ru-RU" sz="28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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. Искомая точка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 будет точкой пересечения прямой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AB’ 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и плоскости </a:t>
              </a:r>
              <a:r>
                <a:rPr b="0" lang="ru-RU" sz="28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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2685960" y="2136600"/>
              <a:ext cx="3772080" cy="258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 И 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838080"/>
            <a:ext cx="53341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38796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33920" y="45720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сстоянием между двумя параллельными плоскостями называется расстояние от какой-нибудь точки одной плоскости до другой плос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320" y="4191120"/>
            <a:ext cx="356868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8580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з точк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не принадлежащей плоскости α, проведена наклонная к этой плоскости. Определите угол между этой наклонной и плоскостью α, если расстояние от точк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α: а) равно ортогональной проекции наклонной; б) в два раза меньше самой наклон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45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) 30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85800"/>
            <a:ext cx="8839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кубе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 ребром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е между вершиной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: а) ребром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диагональю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диагональю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22680" y="1857240"/>
            <a:ext cx="3697200" cy="31417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28600" y="5467320"/>
            <a:ext cx="2031840" cy="478800"/>
            <a:chOff x="228600" y="5467320"/>
            <a:chExt cx="2031840" cy="478800"/>
          </a:xfrm>
        </p:grpSpPr>
        <p:sp>
          <p:nvSpPr>
            <p:cNvPr id="66" name=""/>
            <p:cNvSpPr/>
            <p:nvPr/>
          </p:nvSpPr>
          <p:spPr>
            <a:xfrm>
              <a:off x="22860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а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600200" y="5467320"/>
            <a:ext cx="66024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467320"/>
                      <a:ext cx="6602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2362320" y="5283360"/>
            <a:ext cx="1981080" cy="787320"/>
            <a:chOff x="2362320" y="5283360"/>
            <a:chExt cx="1981080" cy="787320"/>
          </a:xfrm>
        </p:grpSpPr>
        <p:sp>
          <p:nvSpPr>
            <p:cNvPr id="70" name=""/>
            <p:cNvSpPr/>
            <p:nvPr/>
          </p:nvSpPr>
          <p:spPr>
            <a:xfrm>
              <a:off x="2362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2730600" y="5283360"/>
            <a:ext cx="7617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30600" y="528336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3505320" y="5276880"/>
            <a:ext cx="1981080" cy="799920"/>
            <a:chOff x="3505320" y="5276880"/>
            <a:chExt cx="1981080" cy="799920"/>
          </a:xfrm>
        </p:grpSpPr>
        <p:sp>
          <p:nvSpPr>
            <p:cNvPr id="74" name=""/>
            <p:cNvSpPr/>
            <p:nvPr/>
          </p:nvSpPr>
          <p:spPr>
            <a:xfrm>
              <a:off x="3505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3886200" y="5276880"/>
            <a:ext cx="73656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86200" y="5276880"/>
                      <a:ext cx="7365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Чему равно расстояние между параллельными гранями в куб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5486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ебру куба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8580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 ребром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е: а) от  вершины 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гран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от вершины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гран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от вершины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97200" cy="3141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362320" y="5283360"/>
            <a:ext cx="1981080" cy="787320"/>
            <a:chOff x="2362320" y="5283360"/>
            <a:chExt cx="1981080" cy="787320"/>
          </a:xfrm>
        </p:grpSpPr>
        <p:sp>
          <p:nvSpPr>
            <p:cNvPr id="85" name=""/>
            <p:cNvSpPr/>
            <p:nvPr/>
          </p:nvSpPr>
          <p:spPr>
            <a:xfrm>
              <a:off x="2362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2730600" y="5283360"/>
            <a:ext cx="7617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30600" y="528336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" name=""/>
          <p:cNvGrpSpPr/>
          <p:nvPr/>
        </p:nvGrpSpPr>
        <p:grpSpPr>
          <a:xfrm>
            <a:off x="3505320" y="5276880"/>
            <a:ext cx="1981080" cy="799920"/>
            <a:chOff x="3505320" y="5276880"/>
            <a:chExt cx="1981080" cy="799920"/>
          </a:xfrm>
        </p:grpSpPr>
        <p:sp>
          <p:nvSpPr>
            <p:cNvPr id="89" name=""/>
            <p:cNvSpPr/>
            <p:nvPr/>
          </p:nvSpPr>
          <p:spPr>
            <a:xfrm>
              <a:off x="3505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3892680" y="5276880"/>
            <a:ext cx="723600" cy="799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92680" y="5276880"/>
                      <a:ext cx="7236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8839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расстояние между вершиной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плоскостью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куб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если ребро куба равно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97200" cy="31417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603360" y="5257800"/>
            <a:ext cx="1981080" cy="800280"/>
            <a:chOff x="603360" y="5257800"/>
            <a:chExt cx="1981080" cy="800280"/>
          </a:xfrm>
        </p:grpSpPr>
        <p:sp>
          <p:nvSpPr>
            <p:cNvPr id="96" name=""/>
            <p:cNvSpPr/>
            <p:nvPr/>
          </p:nvSpPr>
          <p:spPr>
            <a:xfrm>
              <a:off x="603360" y="54100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1676520" y="5257800"/>
            <a:ext cx="72396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5257800"/>
                      <a:ext cx="7239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85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ой четырехугольной призме, в основании которой - ромб со стороной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острым углом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φ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найдите расстояние между противоположными боковыми гран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360" y="541008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73520" y="2009880"/>
            <a:ext cx="33969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ебро правильного тетраэдра равно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сстояние между его скрещивающимися реб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38400" y="2073240"/>
            <a:ext cx="3067200" cy="27115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03360" y="5257800"/>
            <a:ext cx="2368440" cy="787320"/>
            <a:chOff x="603360" y="5257800"/>
            <a:chExt cx="2368440" cy="787320"/>
          </a:xfrm>
        </p:grpSpPr>
        <p:sp>
          <p:nvSpPr>
            <p:cNvPr id="107" name=""/>
            <p:cNvSpPr/>
            <p:nvPr/>
          </p:nvSpPr>
          <p:spPr>
            <a:xfrm>
              <a:off x="603360" y="5410080"/>
              <a:ext cx="23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1600200" y="5257800"/>
            <a:ext cx="7113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257800"/>
                      <a:ext cx="7113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*</cp:lastModifiedBy>
  <dcterms:modified xsi:type="dcterms:W3CDTF">2008-07-25T03:28:08Z</dcterms:modified>
  <cp:revision>22</cp:revision>
  <dc:subject/>
  <dc:title>УГОЛ МЕЖДУ ПРЯМЫМИ В ПРОСТРАНСТВЕ</dc:title>
</cp:coreProperties>
</file>