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38F4-6ABD-4D92-8784-EE6698ECC2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6F7-B78C-4540-960D-5978AE27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928-50B5-434B-9656-AA5E2E7D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7AC-6AEB-4912-8384-B465CB29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2F0-7DA2-45DF-9E74-84E336F1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75C-FE75-47A8-B56E-4A37337B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243-7A9B-4A8F-9367-57DD0DEA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7D9-6B89-4D07-ABA3-BA9AEE28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06D-2691-4FF8-B6EB-D5500E26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F96-41EB-48C0-8C20-A976A941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F90-2814-4196-A0B5-A66E26C4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D1F-76A6-4D46-88B3-023DD8FA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C4C-80FC-4A5A-A66E-F2C0025F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2F99-4CCD-4BDD-945B-561E56278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ОТ ТОЧКИ ДО ПРЯМОЙ И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от точки до прямой в пространстве называется длина перпендикуляра, опущенного из данной точки на данную пряму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489040" cy="2182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3581280"/>
            <a:ext cx="533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от точки до плоскости в пространстве называется длина перпендикуляра, опущенного из данной точки на данную плоск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3322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85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треугольной призме со стороной основания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боковым ребром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я между скрещивающимися реб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3360" y="5257800"/>
            <a:ext cx="2368440" cy="787320"/>
            <a:chOff x="603360" y="5257800"/>
            <a:chExt cx="2368440" cy="787320"/>
          </a:xfrm>
        </p:grpSpPr>
        <p:sp>
          <p:nvSpPr>
            <p:cNvPr id="113" name=""/>
            <p:cNvSpPr/>
            <p:nvPr/>
          </p:nvSpPr>
          <p:spPr>
            <a:xfrm>
              <a:off x="603360" y="5410080"/>
              <a:ext cx="23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"/>
            <p:cNvGraphicFramePr/>
            <p:nvPr/>
          </p:nvGraphicFramePr>
          <p:xfrm>
            <a:off x="1676520" y="5257800"/>
            <a:ext cx="977760" cy="78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5257800"/>
                      <a:ext cx="977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00400" y="1676520"/>
            <a:ext cx="32162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85800"/>
            <a:ext cx="88394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куб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 ребром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е между скрещивающимися прямыми: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г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д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е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314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62320" y="5283360"/>
            <a:ext cx="1981080" cy="787320"/>
            <a:chOff x="2362320" y="5283360"/>
            <a:chExt cx="1981080" cy="787320"/>
          </a:xfrm>
        </p:grpSpPr>
        <p:sp>
          <p:nvSpPr>
            <p:cNvPr id="122" name=""/>
            <p:cNvSpPr/>
            <p:nvPr/>
          </p:nvSpPr>
          <p:spPr>
            <a:xfrm>
              <a:off x="2362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2730600" y="5283360"/>
            <a:ext cx="7617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30600" y="528336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350532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76920" y="5334120"/>
            <a:ext cx="1218960" cy="787320"/>
            <a:chOff x="4876920" y="5334120"/>
            <a:chExt cx="1218960" cy="787320"/>
          </a:xfrm>
        </p:grpSpPr>
        <p:graphicFrame>
          <p:nvGraphicFramePr>
            <p:cNvPr id="128" name=""/>
            <p:cNvGraphicFramePr/>
            <p:nvPr/>
          </p:nvGraphicFramePr>
          <p:xfrm>
            <a:off x="5334120" y="5334120"/>
            <a:ext cx="7617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4120" y="533412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487692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172200" y="5327640"/>
            <a:ext cx="1206360" cy="800280"/>
            <a:chOff x="6172200" y="5327640"/>
            <a:chExt cx="1206360" cy="800280"/>
          </a:xfrm>
        </p:grpSpPr>
        <p:sp>
          <p:nvSpPr>
            <p:cNvPr id="132" name=""/>
            <p:cNvSpPr/>
            <p:nvPr/>
          </p:nvSpPr>
          <p:spPr>
            <a:xfrm>
              <a:off x="617220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е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6642000" y="5327640"/>
            <a:ext cx="73656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42000" y="5327640"/>
                      <a:ext cx="7365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6858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геометрическое место точек пространства, равноудаленных от двух параллельных прям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486400"/>
            <a:ext cx="42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скость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6858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треугольной пирамиде сторона основания равна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боковое ребро -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высоту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82760" y="2068560"/>
            <a:ext cx="2778480" cy="27208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685800" y="5334120"/>
            <a:ext cx="3581280" cy="863640"/>
            <a:chOff x="685800" y="5334120"/>
            <a:chExt cx="3581280" cy="863640"/>
          </a:xfrm>
        </p:grpSpPr>
        <p:sp>
          <p:nvSpPr>
            <p:cNvPr id="142" name=""/>
            <p:cNvSpPr/>
            <p:nvPr/>
          </p:nvSpPr>
          <p:spPr>
            <a:xfrm>
              <a:off x="685800" y="54864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1905120" y="5334120"/>
            <a:ext cx="1295280" cy="863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334120"/>
                      <a:ext cx="129528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85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авильной четырехугольной пирамиде сторона основания равна 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высота - 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боковое ребро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" y="5340240"/>
            <a:ext cx="3581280" cy="851040"/>
            <a:chOff x="685800" y="5340240"/>
            <a:chExt cx="3581280" cy="851040"/>
          </a:xfrm>
        </p:grpSpPr>
        <p:sp>
          <p:nvSpPr>
            <p:cNvPr id="148" name=""/>
            <p:cNvSpPr/>
            <p:nvPr/>
          </p:nvSpPr>
          <p:spPr>
            <a:xfrm>
              <a:off x="685800" y="54864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   </a:t>
              </a:r>
              <a:r>
                <a:rPr b="0" lang="en-US" sz="28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1892160" y="5340240"/>
            <a:ext cx="1320840" cy="85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2160" y="5340240"/>
                      <a:ext cx="1320840" cy="8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102120" y="2031840"/>
            <a:ext cx="293976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8580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ебро куба равно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сстояние между скрещивающимися диагоналями смежных гран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5334120"/>
            <a:ext cx="3581280" cy="799920"/>
            <a:chOff x="685800" y="5334120"/>
            <a:chExt cx="3581280" cy="799920"/>
          </a:xfrm>
        </p:grpSpPr>
        <p:sp>
          <p:nvSpPr>
            <p:cNvPr id="155" name=""/>
            <p:cNvSpPr/>
            <p:nvPr/>
          </p:nvSpPr>
          <p:spPr>
            <a:xfrm>
              <a:off x="685800" y="548640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828800" y="5334120"/>
            <a:ext cx="698400" cy="79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5334120"/>
                      <a:ext cx="6984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743200" y="1981080"/>
            <a:ext cx="36972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68580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ана плоскость </a:t>
            </a:r>
            <a:r>
              <a:rPr b="0" lang="ru-RU" sz="28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две точк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о одну сторону от нее. Найдите точку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 плоскости </a:t>
            </a:r>
            <a:r>
              <a:rPr b="0" lang="ru-RU" sz="2800" spc="-1" strike="noStrike">
                <a:solidFill>
                  <a:srgbClr val="00cc99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чтобы сумма расстояни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C</a:t>
            </a:r>
            <a:r>
              <a:rPr b="0" i="1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B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ыла наименьш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85960" y="2384280"/>
            <a:ext cx="3772080" cy="20876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609480" y="2136600"/>
            <a:ext cx="8305920" cy="4418640"/>
            <a:chOff x="609480" y="2136600"/>
            <a:chExt cx="8305920" cy="4418640"/>
          </a:xfrm>
        </p:grpSpPr>
        <p:sp>
          <p:nvSpPr>
            <p:cNvPr id="163" name=""/>
            <p:cNvSpPr/>
            <p:nvPr/>
          </p:nvSpPr>
          <p:spPr>
            <a:xfrm>
              <a:off x="609480" y="5181480"/>
              <a:ext cx="8305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Обозначим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B’ 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точку симметричную точке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 относительно плоскости </a:t>
              </a:r>
              <a:r>
                <a:rPr b="0" lang="ru-RU" sz="28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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. Искомая точка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C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 будет точкой пересечения прямой </a:t>
              </a:r>
              <a:r>
                <a:rPr b="0" i="1" lang="en-US" sz="2800" spc="-1" strike="noStrike">
                  <a:solidFill>
                    <a:srgbClr val="00cc99"/>
                  </a:solidFill>
                  <a:latin typeface="Times New Roman"/>
                </a:rPr>
                <a:t>AB’ 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и плоскости </a:t>
              </a:r>
              <a:r>
                <a:rPr b="0" lang="ru-RU" sz="28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</a:t>
              </a:r>
              <a:r>
                <a:rPr b="0" lang="ru-RU" sz="28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2685960" y="2136600"/>
              <a:ext cx="3772080" cy="258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Е МЕЖДУ ПРЯМЫМИ И ПЛОСК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838080"/>
            <a:ext cx="53341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Расстоянием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ежду двумя 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не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ересекающимися прямыми в пространстве называется 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длина общего перпендикуляра, проведенного к этим прямым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cc99"/>
                </a:solidFill>
                <a:latin typeface="Times New Roman"/>
              </a:rPr>
              <a:t>Если одна из двух данных прямых лежит в плоскости, а другая –  параллельна этой плоскости, то расстояние между данными прямыми равно расстоянию между прямой и плоскость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38796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33920" y="457200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сстоянием между двумя параллельными плоскостями называется расстояние от какой-нибудь точки одной плоскости до другой плос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320" y="4191120"/>
            <a:ext cx="35686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8580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не принадлежащей плоскости α, проведена наклонная к этой плоскости. Определите угол между этой наклонной и плоскостью α, если расстояние от точк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α: а) равно ортогональной проекции наклонной; б) в два раза меньше самой наклон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45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) 30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85800"/>
            <a:ext cx="8839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кубе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 ребром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е между вершиной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: а) ребром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диагональю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диагональю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22680" y="1857240"/>
            <a:ext cx="3697200" cy="31417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8600" y="5467320"/>
            <a:ext cx="2031840" cy="478800"/>
            <a:chOff x="228600" y="5467320"/>
            <a:chExt cx="2031840" cy="478800"/>
          </a:xfrm>
        </p:grpSpPr>
        <p:sp>
          <p:nvSpPr>
            <p:cNvPr id="66" name=""/>
            <p:cNvSpPr/>
            <p:nvPr/>
          </p:nvSpPr>
          <p:spPr>
            <a:xfrm>
              <a:off x="22860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а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600200" y="5467320"/>
            <a:ext cx="66024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467320"/>
                      <a:ext cx="6602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2362320" y="5283360"/>
            <a:ext cx="1981080" cy="787320"/>
            <a:chOff x="2362320" y="5283360"/>
            <a:chExt cx="1981080" cy="787320"/>
          </a:xfrm>
        </p:grpSpPr>
        <p:sp>
          <p:nvSpPr>
            <p:cNvPr id="70" name=""/>
            <p:cNvSpPr/>
            <p:nvPr/>
          </p:nvSpPr>
          <p:spPr>
            <a:xfrm>
              <a:off x="2362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2730600" y="5283360"/>
            <a:ext cx="76176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30600" y="528336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3505320" y="5276880"/>
            <a:ext cx="1981080" cy="799920"/>
            <a:chOff x="3505320" y="5276880"/>
            <a:chExt cx="1981080" cy="799920"/>
          </a:xfrm>
        </p:grpSpPr>
        <p:sp>
          <p:nvSpPr>
            <p:cNvPr id="74" name=""/>
            <p:cNvSpPr/>
            <p:nvPr/>
          </p:nvSpPr>
          <p:spPr>
            <a:xfrm>
              <a:off x="3505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3886200" y="5276880"/>
            <a:ext cx="73656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86200" y="5276880"/>
                      <a:ext cx="73656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Чему равно расстояние между параллельными гранями в куб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5486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ебру куба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8580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куб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..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с ребром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найдите расстояние: а) от  вершины 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гран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б) от вершины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гран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; в) от вершины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до плоскости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3141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362320" y="5283360"/>
            <a:ext cx="1981080" cy="787320"/>
            <a:chOff x="2362320" y="5283360"/>
            <a:chExt cx="1981080" cy="787320"/>
          </a:xfrm>
        </p:grpSpPr>
        <p:sp>
          <p:nvSpPr>
            <p:cNvPr id="85" name=""/>
            <p:cNvSpPr/>
            <p:nvPr/>
          </p:nvSpPr>
          <p:spPr>
            <a:xfrm>
              <a:off x="2362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2730600" y="5283360"/>
            <a:ext cx="7617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30600" y="5283360"/>
                      <a:ext cx="7617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8" name=""/>
          <p:cNvGrpSpPr/>
          <p:nvPr/>
        </p:nvGrpSpPr>
        <p:grpSpPr>
          <a:xfrm>
            <a:off x="3505320" y="5276880"/>
            <a:ext cx="1981080" cy="799920"/>
            <a:chOff x="3505320" y="5276880"/>
            <a:chExt cx="1981080" cy="799920"/>
          </a:xfrm>
        </p:grpSpPr>
        <p:sp>
          <p:nvSpPr>
            <p:cNvPr id="89" name=""/>
            <p:cNvSpPr/>
            <p:nvPr/>
          </p:nvSpPr>
          <p:spPr>
            <a:xfrm>
              <a:off x="3505320" y="5486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3892680" y="5276880"/>
            <a:ext cx="723600" cy="799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92680" y="5276880"/>
                      <a:ext cx="7236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685800"/>
            <a:ext cx="8839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расстояние между вершиной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плоскостью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куб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…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cc99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если ребро куба равно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697200" cy="31417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603360" y="5257800"/>
            <a:ext cx="1981080" cy="800280"/>
            <a:chOff x="603360" y="5257800"/>
            <a:chExt cx="1981080" cy="800280"/>
          </a:xfrm>
        </p:grpSpPr>
        <p:sp>
          <p:nvSpPr>
            <p:cNvPr id="96" name=""/>
            <p:cNvSpPr/>
            <p:nvPr/>
          </p:nvSpPr>
          <p:spPr>
            <a:xfrm>
              <a:off x="603360" y="54100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1676520" y="5257800"/>
            <a:ext cx="723960" cy="80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5257800"/>
                      <a:ext cx="7239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85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прямой четырехугольной призме, в основании которой - ромб со стороной </a:t>
            </a:r>
            <a:r>
              <a:rPr b="0" i="1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и острым углом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φ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найдите расстояние между противоположными боковыми гран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360" y="541008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73520" y="2009880"/>
            <a:ext cx="33969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ебро правильного тетраэдра равно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расстояние между его скрещивающимися реб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38400" y="2073240"/>
            <a:ext cx="3067200" cy="27115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03360" y="5257800"/>
            <a:ext cx="2368440" cy="787320"/>
            <a:chOff x="603360" y="5257800"/>
            <a:chExt cx="2368440" cy="787320"/>
          </a:xfrm>
        </p:grpSpPr>
        <p:sp>
          <p:nvSpPr>
            <p:cNvPr id="107" name=""/>
            <p:cNvSpPr/>
            <p:nvPr/>
          </p:nvSpPr>
          <p:spPr>
            <a:xfrm>
              <a:off x="603360" y="5410080"/>
              <a:ext cx="23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1600200" y="5257800"/>
            <a:ext cx="7113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5257800"/>
                      <a:ext cx="7113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*</cp:lastModifiedBy>
  <dcterms:modified xsi:type="dcterms:W3CDTF">2008-07-25T03:28:08Z</dcterms:modified>
  <cp:revision>22</cp:revision>
  <dc:subject/>
  <dc:title>УГОЛ МЕЖДУ ПРЯМЫМИ В ПРОСТРАНСТВЕ</dc:title>
</cp:coreProperties>
</file>