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644-5EED-4B66-90C8-B0256F69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516-7825-4F0A-9647-D80D7C11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B6A-54F7-4909-92F8-6C8C64DA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89F-0973-4C4C-9B4C-83CFFA9D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48F-ED43-478A-90EA-140A4CD6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8F7-54DD-4D47-ADB7-EC971464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024-CC4D-486A-ACB7-65800181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6D1-DB90-47AF-8EC9-8795E9CD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D77-EEFE-4983-87EB-1AA93CF3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9AB-0EB1-4ACB-87AF-77BE5E7C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901-FCB6-4B8C-8438-A7818AB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461-2BDA-4583-8231-D299B80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DB6-B4CA-4415-AC8B-6E6F011A0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0040" y="78552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Принципы обуч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23840" y="115920"/>
            <a:ext cx="88963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 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Рисунок 7" descr="aieiaoey-oeoaeu.gif"/>
          <p:cNvPicPr/>
          <p:nvPr/>
        </p:nvPicPr>
        <p:blipFill>
          <a:blip r:embed="rId1"/>
          <a:stretch/>
        </p:blipFill>
        <p:spPr>
          <a:xfrm>
            <a:off x="5715000" y="3214800"/>
            <a:ext cx="2786040" cy="3057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0800000">
            <a:off x="4648320" y="5928480"/>
            <a:ext cx="40384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1680" y="714240"/>
            <a:ext cx="81435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емственности, последовательности и систематич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сается содержания обучения, его форм и способов, стратегий и тактик взаимодействия субъектов в учебном процессе личностных новообразований обуч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и систематич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разрешить противоречие между необходимостью формирования системы знаний, умений и навыков по предметам и формированием целостного концептуального видения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1760" y="5604480"/>
            <a:ext cx="261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10800000">
            <a:off x="457200" y="6125400"/>
            <a:ext cx="403848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10800000">
            <a:off x="4648320" y="6143040"/>
            <a:ext cx="4038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4648320" y="6126120"/>
            <a:ext cx="403848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71680" y="428760"/>
            <a:ext cx="8001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единства группового и индивидуаль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нцип обусловлен тем, что индивид становится личностью благодаря, с одной стороны, его общению и взаимодействию с другими людьми, а с другой – своему стремлению к обособлению. Общение, взаимодействие и обособление обеспечивают социализацию и развити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28760" y="1143000"/>
            <a:ext cx="8143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ответствия обучения возрастным и индивидуальным особенносям обучае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реализацию возрастного и индивидуального под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00040" y="428760"/>
            <a:ext cx="82152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нательности и творческой активности обучае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личности по своей природе социальна и субъектна. Может иметь репродуктивный или творческий характер. Данный принцип требует развития у обучаемых аргументированности и доказательности суждений, выводов, оценок, способов решения. Реализации принципа способствует применение различных форм самоуправления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00040" y="1214280"/>
            <a:ext cx="82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оступности обучения при достаточном уровне его тру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учета в его организации реальных возможностей обучаемых, отказа от интеллектуальных и эмоциональных перегрузок, отрицательно сказывающихся на их физическом и психическо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8760" y="1143000"/>
            <a:ext cx="8286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гля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А. Коменский называл его «золотым правилом» дидактики, согласно которому в обучении нужно использовать все органы чувств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в обучении основана на такой закономерности процесса познания, как его движение от чувственного к логическому, от конкретного к абстракт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28760" y="1143000"/>
            <a:ext cx="82864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дуктивности и надеж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рганизационно–методическим принципом. Если обучение не приводит к достижению целей образования, то в нем нет педагогической необходимости. Обучение должно быть продуктивным, иметь образовательный, развивающий и воспитательный эффе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8760" y="1285920"/>
            <a:ext cx="82152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птим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взаимосвязь принципов процесса обучения. Он предполагает сочетание различных методов, средств и форм организации учебного процесса, а также создание необходимых учебно-материальных, гигиенических, социально-психологических, эстетических и других условий для его функцион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5" descr=""/>
          <p:cNvPicPr/>
          <p:nvPr/>
        </p:nvPicPr>
        <p:blipFill>
          <a:blip r:embed="rId1"/>
          <a:stretch/>
        </p:blipFill>
        <p:spPr>
          <a:xfrm>
            <a:off x="341280" y="1352520"/>
            <a:ext cx="8442360" cy="1951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785880"/>
            <a:ext cx="8001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инципы обучения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ходные дидактические положения, которые отражают протекание объективных законов и закономерностей процесса обучения и определяют его направленность на развитие ли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1642680"/>
            <a:ext cx="8115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лно принципы обучения были сформулированы К.Д. Ушински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начинаться своевременно и быть постепенным (пусть дети приобретают понемногу, но не теряют ничего из приобретенного и пользуются им для приобретения нов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вестись природосообразно в соответствии с психологическими особенностям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 систематичность – одно из главных условий успеха в обучении; школа должна давать достаточно глубокие и основательные 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всячески развивать у детей самодеятельность, активность инициати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быть посильным для учащихся, не чрезмерно трудным и не слишком лег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всякого предмета должно непременно идти таким путем, чтобы на долю воспитания оставалось ровно столько труда, сколько могут одолеть его молод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4240" y="285480"/>
            <a:ext cx="7786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педагогики выдвигались принципы природосообразности обучения (Я. А. Коменский), культуросообразности (Ф. А. Дистервег), формального и неформального подхода к образованию и др. Они оказались исторически преходя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713880"/>
            <a:ext cx="80438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ы попытки разработать систему дидактических принципов в работах исследователей нового времени. Их анализ позволяет выделить в качестве основополагающих, общепризнанных следующие принци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сти и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ности и последова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 теории с прак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нципы составляют систему дидактических принц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85920" y="5071680"/>
            <a:ext cx="2900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5840" y="928800"/>
            <a:ext cx="8429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обу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ы друг с другом и проникают  один в другой, поэтому они могут быть представлены ка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, состоящая из содержательных и процессуальных (организационно-методических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е принципы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жают закономерности, которые связаны с отбором содержания образования и его совершенство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принци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000840"/>
            <a:ext cx="4038480" cy="1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57120" y="1214280"/>
            <a:ext cx="82155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раждан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 социальные аспекты обучения. Его значимость является общепризнанной в связи с изменением государственного статуса России, необходимостью возрождения чувства патриотизма, чувства Родины, развития национальн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800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85840" y="857160"/>
            <a:ext cx="85723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у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оответствие содержания образования уровню развития современной науки и техники, опыту, накопленному мировой цивилизацией. Принцип научности требует, чтобы содержание образования, реализуемое как в учебное, так и во внеучебное время, было направленно на ознакомление обучаемых с объективными теориями, концепциями той или иной отрасли, приближаясь к раскрытию ее современных достижений и перспектив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ывающего обучения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формирование в процессе обучения базовой культуры личности: нравственной, правовой, эстетической, физической, культуры труда и жизнедеятельности, общения. Воспитание в процессе обучения связано с интеллектуальным развитием и, прежде всего, с развитием креативности индивидуальных познавательных способностей с учетом интересов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8320" y="5786280"/>
            <a:ext cx="40384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28760" y="357120"/>
            <a:ext cx="8286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фундаментальности и прикладной направлен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диционной дидактике он формулировался как связь обучения с жизнью, теории с практикой. Фундаментальность в обучении предполагает научность, полноту и глубину знаний, развитие сознания и самос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, согласно данному принципу, должно торажать преобразования в экономике, политике, культуре, т.е. в том социальном контексте, в котором протекает жизнедеятельность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45:47Z</dcterms:created>
  <dc:creator>Ученик</dc:creator>
  <dc:description/>
  <dc:language>en-US</dc:language>
  <cp:lastModifiedBy>Admin</cp:lastModifiedBy>
  <dcterms:modified xsi:type="dcterms:W3CDTF">2012-01-22T22:10:36Z</dcterms:modified>
  <cp:revision>31</cp:revision>
  <dc:subject/>
  <dc:title>Внеурочная деятельность в первых классах МОУ Самарская СОШ №4 </dc:title>
</cp:coreProperties>
</file>