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C50C-E6E8-48D7-9C07-FB37F6E01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2B0E-C05D-4918-AE8B-3CF60806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9FB2-35CE-4A4A-82DC-04077B052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4985-804E-4044-BE6A-925FC033E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9374-1609-4398-A5D0-C2489326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B61E-840F-4897-8BD6-36940DFE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3333-FD76-4832-9A43-BEBAFE62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98F1-123B-4BC2-9B21-87FAC0D4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0CEF-A7BC-4E62-A85F-B72104D3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7EF7-1DCA-44F2-91D3-65FCC2F3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3EA4-58EF-4C17-AD2D-EC214D35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5FD1-DB64-49E5-87E7-72DC6B3E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6D1A-0F3F-48A5-BF76-9F5D38FABB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00040" y="785520"/>
            <a:ext cx="807264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Monotype Corsiva"/>
              </a:rPr>
              <a:t>Принципы обучен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123840" y="115920"/>
            <a:ext cx="889632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8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Monotype Corsiva"/>
              </a:rPr>
              <a:t> 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80008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43" name="Рисунок 7" descr="aieiaoey-oeoaeu.gif"/>
          <p:cNvPicPr/>
          <p:nvPr/>
        </p:nvPicPr>
        <p:blipFill>
          <a:blip r:embed="rId1"/>
          <a:stretch/>
        </p:blipFill>
        <p:spPr>
          <a:xfrm>
            <a:off x="5715000" y="3214800"/>
            <a:ext cx="2786040" cy="30574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5857560"/>
            <a:ext cx="4038480" cy="2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 rot="10800000">
            <a:off x="4648320" y="5928480"/>
            <a:ext cx="403848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571680" y="714240"/>
            <a:ext cx="814356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преемственности, последовательности и систематичности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емственн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сается содержания обучения, его форм и способов, стратегий и тактик взаимодействия субъектов в учебном процессе личностных новообразований обучаем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овательность и систематичност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ют разрешить противоречие между необходимостью формирования системы знаний, умений и навыков по предметам и формированием целостного концептуального видения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71760" y="5604480"/>
            <a:ext cx="26146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 rot="10800000">
            <a:off x="457200" y="6125400"/>
            <a:ext cx="4038480" cy="3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 rot="10800000">
            <a:off x="4648320" y="6143040"/>
            <a:ext cx="4038480" cy="1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 rot="10800000">
            <a:off x="4648320" y="6126120"/>
            <a:ext cx="4038480" cy="5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571680" y="428760"/>
            <a:ext cx="800100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единства группового и индивидуального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ринцип обусловлен тем, что индивид становится личностью благодаря, с одной стороны, его общению и взаимодействию с другими людьми, а с другой – своему стремлению к обособлению. Общение, взаимодействие и обособление обеспечивают социализацию и развитие ли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428760" y="1143000"/>
            <a:ext cx="81439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соответствия обучения возрастным и индивидуальным особенносям обучаем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т реализацию возрастного и индивидуального подход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500040" y="428760"/>
            <a:ext cx="82152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сознательности и творческой активности обучаем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ь личности по своей природе социальна и субъектна. Может иметь репродуктивный или творческий характер. Данный принцип требует развития у обучаемых аргументированности и доказательности суждений, выводов, оценок, способов решения. Реализации принципа способствует применение различных форм самоуправления в учебном процес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500040" y="1214280"/>
            <a:ext cx="8215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доступности обучения при достаточном уровне его труд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ует учета в его организации реальных возможностей обучаемых, отказа от интеллектуальных и эмоциональных перегрузок, отрицательно сказывающихся на их физическом и психическом здоров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428760" y="1143000"/>
            <a:ext cx="828648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нагляд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.А. Коменский называл его «золотым правилом» дидактики, согласно которому в обучении нужно использовать все органы чувств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ядность в обучении основана на такой закономерности процесса познания, как его движение от чувственного к логическому, от конкретного к абстрактно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428760" y="1143000"/>
            <a:ext cx="828648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продуктивности и надежности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организационно–методическим принципом. Если обучение не приводит к достижению целей образования, то в нем нет педагогической необходимости. Обучение должно быть продуктивным, иметь образовательный, развивающий и воспитательный эффек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428760" y="1285920"/>
            <a:ext cx="821520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оптима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ется как взаимосвязь принципов процесса обучения. Он предполагает сочетание различных методов, средств и форм организации учебного процесса, а также создание необходимых учебно-материальных, гигиенических, социально-психологических, эстетических и других условий для его функционир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TextBox 5" descr=""/>
          <p:cNvPicPr/>
          <p:nvPr/>
        </p:nvPicPr>
        <p:blipFill>
          <a:blip r:embed="rId1"/>
          <a:stretch/>
        </p:blipFill>
        <p:spPr>
          <a:xfrm>
            <a:off x="341280" y="1352520"/>
            <a:ext cx="8442360" cy="19512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571680" y="785880"/>
            <a:ext cx="800100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Принципы обучения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–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исходные дидактические положения, которые отражают протекание объективных законов и закономерностей процесса обучения и определяют его направленность на развитие лич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28760" y="1642680"/>
            <a:ext cx="811512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полно принципы обучения были сформулированы К.Д. Ушинским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должно начинаться своевременно и быть постепенным (пусть дети приобретают понемногу, но не теряют ничего из приобретенного и пользуются им для приобретения новог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должно вестись природосообразно в соответствии с психологическими особенностями обучающих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и систематичность – одно из главных условий успеха в обучении; школа должна давать достаточно глубокие и основательные зн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должно всячески развивать у детей самодеятельность, активность инициатив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должно быть посильным для учащихся, не чрезмерно трудным и не слишком легки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давание всякого предмета должно непременно идти таким путем, чтобы на долю воспитания оставалось ровно столько труда, сколько могут одолеть его молодые си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14240" y="285480"/>
            <a:ext cx="77868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стории педагогики выдвигались принципы природосообразности обучения (Я. А. Коменский), культуросообразности (Ф. А. Дистервег), формального и неформального подхода к образованию и др. Они оказались исторически преходящ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8320" y="6072120"/>
            <a:ext cx="4038480" cy="54000"/>
          </a:xfrm>
          <a:prstGeom prst="rect">
            <a:avLst/>
          </a:prstGeom>
          <a:noFill/>
          <a:ln w="0">
            <a:noFill/>
          </a:ln>
        </p:spPr>
        <p:txBody>
          <a:bodyPr tIns="8280" bIns="8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500040" y="713880"/>
            <a:ext cx="804384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численны попытки разработать систему дидактических принципов в работах исследователей нового времени. Их анализ позволяет выделить в качестве основополагающих, общепризнанных следующие принцип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нательности и актив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яд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чности и последова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и теории с практи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принципы составляют систему дидактических принцип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85920" y="5071680"/>
            <a:ext cx="290052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66ff"/>
              </a:solidFill>
              <a:latin typeface="Times New Roman"/>
              <a:ea typeface="Times New Roman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285840" y="928800"/>
            <a:ext cx="842940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ы обучен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аны друг с другом и проникают  один в другой, поэтому они могут быть представлены как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, состоящая из содержательных и процессуальных (организационно-методических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нцип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тельные принципы обуч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ражают закономерности, которые связаны с отбором содержания образования и его совершенствова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им относятся принцип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6000840"/>
            <a:ext cx="4038480" cy="12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357120" y="1214280"/>
            <a:ext cx="821556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гражданствен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жает социальные аспекты обучения. Его значимость является общепризнанной в связи с изменением государственного статуса России, необходимостью возрождения чувства патриотизма, чувства Родины, развития национального харак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788000" y="404280"/>
            <a:ext cx="403848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285840" y="857160"/>
            <a:ext cx="857232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науч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т соответствие содержания образования уровню развития современной науки и техники, опыту, накопленному мировой цивилизацией. Принцип научности требует, чтобы содержание образования, реализуемое как в учебное, так и во внеучебное время, было направленно на ознакомление обучаемых с объективными теориями, концепциями той или иной отрасли, приближаясь к раскрытию ее современных достижений и перспектив разви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71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воспитывающего обучения</a:t>
            </a:r>
            <a:br>
              <a:rPr sz="3600"/>
            </a:br>
            <a:br>
              <a:rPr sz="36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т формирование в процессе обучения базовой культуры личности: нравственной, правовой, эстетической, физической, культуры труда и жизнедеятельности, общения. Воспитание в процессе обучения связано с интеллектуальным развитием и, прежде всего, с развитием креативности индивидуальных познавательных способностей с учетом интересов обучаем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648320" y="5786280"/>
            <a:ext cx="4038480" cy="33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5857560"/>
            <a:ext cx="4038480" cy="2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428760" y="357120"/>
            <a:ext cx="828648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фундаментальности и прикладной направленности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радиционной дидактике он формулировался как связь обучения с жизнью, теории с практикой. Фундаментальность в обучении предполагает научность, полноту и глубину знаний, развитие сознания и самосозн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образования, согласно данному принципу, должно торажать преобразования в экономике, политике, культуре, т.е. в том социальном контексте, в котором протекает жизнедеятельность обучаем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0:45:47Z</dcterms:created>
  <dc:creator>Ученик</dc:creator>
  <dc:description/>
  <dc:language>en-US</dc:language>
  <cp:lastModifiedBy>Admin</cp:lastModifiedBy>
  <dcterms:modified xsi:type="dcterms:W3CDTF">2012-01-22T22:10:36Z</dcterms:modified>
  <cp:revision>31</cp:revision>
  <dc:subject/>
  <dc:title>Внеурочная деятельность в первых классах МОУ Самарская СОШ №4 </dc:title>
</cp:coreProperties>
</file>