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D87-039B-45BB-981B-349490C1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3FC-1DBB-44CC-933E-B3B502D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575-E4AB-42CB-84C3-B4F8DFFB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DEE-6F15-4565-AD21-E9048411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F7C-B166-41E1-9671-91A77A6C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BF7-CEC4-4D5F-8906-24496881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F96-3E5F-4873-9369-E5AAC51E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FE9-7F51-4643-A7AE-B641E17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A63-FED9-4EC4-8870-6571418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E24-1050-47CC-B6EC-A15368D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ED0-3794-47B8-B8C2-D957088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AC5-0DE3-4B86-96C9-47D73E9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3A3-2BFB-4574-AAD4-B08F482F6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" Target="slide11.xml"/><Relationship Id="rId6" Type="http://schemas.openxmlformats.org/officeDocument/2006/relationships/image" Target="../media/image13.png"/><Relationship Id="rId7" Type="http://schemas.openxmlformats.org/officeDocument/2006/relationships/slide" Target="slide9.xml"/><Relationship Id="rId8" Type="http://schemas.openxmlformats.org/officeDocument/2006/relationships/image" Target="../media/image14.png"/><Relationship Id="rId9" Type="http://schemas.openxmlformats.org/officeDocument/2006/relationships/slide" Target="slide12.xml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929720" cy="3786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Графическое представление числовой информации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Тема урока: </a:t>
            </a: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Построение диаграмм и графи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4285800"/>
            <a:ext cx="62863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читель «Информатики и И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БОУ СОШ № 373  ВОУО ДО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ломашенко Любовь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Кругов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529740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4" name="AutoShape 6"/>
          <p:cNvSpPr/>
          <p:nvPr/>
        </p:nvSpPr>
        <p:spPr>
          <a:xfrm>
            <a:off x="395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Точечн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473800" cy="477504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7" name="AutoShape 6"/>
          <p:cNvSpPr/>
          <p:nvPr/>
        </p:nvSpPr>
        <p:spPr>
          <a:xfrm>
            <a:off x="468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Линейчат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400720" cy="50133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11" name="AutoShape 6"/>
          <p:cNvSpPr/>
          <p:nvPr/>
        </p:nvSpPr>
        <p:spPr>
          <a:xfrm>
            <a:off x="53964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6303960" y="1011240"/>
            <a:ext cx="252900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ая выноска 7"/>
          <p:cNvSpPr/>
          <p:nvPr/>
        </p:nvSpPr>
        <p:spPr>
          <a:xfrm>
            <a:off x="2071800" y="3786120"/>
            <a:ext cx="2786040" cy="857160"/>
          </a:xfrm>
          <a:prstGeom prst="wedgeRectCallout">
            <a:avLst>
              <a:gd name="adj1" fmla="val -57226"/>
              <a:gd name="adj2" fmla="val -1670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ая выноска 6"/>
          <p:cNvSpPr/>
          <p:nvPr/>
        </p:nvSpPr>
        <p:spPr>
          <a:xfrm>
            <a:off x="6000840" y="1428840"/>
            <a:ext cx="2928960" cy="1500120"/>
          </a:xfrm>
          <a:prstGeom prst="wedgeRectCallout">
            <a:avLst>
              <a:gd name="adj1" fmla="val -193291"/>
              <a:gd name="adj2" fmla="val 13325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явившемся диалоговом окне выбрать Тип  и Вид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ая выноска 4"/>
          <p:cNvSpPr/>
          <p:nvPr/>
        </p:nvSpPr>
        <p:spPr>
          <a:xfrm>
            <a:off x="5929200" y="500040"/>
            <a:ext cx="2714760" cy="1428840"/>
          </a:xfrm>
          <a:prstGeom prst="wedgeRectCallout">
            <a:avLst>
              <a:gd name="adj1" fmla="val -116333"/>
              <a:gd name="adj2" fmla="val 143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ть основные и дополнительные параметры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ая выноска 4"/>
          <p:cNvSpPr/>
          <p:nvPr/>
        </p:nvSpPr>
        <p:spPr>
          <a:xfrm>
            <a:off x="5000760" y="785880"/>
            <a:ext cx="3571920" cy="1285920"/>
          </a:xfrm>
          <a:prstGeom prst="wedgeRectCallout">
            <a:avLst>
              <a:gd name="adj1" fmla="val -108879"/>
              <a:gd name="adj2" fmla="val 2151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е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к оформлению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заголовка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одписей осей значений и катег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леге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ьный цвет ф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gradFill rotWithShape="0">
            <a:gsLst>
              <a:gs pos="0">
                <a:srgbClr val="cdae71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601b"/>
                </a:solidFill>
                <a:latin typeface="Bodoni MT Black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dae71">
              <a:alpha val="41000"/>
            </a:srgbClr>
          </a:solidFill>
          <a:ln w="38160">
            <a:solidFill>
              <a:srgbClr val="8d5217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знать, что такое диаграмма и из каких объектов она со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Научиться создавать различные типы диа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меть выбирать оптимальные диаграммы и графики для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404640"/>
            <a:ext cx="7488000" cy="865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01b"/>
                </a:solidFill>
                <a:latin typeface="Bodoni MT Black"/>
              </a:rPr>
              <a:t>Документ табличного процесс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234936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Bodoni MT Black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508720" y="242100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Bodoni MT Black"/>
                <a:hlinkClick r:id="rId1" action="ppaction://hlinksldjump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36432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Яч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971640" y="450864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692360" y="54450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олб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43280" y="609300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Диап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28464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143080" y="328608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771640" y="3284640"/>
            <a:ext cx="144720" cy="2232000"/>
          </a:xfrm>
          <a:prstGeom prst="downArrow">
            <a:avLst>
              <a:gd name="adj1" fmla="val 50000"/>
              <a:gd name="adj2" fmla="val 385572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492360" y="3284640"/>
            <a:ext cx="142920" cy="2808360"/>
          </a:xfrm>
          <a:prstGeom prst="downArrow">
            <a:avLst>
              <a:gd name="adj1" fmla="val 50000"/>
              <a:gd name="adj2" fmla="val 49124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2124000" y="1341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6659640" y="134136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a5601b"/>
                  </a:solidFill>
                  <a:latin typeface="Arial"/>
                </a:rPr>
                <a:t>Диаграм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одержимое 2"/>
          <p:cNvGrpSpPr/>
          <p:nvPr/>
        </p:nvGrpSpPr>
        <p:grpSpPr>
          <a:xfrm>
            <a:off x="401760" y="1474920"/>
            <a:ext cx="8278560" cy="4749840"/>
            <a:chOff x="401760" y="1474920"/>
            <a:chExt cx="8278560" cy="4749840"/>
          </a:xfrm>
        </p:grpSpPr>
        <p:pic>
          <p:nvPicPr>
            <p:cNvPr id="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01760" y="1474920"/>
              <a:ext cx="82785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28760" y="1500120"/>
              <a:ext cx="8229600" cy="46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 u="sng">
                  <a:solidFill>
                    <a:srgbClr val="a5601b"/>
                  </a:solidFill>
                  <a:uFillTx/>
                  <a:latin typeface="Century Gothic"/>
                </a:rPr>
                <a:t>Диаграмма 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– это наглядное графическое представление числовых данны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Диаграммы предназначены для сравнения нескольких величин  или нескольких значений одной величины и слежения за изменением их значен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1"/>
          <p:cNvSpPr/>
          <p:nvPr/>
        </p:nvSpPr>
        <p:spPr>
          <a:xfrm>
            <a:off x="7164360" y="4221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3995640" y="2781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156360" y="170028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050920" y="3789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2205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3214800"/>
            <a:ext cx="764352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1916280"/>
            <a:ext cx="1584360" cy="13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2349360"/>
            <a:ext cx="1511280" cy="131940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75" name="Picture 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1365120" cy="131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4880" y="292896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4365720"/>
            <a:ext cx="1368360" cy="132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187280" y="333360"/>
            <a:ext cx="7417080" cy="100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doni MT Black"/>
              </a:rPr>
              <a:t>Типы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50920" y="3933720"/>
            <a:ext cx="13683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2268360" y="5516640"/>
            <a:ext cx="1368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4067280" y="4508640"/>
            <a:ext cx="158436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ист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6372360" y="3429000"/>
            <a:ext cx="1368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Кру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380360" y="5950080"/>
            <a:ext cx="14396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Линейч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2627280" y="1341360"/>
            <a:ext cx="289080" cy="2448000"/>
          </a:xfrm>
          <a:prstGeom prst="downArrow">
            <a:avLst>
              <a:gd name="adj1" fmla="val 50000"/>
              <a:gd name="adj2" fmla="val 211706"/>
            </a:avLst>
          </a:pr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1403280" y="134136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643280" y="1341360"/>
            <a:ext cx="289080" cy="1440000"/>
          </a:xfrm>
          <a:prstGeom prst="downArrow">
            <a:avLst>
              <a:gd name="adj1" fmla="val 50000"/>
              <a:gd name="adj2" fmla="val 124533"/>
            </a:avLst>
          </a:prstGeom>
          <a:blipFill rotWithShape="0">
            <a:blip r:embed="rId1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6929280" y="1357200"/>
            <a:ext cx="287640" cy="358920"/>
          </a:xfrm>
          <a:prstGeom prst="downArrow">
            <a:avLst>
              <a:gd name="adj1" fmla="val 50000"/>
              <a:gd name="adj2" fmla="val 31195"/>
            </a:avLst>
          </a:prstGeom>
          <a:blipFill rotWithShape="0">
            <a:blip r:embed="rId1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8172360" y="1341360"/>
            <a:ext cx="287280" cy="2879640"/>
          </a:xfrm>
          <a:prstGeom prst="downArrow">
            <a:avLst>
              <a:gd name="adj1" fmla="val 50000"/>
              <a:gd name="adj2" fmla="val 250595"/>
            </a:avLst>
          </a:prstGeom>
          <a:blipFill rotWithShape="0">
            <a:blip r:embed="rId1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Алгоритм построения диаграмм и граф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solidFill>
            <a:srgbClr val="cdae71">
              <a:alpha val="28000"/>
            </a:srgbClr>
          </a:solidFill>
          <a:ln cap="sq" w="57240">
            <a:solidFill>
              <a:srgbClr val="663300"/>
            </a:solidFill>
            <a:beve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Выделить диапазон ячеек, по которым будет строиться диагр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жать кнопку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Мастер ди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  панели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3. В появившемся диалоговом окне выбрать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Тип и Вид диаграммы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4. Задать основные и дополнительные параметры диаграммы (название диаграммы, подписи осей, расположение легенд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786800" y="2357280"/>
            <a:ext cx="8571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a5601b"/>
                  </a:solidFill>
                  <a:latin typeface="Century Gothic"/>
                </a:rPr>
                <a:t>Ря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анные, находящиеся в одной строке или в одном столбце, называются </a:t>
            </a:r>
            <a:r>
              <a:rPr b="1" lang="ru-RU" sz="4000" spc="-1" strike="noStrike" u="sng">
                <a:solidFill>
                  <a:srgbClr val="a5601b"/>
                </a:solidFill>
                <a:uFillTx/>
                <a:latin typeface="Century Gothic"/>
              </a:rPr>
              <a:t>рядом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иаграмма может быть построена как по одному ряду, так и по нескольким ря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929720" cy="50385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раф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0920" y="602136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истограм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15160" cy="486252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179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14:54Z</dcterms:created>
  <dc:creator>User</dc:creator>
  <dc:description/>
  <dc:language>en-US</dc:language>
  <cp:lastModifiedBy>user</cp:lastModifiedBy>
  <dcterms:modified xsi:type="dcterms:W3CDTF">2013-01-24T20:29:46Z</dcterms:modified>
  <cp:revision>45</cp:revision>
  <dc:subject/>
  <dc:title>Слайд 1</dc:title>
</cp:coreProperties>
</file>