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31.jpeg" ContentType="image/jpeg"/>
  <Override PartName="/ppt/media/image2.png" ContentType="image/png"/>
  <Override PartName="/ppt/media/image7.jpeg" ContentType="image/jpeg"/>
  <Override PartName="/ppt/media/image38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2935-EBB7-4D2A-B15B-0C6629AE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C969-47FB-4E6D-A32A-7C9305AC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C4BF-A4D2-4A1B-9638-F38DF3D3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330-24C9-421C-B53F-69052A87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FA4C-4EF0-46F1-BF81-09B3ABB8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F289-7231-4D0A-8C5B-0194C765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CA55-B88B-4C9A-84BC-FF30C4BE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CF57-361A-4A1A-BD45-00733ACD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FE3F-3756-4993-A646-8F4139D4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A487-D0F6-4D82-925E-E118C1EC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3942-B0FF-44F9-AC50-797C087F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56B5-538C-4BB5-98FC-79106E02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DCEA-DFF0-43A0-94E9-09987564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8C01-7C13-4817-BB27-C63EA05E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A403-7F88-4225-B611-046EC20C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E6E3-E6F1-4037-BEE5-497A4FD3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32B6-B46D-4E6D-B424-8364FE8B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5B45-66D9-4F84-BBC2-97210788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2C6-6732-4777-A47A-F10D0ACF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4F9C-BB6C-4FC6-A4D0-7F6A5C62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B3BA-28A4-45BF-A9D2-A7C93DB0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813-D83A-4ACF-B816-BBF9E593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F8D-41B0-4D4E-AD99-62E5557F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68FF-1F3D-47D6-AC84-B04C71E3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4606-7A00-45DC-94FA-D190EBB6EF1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A099-3877-4095-9201-2792AE2294E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31.jpeg"/><Relationship Id="rId10" Type="http://schemas.openxmlformats.org/officeDocument/2006/relationships/image" Target="../media/image18.jpeg"/><Relationship Id="rId11" Type="http://schemas.openxmlformats.org/officeDocument/2006/relationships/image" Target="../media/image10.jpeg"/><Relationship Id="rId12" Type="http://schemas.openxmlformats.org/officeDocument/2006/relationships/image" Target="../media/image40.jpe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10.jpeg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1800"/>
            </a:br>
            <a:br>
              <a:rPr sz="1800"/>
            </a:br>
            <a:r>
              <a:rPr b="1" i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Жизнь диких животных зимой.</a:t>
            </a: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96" name="Содержимое 12"/>
          <p:cNvGrpSpPr/>
          <p:nvPr/>
        </p:nvGrpSpPr>
        <p:grpSpPr>
          <a:xfrm>
            <a:off x="255600" y="2017800"/>
            <a:ext cx="8516880" cy="4419360"/>
            <a:chOff x="255600" y="2017800"/>
            <a:chExt cx="8516880" cy="4419360"/>
          </a:xfrm>
        </p:grpSpPr>
        <p:pic>
          <p:nvPicPr>
            <p:cNvPr id="97" name="Содержимое 12" descr=""/>
            <p:cNvPicPr/>
            <p:nvPr/>
          </p:nvPicPr>
          <p:blipFill>
            <a:blip r:embed="rId1"/>
            <a:stretch/>
          </p:blipFill>
          <p:spPr>
            <a:xfrm>
              <a:off x="255600" y="2017800"/>
              <a:ext cx="851688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57200" y="2214720"/>
              <a:ext cx="8229600" cy="41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90000"/>
                </a:lnSpc>
                <a:spcBef>
                  <a:spcPts val="10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зорует метель и глумится </a:t>
              </a:r>
              <a:br>
                <a:rPr sz="4000"/>
              </a:b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Задирает сорокам хвосты </a:t>
              </a:r>
              <a:br>
                <a:rPr sz="4000"/>
              </a:b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И стрекочет, волнуется птица </a:t>
              </a:r>
              <a:br>
                <a:rPr sz="4000"/>
              </a:b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Зябко прячется вдруг за кусты </a:t>
              </a:r>
              <a:br>
                <a:rPr sz="4000"/>
              </a:b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.А.Полищук.</a:t>
              </a:r>
              <a:br>
                <a:rPr sz="4000"/>
              </a:b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856800"/>
            <a:ext cx="835812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r>
              <a:rPr b="1" i="1" lang="ru-RU" sz="4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смотрите какие следы</a:t>
            </a:r>
            <a:br>
              <a:rPr sz="4400"/>
            </a:b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           у зайц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5" name="Picture 2" descr="C:\Documents and Settings\как хочешь\Рабочий стол\пЪтичЬки\фото\следы зайца2.jpg"/>
          <p:cNvPicPr/>
          <p:nvPr/>
        </p:nvPicPr>
        <p:blipFill>
          <a:blip r:embed="rId1"/>
          <a:stretch/>
        </p:blipFill>
        <p:spPr>
          <a:xfrm>
            <a:off x="928800" y="2428920"/>
            <a:ext cx="7286400" cy="38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428760" y="571680"/>
            <a:ext cx="8501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Хвост пушистый, мех золотистый  в лесу живёт, в деревне кур крадёт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8" name="Picture 2" descr="C:\Documents and Settings\как хочешь\Рабочий стол\пЪтичЬки\фото\лиса2.jpg"/>
          <p:cNvPicPr/>
          <p:nvPr/>
        </p:nvPicPr>
        <p:blipFill>
          <a:blip r:embed="rId1"/>
          <a:stretch/>
        </p:blipFill>
        <p:spPr>
          <a:xfrm>
            <a:off x="1071720" y="2928960"/>
            <a:ext cx="714348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 это следы лисы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0" name="Picture 2" descr="C:\Documents and Settings\как хочешь\Рабочий стол\пЪтичЬки\фото\следы лисы.jpg"/>
          <p:cNvPicPr/>
          <p:nvPr/>
        </p:nvPicPr>
        <p:blipFill>
          <a:blip r:embed="rId1"/>
          <a:stretch/>
        </p:blipFill>
        <p:spPr>
          <a:xfrm>
            <a:off x="1214280" y="1935000"/>
            <a:ext cx="6715440" cy="43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Хожу в пушистой шубе, </a:t>
            </a:r>
            <a:br>
              <a:rPr sz="4400"/>
            </a:b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Живу в густом лесу, </a:t>
            </a:r>
            <a:br>
              <a:rPr sz="4400"/>
            </a:b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 дупле на старом дубе </a:t>
            </a:r>
            <a:br>
              <a:rPr sz="4400"/>
            </a:b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решки я грызу. </a:t>
            </a: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2" name="Picture 2" descr="C:\Documents and Settings\как хочешь\Рабочий стол\пЪтичЬки\фото\белочка3.jpg"/>
          <p:cNvPicPr/>
          <p:nvPr/>
        </p:nvPicPr>
        <p:blipFill>
          <a:blip r:embed="rId1"/>
          <a:stretch/>
        </p:blipFill>
        <p:spPr>
          <a:xfrm>
            <a:off x="2000160" y="3000240"/>
            <a:ext cx="4929120" cy="33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леды белочк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4" name="Picture 2" descr="C:\Documents and Settings\как хочешь\Рабочий стол\пЪтичЬки\фото\следы белки2.gif"/>
          <p:cNvPicPr/>
          <p:nvPr/>
        </p:nvPicPr>
        <p:blipFill>
          <a:blip r:embed="rId1"/>
          <a:stretch/>
        </p:blipFill>
        <p:spPr>
          <a:xfrm>
            <a:off x="1000080" y="2071800"/>
            <a:ext cx="7072200" cy="38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-1429200"/>
            <a:ext cx="8715240" cy="6000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Хозяин лесной просыпается </a:t>
            </a:r>
            <a:br>
              <a:rPr sz="4400"/>
            </a:b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есной, а зимой под вьюжный вой</a:t>
            </a:r>
            <a:br>
              <a:rPr sz="4400"/>
            </a:b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спит в избушке снеговой. </a:t>
            </a:r>
            <a:br>
              <a:rPr sz="40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6" name="Picture 2" descr="C:\Documents and Settings\как хочешь\Рабочий стол\пЪтичЬки\фото\медведь3.jpg"/>
          <p:cNvPicPr/>
          <p:nvPr/>
        </p:nvPicPr>
        <p:blipFill>
          <a:blip r:embed="rId1"/>
          <a:stretch/>
        </p:blipFill>
        <p:spPr>
          <a:xfrm>
            <a:off x="2286000" y="292896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Блок-схема: извлечение 3"/>
          <p:cNvSpPr/>
          <p:nvPr/>
        </p:nvSpPr>
        <p:spPr>
          <a:xfrm>
            <a:off x="3500280" y="214200"/>
            <a:ext cx="2428920" cy="2857680"/>
          </a:xfrm>
          <a:prstGeom prst="flowChartExtra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Блок-схема: извлечение 5"/>
          <p:cNvSpPr/>
          <p:nvPr/>
        </p:nvSpPr>
        <p:spPr>
          <a:xfrm>
            <a:off x="6072120" y="214200"/>
            <a:ext cx="2714760" cy="2857680"/>
          </a:xfrm>
          <a:prstGeom prst="flowChartExtra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Блок-схема: процесс 6"/>
          <p:cNvSpPr/>
          <p:nvPr/>
        </p:nvSpPr>
        <p:spPr>
          <a:xfrm>
            <a:off x="571680" y="3214800"/>
            <a:ext cx="2714400" cy="3143160"/>
          </a:xfrm>
          <a:prstGeom prst="flowChartProcess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Блок-схема: процесс 7"/>
          <p:cNvSpPr/>
          <p:nvPr/>
        </p:nvSpPr>
        <p:spPr>
          <a:xfrm>
            <a:off x="3500280" y="3214800"/>
            <a:ext cx="2500560" cy="3143160"/>
          </a:xfrm>
          <a:prstGeom prst="flowChartProcess">
            <a:avLst/>
          </a:prstGeom>
          <a:solidFill>
            <a:srgbClr val="009d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Блок-схема: процесс 8"/>
          <p:cNvSpPr/>
          <p:nvPr/>
        </p:nvSpPr>
        <p:spPr>
          <a:xfrm>
            <a:off x="6286680" y="3214800"/>
            <a:ext cx="2428560" cy="3071880"/>
          </a:xfrm>
          <a:prstGeom prst="flowChartProcess">
            <a:avLst/>
          </a:prstGeom>
          <a:solidFill>
            <a:srgbClr val="10cf9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рямая соединительная линия 10"/>
          <p:cNvSpPr/>
          <p:nvPr/>
        </p:nvSpPr>
        <p:spPr>
          <a:xfrm>
            <a:off x="857160" y="4214880"/>
            <a:ext cx="22860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рямая соединительная линия 12"/>
          <p:cNvSpPr/>
          <p:nvPr/>
        </p:nvSpPr>
        <p:spPr>
          <a:xfrm>
            <a:off x="928800" y="5143680"/>
            <a:ext cx="214308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Прямая соединительная линия 14"/>
          <p:cNvSpPr/>
          <p:nvPr/>
        </p:nvSpPr>
        <p:spPr>
          <a:xfrm>
            <a:off x="3500280" y="4429080"/>
            <a:ext cx="22860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Прямая соединительная линия 16"/>
          <p:cNvSpPr/>
          <p:nvPr/>
        </p:nvSpPr>
        <p:spPr>
          <a:xfrm>
            <a:off x="3500280" y="5000760"/>
            <a:ext cx="22860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Прямая соединительная линия 18"/>
          <p:cNvSpPr/>
          <p:nvPr/>
        </p:nvSpPr>
        <p:spPr>
          <a:xfrm>
            <a:off x="6215040" y="4357800"/>
            <a:ext cx="22860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6357960" y="5214960"/>
            <a:ext cx="214308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TextBox 22"/>
          <p:cNvSpPr/>
          <p:nvPr/>
        </p:nvSpPr>
        <p:spPr>
          <a:xfrm>
            <a:off x="785880" y="4214880"/>
            <a:ext cx="23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те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Блок-схема: извлечение 24"/>
          <p:cNvSpPr/>
          <p:nvPr/>
        </p:nvSpPr>
        <p:spPr>
          <a:xfrm>
            <a:off x="571680" y="285840"/>
            <a:ext cx="2714400" cy="2714400"/>
          </a:xfrm>
          <a:prstGeom prst="flowChartExtra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TextBox 25"/>
          <p:cNvSpPr/>
          <p:nvPr/>
        </p:nvSpPr>
        <p:spPr>
          <a:xfrm>
            <a:off x="1285920" y="1000080"/>
            <a:ext cx="1428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TextBox 26"/>
          <p:cNvSpPr/>
          <p:nvPr/>
        </p:nvSpPr>
        <p:spPr>
          <a:xfrm>
            <a:off x="4357800" y="928800"/>
            <a:ext cx="857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TextBox 27"/>
          <p:cNvSpPr/>
          <p:nvPr/>
        </p:nvSpPr>
        <p:spPr>
          <a:xfrm>
            <a:off x="857160" y="3500280"/>
            <a:ext cx="214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TextBox 28"/>
          <p:cNvSpPr/>
          <p:nvPr/>
        </p:nvSpPr>
        <p:spPr>
          <a:xfrm>
            <a:off x="714240" y="5572080"/>
            <a:ext cx="24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хомяк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TextBox 21"/>
          <p:cNvSpPr/>
          <p:nvPr/>
        </p:nvSpPr>
        <p:spPr>
          <a:xfrm>
            <a:off x="3500280" y="3429000"/>
            <a:ext cx="2428920" cy="764280"/>
          </a:xfrm>
          <a:prstGeom prst="rect">
            <a:avLst/>
          </a:prstGeom>
          <a:solidFill>
            <a:srgbClr val="009dd9"/>
          </a:soli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гуш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3643200" y="5572080"/>
            <a:ext cx="213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ик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TextBox 29"/>
          <p:cNvSpPr/>
          <p:nvPr/>
        </p:nvSpPr>
        <p:spPr>
          <a:xfrm>
            <a:off x="6500880" y="357192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ц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TextBox 30"/>
          <p:cNvSpPr/>
          <p:nvPr/>
        </p:nvSpPr>
        <p:spPr>
          <a:xfrm>
            <a:off x="6715080" y="528624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Documents and Settings\как хочешь\Рабочий стол\пЪтичЬки\фото\бабочка3.jpg"/>
          <p:cNvPicPr/>
          <p:nvPr/>
        </p:nvPicPr>
        <p:blipFill>
          <a:blip r:embed="rId1"/>
          <a:stretch/>
        </p:blipFill>
        <p:spPr>
          <a:xfrm>
            <a:off x="0" y="0"/>
            <a:ext cx="2357280" cy="2000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Documents and Settings\как хочешь\Рабочий стол\пЪтичЬки\фото\дятел.jpg"/>
          <p:cNvPicPr/>
          <p:nvPr/>
        </p:nvPicPr>
        <p:blipFill>
          <a:blip r:embed="rId2"/>
          <a:stretch/>
        </p:blipFill>
        <p:spPr>
          <a:xfrm>
            <a:off x="2500200" y="0"/>
            <a:ext cx="2186280" cy="2000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как хочешь\Рабочий стол\пЪтичЬки\фото\ежик2.jpg"/>
          <p:cNvPicPr/>
          <p:nvPr/>
        </p:nvPicPr>
        <p:blipFill>
          <a:blip r:embed="rId3"/>
          <a:stretch/>
        </p:blipFill>
        <p:spPr>
          <a:xfrm>
            <a:off x="0" y="2357280"/>
            <a:ext cx="2214720" cy="2000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Documents and Settings\как хочешь\Рабочий стол\пЪтичЬки\фото\муравей3.jpg"/>
          <p:cNvPicPr/>
          <p:nvPr/>
        </p:nvPicPr>
        <p:blipFill>
          <a:blip r:embed="rId4"/>
          <a:stretch/>
        </p:blipFill>
        <p:spPr>
          <a:xfrm>
            <a:off x="2428920" y="2286000"/>
            <a:ext cx="2143080" cy="2071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Documents and Settings\как хочешь\Рабочий стол\пЪтичЬки\фото\снегирь2.jpg"/>
          <p:cNvPicPr/>
          <p:nvPr/>
        </p:nvPicPr>
        <p:blipFill>
          <a:blip r:embed="rId5"/>
          <a:stretch/>
        </p:blipFill>
        <p:spPr>
          <a:xfrm>
            <a:off x="4786200" y="2357280"/>
            <a:ext cx="1857600" cy="2000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:\Documents and Settings\как хочешь\Рабочий стол\пЪтичЬки\фото\белочка3.jpg"/>
          <p:cNvPicPr/>
          <p:nvPr/>
        </p:nvPicPr>
        <p:blipFill>
          <a:blip r:embed="rId6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Documents and Settings\как хочешь\Рабочий стол\пЪтичЬки\фото\волк.jpeg"/>
          <p:cNvPicPr/>
          <p:nvPr/>
        </p:nvPicPr>
        <p:blipFill>
          <a:blip r:embed="rId7"/>
          <a:stretch/>
        </p:blipFill>
        <p:spPr>
          <a:xfrm>
            <a:off x="4857840" y="0"/>
            <a:ext cx="2071440" cy="1928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C:\Documents and Settings\как хочешь\Рабочий стол\пЪтичЬки\фото\лягушка2.jpg"/>
          <p:cNvPicPr/>
          <p:nvPr/>
        </p:nvPicPr>
        <p:blipFill>
          <a:blip r:embed="rId8"/>
          <a:stretch/>
        </p:blipFill>
        <p:spPr>
          <a:xfrm>
            <a:off x="2357280" y="4952880"/>
            <a:ext cx="2143440" cy="190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C:\Documents and Settings\как хочешь\Рабочий стол\пЪтичЬки\фото\медведь3.jpg"/>
          <p:cNvPicPr/>
          <p:nvPr/>
        </p:nvPicPr>
        <p:blipFill>
          <a:blip r:embed="rId9"/>
          <a:stretch/>
        </p:blipFill>
        <p:spPr>
          <a:xfrm>
            <a:off x="4572000" y="4929120"/>
            <a:ext cx="2071800" cy="1928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C:\Documents and Settings\как хочешь\Рабочий стол\пЪтичЬки\фото\заяц2.jpg"/>
          <p:cNvPicPr/>
          <p:nvPr/>
        </p:nvPicPr>
        <p:blipFill>
          <a:blip r:embed="rId10"/>
          <a:stretch/>
        </p:blipFill>
        <p:spPr>
          <a:xfrm>
            <a:off x="6881760" y="2143080"/>
            <a:ext cx="2262240" cy="2071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C:\Documents and Settings\как хочешь\Рабочий стол\пЪтичЬки\фото\синица2.jpg"/>
          <p:cNvPicPr/>
          <p:nvPr/>
        </p:nvPicPr>
        <p:blipFill>
          <a:blip r:embed="rId11"/>
          <a:stretch/>
        </p:blipFill>
        <p:spPr>
          <a:xfrm>
            <a:off x="6858000" y="4714920"/>
            <a:ext cx="2286000" cy="2143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C:\Documents and Settings\как хочешь\Рабочий стол\пЪтичЬки\фото\лиса2.jpg"/>
          <p:cNvPicPr/>
          <p:nvPr/>
        </p:nvPicPr>
        <p:blipFill>
          <a:blip r:embed="rId12"/>
          <a:stretch/>
        </p:blipFill>
        <p:spPr>
          <a:xfrm>
            <a:off x="7000920" y="0"/>
            <a:ext cx="214308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584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то встретится в зимнем лесу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равей,    медведь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гушка,     лис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,          бабоч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ца,       снегирь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тел,        волк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,                заяц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ПАСИБО ЗА УРОК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3" name="Picture 2" descr="C:\Documents and Settings\All Users\Документы\Мои рисунки\Образцы рисунков\Зима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очитайте меня!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60000" indent="-36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ются птицы, которые живут у нас зимой?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0000" indent="-36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х зимующих птиц вы знаете?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0000" indent="-36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трашнее птицам голод или холод?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0000" indent="-36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еловек должен заботиться о птицах?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0000" indent="-36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птица выводит птенцов зимой?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0000" indent="-36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тицы ночуют, зарываясь в снег?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0000" indent="-36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ы можем помочь птицам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0000" indent="-36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азовите, кто мы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2" name="Picture 4" descr="C:\Documents and Settings\как хочешь\Рабочий стол\пЪтичЬки\фото\снегири.jpg"/>
          <p:cNvPicPr/>
          <p:nvPr/>
        </p:nvPicPr>
        <p:blipFill>
          <a:blip r:embed="rId1"/>
          <a:stretch/>
        </p:blipFill>
        <p:spPr>
          <a:xfrm>
            <a:off x="5072040" y="2000160"/>
            <a:ext cx="3143160" cy="4000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Documents and Settings\как хочешь\Рабочий стол\пЪтичЬки\фото\дятел3.jpg"/>
          <p:cNvPicPr/>
          <p:nvPr/>
        </p:nvPicPr>
        <p:blipFill>
          <a:blip r:embed="rId2"/>
          <a:stretch/>
        </p:blipFill>
        <p:spPr>
          <a:xfrm>
            <a:off x="1000080" y="200016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Documents and Settings\как хочешь\Рабочий стол\пЪтичЬки\фото\voron_b.jpg"/>
          <p:cNvPicPr/>
          <p:nvPr/>
        </p:nvPicPr>
        <p:blipFill>
          <a:blip r:embed="rId1"/>
          <a:stretch/>
        </p:blipFill>
        <p:spPr>
          <a:xfrm>
            <a:off x="785880" y="1500120"/>
            <a:ext cx="3571920" cy="415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Documents and Settings\как хочешь\Рабочий стол\пЪтичЬки\фото\воробей3.jpg"/>
          <p:cNvPicPr/>
          <p:nvPr/>
        </p:nvPicPr>
        <p:blipFill>
          <a:blip r:embed="rId2"/>
          <a:stretch/>
        </p:blipFill>
        <p:spPr>
          <a:xfrm>
            <a:off x="4762440" y="1500120"/>
            <a:ext cx="3738600" cy="40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7" name="Picture 2" descr="C:\Documents and Settings\как хочешь\Рабочий стол\пЪтичЬки\фото\поползень2.jpg"/>
          <p:cNvPicPr/>
          <p:nvPr/>
        </p:nvPicPr>
        <p:blipFill>
          <a:blip r:embed="rId1"/>
          <a:stretch/>
        </p:blipFill>
        <p:spPr>
          <a:xfrm>
            <a:off x="814320" y="1785960"/>
            <a:ext cx="3324240" cy="4143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Documents and Settings\как хочешь\Рабочий стол\пЪтичЬки\фото\синица2.jpg"/>
          <p:cNvPicPr/>
          <p:nvPr/>
        </p:nvPicPr>
        <p:blipFill>
          <a:blip r:embed="rId2"/>
          <a:stretch/>
        </p:blipFill>
        <p:spPr>
          <a:xfrm>
            <a:off x="4648320" y="1785960"/>
            <a:ext cx="3781440" cy="40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C:\Documents and Settings\как хочешь\Рабочий стол\пЪтичЬки\фото\Клест2.jpg"/>
          <p:cNvPicPr/>
          <p:nvPr/>
        </p:nvPicPr>
        <p:blipFill>
          <a:blip r:embed="rId1"/>
          <a:stretch/>
        </p:blipFill>
        <p:spPr>
          <a:xfrm>
            <a:off x="642960" y="1714680"/>
            <a:ext cx="3643200" cy="435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Documents and Settings\как хочешь\Рабочий стол\пЪтичЬки\фото\королек2.jpg"/>
          <p:cNvPicPr/>
          <p:nvPr/>
        </p:nvPicPr>
        <p:blipFill>
          <a:blip r:embed="rId2"/>
          <a:stretch/>
        </p:blipFill>
        <p:spPr>
          <a:xfrm>
            <a:off x="4714920" y="1643040"/>
            <a:ext cx="3571920" cy="45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то здесь спрятался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2" name="Содержимое 4" descr=""/>
          <p:cNvPicPr/>
          <p:nvPr/>
        </p:nvPicPr>
        <p:blipFill>
          <a:blip r:embed="rId1"/>
          <a:stretch/>
        </p:blipFill>
        <p:spPr>
          <a:xfrm>
            <a:off x="450720" y="1914480"/>
            <a:ext cx="2200320" cy="1305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F:\Новая папка\пЪтичЬки\фото\Vorona.jpg"/>
          <p:cNvPicPr/>
          <p:nvPr/>
        </p:nvPicPr>
        <p:blipFill>
          <a:blip r:embed="rId2"/>
          <a:stretch/>
        </p:blipFill>
        <p:spPr>
          <a:xfrm>
            <a:off x="6429240" y="4357800"/>
            <a:ext cx="2428920" cy="187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F:\Новая папка\пЪтичЬки\фото\волк4.jpg"/>
          <p:cNvPicPr/>
          <p:nvPr/>
        </p:nvPicPr>
        <p:blipFill>
          <a:blip r:embed="rId3"/>
          <a:stretch/>
        </p:blipFill>
        <p:spPr>
          <a:xfrm>
            <a:off x="4071960" y="2357280"/>
            <a:ext cx="2214720" cy="1357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F:\Новая папка\пЪтичЬки\фото\воробей.jpg"/>
          <p:cNvPicPr/>
          <p:nvPr/>
        </p:nvPicPr>
        <p:blipFill>
          <a:blip r:embed="rId4"/>
          <a:stretch/>
        </p:blipFill>
        <p:spPr>
          <a:xfrm>
            <a:off x="1714680" y="3643200"/>
            <a:ext cx="2071440" cy="1586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F:\Новая папка\пЪтичЬки\фото\дятел.jpg"/>
          <p:cNvPicPr/>
          <p:nvPr/>
        </p:nvPicPr>
        <p:blipFill>
          <a:blip r:embed="rId5"/>
          <a:stretch/>
        </p:blipFill>
        <p:spPr>
          <a:xfrm>
            <a:off x="3657600" y="3214800"/>
            <a:ext cx="1828800" cy="1428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F:\Новая папка\пЪтичЬки\фото\заяц2.jpg"/>
          <p:cNvPicPr/>
          <p:nvPr/>
        </p:nvPicPr>
        <p:blipFill>
          <a:blip r:embed="rId6"/>
          <a:stretch/>
        </p:blipFill>
        <p:spPr>
          <a:xfrm>
            <a:off x="1523880" y="4572000"/>
            <a:ext cx="2691000" cy="1571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F:\Новая папка\пЪтичЬки\фото\Клест2.jpg"/>
          <p:cNvPicPr/>
          <p:nvPr/>
        </p:nvPicPr>
        <p:blipFill>
          <a:blip r:embed="rId7"/>
          <a:stretch/>
        </p:blipFill>
        <p:spPr>
          <a:xfrm>
            <a:off x="6429240" y="207180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F:\Новая папка\пЪтичЬки\фото\лиса.jpg"/>
          <p:cNvPicPr/>
          <p:nvPr/>
        </p:nvPicPr>
        <p:blipFill>
          <a:blip r:embed="rId8"/>
          <a:stretch/>
        </p:blipFill>
        <p:spPr>
          <a:xfrm>
            <a:off x="357120" y="257184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F:\Новая папка\пЪтичЬки\фото\медведь2.jpeg"/>
          <p:cNvPicPr/>
          <p:nvPr/>
        </p:nvPicPr>
        <p:blipFill>
          <a:blip r:embed="rId9"/>
          <a:stretch/>
        </p:blipFill>
        <p:spPr>
          <a:xfrm>
            <a:off x="4572000" y="4357800"/>
            <a:ext cx="253368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F:\Новая папка\пЪтичЬки\фото\поползень.jpg"/>
          <p:cNvPicPr/>
          <p:nvPr/>
        </p:nvPicPr>
        <p:blipFill>
          <a:blip r:embed="rId10"/>
          <a:stretch/>
        </p:blipFill>
        <p:spPr>
          <a:xfrm>
            <a:off x="571680" y="3357720"/>
            <a:ext cx="1928520" cy="2571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F:\Новая папка\пЪтичЬки\фото\синица2.jpg"/>
          <p:cNvPicPr/>
          <p:nvPr/>
        </p:nvPicPr>
        <p:blipFill>
          <a:blip r:embed="rId11"/>
          <a:stretch/>
        </p:blipFill>
        <p:spPr>
          <a:xfrm>
            <a:off x="6286680" y="2643120"/>
            <a:ext cx="2500200" cy="20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F:\Новая папка\пЪтичЬки\фото\снегири.jpg"/>
          <p:cNvPicPr/>
          <p:nvPr/>
        </p:nvPicPr>
        <p:blipFill>
          <a:blip r:embed="rId12"/>
          <a:stretch/>
        </p:blipFill>
        <p:spPr>
          <a:xfrm>
            <a:off x="1476360" y="4857840"/>
            <a:ext cx="1881360" cy="1666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F:\Новая папка\пЪтичЬки\фото\сорока3.jpg"/>
          <p:cNvPicPr/>
          <p:nvPr/>
        </p:nvPicPr>
        <p:blipFill>
          <a:blip r:embed="rId13"/>
          <a:stretch/>
        </p:blipFill>
        <p:spPr>
          <a:xfrm>
            <a:off x="2143080" y="1928880"/>
            <a:ext cx="300060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хема 32" descr=""/>
          <p:cNvPicPr/>
          <p:nvPr/>
        </p:nvPicPr>
        <p:blipFill>
          <a:blip r:embed="rId1"/>
          <a:stretch/>
        </p:blipFill>
        <p:spPr>
          <a:xfrm>
            <a:off x="208080" y="231840"/>
            <a:ext cx="8955000" cy="65167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ая соединительная линия 34"/>
          <p:cNvSpPr/>
          <p:nvPr/>
        </p:nvSpPr>
        <p:spPr>
          <a:xfrm flipH="1">
            <a:off x="4714920" y="4216320"/>
            <a:ext cx="1440" cy="4287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Скругленный прямоугольник 38"/>
          <p:cNvSpPr/>
          <p:nvPr/>
        </p:nvSpPr>
        <p:spPr>
          <a:xfrm>
            <a:off x="3429000" y="4714920"/>
            <a:ext cx="2394000" cy="1520640"/>
          </a:xfrm>
          <a:prstGeom prst="roundRect">
            <a:avLst>
              <a:gd name="adj" fmla="val 10000"/>
            </a:avLst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8" name="Группа 39"/>
          <p:cNvGrpSpPr/>
          <p:nvPr/>
        </p:nvGrpSpPr>
        <p:grpSpPr>
          <a:xfrm>
            <a:off x="3714840" y="4929120"/>
            <a:ext cx="2465280" cy="1592280"/>
            <a:chOff x="3714840" y="4929120"/>
            <a:chExt cx="2465280" cy="1592280"/>
          </a:xfrm>
        </p:grpSpPr>
        <p:sp>
          <p:nvSpPr>
            <p:cNvPr id="129" name="Скругленный прямоугольник 40"/>
            <p:cNvSpPr/>
            <p:nvPr/>
          </p:nvSpPr>
          <p:spPr>
            <a:xfrm>
              <a:off x="3786120" y="5000400"/>
              <a:ext cx="2394000" cy="152100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0" name="Скругленный прямоугольник 4"/>
            <p:cNvSpPr/>
            <p:nvPr/>
          </p:nvSpPr>
          <p:spPr>
            <a:xfrm>
              <a:off x="3714840" y="4929120"/>
              <a:ext cx="230508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152280" bIns="15228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31" name="Прямоугольник 42"/>
          <p:cNvSpPr/>
          <p:nvPr/>
        </p:nvSpPr>
        <p:spPr>
          <a:xfrm>
            <a:off x="3786120" y="4929120"/>
            <a:ext cx="242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падают в спячку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пользуют летние запасы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ребираются ближе к жилью челове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6429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Шуба серая для лета, для зимы другого цвета.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3" name="Picture 2" descr="C:\Documents and Settings\как хочешь\Рабочий стол\пЪтичЬки\фото\заяц2.jpg"/>
          <p:cNvPicPr/>
          <p:nvPr/>
        </p:nvPicPr>
        <p:blipFill>
          <a:blip r:embed="rId1"/>
          <a:stretch/>
        </p:blipFill>
        <p:spPr>
          <a:xfrm>
            <a:off x="1544760" y="2286000"/>
            <a:ext cx="605448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8:24:05Z</dcterms:created>
  <dc:creator>как хочешь</dc:creator>
  <dc:description/>
  <dc:language>en-US</dc:language>
  <cp:lastModifiedBy>user</cp:lastModifiedBy>
  <dcterms:modified xsi:type="dcterms:W3CDTF">2011-01-18T14:44:37Z</dcterms:modified>
  <cp:revision>55</cp:revision>
  <dc:subject/>
  <dc:title>ешпрккап</dc:title>
</cp:coreProperties>
</file>