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jpeg" ContentType="image/jpeg"/>
  <Override PartName="/ppt/media/image2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892-1D16-4E8B-B09E-FB5DF586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EFC-D189-4374-81CB-B0184963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A3E-4C42-4089-9CBA-11D5B361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94B-9C54-4250-BA0C-DDABEFDA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EE27-C185-4928-8D80-46B3F7B5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6627-7234-4C62-8B20-133FE477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B88A-C27D-47B4-A8F8-6F91E969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4AEA-93B6-4835-9A9B-6961BA9B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4FD8-1A63-45F2-9BA0-7970EA42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A1A9-E0B0-464A-9B73-76E6F2CF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F323-B71C-447B-B3EF-B758B0F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3A0-6A3A-47B7-8860-3CD4F056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9BD-0E3B-47CD-B704-DFD2A30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C766-5A22-447B-896A-036242F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2E82-FE36-4DCA-AF47-74A45E2F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D74A-605F-4A32-9CA2-CFD01C37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E8E8-FFE4-4908-BCD5-6BF24651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F7E-6BE4-4D22-875B-EFDAF531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9A1-827D-44C6-A60C-E7DC7667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195-0FFD-4FCB-B743-2C7B4D40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5EE-5B02-492D-A323-9ED4E1F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0E3-4917-4A05-BF35-A760DFA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B69-CA6F-4962-A5B4-2AFF5536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6FC-0557-47E2-950D-FD414DA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A14-FDE7-4F58-9D90-B68085F40F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9D7-C120-4CC3-A093-CEE1ACB970C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31.jpeg"/><Relationship Id="rId10" Type="http://schemas.openxmlformats.org/officeDocument/2006/relationships/image" Target="../media/image18.jpeg"/><Relationship Id="rId11" Type="http://schemas.openxmlformats.org/officeDocument/2006/relationships/image" Target="../media/image10.jpeg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10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800"/>
            </a:br>
            <a:br>
              <a:rPr sz="1800"/>
            </a:b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изнь диких животных зимой.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96" name="Содержимое 12"/>
          <p:cNvGrpSpPr/>
          <p:nvPr/>
        </p:nvGrpSpPr>
        <p:grpSpPr>
          <a:xfrm>
            <a:off x="255600" y="2017800"/>
            <a:ext cx="8516880" cy="4419360"/>
            <a:chOff x="255600" y="2017800"/>
            <a:chExt cx="8516880" cy="4419360"/>
          </a:xfrm>
        </p:grpSpPr>
        <p:pic>
          <p:nvPicPr>
            <p:cNvPr id="97" name="Содержимое 12" descr=""/>
            <p:cNvPicPr/>
            <p:nvPr/>
          </p:nvPicPr>
          <p:blipFill>
            <a:blip r:embed="rId1"/>
            <a:stretch/>
          </p:blipFill>
          <p:spPr>
            <a:xfrm>
              <a:off x="255600" y="2017800"/>
              <a:ext cx="851688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" y="2214720"/>
              <a:ext cx="822960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10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зорует метель и глумится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Задирает сорокам хвосты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И стрекочет, волнуется птица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Зябко прячется вдруг за кусты 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.А.Полищук.</a:t>
              </a:r>
              <a:br>
                <a:rPr sz="4000"/>
              </a:b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смотрите какие следы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          у зайц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2" descr="C:\Documents and Settings\как хочешь\Рабочий стол\пЪтичЬки\фото\следы зайца2.jpg"/>
          <p:cNvPicPr/>
          <p:nvPr/>
        </p:nvPicPr>
        <p:blipFill>
          <a:blip r:embed="rId1"/>
          <a:stretch/>
        </p:blipFill>
        <p:spPr>
          <a:xfrm>
            <a:off x="928800" y="2428920"/>
            <a:ext cx="7286400" cy="38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28760" y="5716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вост пушистый, мех золотистый  в лесу живёт, в деревне кур крадёт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8" name="Picture 2" descr="C:\Documents and Settings\как хочешь\Рабочий стол\пЪтичЬки\фото\лиса2.jpg"/>
          <p:cNvPicPr/>
          <p:nvPr/>
        </p:nvPicPr>
        <p:blipFill>
          <a:blip r:embed="rId1"/>
          <a:stretch/>
        </p:blipFill>
        <p:spPr>
          <a:xfrm>
            <a:off x="1071720" y="2928960"/>
            <a:ext cx="714348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 это следы лисы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0" name="Picture 2" descr="C:\Documents and Settings\как хочешь\Рабочий стол\пЪтичЬки\фото\следы лисы.jpg"/>
          <p:cNvPicPr/>
          <p:nvPr/>
        </p:nvPicPr>
        <p:blipFill>
          <a:blip r:embed="rId1"/>
          <a:stretch/>
        </p:blipFill>
        <p:spPr>
          <a:xfrm>
            <a:off x="1214280" y="1935000"/>
            <a:ext cx="671544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Хожу в пушистой шубе,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Живу в густом лесу,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дупле на старом дубе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решки я грызу. 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2" name="Picture 2" descr="C:\Documents and Settings\как хочешь\Рабочий стол\пЪтичЬки\фото\белочка3.jpg"/>
          <p:cNvPicPr/>
          <p:nvPr/>
        </p:nvPicPr>
        <p:blipFill>
          <a:blip r:embed="rId1"/>
          <a:stretch/>
        </p:blipFill>
        <p:spPr>
          <a:xfrm>
            <a:off x="2000160" y="3000240"/>
            <a:ext cx="492912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леды белоч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4" name="Picture 2" descr="C:\Documents and Settings\как хочешь\Рабочий стол\пЪтичЬки\фото\следы белки2.gif"/>
          <p:cNvPicPr/>
          <p:nvPr/>
        </p:nvPicPr>
        <p:blipFill>
          <a:blip r:embed="rId1"/>
          <a:stretch/>
        </p:blipFill>
        <p:spPr>
          <a:xfrm>
            <a:off x="1000080" y="2071800"/>
            <a:ext cx="7072200" cy="38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1429200"/>
            <a:ext cx="8715240" cy="600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Хозяин лесной просыпается 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есной, а зимой под вьюжный вой</a:t>
            </a:r>
            <a:br>
              <a:rPr sz="4400"/>
            </a:b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спит в избушке снеговой. </a:t>
            </a:r>
            <a:br>
              <a:rPr sz="40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6" name="Picture 2" descr="C:\Documents and Settings\как хочешь\Рабочий стол\пЪтичЬки\фото\медведь3.jpg"/>
          <p:cNvPicPr/>
          <p:nvPr/>
        </p:nvPicPr>
        <p:blipFill>
          <a:blip r:embed="rId1"/>
          <a:stretch/>
        </p:blipFill>
        <p:spPr>
          <a:xfrm>
            <a:off x="2286000" y="29289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Блок-схема: извлечение 3"/>
          <p:cNvSpPr/>
          <p:nvPr/>
        </p:nvSpPr>
        <p:spPr>
          <a:xfrm>
            <a:off x="3500280" y="214200"/>
            <a:ext cx="2428920" cy="285768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Блок-схема: извлечение 5"/>
          <p:cNvSpPr/>
          <p:nvPr/>
        </p:nvSpPr>
        <p:spPr>
          <a:xfrm>
            <a:off x="6072120" y="214200"/>
            <a:ext cx="2714760" cy="285768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Блок-схема: процесс 6"/>
          <p:cNvSpPr/>
          <p:nvPr/>
        </p:nvSpPr>
        <p:spPr>
          <a:xfrm>
            <a:off x="571680" y="3214800"/>
            <a:ext cx="2714400" cy="3143160"/>
          </a:xfrm>
          <a:prstGeom prst="flowChartProcess">
            <a:avLst/>
          </a:prstGeom>
          <a:solidFill>
            <a:srgbClr val="dbe7b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Блок-схема: процесс 7"/>
          <p:cNvSpPr/>
          <p:nvPr/>
        </p:nvSpPr>
        <p:spPr>
          <a:xfrm>
            <a:off x="3500280" y="3214800"/>
            <a:ext cx="2500560" cy="3143160"/>
          </a:xfrm>
          <a:prstGeom prst="flowChartProcess">
            <a:avLst/>
          </a:prstGeom>
          <a:solidFill>
            <a:srgbClr val="009d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Блок-схема: процесс 8"/>
          <p:cNvSpPr/>
          <p:nvPr/>
        </p:nvSpPr>
        <p:spPr>
          <a:xfrm>
            <a:off x="6286680" y="3214800"/>
            <a:ext cx="2428560" cy="3071880"/>
          </a:xfrm>
          <a:prstGeom prst="flowChartProcess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рямая соединительная линия 10"/>
          <p:cNvSpPr/>
          <p:nvPr/>
        </p:nvSpPr>
        <p:spPr>
          <a:xfrm>
            <a:off x="857160" y="421488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рямая соединительная линия 12"/>
          <p:cNvSpPr/>
          <p:nvPr/>
        </p:nvSpPr>
        <p:spPr>
          <a:xfrm>
            <a:off x="928800" y="5143680"/>
            <a:ext cx="2143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Прямая соединительная линия 14"/>
          <p:cNvSpPr/>
          <p:nvPr/>
        </p:nvSpPr>
        <p:spPr>
          <a:xfrm>
            <a:off x="3500280" y="4429080"/>
            <a:ext cx="2286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Прямая соединительная линия 16"/>
          <p:cNvSpPr/>
          <p:nvPr/>
        </p:nvSpPr>
        <p:spPr>
          <a:xfrm>
            <a:off x="3500280" y="500076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Прямая соединительная линия 18"/>
          <p:cNvSpPr/>
          <p:nvPr/>
        </p:nvSpPr>
        <p:spPr>
          <a:xfrm>
            <a:off x="6215040" y="4357800"/>
            <a:ext cx="22860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6357960" y="5214960"/>
            <a:ext cx="2143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785880" y="4214880"/>
            <a:ext cx="23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Блок-схема: извлечение 24"/>
          <p:cNvSpPr/>
          <p:nvPr/>
        </p:nvSpPr>
        <p:spPr>
          <a:xfrm>
            <a:off x="571680" y="285840"/>
            <a:ext cx="2714400" cy="2714400"/>
          </a:xfrm>
          <a:prstGeom prst="flowChartExtra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1285920" y="1000080"/>
            <a:ext cx="1428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4357800" y="928800"/>
            <a:ext cx="857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857160" y="3500280"/>
            <a:ext cx="21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714240" y="557208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хомя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3500280" y="3429000"/>
            <a:ext cx="2428920" cy="76428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3643200" y="5572080"/>
            <a:ext cx="213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6500880" y="35719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6715080" y="528624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как хочешь\Рабочий стол\пЪтичЬки\фото\бабочка3.jpg"/>
          <p:cNvPicPr/>
          <p:nvPr/>
        </p:nvPicPr>
        <p:blipFill>
          <a:blip r:embed="rId1"/>
          <a:stretch/>
        </p:blipFill>
        <p:spPr>
          <a:xfrm>
            <a:off x="0" y="0"/>
            <a:ext cx="2357280" cy="2000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как хочешь\Рабочий стол\пЪтичЬки\фото\дятел.jpg"/>
          <p:cNvPicPr/>
          <p:nvPr/>
        </p:nvPicPr>
        <p:blipFill>
          <a:blip r:embed="rId2"/>
          <a:stretch/>
        </p:blipFill>
        <p:spPr>
          <a:xfrm>
            <a:off x="2500200" y="0"/>
            <a:ext cx="2186280" cy="2000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как хочешь\Рабочий стол\пЪтичЬки\фото\ежик2.jpg"/>
          <p:cNvPicPr/>
          <p:nvPr/>
        </p:nvPicPr>
        <p:blipFill>
          <a:blip r:embed="rId3"/>
          <a:stretch/>
        </p:blipFill>
        <p:spPr>
          <a:xfrm>
            <a:off x="0" y="2357280"/>
            <a:ext cx="221472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как хочешь\Рабочий стол\пЪтичЬки\фото\муравей3.jpg"/>
          <p:cNvPicPr/>
          <p:nvPr/>
        </p:nvPicPr>
        <p:blipFill>
          <a:blip r:embed="rId4"/>
          <a:stretch/>
        </p:blipFill>
        <p:spPr>
          <a:xfrm>
            <a:off x="2428920" y="22860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как хочешь\Рабочий стол\пЪтичЬки\фото\снегирь2.jpg"/>
          <p:cNvPicPr/>
          <p:nvPr/>
        </p:nvPicPr>
        <p:blipFill>
          <a:blip r:embed="rId5"/>
          <a:stretch/>
        </p:blipFill>
        <p:spPr>
          <a:xfrm>
            <a:off x="4786200" y="2357280"/>
            <a:ext cx="1857600" cy="200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Documents and Settings\как хочешь\Рабочий стол\пЪтичЬки\фото\белочка3.jpg"/>
          <p:cNvPicPr/>
          <p:nvPr/>
        </p:nvPicPr>
        <p:blipFill>
          <a:blip r:embed="rId6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как хочешь\Рабочий стол\пЪтичЬки\фото\волк.jpeg"/>
          <p:cNvPicPr/>
          <p:nvPr/>
        </p:nvPicPr>
        <p:blipFill>
          <a:blip r:embed="rId7"/>
          <a:stretch/>
        </p:blipFill>
        <p:spPr>
          <a:xfrm>
            <a:off x="4857840" y="0"/>
            <a:ext cx="2071440" cy="1928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:\Documents and Settings\как хочешь\Рабочий стол\пЪтичЬки\фото\лягушка2.jpg"/>
          <p:cNvPicPr/>
          <p:nvPr/>
        </p:nvPicPr>
        <p:blipFill>
          <a:blip r:embed="rId8"/>
          <a:stretch/>
        </p:blipFill>
        <p:spPr>
          <a:xfrm>
            <a:off x="2357280" y="4952880"/>
            <a:ext cx="2143440" cy="190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:\Documents and Settings\как хочешь\Рабочий стол\пЪтичЬки\фото\медведь3.jpg"/>
          <p:cNvPicPr/>
          <p:nvPr/>
        </p:nvPicPr>
        <p:blipFill>
          <a:blip r:embed="rId9"/>
          <a:stretch/>
        </p:blipFill>
        <p:spPr>
          <a:xfrm>
            <a:off x="4572000" y="4929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:\Documents and Settings\как хочешь\Рабочий стол\пЪтичЬки\фото\заяц2.jpg"/>
          <p:cNvPicPr/>
          <p:nvPr/>
        </p:nvPicPr>
        <p:blipFill>
          <a:blip r:embed="rId10"/>
          <a:stretch/>
        </p:blipFill>
        <p:spPr>
          <a:xfrm>
            <a:off x="6881760" y="2143080"/>
            <a:ext cx="2262240" cy="2071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:\Documents and Settings\как хочешь\Рабочий стол\пЪтичЬки\фото\синица2.jpg"/>
          <p:cNvPicPr/>
          <p:nvPr/>
        </p:nvPicPr>
        <p:blipFill>
          <a:blip r:embed="rId1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:\Documents and Settings\как хочешь\Рабочий стол\пЪтичЬки\фото\лиса2.jpg"/>
          <p:cNvPicPr/>
          <p:nvPr/>
        </p:nvPicPr>
        <p:blipFill>
          <a:blip r:embed="rId12"/>
          <a:stretch/>
        </p:blipFill>
        <p:spPr>
          <a:xfrm>
            <a:off x="7000920" y="0"/>
            <a:ext cx="21430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то встретится в зимнем лесу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,    медведь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ка,     лис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,          бабочка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а,       снегирь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тел,        волк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,                заяц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All Users\Документы\Мои рисунки\Образцы рисунков\Зима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читайте меня!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птицы, которые живут у нас зимой?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зимующих птиц вы знаете?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трашнее птицам голод или холод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еловек должен заботиться о птицах?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птица выводит птенцов зимой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тицы ночуют, зарываясь в снег?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можем помочь птицам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0000" indent="-3600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азовите, кто мы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Picture 4" descr="C:\Documents and Settings\как хочешь\Рабочий стол\пЪтичЬки\фото\снегири.jpg"/>
          <p:cNvPicPr/>
          <p:nvPr/>
        </p:nvPicPr>
        <p:blipFill>
          <a:blip r:embed="rId1"/>
          <a:stretch/>
        </p:blipFill>
        <p:spPr>
          <a:xfrm>
            <a:off x="5072040" y="2000160"/>
            <a:ext cx="3143160" cy="400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как хочешь\Рабочий стол\пЪтичЬки\фото\дятел3.jpg"/>
          <p:cNvPicPr/>
          <p:nvPr/>
        </p:nvPicPr>
        <p:blipFill>
          <a:blip r:embed="rId2"/>
          <a:stretch/>
        </p:blipFill>
        <p:spPr>
          <a:xfrm>
            <a:off x="1000080" y="200016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как хочешь\Рабочий стол\пЪтичЬки\фото\voron_b.jpg"/>
          <p:cNvPicPr/>
          <p:nvPr/>
        </p:nvPicPr>
        <p:blipFill>
          <a:blip r:embed="rId1"/>
          <a:stretch/>
        </p:blipFill>
        <p:spPr>
          <a:xfrm>
            <a:off x="785880" y="1500120"/>
            <a:ext cx="3571920" cy="415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как хочешь\Рабочий стол\пЪтичЬки\фото\воробей3.jpg"/>
          <p:cNvPicPr/>
          <p:nvPr/>
        </p:nvPicPr>
        <p:blipFill>
          <a:blip r:embed="rId2"/>
          <a:stretch/>
        </p:blipFill>
        <p:spPr>
          <a:xfrm>
            <a:off x="4762440" y="1500120"/>
            <a:ext cx="3738600" cy="40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7" name="Picture 2" descr="C:\Documents and Settings\как хочешь\Рабочий стол\пЪтичЬки\фото\поползень2.jpg"/>
          <p:cNvPicPr/>
          <p:nvPr/>
        </p:nvPicPr>
        <p:blipFill>
          <a:blip r:embed="rId1"/>
          <a:stretch/>
        </p:blipFill>
        <p:spPr>
          <a:xfrm>
            <a:off x="814320" y="1785960"/>
            <a:ext cx="3324240" cy="414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как хочешь\Рабочий стол\пЪтичЬки\фото\синица2.jpg"/>
          <p:cNvPicPr/>
          <p:nvPr/>
        </p:nvPicPr>
        <p:blipFill>
          <a:blip r:embed="rId2"/>
          <a:stretch/>
        </p:blipFill>
        <p:spPr>
          <a:xfrm>
            <a:off x="4648320" y="1785960"/>
            <a:ext cx="378144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Documents and Settings\как хочешь\Рабочий стол\пЪтичЬки\фото\Клест2.jpg"/>
          <p:cNvPicPr/>
          <p:nvPr/>
        </p:nvPicPr>
        <p:blipFill>
          <a:blip r:embed="rId1"/>
          <a:stretch/>
        </p:blipFill>
        <p:spPr>
          <a:xfrm>
            <a:off x="642960" y="1714680"/>
            <a:ext cx="3643200" cy="43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как хочешь\Рабочий стол\пЪтичЬки\фото\королек2.jpg"/>
          <p:cNvPicPr/>
          <p:nvPr/>
        </p:nvPicPr>
        <p:blipFill>
          <a:blip r:embed="rId2"/>
          <a:stretch/>
        </p:blipFill>
        <p:spPr>
          <a:xfrm>
            <a:off x="4714920" y="1643040"/>
            <a:ext cx="357192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то здесь спрятался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Содержимое 4" descr=""/>
          <p:cNvPicPr/>
          <p:nvPr/>
        </p:nvPicPr>
        <p:blipFill>
          <a:blip r:embed="rId1"/>
          <a:stretch/>
        </p:blipFill>
        <p:spPr>
          <a:xfrm>
            <a:off x="450720" y="1914480"/>
            <a:ext cx="2200320" cy="130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Новая папка\пЪтичЬки\фото\Vorona.jpg"/>
          <p:cNvPicPr/>
          <p:nvPr/>
        </p:nvPicPr>
        <p:blipFill>
          <a:blip r:embed="rId2"/>
          <a:stretch/>
        </p:blipFill>
        <p:spPr>
          <a:xfrm>
            <a:off x="6429240" y="4357800"/>
            <a:ext cx="2428920" cy="187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:\Новая папка\пЪтичЬки\фото\волк4.jpg"/>
          <p:cNvPicPr/>
          <p:nvPr/>
        </p:nvPicPr>
        <p:blipFill>
          <a:blip r:embed="rId3"/>
          <a:stretch/>
        </p:blipFill>
        <p:spPr>
          <a:xfrm>
            <a:off x="4071960" y="2357280"/>
            <a:ext cx="2214720" cy="135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F:\Новая папка\пЪтичЬки\фото\воробей.jpg"/>
          <p:cNvPicPr/>
          <p:nvPr/>
        </p:nvPicPr>
        <p:blipFill>
          <a:blip r:embed="rId4"/>
          <a:stretch/>
        </p:blipFill>
        <p:spPr>
          <a:xfrm>
            <a:off x="1714680" y="3643200"/>
            <a:ext cx="2071440" cy="158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:\Новая папка\пЪтичЬки\фото\дятел.jpg"/>
          <p:cNvPicPr/>
          <p:nvPr/>
        </p:nvPicPr>
        <p:blipFill>
          <a:blip r:embed="rId5"/>
          <a:stretch/>
        </p:blipFill>
        <p:spPr>
          <a:xfrm>
            <a:off x="3657600" y="3214800"/>
            <a:ext cx="182880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:\Новая папка\пЪтичЬки\фото\заяц2.jpg"/>
          <p:cNvPicPr/>
          <p:nvPr/>
        </p:nvPicPr>
        <p:blipFill>
          <a:blip r:embed="rId6"/>
          <a:stretch/>
        </p:blipFill>
        <p:spPr>
          <a:xfrm>
            <a:off x="1523880" y="4572000"/>
            <a:ext cx="2691000" cy="1571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F:\Новая папка\пЪтичЬки\фото\Клест2.jpg"/>
          <p:cNvPicPr/>
          <p:nvPr/>
        </p:nvPicPr>
        <p:blipFill>
          <a:blip r:embed="rId7"/>
          <a:stretch/>
        </p:blipFill>
        <p:spPr>
          <a:xfrm>
            <a:off x="6429240" y="20718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:\Новая папка\пЪтичЬки\фото\лиса.jpg"/>
          <p:cNvPicPr/>
          <p:nvPr/>
        </p:nvPicPr>
        <p:blipFill>
          <a:blip r:embed="rId8"/>
          <a:stretch/>
        </p:blipFill>
        <p:spPr>
          <a:xfrm>
            <a:off x="357120" y="257184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:\Новая папка\пЪтичЬки\фото\медведь2.jpeg"/>
          <p:cNvPicPr/>
          <p:nvPr/>
        </p:nvPicPr>
        <p:blipFill>
          <a:blip r:embed="rId9"/>
          <a:stretch/>
        </p:blipFill>
        <p:spPr>
          <a:xfrm>
            <a:off x="4572000" y="4357800"/>
            <a:ext cx="253368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:\Новая папка\пЪтичЬки\фото\поползень.jpg"/>
          <p:cNvPicPr/>
          <p:nvPr/>
        </p:nvPicPr>
        <p:blipFill>
          <a:blip r:embed="rId10"/>
          <a:stretch/>
        </p:blipFill>
        <p:spPr>
          <a:xfrm>
            <a:off x="571680" y="3357720"/>
            <a:ext cx="1928520" cy="2571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F:\Новая папка\пЪтичЬки\фото\синица2.jpg"/>
          <p:cNvPicPr/>
          <p:nvPr/>
        </p:nvPicPr>
        <p:blipFill>
          <a:blip r:embed="rId11"/>
          <a:stretch/>
        </p:blipFill>
        <p:spPr>
          <a:xfrm>
            <a:off x="6286680" y="2643120"/>
            <a:ext cx="2500200" cy="20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F:\Новая папка\пЪтичЬки\фото\снегири.jpg"/>
          <p:cNvPicPr/>
          <p:nvPr/>
        </p:nvPicPr>
        <p:blipFill>
          <a:blip r:embed="rId12"/>
          <a:stretch/>
        </p:blipFill>
        <p:spPr>
          <a:xfrm>
            <a:off x="1476360" y="4857840"/>
            <a:ext cx="188136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F:\Новая папка\пЪтичЬки\фото\сорока3.jpg"/>
          <p:cNvPicPr/>
          <p:nvPr/>
        </p:nvPicPr>
        <p:blipFill>
          <a:blip r:embed="rId13"/>
          <a:stretch/>
        </p:blipFill>
        <p:spPr>
          <a:xfrm>
            <a:off x="2143080" y="1928880"/>
            <a:ext cx="300060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хема 32" descr=""/>
          <p:cNvPicPr/>
          <p:nvPr/>
        </p:nvPicPr>
        <p:blipFill>
          <a:blip r:embed="rId1"/>
          <a:stretch/>
        </p:blipFill>
        <p:spPr>
          <a:xfrm>
            <a:off x="208080" y="231840"/>
            <a:ext cx="8955000" cy="6516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34"/>
          <p:cNvSpPr/>
          <p:nvPr/>
        </p:nvSpPr>
        <p:spPr>
          <a:xfrm flipH="1">
            <a:off x="4714920" y="4216320"/>
            <a:ext cx="1440" cy="4287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Скругленный прямоугольник 38"/>
          <p:cNvSpPr/>
          <p:nvPr/>
        </p:nvSpPr>
        <p:spPr>
          <a:xfrm>
            <a:off x="3429000" y="4714920"/>
            <a:ext cx="2394000" cy="1520640"/>
          </a:xfrm>
          <a:prstGeom prst="roundRect">
            <a:avLst>
              <a:gd name="adj" fmla="val 10000"/>
            </a:avLst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8" name="Группа 39"/>
          <p:cNvGrpSpPr/>
          <p:nvPr/>
        </p:nvGrpSpPr>
        <p:grpSpPr>
          <a:xfrm>
            <a:off x="3714840" y="4929120"/>
            <a:ext cx="2465280" cy="1592280"/>
            <a:chOff x="3714840" y="4929120"/>
            <a:chExt cx="2465280" cy="1592280"/>
          </a:xfrm>
        </p:grpSpPr>
        <p:sp>
          <p:nvSpPr>
            <p:cNvPr id="129" name="Скругленный прямоугольник 40"/>
            <p:cNvSpPr/>
            <p:nvPr/>
          </p:nvSpPr>
          <p:spPr>
            <a:xfrm>
              <a:off x="3786120" y="5000400"/>
              <a:ext cx="2394000" cy="152100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0" name="Скругленный прямоугольник 4"/>
            <p:cNvSpPr/>
            <p:nvPr/>
          </p:nvSpPr>
          <p:spPr>
            <a:xfrm>
              <a:off x="3714840" y="4929120"/>
              <a:ext cx="23050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152280" bIns="15228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31" name="Прямоугольник 42"/>
          <p:cNvSpPr/>
          <p:nvPr/>
        </p:nvSpPr>
        <p:spPr>
          <a:xfrm>
            <a:off x="3786120" y="49291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падают в спячку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ользуют летние запас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еребираются ближе к жилью челове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Шуба серая для лета, для зимы другого цвета.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3" name="Picture 2" descr="C:\Documents and Settings\как хочешь\Рабочий стол\пЪтичЬки\фото\заяц2.jpg"/>
          <p:cNvPicPr/>
          <p:nvPr/>
        </p:nvPicPr>
        <p:blipFill>
          <a:blip r:embed="rId1"/>
          <a:stretch/>
        </p:blipFill>
        <p:spPr>
          <a:xfrm>
            <a:off x="1544760" y="2286000"/>
            <a:ext cx="6054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24:05Z</dcterms:created>
  <dc:creator>как хочешь</dc:creator>
  <dc:description/>
  <dc:language>en-US</dc:language>
  <cp:lastModifiedBy>user</cp:lastModifiedBy>
  <dcterms:modified xsi:type="dcterms:W3CDTF">2011-01-18T14:44:37Z</dcterms:modified>
  <cp:revision>55</cp:revision>
  <dc:subject/>
  <dc:title>ешпрккап</dc:title>
</cp:coreProperties>
</file>