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2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13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B8C-7540-4FCE-8211-FD2BF4B7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058-EB17-4668-968F-765CC7E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4E0-97CC-4763-B858-9526DD66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776-E66A-4A9E-AC6C-B03EC4EF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18F-014C-46AA-875D-A393DCFB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576-2539-487A-9166-4F162A13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CC8-3B88-46B2-8C08-1BFFADB5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89D-7961-4C3C-AE1F-4CB2B1D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AE6-8BBB-4A06-A15A-40EC9EA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C6-B23D-49BD-8A47-D0A930F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85D-1DB7-40F7-87BC-17F3EBEB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8FC-F16C-4292-B81D-FA57269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246D-7396-4670-9494-BF62B74A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340000" y="33336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адии алкоголизм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84360" y="2060640"/>
          <a:ext cx="93528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60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1844640"/>
          <a:ext cx="93528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844640"/>
                    <a:ext cx="93528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380360" y="1844640"/>
          <a:ext cx="9842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844640"/>
                    <a:ext cx="9842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724360" y="4797360"/>
          <a:ext cx="107820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797360"/>
                    <a:ext cx="10782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380360" y="4797360"/>
          <a:ext cx="1063440" cy="151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80360" y="4797360"/>
                    <a:ext cx="10634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78000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28526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285264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7640" y="3284640"/>
            <a:ext cx="0" cy="127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5080" y="3357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587640" y="3284640"/>
            <a:ext cx="824040" cy="1463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85800" y="1529280"/>
            <a:ext cx="5194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551040"/>
            <a:ext cx="43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A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ытовое пьянство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B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Ранни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Базовый алкоголизм</a:t>
            </a:r>
            <a:r>
              <a:rPr b="1" lang="ru-RU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D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Хронический алкоголизм</a:t>
            </a: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E  -  </a:t>
            </a:r>
            <a:r>
              <a:rPr b="0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Из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F  -  </a:t>
            </a:r>
            <a:r>
              <a:rPr b="0" lang="ru-RU" sz="1800" spc="-1" strike="noStrike">
                <a:solidFill>
                  <a:srgbClr val="0027a4"/>
                </a:solidFill>
                <a:latin typeface="Times New Roman"/>
              </a:rPr>
              <a:t>Конечная стадия алкого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31080" y="4436280"/>
            <a:ext cx="1221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4720" y="2060640"/>
          <a:ext cx="934920" cy="13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060640"/>
                    <a:ext cx="9349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156360" cy="34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563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 txBox="1"/>
          <p:nvPr/>
        </p:nvSpPr>
        <p:spPr>
          <a:xfrm>
            <a:off x="324000" y="0"/>
            <a:ext cx="849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atin typeface="Arial"/>
              </a:rPr>
              <a:t>Есть ли у вас заболевание желудочно-кишечного трак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92360" y="3409920"/>
          <a:ext cx="7451640" cy="34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3409920"/>
                    <a:ext cx="74516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 txBox="1"/>
          <p:nvPr/>
        </p:nvSpPr>
        <p:spPr>
          <a:xfrm>
            <a:off x="2268360" y="3213000"/>
            <a:ext cx="663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5"/>
                    </a:gs>
                  </a:gsLst>
                  <a:lin ang="5400000"/>
                </a:gradFill>
                <a:latin typeface="Arial"/>
              </a:rPr>
              <a:t>Беспокоит ли вас бессонниц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59280" y="0"/>
            <a:ext cx="5905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ваете ли вы раздражительными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836640"/>
          <a:ext cx="7524720" cy="324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752472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700360" y="3440160"/>
          <a:ext cx="6443640" cy="3417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3440160"/>
                    <a:ext cx="644364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 txBox="1"/>
          <p:nvPr/>
        </p:nvSpPr>
        <p:spPr>
          <a:xfrm>
            <a:off x="1476360" y="3068640"/>
            <a:ext cx="72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Быстро ли вы засыпает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836640"/>
          <a:ext cx="5832360" cy="32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8323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3348000" y="260280"/>
            <a:ext cx="57960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Times New Roman"/>
              </a:rPr>
              <a:t>Бывают ли у вас апати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916360" y="3716280"/>
          <a:ext cx="6227640" cy="3141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716280"/>
                    <a:ext cx="622764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 txBox="1"/>
          <p:nvPr/>
        </p:nvSpPr>
        <p:spPr>
          <a:xfrm>
            <a:off x="0" y="3789360"/>
            <a:ext cx="6300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50000">
                      <a:srgbClr val="0066ff"/>
                    </a:gs>
                    <a:gs pos="100000">
                      <a:srgbClr val="33cccc"/>
                    </a:gs>
                  </a:gsLst>
                  <a:lin ang="13500000"/>
                </a:gradFill>
                <a:latin typeface="Arial"/>
              </a:rPr>
              <a:t>Бывают ли у вас слабост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50000">
                    <a:srgbClr val="0066ff"/>
                  </a:gs>
                  <a:gs pos="100000">
                    <a:srgbClr val="33cccc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4000" y="404640"/>
          <a:ext cx="5524200" cy="308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552420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 txBox="1"/>
          <p:nvPr/>
        </p:nvSpPr>
        <p:spPr>
          <a:xfrm>
            <a:off x="324000" y="260280"/>
            <a:ext cx="8640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ывают ли у вас головокружения после принятия алкогольных напитков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68360" y="3017880"/>
          <a:ext cx="6875640" cy="3840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3017880"/>
                    <a:ext cx="68756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250920" y="3284640"/>
            <a:ext cx="73454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2c426e"/>
                    </a:gs>
                  </a:gsLst>
                  <a:lin ang="5400000"/>
                </a:gradFill>
                <a:latin typeface="Impact"/>
              </a:rPr>
              <a:t>Бывает ли у вас тремор (дрожание) рук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2c426e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00000" y="0"/>
            <a:ext cx="770580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ота употребления школьниками спиртных напитков в сем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4176720" cy="3287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905360" y="2276640"/>
            <a:ext cx="4238640" cy="333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1776960"/>
            <a:ext cx="55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1773360"/>
            <a:ext cx="4562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260280"/>
            <a:ext cx="864216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3333cc"/>
                </a:solidFill>
                <a:latin typeface="Arial"/>
              </a:rPr>
              <a:t>Частота употребления школьниками спиртных напитков в компании друзей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492280"/>
          <a:ext cx="4427640" cy="34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92280"/>
                    <a:ext cx="44276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06920" y="2492280"/>
          <a:ext cx="4537080" cy="357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06920" y="2492280"/>
                    <a:ext cx="45370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9640" y="17974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2d82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189000"/>
            <a:ext cx="867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7a4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ношение школьников к пьянству в зависимости отвозраста (в %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7a4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557360"/>
          <a:ext cx="41050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41050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3280" y="1700280"/>
          <a:ext cx="396108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00280"/>
                    <a:ext cx="396108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4078440"/>
          <a:ext cx="4032360" cy="26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78440"/>
                    <a:ext cx="403236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88000" y="4216320"/>
          <a:ext cx="3960720" cy="264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4216320"/>
                    <a:ext cx="396072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85560" y="1267200"/>
            <a:ext cx="751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                                        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6ecefe"/>
                    </a:gs>
                  </a:gsLst>
                  <a:lin ang="5400000"/>
                </a:gradFill>
                <a:latin typeface="Times New Roman"/>
              </a:rPr>
              <a:t>Терпимое отношение учащихся к употреблению спиртных напи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6ecefe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2708280"/>
          <a:ext cx="4572000" cy="35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08280"/>
                    <a:ext cx="45720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356000" y="2725560"/>
          <a:ext cx="4537080" cy="357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725560"/>
                    <a:ext cx="453708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58920" y="1915200"/>
            <a:ext cx="57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Мальчики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27a4"/>
                </a:solidFill>
                <a:latin typeface="Times New Roman"/>
                <a:ea typeface="Times New Roman"/>
              </a:rPr>
              <a:t>Дев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332000" y="1341360"/>
            <a:ext cx="669600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98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Arial"/>
              </a:rPr>
              <a:t>Результ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8000" y="3573360"/>
            <a:ext cx="5688360" cy="22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2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latin typeface="Times New Roman"/>
              </a:rPr>
              <a:t>анкет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836640"/>
          <a:ext cx="4932360" cy="34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6640"/>
                    <a:ext cx="493236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 txBox="1"/>
          <p:nvPr/>
        </p:nvSpPr>
        <p:spPr>
          <a:xfrm>
            <a:off x="468360" y="404640"/>
            <a:ext cx="432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Times New Roman"/>
              </a:rPr>
              <a:t>Частота употреблния во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43280" y="3938760"/>
          <a:ext cx="7200720" cy="29192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3280" y="3938760"/>
                    <a:ext cx="720072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 txBox="1"/>
          <p:nvPr/>
        </p:nvSpPr>
        <p:spPr>
          <a:xfrm>
            <a:off x="3995640" y="3500280"/>
            <a:ext cx="4392720" cy="3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астота употребления п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95280" y="836640"/>
          <a:ext cx="835344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83534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1403280" y="189000"/>
            <a:ext cx="6626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Частота употребления винных напитко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5280" y="836640"/>
          <a:ext cx="5248440" cy="29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836640"/>
                    <a:ext cx="524844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 txBox="1"/>
          <p:nvPr/>
        </p:nvSpPr>
        <p:spPr>
          <a:xfrm>
            <a:off x="250920" y="476280"/>
            <a:ext cx="86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сердечно-сосудистой системы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987640" y="3630600"/>
          <a:ext cx="6156360" cy="322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630600"/>
                    <a:ext cx="61563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 txBox="1"/>
          <p:nvPr/>
        </p:nvSpPr>
        <p:spPr>
          <a:xfrm>
            <a:off x="684360" y="3645000"/>
            <a:ext cx="8191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ть ли у вас заболевание печени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07:17:56Z</dcterms:created>
  <dc:creator>1</dc:creator>
  <dc:description/>
  <dc:language>en-US</dc:language>
  <cp:lastModifiedBy>1</cp:lastModifiedBy>
  <dcterms:modified xsi:type="dcterms:W3CDTF">2006-05-09T13:36:37Z</dcterms:modified>
  <cp:revision>13</cp:revision>
  <dc:subject/>
  <dc:title>Слайд 1</dc:title>
</cp:coreProperties>
</file>