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665-011C-4125-A0C9-AABCA55C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D61-8145-4385-B9B3-51D02020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061-5E98-4F66-AEDB-204B5728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6D7-610C-4182-A2F6-73487F09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18D-22D8-45CB-8736-BC2DB405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CDA-B71B-42BB-9E8A-BAAAD6A4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6EA7-19FC-4DAD-9E8B-BB3F58D8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AAF-DA40-4ED9-89E4-05E56B68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4C5-8DAE-4266-A656-39878CBD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E34-0159-48A2-A57C-27B2A67E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341-B495-4DA0-A7C2-0DE3678B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F24-F732-438D-B82A-2E2B8E6D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D60F-FF5A-43F9-A0C1-6CCE520A4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Открытый урок по классу вокал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Тема: «Формирование вокальных навыков у подростк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95120" y="54864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подаватель: Курносов Д. Н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ртмейстеры: Якубович Т.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кова И.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Молодцы!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Вы замечательно выполнили все зад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.%20-%204jpg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206960" cy="3156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65040" y="5608800"/>
            <a:ext cx="81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Не забудьте повторить упражнения и завтр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зучение нов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ледить степень формирования вокальных навыков у учащихся – под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ладение навыками вокала на примере высокохудожественных музыкальных произве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ладение навыками вокала на примере конструктивных упраж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над формированием исполнительских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над сценическим воплощением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едагогические мет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 развивающе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ивидуальный под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 активно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ъя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аз (демонст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скус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 переосмы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 группово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 эв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мпирический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тих - на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 красиво петь до гроба,купол сделайте из нё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ньте полым, как труба,и начните петь со л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щутите точки две:в животе и голо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алите на живот и пошлите звук впер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петь и не давиться,не забудьте удиви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дох короткий, как испуг,и струной давите зв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вы наверх идете,нужно глубже опирать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х тогда “переорете”,хоть и нечем “заорать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вниз идете вы –не теряйте голо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рычите, словно зверь, –“открывайте мягко дверь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тих - на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такое звук “прикрыть”? Очень трудно объяс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 прикрытие найти,нужно к “Е” прибавить “И”.“А”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“О”, а “О”  – где “У”,но не в глотке, а во лб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со лба до живота –лишь провал и пуст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йте мягко, не кричите,молча партии уч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е слушать никого,Кроме Бога одно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Любовь счастливой буд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з. Н. Богосло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ихи Р. Рождествен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280px-RIAN_archive_681907_Poet_Robert_Rozhdestvennsky_at_3rd_All-Union_Celebration_of_Pushkin_Poetry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3556080" cy="2768400"/>
          </a:xfrm>
          <a:prstGeom prst="rect">
            <a:avLst/>
          </a:prstGeom>
          <a:ln w="0">
            <a:noFill/>
          </a:ln>
        </p:spPr>
      </p:pic>
      <p:pic>
        <p:nvPicPr>
          <p:cNvPr id="107" name="Богословский" descr=""/>
          <p:cNvPicPr/>
          <p:nvPr/>
        </p:nvPicPr>
        <p:blipFill>
          <a:blip r:embed="rId3"/>
          <a:stretch/>
        </p:blipFill>
        <p:spPr>
          <a:xfrm>
            <a:off x="609480" y="3048120"/>
            <a:ext cx="1905120" cy="27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Баркар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. Ф. Шубе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. Ф. Л. Штольбе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 А. Плеще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i_1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2101680" cy="2867040"/>
          </a:xfrm>
          <a:prstGeom prst="rect">
            <a:avLst/>
          </a:prstGeom>
          <a:ln w="0">
            <a:noFill/>
          </a:ln>
        </p:spPr>
      </p:pic>
      <p:pic>
        <p:nvPicPr>
          <p:cNvPr id="111" name="i%20%20-5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3774960" cy="488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gn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з. Г. Ф. Генд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одесную Бога восседа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лаве Отч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уем, что Ты приде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дить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этому прос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и рабам Твои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торых 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агоценной Кровью искупи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mages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3260880" cy="328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Дикая собака Дин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 А. Пахмут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. Н. Добронра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.%20-12jpg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3390840" cy="2260800"/>
          </a:xfrm>
          <a:prstGeom prst="rect">
            <a:avLst/>
          </a:prstGeom>
          <a:ln w="0">
            <a:noFill/>
          </a:ln>
        </p:spPr>
      </p:pic>
      <p:pic>
        <p:nvPicPr>
          <p:cNvPr id="118" name="i%20-10" descr=""/>
          <p:cNvPicPr/>
          <p:nvPr/>
        </p:nvPicPr>
        <p:blipFill>
          <a:blip r:embed="rId3"/>
          <a:stretch/>
        </p:blipFill>
        <p:spPr>
          <a:xfrm>
            <a:off x="7238880" y="152280"/>
            <a:ext cx="1608120" cy="2649600"/>
          </a:xfrm>
          <a:prstGeom prst="rect">
            <a:avLst/>
          </a:prstGeom>
          <a:ln w="0">
            <a:noFill/>
          </a:ln>
        </p:spPr>
      </p:pic>
      <p:pic>
        <p:nvPicPr>
          <p:cNvPr id="119" name="i%20-9" descr=""/>
          <p:cNvPicPr/>
          <p:nvPr/>
        </p:nvPicPr>
        <p:blipFill>
          <a:blip r:embed="rId4"/>
          <a:stretch/>
        </p:blipFill>
        <p:spPr>
          <a:xfrm>
            <a:off x="5943600" y="4419720"/>
            <a:ext cx="2814480" cy="2222280"/>
          </a:xfrm>
          <a:prstGeom prst="rect">
            <a:avLst/>
          </a:prstGeom>
          <a:ln w="0">
            <a:noFill/>
          </a:ln>
        </p:spPr>
      </p:pic>
      <p:pic>
        <p:nvPicPr>
          <p:cNvPr id="120" name="i_11" descr=""/>
          <p:cNvPicPr/>
          <p:nvPr/>
        </p:nvPicPr>
        <p:blipFill>
          <a:blip r:embed="rId5"/>
          <a:stretch/>
        </p:blipFill>
        <p:spPr>
          <a:xfrm>
            <a:off x="4114800" y="2057400"/>
            <a:ext cx="295740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Закрепление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воспроизвести музыкальный материал без комментариев преподав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рать воедино все компоненты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анализировать 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Формой проверки достижения поставленных целей является исполнение музыкальных произведений в концертной форме, что является методом стимуляции учащихся к дальнейшей работ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Урок выработки и закрепления умений и навы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рганизационный мо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создание положительной установки на ход и результаты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сконцентрировать внимание учащихся, настроить их на совместную работу, подготовить голосовой аппарат к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од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ыхательное упраж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Задание на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проверить степень овладения учащимися учеб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тивировать учащихся на самостоятельную познавательную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ть желание учащихся к достижению поставленн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машняя работа над вокальными упражнениями с помощью презентации, сольными и ансамблевыми произведениями, стихотворными текс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Опрос учащихся по заданному на дом матери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: закрепить ранее выработанные вокальные нав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: проверка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 проблемного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онтальный 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у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65480" y="498600"/>
            <a:ext cx="47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Веселый урок во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8200" y="190512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с веселыми задания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ozitiv095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3247920" cy="2857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08440" y="30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3520" y="3627360"/>
            <a:ext cx="278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Смотри презент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в режиме «кл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и выполняй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3751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Comic Sans MS"/>
              </a:rPr>
              <a:t>Уда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7920" y="3808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Отрабатываем певческ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%20-%206" descr=""/>
          <p:cNvPicPr/>
          <p:nvPr/>
        </p:nvPicPr>
        <p:blipFill>
          <a:blip r:embed="rId2"/>
          <a:stretch/>
        </p:blipFill>
        <p:spPr>
          <a:xfrm>
            <a:off x="0" y="1981080"/>
            <a:ext cx="3240000" cy="3621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20400" y="210348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Лягте на ровную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0720" y="263700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Положите игрушку на жив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2520" y="3322800"/>
            <a:ext cx="30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Медленно вдыхаем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игрушка подним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08240" y="4770360"/>
            <a:ext cx="294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Медленно выдыхаем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игрушка опуск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i%20_17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2505240" cy="2471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91280" y="351000"/>
            <a:ext cx="584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Представьте, что вы большой надувной мя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После игры вас положили на трав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и вытащили загл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Вы отдыхаете и медленно выпускаете возду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        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Зачем спеш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8920" y="3246480"/>
            <a:ext cx="4191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Подумайте о прият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Улыбнит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Тоненькой струйкой на звук «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выдыхайте возду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Удач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Развиваем артикуляционный аппа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_18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1171440" cy="1428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178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2480" y="1646280"/>
            <a:ext cx="45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Бык - тупогуб, тупогубенький быч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У быка бела губа была т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%20-%2019" descr=""/>
          <p:cNvPicPr/>
          <p:nvPr/>
        </p:nvPicPr>
        <p:blipFill>
          <a:blip r:embed="rId3"/>
          <a:stretch/>
        </p:blipFill>
        <p:spPr>
          <a:xfrm>
            <a:off x="6858000" y="2971800"/>
            <a:ext cx="1914480" cy="1428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29960" y="3246480"/>
            <a:ext cx="40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На траве трава, на дворе тр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Не руби дрова, на дворе т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.%20-%2020jpg" descr=""/>
          <p:cNvPicPr/>
          <p:nvPr/>
        </p:nvPicPr>
        <p:blipFill>
          <a:blip r:embed="rId4"/>
          <a:stretch/>
        </p:blipFill>
        <p:spPr>
          <a:xfrm>
            <a:off x="457200" y="4876920"/>
            <a:ext cx="1652760" cy="1309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63960" y="492300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От топота к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        </a:t>
            </a:r>
            <a:r>
              <a:rPr b="1" i="1" lang="en-US" sz="1800" spc="-1" strike="noStrike">
                <a:solidFill>
                  <a:srgbClr val="ff6600"/>
                </a:solidFill>
                <a:latin typeface="Comic Sans MS"/>
              </a:rPr>
              <a:t>пыль по полю лет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i%20-%2020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2162160" cy="1820880"/>
          </a:xfrm>
          <a:prstGeom prst="rect">
            <a:avLst/>
          </a:prstGeom>
          <a:ln w="0">
            <a:noFill/>
          </a:ln>
        </p:spPr>
      </p:pic>
      <p:pic>
        <p:nvPicPr>
          <p:cNvPr id="76" name="i.%20-%2022jpg" descr=""/>
          <p:cNvPicPr/>
          <p:nvPr/>
        </p:nvPicPr>
        <p:blipFill>
          <a:blip r:embed="rId3"/>
          <a:stretch/>
        </p:blipFill>
        <p:spPr>
          <a:xfrm>
            <a:off x="7315200" y="2133720"/>
            <a:ext cx="1468440" cy="2074680"/>
          </a:xfrm>
          <a:prstGeom prst="rect">
            <a:avLst/>
          </a:prstGeom>
          <a:ln w="0">
            <a:noFill/>
          </a:ln>
        </p:spPr>
      </p:pic>
      <p:pic>
        <p:nvPicPr>
          <p:cNvPr id="77" name="i%20-%2022" descr=""/>
          <p:cNvPicPr/>
          <p:nvPr/>
        </p:nvPicPr>
        <p:blipFill>
          <a:blip r:embed="rId4"/>
          <a:stretch/>
        </p:blipFill>
        <p:spPr>
          <a:xfrm>
            <a:off x="685800" y="4648320"/>
            <a:ext cx="1701720" cy="1863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61480" y="426960"/>
            <a:ext cx="26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Водовоз вез 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Из - под водопро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84600" y="4923000"/>
            <a:ext cx="31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Мама мыла Милу мыл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Мила мыло не люб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8240" y="271296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Шла Саша по шо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И сосала с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фон_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Развиваем сценическое мастер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1295280"/>
            <a:ext cx="516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Comic Sans MS"/>
              </a:rPr>
              <a:t>Повторяем скороговор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Comic Sans MS"/>
              </a:rPr>
              <a:t>в различных образ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Comic Sans MS"/>
              </a:rPr>
              <a:t>и с эмоциями, присущими персонаж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Comic Sans MS"/>
              </a:rPr>
              <a:t>изображенному на карти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%20-%2024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1244520" cy="1419120"/>
          </a:xfrm>
          <a:prstGeom prst="rect">
            <a:avLst/>
          </a:prstGeom>
          <a:ln w="0">
            <a:noFill/>
          </a:ln>
        </p:spPr>
      </p:pic>
      <p:pic>
        <p:nvPicPr>
          <p:cNvPr id="85" name="i%20-%2025" descr=""/>
          <p:cNvPicPr/>
          <p:nvPr/>
        </p:nvPicPr>
        <p:blipFill>
          <a:blip r:embed="rId3"/>
          <a:stretch/>
        </p:blipFill>
        <p:spPr>
          <a:xfrm>
            <a:off x="3862440" y="2714760"/>
            <a:ext cx="1490760" cy="1500120"/>
          </a:xfrm>
          <a:prstGeom prst="rect">
            <a:avLst/>
          </a:prstGeom>
          <a:ln w="0">
            <a:noFill/>
          </a:ln>
        </p:spPr>
      </p:pic>
      <p:pic>
        <p:nvPicPr>
          <p:cNvPr id="86" name="i%20-%2026" descr=""/>
          <p:cNvPicPr/>
          <p:nvPr/>
        </p:nvPicPr>
        <p:blipFill>
          <a:blip r:embed="rId4"/>
          <a:stretch/>
        </p:blipFill>
        <p:spPr>
          <a:xfrm>
            <a:off x="7077240" y="4038480"/>
            <a:ext cx="2066760" cy="142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4520" y="499428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веселый за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51040" y="4156200"/>
            <a:ext cx="173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грустный ще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2160" y="5475240"/>
            <a:ext cx="19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Comic Sans MS"/>
              </a:rPr>
              <a:t>довольный к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24240" y="45165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47240" y="5027760"/>
            <a:ext cx="2683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Кукушка кукушон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купила капюш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Как в капюш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он смеш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открытый уро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 октября 2012 год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8:00:48Z</dcterms:created>
  <dc:creator>xxx</dc:creator>
  <dc:description/>
  <dc:language>en-US</dc:language>
  <cp:lastModifiedBy>xxx</cp:lastModifiedBy>
  <dcterms:modified xsi:type="dcterms:W3CDTF">2012-10-07T17:23:24Z</dcterms:modified>
  <cp:revision>10</cp:revision>
  <dc:subject/>
  <dc:title>Заголовок слайда отсутствует</dc:title>
</cp:coreProperties>
</file>