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AE2-B6FD-4AE1-9903-EF72A2B5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BC3-DF3D-456C-8790-D0E3F823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C01-0098-4131-BFA7-2B4BCEC6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B6C-747B-4ABD-9CDA-1D9C23F0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9EA-F817-4881-8FFC-81E9027F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3C1-76D4-4063-8DFD-D29F38A4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858-CBA3-4894-B825-8F9BD6C0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B12-D40F-4828-9F1B-41FEED00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35A-5134-4699-99A7-889974D3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767-3716-433B-A4FB-E589443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8B9-43A5-44D1-885B-151D5A5F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6C7-9C72-4136-A852-5692DADE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9C5C-08E8-4A62-85F6-DD42F087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Открытый урок по классу вокал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Тема: «Формирование вокальных навыков у подрост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120" y="54864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одаватель: Курносов Д. 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ртмейстеры: Якубович Т.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кова И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Молодцы!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Вы замечательно выполнили все за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.%20-%204jpg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206960" cy="315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65040" y="5608800"/>
            <a:ext cx="81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е забудьте повторить упражнения и завт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ледить степень формирования вокальных навыков у учащихся –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е навыками вокала на примере высокохудожественных музыкальных произ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е навыками вокала на примере конструктив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над формированием исполнительских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над сценическим воплощением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едагогические мет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видуальный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актив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я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 (демон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кус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переосмы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группов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эв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мпирический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их - н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красиво петь до гроба,купол сделайте из нё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ьте полым, как труба,и начните петь со л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тите точки две:в животе и голо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алите на живот и пошлите звук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петь и не давиться,не забудьте удиви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ох короткий, как испуг,и струной давите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ы наверх идете,нужно глубже опират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тогда “переорете”,хоть и нечем “заорат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низ идете вы –не теряйте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рычите, словно зверь, –“открывайте мягко двер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их - н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звук “прикрыть”? Очень трудно объяс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прикрытие найти,нужно к “Е” прибавить “И”.“А”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“О”, а “О”  – где “У”,но не в глотке, а во лб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о лба до живота –лишь провал и пуст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йте мягко, не кричите,молча партии уч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е слушать никого,Кроме Бога одно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Любовь счастливой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. Н. Богосл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ихи Р. Рождествен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80px-RIAN_archive_681907_Poet_Robert_Rozhdestvennsky_at_3rd_All-Union_Celebration_of_Pushkin_Poetry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556080" cy="2768400"/>
          </a:xfrm>
          <a:prstGeom prst="rect">
            <a:avLst/>
          </a:prstGeom>
          <a:ln w="0">
            <a:noFill/>
          </a:ln>
        </p:spPr>
      </p:pic>
      <p:pic>
        <p:nvPicPr>
          <p:cNvPr id="107" name="Богословский" descr=""/>
          <p:cNvPicPr/>
          <p:nvPr/>
        </p:nvPicPr>
        <p:blipFill>
          <a:blip r:embed="rId3"/>
          <a:stretch/>
        </p:blipFill>
        <p:spPr>
          <a:xfrm>
            <a:off x="609480" y="3048120"/>
            <a:ext cx="1905120" cy="27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арка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. Ф. Шуб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. Ф. Л. Штольбе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 А. Плещ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_1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2101680" cy="2867040"/>
          </a:xfrm>
          <a:prstGeom prst="rect">
            <a:avLst/>
          </a:prstGeom>
          <a:ln w="0">
            <a:noFill/>
          </a:ln>
        </p:spPr>
      </p:pic>
      <p:pic>
        <p:nvPicPr>
          <p:cNvPr id="111" name="i%20%20-5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3774960" cy="488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gn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з. Г. Ф. Генд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одесную Бога воссед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лаве Отч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уем, что Ты приде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ить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прос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и рабам Тво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ых 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агоценной Кровью искупи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s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260880" cy="32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икая собака Дин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 А. Пахму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. Н. Добронра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.%20-12jpg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3390840" cy="2260800"/>
          </a:xfrm>
          <a:prstGeom prst="rect">
            <a:avLst/>
          </a:prstGeom>
          <a:ln w="0">
            <a:noFill/>
          </a:ln>
        </p:spPr>
      </p:pic>
      <p:pic>
        <p:nvPicPr>
          <p:cNvPr id="118" name="i%20-10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608120" cy="2649600"/>
          </a:xfrm>
          <a:prstGeom prst="rect">
            <a:avLst/>
          </a:prstGeom>
          <a:ln w="0">
            <a:noFill/>
          </a:ln>
        </p:spPr>
      </p:pic>
      <p:pic>
        <p:nvPicPr>
          <p:cNvPr id="119" name="i%20-9" descr=""/>
          <p:cNvPicPr/>
          <p:nvPr/>
        </p:nvPicPr>
        <p:blipFill>
          <a:blip r:embed="rId4"/>
          <a:stretch/>
        </p:blipFill>
        <p:spPr>
          <a:xfrm>
            <a:off x="5943600" y="4419720"/>
            <a:ext cx="2814480" cy="2222280"/>
          </a:xfrm>
          <a:prstGeom prst="rect">
            <a:avLst/>
          </a:prstGeom>
          <a:ln w="0">
            <a:noFill/>
          </a:ln>
        </p:spPr>
      </p:pic>
      <p:pic>
        <p:nvPicPr>
          <p:cNvPr id="120" name="i_11" descr=""/>
          <p:cNvPicPr/>
          <p:nvPr/>
        </p:nvPicPr>
        <p:blipFill>
          <a:blip r:embed="rId5"/>
          <a:stretch/>
        </p:blipFill>
        <p:spPr>
          <a:xfrm>
            <a:off x="4114800" y="2057400"/>
            <a:ext cx="29574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крепление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воспроизвести музыкальный материал без комментариев преподав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рать воедино все компонент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Формой проверки достижения поставленных целей является исполнение музыкальных произведений в концертной форме, что является методом стимуляции учащихся к дальнейшей работ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Урок выработки и закрепления умений и навы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создание положительной установки на ход и результат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сконцентрировать внимание учащихся, настроить их на совместную работу, подготовить голосовой аппарат к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хательное упраж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роверить степень овладения учащимися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тивировать учащихся на самостоятельную познавательн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ть желание учащихся к достижению поставленн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яя работа над вокальными упражнениями с помощью презентации, сольными и ансамблевыми произведениями, стихотворными текс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рос учащихся по заданному на дом матери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закрепить ранее выработанные вокальные нав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: проверка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онтальны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у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5480" y="49860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Веселый урок во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8200" y="19051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с веселыми задания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ozitiv095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247920" cy="285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084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3520" y="3627360"/>
            <a:ext cx="278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Смотри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в режиме «кл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 выполняй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75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7920" y="380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Отрабатываем певческ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%20-%206" descr=""/>
          <p:cNvPicPr/>
          <p:nvPr/>
        </p:nvPicPr>
        <p:blipFill>
          <a:blip r:embed="rId2"/>
          <a:stretch/>
        </p:blipFill>
        <p:spPr>
          <a:xfrm>
            <a:off x="0" y="1981080"/>
            <a:ext cx="3240000" cy="362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20400" y="210348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Лягте на ровну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263700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Положите игрушку на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2520" y="3322800"/>
            <a:ext cx="30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Медленно в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грушка подним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8240" y="4770360"/>
            <a:ext cx="29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Медленно вы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грушка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i%20_17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2505240" cy="247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1280" y="35100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редставьте, что вы большой надувной м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осле игры вас положили на тра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и вытащили загл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Вы отдыхаете и медленно выпускаете возд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Зачем спеш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8920" y="3246480"/>
            <a:ext cx="419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одумайте о прият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Улыбнит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Тоненькой струйкой на звук «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выдыхайте возд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Развиваем артикуляцион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_18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1171440" cy="142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17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2480" y="164628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Бык - тупогуб, тупогубенький бы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У быка бела губа была 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%20-%2019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91448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29960" y="32464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а траве трава, на дворе т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е руби дрова, на дворе т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.%20-%2020jpg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1652760" cy="1309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3960" y="492300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От топота к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        </a:t>
            </a: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пыль по полю ле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%20-%2020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2162160" cy="1820880"/>
          </a:xfrm>
          <a:prstGeom prst="rect">
            <a:avLst/>
          </a:prstGeom>
          <a:ln w="0">
            <a:noFill/>
          </a:ln>
        </p:spPr>
      </p:pic>
      <p:pic>
        <p:nvPicPr>
          <p:cNvPr id="76" name="i.%20-%2022jpg" descr=""/>
          <p:cNvPicPr/>
          <p:nvPr/>
        </p:nvPicPr>
        <p:blipFill>
          <a:blip r:embed="rId3"/>
          <a:stretch/>
        </p:blipFill>
        <p:spPr>
          <a:xfrm>
            <a:off x="7315200" y="2133720"/>
            <a:ext cx="1468440" cy="2074680"/>
          </a:xfrm>
          <a:prstGeom prst="rect">
            <a:avLst/>
          </a:prstGeom>
          <a:ln w="0">
            <a:noFill/>
          </a:ln>
        </p:spPr>
      </p:pic>
      <p:pic>
        <p:nvPicPr>
          <p:cNvPr id="77" name="i%20-%2022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701720" cy="186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61480" y="42696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Водовоз вез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Из - под водо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4600" y="4923000"/>
            <a:ext cx="31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Мама мыла Милу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Мила мыло не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8240" y="27129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Шла Саша по шо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И сосала с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Развиваем сценическое масте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295280"/>
            <a:ext cx="516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Повторяем скороговор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в различных образ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и с эмоциями, присущими персонаж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изображенному на карти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%20-%2024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244520" cy="1419120"/>
          </a:xfrm>
          <a:prstGeom prst="rect">
            <a:avLst/>
          </a:prstGeom>
          <a:ln w="0">
            <a:noFill/>
          </a:ln>
        </p:spPr>
      </p:pic>
      <p:pic>
        <p:nvPicPr>
          <p:cNvPr id="85" name="i%20-%2025" descr=""/>
          <p:cNvPicPr/>
          <p:nvPr/>
        </p:nvPicPr>
        <p:blipFill>
          <a:blip r:embed="rId3"/>
          <a:stretch/>
        </p:blipFill>
        <p:spPr>
          <a:xfrm>
            <a:off x="3862440" y="2714760"/>
            <a:ext cx="1490760" cy="1500120"/>
          </a:xfrm>
          <a:prstGeom prst="rect">
            <a:avLst/>
          </a:prstGeom>
          <a:ln w="0">
            <a:noFill/>
          </a:ln>
        </p:spPr>
      </p:pic>
      <p:pic>
        <p:nvPicPr>
          <p:cNvPr id="86" name="i%20-%2026" descr=""/>
          <p:cNvPicPr/>
          <p:nvPr/>
        </p:nvPicPr>
        <p:blipFill>
          <a:blip r:embed="rId4"/>
          <a:stretch/>
        </p:blipFill>
        <p:spPr>
          <a:xfrm>
            <a:off x="7077240" y="403848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4520" y="499428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веселый 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1040" y="4156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грустный ще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2160" y="547524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довольный к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4240" y="45165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7240" y="5027760"/>
            <a:ext cx="2683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укушка кукушо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упила капю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ак в капюш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он сме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8:00:48Z</dcterms:created>
  <dc:creator>xxx</dc:creator>
  <dc:description/>
  <dc:language>en-US</dc:language>
  <cp:lastModifiedBy>xxx</cp:lastModifiedBy>
  <dcterms:modified xsi:type="dcterms:W3CDTF">2012-10-07T17:23:24Z</dcterms:modified>
  <cp:revision>10</cp:revision>
  <dc:subject/>
  <dc:title>Заголовок слайда отсутствует</dc:title>
</cp:coreProperties>
</file>