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33D-FE99-4E49-9763-216BA921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3C2-BD4F-4CB4-820B-B59C3513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43F-2071-4BE7-85C3-2BF075D2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CD3-AD4C-45D9-9AA3-855D3044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E8F-70EC-4477-97F0-EB1DDC3F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762-9EDF-4AA6-8D33-FF99B5F2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F95-92BE-41AF-85D5-11F7EAAF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168-8812-4F37-A507-E3894890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6B1-F037-48DA-BAFE-0ADCBB27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073-CADB-4FF2-B219-E7D2DBCE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501-4B98-4530-99E2-F06117A2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3C7-1206-48A0-AD07-D7185446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B5C0-ABA6-4192-A58B-A86012210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q=&#1085;&#1077;+&#1088;&#1072;&#1079;&#1075;&#1086;&#1074;&#1072;&#1088;&#1080;&#1074;&#1072;&#1081;&#1090;&#1077;+&#1085;&#1072;+&#1084;&#1086;&#1088;&#1086;&#1079;&#1077;&amp;start=92&amp;hl=ru&amp;newwindow=1&amp;biw=1366&amp;bih=677&amp;tbm=isch&amp;tbnid=YJtw6tYjzloJCM:&amp;imgrefurl=http://sovettebe.ru/zdorovie/kak-ne-zamyorznut-zimoy/&amp;docid=GlxolLfbPZv5iM&amp;imgurl=http://sovettebe.ru/wp-content/uploads/2012/02/kak-ne-zamerznut-zimoy_4.png&amp;w=645&amp;h=645&amp;ei=hHZVUPHnK87E4gSC7oDQBw&amp;zoom=1&amp;iact=hc&amp;vpx=434&amp;vpy=322&amp;dur=1630&amp;hovh=225&amp;hovw=225&amp;tx=31&amp;ty=104&amp;sig=100115311804931638174&amp;page=5&amp;tbnh=159&amp;tbnw=188&amp;ndsp=24&amp;ved=1t:429,r:1,s:92,i:9" TargetMode="External"/><Relationship Id="rId2" Type="http://schemas.openxmlformats.org/officeDocument/2006/relationships/hyperlink" Target="http://images.yandex.ru/yandsearch?text=&#1096;&#1072;&#1087;&#1082;&#1080;&amp;img_url=kniti.ru%2Fwp-content%2Fuploads%2F2011%2F09%2F1231322019_sh_02.jpg&amp;pos=0&amp;rpt=simage" TargetMode="External"/><Relationship Id="rId3" Type="http://schemas.openxmlformats.org/officeDocument/2006/relationships/hyperlink" Target="http://images.yandex.ru/yandsearch?text=&#1075;&#1086;&#1088;&#1103;&#1095;&#1080;&#1081;%20&#1095;&#1072;&#1081;&amp;img_url=writerzblock.files.wordpress.com%2F2011%2F02%2Ftea.jpg&amp;pos=25&amp;rpt=simage" TargetMode="External"/><Relationship Id="rId4" Type="http://schemas.openxmlformats.org/officeDocument/2006/relationships/hyperlink" Target="http://images.yandex.ru/yandsearch?text=&#1096;&#1072;&#1087;&#1082;&#1080;%20&#1087;&#1072;&#1088;&#1085;&#1080;&amp;img_url=forum.exler.ru%2Fuploads%2F116%2Fpost-1317414500.jpg&amp;pos=15&amp;rpt=simage" TargetMode="External"/><Relationship Id="rId5" Type="http://schemas.openxmlformats.org/officeDocument/2006/relationships/hyperlink" Target="http://images.google.ru/imgres?q=&#1076;&#1099;&#1093;&#1072;&#1085;&#1080;&#1077;+&#1095;&#1077;&#1088;&#1077;&#1079;+&#1085;&#1086;&#1089;&amp;start=259&amp;hl=ru&amp;newwindow=1&amp;biw=1366&amp;bih=634&amp;tbm=isch&amp;tbnid=mv-fupwLYmr6JM:&amp;imgrefurl=http://www.top4man.ru/telo/dvizhenie/pravilnoe-dyhanie-vo-vremya-fitnesa/&amp;docid=iKvCUTaKrtPToM&amp;imgurl=http://www.top4man.ru/UserFiles/bud%252520v%252520forme/breathe_3.jpg&amp;w=300&amp;h=450&amp;ei=z3pVUPO0FZSK4gSd3YCgDg&amp;zoom=1&amp;iact=rc&amp;dur=404&amp;sig=100115311804931638174&amp;page=11&amp;tbnh=142&amp;tbnw=95&amp;ndsp=28&amp;ved=1t:429,r:17,s:259,i:317&amp;tx=62&amp;ty=72" TargetMode="External"/><Relationship Id="rId6" Type="http://schemas.openxmlformats.org/officeDocument/2006/relationships/hyperlink" Target="file:///h=450&amp;ei=z3pVUPO0FZSK4gSd3YCgDg&amp;zoom=1&amp;iact=rc&amp;dur=404&amp;sig=100115311804931638174&amp;page=11&amp;tbnh=142&amp;tbnw=95&amp;ndsp=28&amp;ved=1t:429,r:17,s:259,i:317&amp;tx=62&amp;ty=72" TargetMode="External"/><Relationship Id="rId7" Type="http://schemas.openxmlformats.org/officeDocument/2006/relationships/hyperlink" Target="http://images.google.ru/imgres?q=&#1085;&#1102;&#1093;&#1072;&#1077;&#1090;+&#1094;&#1074;&#1077;&#1090;&#1086;&#1082;&amp;start=182&amp;hl=ru&amp;newwindow=1&amp;biw=1366&amp;bih=634&amp;tbm=isch&amp;tbnid=p9HDu2uS0pTcbM:&amp;imgrefurl=http://bigfon.com/%3Fgo%3Dwallpapers%26id%3D1129&amp;docid=pEuy94ow9pprFM&amp;imgurl=http://bigfon.com/wallpapers/bigfon.com_201109041801137289.jpg&amp;w=1920&amp;h=1200&amp;ei=vXtVUPm_IYmN4gSRm4FY&amp;zoom=1&amp;iact=rc&amp;dur=339&amp;sig=100115311804931638174&amp;page=8&amp;tbnh=149&amp;tbnw=180&amp;ndsp=25&amp;ved=1t:429,r:3,s:182,i:15&amp;tx=138&amp;ty=95" TargetMode="External"/><Relationship Id="rId8" Type="http://schemas.openxmlformats.org/officeDocument/2006/relationships/hyperlink" Target="file:///100115311804931638174&amp;page=8&amp;tbnh=149&amp;tbnw=180&amp;ndsp=25&amp;ved=1t:429,r:3,s:182,i:15&amp;tx=138&amp;ty=95" TargetMode="External"/><Relationship Id="rId9" Type="http://schemas.openxmlformats.org/officeDocument/2006/relationships/hyperlink" Target="http://7kilometr.com/rus/article/kak-poyavilsya-termometr-ochen-interesnaya-istoriya" TargetMode="External"/><Relationship Id="rId10" Type="http://schemas.openxmlformats.org/officeDocument/2006/relationships/hyperlink" Target="http://images.yandex.ru/yandsearch?p=3&amp;text=&#1082;&#1091;&#1088;&#1080;&#1090;&#1100;%20&#1079;&#1072;&#1087;&#1088;&#1077;&#1097;&#1077;&#1085;&#1086;&amp;img_url=www.babble.com%2FCS%2Fblogs%2Fstrollerderby%2F2008%2F11%2F01-07%2Fno-smoking-if-you-want-to-be-a-foster-parent.jpg&amp;pos=118&amp;rpt=simage" TargetMode="External"/><Relationship Id="rId11" Type="http://schemas.openxmlformats.org/officeDocument/2006/relationships/hyperlink" Target="http://images.yandex.ru/yandsearch?p=4&amp;text=&#1077;&#1076;&#1072;%20&#1079;&#1076;&#1086;&#1088;&#1086;&#1074;&#1072;&#1103;&amp;img_url=perekitnaya.od.ua%2Fuploads%2F1.jpg&amp;pos=148&amp;rpt=simage" TargetMode="External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а и советы</a:t>
            </a:r>
            <a:br>
              <a:rPr sz="6000"/>
            </a:b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по гигиене голоса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узы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БОУ СОШ № 7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гина Анастасия 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285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для девушек. Режим молчания в больные дни (3 дня, установленные законом) и снижение нагрузок. Несоблюдение этого правила грозит длительным нарушением голосовой деятельности и очень часто с серьезными последствиями. В эти дни стенки капилляров кровеносных сосудов приобретают повышенную ломкость, что приводит к кровоизлия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наушники девушка.jpeg"/>
          <p:cNvPicPr/>
          <p:nvPr/>
        </p:nvPicPr>
        <p:blipFill>
          <a:blip r:embed="rId1"/>
          <a:stretch/>
        </p:blipFill>
        <p:spPr>
          <a:xfrm>
            <a:off x="285840" y="357120"/>
            <a:ext cx="3924360" cy="2452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5840" y="3143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то так легко не вызывает заболевания горла, как слабость, изнеженность и не закаленность. Люди голосоречевых профессий чаще склонны к простуде, которая локализируется в области верхних дыхательных путей. Это объясняется особой чувствительностью их голосового аппарата к охлаждению, условиям производства, а также подвижностью нервных процессов и особой впечатлительностью, и, наконец, неосторожностью самих людей, потенциальных пациентов врачей-ларингологов. Умение при первых симптомах заболевания принять грамотные меры первой самопомощи, знания в области искусства закаливания и укрепления организма - все это уменьшает возможность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ухо горло нос.jpg"/>
          <p:cNvPicPr/>
          <p:nvPr/>
        </p:nvPicPr>
        <p:blipFill>
          <a:blip r:embed="rId1"/>
          <a:stretch/>
        </p:blipFill>
        <p:spPr>
          <a:xfrm>
            <a:off x="6215040" y="428760"/>
            <a:ext cx="1928880" cy="2738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нет 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images.google.ru/imgres?q=%D0%BD%D0%B5+%D1%80%D0%B0%D0%B7%D0%B3%D0%BE%D0%B2%D0%B0%D1%80%D0%B8%D0%B2%D0%B0%D0%B9%D1%82%D0%B5+%D0%BD%D0%B0+%D0%BC%D0%BE%D1%80%D0%BE%D0%B7%D0%B5&amp;start=92&amp;hl=ru&amp;newwindow=1&amp;biw=1366&amp;bih=677&amp;tbm=isch&amp;tbnid=YJtw6tYjzloJCM:&amp;imgrefurl=http://sovettebe.ru/zdorovie/kak-ne-zamyorznut-zimoy/&amp;docid=GlxolLfbPZv5iM&amp;imgurl=http://sovettebe.ru/wp-content/uploads/2012/02/kak-ne-zamerznut-zimoy_4.png&amp;w=645&amp;h=645&amp;ei=hHZVUPHnK87E4gSC7oDQBw&amp;zoom=1&amp;iact=hc&amp;vpx=434&amp;vpy=322&amp;dur=1630&amp;hovh=225&amp;hovw=225&amp;tx=31&amp;ty=104&amp;sig=100115311804931638174&amp;page=5&amp;tbnh=159&amp;tbnw=188&amp;ndsp=24&amp;ved=1t:429,r:1,s:92,i: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yandsearch?text=%D1%88%D0%B0%D0%BF%D0%BA%D0%B8&amp;img_url=kniti.ru%2Fwp-content%2Fuploads%2F2011%2F09%2F1231322019_sh_02.jpg&amp;pos=0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ages.yandex.ru/yandsearch?text=%D0%B3%D0%BE%D1%80%D1%8F%D1%87%D0%B8%D0%B9%20%D1%87%D0%B0%D0%B9&amp;img_url=writerzblock.files.wordpress.com%2F2011%2F02%2Ftea.jpg&amp;pos=25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ages.yandex.ru/yandsearch?text=%D1%88%D0%B0%D0%BF%D0%BA%D0%B8%20%D0%BF%D0%B0%D1%80%D0%BD%D0%B8&amp;img_url=forum.exler.ru%2Fuploads%2F116%2Fpost-1317414500.jpg&amp;pos=15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ages.google.ru/imgres?q=%D0%B4%D1%8B%D1%85%D0%B0%D0%BD%D0%B8%D0%B5+%D1%87%D0%B5%D1%80%D0%B5%D0%B7+%D0%BD%D0%BE%D1%81&amp;start=259&amp;hl=ru&amp;newwindow=1&amp;biw=1366&amp;bih=634&amp;tbm=isch&amp;tbnid=mv-fupwLYmr6JM:&amp;imgrefurl=http://www.top4man.ru/telo/dvizhenie/pravilnoe-dyhanie-vo-vremya-fitnesa/&amp;docid=iKvCUTaKrtPToM&amp;imgurl=http://www.top4man.ru/UserFiles/bud%252520v%252520forme/breathe_3.jpg&amp;w=300&amp;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=450&amp;ei=z3pVUPO0FZSK4gSd3YCgDg&amp;zoom=1&amp;iact=rc&amp;dur=404&amp;sig=100115311804931638174&amp;page=11&amp;tbnh=142&amp;tbnw=95&amp;ndsp=28&amp;ved=1t:429,r:17,s:259,i:317&amp;tx=62&amp;ty=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mages.google.ru/imgres?q=%D0%BD%D1%8E%D1%85%D0%B0%D0%B5%D1%82+%D1%86%D0%B2%D0%B5%D1%82%D0%BE%D0%BA&amp;start=182&amp;hl=ru&amp;newwindow=1&amp;biw=1366&amp;bih=634&amp;tbm=isch&amp;tbnid=p9HDu2uS0pTcbM:&amp;imgrefurl=http://bigfon.com/%3Fgo%3Dwallpapers%26id%3D1129&amp;docid=pEuy94ow9pprFM&amp;imgurl=http://bigfon.com/wallpapers/bigfon.com_201109041801137289.jpg&amp;w=1920&amp;h=1200&amp;ei=vXtVUPm_IYmN4gSRm4FY&amp;zoom=1&amp;iact=rc&amp;dur=339&amp;sig=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100115311804931638174&amp;page=8&amp;tbnh=149&amp;tbnw=180&amp;ndsp=25&amp;ved=1t:429,r:3,s:182,i:15&amp;tx=138&amp;ty=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7kilometr.com/rus/article/kak-poyavilsya-termometr-ochen-interesnaya-istori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mages.yandex.ru/yandsearch?p=3&amp;text=%D0%BA%D1%83%D1%80%D0%B8%D1%82%D1%8C%20%D0%B7%D0%B0%D0%BF%D1%80%D0%B5%D1%89%D0%B5%D0%BD%D0%BE&amp;img_url=www.babble.com%2FCS%2Fblogs%2Fstrollerderby%2F2008%2F11%2F01-07%2Fno-smoking-if-you-want-to-be-a-foster-parent.jpg&amp;pos=118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images.yandex.ru/yandsearch?p=4&amp;text=%D0%B5%D0%B4%D0%B0%20%D0%B7%D0%B4%D0%BE%D1%80%D0%BE%D0%B2%D0%B0%D1%8F&amp;img_url=perekitnaya.od.ua%2Fuploads%2F1.jpg&amp;pos=148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images.yandex.ru/yandsearch?p=2&amp;text=1%20%D1%87%D0%B0%D1%81&amp;img_url=s008.radikal.ru%2Fi305%2F1010%2F2e%2F430a2622e6d9.jpg&amp;pos=71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kub2.beon.ru/21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popmedic.ru/2008/03/20/lor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vzlet12345.ru/wp-content/uploads/2012/02/uhod-za-litsom-zimoy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vzlet12345.ru/wp-content/uploads/2012/02/uhod-za-litsom-zimoy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0040" y="785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елунд Д.Л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певца и его голоса. – М.;Л:Музгиз, 195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адуров В.А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черки по истории вокальной педагогики. – 2-е изд. – М.: Музгиз, 195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личевский Ю.С., Фомин В.С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ткий музыкальный словарь для учащихся. – 7-е изд. – Л.: Музыка, 1984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альный словарь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Сост. И. Кочнева, А. Яковлева, - Л.: Музыка, 198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вокальной педагогики: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. статей. – М., 1962-1984. – Вып.1-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физиологии пения и вокальной методики: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. 25 / Сост. О.М.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арков, Л.Б. Дмитриев, А.Д. Кильчевска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.: МГПИ им. Гнесиных, 197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ев П.В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веты молодым педагогам-вокалистам. – 2-е изд. М.: Музгиз,196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цкий О.В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ение пению: Учебное пособие. – М.: МК РФ, МГУКИ, 1999; 3-е изд., 200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цкий О.В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кола пения: из опыта педагога. – М.: МГУКИ, 200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ев Л.Б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ы вокальной методики. – М.: Музыка, 1968; 1996;2004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иво А.Л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вец и песня. – М.; Л.: Музгиз,1948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 А.П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кусство пения: Практические советы вокалистам и оперным певцам. – М.: Голос-Пресс, 200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ин Ю., Михеев С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й Карузо. СПб. Глагол,199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тарович В.С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иена голоса. – М.: Музгиз, 195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анин В.М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ение и воспитание молодого певца. – 2-е изд. – Л.: Музыка, 197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ович Г.Л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ктические советы начинающему певцу. – М.; Л.: Музыка, 196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ева Н.М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пении: Из опыта работы с певцами. – М.: Музыка, 200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зов В.П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кальный слух и голос. – М.; Л.: Музыка, 196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шников И.П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еты обучающимся пению. – М.: Музгиз, 1958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иславский К.С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актера над собой. Ч. 1,2. – М., 195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иатрия и фонопедия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Л.Б. Дмитриев, Л.М. Телеляева, С.Л. Таптапова,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. Ермаков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.: Медицина, 199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чито С., Бейер Б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кусство пения и вокальная методика Энрико Карузо. – Л.: Музыка, 196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ляпин Ф.И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ка и душа: Мои сорок лет на театрах. – М.: Союзтеатр, 1989;199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ндерович Е.М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нцертмейстерском классе. – М.: Музыка, 199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дин С.П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голоса певца. – М.: Музыка, 196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ссон Р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вческий голос. – М.: Музыка, 1974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28760" y="264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выходите сразу после занятия вокалом на улицу, особенно в холод. Хороший совет: выработайте привычку в холодное время года перед выходом на улицу выпить немного воды комнатной температуры. Это охладит стенки гортани. Вообще избегайте резкой смены температуры. После горячей еды и питья подождите в помещении 15-30 минут, иначе начнутся кат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uhod-za-litsom-zimoy.jpg"/>
          <p:cNvPicPr/>
          <p:nvPr/>
        </p:nvPicPr>
        <p:blipFill>
          <a:blip r:embed="rId1"/>
          <a:stretch/>
        </p:blipFill>
        <p:spPr>
          <a:xfrm>
            <a:off x="571680" y="357120"/>
            <a:ext cx="3443040" cy="2298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85840" y="25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зговаривайте на морозе, старайтесь не бегать и не ходить быстро на морозном воздухе, чтобы не углублять дыхание. Вообще избегайте охлаждений и переохлаждений. Для голосового аппарата опасно чрезмерное употребление мороженого, сквозняки, ветер в жаркую погоду, когда вы разогрелись на солнце. Это самая легкая возможность для просту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мороз.jpg"/>
          <p:cNvPicPr/>
          <p:nvPr/>
        </p:nvPicPr>
        <p:blipFill>
          <a:blip r:embed="rId1"/>
          <a:stretch/>
        </p:blipFill>
        <p:spPr>
          <a:xfrm>
            <a:off x="642960" y="428760"/>
            <a:ext cx="2857320" cy="1906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32860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е за своей обувью, особенно в сырость и холод. Холодные, сырые ноги - верная простуда. Если это случилось, то обязательно сделайте горячую ножную ванну, наденьте теплые носки, постарайтесь сразу выпить горячего ч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носочки.png"/>
          <p:cNvPicPr/>
          <p:nvPr/>
        </p:nvPicPr>
        <p:blipFill>
          <a:blip r:embed="rId1"/>
          <a:stretch/>
        </p:blipFill>
        <p:spPr>
          <a:xfrm>
            <a:off x="357120" y="71424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горячий чай.jpg"/>
          <p:cNvPicPr/>
          <p:nvPr/>
        </p:nvPicPr>
        <p:blipFill>
          <a:blip r:embed="rId2"/>
          <a:stretch/>
        </p:blipFill>
        <p:spPr>
          <a:xfrm>
            <a:off x="7000920" y="428760"/>
            <a:ext cx="1571760" cy="2582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2785680"/>
            <a:ext cx="82868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одежда должна быть удобна и адекватна погоде. Но, кроме одежды и обуви, еще очень важна в нашем климате проблема головного убора - он должен быть достаточно легким и теплым. Известно очень много случаев невралгий, происшедших только по причине неподходящего головного убора. Они (невралгии) проходили, когда слишком тяжелый и жаркий головной убор сменялся на более рациональный. Чрезмерное согревание головы вызывает усиленный приток крови, головную боль, а также ведет к зябкости головы, понижению ее сопротивляемости быстрому охлаждению, что вызывает разны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шапочка девочка.jpg"/>
          <p:cNvPicPr/>
          <p:nvPr/>
        </p:nvPicPr>
        <p:blipFill>
          <a:blip r:embed="rId1"/>
          <a:stretch/>
        </p:blipFill>
        <p:spPr>
          <a:xfrm>
            <a:off x="500040" y="571680"/>
            <a:ext cx="1333440" cy="19285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6" name="Рисунок 4" descr="шапка парень.jpg"/>
          <p:cNvPicPr/>
          <p:nvPr/>
        </p:nvPicPr>
        <p:blipFill>
          <a:blip r:embed="rId2"/>
          <a:stretch/>
        </p:blipFill>
        <p:spPr>
          <a:xfrm>
            <a:off x="6858000" y="785880"/>
            <a:ext cx="1857240" cy="1857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257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вседневной жизни и деятельности дышать надо, по возможности, только через нос. Это предохраняет дыхательные пути от пыли и инфекции, которые оседают в носу, а воздух, проходя через нос, согревается и увлажняется. Хорошо прополаскивать щелочными водами (типа «Боржоми») рот, глотку, носоглотку, так как щелочная вода хорошо очищает слизист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через нос.jpg"/>
          <p:cNvPicPr/>
          <p:nvPr/>
        </p:nvPicPr>
        <p:blipFill>
          <a:blip r:embed="rId1"/>
          <a:stretch/>
        </p:blipFill>
        <p:spPr>
          <a:xfrm>
            <a:off x="357120" y="357120"/>
            <a:ext cx="1476360" cy="2214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девочка нюхает цветы.jpg"/>
          <p:cNvPicPr/>
          <p:nvPr/>
        </p:nvPicPr>
        <p:blipFill>
          <a:blip r:embed="rId2"/>
          <a:stretch/>
        </p:blipFill>
        <p:spPr>
          <a:xfrm>
            <a:off x="6429240" y="785880"/>
            <a:ext cx="240048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308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264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 в помещениях для упражнений, репетиций и выступлений должен быть не сухой, не пыльный, не холодный (охранная медицинская норма температуры воздуха не ниже +15 градуса по Цельс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градусник.jpg"/>
          <p:cNvPicPr/>
          <p:nvPr/>
        </p:nvPicPr>
        <p:blipFill>
          <a:blip r:embed="rId1"/>
          <a:stretch/>
        </p:blipFill>
        <p:spPr>
          <a:xfrm>
            <a:off x="928800" y="928800"/>
            <a:ext cx="2419200" cy="188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не петь в помещениях, где курят или курили. Старайтесь не курить сами. Алкоголь и никотин не улучшают состояние организма, зато разрушают вашу нервную сист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запрещено курить.jpg"/>
          <p:cNvPicPr/>
          <p:nvPr/>
        </p:nvPicPr>
        <p:blipFill>
          <a:blip r:embed="rId1"/>
          <a:stretch/>
        </p:blipFill>
        <p:spPr>
          <a:xfrm>
            <a:off x="5357880" y="714240"/>
            <a:ext cx="221436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3000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и пение после еды затруднены, так как кроме механического воздействия полного желудка на дыхание (подпертая диафрагма), акт пищеварения требует прилива крови к пищеварительным органам. Этим понижается жизнедеятельность произвольных мышц гортани. Пауза после еды должна быть не менее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здоровая еда.jpg"/>
          <p:cNvPicPr/>
          <p:nvPr/>
        </p:nvPicPr>
        <p:blipFill>
          <a:blip r:embed="rId1"/>
          <a:stretch/>
        </p:blipFill>
        <p:spPr>
          <a:xfrm>
            <a:off x="500040" y="500040"/>
            <a:ext cx="3078360" cy="24526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часы.jpg"/>
          <p:cNvPicPr/>
          <p:nvPr/>
        </p:nvPicPr>
        <p:blipFill>
          <a:blip r:embed="rId2"/>
          <a:stretch/>
        </p:blipFill>
        <p:spPr>
          <a:xfrm>
            <a:off x="6643800" y="1285920"/>
            <a:ext cx="187488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06:20:04Z</dcterms:created>
  <dc:creator>Admin</dc:creator>
  <dc:description/>
  <dc:language>en-US</dc:language>
  <cp:lastModifiedBy>Admin</cp:lastModifiedBy>
  <dcterms:modified xsi:type="dcterms:W3CDTF">2012-09-16T08:30:45Z</dcterms:modified>
  <cp:revision>14</cp:revision>
  <dc:subject/>
  <dc:title>Правила и советы  по гигиене голоса </dc:title>
</cp:coreProperties>
</file>