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C8A-134F-45ED-A932-CAB6E42E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A05-F21A-43A2-8982-C5E85041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4C8-C22E-4CFE-B023-94657759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FC4-FB60-4DCB-A2F5-6A0F91B8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D92-0139-4655-A17F-3D6ACEB1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4F1-AFAD-4443-9DF6-1ACBA4DF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247-C3F2-4B33-9F94-1748E3F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822-9F6B-4BB7-B1D9-ABCE0C2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AFF-378F-4C5E-B23B-383DBD8C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6B8-68F4-47AE-ADF1-2C206E93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34A-C1DF-488A-9ACE-104CC1B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736-B80A-474B-BA09-E72E2DB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3CD-57E2-4F5A-BB60-9879CE824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q=&#1085;&#1077;+&#1088;&#1072;&#1079;&#1075;&#1086;&#1074;&#1072;&#1088;&#1080;&#1074;&#1072;&#1081;&#1090;&#1077;+&#1085;&#1072;+&#1084;&#1086;&#1088;&#1086;&#1079;&#1077;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" TargetMode="External"/><Relationship Id="rId2" Type="http://schemas.openxmlformats.org/officeDocument/2006/relationships/hyperlink" Target="http://images.yandex.ru/yandsearch?text=&#1096;&#1072;&#1087;&#1082;&#1080;&amp;img_url=kniti.ru%2Fwp-content%2Fuploads%2F2011%2F09%2F1231322019_sh_02.jpg&amp;pos=0&amp;rpt=simage" TargetMode="External"/><Relationship Id="rId3" Type="http://schemas.openxmlformats.org/officeDocument/2006/relationships/hyperlink" Target="http://images.yandex.ru/yandsearch?text=&#1075;&#1086;&#1088;&#1103;&#1095;&#1080;&#1081;%20&#1095;&#1072;&#1081;&amp;img_url=writerzblock.files.wordpress.com%2F2011%2F02%2Ftea.jpg&amp;pos=25&amp;rpt=simage" TargetMode="External"/><Relationship Id="rId4" Type="http://schemas.openxmlformats.org/officeDocument/2006/relationships/hyperlink" Target="http://images.yandex.ru/yandsearch?text=&#1096;&#1072;&#1087;&#1082;&#1080;%20&#1087;&#1072;&#1088;&#1085;&#1080;&amp;img_url=forum.exler.ru%2Fuploads%2F116%2Fpost-1317414500.jpg&amp;pos=15&amp;rpt=simage" TargetMode="External"/><Relationship Id="rId5" Type="http://schemas.openxmlformats.org/officeDocument/2006/relationships/hyperlink" Target="http://images.google.ru/imgres?q=&#1076;&#1099;&#1093;&#1072;&#1085;&#1080;&#1077;+&#1095;&#1077;&#1088;&#1077;&#1079;+&#1085;&#1086;&#1089;&amp;start=259&amp;hl=ru&amp;newwindow=1&amp;biw=1366&amp;bih=634&amp;tbm=isch&amp;tbnid=mv-fupwLYmr6JM:&amp;imgrefurl=http://www.top4man.ru/telo/dvizhenie/pravilnoe-dyhanie-vo-vremya-fitnesa/&amp;docid=iKvCUTaKrtPToM&amp;imgurl=http://www.top4man.ru/UserFiles/bud%252520v%252520forme/breathe_3.jpg&amp;w=300&amp;h=450&amp;ei=z3pVUPO0FZSK4gSd3YCgDg&amp;zoom=1&amp;iact=rc&amp;dur=404&amp;sig=100115311804931638174&amp;page=11&amp;tbnh=142&amp;tbnw=95&amp;ndsp=28&amp;ved=1t:429,r:17,s:259,i:317&amp;tx=62&amp;ty=72" TargetMode="External"/><Relationship Id="rId6" Type="http://schemas.openxmlformats.org/officeDocument/2006/relationships/hyperlink" Target="file:///h=450&amp;ei=z3pVUPO0FZSK4gSd3YCgDg&amp;zoom=1&amp;iact=rc&amp;dur=404&amp;sig=100115311804931638174&amp;page=11&amp;tbnh=142&amp;tbnw=95&amp;ndsp=28&amp;ved=1t:429,r:17,s:259,i:317&amp;tx=62&amp;ty=72" TargetMode="External"/><Relationship Id="rId7" Type="http://schemas.openxmlformats.org/officeDocument/2006/relationships/hyperlink" Target="http://images.google.ru/imgres?q=&#1085;&#1102;&#1093;&#1072;&#1077;&#1090;+&#1094;&#1074;&#1077;&#1090;&#1086;&#1082;&amp;start=182&amp;hl=ru&amp;newwindow=1&amp;biw=1366&amp;bih=634&amp;tbm=isch&amp;tbnid=p9HDu2uS0pTcbM:&amp;imgrefurl=http://bigfon.com/%3Fgo%3Dwallpapers%26id%3D1129&amp;docid=pEuy94ow9pprFM&amp;imgurl=http://bigfon.com/wallpapers/bigfon.com_201109041801137289.jpg&amp;w=1920&amp;h=1200&amp;ei=vXtVUPm_IYmN4gSRm4FY&amp;zoom=1&amp;iact=rc&amp;dur=339&amp;sig=100115311804931638174&amp;page=8&amp;tbnh=149&amp;tbnw=180&amp;ndsp=25&amp;ved=1t:429,r:3,s:182,i:15&amp;tx=138&amp;ty=95" TargetMode="External"/><Relationship Id="rId8" Type="http://schemas.openxmlformats.org/officeDocument/2006/relationships/hyperlink" Target="file:///100115311804931638174&amp;page=8&amp;tbnh=149&amp;tbnw=180&amp;ndsp=25&amp;ved=1t:429,r:3,s:182,i:15&amp;tx=138&amp;ty=95" TargetMode="External"/><Relationship Id="rId9" Type="http://schemas.openxmlformats.org/officeDocument/2006/relationships/hyperlink" Target="http://7kilometr.com/rus/article/kak-poyavilsya-termometr-ochen-interesnaya-istoriya" TargetMode="External"/><Relationship Id="rId10" Type="http://schemas.openxmlformats.org/officeDocument/2006/relationships/hyperlink" Target="http://images.yandex.ru/yandsearch?p=3&amp;text=&#1082;&#1091;&#1088;&#1080;&#1090;&#1100;%20&#1079;&#1072;&#1087;&#1088;&#1077;&#1097;&#1077;&#1085;&#1086;&amp;img_url=www.babble.com%2FCS%2Fblogs%2Fstrollerderby%2F2008%2F11%2F01-07%2Fno-smoking-if-you-want-to-be-a-foster-parent.jpg&amp;pos=118&amp;rpt=simage" TargetMode="External"/><Relationship Id="rId11" Type="http://schemas.openxmlformats.org/officeDocument/2006/relationships/hyperlink" Target="http://images.yandex.ru/yandsearch?p=4&amp;text=&#1077;&#1076;&#1072;%20&#1079;&#1076;&#1086;&#1088;&#1086;&#1074;&#1072;&#1103;&amp;img_url=perekitnaya.od.ua%2Fuploads%2F1.jpg&amp;pos=148&amp;rpt=simage" TargetMode="External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а и советы</a:t>
            </a: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по гигиене голоса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узы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БОУ СОШ № 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гина Анастасия Александ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285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для девушек. Режим молчания в больные дни (3 дня, установленные законом) и снижение нагрузок. Несоблюдение этого правила грозит длительным нарушением голосовой деятельности и очень часто с серьезными последствиями. В эти дни стенки капилляров кровеносных сосудов приобретают повышенную ломкость, что приводит к кровоизлия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наушники девушка.jpeg"/>
          <p:cNvPicPr/>
          <p:nvPr/>
        </p:nvPicPr>
        <p:blipFill>
          <a:blip r:embed="rId1"/>
          <a:stretch/>
        </p:blipFill>
        <p:spPr>
          <a:xfrm>
            <a:off x="285840" y="357120"/>
            <a:ext cx="3924360" cy="245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5840" y="3143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то так легко не вызывает заболевания горла, как слабость, изнеженность и не закаленность. Люди голосоречевых профессий чаще склонны к простуде, которая локализируется в области верхних дыхательных путей. Это объясняется особой чувствительностью их голосового аппарата к охлаждению, условиям производства, а также подвижностью нервных процессов и особой впечатлительностью, и, наконец, неосторожностью самих людей, потенциальных пациентов врачей-ларингологов. Умение при первых симптомах заболевания принять грамотные меры первой самопомощи, знания в области искусства закаливания и укрепления организма - все это уменьшает возможность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ухо горло нос.jpg"/>
          <p:cNvPicPr/>
          <p:nvPr/>
        </p:nvPicPr>
        <p:blipFill>
          <a:blip r:embed="rId1"/>
          <a:stretch/>
        </p:blipFill>
        <p:spPr>
          <a:xfrm>
            <a:off x="6215040" y="428760"/>
            <a:ext cx="1928880" cy="2738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images.google.ru/imgres?q=%D0%BD%D0%B5+%D1%80%D0%B0%D0%B7%D0%B3%D0%BE%D0%B2%D0%B0%D1%80%D0%B8%D0%B2%D0%B0%D0%B9%D1%82%D0%B5+%D0%BD%D0%B0+%D0%BC%D0%BE%D1%80%D0%BE%D0%B7%D0%B5&amp;start=92&amp;hl=ru&amp;newwindow=1&amp;biw=1366&amp;bih=677&amp;tbm=isch&amp;tbnid=YJtw6tYjzloJCM:&amp;imgrefurl=http://sovettebe.ru/zdorovie/kak-ne-zamyorznut-zimoy/&amp;docid=GlxolLfbPZv5iM&amp;imgurl=http://sovettebe.ru/wp-content/uploads/2012/02/kak-ne-zamerznut-zimoy_4.png&amp;w=645&amp;h=645&amp;ei=hHZVUPHnK87E4gSC7oDQBw&amp;zoom=1&amp;iact=hc&amp;vpx=434&amp;vpy=322&amp;dur=1630&amp;hovh=225&amp;hovw=225&amp;tx=31&amp;ty=104&amp;sig=100115311804931638174&amp;page=5&amp;tbnh=159&amp;tbnw=188&amp;ndsp=24&amp;ved=1t:429,r:1,s:92,i: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b0f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yandsearch?text=%D1%88%D0%B0%D0%BF%D0%BA%D0%B8&amp;img_url=kniti.ru%2Fwp-content%2Fuploads%2F2011%2F09%2F1231322019_sh_02.jpg&amp;pos=0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yandex.ru/yandsearch?text=%D0%B3%D0%BE%D1%80%D1%8F%D1%87%D0%B8%D0%B9%20%D1%87%D0%B0%D0%B9&amp;img_url=writerzblock.files.wordpress.com%2F2011%2F02%2Ftea.jpg&amp;pos=25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/yandsearch?text=%D1%88%D0%B0%D0%BF%D0%BA%D0%B8%20%D0%BF%D0%B0%D1%80%D0%BD%D0%B8&amp;img_url=forum.exler.ru%2Fuploads%2F116%2Fpost-1317414500.jpg&amp;pos=15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ages.google.ru/imgres?q=%D0%B4%D1%8B%D1%85%D0%B0%D0%BD%D0%B8%D0%B5+%D1%87%D0%B5%D1%80%D0%B5%D0%B7+%D0%BD%D0%BE%D1%81&amp;start=259&amp;hl=ru&amp;newwindow=1&amp;biw=1366&amp;bih=634&amp;tbm=isch&amp;tbnid=mv-fupwLYmr6JM:&amp;imgrefurl=http://www.top4man.ru/telo/dvizhenie/pravilnoe-dyhanie-vo-vremya-fitnesa/&amp;docid=iKvCUTaKrtPToM&amp;imgurl=http://www.top4man.ru/UserFiles/bud%252520v%252520forme/breathe_3.jpg&amp;w=300&amp;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=450&amp;ei=z3pVUPO0FZSK4gSd3YCgDg&amp;zoom=1&amp;iact=rc&amp;dur=404&amp;sig=100115311804931638174&amp;page=11&amp;tbnh=142&amp;tbnw=95&amp;ndsp=28&amp;ved=1t:429,r:17,s:259,i:317&amp;tx=62&amp;ty=7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ages.google.ru/imgres?q=%D0%BD%D1%8E%D1%85%D0%B0%D0%B5%D1%82+%D1%86%D0%B2%D0%B5%D1%82%D0%BE%D0%BA&amp;start=182&amp;hl=ru&amp;newwindow=1&amp;biw=1366&amp;bih=634&amp;tbm=isch&amp;tbnid=p9HDu2uS0pTcbM:&amp;imgrefurl=http://bigfon.com/%3Fgo%3Dwallpapers%26id%3D1129&amp;docid=pEuy94ow9pprFM&amp;imgurl=http://bigfon.com/wallpapers/bigfon.com_201109041801137289.jpg&amp;w=1920&amp;h=1200&amp;ei=vXtVUPm_IYmN4gSRm4FY&amp;zoom=1&amp;iact=rc&amp;dur=339&amp;sig=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100115311804931638174&amp;page=8&amp;tbnh=149&amp;tbnw=180&amp;ndsp=25&amp;ved=1t:429,r:3,s:182,i:15&amp;tx=138&amp;ty=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7kilometr.com/rus/article/kak-poyavilsya-termometr-ochen-interesnaya-istori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ages.yandex.ru/yandsearch?p=3&amp;text=%D0%BA%D1%83%D1%80%D0%B8%D1%82%D1%8C%20%D0%B7%D0%B0%D0%BF%D1%80%D0%B5%D1%89%D0%B5%D0%BD%D0%BE&amp;img_url=www.babble.com%2FCS%2Fblogs%2Fstrollerderby%2F2008%2F11%2F01-07%2Fno-smoking-if-you-want-to-be-a-foster-parent.jpg&amp;pos=118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yandsearch?p=4&amp;text=%D0%B5%D0%B4%D0%B0%20%D0%B7%D0%B4%D0%BE%D1%80%D0%BE%D0%B2%D0%B0%D1%8F&amp;img_url=perekitnaya.od.ua%2Fuploads%2F1.jpg&amp;pos=148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images.yandex.ru/yandsearch?p=2&amp;text=1%20%D1%87%D0%B0%D1%81&amp;img_url=s008.radikal.ru%2Fi305%2F1010%2F2e%2F430a2622e6d9.jpg&amp;pos=71&amp;rpt=sim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kub2.beon.ru/21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opmedic.ru/2008/03/20/lo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vzlet12345.ru/wp-content/uploads/2012/02/uhod-za-litsom-zimo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vzlet12345.ru/wp-content/uploads/2012/02/uhod-za-litsom-zimoy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004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лунд Д.Л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певца и его голоса. – М.;Л:Музгиз, 195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дуров В.А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черки по истории вокальной педагогики. – 2-е изд. – М.: Музгиз, 195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личевский Ю.С., Фомин В.С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ий музыкальный словарь для учащихся. – 7-е изд. – Л.: Музыка, 198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кальный словарь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Сост. И. Кочнева, А. Яковлева, - Л.: Музыка, 198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вокальной педагогики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. статей. – М., 1962-1984. – Вып.1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физиологии пения и вокальной методики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. 25 / Сост. О.М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арков, Л.Б. Дмитриев, А.Д. Кильчевская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ГПИ им. Гнесиных, 197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ев П.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веты молодым педагогам-вокалистам. – 2-е изд. М.: Музгиз,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пению: Учебное пособие. – М.: МК РФ, МГУКИ, 1999; 3-е изд.,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цкий О.В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кола пения: из опыта педагога. – М.: МГУКИ, 200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иев Л.Б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ы вокальной методики. – М.: Музыка, 1968; 1996;200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иво А.Л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вец и песня. – М.; Л.: Музгиз,194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усство пения: Практические советы вокалистам и оперным певцам. – М.: Голос-Пресс, 200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 Ю., Михеев 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арузо. СПб. Глагол,199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тарович В.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 голоса. – М.: Музгиз, 195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нин В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ение и воспитание молодого певца. – 2-е изд. – Л.: Музыка, 197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ович Г.Л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ие советы начинающему певцу. – М.; Л.: Музыка, 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шева Н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пении: Из опыта работы с певцами. – М.: Музыка, 200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ов В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альный слух и голос. – М.; Л.: Музыка, 196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шников И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ты обучающимся пению. – М.: Музгиз, 1958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славский К.С.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актера над собой. Ч. 1,2. – М., 195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иатрия и фонопедия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Л.Б. Дмитриев, Л.М. Телеляева, С.Л. Таптапова,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. Ермаков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.: Медицина, 199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чито С., Бейер Б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усство пения и вокальная методика Энрико Карузо. – Л.: Музыка, 196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ляпин Ф.И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ка и душа: Мои сорок лет на театрах. – М.: Союзтеатр, 1989;199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ндерович Е.М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ртмейстерском классе. – М.: Музыка, 199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 С.П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голоса певца. – М.: Музыка, 196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ссон Р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вческий голос. – М.: Музыка, 1974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выходите сразу после занятия вокалом на улицу, особенно в холод. Хороший совет: выработайте привычку в холодное время года перед выходом на улицу выпить немного воды комнатной температуры. Это охладит стенки гортани. Вообще избегайте резкой смены температуры. После горячей еды и питья подождите в помещении 15-30 минут, иначе начнутся кат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uhod-za-litsom-zimoy.jpg"/>
          <p:cNvPicPr/>
          <p:nvPr/>
        </p:nvPicPr>
        <p:blipFill>
          <a:blip r:embed="rId1"/>
          <a:stretch/>
        </p:blipFill>
        <p:spPr>
          <a:xfrm>
            <a:off x="571680" y="357120"/>
            <a:ext cx="3443040" cy="229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5840" y="25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говаривайте на морозе, старайтесь не бегать и не ходить быстро на морозном воздухе, чтобы не углублять дыхание. Вообще избегайте охлаждений и переохлаждений. Для голосового аппарата опасно чрезмерное употребление мороженого, сквозняки, ветер в жаркую погоду, когда вы разогрелись на солнце. Это самая легкая возможность для прост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мороз.jpg"/>
          <p:cNvPicPr/>
          <p:nvPr/>
        </p:nvPicPr>
        <p:blipFill>
          <a:blip r:embed="rId1"/>
          <a:stretch/>
        </p:blipFill>
        <p:spPr>
          <a:xfrm>
            <a:off x="642960" y="428760"/>
            <a:ext cx="285732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32860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своей обувью, особенно в сырость и холод. Холодные, сырые ноги - верная простуда. Если это случилось, то обязательно сделайте горячую ножную ванну, наденьте теплые носки, постарайтесь сразу выпить горячего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носочки.png"/>
          <p:cNvPicPr/>
          <p:nvPr/>
        </p:nvPicPr>
        <p:blipFill>
          <a:blip r:embed="rId1"/>
          <a:stretch/>
        </p:blipFill>
        <p:spPr>
          <a:xfrm>
            <a:off x="357120" y="7142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горячий чай.jpg"/>
          <p:cNvPicPr/>
          <p:nvPr/>
        </p:nvPicPr>
        <p:blipFill>
          <a:blip r:embed="rId2"/>
          <a:stretch/>
        </p:blipFill>
        <p:spPr>
          <a:xfrm>
            <a:off x="7000920" y="428760"/>
            <a:ext cx="157176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785680"/>
            <a:ext cx="82868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одежда должна быть удобна и адекватна погоде. Но, кроме одежды и обуви, еще очень важна в нашем климате проблема головного убора - он должен быть достаточно легким и теплым. Известно очень много случаев невралгий, происшедших только по причине неподходящего головного убора. Они (невралгии) проходили, когда слишком тяжелый и жаркий головной убор сменялся на более рациональный. Чрезмерное согревание головы вызывает усиленный приток крови, головную боль, а также ведет к зябкости головы, понижению ее сопротивляемости быстрому охлаждению, что вызывает разн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шапочка девочка.jpg"/>
          <p:cNvPicPr/>
          <p:nvPr/>
        </p:nvPicPr>
        <p:blipFill>
          <a:blip r:embed="rId1"/>
          <a:stretch/>
        </p:blipFill>
        <p:spPr>
          <a:xfrm>
            <a:off x="500040" y="571680"/>
            <a:ext cx="1333440" cy="19285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Рисунок 4" descr="шапка парень.jpg"/>
          <p:cNvPicPr/>
          <p:nvPr/>
        </p:nvPicPr>
        <p:blipFill>
          <a:blip r:embed="rId2"/>
          <a:stretch/>
        </p:blipFill>
        <p:spPr>
          <a:xfrm>
            <a:off x="6858000" y="785880"/>
            <a:ext cx="1857240" cy="1857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деятельности дышать надо, по возможности, только через нос. Это предохраняет дыхательные пути от пыли и инфекции, которые оседают в носу, а воздух, проходя через нос, согревается и увлажняется. Хорошо прополаскивать щелочными водами (типа «Боржоми») рот, глотку, носоглотку, так как щелочная вода хорошо очищает слизис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через нос.jpg"/>
          <p:cNvPicPr/>
          <p:nvPr/>
        </p:nvPicPr>
        <p:blipFill>
          <a:blip r:embed="rId1"/>
          <a:stretch/>
        </p:blipFill>
        <p:spPr>
          <a:xfrm>
            <a:off x="357120" y="357120"/>
            <a:ext cx="1476360" cy="2214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девочка нюхает цветы.jpg"/>
          <p:cNvPicPr/>
          <p:nvPr/>
        </p:nvPicPr>
        <p:blipFill>
          <a:blip r:embed="rId2"/>
          <a:stretch/>
        </p:blipFill>
        <p:spPr>
          <a:xfrm>
            <a:off x="6429240" y="785880"/>
            <a:ext cx="240048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308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6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х в помещениях для упражнений, репетиций и выступлений должен быть не сухой, не пыльный, не холодный (охранная медицинская норма температуры воздуха не ниже +15 градуса по Цельс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градусник.jpg"/>
          <p:cNvPicPr/>
          <p:nvPr/>
        </p:nvPicPr>
        <p:blipFill>
          <a:blip r:embed="rId1"/>
          <a:stretch/>
        </p:blipFill>
        <p:spPr>
          <a:xfrm>
            <a:off x="928800" y="928800"/>
            <a:ext cx="2419200" cy="1881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не петь в помещениях, где курят или курили. Старайтесь не курить сами. Алкоголь и никотин не улучшают состояние организма, зато разрушают вашу нервную сис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запрещено курить.jpg"/>
          <p:cNvPicPr/>
          <p:nvPr/>
        </p:nvPicPr>
        <p:blipFill>
          <a:blip r:embed="rId1"/>
          <a:stretch/>
        </p:blipFill>
        <p:spPr>
          <a:xfrm>
            <a:off x="5357880" y="714240"/>
            <a:ext cx="221436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вило 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3000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и пение после еды затруднены, так как кроме механического воздействия полного желудка на дыхание (подпертая диафрагма), акт пищеварения требует прилива крови к пищеварительным органам. Этим понижается жизнедеятельность произвольных мышц гортани. Пауза после еды должна быть не менее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здоровая еда.jpg"/>
          <p:cNvPicPr/>
          <p:nvPr/>
        </p:nvPicPr>
        <p:blipFill>
          <a:blip r:embed="rId1"/>
          <a:stretch/>
        </p:blipFill>
        <p:spPr>
          <a:xfrm>
            <a:off x="500040" y="500040"/>
            <a:ext cx="3078360" cy="245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часы.jpg"/>
          <p:cNvPicPr/>
          <p:nvPr/>
        </p:nvPicPr>
        <p:blipFill>
          <a:blip r:embed="rId2"/>
          <a:stretch/>
        </p:blipFill>
        <p:spPr>
          <a:xfrm>
            <a:off x="6643800" y="1285920"/>
            <a:ext cx="18748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6:20:04Z</dcterms:created>
  <dc:creator>Admin</dc:creator>
  <dc:description/>
  <dc:language>en-US</dc:language>
  <cp:lastModifiedBy>Admin</cp:lastModifiedBy>
  <dcterms:modified xsi:type="dcterms:W3CDTF">2012-09-16T08:30:45Z</dcterms:modified>
  <cp:revision>14</cp:revision>
  <dc:subject/>
  <dc:title>Правила и советы  по гигиене голоса </dc:title>
</cp:coreProperties>
</file>