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73CB5A-A470-4CE6-818C-D48DAEDF7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633718-4DAB-467B-8125-FD45687BE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281445-6C46-4CA4-A4B6-3D8EC8B0D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9117A3-BB6A-47DD-B468-45AC996BF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A5BDE-F1C8-4A79-B60C-25E8D8FF8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5BE4B-0E31-4005-B67F-3F6256424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F257E-2845-4CFD-AF69-782199322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054C7-F419-4884-974A-6A7E009D8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E4C5F-CFB7-427A-AF93-E96D8D404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C7C7E-65B1-400F-B32F-008AA5E7E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99CF1-4D5A-4FA5-BFC1-8C219081B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F19F89-0320-455B-9EE3-805AE3F4D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B7288-7B87-4261-B47B-395CCD956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DC88D-2F39-416E-AF94-59E86CF9C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1A842-C0D9-463B-82D2-F35DAA959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F24B6-37B4-4A05-8E98-04AD6A15A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7124F-D9B1-48AE-95EB-B31E22C58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C8DDB5-D2EB-4954-9FCF-72967E4D2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A54082-BA7F-4843-94A0-E7FA9E24D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C9C580-FE67-4934-A12F-65B7436DF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B8A797-7850-4AA2-BC7D-84652050F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6B4C86-25AD-4A49-8BB1-DB44A82D7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1B8ECF-09B0-42EF-8E73-1DD41CD29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01DB3B-F9F2-4586-9ACD-6F831C337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54C9A-4780-4F82-8DEB-785A15909AB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F523F-9795-45BC-B036-01AB1592B37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ffff"/>
                </a:solidFill>
                <a:latin typeface="Arial"/>
              </a:rPr>
              <a:t>ПРАКТИЧЕСКИЕ ЗАДАЧИ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УМК «Перспективная начальная школа»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179280" y="692280"/>
            <a:ext cx="8386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395280" y="1267560"/>
            <a:ext cx="8101080" cy="403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адание 1.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числи изменение численности популяции рыси за каждый год. При этом, увеличение численности обозначь положительным числом, уменьшение – отрицательным. Результаты вычисление занеси в таблицу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адание 2.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строй диаграмму, указав на ней изменение численности популяции рыс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адание 3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Перечисли периоды наибольшего увеличения численности популяции рысей.  Перечисли периоды наибольшего уменьшения численности популяции. В какой период численность популяции не изменялась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адание 4.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ожно ли сказать, что к 1995 году численность популяции рысей стала стабилизироваться? Как ты считаешь почему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адание 5.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каком уровне стала стабилизироваться эта численность? Как ты считаешь почему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4"/>
          <p:cNvSpPr/>
          <p:nvPr/>
        </p:nvSpPr>
        <p:spPr>
          <a:xfrm>
            <a:off x="755640" y="1268280"/>
            <a:ext cx="763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971640" y="765000"/>
            <a:ext cx="71294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В содержании образования особое место отведено деятельностному, практическому содержанию образования, конкретным способам деятельности, применению приобретенных знаний и умений в реальных жизненных ситуациях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Федеральный компонент стандар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государственного образ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1116000" y="3573360"/>
            <a:ext cx="6985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Одной из ключевых компетенций является формирование готовности учащихся использовать усвоенные знания, умения и способы деятельности в реальной жизни для решения практических задач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Концепции модернизации российского образов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а период до 2010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3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" dur="3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4"/>
          <p:cNvSpPr/>
          <p:nvPr/>
        </p:nvSpPr>
        <p:spPr>
          <a:xfrm>
            <a:off x="611280" y="1341360"/>
            <a:ext cx="7993080" cy="45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результате изучения курса математики, ученик должен уметь использовать приобретенные знания и умения в практической деятельности и повседневной жизни дл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иентировки в окружающем пространстве (планирование маршрута, выбор пути передвижения и др.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равнения и упорядочения объектов по разным признакам: длине, площади, массе, вместим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ределения времени по часам (в часах, минутах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шения задач, связанными с бытовыми жизненными ситуациями (покупка, измерение, взвешивание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ценки размеров предметов «на глаз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мостоятельной конструкторской деятельности (с учётом возможностей применения разных геометрических фигур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826920" y="555480"/>
            <a:ext cx="72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ребования к уровню подготовки учащихс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канчивающих начальную школ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4"/>
          <p:cNvSpPr/>
          <p:nvPr/>
        </p:nvSpPr>
        <p:spPr>
          <a:xfrm>
            <a:off x="539640" y="907920"/>
            <a:ext cx="8136000" cy="46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зультаты международного исслед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IZA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 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Большие трудности при решении задач вызывает привлечение собственного опыта учащихся или знания из других областей. Школьники не владеют навыками работы со сложно организованными фрагментами информации… Эти «дефициты» в целом в наиболее общем виде могут быть определены как следствие жесткой «привязки» предметных способов действий учащихся к типу заданий и задач, а также обучающих материалов, применяемых в отечественной образовательной практике»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1" dur="2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Прямоугольник 1"/>
          <p:cNvSpPr/>
          <p:nvPr/>
        </p:nvSpPr>
        <p:spPr>
          <a:xfrm>
            <a:off x="714240" y="628560"/>
            <a:ext cx="7715520" cy="48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сновные особенности учебных задач, препятствующие овладению «конкретными способами деятельности, применению приобретенных знаний и умений в реальных жизненных ситуациях»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дачи разбиты на темы и тип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граниченность методов и приемов обучения их решен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язные сплошные тексты зада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имущественно текстовое представление дан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ебование точного единственного отв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ледовательность задач определяется принципом от простого к сложно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F:\123\Для презентации\Mat_tet3(3).jpg"/>
          <p:cNvPicPr/>
          <p:nvPr/>
        </p:nvPicPr>
        <p:blipFill>
          <a:blip r:embed="rId1"/>
          <a:stretch/>
        </p:blipFill>
        <p:spPr>
          <a:xfrm>
            <a:off x="3551400" y="1214280"/>
            <a:ext cx="1449360" cy="1928880"/>
          </a:xfrm>
          <a:prstGeom prst="rect">
            <a:avLst/>
          </a:prstGeom>
          <a:ln w="0">
            <a:noFill/>
          </a:ln>
        </p:spPr>
      </p:pic>
      <p:sp>
        <p:nvSpPr>
          <p:cNvPr id="116" name="TextBox 3"/>
          <p:cNvSpPr/>
          <p:nvPr/>
        </p:nvSpPr>
        <p:spPr>
          <a:xfrm>
            <a:off x="642960" y="500040"/>
            <a:ext cx="77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КТИЧЕСКИЕ ЗАДАЧИ - интергационная часть курс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тематики (2 – 4 классы) в УМК «Перспективная начальная школ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5"/>
          <p:cNvSpPr/>
          <p:nvPr/>
        </p:nvSpPr>
        <p:spPr>
          <a:xfrm>
            <a:off x="714240" y="3214800"/>
            <a:ext cx="77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КТИЧЕСКИЕ ЗАДАЧИ – элективный курс для начальной и средней школы (2 – 6 класс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3" descr="F:\123\Для презентации\Mat_tet4(3).jpg"/>
          <p:cNvPicPr/>
          <p:nvPr/>
        </p:nvPicPr>
        <p:blipFill>
          <a:blip r:embed="rId2"/>
          <a:stretch/>
        </p:blipFill>
        <p:spPr>
          <a:xfrm>
            <a:off x="5775480" y="1214280"/>
            <a:ext cx="1439640" cy="18687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8" descr="IMG_0001"/>
          <p:cNvPicPr/>
          <p:nvPr/>
        </p:nvPicPr>
        <p:blipFill>
          <a:blip r:embed="rId3">
            <a:lum bright="-6000"/>
          </a:blip>
          <a:srcRect l="42794" t="0" r="0" b="0"/>
          <a:stretch/>
        </p:blipFill>
        <p:spPr>
          <a:xfrm>
            <a:off x="1143000" y="1214280"/>
            <a:ext cx="1528920" cy="19288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F:\123\Для презентации\Pr_zad2.jpg"/>
          <p:cNvPicPr/>
          <p:nvPr/>
        </p:nvPicPr>
        <p:blipFill>
          <a:blip r:embed="rId4"/>
          <a:stretch/>
        </p:blipFill>
        <p:spPr>
          <a:xfrm>
            <a:off x="1214280" y="4095720"/>
            <a:ext cx="1440000" cy="19051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F:\123\Для презентации\Pr_zad3.jpg"/>
          <p:cNvPicPr/>
          <p:nvPr/>
        </p:nvPicPr>
        <p:blipFill>
          <a:blip r:embed="rId5"/>
          <a:stretch/>
        </p:blipFill>
        <p:spPr>
          <a:xfrm>
            <a:off x="2857680" y="4143240"/>
            <a:ext cx="1439640" cy="18734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F:\123\Для презентации\Pr_zad4.jpg"/>
          <p:cNvPicPr/>
          <p:nvPr/>
        </p:nvPicPr>
        <p:blipFill>
          <a:blip r:embed="rId6"/>
          <a:stretch/>
        </p:blipFill>
        <p:spPr>
          <a:xfrm>
            <a:off x="4500720" y="4143240"/>
            <a:ext cx="1439640" cy="19083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F:\123\Для презентации\Pr_zad5-6.jpg"/>
          <p:cNvPicPr/>
          <p:nvPr/>
        </p:nvPicPr>
        <p:blipFill>
          <a:blip r:embed="rId7"/>
          <a:stretch/>
        </p:blipFill>
        <p:spPr>
          <a:xfrm>
            <a:off x="6143760" y="4100400"/>
            <a:ext cx="1439640" cy="19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C:\Users\Оля\Работа\Перспектива\Лекции\orex\Plakat003_50_70.jpg"/>
          <p:cNvPicPr/>
          <p:nvPr/>
        </p:nvPicPr>
        <p:blipFill>
          <a:blip r:embed="rId1"/>
          <a:stretch/>
        </p:blipFill>
        <p:spPr>
          <a:xfrm>
            <a:off x="281160" y="590400"/>
            <a:ext cx="8577000" cy="612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4"/>
          <p:cNvSpPr/>
          <p:nvPr/>
        </p:nvSpPr>
        <p:spPr>
          <a:xfrm>
            <a:off x="179280" y="692280"/>
            <a:ext cx="8386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214200" y="659520"/>
            <a:ext cx="8282160" cy="54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АКТИЧЕСКАЯ ЗАДАЧА (2 класс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ЫШЬ-МАЛЮТ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Обычно наших соседей – мышей – мы видим редко. Однако они распространены по всей земле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Самая маленькая из мышей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живущих в России – мышь-малютка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Длина тела взрослой мыши не более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7 см. Это существо с темно-рыжей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шерсткой живет среди влажных луговых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трав. Малютка настолько ловкая и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проворная, что Питается зернами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прямо из созревших колосьев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Задание 1.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Поместится ли мышь-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малютка на твоей ладони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Мыши-малютки – очень заботливые родители. Когда крохи начинают пробовать лазать по траве, родители суетятся вокруг своих чад, помогая им, в случае чего, взобраться на травинку. Малыши рождаются очень маленькими, длиной всего 3 см. Хорошо питаясь, уже к  2 месяцам они достигают размеров взрослой мыши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Задание 2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На сколько сантиметров вырастает малыш мыши-малютки за два месяца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1" descr="http://www.floranimal.ru/gallery/big/1111.jpg"/>
          <p:cNvPicPr/>
          <p:nvPr/>
        </p:nvPicPr>
        <p:blipFill>
          <a:blip r:embed="rId1"/>
          <a:srcRect l="0" t="0" r="5060" b="5556"/>
          <a:stretch/>
        </p:blipFill>
        <p:spPr>
          <a:xfrm>
            <a:off x="4286160" y="1905120"/>
            <a:ext cx="4000680" cy="266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4"/>
          <p:cNvSpPr/>
          <p:nvPr/>
        </p:nvSpPr>
        <p:spPr>
          <a:xfrm>
            <a:off x="395280" y="361440"/>
            <a:ext cx="8569440" cy="41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АКТИЧЕСКАЯ ЗАДАЧА, 6 клас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РЫСЬ  БЕЛОВЕЖСКОЙ  ПУЩИ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Познакомься с результатами исследованиями численности популяции рыси на территории Государственного Национального парка «Беловежская пуща», представленного специалистами этого заповедника в 1995 году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7d"/>
                </a:solidFill>
                <a:latin typeface="Arial"/>
              </a:rPr>
              <a:t>Исследование численности популяции  рыси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7d"/>
                </a:solidFill>
                <a:latin typeface="Arial"/>
              </a:rPr>
              <a:t>на территории Государственного Национального парка «Беловежская пуща»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7d"/>
                </a:solidFill>
                <a:latin typeface="Arial"/>
              </a:rPr>
              <a:t>Введение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7d"/>
                </a:solidFill>
                <a:latin typeface="Arial"/>
              </a:rPr>
              <a:t>Рассматривая изученность рыси Беловежской пущи можно отметить, что постоянные целенаправленные экологические исследования численности рыси стало проводиться лишь с 1980 года. Имеются сведения только по отдельным вопросам питания и численности рыси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7d"/>
                </a:solidFill>
                <a:latin typeface="Arial"/>
              </a:rPr>
              <a:t>Методы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7d"/>
                </a:solidFill>
                <a:latin typeface="Arial"/>
              </a:rPr>
              <a:t>Учеты рысей в зимний период проводились одновременно с учетом диких копытных двухдневным поквартальным подсчетом следов. По материалам учетов выявлялись места лежек хищников и для отдельных видов стайность. Дополнительно стайность рыси определялась регулярными (после выпадения снега) наблюдениями на маршрутах, опросом лесной и егерьской служб хозяйства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7d"/>
                </a:solidFill>
                <a:latin typeface="Arial"/>
              </a:rPr>
              <a:t>Результаты исследований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7d"/>
                </a:solidFill>
                <a:latin typeface="Arial"/>
              </a:rPr>
              <a:t>Численность вида рыси, за весь период подвергалась значительным колебаниям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539640" y="4576680"/>
          <a:ext cx="8253360" cy="1374840"/>
        </p:xfrm>
        <a:graphic>
          <a:graphicData uri="http://schemas.openxmlformats.org/drawingml/2006/table">
            <a:tbl>
              <a:tblPr/>
              <a:tblGrid>
                <a:gridCol w="590760"/>
                <a:gridCol w="1328040"/>
                <a:gridCol w="216000"/>
                <a:gridCol w="573120"/>
                <a:gridCol w="1325160"/>
                <a:gridCol w="216000"/>
                <a:gridCol w="573480"/>
                <a:gridCol w="1323360"/>
                <a:gridCol w="216000"/>
                <a:gridCol w="573480"/>
                <a:gridCol w="1317960"/>
              </a:tblGrid>
              <a:tr h="39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Г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Численность популяц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Г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Численность популяц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Г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Численность популяц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Г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Численность популяц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1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198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19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199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19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198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19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199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198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19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19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199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198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1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19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19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Rectangle 569"/>
          <p:cNvSpPr/>
          <p:nvPr/>
        </p:nvSpPr>
        <p:spPr>
          <a:xfrm>
            <a:off x="0" y="41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571"/>
          <p:cNvSpPr/>
          <p:nvPr/>
        </p:nvSpPr>
        <p:spPr>
          <a:xfrm>
            <a:off x="468360" y="5796720"/>
            <a:ext cx="849636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7d"/>
                </a:solidFill>
                <a:latin typeface="Arial"/>
              </a:rPr>
              <a:t>Заключение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7d"/>
                </a:solidFill>
                <a:latin typeface="Arial"/>
              </a:rPr>
              <a:t>Одной из причин колебаний явилось прямое преследовании человеком – разрешенная охота на рысь.  С 1985 года было прекращено интенсивное преследование этого вида.  С 1992 года охота на рысь как на редкий вид, занесенный в Красную книгу, была запрещена полностью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6T13:42:39Z</dcterms:created>
  <dc:creator>я</dc:creator>
  <dc:description/>
  <dc:language>en-US</dc:language>
  <cp:lastModifiedBy>Оля</cp:lastModifiedBy>
  <dcterms:modified xsi:type="dcterms:W3CDTF">2007-12-24T03:47:53Z</dcterms:modified>
  <cp:revision>17</cp:revision>
  <dc:subject/>
  <dc:title>Слайд 1</dc:title>
</cp:coreProperties>
</file>