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F1F7-1815-4534-9DA0-BDD4366D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C5EC-F29B-4865-AD48-F02D9889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6E28D-DFF8-4729-82F7-9483B4E6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AF89-29DB-4415-A4BE-75779D8C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C70A-5AAE-4FC5-928C-EB88E579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9358-E3D9-4271-A0E7-85FBFC97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835E-E724-4027-8A35-735F7539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E909-1A22-4DE7-99C4-A0C82AE1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C570-F649-4DFF-B928-DD91413F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52C8-11DA-4C8B-BA84-536A8D48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8094-F1D3-45D3-93C4-05B314AA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0E8B-2B26-4866-902A-EA5D1AB3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1B51-7EC2-4B2C-A769-C6D2113B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001B-1798-4BD9-B433-C70B28C0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2B76-5FCC-475F-AB52-6B5493DA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9787-89C5-4E62-945C-8B07329B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7810-5E72-4E39-BA42-9F96D31D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2F72D-22B9-47AF-AF1E-5812A2E2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DD767-9B9B-4AFF-A9BB-38DD6ACC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7122-C5CF-4D03-A186-F4EEA84A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66F0-FCC5-44F6-8529-0E73FDB6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4E2E-CC9B-4528-AA99-03E4CCC5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0C63D-7C64-454C-B6C0-8E9087A7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14A2D-CDED-4F45-94E4-237425BE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4046-2236-435D-9B21-46FA875E56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4F01-E163-4E12-998C-DA18136D94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РАКТИЧЕСКИЕ ЗАДАЧ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УМК «Перспективная начальная школа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79280" y="692280"/>
            <a:ext cx="838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95280" y="1267560"/>
            <a:ext cx="810108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 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числи изменение численности популяции рыси за каждый год. При этом, увеличение численности обозначь положительным числом, уменьшение – отрицательным. Результаты вычисление занеси в таблиц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 2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рой диаграмму, указав на ней изменение численности популяции рыс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ечисли периоды наибольшего увеличения численности популяции рысей.  Перечисли периоды наибольшего уменьшения численности популяции. В какой период численность популяции не изменялас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 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ли сказать, что к 1995 году численность популяции рысей стала стабилизироваться? Как ты считаешь почем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 5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аком уровне стала стабилизироваться эта численность? Как ты считаешь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755640" y="1268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971640" y="765000"/>
            <a:ext cx="712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 содержании образования особое место отведено деятельностному, практическому содержанию образования, конкретным способам деятельности, применению приобретенных знаний и умений в реальных жизненных ситуац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деральный компонент станда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сударствен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116000" y="357336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дной из ключевых компетенций является формирование готовности учащихся использовать усвоенные знания, умения и способы деятельности в реальной жизни для решения практических задач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нцепции модернизации российск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ериод до 2010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11280" y="1341360"/>
            <a:ext cx="799308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изучения курса математики, ученик должен уметь использовать приобретенные знания и умения в практической деятельности и повседневной жизни д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ировки в окружающем пространстве (планирование маршрута, выбор пути передвижения и др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ения и упорядочения объектов по разным признакам: длине, площади, массе, вмести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я времени по часам (в часах, минут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я задач, связанными с бытовыми жизненными ситуациями (покупка, измерение, взвешива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 размеров предметов «на глаз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ой конструкторской деятельности (с учётом возможностей применения разных геометрических фигу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26920" y="5554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анчивающих начальную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39640" y="907920"/>
            <a:ext cx="81360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ы международного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Z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ольшие трудности при решении задач вызывает привлечение собственного опыта учащихся или знания из других областей. Школьники не владеют навыками работы со сложно организованными фрагментами информации… Эти «дефициты» в целом в наиболее общем виде могут быть определены как следствие жесткой «привязки» предметных способов действий учащихся к типу заданий и задач, а также обучающих материалов, применяемых в отечественной образовательной практике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714240" y="628560"/>
            <a:ext cx="77155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ные особенности учебных задач, препятствующие овладению «конкретными способами деятельности, применению приобретенных знаний и умений в реальных жизненных ситуациях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разбиты на темы и ти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ость методов и приемов обучения их реш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ные сплошные тексты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имущественно текстовое представление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е точного единственного от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 задач определяется принципом от простого к слож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:\123\Для презентации\Mat_tet3(3).jpg"/>
          <p:cNvPicPr/>
          <p:nvPr/>
        </p:nvPicPr>
        <p:blipFill>
          <a:blip r:embed="rId1"/>
          <a:stretch/>
        </p:blipFill>
        <p:spPr>
          <a:xfrm>
            <a:off x="3551400" y="1214280"/>
            <a:ext cx="1449360" cy="19288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642960" y="50004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ЗАДАЧИ - интергационная часть кур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и (2 – 4 классы) в УМК «Перспективная нача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714240" y="321480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ЗАДАЧИ – элективный курс для начальной и средней школы (2 – 6 класс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F:\123\Для презентации\Mat_tet4(3).jpg"/>
          <p:cNvPicPr/>
          <p:nvPr/>
        </p:nvPicPr>
        <p:blipFill>
          <a:blip r:embed="rId2"/>
          <a:stretch/>
        </p:blipFill>
        <p:spPr>
          <a:xfrm>
            <a:off x="5775480" y="1214280"/>
            <a:ext cx="1439640" cy="186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IMG_0001"/>
          <p:cNvPicPr/>
          <p:nvPr/>
        </p:nvPicPr>
        <p:blipFill>
          <a:blip r:embed="rId3">
            <a:lum bright="-6000"/>
          </a:blip>
          <a:srcRect l="42794" t="0" r="0" b="0"/>
          <a:stretch/>
        </p:blipFill>
        <p:spPr>
          <a:xfrm>
            <a:off x="1143000" y="1214280"/>
            <a:ext cx="1528920" cy="1928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F:\123\Для презентации\Pr_zad2.jpg"/>
          <p:cNvPicPr/>
          <p:nvPr/>
        </p:nvPicPr>
        <p:blipFill>
          <a:blip r:embed="rId4"/>
          <a:stretch/>
        </p:blipFill>
        <p:spPr>
          <a:xfrm>
            <a:off x="1214280" y="4095720"/>
            <a:ext cx="1440000" cy="1905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F:\123\Для презентации\Pr_zad3.jpg"/>
          <p:cNvPicPr/>
          <p:nvPr/>
        </p:nvPicPr>
        <p:blipFill>
          <a:blip r:embed="rId5"/>
          <a:stretch/>
        </p:blipFill>
        <p:spPr>
          <a:xfrm>
            <a:off x="2857680" y="4143240"/>
            <a:ext cx="1439640" cy="1873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:\123\Для презентации\Pr_zad4.jpg"/>
          <p:cNvPicPr/>
          <p:nvPr/>
        </p:nvPicPr>
        <p:blipFill>
          <a:blip r:embed="rId6"/>
          <a:stretch/>
        </p:blipFill>
        <p:spPr>
          <a:xfrm>
            <a:off x="4500720" y="4143240"/>
            <a:ext cx="1439640" cy="190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:\123\Для презентации\Pr_zad5-6.jpg"/>
          <p:cNvPicPr/>
          <p:nvPr/>
        </p:nvPicPr>
        <p:blipFill>
          <a:blip r:embed="rId7"/>
          <a:stretch/>
        </p:blipFill>
        <p:spPr>
          <a:xfrm>
            <a:off x="6143760" y="4100400"/>
            <a:ext cx="143964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Оля\Работа\Перспектива\Лекции\orex\Plakat003_50_70.jpg"/>
          <p:cNvPicPr/>
          <p:nvPr/>
        </p:nvPicPr>
        <p:blipFill>
          <a:blip r:embed="rId1"/>
          <a:stretch/>
        </p:blipFill>
        <p:spPr>
          <a:xfrm>
            <a:off x="281160" y="590400"/>
            <a:ext cx="85770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79280" y="692280"/>
            <a:ext cx="838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14200" y="659520"/>
            <a:ext cx="828216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КТИЧЕСКАЯ ЗАДАЧА (2 клас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ШЬ-МАЛЮ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бычно наших соседей – мышей – мы видим редко. Однако они распространены по всей земл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амая маленькая из мыш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живущих в России – мышь-малютк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ина тела взрослой мыши не боле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7 см. Это существо с темно-рыже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шерсткой живет среди влажных луговых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рав. Малютка настолько ловкая 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рная, что Питается зернам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ямо из созревших колосье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ние 1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местится ли мышь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алютка на твоей ладон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и-малютки – очень заботливые родители. Когда крохи начинают пробовать лазать по траве, родители суетятся вокруг своих чад, помогая им, в случае чего, взобраться на травинку. Малыши рождаются очень маленькими, длиной всего 3 см. Хорошо питаясь, уже к  2 месяцам они достигают размеров взрослой мыш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 сколько сантиметров вырастает малыш мыши-малютки за два месяца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http://www.floranimal.ru/gallery/big/1111.jpg"/>
          <p:cNvPicPr/>
          <p:nvPr/>
        </p:nvPicPr>
        <p:blipFill>
          <a:blip r:embed="rId1"/>
          <a:srcRect l="0" t="0" r="5060" b="5556"/>
          <a:stretch/>
        </p:blipFill>
        <p:spPr>
          <a:xfrm>
            <a:off x="4286160" y="1905120"/>
            <a:ext cx="40006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395280" y="361440"/>
            <a:ext cx="856944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КТИЧЕСКАЯ ЗАДАЧА, 6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ЫСЬ  БЕЛОВЕЖСКОЙ  ПУЩ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знакомься с результатами исследованиями численности популяции рыси на территории Государственного Национального парка «Беловежская пуща», представленного специалистами этого заповедника в 1995 году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Исследование численности популяции  рыс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на территории Государственного Национального парка «Беловежская пущ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Введ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Рассматривая изученность рыси Беловежской пущи можно отметить, что постоянные целенаправленные экологические исследования численности рыси стало проводиться лишь с 1980 года. Имеются сведения только по отдельным вопросам питания и численности рыс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Мето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Учеты рысей в зимний период проводились одновременно с учетом диких копытных двухдневным поквартальным подсчетом следов. По материалам учетов выявлялись места лежек хищников и для отдельных видов стайность. Дополнительно стайность рыси определялась регулярными (после выпадения снега) наблюдениями на маршрутах, опросом лесной и егерьской служб хозяйств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Результаты исследован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Численность вида рыси, за весь период подвергалась значительным колебаниям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9640" y="4576680"/>
          <a:ext cx="8253360" cy="1374840"/>
        </p:xfrm>
        <a:graphic>
          <a:graphicData uri="http://schemas.openxmlformats.org/drawingml/2006/table">
            <a:tbl>
              <a:tblPr/>
              <a:tblGrid>
                <a:gridCol w="590760"/>
                <a:gridCol w="1328040"/>
                <a:gridCol w="216000"/>
                <a:gridCol w="573120"/>
                <a:gridCol w="1325160"/>
                <a:gridCol w="216000"/>
                <a:gridCol w="573480"/>
                <a:gridCol w="1323360"/>
                <a:gridCol w="216000"/>
                <a:gridCol w="573480"/>
                <a:gridCol w="131796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Численность популя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Численность популя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Численность популя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Численность популя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569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71"/>
          <p:cNvSpPr/>
          <p:nvPr/>
        </p:nvSpPr>
        <p:spPr>
          <a:xfrm>
            <a:off x="468360" y="5796720"/>
            <a:ext cx="84963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Arial"/>
              </a:rPr>
              <a:t>Заключ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Одной из причин колебаний явилось прямое преследовании человеком – разрешенная охота на рысь.  С 1985 года было прекращено интенсивное преследование этого вида.  С 1992 года охота на рысь как на редкий вид, занесенный в Красную книгу, была запрещена полностью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3:42:39Z</dcterms:created>
  <dc:creator>я</dc:creator>
  <dc:description/>
  <dc:language>en-US</dc:language>
  <cp:lastModifiedBy>Оля</cp:lastModifiedBy>
  <dcterms:modified xsi:type="dcterms:W3CDTF">2007-12-24T03:47:53Z</dcterms:modified>
  <cp:revision>17</cp:revision>
  <dc:subject/>
  <dc:title>Слайд 1</dc:title>
</cp:coreProperties>
</file>