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0E33-2B90-40CA-B194-A06CF9A4DC2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C92F-18F6-472E-A359-2140B377E21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95C94-3A83-4123-B89D-907A0C691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F724-FB6B-4837-A05A-85F1CA446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53964-57DB-473A-ADA5-564D6050C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224D4-05F0-4386-9830-DB137AEF2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89A03-E948-48D6-96FA-2780F1672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CFD5E-A5B7-4A66-A5D8-4DAFAEA1A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AAF05-61F8-4DAC-8A0E-79915E120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F07E6-68B2-42F9-A665-ADF457085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7ED8E-5FCD-428F-8118-BCFC4D998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942FF-6043-4140-A0DF-9531D5B0D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EE04B-0628-4E24-A54E-D3140F31A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0B1C-DA45-4B62-B787-974960E75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8225-D17C-4A0C-86A3-AA5C65C91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A7B7A-8AFB-4BE9-AB71-52646346E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D8BDB-096A-47F5-B9D0-4FD1821AD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F9B65-0ACB-4F3F-9737-617AC0BBB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76ABB-5B00-497A-B69F-3B281D268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661724-5F43-47D1-BB8B-3EC221DB5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3AA8B-94D9-4444-9480-2792C4A84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85595F-F12C-427A-A636-8B7A57FBD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52AC5-4CCE-47E7-A710-1001145B0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2BA45-8CF7-495C-A7A5-CB11E7635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B3C5D-10ED-4379-8BBB-65825EDFF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D39F6-0EF6-4DAC-94FF-899508FB4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1ACCA-93EC-42D0-BF94-92D13929D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82E49-4C77-492F-94E0-F58367C06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3A296-A4D3-4D24-AEBF-CC2C4422B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2D4FD-4F53-4287-B885-9149CBBFB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51DCF7-7185-4822-AEA7-2983DB452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4F046E-9E0F-41C2-A2C5-B5B93FDD0B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70324A-3D55-4877-8988-E8DB0F8B62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9B2D0-3869-4EAC-A5C9-1C6EF73EA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F5512-28BD-4ADB-86B3-51DF5DC57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8EB20-C405-4559-9440-BB39BE546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E1B36-42D8-429B-9ABF-BC231058D6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FC64F-24B3-40CC-97C4-B747FF663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07006-ADD2-49F9-85D8-22697FE1E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0A50E-9C01-4749-9358-7D82979E2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AC18F-6E04-4D91-8FEF-217103C0D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D4DF7-1D57-4811-B590-B0FAB0535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08C29-F9C3-48E9-B9F8-E2EA60189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9358F-6CA3-4085-862B-D581F684F1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485AB8-1B38-474F-B937-C0CA35D81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116E0-78C5-4F24-9375-EA4BF40E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1BA6-F768-41A8-A415-47D21384B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78FC-2AE6-4E42-81B5-17CC0F8B5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954C-B461-46EE-8058-AB2E19CB7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B81A-E9C1-4E15-AE1E-D1210D7AE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B62E-56B0-4631-82CA-836332520F66}"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DD69-5DED-419F-9903-E2740740B409}"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0610-34FA-417E-9C99-A21BCBCDEF51}"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EE93-1D4B-4CAE-9AF7-00FE2149D7C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0" y="-341280"/>
            <a:ext cx="9345600" cy="2182680"/>
          </a:xfrm>
          <a:prstGeom prst="rect">
            <a:avLst/>
          </a:prstGeom>
          <a:ln w="0">
            <a:noFill/>
          </a:ln>
        </p:spPr>
      </p:pic>
      <p:sp>
        <p:nvSpPr>
          <p:cNvPr id="203" name="PlaceHolder 1"/>
          <p:cNvSpPr>
            <a:spLocks noGrp="1"/>
          </p:cNvSpPr>
          <p:nvPr>
            <p:ph type="subTitle"/>
          </p:nvPr>
        </p:nvSpPr>
        <p:spPr>
          <a:xfrm>
            <a:off x="6072120" y="5079960"/>
            <a:ext cx="2928960" cy="974880"/>
          </a:xfrm>
          <a:prstGeom prst="rect">
            <a:avLst/>
          </a:prstGeom>
          <a:noFill/>
          <a:ln w="0">
            <a:noFill/>
          </a:ln>
        </p:spPr>
        <p:txBody>
          <a:bodyPr lIns="0" rIns="183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Constantia"/>
              </a:rPr>
              <a:t>Выполнила : Хмелевая Юлия </a:t>
            </a:r>
            <a:endParaRPr b="0" lang="en-US" sz="1600" spc="-1" strike="noStrike">
              <a:solidFill>
                <a:srgbClr val="ffffff"/>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Constantia"/>
              </a:rPr>
              <a:t>Ученица</a:t>
            </a:r>
            <a:r>
              <a:rPr b="0" lang="ru-RU" sz="1600" spc="-1" strike="noStrike">
                <a:solidFill>
                  <a:srgbClr val="ffffff"/>
                </a:solidFill>
                <a:latin typeface="Constantia"/>
              </a:rPr>
              <a:t>  </a:t>
            </a:r>
            <a:r>
              <a:rPr b="0" lang="ru-RU" sz="1600" spc="-1" strike="noStrike">
                <a:solidFill>
                  <a:srgbClr val="ffff00"/>
                </a:solidFill>
                <a:latin typeface="Constantia"/>
              </a:rPr>
              <a:t>10Б класса </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   </a:t>
            </a:r>
            <a:endParaRPr b="0" lang="en-US" sz="1600" spc="-1" strike="noStrike">
              <a:solidFill>
                <a:srgbClr val="ffffff"/>
              </a:solidFill>
              <a:latin typeface="Constantia"/>
            </a:endParaRPr>
          </a:p>
        </p:txBody>
      </p:sp>
      <p:pic>
        <p:nvPicPr>
          <p:cNvPr id="204" name="Прямоугольник 4" descr=""/>
          <p:cNvPicPr/>
          <p:nvPr/>
        </p:nvPicPr>
        <p:blipFill>
          <a:blip r:embed="rId2"/>
          <a:stretch/>
        </p:blipFill>
        <p:spPr>
          <a:xfrm>
            <a:off x="-195120" y="1457280"/>
            <a:ext cx="8924760" cy="3267000"/>
          </a:xfrm>
          <a:prstGeom prst="rect">
            <a:avLst/>
          </a:prstGeom>
          <a:ln w="0">
            <a:noFill/>
          </a:ln>
        </p:spPr>
      </p:pic>
      <p:sp>
        <p:nvSpPr>
          <p:cNvPr id="205" name="TextBox 5"/>
          <p:cNvSpPr/>
          <p:nvPr/>
        </p:nvSpPr>
        <p:spPr>
          <a:xfrm>
            <a:off x="142920" y="4662360"/>
            <a:ext cx="3000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И</a:t>
            </a:r>
            <a:r>
              <a:rPr b="0" lang="ru-RU" sz="1800" spc="-1" strike="noStrike">
                <a:solidFill>
                  <a:srgbClr val="ffffcc"/>
                </a:solidFill>
                <a:latin typeface="Constantia"/>
              </a:rPr>
              <a:t> </a:t>
            </a:r>
            <a:r>
              <a:rPr b="0" lang="ru-RU" sz="1200" spc="-1" strike="noStrike">
                <a:solidFill>
                  <a:srgbClr val="ffffcc"/>
                </a:solidFill>
                <a:latin typeface="Constantia"/>
              </a:rPr>
              <a:t>ДОЛГО  БУДУ</a:t>
            </a:r>
            <a:r>
              <a:rPr b="0" lang="ru-RU" sz="1800" spc="-1" strike="noStrike">
                <a:solidFill>
                  <a:srgbClr val="ffffcc"/>
                </a:solidFill>
                <a:latin typeface="Constantia"/>
              </a:rPr>
              <a:t>  </a:t>
            </a:r>
            <a:r>
              <a:rPr b="0" lang="ru-RU" sz="1200" spc="-1" strike="noStrike">
                <a:solidFill>
                  <a:srgbClr val="ffffcc"/>
                </a:solidFill>
                <a:latin typeface="Constantia"/>
              </a:rPr>
              <a:t>ТЕМ  ЛЮБЕЗЕН  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Constantia"/>
              </a:rPr>
              <a:t>                                                   </a:t>
            </a:r>
            <a:r>
              <a:rPr b="0" lang="ru-RU" sz="1200" spc="-1" strike="noStrike">
                <a:solidFill>
                  <a:srgbClr val="ffffcc"/>
                </a:solidFill>
                <a:latin typeface="Constantia"/>
              </a:rPr>
              <a:t>НАРОД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Ч</a:t>
            </a:r>
            <a:r>
              <a:rPr b="0" lang="ru-RU" sz="1200" spc="-1" strike="noStrike">
                <a:solidFill>
                  <a:srgbClr val="ffffcc"/>
                </a:solidFill>
                <a:latin typeface="Constantia"/>
              </a:rPr>
              <a:t>ТО  ЧУВСТВА  ДОБРЫЕ  Я  ЛИРО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Constantia"/>
              </a:rPr>
              <a:t>                                         </a:t>
            </a:r>
            <a:r>
              <a:rPr b="0" lang="ru-RU" sz="1200" spc="-1" strike="noStrike">
                <a:solidFill>
                  <a:srgbClr val="ffffcc"/>
                </a:solidFill>
                <a:latin typeface="Constantia"/>
              </a:rPr>
              <a:t>ПРОБУЖДАЛ.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А</a:t>
            </a:r>
            <a:r>
              <a:rPr b="0" lang="ru-RU" sz="1200" spc="-1" strike="noStrike">
                <a:solidFill>
                  <a:srgbClr val="ffffcc"/>
                </a:solidFill>
                <a:latin typeface="Constantia"/>
              </a:rPr>
              <a:t>.</a:t>
            </a:r>
            <a:r>
              <a:rPr b="0" lang="ru-RU" sz="2000" spc="-1" strike="noStrike">
                <a:solidFill>
                  <a:srgbClr val="ffffcc"/>
                </a:solidFill>
                <a:latin typeface="Constantia"/>
              </a:rPr>
              <a:t>С.П</a:t>
            </a:r>
            <a:r>
              <a:rPr b="0" lang="ru-RU" sz="1200" spc="-1" strike="noStrike">
                <a:solidFill>
                  <a:srgbClr val="ffffcc"/>
                </a:solidFill>
                <a:latin typeface="Constantia"/>
              </a:rPr>
              <a:t>УШКИН</a:t>
            </a:r>
            <a:endParaRPr b="0" lang="en-US" sz="1200" spc="-1" strike="noStrike">
              <a:solidFill>
                <a:srgbClr val="000000"/>
              </a:solidFill>
              <a:latin typeface="Arial"/>
            </a:endParaRPr>
          </a:p>
        </p:txBody>
      </p:sp>
      <p:pic>
        <p:nvPicPr>
          <p:cNvPr id="206" name="Picture 2" descr="H:\i (12).jpg"/>
          <p:cNvPicPr/>
          <p:nvPr/>
        </p:nvPicPr>
        <p:blipFill>
          <a:blip r:embed="rId3"/>
          <a:stretch/>
        </p:blipFill>
        <p:spPr>
          <a:xfrm>
            <a:off x="3214800" y="4314960"/>
            <a:ext cx="2297160" cy="2157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500040" y="857160"/>
            <a:ext cx="757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Проведение  даже  место  выбрало –Чёрную  речку  для  дуэли. Да, убийство  Пушкина  -дело   чёрное,</a:t>
            </a:r>
            <a:r>
              <a:rPr b="0" lang="ru-RU" sz="1800" spc="-1" strike="noStrike">
                <a:solidFill>
                  <a:srgbClr val="083763"/>
                </a:solidFill>
                <a:latin typeface="Arial"/>
              </a:rPr>
              <a:t> </a:t>
            </a:r>
            <a:r>
              <a:rPr b="0" lang="ru-RU" sz="1800" spc="-1" strike="noStrike">
                <a:solidFill>
                  <a:srgbClr val="083763"/>
                </a:solidFill>
                <a:latin typeface="Constantia"/>
              </a:rPr>
              <a:t>но,</a:t>
            </a:r>
            <a:r>
              <a:rPr b="0" lang="ru-RU" sz="1800" spc="-1" strike="noStrike">
                <a:solidFill>
                  <a:srgbClr val="083763"/>
                </a:solidFill>
                <a:latin typeface="Arial"/>
              </a:rPr>
              <a:t> </a:t>
            </a:r>
            <a:r>
              <a:rPr b="0" lang="ru-RU" sz="1800" spc="-1" strike="noStrike">
                <a:solidFill>
                  <a:srgbClr val="083763"/>
                </a:solidFill>
                <a:latin typeface="Constantia"/>
              </a:rPr>
              <a:t>пишет   пушкинист  нашего  времени  Валентин   Непомнящий   в   книге  «Поэзия   и   судьба»,  гибель  поэта  не  случайна. Даже   гибелью  своей  гений   преподаёт   нам  урок:  «…это  было  сражение,</a:t>
            </a:r>
            <a:r>
              <a:rPr b="0" lang="ru-RU" sz="1800" spc="-1" strike="noStrike">
                <a:solidFill>
                  <a:srgbClr val="083763"/>
                </a:solidFill>
                <a:latin typeface="Arial"/>
              </a:rPr>
              <a:t> </a:t>
            </a:r>
            <a:r>
              <a:rPr b="0" lang="ru-RU" sz="1800" spc="-1" strike="noStrike">
                <a:solidFill>
                  <a:srgbClr val="083763"/>
                </a:solidFill>
                <a:latin typeface="Constantia"/>
              </a:rPr>
              <a:t>битва,</a:t>
            </a:r>
            <a:r>
              <a:rPr b="0" lang="ru-RU" sz="1800" spc="-1" strike="noStrike">
                <a:solidFill>
                  <a:srgbClr val="083763"/>
                </a:solidFill>
                <a:latin typeface="Arial"/>
              </a:rPr>
              <a:t> </a:t>
            </a:r>
            <a:r>
              <a:rPr b="0" lang="ru-RU" sz="1800" spc="-1" strike="noStrike">
                <a:solidFill>
                  <a:srgbClr val="083763"/>
                </a:solidFill>
                <a:latin typeface="Constantia"/>
              </a:rPr>
              <a:t>это  была  война   за  отечество».И  вспоминается  высший  смысл  того, о  чём  сказал   Некрасов: « Дело  прочно,/Когда  под  ним  струится  кровь».</a:t>
            </a:r>
            <a:endParaRPr b="0" lang="en-US" sz="1800" spc="-1" strike="noStrike">
              <a:solidFill>
                <a:srgbClr val="000000"/>
              </a:solidFill>
              <a:latin typeface="Arial"/>
            </a:endParaRPr>
          </a:p>
        </p:txBody>
      </p:sp>
      <p:sp>
        <p:nvSpPr>
          <p:cNvPr id="227" name="TextBox 3"/>
          <p:cNvSpPr/>
          <p:nvPr/>
        </p:nvSpPr>
        <p:spPr>
          <a:xfrm>
            <a:off x="571680" y="4214880"/>
            <a:ext cx="735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Мне  с  детства  знакомы   стихотворения  Александра   Сергеевича  Пушкина , о  его  дуэли  с  Дантесом  ,о  том  какие  произошли последствия.</a:t>
            </a:r>
            <a:endParaRPr b="0" lang="en-US" sz="1800" spc="-1" strike="noStrike">
              <a:solidFill>
                <a:srgbClr val="000000"/>
              </a:solidFill>
              <a:latin typeface="Arial"/>
            </a:endParaRPr>
          </a:p>
        </p:txBody>
      </p:sp>
      <p:pic>
        <p:nvPicPr>
          <p:cNvPr id="228" name="Picture 2" descr="H:\i (3).jpg"/>
          <p:cNvPicPr/>
          <p:nvPr/>
        </p:nvPicPr>
        <p:blipFill>
          <a:blip r:embed="rId1"/>
          <a:stretch/>
        </p:blipFill>
        <p:spPr>
          <a:xfrm>
            <a:off x="6572160" y="4786200"/>
            <a:ext cx="2357640" cy="1928880"/>
          </a:xfrm>
          <a:prstGeom prst="rect">
            <a:avLst/>
          </a:prstGeom>
          <a:ln w="0">
            <a:noFill/>
          </a:ln>
        </p:spPr>
      </p:pic>
      <p:pic>
        <p:nvPicPr>
          <p:cNvPr id="229" name="Picture 3" descr="H:\i (4).jpg"/>
          <p:cNvPicPr/>
          <p:nvPr/>
        </p:nvPicPr>
        <p:blipFill>
          <a:blip r:embed="rId2"/>
          <a:stretch/>
        </p:blipFill>
        <p:spPr>
          <a:xfrm>
            <a:off x="3143160" y="478620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2920" y="142560"/>
            <a:ext cx="3929040" cy="285732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Calibri"/>
              </a:rPr>
              <a:t>Спасибо  за  внимание!!!</a:t>
            </a:r>
            <a:endParaRPr b="0" lang="en-US" sz="4400" spc="-1" strike="noStrike">
              <a:solidFill>
                <a:srgbClr val="04617b"/>
              </a:solidFill>
              <a:latin typeface="Calibri"/>
            </a:endParaRPr>
          </a:p>
        </p:txBody>
      </p:sp>
      <p:pic>
        <p:nvPicPr>
          <p:cNvPr id="231" name="Picture 3" descr="H:\i (9).jpg"/>
          <p:cNvPicPr/>
          <p:nvPr/>
        </p:nvPicPr>
        <p:blipFill>
          <a:blip r:embed="rId1"/>
          <a:stretch/>
        </p:blipFill>
        <p:spPr>
          <a:xfrm rot="406800">
            <a:off x="3844800" y="1294920"/>
            <a:ext cx="39690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H:\i (10).jpg"/>
          <p:cNvPicPr/>
          <p:nvPr/>
        </p:nvPicPr>
        <p:blipFill>
          <a:blip r:embed="rId1"/>
          <a:stretch/>
        </p:blipFill>
        <p:spPr>
          <a:xfrm>
            <a:off x="7072200" y="4143240"/>
            <a:ext cx="2071800" cy="2714760"/>
          </a:xfrm>
          <a:prstGeom prst="rect">
            <a:avLst/>
          </a:prstGeom>
          <a:ln w="0">
            <a:noFill/>
          </a:ln>
        </p:spPr>
      </p:pic>
      <p:pic>
        <p:nvPicPr>
          <p:cNvPr id="208" name="Picture 2" descr="H:\i.jpg"/>
          <p:cNvPicPr/>
          <p:nvPr/>
        </p:nvPicPr>
        <p:blipFill>
          <a:blip r:embed="rId2"/>
          <a:stretch/>
        </p:blipFill>
        <p:spPr>
          <a:xfrm>
            <a:off x="7143840" y="0"/>
            <a:ext cx="2000160" cy="2000160"/>
          </a:xfrm>
          <a:prstGeom prst="rect">
            <a:avLst/>
          </a:prstGeom>
          <a:ln w="0">
            <a:noFill/>
          </a:ln>
        </p:spPr>
      </p:pic>
      <p:sp>
        <p:nvSpPr>
          <p:cNvPr id="209" name="TextBox 1"/>
          <p:cNvSpPr/>
          <p:nvPr/>
        </p:nvSpPr>
        <p:spPr>
          <a:xfrm>
            <a:off x="274680" y="428760"/>
            <a:ext cx="791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onstantia"/>
              </a:rPr>
              <a:t>Биография   и  жизнь  в  Лицеи  Александра  Сергеевича  Пушкина</a:t>
            </a:r>
            <a:endParaRPr b="0" lang="en-US" sz="1800" spc="-1" strike="noStrike">
              <a:solidFill>
                <a:srgbClr val="000000"/>
              </a:solidFill>
              <a:latin typeface="Arial"/>
            </a:endParaRPr>
          </a:p>
        </p:txBody>
      </p:sp>
      <p:sp>
        <p:nvSpPr>
          <p:cNvPr id="210" name="TextBox 2"/>
          <p:cNvSpPr/>
          <p:nvPr/>
        </p:nvSpPr>
        <p:spPr>
          <a:xfrm>
            <a:off x="0" y="857160"/>
            <a:ext cx="828684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Александр  Сергеевич  родился  в  Москве  26 мая  по  старому   стилю,6  июня  по  новому  стилю  в  1799  году . Родился  в  Немецкой  слободе , в  ещё  старой , донаполеоновской   Москве, больше  похожей  на  большую  деревню, состоявшую  из  отдельных , больших  и   малых  помещичьих усадеб , обросших  городскими  домами . Принадлежал   поэт  к  старинному , но  обедневшему   роду .Мать  Пушкина  Наталья  Осиповна(1775-1836)происходила  из  семьи  Ганнибалов,</a:t>
            </a:r>
            <a:r>
              <a:rPr b="0" lang="ru-RU" sz="1800" spc="-1" strike="noStrike">
                <a:solidFill>
                  <a:srgbClr val="0070c0"/>
                </a:solidFill>
                <a:latin typeface="Arial"/>
              </a:rPr>
              <a:t> </a:t>
            </a:r>
            <a:r>
              <a:rPr b="0" lang="ru-RU" sz="1800" spc="-1" strike="noStrike">
                <a:solidFill>
                  <a:srgbClr val="0070c0"/>
                </a:solidFill>
                <a:latin typeface="Constantia"/>
              </a:rPr>
              <a:t>потомков  Абрама  Ганнибала, выходца   Эфиопии, возвышенного  волей  Петра 1.Отец  Сергей  Львович  Пушкин(1770-1848)был  капитаном   Измайловского  полка. В  карамзинской  «Истории   государства  Российского»имя  Пушкиных  упоминается  21  раз, начиная  с  периода  княжения  Александра  Невск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В  семье  Пушкиных  увеличение   литературой  шло  от  отца  и  от  дяди  Василия  Львовича, который  сам  был  поэто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В  детстве  Пушкин  воспитывался  дома, а  с  1811  по  1817год  учился  в  Царскосельском  лицее, где  он  написал  130  стихотворений,  нашёл  друзей-Дельвига,</a:t>
            </a:r>
            <a:r>
              <a:rPr b="0" lang="ru-RU" sz="1800" spc="-1" strike="noStrike">
                <a:solidFill>
                  <a:srgbClr val="0070c0"/>
                </a:solidFill>
                <a:latin typeface="Arial"/>
              </a:rPr>
              <a:t> </a:t>
            </a:r>
            <a:r>
              <a:rPr b="0" lang="ru-RU" sz="1800" spc="-1" strike="noStrike">
                <a:solidFill>
                  <a:srgbClr val="0070c0"/>
                </a:solidFill>
                <a:latin typeface="Constantia"/>
              </a:rPr>
              <a:t>Пущина,</a:t>
            </a:r>
            <a:r>
              <a:rPr b="0" lang="ru-RU" sz="1800" spc="-1" strike="noStrike">
                <a:solidFill>
                  <a:srgbClr val="0070c0"/>
                </a:solidFill>
                <a:latin typeface="Arial"/>
              </a:rPr>
              <a:t> </a:t>
            </a:r>
            <a:r>
              <a:rPr b="0" lang="ru-RU" sz="1800" spc="-1" strike="noStrike">
                <a:solidFill>
                  <a:srgbClr val="0070c0"/>
                </a:solidFill>
                <a:latin typeface="Constantia"/>
              </a:rPr>
              <a:t>Кюхельбекера , Малиновского, Горчакова…В  эти  годы  он  сближается  с  Чаадаевым, с  Жуковским, с  Батюшковым</a:t>
            </a:r>
            <a:r>
              <a:rPr b="0" lang="ru-RU" sz="1800" spc="-1" strike="noStrike">
                <a:solidFill>
                  <a:srgbClr val="083763"/>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142920" y="785880"/>
            <a:ext cx="9001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лицейские  годы  Пушкин  предсказывает  в   стихотворении  «Городок»(1815)своё  бессмертие  как  поэт  -  «Не  весь  я предан  тленью…» В  конце  жизни  он  подтвердит  своё  пророчество:  «Нет , весь  я  не  умру…»Поразительно, что  великое  будущее   Саши   Пушкина  провидел  и  Дельвиг,тоже  тогда  совсем  юный  поэт. Он  в  1815  году  написал  в  стихотворении  «Пушки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ушкин ! Он  и  в  лесах  не  укро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ира  выдаст  его  громким  пение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от  смертных   восхитим  бессмерт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Апполон  на   Олимп  торжествующ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лицеи  Пушкин  пережил  великую  эпопею  Отечественной  войны  1812  года. Первое  своё  стихотворение  опубликовал  в  журнале  «Вестник  Европы»в 1814  году.  В  1820  году   написал   поэму  «Руслан  и  Людмила»и  стал, можно  сказать, широко  известным  поэт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H:\1.jpg"/>
          <p:cNvPicPr/>
          <p:nvPr/>
        </p:nvPicPr>
        <p:blipFill>
          <a:blip r:embed="rId1"/>
          <a:stretch/>
        </p:blipFill>
        <p:spPr>
          <a:xfrm>
            <a:off x="6572160" y="2000160"/>
            <a:ext cx="2286000" cy="2286000"/>
          </a:xfrm>
          <a:prstGeom prst="rect">
            <a:avLst/>
          </a:prstGeom>
          <a:ln w="0">
            <a:noFill/>
          </a:ln>
        </p:spPr>
      </p:pic>
      <p:pic>
        <p:nvPicPr>
          <p:cNvPr id="213" name="Picture 3" descr="H:\i (8).jpg"/>
          <p:cNvPicPr/>
          <p:nvPr/>
        </p:nvPicPr>
        <p:blipFill>
          <a:blip r:embed="rId2"/>
          <a:stretch/>
        </p:blipFill>
        <p:spPr>
          <a:xfrm>
            <a:off x="285840" y="2286000"/>
            <a:ext cx="1571400" cy="20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285840" y="785880"/>
            <a:ext cx="835812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За  одну  «Вольность»Александр  1  хотел  отправить   Пушкина  в  Сибирь.  Поднялась  тревога.  Чаадаев,гнедич,Александр  Тургенев,Оленин,директор  лицея  Энгельгардт  стали   искать   заступников, сами  обращались  к  царю. Карамзин   ручался, что  Пушкин  более  не  будет  ничего  писать  против  Правительства. Александр  1  согласился  Сибирь  заменить   ссылкой  на  юг,точнее,даже  не  ссылкой,а,как  это  называлось, назначением  к  главному   попечителю  колонистов  Южного  края  генерал-лейтенанту  Инзов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одсчитано, что  Александр  Сергеевич  проехал  по  России   34  тысячи   километров.  «То  в  коляске, то  верхом, То  в  кибитке, то  в  карете, То  в  телеге,то пешком…»Дрога  на  юг  была  началом  его  дальних  доро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ребывание   поэта  на  Кавказе, в  Кишиневе, в  Одессе,  в  Крыму  по  сути   было  благом  для  него, было  плодотворным: на  юге   он  написал  около  100  стихотворений, четыре  поэмы, закончены  были  две  главы  и  начата  третья  романа  «Евгений  Онег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На  юге  Пушкин   пробыл  больше  трёх лет  и  стал  тосковать  по  Петербургу,но  в  это  время  недоброжелатели  донесли  царю  о  «дурном  поведении» поэта, и  царь  решил  отправить  его  «в  наказание»  под  надзор  местного  начальства  в  настоящую  ссылку- в  имение  родителей  в  Псковскую  губерн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85840" y="785880"/>
            <a:ext cx="7929720" cy="640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83763"/>
                </a:solidFill>
                <a:latin typeface="Constantia"/>
              </a:rPr>
              <a:t>  </a:t>
            </a:r>
            <a:r>
              <a:rPr b="0" lang="ru-RU" sz="1800" spc="-1" strike="noStrike">
                <a:solidFill>
                  <a:srgbClr val="083763"/>
                </a:solidFill>
                <a:latin typeface="Constantia"/>
              </a:rPr>
              <a:t>24 Июля  1824  года  поэтому  было  объявлено  о  «высочайшей  воле»  -  и  он  вместе  с  верным  слугой  Никитой  Козловым  выехал  в  знаменитое  теперь  Михайловское. По  предписанному  маршруту, Пушкину  запрещалось  заезжать  по  дороге  в  Киев, Москву   и  Петербург. В Михайловском  талант  поэта,безусловно,достиг  своей  полной  зрелости. Здесь  у  него  был  «приют  спокойствия, трудов  и  вдохновенья».</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Здесь, в  псковской  деревне, общаясь  с  родным  народом, родной   природой,  окончательно  сформировалась  поэтическое   мировоззрение  Пушкина. Здесь  нашёл  он  черты  любимой  своей   героини  Татьяны  Лариной. Здесь   он  увидел  и  то  крепостное  бесправие  крестьян, на  которое  откликнулся   стихотворением  «деревня»  и  «Дубровски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Работая  над  «Евгением  Онегиным»,Пушкин   признавался:  «Лучшего  положения  для   моего  поэтического  романа  нельзя  и  желать». «Здесь, в  глуши  лесов и сосновых»,впервые  зазвучали  стихи, полные  любви  к  жизни, веры  в   светлое  будущее  своего  народа, полные  того  пушкинского  солнечного  оптимизма, который  побеждает  и  «бешенство  скуки»  и  «горечь  изгнанья».</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pic>
        <p:nvPicPr>
          <p:cNvPr id="216" name="Picture 2" descr="H:\i (1).jpg"/>
          <p:cNvPicPr/>
          <p:nvPr/>
        </p:nvPicPr>
        <p:blipFill>
          <a:blip r:embed="rId1"/>
          <a:stretch/>
        </p:blipFill>
        <p:spPr>
          <a:xfrm>
            <a:off x="7462800" y="642960"/>
            <a:ext cx="1681200" cy="2214720"/>
          </a:xfrm>
          <a:prstGeom prst="rect">
            <a:avLst/>
          </a:prstGeom>
          <a:ln w="0">
            <a:noFill/>
          </a:ln>
        </p:spPr>
      </p:pic>
      <p:pic>
        <p:nvPicPr>
          <p:cNvPr id="217" name="Picture 3" descr="H:\i (5).jpg"/>
          <p:cNvPicPr/>
          <p:nvPr/>
        </p:nvPicPr>
        <p:blipFill>
          <a:blip r:embed="rId2"/>
          <a:stretch/>
        </p:blipFill>
        <p:spPr>
          <a:xfrm>
            <a:off x="7500960" y="3786120"/>
            <a:ext cx="164304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285840" y="714240"/>
            <a:ext cx="80722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Михайловском  были задуманы  и  написаны  такие  шедевры  мировой  литературы, как  трагедия  «Борис  Годунов»,третья  и  четвёртая  глава  и  начата  седьмая  глава  «Евгения  Онегина»,  «Граф  Нулин»,стихотворения  «К  морю»,  «Сожженное  письмо»,  «Я  помню  чудное  мгновенье…»,  «Вакхическая  песня»,  «19  октября»,  «Зимний  вечер»,  «Песни  о  Степане   Разине», «Пророк»  и многие  другие.  Здесь  вообще  Пушкиным  было  написано  более  ста  произведени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1826  году, после  разгрома  восстания  декабристов, новый  царь Николай   1  вызвал  Пушкина  в  Москву, во  время  их   беседы  царь   объявил, что  теперь  сам  будет  цензором  поэ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ся  полнейшая  жизнь  Пушкина  проходила  под  ощутимым   надзором  жандармом  и  царского  д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Гений  Александра  Сергеевича,безусловно,универсален.  Современники  сравнила  Пушкина  с  Протеем-божетвом,способным  принимать  любой   облик. Перевоплощения  и  широта  творческих  интересов  Александра  Сергеевича  поразительны.  Для  него  не составляет  труда  перенести  в  любой  период  русской  или  мировой  истории- и  творить   на  материале  этого  периода.  От  «Песен  западных   славян»он  переходит  к  Корану.  От  лирического  стихотворения  -  к  драматическому  произведению, или  роману,  или  сказке, или  к  трагед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357120" y="500040"/>
            <a:ext cx="76438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83763"/>
                </a:solidFill>
                <a:latin typeface="Constantia"/>
              </a:rPr>
              <a:t>«Полтава»,  «Домик  в  Коломне»,  «Маленькие  трагедии»,  «Повести  Белкина»,богатейшая  лирика-  основные  плоды  пушкинской  работы  1826-1830  годов. В  1830-е  годы  в  творчестве  Пушкина  преобладает  проза, но  в  эти  же  годы  создана  поэма  «Медный  всадник»,оставшаяся  при  жизни  не  напечатанной, сказки  в  стихах  и замечательные  по  философской   глубине  стихотворения. В  1836  году  Пушкин  основал  журнал  «Современник», ставший  лучшим  русским  периодическим  издани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  конце  жизни  Пушкин   раскаялся  в  грехах  своей  молодости, в  том  числе  и в  написании, мягко  говоря,фриольной   «Гаврилиады». Он  всё  больше  тяготел  к христианскому  мировоззрению.  Философ  Владимир  Соловьёв  даже  считал,что,встать  Пушкин   со  смертного  одра, он  бы  уже  не  стал  заниматься  литературой. Соловьев  считал, что  служение  Богу  стало  бы  тогда  истинным  трудом  поэта. В  последние   годы  жизни  Пушкин   нередко  в  своих  произведениях   говорит  о  молитве, а  когда   вспоминает  в  День   Лицея  друзей, то  пиш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Усердно  помолившись  Бог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ицею  прокричав  ура…   </a:t>
            </a:r>
            <a:endParaRPr b="0" lang="en-US" sz="1800" spc="-1" strike="noStrike">
              <a:solidFill>
                <a:srgbClr val="000000"/>
              </a:solidFill>
              <a:latin typeface="Arial"/>
            </a:endParaRPr>
          </a:p>
        </p:txBody>
      </p:sp>
      <p:pic>
        <p:nvPicPr>
          <p:cNvPr id="220" name="Picture 2" descr="H:\i (7).jpg"/>
          <p:cNvPicPr/>
          <p:nvPr/>
        </p:nvPicPr>
        <p:blipFill>
          <a:blip r:embed="rId1"/>
          <a:stretch/>
        </p:blipFill>
        <p:spPr>
          <a:xfrm>
            <a:off x="7572240" y="4714920"/>
            <a:ext cx="1428840" cy="203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H:\i (2).jpg"/>
          <p:cNvPicPr/>
          <p:nvPr/>
        </p:nvPicPr>
        <p:blipFill>
          <a:blip r:embed="rId1"/>
          <a:stretch/>
        </p:blipFill>
        <p:spPr>
          <a:xfrm>
            <a:off x="0" y="1714680"/>
            <a:ext cx="2071800" cy="4857480"/>
          </a:xfrm>
          <a:prstGeom prst="rect">
            <a:avLst/>
          </a:prstGeom>
          <a:ln w="0">
            <a:noFill/>
          </a:ln>
        </p:spPr>
      </p:pic>
      <p:sp>
        <p:nvSpPr>
          <p:cNvPr id="222" name="TextBox 1"/>
          <p:cNvSpPr/>
          <p:nvPr/>
        </p:nvSpPr>
        <p:spPr>
          <a:xfrm>
            <a:off x="357120" y="785880"/>
            <a:ext cx="8501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У  Пушкина  была  любимая  молитва, сложенная   святым  Ефремом  Сириным  в  4  веке.  Поэт  полностью  ввёл  её  в  своё  стихотворение  «Отцы  пустынники    и   жёны  непор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Отцы  пустынники  и  жёны  непор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Чтоб сердцем   возлетать  во   области  за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Чтоб  укреплять  его  средь  дольних  бурь  и  би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Сложили  множество  божественных моли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Но  ни  одна  из  них  меня  не  умиля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Как  та,  которую  священник  повторя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о  дни  печальные  Великого  пос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сех  чаще  мне  она  приходит  на  ус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падшего  крепит   неведомою  сил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ладыко   дней  моих ! дух  праздности   уныл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юбоначалия,змеи  сокрытой  с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празднословия  не  дай  душе  мо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Но  брат  мой  от  меня  не  примет  осуж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дух  смирения,терпения,любв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целомудрия  мне  в   сердце   ожив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pic>
        <p:nvPicPr>
          <p:cNvPr id="223" name="Picture 3" descr="H:\i (6).jpg"/>
          <p:cNvPicPr/>
          <p:nvPr/>
        </p:nvPicPr>
        <p:blipFill>
          <a:blip r:embed="rId2"/>
          <a:stretch/>
        </p:blipFill>
        <p:spPr>
          <a:xfrm>
            <a:off x="6702480" y="3071880"/>
            <a:ext cx="2441520" cy="37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i (11).jpg"/>
          <p:cNvPicPr/>
          <p:nvPr/>
        </p:nvPicPr>
        <p:blipFill>
          <a:blip r:embed="rId1"/>
          <a:stretch/>
        </p:blipFill>
        <p:spPr>
          <a:xfrm>
            <a:off x="7643880" y="3929040"/>
            <a:ext cx="1500120" cy="2928960"/>
          </a:xfrm>
          <a:prstGeom prst="rect">
            <a:avLst/>
          </a:prstGeom>
          <a:ln w="0">
            <a:noFill/>
          </a:ln>
        </p:spPr>
      </p:pic>
      <p:sp>
        <p:nvSpPr>
          <p:cNvPr id="225" name="TextBox 1"/>
          <p:cNvSpPr/>
          <p:nvPr/>
        </p:nvSpPr>
        <p:spPr>
          <a:xfrm>
            <a:off x="285840" y="642960"/>
            <a:ext cx="8001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Гибель  Пушкина  после  дуэли  с  приёмным  сыном  голландского  посланника  Дантесом   потрясла  всю  читающую  Россию. До  сих  пор об   этой  трагедии  высказываются  совершенно  различные  мнения. Одни  считают, что   это  был  масонский  заговор  против  светлого  русского  гения. Другие  виновником   всех  интриг  вокруг  поэта  называют  царя. Анна  Ахматова  писала:   «Мы  имеем  право  смотреть   на  Наталью  Николаевну   как  на  сообщницу  Геккернов  в  преддуэльной  истории».Цветаева  тоже   считала  жену   поэта  роком  Пушк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Мне   ближе  другая  точка  зрения. У  Пушкина  ни  в  судьбе, ни  в  творчестве</a:t>
            </a:r>
            <a:r>
              <a:rPr b="0" lang="ru-RU" sz="1800" spc="-1" strike="noStrike">
                <a:solidFill>
                  <a:srgbClr val="083763"/>
                </a:solidFill>
                <a:latin typeface="Arial"/>
              </a:rPr>
              <a:t> </a:t>
            </a:r>
            <a:r>
              <a:rPr b="0" lang="ru-RU" sz="1800" spc="-1" strike="noStrike">
                <a:solidFill>
                  <a:srgbClr val="083763"/>
                </a:solidFill>
                <a:latin typeface="Constantia"/>
              </a:rPr>
              <a:t>нет   ничего  случайного.  Его   поэзия  и  его  жизнь-  это  одно  целое. Из  всего  образа  жизни  и  творчества  Пушкина,</a:t>
            </a:r>
            <a:r>
              <a:rPr b="0" lang="ru-RU" sz="1800" spc="-1" strike="noStrike">
                <a:solidFill>
                  <a:srgbClr val="083763"/>
                </a:solidFill>
                <a:latin typeface="Arial"/>
              </a:rPr>
              <a:t> </a:t>
            </a:r>
            <a:r>
              <a:rPr b="0" lang="ru-RU" sz="1800" spc="-1" strike="noStrike">
                <a:solidFill>
                  <a:srgbClr val="083763"/>
                </a:solidFill>
                <a:latin typeface="Constantia"/>
              </a:rPr>
              <a:t>что,</a:t>
            </a:r>
            <a:r>
              <a:rPr b="0" lang="ru-RU" sz="1800" spc="-1" strike="noStrike">
                <a:solidFill>
                  <a:srgbClr val="083763"/>
                </a:solidFill>
                <a:latin typeface="Arial"/>
              </a:rPr>
              <a:t> </a:t>
            </a:r>
            <a:r>
              <a:rPr b="0" lang="ru-RU" sz="1800" spc="-1" strike="noStrike">
                <a:solidFill>
                  <a:srgbClr val="083763"/>
                </a:solidFill>
                <a:latin typeface="Constantia"/>
              </a:rPr>
              <a:t>в   сущности, одно  и  то же, вытекает  неизбежное   поведение  поэта: защита  чести  семьи,</a:t>
            </a:r>
            <a:r>
              <a:rPr b="0" lang="ru-RU" sz="1800" spc="-1" strike="noStrike">
                <a:solidFill>
                  <a:srgbClr val="083763"/>
                </a:solidFill>
                <a:latin typeface="Arial"/>
              </a:rPr>
              <a:t> </a:t>
            </a:r>
            <a:r>
              <a:rPr b="0" lang="ru-RU" sz="1800" spc="-1" strike="noStrike">
                <a:solidFill>
                  <a:srgbClr val="083763"/>
                </a:solidFill>
                <a:latin typeface="Constantia"/>
              </a:rPr>
              <a:t>жены,в  символическом  плане-  Россия  ценою  своей   жизни.</a:t>
            </a:r>
            <a:r>
              <a:rPr b="0" lang="ru-RU" sz="1800" spc="-1" strike="noStrike">
                <a:solidFill>
                  <a:srgbClr val="083763"/>
                </a:solidFill>
                <a:latin typeface="Arial"/>
              </a:rPr>
              <a:t> </a:t>
            </a:r>
            <a:r>
              <a:rPr b="0" lang="ru-RU" sz="1800" spc="-1" strike="noStrike">
                <a:solidFill>
                  <a:srgbClr val="083763"/>
                </a:solidFill>
                <a:latin typeface="Constantia"/>
              </a:rPr>
              <a:t>Поэт,</a:t>
            </a:r>
            <a:r>
              <a:rPr b="0" lang="ru-RU" sz="1800" spc="-1" strike="noStrike">
                <a:solidFill>
                  <a:srgbClr val="083763"/>
                </a:solidFill>
                <a:latin typeface="Arial"/>
              </a:rPr>
              <a:t> </a:t>
            </a:r>
            <a:r>
              <a:rPr b="0" lang="ru-RU" sz="1800" spc="-1" strike="noStrike">
                <a:solidFill>
                  <a:srgbClr val="083763"/>
                </a:solidFill>
                <a:latin typeface="Constantia"/>
              </a:rPr>
              <a:t>идя  на  дуэль, был   уверен  в  своих  силах, именно  поэтому  он  не  попрощался  с  семьёй,  не  оставил  завещания.  Был  уверен  в победе. Но  люди   полагают, а  Бог  располагает…Да  и  представим   себе, если  бы  Пушкин  убил  Дантеса. Это  на  всё  его  творчество  и   жизнь   наложило  бы  какой-то  другой  отпечаток.  «Погиб  поэт! -  невольник  чести…»Но-чести,а  не  суеты, не  барыша, не  уныния,  не  гордыни  и  болезненного  самолюбования.  И  эпоха  стала  называться  пушкинско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18:01:35Z</dcterms:created>
  <dc:creator>DNA7 X86</dc:creator>
  <dc:description/>
  <dc:language>en-US</dc:language>
  <cp:lastModifiedBy>Коля</cp:lastModifiedBy>
  <dcterms:modified xsi:type="dcterms:W3CDTF">2013-05-02T10:05:18Z</dcterms:modified>
  <cp:revision>64</cp:revision>
  <dc:subject/>
  <dc:title>Тема : Мой любимый писатель»</dc:title>
</cp:coreProperties>
</file>