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BCE-F7D7-4244-BE75-7D41D139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E34-552D-416A-AEF1-A94BAFDE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681-01D2-4EA2-BA99-9FA4DC94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1A5-1C15-43AF-BB71-259D623C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B8E-84D7-4D21-9E5B-B87B7734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82B-9BB5-4D75-8853-B07CB442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F0A-6278-4E0A-9968-5F2D88B4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CDF-61C5-4F68-8849-4366A909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CA8-15F5-4FE4-90AF-D29FCED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6CB-03D6-4BC7-98E5-CAC5D8E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A65-1EAC-4604-9105-6EB4F1A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FD2-888D-4700-BFE5-B038501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A646-1B47-437C-9501-794A34A04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этесса Евдокия Ростоп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«Меня немного понимали, немного уваж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и, если можно, много любили!.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гила Е.П.Ростопчиной на Пятницком кладбище в Москве (скончалась в 1858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Игорь.28CAA13176574FE\Рабочий стол\Игорь\Презентации\Материалы к презентациям\Е.Ростопчина, поэтесса\rostopchina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.Ходасевич о поэзии Ростопчи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ли вычеркнуть из биографии Ростопчиной все то, что относится к литературной ее деятельности, получится описание самой обычной жизни  барышни и дамы, жившей в первой половине минувшего столетия. Барышня, дама - вот образы, прежде всего встающие перед нами в биографии поэтессы, неког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авной, ныне забыт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стихах ее довольно найдется формальных промахов, плохих рифм, образов, устарелых даже в ее время. Ее поэзия не блистательна, не мудра и не глубока. Это не пышная ода, не задумчивая элегия. Это -- романс, таящий в себе особенное, ему одному свойственное очарование, которое столько же слагается из прекрасного, сколько из изысканно безвкусно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расивость, слегка банальная, -- один из необходимых элементов романса. Пафос его не велик. Но тот, кто поет романс, влагает в его нехитрое содержание всю слегка обыденную драму души страдающей, хоть и прост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наши дни, напряженные, нарочито сложные, духовно живущие не по средствам, есть особая радость в том, чтобы заглянуть в такую душу, полюбить ее чувства, простые и древние, как земля, которой вращенье, очарованье и власть вечно священны и вечно банальны. Ах, как стары и дряхлы те, кому кажутся устарелыми зеленые весны, щелк соловья и лунная ночь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ускай же хоть иногда осеняют их легкими своими крыльями святая простота и родная сестра ее - святая банальнос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08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 и изобра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Википед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yls.su/rostopchina_e_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poets-necropol.narod.ru/rostopchina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rulex.ru/01170386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voskres.ru/literature/library/ganisheva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artclassic.edu.ru/catalog.asp?ob_no=19422&amp;cat_ob_no=1404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одо 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на рисунке П.Соколов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О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меешь ты сердца тревожить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олпу очей остановить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лыбкой гордой уничтожить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лыбкой нежной оживить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меешь ты польстить случайно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 холодной важностью лица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И умника унизить тайно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зяв пылко сторону глупца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в Талисмане стих небрежны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над пучиною мятежной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вободный парус челнока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ы беззаботна и легка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ебя не понял север хладный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 наш круг ты брошена судьбо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божество страны чужо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в день печали миг отрад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М.Ю.Лермонтов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Игорь.28CAA13176574FE\Рабочий стол\Игорь\Презентации\Материалы к презентациям\Е.Ростопчина, поэтесса\Rostopchina_E._P._by_Sokolov_P._F..jpg"/>
          <p:cNvPicPr/>
          <p:nvPr/>
        </p:nvPicPr>
        <p:blipFill>
          <a:blip r:embed="rId1"/>
          <a:stretch/>
        </p:blipFill>
        <p:spPr>
          <a:xfrm>
            <a:off x="676440" y="2039760"/>
            <a:ext cx="36003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хи жизни и твор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одилась графиня Евдокия (Додо) Петровна Сушкова в 1811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ладела 4 иностранными язык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счастливый брак с графом А.Ф.Ростопчиным, сыном московского генерал-губернатор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ноголетний роман с А.Н.Карамзиным (сыном историка), имела от него двух внебрачных дочер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1831г. опубликовала первое стихотворение – «Талисман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дающийся успех среди современников, лестные отзывы Пушкина, Лермонтова, Жуковск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1 – выход первого сборника стихов (лирика любви неразделённой, но непременно изящной и светск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5 – баллада «Насильный брак» (аллегория об отношениях России и Польши), вызвавшая гнев императ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триотические стихи в эпоху Крымск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едии («Возвращение Чацкого в Москву», «Дом сумасшедших»), пьесы (на сценах столичных театров), проза («Очерки большого света», «Счастливая женщина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ихи Е.П.Ростопчи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лис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Есть талисман священный у меня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Храню его: в нём сердца всё именье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 нём цель надежд, в нём узел бытия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Грядущего залог, дней прошлых упоенье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браслет с таинственным замком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кольцо с заветными словами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письмо с признаньем и мольбами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е милым именем наполненный альбом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 перо из белого султан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 портрет под крышею двойной..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 назвать вам талисман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е отгадать вам тайны роковой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не талисман дороже упованья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за него отдам и жизнь, и кровь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ой талисман - воспоминанье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изменная любовь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ман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б он был теперь со мною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аряд бы мой прельщал меня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т его!.. душа моя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олна страданьем и тоскою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я сердце отда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быть кокеткой не ум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он нашёл что я мил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еперь пленять я б не хот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Что в красоте?.. здесь нет его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б он здесь был, я б желала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листать умом и остротой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т его - исчез ум мой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гривость резвая пропа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еселье взор мой не живит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оображенье охладело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Душа и сердце - всё молчит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еперь блистать я б не хот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 чему мне ум?.. здесь нет его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итературный салон Ростопчиной в Петербур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ан ею по приезду в столицу в 1836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уг «литературных аристократов», в салоне постоянно бывали Пушкин, Лермонтов, Вяземский, Жуковский, Плетнев, Одоев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докия обладала магнетической женственностью и была «звездой» б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Изображена здесь на картине худ.Г.Корд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Игорь.28CAA13176574FE\Рабочий стол\Игорь\Презентации\Материалы к презентациям\Е.Ростопчина, поэтесса\Е.П.Ростопчина (худ.Г.Кордик).jpg"/>
          <p:cNvPicPr/>
          <p:nvPr/>
        </p:nvPicPr>
        <p:blipFill>
          <a:blip r:embed="rId1"/>
          <a:stretch/>
        </p:blipFill>
        <p:spPr>
          <a:xfrm>
            <a:off x="566640" y="1600200"/>
            <a:ext cx="381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.Ю.Лермонтов – поклонник и друг поэтес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ГРАФИНЕ РОСТОПЧИ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верю: под одной звездо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ы с вами были рождены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ы шли дорогою одною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ас обманули те же сн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что ж! -- от цели благород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торван бурею страсте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позабыл в борьбе бесплод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реданья юности мое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редвидя вечную разлуку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оюсь я сердцу волю дать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оюсь предательскому зву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ечту напрасную вверять.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ак две волны несутся друж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лучайной, вольною чет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 пустыне моря голубо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х гонит вместе ветер южный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их разрознит где-нибуд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Утеса каменная грудь.: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, полны холодом привычны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и несут брегам различны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ез сожаленья и любви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вой ропот сладостный и томны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вой бурный шум, свой блеск заемны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ласки вечные сво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Игорь.28CAA13176574FE\Рабочий стол\Игорь\Презентации\Материалы к презентациям\Поэзия 1-й пол.19в\Лермонтов (худ.К.А.Горбунов).jpg"/>
          <p:cNvPicPr/>
          <p:nvPr/>
        </p:nvPicPr>
        <p:blipFill>
          <a:blip r:embed="rId1"/>
          <a:stretch/>
        </p:blipFill>
        <p:spPr>
          <a:xfrm>
            <a:off x="4711680" y="1600200"/>
            <a:ext cx="39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итературные субботы в Москв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рубеже 1840-1850-х гг. литературно-артистический салон графини был одним из ярких эпизодов в истории культурной Москв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нову кружка составляли Островский, Мей, Филиппов, Эдельсон, скульптор Рамазанов; артисты сцены: Щепкин и Самарин... Из петербургских писателей бывали Григорович, Тургенев, Майков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астым гостем салона был художник Павел Андреевич Федотов, написавший портрет поэтессы в феврале — мае 1850 года в доме Ростопчиных (сле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Игорь.28CAA13176574FE\Рабочий стол\Игорь\Презентации\Материалы к презентациям\Е.Ростопчина, поэтесса\П.А.Федотов. Портрет графини Е.П.Ростопчиной.1850.jpg"/>
          <p:cNvPicPr/>
          <p:nvPr/>
        </p:nvPicPr>
        <p:blipFill>
          <a:blip r:embed="rId1"/>
          <a:stretch/>
        </p:blipFill>
        <p:spPr>
          <a:xfrm>
            <a:off x="65556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итика в конце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волюционные демокр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.Белинский отметил при «поэтической прелести» пустоту содержания и «служение богу салон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.Добролюбов и Н.Чернышевский осуждали произошедший во взглядах Ростопчиной поворот в 1850-е, обвиняя её в ретроградстве (поэтесса не принимала идеи ни западников, ни славянофилов, дистанцировалась от политических дискуссий, общественных пробле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1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Н.Огарёв «Отступнице» (отрыво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1989000"/>
            <a:ext cx="4041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о вы какому-то француз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вободу поносили вслу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русскую хвалили муз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За подлый склад, за рабский дух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еня тогда вы не узнал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я был рад: я увида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ак низко вы душою пали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не жалко вас. С иною дам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Я расквитался б эпиграммой,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о перед вами смех молчи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грозно речь моя звучи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грешными уст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искренно, тепл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с горькими слез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уда время не ушло!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стреча с А.Дю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1857 графиня тяжело заболе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1858 году с умирающей сорокашестилетней Ростопчиной в Москве познакомился путешествовавший по России Александр Дюма-отец. В своих путевых заметках он записал: «Она произвела на меня тягостное впечатление; на ее прекрасном лице уже отражался тот особый отпечаток, который смерть налагает на свои жертвы... Разговор с очаровательной больною был увлекателен... Графиня пишет как прозой, так и стихами не хуже наших самых прелестных женских гениев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Федор Иванович Тютчев писал в письме, что в тот вечер Дюма стоял перед «милейшей Додо» на коленях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Игорь.28CAA13176574FE\Рабочий стол\Игорь\Презентации\Материалы к презентациям\Е.Ростопчина, поэтесса\duma03.jpg"/>
          <p:cNvPicPr/>
          <p:nvPr/>
        </p:nvPicPr>
        <p:blipFill>
          <a:blip r:embed="rId1"/>
          <a:stretch/>
        </p:blipFill>
        <p:spPr>
          <a:xfrm>
            <a:off x="468360" y="1600200"/>
            <a:ext cx="401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6:13:03Z</dcterms:created>
  <dc:creator>Игорь Витальевич Олин</dc:creator>
  <dc:description/>
  <dc:language>en-US</dc:language>
  <cp:lastModifiedBy>Игорь Витальевич Олин</cp:lastModifiedBy>
  <dcterms:modified xsi:type="dcterms:W3CDTF">2012-01-05T08:18:26Z</dcterms:modified>
  <cp:revision>19</cp:revision>
  <dc:subject/>
  <dc:title>Поэтесса Евдокия Ростопчина</dc:title>
</cp:coreProperties>
</file>