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67E-2965-41DE-AB5C-B1E76370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76E-6038-422E-ABDA-DC015660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712-F48D-44F7-951B-F5316CE6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DFB-7AC1-44FD-B859-2B08B7C9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2CD-9B78-490F-98BA-B55B100C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93E-76F6-4F8E-BEBD-CE9BA9FD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D7E-FEE2-41B5-A46B-6E3027AB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FFC-08DF-4149-82C2-BBB55DCD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C5F-75E6-4187-B2E3-94BFF2EE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3DB-E750-4BB8-937F-E742BBE6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E6D-0DA9-4831-8306-A5B87809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B88-9C33-402D-9D8B-30AC123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AB70-6CE9-4E1E-AF9F-40245D908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этесса Евдокия Ростоп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98989"/>
                </a:solidFill>
                <a:latin typeface="Calibri"/>
              </a:rPr>
              <a:t>«Меня немного понимали, немного уваж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98989"/>
                </a:solidFill>
                <a:latin typeface="Calibri"/>
              </a:rPr>
              <a:t>и, если можно, много любили!.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гила Е.П.Ростопчиной на Пятницком кладбище в Москве (скончалась в 1858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Игорь.28CAA13176574FE\Рабочий стол\Игорь\Презентации\Материалы к презентациям\Е.Ростопчина, поэтесса\rostopchina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.Ходасевич о поэзии Ростопчи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сли вычеркнуть из биографии Ростопчиной все то, что относится к литературной ее деятельности, получится описание самой обычной жизни  барышни и дамы, жившей в первой половине минувшего столетия. Барышня, дама - вот образы, прежде всего встающие перед нами в биографии поэтессы, некогд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лавной, ныне забыт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стихах ее довольно найдется формальных промахов, плохих рифм, образов, устарелых даже в ее время. Ее поэзия не блистательна, не мудра и не глубока. Это не пышная ода, не задумчивая элегия. Это -- романс, таящий в себе особенное, ему одному свойственное очарование, которое столько же слагается из прекрасного, сколько из изысканно безвкусног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расивость, слегка банальная, -- один из необходимых элементов романса. Пафос его не велик. Но тот, кто поет романс, влагает в его нехитрое содержание всю слегка обыденную драму души страдающей, хоть и прост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наши дни, напряженные, нарочито сложные, духовно живущие не по средствам, есть особая радость в том, чтобы заглянуть в такую душу, полюбить ее чувства, простые и древние, как земля, которой вращенье, очарованье и власть вечно священны и вечно банальны. Ах, как стары и дряхлы те, кому кажутся устарелыми зеленые весны, щелк соловья и лунная ночь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ускай же хоть иногда осеняют их легкими своими крыльями святая простота и родная сестра ее - святая банальност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08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 и изображ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Википед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yls.su/rostopchina_e_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poets-necropol.narod.ru/rostopchina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rulex.ru/01170386.ht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voskres.ru/literature/library/ganisheva.ht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artclassic.edu.ru/catalog.asp?ob_no=19422&amp;cat_ob_no=1404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Додо 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на рисунке П.Соколов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О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меешь ты сердца тревожить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олпу очей остановить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лыбкой гордой уничтожить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лыбкой нежной оживить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меешь ты польстить случайно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С холодной важностью лица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И умника унизить тайно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зяв пылко сторону глупца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в Талисмане стих небрежный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над пучиною мятежной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Свободный парус челнока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ы беззаботна и легка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ебя не понял север хладный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 наш круг ты брошена судьбой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божество страны чужой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в день печали миг отрад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М.Ю.Лермонтов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Игорь.28CAA13176574FE\Рабочий стол\Игорь\Презентации\Материалы к презентациям\Е.Ростопчина, поэтесса\Rostopchina_E._P._by_Sokolov_P._F..jpg"/>
          <p:cNvPicPr/>
          <p:nvPr/>
        </p:nvPicPr>
        <p:blipFill>
          <a:blip r:embed="rId1"/>
          <a:stretch/>
        </p:blipFill>
        <p:spPr>
          <a:xfrm>
            <a:off x="676440" y="2039760"/>
            <a:ext cx="36003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ехи жизни и твор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одилась графиня Евдокия (Додо) Петровна Сушкова в 1811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ладела 4 иностранными язык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счастливый брак с графом А.Ф.Ростопчиным, сыном московского генерал-губернатор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ноголетний роман с А.Н.Карамзиным (сыном историка), имела от него двух внебрачных дочер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1831г. опубликовала первое стихотворение – «Талисман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ыдающийся успех среди современников, лестные отзывы Пушкина, Лермонтова, Жуковск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41 – выход первого сборника стихов (лирика любви неразделённой, но непременно изящной и светск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45 – баллада «Насильный брак» (аллегория об отношениях России и Польши), вызвавшая гнев императ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триотические стихи в эпоху Крымской вой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медии («Возвращение Чацкого в Москву», «Дом сумасшедших»), пьесы (на сценах столичных театров), проза («Очерки большого света», «Счастливая женщина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ихи Е.П.Ростопчи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лис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Есть талисман священный у меня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Храню его: в нём сердца всё именье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 нём цель надежд, в нём узел бытия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Грядущего залог, дней прошлых упоенье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 не браслет с таинственным замком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 не кольцо с заветными словами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 не письмо с признаньем и мольбами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е милым именем наполненный альбом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не перо из белого султан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не портрет под крышею двойной..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не назвать вам талисман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е отгадать вам тайны роковой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не талисман дороже упованья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за него отдам и жизнь, и кровь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ой талисман - воспоминанье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неизменная любовь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оман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огда б он был теперь со мною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аряд бы мой прельщал меня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нет его!.. душа моя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Полна страданьем и тоскою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огда я сердце отда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быть кокеткой не уме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он нашёл что я мил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Теперь пленять я б не хоте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Что в красоте?.. здесь нет его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огда б он здесь был, я б желала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листать умом и остротой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нет его - исчез ум мой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гривость резвая пропа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еселье взор мой не живит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оображенье охладело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Душа и сердце - всё молчит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Теперь блистать я б не хоте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 чему мне ум?.. здесь нет его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итературный салон Ростопчиной в Петербур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нован ею по приезду в столицу в 1836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руг «литературных аристократов», в салоне постоянно бывали Пушкин, Лермонтов, Вяземский, Жуковский, Плетнев, Одоев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вдокия обладала магнетической женственностью и была «звездой» б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Изображена здесь на картине худ.Г.Корд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Игорь.28CAA13176574FE\Рабочий стол\Игорь\Презентации\Материалы к презентациям\Е.Ростопчина, поэтесса\Е.П.Ростопчина (худ.Г.Кордик).jpg"/>
          <p:cNvPicPr/>
          <p:nvPr/>
        </p:nvPicPr>
        <p:blipFill>
          <a:blip r:embed="rId1"/>
          <a:stretch/>
        </p:blipFill>
        <p:spPr>
          <a:xfrm>
            <a:off x="566640" y="1600200"/>
            <a:ext cx="381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.Ю.Лермонтов – поклонник и друг поэтес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ГРАФИНЕ РОСТОПЧИН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верю: под одной звездо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ы с вами были рождены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ы шли дорогою одною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ас обманули те же сны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что ж! -- от цели благородн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торван бурею страстей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позабыл в борьбе бесплодн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Преданья юности мое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Предвидя вечную разлуку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оюсь я сердцу волю дать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оюсь предательскому зву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ечту напрасную вверять.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Так две волны несутся друж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Случайной, вольною чет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 пустыне моря голубо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х гонит вместе ветер южный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их разрознит где-нибуд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Утеса каменная грудь.: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, полны холодом привычным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и несут брегам различным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ез сожаленья и любви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Свой ропот сладостный и томный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Свой бурный шум, свой блеск заемны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ласки вечные сво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Игорь.28CAA13176574FE\Рабочий стол\Игорь\Презентации\Материалы к презентациям\Поэзия 1-й пол.19в\Лермонтов (худ.К.А.Горбунов).jpg"/>
          <p:cNvPicPr/>
          <p:nvPr/>
        </p:nvPicPr>
        <p:blipFill>
          <a:blip r:embed="rId1"/>
          <a:stretch/>
        </p:blipFill>
        <p:spPr>
          <a:xfrm>
            <a:off x="4711680" y="1600200"/>
            <a:ext cx="39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итературные субботы в Москв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 рубеже 1840-1850-х гг. литературно-артистический салон графини был одним из ярких эпизодов в истории культурной Москв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снову кружка составляли Островский, Мей, Филиппов, Эдельсон, скульптор Рамазанов; артисты сцены: Щепкин и Самарин... Из петербургских писателей бывали Григорович, Тургенев, Майков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астым гостем салона был художник Павел Андреевич Федотов, написавший портрет поэтессы в феврале — мае 1850 года в доме Ростопчиных (сле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Игорь.28CAA13176574FE\Рабочий стол\Игорь\Презентации\Материалы к презентациям\Е.Ростопчина, поэтесса\П.А.Федотов. Портрет графини Е.П.Ростопчиной.1850.jpg"/>
          <p:cNvPicPr/>
          <p:nvPr/>
        </p:nvPicPr>
        <p:blipFill>
          <a:blip r:embed="rId1"/>
          <a:stretch/>
        </p:blipFill>
        <p:spPr>
          <a:xfrm>
            <a:off x="655560" y="1600200"/>
            <a:ext cx="364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итика в конце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волюционные демокр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.Белинский отметил при «поэтической прелести» пустоту содержания и «служение богу салон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.Добролюбов и Н.Чернышевский осуждали произошедший во взглядах Ростопчиной поворот в 1850-е, обвиняя её в ретроградстве (поэтесса не принимала идеи ни западников, ни славянофилов, дистанцировалась от политических дискуссий, общественных проблем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1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Н.Огарёв «Отступнице» (отрыво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1989000"/>
            <a:ext cx="4041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Но вы какому-то француз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Свободу поносили вслу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 русскую хвалили муз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За подлый склад, за рабский дух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Меня тогда вы не узнал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 я был рад: я увида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Как низко вы душою пали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Мне жалко вас. С иною дам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Я расквитался б эпиграммой,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Но перед вами смех молчит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 грозно речь моя звучи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айтесь грешными устам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айтесь искренно, тепло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айтесь с горькими слезам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уда время не ушло!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стреча с А.Дю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1857 графиня тяжело заболе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1858 году с умирающей сорокашестилетней Ростопчиной в Москве познакомился путешествовавший по России Александр Дюма-отец. В своих путевых заметках он записал: «Она произвела на меня тягостное впечатление; на ее прекрасном лице уже отражался тот особый отпечаток, который смерть налагает на свои жертвы... Разговор с очаровательной больною был увлекателен... Графиня пишет как прозой, так и стихами не хуже наших самых прелестных женских гениев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Федор Иванович Тютчев писал в письме, что в тот вечер Дюма стоял перед «милейшей Додо» на коленях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Игорь.28CAA13176574FE\Рабочий стол\Игорь\Презентации\Материалы к презентациям\Е.Ростопчина, поэтесса\duma03.jpg"/>
          <p:cNvPicPr/>
          <p:nvPr/>
        </p:nvPicPr>
        <p:blipFill>
          <a:blip r:embed="rId1"/>
          <a:stretch/>
        </p:blipFill>
        <p:spPr>
          <a:xfrm>
            <a:off x="468360" y="1600200"/>
            <a:ext cx="401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6:13:03Z</dcterms:created>
  <dc:creator>Игорь Витальевич Олин</dc:creator>
  <dc:description/>
  <dc:language>en-US</dc:language>
  <cp:lastModifiedBy>Игорь Витальевич Олин</cp:lastModifiedBy>
  <dcterms:modified xsi:type="dcterms:W3CDTF">2012-01-05T08:18:26Z</dcterms:modified>
  <cp:revision>19</cp:revision>
  <dc:subject/>
  <dc:title>Поэтесса Евдокия Ростопчина</dc:title>
</cp:coreProperties>
</file>