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ADB-93EC-419B-91C8-3A8F0B82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708-96AC-48F4-A0E1-79A0A24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0F4-3E9C-4610-92C2-245C95C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1FA-9F77-4C83-9077-1C76346F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98BD-6291-45DE-ABFF-9C72581A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0FDB-BB72-4549-94CF-57DF4220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5C6F-1045-406D-9476-9B845DC4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57F6-7BFD-462A-916E-BB15E517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CFBF-CFC7-4205-8241-C5F8D123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8160-10EF-4364-BB72-643D5A5A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0801-D1C6-4428-9572-B826A85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5EE-6D04-439C-96A5-5CDBD680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4965-6F8D-4498-B6B0-4E4655F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5480-25A1-45CE-9341-7BD5C85B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B8AC-6A2C-4F85-B821-C56BF701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ED95-7E4A-485A-831E-A270DA24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14DC-1881-438F-9144-D8B288FC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BFE91-3E7F-4D67-AF2B-BDEA20CE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4FEE-7C7C-461D-A3E0-AEDFDC88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38B5-AEAB-43BE-B974-9BB7852F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757F-047B-410C-8FD0-025A8D39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F295-D9F8-49F4-B997-7348AEC3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A5C-6511-452B-9584-0B99D55A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960C-D360-4FF9-BB19-5118D9E4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6A3F-5D8D-4919-B28C-4AB0FD7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B8F6-C3B0-4A7B-91EF-7BA5ABEA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2EF24-7932-4C99-82E3-C119C50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7895-D8B4-4B0F-86D7-5562E2A0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6201-87A7-41EE-9BAA-0A1A7E1C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2F44-97EF-4A75-B987-75B02EC2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AE5E-AF4A-4B05-8AD5-3B6907FC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023AB-F24C-4EA7-B1CB-1723AA3A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E690-23D5-4A2A-8074-53C7E97F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F0E-F293-442B-A9EE-3710CE1E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525A-023F-44B7-A500-C83C1926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2683-8CB9-436D-95B5-BD40B8EC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5688-BB13-4412-92CA-A5ADEF78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7E07-FA4B-41A3-BBAE-B2E24F94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5A09-8BFA-47B8-BFCD-853954F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3A56-A988-48F6-A9DE-2EEB3416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8D8A5-A282-4600-A60F-DC4D4E98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39447-3C5A-4D5C-8B81-D58126A3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CF8AE-C335-4F16-8E24-03C8A33B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D1112-6A2F-4BF1-A865-FE0708BA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34D-FA3C-4EB3-8D9C-35ABE842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D4CA-7D07-4214-B8F9-7C3531BE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92EFB-6790-491C-A3A7-F36A78BF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36D5-8ABF-4E60-AEB1-B4C0EFFD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785FB-10F9-4419-9D01-5BC25B21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F8A4-B83B-4DF8-AB2C-9BBC0BB7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38D1-647F-43A1-B02A-A5689024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8E5B7-5684-4F34-B994-EDC7B8E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05A8-12BF-42C4-9DBD-BE076CC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E7AA-0FDA-4228-8F65-703CA199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F63A3-8449-49D5-A0EE-01E587DB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8FD-F914-45A1-95E3-5796684B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1255-9ABF-482E-9DD9-338BC4D4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D901-8594-4F74-AD33-5D8B7680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9913D-F694-450E-989D-E1CAC3C1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5302B-7C7E-4426-9205-6CD64DAA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6233-0CEF-4739-AECD-9229E805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29329-B553-47C4-A229-FCC213B4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97662-1150-48B9-B805-7EFC2974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18A45-6845-4421-8C9E-8E72B18A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FC9E4-884F-473D-BC5A-A6A4BD39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5A72-2A1C-4C58-971B-47C3E187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AC4-7E3B-4786-B541-ED571524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7744C-FB3C-4EC3-A7B7-958010A0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F982B-F693-414E-B498-7E729D5C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4A322-DCDB-4C6F-B565-40D7C0A3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F1214-88FA-40E7-88C3-A02743CA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5CA37-1509-444A-8254-E31CF9B0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12D02-6B6E-49E6-806D-5CED671B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19F0C-0B3A-4FFF-AC8C-FFB85208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3F24D-F0F6-4655-80A3-57D26C59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0D0FE-B99A-40EE-820B-A34FF643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86C7D-71DD-4F1F-BC09-77031336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7D4-1360-48C3-AD0B-43F1F141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4470E-9218-4857-8EE8-170DCB7C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DDD3D-4D6E-4BF0-8F9B-C18AA377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B8388-2CF7-4A7A-AD6E-EB6B5CF3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31899-E9DA-4871-9A5B-E215C281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3A95B-4FC1-400D-9AFA-04A6F39D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BB1D-F4C9-4C5B-B469-289119F3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7717-59C4-4EBB-A0C4-C07AF60E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A30C5-592C-422F-BF96-F28CFDA5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4BBA8-4109-405F-8F1A-CAC6E780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D99C6-8BD7-477B-A174-B2F35E7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5CD-A68C-47C4-BEF1-7F64408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2B6BB-F3EA-4C62-A480-07D5194D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666F7-079C-4644-A58C-163A73A0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1C32E-ABE6-4575-878D-BBF4C04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DDD7-6B4F-4F46-9BC8-A118E7C8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0A009-DE71-4EC7-800B-0319D9A0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A701A-55D8-4305-9982-132F1255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C800F-1CB1-4115-AAFA-6682EF6A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B78A-3A50-444A-8D44-80848A35584B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1CA4-CDE4-47EA-ADC6-FB050E3487C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70DD-C578-4EEC-833D-954FA7EDB00D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8824-AEDB-4A2E-AF36-5789395FAB4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36AC-7D75-41CC-8435-BB16F04A56AA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3B34-F6FE-4B31-AF17-48E39E62EDD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36D9-9914-4A53-82A1-D3C9EF778E14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C108-0328-4B8D-A7DB-F5D6D1354C1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230C-B9A3-4B58-A875-D7444F48AADD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363F-77B6-48AC-9AF7-E12E1C580AF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25FE-8C1C-4218-8D8D-05EE8F8E5BDD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9183-1864-4A09-898B-71569D5163B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48FC-EA75-4FA2-9DA8-54F167952DAD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D3FB-73CE-4CC4-8249-EA8C03152D1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6DDF-F9E7-4FE1-A3D8-94130E6D8643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C55B-E499-4198-9436-E8F661DD33F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Урок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9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вести понятия «перемещение», «путь», «траектор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учить определять координаты движущегося тел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Это длина траектории, по которой в течении некоторого времени движется тело. Траектория – линия вдоль которой двигалось тело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Траектории бывают прямолинейные и криволинейны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бозначается – 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Овал 3"/>
          <p:cNvSpPr/>
          <p:nvPr/>
        </p:nvSpPr>
        <p:spPr>
          <a:xfrm>
            <a:off x="1785960" y="4143240"/>
            <a:ext cx="14292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4"/>
          <p:cNvSpPr/>
          <p:nvPr/>
        </p:nvSpPr>
        <p:spPr>
          <a:xfrm>
            <a:off x="5715000" y="4071960"/>
            <a:ext cx="14292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6"/>
          <p:cNvSpPr/>
          <p:nvPr/>
        </p:nvSpPr>
        <p:spPr>
          <a:xfrm flipV="1">
            <a:off x="1805760" y="4143240"/>
            <a:ext cx="3908520" cy="2088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1436760" y="40719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 flipV="1">
            <a:off x="1806480" y="3500280"/>
            <a:ext cx="1122480" cy="66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5"/>
          <p:cNvSpPr/>
          <p:nvPr/>
        </p:nvSpPr>
        <p:spPr>
          <a:xfrm>
            <a:off x="2928960" y="3500280"/>
            <a:ext cx="2806560" cy="592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hape 17"/>
          <p:cNvCxnSpPr>
            <a:stCxn id="378" idx="0"/>
            <a:endCxn id="379" idx="5"/>
          </p:cNvCxnSpPr>
          <p:nvPr/>
        </p:nvCxnSpPr>
        <p:spPr>
          <a:xfrm flipH="1" rot="16200000">
            <a:off x="3821760" y="2178000"/>
            <a:ext cx="51480" cy="3980880"/>
          </a:xfrm>
          <a:prstGeom prst="curvedConnector5">
            <a:avLst>
              <a:gd name="adj1" fmla="val 939436"/>
              <a:gd name="adj2" fmla="val 22022"/>
              <a:gd name="adj3" fmla="val 939436"/>
            </a:avLst>
          </a:prstGeom>
          <a:ln w="38160">
            <a:solidFill>
              <a:srgbClr val="00b050"/>
            </a:solidFill>
            <a:miter/>
          </a:ln>
        </p:spPr>
      </p:cxnSp>
      <p:sp>
        <p:nvSpPr>
          <p:cNvPr id="386" name="Нижний колонтитул 1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2000160"/>
            <a:ext cx="82296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меряется в км, </a:t>
            </a: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см, м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личина скалярная (имеет только численное значение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личные участки пути могут складыватьс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йденный путь всегда величина положительная (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&gt;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3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01320" y="1643040"/>
            <a:ext cx="8504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это вектор, соединяющий начальное положение тела с его последующим положени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означение 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ть вектор перемещения – значит, знать его направление и модул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11480"/>
          </a:xfrm>
          <a:prstGeom prst="rect">
            <a:avLst/>
          </a:prstGeom>
          <a:ln w="0">
            <a:noFill/>
          </a:ln>
        </p:spPr>
      </p:pic>
      <p:cxnSp>
        <p:nvCxnSpPr>
          <p:cNvPr id="392" name="Прямая со стрелкой 5"/>
          <p:cNvCxnSpPr/>
          <p:nvPr/>
        </p:nvCxnSpPr>
        <p:spPr>
          <a:xfrm>
            <a:off x="3143160" y="2928960"/>
            <a:ext cx="2152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Прямая со стрелкой 7"/>
          <p:cNvCxnSpPr/>
          <p:nvPr/>
        </p:nvCxnSpPr>
        <p:spPr>
          <a:xfrm flipV="1">
            <a:off x="3357360" y="4642920"/>
            <a:ext cx="2572200" cy="5724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94" name="Группа 14"/>
          <p:cNvGrpSpPr/>
          <p:nvPr/>
        </p:nvGrpSpPr>
        <p:grpSpPr>
          <a:xfrm>
            <a:off x="2926440" y="4572000"/>
            <a:ext cx="3633480" cy="1011600"/>
            <a:chOff x="2926440" y="4572000"/>
            <a:chExt cx="3633480" cy="1011600"/>
          </a:xfrm>
        </p:grpSpPr>
        <p:sp>
          <p:nvSpPr>
            <p:cNvPr id="395" name="TextBox 8"/>
            <p:cNvSpPr/>
            <p:nvPr/>
          </p:nvSpPr>
          <p:spPr>
            <a:xfrm>
              <a:off x="2926440" y="4929120"/>
              <a:ext cx="38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9"/>
            <p:cNvSpPr/>
            <p:nvPr/>
          </p:nvSpPr>
          <p:spPr>
            <a:xfrm>
              <a:off x="6107760" y="45720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М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11"/>
            <p:cNvSpPr/>
            <p:nvPr/>
          </p:nvSpPr>
          <p:spPr>
            <a:xfrm>
              <a:off x="5002200" y="52153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Прямая со стрелкой 13"/>
            <p:cNvCxnSpPr/>
            <p:nvPr/>
          </p:nvCxnSpPr>
          <p:spPr>
            <a:xfrm>
              <a:off x="5000040" y="5143320"/>
              <a:ext cx="286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99" name="Нижний колонтитул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меряется в км, </a:t>
            </a: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см, м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кторная величина (имеет направление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частки перемещения складываются геометрически (вектор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мещение может равняться нулю (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≧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ть вектор перемещения – значит, знать его направление и модул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сленное значен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02" name="Прямая со стрелкой 6"/>
          <p:cNvCxnSpPr/>
          <p:nvPr/>
        </p:nvCxnSpPr>
        <p:spPr>
          <a:xfrm>
            <a:off x="7500600" y="3285720"/>
            <a:ext cx="14364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§2 учить, ответить на вопросы (устно), записи в тетрад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пр.2 (стр. 12) - устн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§3 учить, разобрать пример задачи, ответить на вопрос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пр.3 (стр. 15) – письменно (практика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7:28:48Z</dcterms:created>
  <dc:creator>Марта</dc:creator>
  <dc:description/>
  <dc:language>en-US</dc:language>
  <cp:lastModifiedBy>Марта</cp:lastModifiedBy>
  <dcterms:modified xsi:type="dcterms:W3CDTF">2012-10-15T18:00:23Z</dcterms:modified>
  <cp:revision>9</cp:revision>
  <dc:subject/>
  <dc:title>Перемещение. Путь. Траектория.</dc:title>
</cp:coreProperties>
</file>