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615-CDB0-41B0-BDC7-B44483E3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DF8-30E9-4772-A476-C7B0F89C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86D-EB69-45C3-A205-6FD4FBA9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FC2-77F4-4B0A-A3FD-CA5263AC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479F-C76B-4438-8343-FCC9B1AC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C53-A31F-4B19-A504-02FD6008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061-372A-48AF-9EE5-DD40E99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4D56-6A1D-4E61-8A1F-AC8A378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3C64-815E-41FB-B25C-EF8F3FA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C83C-E315-41B8-80B1-BAB18A8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6DBE-9ABA-42BF-90CC-E62BD9DB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899-5883-4AC4-8460-2240DD28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D5E-30EB-4020-BD28-CE8998E6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D103-6DF5-49BA-A768-B824E90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761D-294F-40A4-A3C0-68FC3743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7DF-2371-44C2-A126-5617709D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EC4-7FBF-4639-92B8-7DC51363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5E42-98D2-41E0-A131-CB090634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00BD6-F198-4DEF-8A85-2D6DF6C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175C-9F19-456F-9D25-A9BF5AB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01C9-0432-4309-9FA2-1A12A3F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0D63-2CF0-4752-A70E-74899AA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52F-4F5A-4739-8587-43EEAB2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0A33-4B5C-441C-A417-F04EB0F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6FC1-3AC5-4D4E-97F0-D7FD735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CCF5-9996-478F-897A-5F26F04A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4BCD-88B6-4793-80C0-0860571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C924-5689-413F-B5FC-8A91850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91F3-F440-4966-A8EF-3A4324B8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3DE8-1010-46EC-8703-2C84D123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8A8C-7BE5-4367-B3BD-33239C83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4F2D-B056-4819-8664-31084FF5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D09D-05CF-4FD5-B578-DD8AB1C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65E-1103-4F98-86E1-E71127BA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A693-3E45-4051-B8B0-B4DCCD2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C1A6-F6AD-4B46-A061-C2F02EBF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D3CC-EFB5-4C57-B03E-BEE9C70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A0FC-B87D-4E0C-AA33-961B0FF3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7E52-24A2-4532-9666-C263A4B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8D4A-9739-4622-9421-6B6BBDD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5A9A-397D-4D9E-8D48-5C3B10F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6FE3-7192-47AF-A728-C912127C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62DF-65D4-4FA2-A9CD-6E12A438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2E86-158F-4D90-8137-CD878F99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E3C-B7E2-4F46-8E43-6AA2FA1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27F7-8781-4489-AF97-576F900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4A12-96FE-4958-98E0-2A7A098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D5DB-7F02-4593-B202-30A2616C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3716-A959-4ED7-A7CD-6CA83E1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DE92-FAD4-4F39-87A3-C4B7FFE4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E7EA-0960-4FAA-93EA-9D7D0C6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073A-5BC6-4465-BB0B-4B61496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A1D8-5F54-4FB1-B355-1986CB1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A2EB-DB89-4580-9CBA-7C1BE45F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5EE0-1BFE-444A-905B-4DBA9488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910-0EB8-41AE-BBA3-40FFC24C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E4F56-801D-4249-BA76-47BDB3D8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67A3-2CD5-4A67-89DB-2A6AAADB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EA87-F2F3-4180-81AC-6CE505EA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F978-8022-4EB3-9561-254C59D5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8F76-9E65-4344-8AD9-0563828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C7D3-6CD0-4DFE-8580-E467240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2692-2C51-436F-A4FD-3599F4DB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792F-1065-40CE-BDA0-F99D30E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63F3-775A-4A49-8958-34B6050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CE4F-742F-4A3A-839C-A530A36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0D6-2040-415E-8263-CCC5609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31FBF-A482-4DF7-9488-16432C8B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20F92-23C9-4CDD-B6D2-CCBF56FD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35F73-0945-4232-BCFA-C5AA5EBF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DDE41-55F2-44EE-B036-018CF461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606B-B207-43A4-B26D-59193A62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8EF2-6F4C-40C9-89A5-D51C1E1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152C-8EB9-4A0B-ADB2-90E46AAA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9E75-0CD2-4731-88E6-A0B5085D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A77E8-BBB5-4B24-9503-F45B7C3A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94DA-2898-4BC4-A796-1184E1B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685-837E-4753-819D-C31D1B14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503C-6026-464F-9ECE-922FD94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1127-2D04-40AA-89AE-7DE08CE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0B85-94EF-4713-8A88-715099F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E85B-98BE-46B9-94DB-77087FF9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223F-017B-440E-A8FC-71526C50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1BFD1-0D03-499B-8F73-AB1BADFA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D1AA-72E9-459D-93C7-4339479B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D0E63-28A8-4DF0-8A6E-94223873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9F9B-7358-43ED-A33C-927AF80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574D8-C845-4364-9852-186666E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A73-FAA6-4BE1-A9C9-FC559E9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227D-16D7-4607-B2EC-02021A4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7007B-5592-43EE-9172-165FEAA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C29C-BAA9-4613-9378-2CBE4D6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9214-C0F7-418C-B9C2-BB51ADF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F957A-B4B3-4DDA-BFCE-75679AEC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8E5D-AA13-4EBE-9C22-81122A5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E1D27-7A82-4526-A2AE-B3ABEDC5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7E9-3914-49BC-91BC-27235B57AA35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4C88-90D4-48ED-A4EA-A6C83BE367C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CE0-14FE-4823-9BEA-0B31229D0A9F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F58-BBB8-4AF2-A9C5-9E2289D6CAF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6F04-D751-4E1C-9D7D-DBC611ED6BAE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7BF-6DE8-458F-A45C-17A3D1F1C15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1A26-1040-43ED-B885-1510961E51A0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F28-C80D-40E8-9D9D-6C05E84146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25E9-E88F-436E-AB98-0DBF11DDAA3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4645-1A35-4ECB-ADDA-7A4DBDEEAE3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243B-7E6D-4C88-80E1-5BDB39351B15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3DB-E337-4080-A1B0-D208B119870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AFF3-07F6-4CC9-8621-8FA1EB168459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4BCC-C7A2-4D85-8368-BD690AB06A8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F9C-217B-4A61-824C-0898705DDDC8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C02-DA08-43DC-A54E-D19F968E532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рок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9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вести понятия «перемещение», «путь», «траектор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учить определять координаты движущегося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Это длина траектории, по которой в течении некоторого времени движется тело. Траектория – линия вдоль которой двигалось тел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раектории бывают прямолинейные и криволинейны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означается –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Овал 3"/>
          <p:cNvSpPr/>
          <p:nvPr/>
        </p:nvSpPr>
        <p:spPr>
          <a:xfrm>
            <a:off x="1785960" y="414324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5715000" y="407196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 flipV="1">
            <a:off x="1805760" y="4143240"/>
            <a:ext cx="3908520" cy="2088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1436760" y="40719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V="1">
            <a:off x="1806480" y="3500280"/>
            <a:ext cx="1122480" cy="66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2928960" y="3500280"/>
            <a:ext cx="2806560" cy="592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hape 17"/>
          <p:cNvCxnSpPr>
            <a:stCxn id="378" idx="0"/>
            <a:endCxn id="379" idx="5"/>
          </p:cNvCxnSpPr>
          <p:nvPr/>
        </p:nvCxnSpPr>
        <p:spPr>
          <a:xfrm flipH="1" rot="16200000">
            <a:off x="3821760" y="2178000"/>
            <a:ext cx="51480" cy="3980880"/>
          </a:xfrm>
          <a:prstGeom prst="curvedConnector5">
            <a:avLst>
              <a:gd name="adj1" fmla="val 939436"/>
              <a:gd name="adj2" fmla="val 22022"/>
              <a:gd name="adj3" fmla="val 939436"/>
            </a:avLst>
          </a:prstGeom>
          <a:ln w="38160">
            <a:solidFill>
              <a:srgbClr val="00b050"/>
            </a:solidFill>
            <a:miter/>
          </a:ln>
        </p:spPr>
      </p:cxnSp>
      <p:sp>
        <p:nvSpPr>
          <p:cNvPr id="386" name="Нижний колонтитул 1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2000160"/>
            <a:ext cx="82296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личина скалярная (имеет только численное знач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е участки пути могут складыватьс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йденный путь всегда величина положительная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&gt;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3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01320" y="1643040"/>
            <a:ext cx="8504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то вектор, соединяющий начальное положение тела с его последующим положе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означение 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11480"/>
          </a:xfrm>
          <a:prstGeom prst="rect">
            <a:avLst/>
          </a:prstGeom>
          <a:ln w="0">
            <a:noFill/>
          </a:ln>
        </p:spPr>
      </p:pic>
      <p:cxnSp>
        <p:nvCxnSpPr>
          <p:cNvPr id="392" name="Прямая со стрелкой 5"/>
          <p:cNvCxnSpPr/>
          <p:nvPr/>
        </p:nvCxnSpPr>
        <p:spPr>
          <a:xfrm>
            <a:off x="3143160" y="2928960"/>
            <a:ext cx="2152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7"/>
          <p:cNvCxnSpPr/>
          <p:nvPr/>
        </p:nvCxnSpPr>
        <p:spPr>
          <a:xfrm flipV="1">
            <a:off x="3357360" y="4642920"/>
            <a:ext cx="2572200" cy="572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94" name="Группа 14"/>
          <p:cNvGrpSpPr/>
          <p:nvPr/>
        </p:nvGrpSpPr>
        <p:grpSpPr>
          <a:xfrm>
            <a:off x="2926440" y="4572000"/>
            <a:ext cx="3633480" cy="1011600"/>
            <a:chOff x="2926440" y="4572000"/>
            <a:chExt cx="3633480" cy="1011600"/>
          </a:xfrm>
        </p:grpSpPr>
        <p:sp>
          <p:nvSpPr>
            <p:cNvPr id="395" name="TextBox 8"/>
            <p:cNvSpPr/>
            <p:nvPr/>
          </p:nvSpPr>
          <p:spPr>
            <a:xfrm>
              <a:off x="2926440" y="492912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9"/>
            <p:cNvSpPr/>
            <p:nvPr/>
          </p:nvSpPr>
          <p:spPr>
            <a:xfrm>
              <a:off x="6107760" y="45720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11"/>
            <p:cNvSpPr/>
            <p:nvPr/>
          </p:nvSpPr>
          <p:spPr>
            <a:xfrm>
              <a:off x="5002200" y="52153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Прямая со стрелкой 13"/>
            <p:cNvCxnSpPr/>
            <p:nvPr/>
          </p:nvCxnSpPr>
          <p:spPr>
            <a:xfrm>
              <a:off x="5000040" y="5143320"/>
              <a:ext cx="286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99" name="Нижний колонтитул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кторная величина (имеет направл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ки перемещения складываются геометрически (вектор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мещение может равняться нулю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≧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енное значен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2" name="Прямая со стрелкой 6"/>
          <p:cNvCxnSpPr/>
          <p:nvPr/>
        </p:nvCxnSpPr>
        <p:spPr>
          <a:xfrm>
            <a:off x="7500600" y="3285720"/>
            <a:ext cx="14364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2 учить, ответить на вопросы (устно), записи в тетрад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2 (стр. 12) - устн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3 учить, разобрать пример задачи, ответить на вопрос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3 (стр. 15) – письменно (практик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8:48Z</dcterms:created>
  <dc:creator>Марта</dc:creator>
  <dc:description/>
  <dc:language>en-US</dc:language>
  <cp:lastModifiedBy>Марта</cp:lastModifiedBy>
  <dcterms:modified xsi:type="dcterms:W3CDTF">2012-10-15T18:00:23Z</dcterms:modified>
  <cp:revision>9</cp:revision>
  <dc:subject/>
  <dc:title>Перемещение. Путь. Траектория.</dc:title>
</cp:coreProperties>
</file>