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736-440F-4831-987D-8E6EA818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BE9-236E-4258-BBEF-219E427E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D6B-2309-4BC2-AA53-3965893C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9E2-99B9-427F-948E-30F4AFF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E4E-D536-440F-A17F-5FA481D5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FD9D-6E84-49AF-88AE-7B7CC758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21F-04D4-412D-B1BC-B4DF2926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0C62-78C6-4971-B431-DCE500EA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577-66A4-40BD-B23E-B8E63C7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CE56-7735-4FFF-8525-82857335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5954-9E5C-45D5-878C-285A9AA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781-67F7-4B9B-8B2E-B042FF5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8F7D-3C9B-4924-A5D6-B8CC3D6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4BF-0550-43E0-8A7D-C0451733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9ECB-DFF1-4018-8D73-7D85757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778C-F056-4138-8877-9526EAD8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CFCA-2C64-475A-9278-5FCDAAB8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E3E9-692A-42E0-9440-10B45CFD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593D-0488-4CD2-B74D-2C2CD916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A2753-8F32-4373-97A2-F3417EE0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42EA-C55A-4367-8936-5D0E659A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1F7F-7F64-4332-9963-93DA087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A8D-EC5B-4A00-A852-EF0DAF39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8074-FB4C-49A4-ACB2-8425106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EA29-CDE0-4161-B9C0-3DAF94ED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344C-5EC1-488A-8A40-755225BF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6E6E-7434-44B7-B17E-283F57A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20FF-D202-4BB2-B924-2772696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FDD6-F593-4922-AF4D-661826A7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C1AA-6DB9-46A2-90E6-57D8DDA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189A-888A-4A0D-AF30-3D9A6C73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BBA5-4F8C-4747-A4A2-C5AC02F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D233-3ACD-4AED-A7EE-059C7E49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8D9-D8FF-480B-A4DE-D7828E7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161D-6FC5-4A9F-95C2-DC3F1EC5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40793-FFFE-4C62-BEA2-17E3798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6CC8-F867-42DB-A654-6D2CD4A2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C8D6-8310-436D-B86A-40389B5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2237-1C01-46FC-9A7C-030399E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A1B1-B299-462F-A261-4B7B6AA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E7D2-0F29-4C28-884E-E571FF12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269E-234F-4332-BEEE-D50DD61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BAAC-1953-4356-8465-C0FD5292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49D7-BEAC-48A6-9F4F-05E35C97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559-FBF3-4498-9A81-42769ED7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6B378-4091-4F9A-85E2-81857028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FA46-9E56-499D-B894-4DE4B3E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94FE4-FCD4-4547-A670-D8F2B2C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FF6B-8F1D-4E02-889C-84B08EE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542C3-9711-4891-8639-261DDBA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E08D-9233-4888-BCEE-81EC8F2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BD73-EA0F-4F08-8AE5-AF99D8B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D5E2C-6BDE-47AC-9155-0D630D6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532F-EB68-4DAE-ACA2-B6E9E436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D3329-04AA-4346-B87F-36CE925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065-860A-4223-A02B-3A64DDC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1549-5BDA-4D7C-B500-9839B4CF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17C9D-62C9-419F-9D2B-AF91E20F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4D4D4-5CAD-4C43-8A3A-32B4A481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6674-B77C-41F0-B82D-6BB45F5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170F5-991E-4099-88A4-DB92EDCE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E55FE-BFB2-4548-97B2-C2A429B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9730-14A2-47D7-9789-94AB67F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D0A8-A869-4A2A-B4F5-10F0980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89F78-CB62-408F-8F90-0E1409B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6115-808C-4751-8AB9-89E6109F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586-75DF-4EFB-BCAC-38987777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3B2B-7320-4D95-B580-9AC074C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B8655-A26D-4195-B702-5056CBE0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9861-C9E9-4DE1-85F1-C64F5D26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FB0D-85C2-4D1F-8BDD-64326808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E1C38-69E8-47B3-8E0F-16FE755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A756B-4A65-4061-9102-8828889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60C8-908A-4A89-B071-0080896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7B581-D13E-4003-B91E-CC727A5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6047-87CC-4B5C-86D1-D374260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A8EB-AD98-46A0-BBF8-852773FD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A02-F1CB-4E1A-A0C8-300E4AC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E60E-D5AF-4886-A244-4D1B273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3DB0-F589-4001-87C5-50C38F9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2373A-F010-45A0-9B57-DC906B5F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A8573-0C4C-4686-A9B6-3C1F752A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2A22-257D-4BE6-BE98-B7CD000A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DEBAE-8308-4640-86E4-DE0489B2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91A2-EA1A-41A2-95BD-B1CE6C3F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9326-FDA6-41F5-AA00-B8E97B9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BF9C9-0541-4872-9181-64B5830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DF0A-F22F-49AD-B9B1-B8B54A83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EE2-AE80-434D-AFBC-6642FB4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0E6B-59B6-4E6C-A977-928CAE32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F9B25-D04D-468E-ACAB-D683F73C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FA01-2797-4948-B981-1B72BAB1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241D-1ED7-40B0-A813-AFAA4A5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13355-8584-4D21-997A-67781355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02D4D-C884-4329-94EF-BF41291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70B8A-0B25-4940-A753-89E2DB24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1E0C-0329-4347-8D9B-33DE7FA58DD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47C7-9469-4D9B-84AF-7F850175B0E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5EF2-B397-4F62-A393-8F3F5449958B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A04F-F69A-420B-BF7C-3AA1F05588A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A3DB-A500-495C-94EE-A85FE217ED79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DD81-A97B-4EB2-A816-BD8E37A343B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300B-C0E5-4F76-9D68-75C8F00F6498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B518-E482-48F0-AD7B-2729E868F97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D84F-EBCE-4A3C-AC26-67C16DF046F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A87-1B6B-45BC-B6A6-DBA59AAEC6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FB08-00BC-4820-B9E4-3A1E6FBF74BA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7AF5-F923-4FED-8EF3-2D79CAB06EA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24DC-B6D5-48F3-9E60-989B9037AF45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B34C-917C-44CC-B132-585D65D0185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E70-8BE3-46D7-A2CE-05D237E4AE2A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26F-86E7-49CF-8133-6A577A45B50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рок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9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8f0f4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вести понятия «перемещение», «путь», «траектория»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учить определять координаты движущегося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Это длина траектории, по которой в течении некоторого времени движется тело. Траектория – линия вдоль которой двигалось тел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Траектории бывают прямолинейные и криволинейны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бозначается –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Овал 3"/>
          <p:cNvSpPr/>
          <p:nvPr/>
        </p:nvSpPr>
        <p:spPr>
          <a:xfrm>
            <a:off x="1785960" y="414324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5715000" y="4071960"/>
            <a:ext cx="14292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 flipV="1">
            <a:off x="1805760" y="4143240"/>
            <a:ext cx="3908520" cy="2088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7"/>
          <p:cNvSpPr/>
          <p:nvPr/>
        </p:nvSpPr>
        <p:spPr>
          <a:xfrm>
            <a:off x="1436760" y="40719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V="1">
            <a:off x="1806480" y="3500280"/>
            <a:ext cx="1122480" cy="66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2928960" y="3500280"/>
            <a:ext cx="2806560" cy="592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hape 17"/>
          <p:cNvCxnSpPr>
            <a:stCxn id="378" idx="0"/>
            <a:endCxn id="379" idx="5"/>
          </p:cNvCxnSpPr>
          <p:nvPr/>
        </p:nvCxnSpPr>
        <p:spPr>
          <a:xfrm flipH="1" rot="16200000">
            <a:off x="3821760" y="2178000"/>
            <a:ext cx="51480" cy="3980880"/>
          </a:xfrm>
          <a:prstGeom prst="curvedConnector5">
            <a:avLst>
              <a:gd name="adj1" fmla="val 939436"/>
              <a:gd name="adj2" fmla="val 22022"/>
              <a:gd name="adj3" fmla="val 939436"/>
            </a:avLst>
          </a:prstGeom>
          <a:ln w="38160">
            <a:solidFill>
              <a:srgbClr val="00b050"/>
            </a:solidFill>
            <a:miter/>
          </a:ln>
        </p:spPr>
      </p:cxnSp>
      <p:sp>
        <p:nvSpPr>
          <p:cNvPr id="386" name="Нижний колонтитул 1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2000160"/>
            <a:ext cx="82296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личина скалярная (имеет только численное знач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личные участки пути могут складыватьс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йденный путь всегда величина положительная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&gt;</a:t>
            </a: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3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01320" y="1643040"/>
            <a:ext cx="8504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это вектор, соединяющий начальное положение тела с его последующим положе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означение 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11480"/>
          </a:xfrm>
          <a:prstGeom prst="rect">
            <a:avLst/>
          </a:prstGeom>
          <a:ln w="0">
            <a:noFill/>
          </a:ln>
        </p:spPr>
      </p:pic>
      <p:cxnSp>
        <p:nvCxnSpPr>
          <p:cNvPr id="392" name="Прямая со стрелкой 5"/>
          <p:cNvCxnSpPr/>
          <p:nvPr/>
        </p:nvCxnSpPr>
        <p:spPr>
          <a:xfrm>
            <a:off x="3143160" y="2928960"/>
            <a:ext cx="2152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7"/>
          <p:cNvCxnSpPr/>
          <p:nvPr/>
        </p:nvCxnSpPr>
        <p:spPr>
          <a:xfrm flipV="1">
            <a:off x="3357360" y="4642920"/>
            <a:ext cx="2572200" cy="572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94" name="Группа 14"/>
          <p:cNvGrpSpPr/>
          <p:nvPr/>
        </p:nvGrpSpPr>
        <p:grpSpPr>
          <a:xfrm>
            <a:off x="2926440" y="4572000"/>
            <a:ext cx="3633480" cy="1011600"/>
            <a:chOff x="2926440" y="4572000"/>
            <a:chExt cx="3633480" cy="1011600"/>
          </a:xfrm>
        </p:grpSpPr>
        <p:sp>
          <p:nvSpPr>
            <p:cNvPr id="395" name="TextBox 8"/>
            <p:cNvSpPr/>
            <p:nvPr/>
          </p:nvSpPr>
          <p:spPr>
            <a:xfrm>
              <a:off x="2926440" y="492912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9"/>
            <p:cNvSpPr/>
            <p:nvPr/>
          </p:nvSpPr>
          <p:spPr>
            <a:xfrm>
              <a:off x="6107760" y="45720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Lucida Sans Unicode"/>
                </a:rPr>
                <a:t>М</a:t>
              </a: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11"/>
            <p:cNvSpPr/>
            <p:nvPr/>
          </p:nvSpPr>
          <p:spPr>
            <a:xfrm>
              <a:off x="5002200" y="52153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 Unicod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8" name="Прямая со стрелкой 13"/>
            <p:cNvCxnSpPr/>
            <p:nvPr/>
          </p:nvCxnSpPr>
          <p:spPr>
            <a:xfrm>
              <a:off x="5000040" y="5143320"/>
              <a:ext cx="286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9" name="Нижний колонтитул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меряется в км, </a:t>
            </a:r>
            <a:r>
              <a:rPr b="1" lang="ru-RU" sz="2700" spc="-1" strike="noStrike">
                <a:solidFill>
                  <a:srgbClr val="7030a0"/>
                </a:solidFill>
                <a:latin typeface="Lucida Sans Unicode"/>
              </a:rPr>
              <a:t>м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см, м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кторная величина (имеет направление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частки перемещения складываются геометрически (векторно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емещение может равняться нулю (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S≧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нать вектор перемещения – значит, знать его направление и модул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енное значен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402" name="Прямая со стрелкой 6"/>
          <p:cNvCxnSpPr/>
          <p:nvPr/>
        </p:nvCxnSpPr>
        <p:spPr>
          <a:xfrm>
            <a:off x="7500600" y="3285720"/>
            <a:ext cx="14364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2 учить, ответить на вопросы (устно), записи в тетрад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2 (стр. 12) - устн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§3 учить, разобрать пример задачи, ответить на вопрос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пр.3 (стр. 15) – письменно (практик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Анисимова М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8:48Z</dcterms:created>
  <dc:creator>Марта</dc:creator>
  <dc:description/>
  <dc:language>en-US</dc:language>
  <cp:lastModifiedBy>Марта</cp:lastModifiedBy>
  <dcterms:modified xsi:type="dcterms:W3CDTF">2012-10-15T18:00:23Z</dcterms:modified>
  <cp:revision>9</cp:revision>
  <dc:subject/>
  <dc:title>Перемещение. Путь. Траектория.</dc:title>
</cp:coreProperties>
</file>