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2AE-433E-4263-92B9-438286CB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533-3108-4E73-9AC8-05F02790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9A0-550D-47EA-9D04-7281592D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6C4-682F-40F1-9495-1CF5F625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332C-6E8D-4639-8C0B-872966FB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FDBA-7D80-46C7-91C1-8C78B9D3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DAF2-AC5C-4D50-B2BB-0279AA0B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5508-C903-4FDE-890D-32F2BFFB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8747-D9F0-474E-BCE1-CE1AD770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5A1B-E360-40B7-ABDE-2B4A02FD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C43D-4AB9-4F6F-B8D0-E85871F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B34-9CB9-467E-A993-685A521C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8A7F-F5E4-4A69-9F5A-78FC7D92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B74F-43A9-420F-91E4-57C2CD8A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5EF7-3AD5-4142-8F58-46B2CC51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D709-D1FC-4ECF-BD58-D7883F3C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A02A-7CA7-4CE7-A40C-659C1AEE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395-DD16-4DA2-8D5A-635B7B67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009-D658-4248-AFB0-2F9E6AA7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1DD-46BF-4230-82A7-C06EBC47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7D7-30B4-431B-AB6F-41F0DCFD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85C-B779-4022-B99E-693945F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0B7-D445-4C8C-AD57-D0426156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689-5AE8-4948-981C-32A16790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10AF-9FD2-40FD-BADB-A655AE8F90B4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18CA-BBCD-4156-BF1A-BFCF7E6D828A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krasrab.com%2Farchive%2F2008%2F07%2F25%2F07%2Fphoto_5_1%3Fdisplay%3Dpreview&amp;pageurl=http%3A%2F%2Fwww.krasrab.com%2Farchive%2F2008%2F07%2F25%2Farticles&amp;id=88360175&amp;iid=5&amp;imgwidth=520&amp;imgheight=390&amp;imgsize=7482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dr-gazeta.ru/uploads/posts/2009-05/1242095657_10_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Monotype Corsiva"/>
              </a:rPr>
              <a:t>Николай Николаевич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Monotype Corsiva"/>
              </a:rPr>
              <a:t>Еремин -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Monotype Corsiva"/>
              </a:rPr>
              <a:t>врач, поэт, писатель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Выполнила: ученица 3 класса МОУ СОШ №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Тараторкина Полин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r>
              <a:rPr b="1" lang="en-US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Родился в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26 июля 1943 год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г. Свободном Амурской области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7178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1928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Первые стихи были напечатаны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в газете «Красноярски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железнодорожник»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16280"/>
            <a:ext cx="3892320" cy="421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47628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    </a:t>
            </a:r>
            <a:r>
              <a:rPr b="0" lang="en-US" sz="3000" spc="-1" strike="noStrike">
                <a:solidFill>
                  <a:srgbClr val="003366"/>
                </a:solidFill>
                <a:latin typeface="Monotype Corsiva"/>
              </a:rPr>
              <a:t>очень любил читать произведения Пушкина, Лермонтова, Некрасова, зачитывался стихами Есенина, Тютчева, Ахматовой, Цветаевой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118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Книги поэта: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«Качели»,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«Жить да жить»,  «Солнечные акварели»,  «Земные заботы»,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«Я не устану жить»,  «Самоцветы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С 1981 года – член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Союза писателе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3:10:01Z</dcterms:created>
  <dc:creator>User</dc:creator>
  <dc:description/>
  <dc:language>en-US</dc:language>
  <cp:lastModifiedBy>завуч</cp:lastModifiedBy>
  <dcterms:modified xsi:type="dcterms:W3CDTF">2009-12-08T09:45:03Z</dcterms:modified>
  <cp:revision>6</cp:revision>
  <dc:subject/>
  <dc:title>  Благоустройство фойе школы №3</dc:title>
</cp:coreProperties>
</file>