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0476-A84C-4326-9DE4-1DE1D48A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C18C-1DD3-444C-8BA4-2753454F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1F8C-1F13-492B-9FD3-F12A63A5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93A3-F805-4BAB-A6BA-963C97AD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C54E-B4D3-41EB-8816-8BBFD827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2FCC-482D-4D54-A454-BCFC620A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CC32-05F5-40D2-B82C-43508CAA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2CA4-9E20-46FB-9A17-60E05803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EEE8-4A44-42D5-B9C3-1FF9F6FE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F516-BECA-4317-B7ED-B4889B44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8D83-C9A6-4989-941E-2C98042D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A360-7737-4B39-8C61-C3437C58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F57C-E0D4-4D6A-8A77-547C6DFE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9ABE-207B-43C3-916E-BF1F1BBA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3636-38FD-4E72-8EA2-6C2BE406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910B-65D3-4594-891A-1A49C4A7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611E-FD8E-4CE6-B7AB-93CCD2E7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EB2A-BBC3-4470-8437-D3EB9811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10E2-C119-4C0A-B67D-CAB6A58A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DC00-A598-4019-B852-D218D87A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D9F6-098A-4862-BE4B-CDB0A365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C51D-E4D7-4645-856C-D7407B3A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6BC3-869F-494E-B4D4-15C04C51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BBAD-B96C-49F0-B1FF-419C956E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2F2F-E38D-4EA8-9643-54367D36F370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3274-76E8-4C09-B688-7CB68CA7D6FF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&amp;imgurl=http%3A%2F%2Fwww.krasrab.com%2Farchive%2F2008%2F07%2F25%2F07%2Fphoto_5_1%3Fdisplay%3Dpreview&amp;pageurl=http%3A%2F%2Fwww.krasrab.com%2Farchive%2F2008%2F07%2F25%2Farticles&amp;id=88360175&amp;iid=5&amp;imgwidth=520&amp;imgheight=390&amp;imgsize=7482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zdr-gazeta.ru/uploads/posts/2009-05/1242095657_10_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Monotype Corsiva"/>
              </a:rPr>
              <a:t>Николай Николаевич 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Monotype Corsiva"/>
              </a:rPr>
              <a:t>Еремин - 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Monotype Corsiva"/>
              </a:rPr>
              <a:t>врач, поэт, писатель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Выполнила: ученица 3 класса МОУ СОШ №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Тараторкина Полин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Monotype Corsiva"/>
              </a:rPr>
              <a:t>Еремин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Monotype Corsiva"/>
              </a:rPr>
              <a:t>Николай Николаевич</a:t>
            </a:r>
            <a:r>
              <a:rPr b="1" lang="en-US" sz="4800" spc="-1" strike="noStrike">
                <a:solidFill>
                  <a:srgbClr val="003366"/>
                </a:solidFill>
                <a:latin typeface="Monotype Corsiva"/>
              </a:rPr>
              <a:t> </a:t>
            </a:r>
            <a:br>
              <a:rPr sz="4800"/>
            </a:br>
            <a:endParaRPr b="1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51280" y="1599840"/>
            <a:ext cx="303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Monotype Corsiva"/>
              </a:rPr>
              <a:t>Родился в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Monotype Corsiva"/>
              </a:rPr>
              <a:t>26 июля 1943 года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Monotype Corsiva"/>
              </a:rPr>
              <a:t>г. Свободном Амурской области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916280"/>
            <a:ext cx="47178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219280" y="1599840"/>
            <a:ext cx="346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Monotype Corsiva"/>
              </a:rPr>
              <a:t>Первые стихи были напечатаны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Monotype Corsiva"/>
              </a:rPr>
              <a:t>в газете «Красноярский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Monotype Corsiva"/>
              </a:rPr>
              <a:t>железнодорожник»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916280"/>
            <a:ext cx="3892320" cy="4214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9640" y="476280"/>
            <a:ext cx="74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Monotype Corsiva"/>
              </a:rPr>
              <a:t>Еремин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Monotype Corsiva"/>
              </a:rPr>
              <a:t>Николай Николаевич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Monotype Corsiva"/>
              </a:rPr>
              <a:t>Еремин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Monotype Corsiva"/>
              </a:rPr>
              <a:t>Николай Николаевич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Monotype Corsiva"/>
              </a:rPr>
              <a:t>    </a:t>
            </a:r>
            <a:r>
              <a:rPr b="0" lang="en-US" sz="3000" spc="-1" strike="noStrike">
                <a:solidFill>
                  <a:srgbClr val="003366"/>
                </a:solidFill>
                <a:latin typeface="Monotype Corsiva"/>
              </a:rPr>
              <a:t>очень любил читать произведения Пушкина, Лермонтова, Некрасова, зачитывался стихами Есенина, Тютчева, Ахматовой, Цветаевой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61188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Monotype Corsiva"/>
              </a:rPr>
              <a:t>Еремин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Monotype Corsiva"/>
              </a:rPr>
              <a:t>Николай Николаевич</a:t>
            </a:r>
            <a:br>
              <a:rPr sz="4000"/>
            </a:b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Monotype Corsiva"/>
              </a:rPr>
              <a:t>Книги поэта: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Monotype Corsiva"/>
              </a:rPr>
              <a:t>«Качели»,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Monotype Corsiva"/>
              </a:rPr>
              <a:t>«Жить да жить»,  «Солнечные акварели»,  «Земные заботы»,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Monotype Corsiva"/>
              </a:rPr>
              <a:t>«Я не устану жить»,  «Самоцветы»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76160" y="1600200"/>
            <a:ext cx="33991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Monotype Corsiva"/>
              </a:rPr>
              <a:t>Еремин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Monotype Corsiva"/>
              </a:rPr>
              <a:t>Николай Николаевич</a:t>
            </a:r>
            <a:br>
              <a:rPr sz="4000"/>
            </a:b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С 1981 года – член 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Союза писателей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3:10:01Z</dcterms:created>
  <dc:creator>User</dc:creator>
  <dc:description/>
  <dc:language>en-US</dc:language>
  <cp:lastModifiedBy>завуч</cp:lastModifiedBy>
  <dcterms:modified xsi:type="dcterms:W3CDTF">2009-12-08T09:45:03Z</dcterms:modified>
  <cp:revision>6</cp:revision>
  <dc:subject/>
  <dc:title>  Благоустройство фойе школы №3</dc:title>
</cp:coreProperties>
</file>