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C004-F173-4F61-98D4-DF634182D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ACED-EF0E-4E72-88C3-12E567DF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09F6-8C87-46B3-BAAC-ED3337C4B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D56F-BE4B-4460-8DE4-1EEC20BCF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C666-D4F0-4203-A11A-72C06BA74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3634-A939-46F6-869A-2EF553EE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CF2B-1C9E-46FD-A014-0ABFA28F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9127D-2F71-477A-A337-220FDA17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1B17-DEF5-492C-B36D-AF1A978E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A9611-5410-47BB-BBC8-2B58A1790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7F17D-D9FB-472E-ADCD-529A6B88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2330-06F9-401E-8E13-4EE37D21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E4EC-426D-409B-BFBD-B61DAF53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D8C1-9ABB-415B-8562-B85DAB55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DD84-F668-4B5B-A4A0-4107B1E2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67ED-2232-43E8-97ED-42FEB7E1A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0006-A075-46C5-A71A-D27747799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567E-9E87-42E7-9E8D-2B2584A1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3DBC-7FDB-494E-A97A-716B4C23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9243-2AB7-4410-89DD-76D49867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8CF3-B784-4976-8AD1-BAD61998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B7A6-9ECD-4F22-8A0D-0D20EBD1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75EB-7BE8-4010-97F0-B4D98379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D059-A502-491A-8F09-2B3583DA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e4f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1767c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8F19-15C5-4F73-BECC-36E01E687C63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e4f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1767c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39DD-6C42-40AD-9842-FCBA288F0298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go.mail.ru/frame.html?&amp;imgurl=http%3A%2F%2Fwww.krasrab.com%2Farchive%2F2008%2F07%2F25%2F07%2Fphoto_5_1%3Fdisplay%3Dpreview&amp;pageurl=http%3A%2F%2Fwww.krasrab.com%2Farchive%2F2008%2F07%2F25%2Farticles&amp;id=88360175&amp;iid=5&amp;imgwidth=520&amp;imgheight=390&amp;imgsize=74824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zdr-gazeta.ru/uploads/posts/2009-05/1242095657_10_1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  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Monotype Corsiva"/>
              </a:rPr>
              <a:t>Николай Николаевич 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Monotype Corsiva"/>
              </a:rPr>
              <a:t>Еремин - 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Monotype Corsiva"/>
              </a:rPr>
              <a:t>врач, поэт, писатель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  <a:p>
            <a:pPr marL="2775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2775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Выполнила: ученица 3 класса МОУ СОШ №3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2775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Тараторкина Полин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Monotype Corsiva"/>
              </a:rPr>
              <a:t>Еремин 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Monotype Corsiva"/>
              </a:rPr>
              <a:t>Николай Николаевич</a:t>
            </a:r>
            <a:r>
              <a:rPr b="1" lang="en-US" sz="4800" spc="-1" strike="noStrike">
                <a:solidFill>
                  <a:srgbClr val="003366"/>
                </a:solidFill>
                <a:latin typeface="Monotype Corsiva"/>
              </a:rPr>
              <a:t> </a:t>
            </a:r>
            <a:br>
              <a:rPr sz="4800"/>
            </a:br>
            <a:endParaRPr b="1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51280" y="1599840"/>
            <a:ext cx="303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Monotype Corsiva"/>
              </a:rPr>
              <a:t>Родился в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Monotype Corsiva"/>
              </a:rPr>
              <a:t>26 июля 1943 года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Monotype Corsiva"/>
              </a:rPr>
              <a:t>г. Свободном Амурской области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916280"/>
            <a:ext cx="47178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219280" y="1599840"/>
            <a:ext cx="346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Monotype Corsiva"/>
              </a:rPr>
              <a:t>Первые стихи были напечатаны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Monotype Corsiva"/>
              </a:rPr>
              <a:t>в газете «Красноярский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Monotype Corsiva"/>
              </a:rPr>
              <a:t>железнодорожник»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916280"/>
            <a:ext cx="3892320" cy="42145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39640" y="476280"/>
            <a:ext cx="748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Monotype Corsiva"/>
              </a:rPr>
              <a:t>Еремин 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Monotype Corsiva"/>
              </a:rPr>
              <a:t>Николай Николаевич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Monotype Corsiva"/>
              </a:rPr>
              <a:t>Еремин 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Monotype Corsiva"/>
              </a:rPr>
              <a:t>Николай Николаевич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Monotype Corsiva"/>
              </a:rPr>
              <a:t>    </a:t>
            </a:r>
            <a:r>
              <a:rPr b="0" lang="en-US" sz="3000" spc="-1" strike="noStrike">
                <a:solidFill>
                  <a:srgbClr val="003366"/>
                </a:solidFill>
                <a:latin typeface="Monotype Corsiva"/>
              </a:rPr>
              <a:t>очень любил читать произведения Пушкина, Лермонтова, Некрасова, зачитывался стихами Есенина, Тютчева, Ахматовой, Цветаевой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3611880" cy="45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Monotype Corsiva"/>
              </a:rPr>
              <a:t>Еремин 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Monotype Corsiva"/>
              </a:rPr>
              <a:t>Николай Николаевич</a:t>
            </a:r>
            <a:br>
              <a:rPr sz="4000"/>
            </a:b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Monotype Corsiva"/>
              </a:rPr>
              <a:t>Книги поэта: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Monotype Corsiva"/>
              </a:rPr>
              <a:t>«Качели»,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Monotype Corsiva"/>
              </a:rPr>
              <a:t>«Жить да жить»,  «Солнечные акварели»,  «Земные заботы»,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Monotype Corsiva"/>
              </a:rPr>
              <a:t>«Я не устану жить»,  «Самоцветы»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76160" y="1600200"/>
            <a:ext cx="33991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Monotype Corsiva"/>
              </a:rPr>
              <a:t>Еремин 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Monotype Corsiva"/>
              </a:rPr>
              <a:t>Николай Николаевич</a:t>
            </a:r>
            <a:br>
              <a:rPr sz="4000"/>
            </a:b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С 1981 года – член 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Союза писателей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3:10:01Z</dcterms:created>
  <dc:creator>User</dc:creator>
  <dc:description/>
  <dc:language>en-US</dc:language>
  <cp:lastModifiedBy>завуч</cp:lastModifiedBy>
  <dcterms:modified xsi:type="dcterms:W3CDTF">2009-12-08T09:45:03Z</dcterms:modified>
  <cp:revision>6</cp:revision>
  <dc:subject/>
  <dc:title>  Благоустройство фойе школы №3</dc:title>
</cp:coreProperties>
</file>