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B0B3-F23E-4925-8253-7DBFDB36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0333-0432-4BD7-8A17-21AFFE9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818D-B9E7-49CB-9350-31A1506D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5C25-20A9-4D44-8143-E01F208D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3655-9FA7-463C-BEB6-0FA72A58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16C-87E3-4857-916B-E1D9FBA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F4CB-46AD-4806-B9DE-CBD5649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DA12-F5A4-4E3C-9D8E-C58A59B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36C0-B13E-4309-BEA1-57A51C7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A5A7-312B-41DD-8AD3-D679FA29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DAA-717C-42DA-8463-E919C69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0DBB-1714-420D-97B3-7359E7A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E050-CB28-4E38-A8EC-DE873E0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B74-D87B-4156-B942-DE23655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76A-FE31-401B-9E7D-18AEED8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607-23A8-4D45-960E-DD63C97F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D60A-918E-4A44-9671-FD122E88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2843-138B-4403-A763-743879E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EA37-4939-4287-A1E8-E2AAB32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BDBC-769A-46C5-8455-64F6861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2520-BC23-4AFB-8F92-E200EDDA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53E1-E443-41C9-A818-11FF732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A003-3DAE-4F6E-AAB8-5DB1528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9ED5-8CAE-4E1A-A26F-C291DF3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EF8-269D-4BA9-90EC-06A8885742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846-F47D-4254-B5EE-7A6020744E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792080"/>
            <a:ext cx="6019920" cy="21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Нестандартный урок.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Каков он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79680"/>
            <a:ext cx="6019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Arial"/>
              </a:rPr>
              <a:t>Николай Иванович Субботин –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заместитель директора по учебно-методическ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достатки, которые допускаются педагогами при организации нестандартных уро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тихийность и бессистемность  прим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сутствие прогноза положительных изменений, сдвигов в развит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Не все учителя могут определить идею урока, его развивающи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еобладание репродуктивных технологий обученчения; внимание обращается преимущественно на форму, а не на его содер-ж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грузка некоторых уроков учебным матери-алом, нередко фактолог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тандартные уроки восполняют проблемы репродуктивн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достаточность дифференц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бильность струк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формирование субъективных отношений за счет увеличения деятельности учащихся не только на уроке, но и в период его подготов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зменение эмоционального фона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ценивание знаний учащихся на всех этапах урока и т.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Нестандартные уроки предполаг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спользование коллективных способов работы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бязанности распределяются между членами коллектива с учетом их индивидуальных особенностей и интересов в процессе коллективной работы ведется поиск оптимальных способов взаимосвязи членов группы, коррекция деятельности отдельных учащихся, если их действия не согласуются с общим планом коллектив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развитие умений и навыков самостоятельной работы, стремления к самостоятельному поиск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материал, преподнесенный в новой форме, воспринимается как информация, заставляющая задуматься, понять и запомн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заинтересованное отношение к учебному материалу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при подготовке к уроку учащиеся сами ищут интересный материал, находят удивительные факты, вопросы, сочиняют стихи, песни на определенную темат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ктивизация деятельности учащихся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это уже не простые ученики, а активные участни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владение способами управления коллективной деятельностью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уроки учат слушать, анализировать, учиться спорить, убеждать, отстаивать свое мнение, прислушиваться к мнению товарищей, находить быстрый выход в сложившейся ситуации, решать проблемные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становление новых отношений между учителями и учащимися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учащиеся становятся партнерами педагога по творчеству в атмосфере сотрудничества, коллектив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оценка деятельности учащихся их друзьями, товарищами по учебе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эта оценка для них подчас более значима, чем оценка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е принципы нестандартных ур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тношение взаимопонимания с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чение без принуж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трудной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поры для ученика, в качес-тве которой может быть путеводная нить рассказа, правила, способа решения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ценки, как уважительного отношения не только к детскому знанию, но и незнанию, поощрения чувства долга и ответств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амо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оответствующей фо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интеллектуального фона класса и личностного под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ворческие принципы нестандартных уроков (Воронежский опыт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тказ от шаблона в организации урока, от рутины и формализма в пр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аксимальное вовлечение учащихся класса в активную деятельность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 развлекательность, а занима-тельность и увлечение как основа эмоционального тона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ддержка альтернативности, множест-венности м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Развитие функции общения на уроке как условие обеспечения взаимопонимания, побуждения к действию, ощущение эмоционального удовлетво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«Скрытая» (педагогически целесообразная) дифференциация учащихся по учебным возможностям, интересам, способностям и склонност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оценки в качестве форми-рующего ( а не только результатирующего инструм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Группы нестандартных </a:t>
            </a:r>
            <a:br>
              <a:rPr sz="4000"/>
            </a:b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ур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 в форме соревнования и игр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курс, турнир, эстафета (лингвистический бой), дуэль, КВН, деловая игра, ролевая игра, кроссворд, викторина и т.п.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формах, жанрах и методах работы, известных в общественной практике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сследование, изобретательство, анализ первоисточников, комментарии, мозговая атака, интервью, репортаж, реценз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нетрадиционной организации учебного материала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 мудрости, откровение, урок-блок, урок-«дублер» начинает действова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Изменения,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роисходящие в образов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ежняя ориентация на цели госу- дарства сменяется личной ориента-цией его чл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устанавливает образо-вательные стандарты и перестает давать жесткие зак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роки, напоминающие публичные формы общения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есс-конференция, аукцион, бенефис, митинг, регламентированная дискуссия, панорама, телепередача, телемост, рапорт, диалог, «живая газета», устный журнал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пирающиеся на фантазию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-сказка, урок-сюрприз, урок-подарок от Хоттабыча.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снованные на имитации деятельности учреждений и организаций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уд, следствие, трибунал, цирк, патентное бюро, ученый Совет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несенные в рамках урока традиционные формы внеклассной работы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ВН, «следствие ведут знатоки», утренник, спектакль, концерт, инсценировка художественного произведения, диспут, «посиделки», «клуб знатоков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интегрированные уро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рансформация традиционных способов организации урока: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лекция-парадокс, парный опрос, экспресс-опрос, урок-зачет (защита оценки), урок-консультация, защита читательского формуляра, телеурок без телеви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колько советов по подготовке нестандартного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1.Нестандартные уроки следует использовать как итоговые при обобщении и закреплении знаний, умений и навыков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 Слишком частое обращение к подобным формам организации учебного процесса нецелесообразно, так как это может привести к потере устойчивого интереса к учебному предмету и процессу 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3. Нетрадиционному уроку должна предшествовать тщательная подготовка и в первую очередь разработка системы конкретных целей обучения и воспит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4. При выборе форм нетрадиционных уроков преподавателю необходимо учитывать особенности своего характера и темперамента, уровень подготовленности и специфические особенности класса в целом и отдельных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5. Интегрировать усилия учителей при подготовке совместных уроков, целесообразно не только в рамках предметов естественно-математического цикла, но и выходя на предметы гуманитарного цик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6. При проведении нестандартных уроков руководствоваться принципом «с детьми и для детей», ставя одной из основных целей воспитание учащихся в атмосфере добра, творчества, рад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екоменд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Густокашина Л.А. Педагогический анализ урока: учебно-методическое пособие. Пермь: ПКИПКРО, 2009. 72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ременный урок. Часть 2. – Ростов-н/Д: Из-во: «Учитель», 2005. – 28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сем необычный урок: Практическое пособие. Воронеж: ЧП Лакоценин С.С., 2006. – 159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4. – Ростов-н/Д: Из-во: «Учитель», 2007. – 240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5. – Ростов-н/Д: Из-во: «Учитель», 2007. – 20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Юнина Е.А. Технология качествен-ного обучения в школе. Учебно-методическое пособие – М.: Педагогическое общество России, 2007. – 244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перестает быть един-ственным учредителем образова-тельных учрежд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ми принципами образова-тельной политики государства стали гуманизация и демократ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педагогические тенденции </a:t>
            </a:r>
            <a:br>
              <a:rPr sz="3200"/>
            </a:b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(по А.В. Хуторскому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зменение целеполагания в направлении культуросообразности и природоосообраз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силение личностной ориентации содержания и технологий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ндивидуализация образовательных траектори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ворческая и развивающая направленность базового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хнологизация и компьютеризация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 урока начинается учебно-воспитательный процесс, уроком он и заканчивается. Все остальное в школе играет хотя и важную, но вспомогательную роль, дополняя и развивая все то, что закладывается в ходе урока.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онаржевский Ю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Урок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– динамическая и вариативная основная форма организации учебного процесса, при которой в рамках точно установленного времени учитель занимается с определенным составом учащихся – с классом – по твердому расписанию, используя разнообразные методы и средства обучения для решения поставленных задач образования,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рок традиционный –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рок, кото-рый характеризуется порядком, проверенной регламентацией, дис-циплиной, исполнительностью учеников, подчиняющихся учителю; точными очертаниями учебного материала, сложившимися тради-циями и стеореот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— это импровизированное учебное занятие, имеющее нетрадиционную (неустановленную) струк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необычный по замыслу, организации и методике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Основные подх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традиционный урок как отход от четкой структуры комбинированного урока и сочетание разнообразных методических прие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форм урока, появившиеся в последнее время и завоевывающие все более прочные поз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6:27:26Z</dcterms:created>
  <dc:creator>GEG</dc:creator>
  <dc:description/>
  <dc:language>en-US</dc:language>
  <cp:lastModifiedBy>Коля</cp:lastModifiedBy>
  <dcterms:modified xsi:type="dcterms:W3CDTF">2013-04-16T07:48:26Z</dcterms:modified>
  <cp:revision>9</cp:revision>
  <dc:subject/>
  <dc:title>Нестандартный урок.  Каков он?</dc:title>
</cp:coreProperties>
</file>