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41F9-B2E0-4291-8CE6-132D45BF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6DB4-344F-4363-9ABD-7D30DE64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F635-2E8D-435D-A7DC-F0379F3E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E60E-F2FC-4768-B077-E85E7C3C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96AE-7576-4182-8AEE-5DDA4831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A63-C095-4E74-8B65-07432A4B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D58-1E1B-4B76-8B8D-2416805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4559-A2B3-40AC-B7AA-0C1CF00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8BDD-31F8-49CC-BD18-869B1577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188-9503-4C6C-9814-77A5817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714-38D6-4FB8-97B3-2DFE431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15C5-1FD9-48DB-9001-39BAF6AC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770A-79C8-49D6-8D5A-761A89E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5E04-5F1D-4569-B102-5B01ABB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B4D-2EEF-47C8-AFA3-F9043AD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955-FFCC-4A1D-9DFB-F8920C52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2030-85E3-417C-8B0B-E7B64F4F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F3E8-9589-4B80-9AB9-C202DFC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4E6E-31E7-4B98-A6A0-0D4FB4A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5B2E-4F12-45A7-9DAE-3E16ED8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02F4-E619-44BA-B0CC-AF78BEB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8A05-AC41-4865-B3D6-A608BBF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6D4C-EB2A-46C4-AB90-7FF6985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ECB1-E53E-4480-8901-B5AE00EF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D18-730C-4C51-9F5D-CB95E03303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9AC-6692-4505-A25D-134710D2D7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792080"/>
            <a:ext cx="6019920" cy="21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Нестандартный урок.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Каков он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79680"/>
            <a:ext cx="6019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Arial"/>
              </a:rPr>
              <a:t>Николай Иванович Субботин –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заместитель директора по учебно-методическ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достатки, которые допускаются педагогами при организации нестандартных уро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тихийность и бессистемность  прим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сутствие прогноза положительных изменений, сдвигов в развит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Не все учителя могут определить идею урока, его развивающи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еобладание репродуктивных технологий обученчения; внимание обращается преимущественно на форму, а не на его содер-ж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грузка некоторых уроков учебным матери-алом, нередко фактолог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тандартные уроки восполняют проблемы репродуктивн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достаточность дифференц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бильность струк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формирование субъективных отношений за счет увеличения деятельности учащихся не только на уроке, но и в период его подготов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зменение эмоционального фона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ценивание знаний учащихся на всех этапах урока и т.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Нестандартные уроки предполаг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спользование коллективных способов работы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бязанности распределяются между членами коллектива с учетом их индивидуальных особенностей и интересов в процессе коллективной работы ведется поиск оптимальных способов взаимосвязи членов группы, коррекция деятельности отдельных учащихся, если их действия не согласуются с общим планом коллектив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развитие умений и навыков самостоятельной работы, стремления к самостоятельному поиск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материал, преподнесенный в новой форме, воспринимается как информация, заставляющая задуматься, понять и запомн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заинтересованное отношение к учебному материалу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при подготовке к уроку учащиеся сами ищут интересный материал, находят удивительные факты, вопросы, сочиняют стихи, песни на определенную темат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ктивизация деятельности учащихся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это уже не простые ученики, а активные участни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владение способами управления коллективной деятельностью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уроки учат слушать, анализировать, учиться спорить, убеждать, отстаивать свое мнение, прислушиваться к мнению товарищей, находить быстрый выход в сложившейся ситуации, решать проблемные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становление новых отношений между учителями и учащимися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учащиеся становятся партнерами педагога по творчеству в атмосфере сотрудничества, коллектив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оценка деятельности учащихся их друзьями, товарищами по учебе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эта оценка для них подчас более значима, чем оценка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е принципы нестандартных ур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тношение взаимопонимания с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чение без принуж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трудной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поры для ученика, в качес-тве которой может быть путеводная нить рассказа, правила, способа решения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ценки, как уважительного отношения не только к детскому знанию, но и незнанию, поощрения чувства долга и ответств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амо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оответствующей фо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интеллектуального фона класса и личностного под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ворческие принципы нестандартных уроков (Воронежский опыт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тказ от шаблона в организации урока, от рутины и формализма в пр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аксимальное вовлечение учащихся класса в активную деятельность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 развлекательность, а занима-тельность и увлечение как основа эмоционального тона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ддержка альтернативности, множест-венности м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Развитие функции общения на уроке как условие обеспечения взаимопонимания, побуждения к действию, ощущение эмоционального удовлетво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«Скрытая» (педагогически целесообразная) дифференциация учащихся по учебным возможностям, интересам, способностям и склонност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оценки в качестве форми-рующего ( а не только результатирующего инструм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Группы нестандартных </a:t>
            </a:r>
            <a:br>
              <a:rPr sz="4000"/>
            </a:b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ур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 в форме соревнования и игр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курс, турнир, эстафета (лингвистический бой), дуэль, КВН, деловая игра, ролевая игра, кроссворд, викторина и т.п.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формах, жанрах и методах работы, известных в общественной практике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сследование, изобретательство, анализ первоисточников, комментарии, мозговая атака, интервью, репортаж, реценз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нетрадиционной организации учебного материала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 мудрости, откровение, урок-блок, урок-«дублер» начинает действова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Изменения,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роисходящие в образов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ежняя ориентация на цели госу- дарства сменяется личной ориента-цией его чл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устанавливает образо-вательные стандарты и перестает давать жесткие зак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роки, напоминающие публичные формы общения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есс-конференция, аукцион, бенефис, митинг, регламентированная дискуссия, панорама, телепередача, телемост, рапорт, диалог, «живая газета», устный журнал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пирающиеся на фантазию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-сказка, урок-сюрприз, урок-подарок от Хоттабыча.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снованные на имитации деятельности учреждений и организаций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уд, следствие, трибунал, цирк, патентное бюро, ученый Совет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несенные в рамках урока традиционные формы внеклассной работы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ВН, «следствие ведут знатоки», утренник, спектакль, концерт, инсценировка художественного произведения, диспут, «посиделки», «клуб знатоков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интегрированные уро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рансформация традиционных способов организации урока: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лекция-парадокс, парный опрос, экспресс-опрос, урок-зачет (защита оценки), урок-консультация, защита читательского формуляра, телеурок без телеви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колько советов по подготовке нестандартного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1.Нестандартные уроки следует использовать как итоговые при обобщении и закреплении знаний, умений и навыков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 Слишком частое обращение к подобным формам организации учебного процесса нецелесообразно, так как это может привести к потере устойчивого интереса к учебному предмету и процессу 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3. Нетрадиционному уроку должна предшествовать тщательная подготовка и в первую очередь разработка системы конкретных целей обучения и воспит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4. При выборе форм нетрадиционных уроков преподавателю необходимо учитывать особенности своего характера и темперамента, уровень подготовленности и специфические особенности класса в целом и отдельных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5. Интегрировать усилия учителей при подготовке совместных уроков, целесообразно не только в рамках предметов естественно-математического цикла, но и выходя на предметы гуманитарного цик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6. При проведении нестандартных уроков руководствоваться принципом «с детьми и для детей», ставя одной из основных целей воспитание учащихся в атмосфере добра, творчества, рад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екоменд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Густокашина Л.А. Педагогический анализ урока: учебно-методическое пособие. Пермь: ПКИПКРО, 2009. 72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ременный урок. Часть 2. – Ростов-н/Д: Из-во: «Учитель», 2005. – 28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сем необычный урок: Практическое пособие. Воронеж: ЧП Лакоценин С.С., 2006. – 159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4. – Ростов-н/Д: Из-во: «Учитель», 2007. – 240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5. – Ростов-н/Д: Из-во: «Учитель», 2007. – 20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Юнина Е.А. Технология качествен-ного обучения в школе. Учебно-методическое пособие – М.: Педагогическое общество России, 2007. – 244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перестает быть един-ственным учредителем образова-тельных учрежд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ми принципами образова-тельной политики государства стали гуманизация и демократ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педагогические тенденции </a:t>
            </a:r>
            <a:br>
              <a:rPr sz="3200"/>
            </a:b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(по А.В. Хуторскому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зменение целеполагания в направлении культуросообразности и природоосообраз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силение личностной ориентации содержания и технологий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ндивидуализация образовательных траектори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ворческая и развивающая направленность базового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хнологизация и компьютеризация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 урока начинается учебно-воспитательный процесс, уроком он и заканчивается. Все остальное в школе играет хотя и важную, но вспомогательную роль, дополняя и развивая все то, что закладывается в ходе урока.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онаржевский Ю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Урок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– динамическая и вариативная основная форма организации учебного процесса, при которой в рамках точно установленного времени учитель занимается с определенным составом учащихся – с классом – по твердому расписанию, используя разнообразные методы и средства обучения для решения поставленных задач образования,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рок традиционный –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рок, кото-рый характеризуется порядком, проверенной регламентацией, дис-циплиной, исполнительностью учеников, подчиняющихся учителю; точными очертаниями учебного материала, сложившимися тради-циями и стеореот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— это импровизированное учебное занятие, имеющее нетрадиционную (неустановленную) струк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необычный по замыслу, организации и методике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Основные подх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традиционный урок как отход от четкой структуры комбинированного урока и сочетание разнообразных методических прие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форм урока, появившиеся в последнее время и завоевывающие все более прочные поз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6:27:26Z</dcterms:created>
  <dc:creator>GEG</dc:creator>
  <dc:description/>
  <dc:language>en-US</dc:language>
  <cp:lastModifiedBy>Коля</cp:lastModifiedBy>
  <dcterms:modified xsi:type="dcterms:W3CDTF">2013-04-16T07:48:26Z</dcterms:modified>
  <cp:revision>9</cp:revision>
  <dc:subject/>
  <dc:title>Нестандартный урок.  Каков он?</dc:title>
</cp:coreProperties>
</file>