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E199-D9B6-438E-9E9E-57E982EF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2604-8269-4857-92DD-74588F89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C75B-DC68-4A98-867C-A56F3D05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7315-8D8A-404A-A567-F8F12B02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B74F-6815-4C88-9050-8D129DD6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B471-FF66-4A8F-86E6-52F20F6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6827-DB1E-4C35-B6E5-6FE709AA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EC43-306E-4F5B-8C52-CAD73BB3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5FBA-C71B-48B5-9091-3EF7A5DC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9722-5D8A-4CB0-8200-86F7D71E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206E-E22C-444C-B817-CE6F22C9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1191-883E-4776-A742-BCB9F781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B58D-678E-49FF-A7B5-7382E9D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741C-83C8-498A-920F-2CED149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59C9-2C1B-458D-8ADF-34BC0FB9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5609-2038-4F28-AF5A-638CEAA5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8131-81E0-432F-930F-E94AEA55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205D-0520-451B-86C9-79C85C75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BACA-3056-4806-9822-08A7081A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0275-F291-47F1-835B-E21B4BDA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8243-911A-4DCD-951D-A28FE8F2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D640-41E3-4066-94E8-AB1697A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12B8-454F-4788-BCDA-AA65E0AC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4618-8385-4804-B52D-463D97D9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CEB1-8F37-47C9-A8AF-072B89A4F3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C590-0631-467F-B61B-9CD5834D8E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792080"/>
            <a:ext cx="6019920" cy="21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Нестандартный урок.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Каков он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79680"/>
            <a:ext cx="6019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Arial"/>
              </a:rPr>
              <a:t>Николай Иванович Субботин –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заместитель директора по учебно-методическ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достатки, которые допускаются педагогами при организации нестандартных уро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тихийность и бессистемность  приме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тсутствие прогноза положительных изменений, сдвигов в развит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Не все учителя могут определить идею урока, его развивающие возмо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еобладание репродуктивных технологий обученчения; внимание обращается преимущественно на форму, а не на его содер-ж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егрузка некоторых уроков учебным матери-алом, нередко фактолог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стандартные уроки восполняют проблемы репродуктивных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едостаточность дифференци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обильность структу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формирование субъективных отношений за счет увеличения деятельности учащихся не только на уроке, но и в период его подготов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зменение эмоционального фона уро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оценивание знаний учащихся на всех этапах урока и т.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Нестандартные уроки предполаг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использование коллективных способов работы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обязанности распределяются между членами коллектива с учетом их индивидуальных особенностей и интересов в процессе коллективной работы ведется поиск оптимальных способов взаимосвязи членов группы, коррекция деятельности отдельных учащихся, если их действия не согласуются с общим планом коллективного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развитие умений и навыков самостоятельной работы, стремления к самостоятельному поиску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материал, преподнесенный в новой форме, воспринимается как информация, заставляющая задуматься, понять и запомн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заинтересованное отношение к учебному материалу: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при подготовке к уроку учащиеся сами ищут интересный материал, находят удивительные факты, вопросы, сочиняют стихи, песни на определенную темати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активизация деятельности учащихся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: это уже не простые ученики, а активные участники учеб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овладение способами управления коллективной деятельностью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: уроки учат слушать, анализировать, учиться спорить, убеждать, отстаивать свое мнение, прислушиваться к мнению товарищей, находить быстрый выход в сложившейся ситуации, решать проблемные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становление новых отношений между учителями и учащимися: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учащиеся становятся партнерами педагога по творчеству в атмосфере сотрудничества, коллектив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оценка деятельности учащихся их друзьями, товарищами по учебе: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эта оценка для них подчас более значима, чем оценка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Основные принципы нестандартных ур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отношение взаимопонимания с уче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чение без принуж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трудной ц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опоры для ученика, в качес-тве которой может быть путеводная нить рассказа, правила, способа решения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оценки, как уважительного отношения не только к детскому знанию, но и незнанию, поощрения чувства долга и ответств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самоанали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соответствующей фор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нцип интеллектуального фона класса и личностного под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Творческие принципы нестандартных уроков (Воронежский опыт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Отказ от шаблона в организации урока, от рутины и формализма в пр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аксимальное вовлечение учащихся класса в активную деятельность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е развлекательность, а занима-тельность и увлечение как основа эмоционального тона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ддержка альтернативности, множест-венности м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Развитие функции общения на уроке как условие обеспечения взаимопонимания, побуждения к действию, ощущение эмоционального удовлетво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«Скрытая» (педагогически целесообразная) дифференциация учащихся по учебным возможностям, интересам, способностям и склонност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спользование оценки в качестве форми-рующего ( а не только результатирующего инструме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Группы нестандартных </a:t>
            </a:r>
            <a:br>
              <a:rPr sz="4000"/>
            </a:b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уро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уроки в форме соревнования и игр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курс, турнир, эстафета (лингвистический бой), дуэль, КВН, деловая игра, ролевая игра, кроссворд, викторина и т.п.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уроки, основанные на формах, жанрах и методах работы, известных в общественной практике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сследование, изобретательство, анализ первоисточников, комментарии, мозговая атака, интервью, репортаж, реценз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уроки, основанные на нетрадиционной организации учебного материала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рок мудрости, откровение, урок-блок, урок-«дублер» начинает действоват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Изменения,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происходящие в образова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ежняя ориентация на цели госу- дарства сменяется личной ориента-цией его чле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осударство устанавливает образо-вательные стандарты и перестает давать жесткие зака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роки, напоминающие публичные формы общения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ресс-конференция, аукцион, бенефис, митинг, регламентированная дискуссия, панорама, телепередача, телемост, рапорт, диалог, «живая газета», устный журнал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уроки, опирающиеся на фантазию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рок-сказка, урок-сюрприз, урок-подарок от Хоттабыча.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уроки, основанные на имитации деятельности учреждений и организаций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уд, следствие, трибунал, цирк, патентное бюро, ученый Совет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енесенные в рамках урока традиционные формы внеклассной работы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ВН, «следствие ведут знатоки», утренник, спектакль, концерт, инсценировка художественного произведения, диспут, «посиделки», «клуб знатоков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интегрированные уро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трансформация традиционных способов организации урока: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лекция-парадокс, парный опрос, экспресс-опрос, урок-зачет (защита оценки), урок-консультация, защита читательского формуляра, телеурок без телеви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сколько советов по подготовке нестандартного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1.Нестандартные уроки следует использовать как итоговые при обобщении и закреплении знаний, умений и навыков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. Слишком частое обращение к подобным формам организации учебного процесса нецелесообразно, так как это может привести к потере устойчивого интереса к учебному предмету и процессу 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3. Нетрадиционному уроку должна предшествовать тщательная подготовка и в первую очередь разработка системы конкретных целей обучения и воспит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4. При выборе форм нетрадиционных уроков преподавателю необходимо учитывать особенности своего характера и темперамента, уровень подготовленности и специфические особенности класса в целом и отдельных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5. Интегрировать усилия учителей при подготовке совместных уроков, целесообразно не только в рамках предметов естественно-математического цикла, но и выходя на предметы гуманитарного цик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6. При проведении нестандартных уроков руководствоваться принципом «с детьми и для детей», ставя одной из основных целей воспитание учащихся в атмосфере добра, творчества, рад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Рекомендуем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Густокашина Л.А. Педагогический анализ урока: учебно-методическое пособие. Пермь: ПКИПКРО, 2009. 72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ульневич С.В., Лакоценина Т.П. Современный урок. Часть 2. – Ростов-н/Д: Из-во: «Учитель», 2005. – 288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ульневич С.В., Лакоценина Т.П. Совсем необычный урок: Практическое пособие. Воронеж: ЧП Лакоценин С.С., 2006. – 159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коценина Т.П., Алимова Е.Е., Ога-незова Л.М. Современный урок. Часть 4. – Ростов-н/Д: Из-во: «Учитель», 2007. – 240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коценина Т.П., Алимова Е.Е., Ога-незова Л.М. Современный урок. Часть 5. – Ростов-н/Д: Из-во: «Учитель», 2007. – 208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Юнина Е.А. Технология качествен-ного обучения в школе. Учебно-методическое пособие – М.: Педагогическое общество России, 2007. – 244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Государство перестает быть един-ственным учредителем образова-тельных учрежд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Основными принципами образова-тельной политики государства стали гуманизация и демократ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е педагогические тенденции </a:t>
            </a:r>
            <a:br>
              <a:rPr sz="3200"/>
            </a:b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(по А.В. Хуторскому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зменение целеполагания в направлении культуросообразности и природоосообраз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усиление личностной ориентации содержания и технологий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ндивидуализация образовательных траекторий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ворческая и развивающая направленность базового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ехнологизация и компьютеризация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 урока начинается учебно-воспитательный процесс, уроком он и заканчивается. Все остальное в школе играет хотя и важную, но вспомогательную роль, дополняя и развивая все то, что закладывается в ходе урока.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онаржевский Ю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Урок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– динамическая и вариативная основная форма организации учебного процесса, при которой в рамках точно установленного времени учитель занимается с определенным составом учащихся – с классом – по твердому расписанию, используя разнообразные методы и средства обучения для решения поставленных задач образования, развит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Урок традиционный –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рок, кото-рый характеризуется порядком, проверенной регламентацией, дис-циплиной, исполнительностью учеников, подчиняющихся учителю; точными очертаниями учебного материала, сложившимися тради-циями и стеореоти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Нестандартный урок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— это импровизированное учебное занятие, имеющее нетрадиционную (неустановленную) струк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Нестандартный урок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необычный по замыслу, организации и методике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И. Субботин,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Основные подх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традиционный урок как отход от четкой структуры комбинированного урока и сочетание разнообразных методических прие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е форм урока, появившиеся в последнее время и завоевывающие все более прочные поз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6:27:26Z</dcterms:created>
  <dc:creator>GEG</dc:creator>
  <dc:description/>
  <dc:language>en-US</dc:language>
  <cp:lastModifiedBy>Коля</cp:lastModifiedBy>
  <dcterms:modified xsi:type="dcterms:W3CDTF">2013-04-16T07:48:26Z</dcterms:modified>
  <cp:revision>9</cp:revision>
  <dc:subject/>
  <dc:title>Нестандартный урок.  Каков он?</dc:title>
</cp:coreProperties>
</file>