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EE8-42D3-4B84-A304-28DEE6DA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3E5-43C9-4F0C-987C-3A3AC433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58E-CFCF-4EFB-BCA9-BF9988AE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5DB-49BA-468C-955D-C972F254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9A35C-70B5-46D2-A8C0-23FBA396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940D5-B828-456B-92CA-BF2DC17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6E7EA-D9FA-4B29-ADE4-310E4A7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23FD2-DC08-4F74-B6EA-EF3F70DF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6E36-C8DA-4436-B0B6-712C3922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971CA-E22F-43A0-BD21-67BC9661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6A7D6-E273-4768-BD9C-089C83B6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71E-5F77-4047-9473-6961C45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14605-A572-4FCB-A11A-BF5DC084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A173-F250-489A-8469-0A80BEB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E7AD7-AAFF-401F-A5DD-7F39D97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27255-18F0-4B70-B423-563BD1E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5E58E-36F0-467C-A627-6B82A4FA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09A1-0416-4165-8AAF-4A1B0AA2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7107-E770-4F5C-AF27-C5AD695D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CD00-40FE-4D07-A1AB-D531FCF4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1199-1FDB-4FB5-B239-E5247AC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028C-FF62-48FD-A127-6325FC87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600-5C84-4FEC-B021-ABEB9EDF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D5B3-7BBF-4632-985F-16AF3BB3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983B-764E-4971-9398-B598D88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7B54-6B97-46B0-8482-E8AD028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A336-DCB7-4C33-8126-DF9FFDA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9AAD-EBCF-427D-BD5B-DFF3263A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B499-651D-41C2-B956-621EC838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3F25-BE0E-4CC9-9DDC-0FF795EF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A898-C58C-4E5B-9CA0-DC355366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52EA-AF14-4839-A22B-851DD25F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337D-89A0-43BF-B569-36E32AED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127-9CD7-4F12-B314-85E45628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D11D-90CF-4291-AE1B-5D6DCE5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4CBB-8B42-4981-BC99-8C792813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954C-4096-4CF4-9D79-87BECED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2599-24B4-4DBF-AA1F-81D437D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33CE-251F-45CB-8D6A-F7EF685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2B72-3D1F-49C5-9C45-9BF08B8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8F6E-A8CA-49B2-91DA-881B617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6DB8-F68C-4105-8996-9848161E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ACEA-B862-4DC9-BA8D-4C257541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9E6C-C191-4448-B91D-7E9BC9EC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DF0-AE78-48DA-9D4C-BD82B9C5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F88C-0289-444D-8FAB-627C415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E074-E411-4A10-A6BD-6077FB3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B947-7342-4140-8576-7A3219C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E5AA-4F21-4EB8-B38D-ECBBB11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6529-4D9B-4116-9932-83142E44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7868-3E37-4034-BAC3-0BC9526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2315-5F63-48E9-B237-FDEA71E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FAC07-2E3A-417C-B8C4-4166B11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624B-F8FC-4A1C-B97B-36832D1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FE0C-5405-44D1-A395-9F165177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9B6-3F3F-44C1-9D23-5EDC972C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88F9-7487-4039-A967-FCB49B63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CE5CB-3385-411F-89A5-1EFB3C36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6626-6F75-4AED-8476-DA61040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41EF0-FE2C-47B8-924E-0BE7CAAF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EB3A2-4B2A-4389-93BC-22A2CE9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4C3CA-D22E-4ED2-9A2F-E228812F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70B8-3345-4979-8560-751690A4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75A00-70D1-40E6-8A76-286890A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F730-DC27-476C-B2D3-CFBB7DB4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0123-5DBB-49C3-9FEB-79D77146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EE0-02E4-4DCB-B00E-AFBDB46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3F2B-0FCA-4ABE-9B0F-532E4F81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615EE-9C5F-4E6E-BFD2-1EFEF539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062B-D823-457A-AB53-424397A7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C39D-65F5-49C5-92C2-87B87133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81D8-6938-4405-89A3-E9AF05D2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E71ED-4562-4DB1-BBCC-7415F36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0C4F-F532-479B-BFDE-D1E5767E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4FA4D-B0FE-4824-8902-0A99DDB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56C3-FDED-4B85-B11A-6FFD0D1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8164-2203-4BD2-BFD8-3F29F50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A3E-BF2E-46A1-AF4F-BBA0016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83E1B-7E30-4BEA-B1C7-3ACDE75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2EFF0-5ABD-4661-B68F-75552B3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6877-0464-440C-946F-DD476CE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56E8-DB82-49A7-B274-684EE119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49B8-5C63-4077-AC13-12D6AC82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6AC-87E0-4A55-94D9-86EBF7B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E477-9FD6-4682-8F96-AD7DE6D5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7848-6415-4B06-A137-EA7AD2F02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4ACA-C9F8-4730-8921-E3477FD3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5FCF-2230-43D0-A6E4-63289142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12DC-FF04-43FB-B810-15927B98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72B8-AB81-46F9-B161-99E8FBAC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95F-0E8D-41FF-B956-6A77B590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ikompas.ru/img/compas/2008-11-08/mihail_lomonosov/13394442_ori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video.mail.ru/mail/ski.ustkatav.h/90/91.html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go.mail.ru/frame.html?imgurl=http://pux.moy.su/_ph/9/1/915192682.jpg&amp;pageurl=http://pux.moy.su%2Fphoto%2F9&amp;id=31137675&amp;iid=4&amp;imgwidth=130&amp;imgheight=97&amp;imgsize=372463&amp;images_links=b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go.mail.ru/frame.html?imgurl=http://rt.moy.su/_ph/9/1/280492689.jpg&amp;pageurl=http://faza.stsland.ru%2Fpriroda.htm&amp;id=52472838&amp;iid=8&amp;imgwidth=1536&amp;imgheight=1024&amp;imgsize=131577&amp;images_links=b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go.mail.ru/frame.html?imgurl=http://www.nicefoto.ru/tumb.php?type=trash&amp;id=8441.jpg&amp;pageurl=http://kro1975.livejournal.com%2F1382233.html&amp;id=69205929&amp;iid=0&amp;imgwidth=180&amp;imgheight=120&amp;imgsize=169034&amp;images_links=b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5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imgurl=http://smi2.ru/data/images/14830.jpeg&amp;pageurl=http://smi2.ru%2F%3Ftag%3D9034%26of%3D161&amp;id=46249092&amp;iid=3&amp;imgwidth=100&amp;imgheight=56&amp;imgsize=96829&amp;images_links=b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0&amp;text=&#1087;&#1086;&#1088;&#1090;&#1088;&#1077;&#1090;%20&#1057;&#1077;&#1074;&#1077;&#1088;&#1103;&#1085;&#1080;&#1085;&#1072;&amp;img_url=schools.techno.ru%2Fsch758%2F1%2Fi.jpg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imgurl=http://www.axed.ru/main.php?g2_view=core.DownloadItem&amp;g2_itemId=9783&amp;g2_serialNumber=2&amp;pageurl=http://www.bfoto.ru%2Fbfoto_ru_149.php&amp;id=54189324&amp;iid=7&amp;imgwidth=864&amp;imgheight=581&amp;imgsize=203008&amp;images_links=b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Tahoma"/>
              </a:rPr>
              <a:t>«На урок – с </a:t>
            </a:r>
            <a:r>
              <a:rPr b="1" i="1" lang="en-US" sz="5400" spc="-1" strike="noStrike">
                <a:solidFill>
                  <a:srgbClr val="33cccc"/>
                </a:solidFill>
                <a:latin typeface="Tahoma"/>
              </a:rPr>
              <a:t>И.Буниным</a:t>
            </a:r>
            <a:r>
              <a:rPr b="0" lang="en-US" sz="4800" spc="-1" strike="noStrike">
                <a:solidFill>
                  <a:srgbClr val="33cccc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Обобщение знаний о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составных предложения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ва Н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СОШ №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ЭПИТЕТЫ, МЕТАФО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ЛАДКИЙ ВЗДОХ», «ЖЕМЧУЖНЫЙ ИНЕЙ», «СВЕЖЕЕ УТРО», «СВЕЖИЙ ЗАПАХ ЯНВАРСКОЙ МЕТЕЛИ», «СВЕЖЕЮТ С КАЖДЫМ ДНЕМ И МОЛОДЕЮТ СОСНЫ», «ВЕЕТ ЛЕГКОЙ СВЕЖЕСТЬ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ИНОНИМЫ: ЗЫБКО, СМУТНО, НЕЯСНО, НЕОТЧЕТЛИ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4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ОДНОСОСТАВНЫЕ      </a:t>
            </a:r>
            <a:br>
              <a:rPr sz="4000"/>
            </a:b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           ПРЕД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КАКИЕ ПРЕДЛОЖЕНИЯ НАЗЫВАЮТСЯ ОДНОСОСТАВ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НАЙДИТЕ ТАКИЕ ПРЕДЛОЖЕНИЯ В ТЕКСТЕ БУНИНА И ВЫПИШИТЕ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ОПРЕДЕЛИТЕ ВИДЫ ЭТИХ ПРЕДЛОЖ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cc"/>
                </a:solidFill>
                <a:latin typeface="Tahoma"/>
              </a:rPr>
              <a:t>           </a:t>
            </a:r>
            <a:r>
              <a:rPr b="1" i="1" lang="en-US" sz="4400" spc="-1" strike="noStrike">
                <a:solidFill>
                  <a:srgbClr val="33cccc"/>
                </a:solidFill>
                <a:latin typeface="Tahoma"/>
              </a:rPr>
              <a:t>«ОТГАДАЙ-К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В.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Умолчание местоимений личных перед спрягаемыми глаголами к украшению и важности служ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492280"/>
            <a:ext cx="3311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7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О каких предложениях идет 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речь?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Приведите примеры таких предложений из текста 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И.А.Бун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1356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Дайте характеристику определенно-личным предложения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Придумайте рисунок для этого вида предлож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90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073240" cy="2663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7183440" y="1700280"/>
            <a:ext cx="1960560" cy="2519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Мальчик дарит девочке плюшевого медведя"/>
          <p:cNvPicPr/>
          <p:nvPr/>
        </p:nvPicPr>
        <p:blipFill>
          <a:blip r:embed="rId4"/>
          <a:stretch/>
        </p:blipFill>
        <p:spPr>
          <a:xfrm>
            <a:off x="3564000" y="4005360"/>
            <a:ext cx="2376360" cy="22827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ОПРЕДЕЛЕННО-ЛИЧНЫЕ ПРЕДЛОЖЕНИЯ</a:t>
            </a:r>
            <a:br>
              <a:rPr sz="4000"/>
            </a:b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  Я                                         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0292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аго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1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д. и мн.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аголы 2 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д. и мн.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В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              </a:t>
            </a: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«Отгадай-ка!»</a:t>
            </a:r>
            <a:br>
              <a:rPr sz="4000"/>
            </a:b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М.Пеш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0" y="2349360"/>
            <a:ext cx="4316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Действующее лицо намеренно устране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меренно представляется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известн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пределенно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А.М.Пешковский"/>
          <p:cNvPicPr/>
          <p:nvPr/>
        </p:nvPicPr>
        <p:blipFill>
          <a:blip r:embed="rId2"/>
          <a:stretch/>
        </p:blipFill>
        <p:spPr>
          <a:xfrm>
            <a:off x="1042920" y="1844640"/>
            <a:ext cx="29671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9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4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О каких предложениях идет речь?</a:t>
            </a:r>
            <a:br>
              <a:rPr sz="3600"/>
            </a:b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Найдите подобные предложения в текс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Охарактеризуйте неопределенно-личные предлож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Придумайте рисунок для этого вида предлож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100"/>
                            </p:stCondLst>
                            <p:childTnLst>
                              <p:par>
                                <p:cTn id="3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700"/>
                            </p:stCondLst>
                            <p:childTnLst>
                              <p:par>
                                <p:cTn id="4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00411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545080" cy="3483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5660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ни</a:t>
            </a:r>
            <a:br>
              <a:rPr sz="40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лаголы 3 лица мн.ч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33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НЕОПРЕДЕЛЕННО-ЛИЧНЫЕ</a:t>
            </a:r>
            <a:br>
              <a:rPr sz="3600"/>
            </a:b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            ПРЕДЛОЖЕНИ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43588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Tahoma"/>
              </a:rPr>
              <a:t>Какие односоставные предложения нами не назв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Прочитайте их, дайте характеристику и нарисуйте, к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вы их себе представля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2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0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4360" y="1844640"/>
            <a:ext cx="3024000" cy="2952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1413000"/>
            <a:ext cx="2016360" cy="1584360"/>
          </a:xfrm>
          <a:prstGeom prst="irregularSeal1">
            <a:avLst/>
          </a:prstGeom>
          <a:solidFill>
            <a:srgbClr val="eac302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2997360"/>
            <a:ext cx="287280" cy="720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997360"/>
            <a:ext cx="289080" cy="6476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1476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Безличны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3 лицо ед ч. безличных и личных глаго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форма среднего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финит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5076720" y="0"/>
            <a:ext cx="33116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Назыв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НОЧЬ. УЛИЦА. ФОНАРЬ. АПТ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BG101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537080" cy="504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Ночь. Улица. Фонарь. Аптека."/>
          <p:cNvPicPr/>
          <p:nvPr/>
        </p:nvPicPr>
        <p:blipFill>
          <a:blip r:embed="rId3"/>
          <a:stretch/>
        </p:blipFill>
        <p:spPr>
          <a:xfrm>
            <a:off x="4643280" y="2276640"/>
            <a:ext cx="3888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ЛИШЬ СЛОВУ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                              ЖИЗНЬ ДАНА</a:t>
            </a:r>
            <a:br>
              <a:rPr sz="4400"/>
            </a:b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                                      И.А.Буни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2770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САМОДИКТАНТ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ПО ПАМЯТИ ЗАПИШИТЕ БЕЛИЧНЫЕ И НАЗЫВНЫЕ ПРЕДЛОЖЕНИЯ ИЗ ПРОИЗВЕДЕНИЙ И.А.БУНИНА, КОТОРЫЕ ВЫ ПОДОБРАЛИ САМОСТОЯТЕЛЬНО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1" name="" descr="Иван Бунин"/>
          <p:cNvPicPr/>
          <p:nvPr/>
        </p:nvPicPr>
        <p:blipFill>
          <a:blip r:embed="rId2"/>
          <a:stretch/>
        </p:blipFill>
        <p:spPr>
          <a:xfrm>
            <a:off x="179280" y="4437000"/>
            <a:ext cx="203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Возможные варианты    предлож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манный серп, неясный полумрак,     Свинцово-тусклый блеск железной крыши,     Шум мельницы, далекий лай собак,     Таинственный зигзаг летучей мыш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«Апрель»)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Виде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500280"/>
            <a:ext cx="2590920" cy="1935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916280"/>
            <a:ext cx="2593800" cy="172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5013360"/>
            <a:ext cx="23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РВЫЙ УТРЕНН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РЕБРЯНЫЙ МОРОЗ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ИШИНА И ЗВОНКИЙ ХОЛОД НА ЗА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27280" cy="2303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27280" y="692280"/>
            <a:ext cx="2881440" cy="2444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5292720" y="1628640"/>
            <a:ext cx="2952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Возможные варианты предлож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5554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имним холодом пахну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оля и на л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рким пурпуром зажгли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 закатом неб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«Первый снег»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26828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205000" cy="3240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72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ПРЕКРАСНЫЕ СТРОКИ НАПИСАНЫ БУНИНЫМ: ЧТО НИ СЛОВО, ТО ЧУДЕСНАЯ КАРТИНА!</a:t>
            </a:r>
            <a:br>
              <a:rPr sz="4000"/>
            </a:b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КАК ЖЕ УДАЕТСЯ ПИСАТЕЛЮ ТВОРИТЬ ЭТИ ЧУДЕСА СО СЛОВОМ?</a:t>
            </a:r>
            <a:br>
              <a:rPr sz="4000"/>
            </a:br>
            <a:r>
              <a:rPr b="1" lang="en-US" sz="4000" spc="-1" strike="noStrike">
                <a:solidFill>
                  <a:srgbClr val="eac302"/>
                </a:solidFill>
                <a:latin typeface="Tahoma"/>
              </a:rPr>
              <a:t>(АНАЛИЗ ВЫРАЗИТЕЛЬНО-ИЗОБРАЗИТЕЛЬНЫХ СРЕДСТВ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ТВОР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8785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ЧЕМ ЛЮДИ ВЕДУТ ДНЕВН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ЧИТАЙТЕ ОТРЫВКИ ИЗ ДНЕВ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.А.БУНИНА. (карточ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ЛАЙТЕ НЕСКОЛЬКО ДНЕВНИК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ИСЕЙ, ПОДОБНО БУНИ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УЙТЕ ПРИ ЭТ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НОСОСТАВНЫЕ ПРЕД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ЫХ В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785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В его стихах – веселая капель,</a:t>
            </a:r>
            <a:br>
              <a:rPr sz="2800"/>
            </a:b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Откосы гор, блестящие слю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И спетая березой молод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Песнь солнышку, и вешн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куп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Прозрачен стих, как севе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апр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То он бежит проточною во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То теплится студеною звезд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В нем есть какой-то бодрый, трез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хмел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И.Северя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1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0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1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c302"/>
                </a:solidFill>
                <a:latin typeface="Times New Roman"/>
              </a:rPr>
              <a:t>«Синтаксическая пятиминутка»</a:t>
            </a:r>
            <a:br>
              <a:rPr sz="3600"/>
            </a:br>
            <a:r>
              <a:rPr b="1" lang="en-US" sz="2800" spc="-1" strike="noStrike">
                <a:solidFill>
                  <a:srgbClr val="eac302"/>
                </a:solidFill>
                <a:latin typeface="Times New Roman"/>
              </a:rPr>
              <a:t>Пунктуационный разбор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c302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«</a:t>
            </a:r>
            <a:r>
              <a:rPr b="1" i="1" lang="en-US" sz="2800" spc="-1" strike="noStrike">
                <a:solidFill>
                  <a:srgbClr val="724f2c"/>
                </a:solidFill>
                <a:latin typeface="Times New Roman"/>
              </a:rPr>
              <a:t>ПОЭЗИЯ И ПРОЗА БУНИНА – ЭТО ЛИРИКА РОДНЫХ МЕСТ, МОТИВЫ ДЕРЕВЕНСКОЙ И УСАДЕБНОЙ ЖИЗНИ, ТОНКАЯ ЖИВОПИСЬ ПРИРОДЫ</a:t>
            </a:r>
            <a:r>
              <a:rPr b="1" i="1" lang="en-US" sz="2800" spc="-1" strike="noStrike">
                <a:solidFill>
                  <a:srgbClr val="724f2c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c302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c302"/>
                </a:solidFill>
                <a:latin typeface="Times New Roman"/>
              </a:rPr>
              <a:t>А.Т.Твард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Твардовский А. Т."/>
          <p:cNvPicPr/>
          <p:nvPr/>
        </p:nvPicPr>
        <p:blipFill>
          <a:blip r:embed="rId1"/>
          <a:stretch/>
        </p:blipFill>
        <p:spPr>
          <a:xfrm>
            <a:off x="6227640" y="2637000"/>
            <a:ext cx="20876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ПРОВЕРЬ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.                СУЩ.          ТИРЕ МЕЖ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ЛЕЖАЩИМ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                   ,      ,        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веств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родн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234936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924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29242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306864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234936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41497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653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4581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4797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0364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47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0" y="4581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479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88000" y="41497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365720"/>
            <a:ext cx="5763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11280" y="4365720"/>
            <a:ext cx="5763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365720"/>
            <a:ext cx="72072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724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32360" y="4365720"/>
            <a:ext cx="64764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2360" y="472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4292640"/>
            <a:ext cx="64764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6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6000" y="47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Tahoma"/>
              </a:rPr>
              <a:t>«В его стихах веселая капель…»</a:t>
            </a:r>
            <a:br>
              <a:rPr sz="3600"/>
            </a:br>
            <a:r>
              <a:rPr b="1" i="1" lang="en-US" sz="3600" spc="-1" strike="noStrike">
                <a:solidFill>
                  <a:srgbClr val="33cccc"/>
                </a:solidFill>
                <a:latin typeface="Arial"/>
              </a:rPr>
              <a:t>                                        И.Северян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924360" y="1483920"/>
            <a:ext cx="468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аждый рассказ, каждая повесть, каждое стихотворение Бунина – это раздумья писателя о жизни, о мире, обо всем, чем живет человек, и, конечно, о России. «До боли в сердце» любит он темные аллеи и поля с поющими жаворонками, зимние вьюги и апрельские светлые вечера. Бунин – необыкновенный мастер русского пейза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989000"/>
            <a:ext cx="19209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РАБОТА С ТЕКСТОМ</a:t>
            </a:r>
            <a:br>
              <a:rPr sz="4400"/>
            </a:b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И.Бунина «Последняя весна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3588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Шестая неделя, а еще  совсем зима. Встал в пять часов, оделся и вышел из дому. Какая радость, молодость, этот предрассветный час!  Валенки, полушубок – все счастье. Ещё ночь, глухо, снежно. В темном небе только чудится рассвет. Первый сладкий вздох свежестью, когда вышел на крыльцо. Пахнет новым снег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ля очень белы. Их белизна сливается с бледно-серым небом, погружает в оцепенение. Вдали все смутно, зыбко. Черно сереют инеем ле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Знаменское заехали с задов. Глушь, пустота, все занесено сне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125360"/>
            <a:ext cx="67690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ВОПРОС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впечатление произвел текс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писатель выбирает именно такое выражение – «сладкий вздох»? Как называется это изобразительное средств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«вздох свежестью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это за счастье – «валенки и полушубок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ы понимаете выражение «рассвет только чудится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8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4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65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ВОПРОС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ъясните смысл предложения: «… их белизна, сливаясь с бледно-серым небом, погружает в оцепенени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Черно сереют инеем леса». А почему Бунин не сказал: «… в жемчужном инее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дберите синонимы к слову «зыбк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акое, по-вашему, слово у Бунина чаще всего встречается? Выпишите, подберите эпитеты в стиле Бунина, придумайте свои вариа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30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850"/>
                            </p:stCondLst>
                            <p:childTnLst>
                              <p:par>
                                <p:cTn id="2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50"/>
                            </p:stCondLst>
                            <p:childTnLst>
                              <p:par>
                                <p:cTn id="2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9:35Z</dcterms:created>
  <dc:creator>Денис</dc:creator>
  <dc:description/>
  <dc:language>en-US</dc:language>
  <cp:lastModifiedBy>Денис</cp:lastModifiedBy>
  <dcterms:modified xsi:type="dcterms:W3CDTF">2009-05-17T17:03:41Z</dcterms:modified>
  <cp:revision>46</cp:revision>
  <dc:subject/>
  <dc:title>«На урок – с И.Буниным»</dc:title>
</cp:coreProperties>
</file>