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E41-D63F-4A65-8D85-7C7B9244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4CE-332B-42CC-94D1-FE970FA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664-D1EE-48A6-9D99-F8639907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E0E-85F5-4ACC-96DA-8B3F3DD1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E503D-6960-4D03-9295-9D658B26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252C-D782-4699-A7C8-3F4A4402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9BB1B-A7C5-429F-A09C-34E1172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A8E32-607D-4C59-A840-445DB0B8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32A70-9CF0-4CAC-9EFD-A0D1B5AC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E4900-7DAE-41C8-823D-7DDCF48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F776A-F022-471F-8FC0-A2E19695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5AB-F7BA-488B-B257-86E4BD1E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83FFF-C915-422B-AB20-6A99071F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56894-A9A4-4E88-A62C-F6AF524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00F2F-5A05-4B8F-93E2-A474A3F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D7F6C-75CC-48A2-A06D-4B48BD58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B8781-4411-44E2-B113-9482AFE2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559E-58D0-4CF2-98A4-D3740BFB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C25F-1FE0-44F3-9B9C-2C217248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192C-BDB9-46E1-9552-68EEEAE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7F13-CFD5-4EF1-A879-10D527F0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C972-8EB5-4492-98EE-03DAEB1C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47E-274A-4CE6-9C8C-FC94A79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E4B4-CB1C-4527-83E8-8D563594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43A9-679C-4E13-A42E-8102A9A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E9CD-E6AA-4F47-8AD9-A4BC886C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269C-07A1-413D-B98B-D79DF90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2A61-CE31-4E22-940C-7A874192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D7DB-8BE3-4C5F-8C64-D6403F98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E306-E09D-4CF9-B3B9-0DF564CD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958C-B0FE-4754-9D0A-B46849A4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1918-B659-4A33-ADD5-E6A21DFC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D7EF-99FE-4EED-BD0A-3284EFF3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3D4-2BF9-4758-A77B-25C35C9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57738-9627-416B-9F3B-B2BBC1F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A4BF0-56CF-4119-B9B8-64A804F8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DCD8-119A-46EB-8D33-3A857BC6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6475E-90A4-48F6-9067-ABCCA7D5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F6349-5FBF-4DE9-81D9-61B587B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C6EE-FB61-442C-8BB6-746D09A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29B5-87CD-49F5-9DB2-E9ECFE5B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6784-A429-4405-88B9-85ED2418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B7D0-29EF-4AA1-8D13-5210F742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CD6B9-43B6-4285-B351-9E47210C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CD3-6737-4558-A505-AEA6D544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262AC-C77A-4084-9780-9161732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5283-C272-40FA-8D5E-0675092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BB339-3369-4FD4-9CB5-0269FD79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E01B-9A90-43CF-A4E8-B454883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228C-B18F-4BD4-8024-B49AE81A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DAC01-293F-426F-8B23-EED79D8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B545-02E2-4EC6-B731-34BB5A42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018B-FAB6-4C03-A4CE-13843692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31D43-11F9-46C3-B4F4-1D18E5C9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E6A7-8AA1-479F-ACDC-42C84DF6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B74-0400-4E55-AC12-72E59B76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AF68-143F-4F62-A13A-0E7FCE3B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67E50-E813-4761-AC38-F36F933B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AC54F-2035-4988-862B-C2A765AE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8BCD7-4BE5-4382-A8E3-357EF582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5F6F4-5E32-48C3-BB18-7289BD45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952AB-509A-438B-B443-FC3CEC5B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DE422-5832-4EDA-9BE5-C9DE65D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CCB6-340C-46C2-B464-25ABE96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B3021-344B-4960-9782-D927995D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93C4-0BCB-4984-904E-7DB4C00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1E0-97B5-4247-B73D-229CA3D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98F6-CA50-4D92-AF2D-5727E8F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6CC9-2468-40C1-B85A-A4232863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7AFF4-CA8A-4C35-B489-6DEEC3CA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A61D-063F-4C0B-93D5-8C40FF23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1FEC-BA4E-413A-99F7-6E78581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CFCD8-77DF-48FD-88B5-FC9E7E8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FB07-867B-438E-AE26-4450B38D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6BAA2-9479-413C-8D01-E8783F0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3195-7A0F-4FCE-98B4-9E376C6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511C2-D7E9-495B-A2F2-EEE9F640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DAF-CF09-472D-BAE5-2FE9ED35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47E5-7F0D-4F83-9346-826D796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4F79A-C7AC-4098-9315-78CDB4C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605A-8EAC-4BA0-9D0D-B6EF26EE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3BEF8-3DA8-41C8-B580-2FA3BE57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47488-D995-4A04-8C05-54E62990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FBE-0DED-44C4-9211-18568FB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1C43-1C70-437B-8523-73687CA12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9001-28F6-46D3-B322-F984398D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7D0-3F6E-484A-807A-6C369609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0B7-00B6-467E-B291-2C83BA759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301-2FEC-4EF6-851E-CA414C9DB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CBDD-3D49-43C6-9D97-71515F916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AECA-BE71-47CD-95C0-E7B97884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ikompas.ru/img/compas/2008-11-08/mihail_lomonosov/13394442_ori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video.mail.ru/mail/ski.ustkatav.h/90/91.html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go.mail.ru/frame.html?imgurl=http://pux.moy.su/_ph/9/1/915192682.jpg&amp;pageurl=http://pux.moy.su%2Fphoto%2F9&amp;id=31137675&amp;iid=4&amp;imgwidth=130&amp;imgheight=97&amp;imgsize=372463&amp;images_links=b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go.mail.ru/frame.html?imgurl=http://rt.moy.su/_ph/9/1/280492689.jpg&amp;pageurl=http://faza.stsland.ru%2Fpriroda.htm&amp;id=52472838&amp;iid=8&amp;imgwidth=1536&amp;imgheight=1024&amp;imgsize=131577&amp;images_links=b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go.mail.ru/frame.html?imgurl=http://www.nicefoto.ru/tumb.php?type=trash&amp;id=8441.jpg&amp;pageurl=http://kro1975.livejournal.com%2F1382233.html&amp;id=69205929&amp;iid=0&amp;imgwidth=180&amp;imgheight=120&amp;imgsize=169034&amp;images_links=b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5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imgurl=http://smi2.ru/data/images/14830.jpeg&amp;pageurl=http://smi2.ru%2F%3Ftag%3D9034%26of%3D161&amp;id=46249092&amp;iid=3&amp;imgwidth=100&amp;imgheight=56&amp;imgsize=96829&amp;images_links=b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0&amp;text=&#1087;&#1086;&#1088;&#1090;&#1088;&#1077;&#1090;%20&#1057;&#1077;&#1074;&#1077;&#1088;&#1103;&#1085;&#1080;&#1085;&#1072;&amp;img_url=schools.techno.ru%2Fsch758%2F1%2Fi.jpg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imgurl=http://www.axed.ru/main.php?g2_view=core.DownloadItem&amp;g2_itemId=9783&amp;g2_serialNumber=2&amp;pageurl=http://www.bfoto.ru%2Fbfoto_ru_149.php&amp;id=54189324&amp;iid=7&amp;imgwidth=864&amp;imgheight=581&amp;imgsize=203008&amp;images_links=b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Tahoma"/>
              </a:rPr>
              <a:t>«На урок – с </a:t>
            </a:r>
            <a:r>
              <a:rPr b="1" i="1" lang="en-US" sz="5400" spc="-1" strike="noStrike">
                <a:solidFill>
                  <a:srgbClr val="33cccc"/>
                </a:solidFill>
                <a:latin typeface="Tahoma"/>
              </a:rPr>
              <a:t>И.Буниным</a:t>
            </a:r>
            <a:r>
              <a:rPr b="0" lang="en-US" sz="4800" spc="-1" strike="noStrike">
                <a:solidFill>
                  <a:srgbClr val="33cccc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Обобщение знаний о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составных предложения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това Н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У СОШ №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ЭПИТЕТЫ, МЕТАФОР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ЛАДКИЙ ВЗДОХ», «ЖЕМЧУЖНЫЙ ИНЕЙ», «СВЕЖЕЕ УТРО», «СВЕЖИЙ ЗАПАХ ЯНВАРСКОЙ МЕТЕЛИ», «СВЕЖЕЮТ С КАЖДЫМ ДНЕМ И МОЛОДЕЮТ СОСНЫ», «ВЕЕТ ЛЕГКОЙ СВЕЖЕСТЬ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ИНОНИМЫ: ЗЫБКО, СМУТНО, НЕЯСНО, НЕОТЧЕТЛИ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45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ОДНОСОСТАВНЫЕ      </a:t>
            </a:r>
            <a:br>
              <a:rPr sz="4000"/>
            </a:b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           ПРЕДЛО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КАКИЕ ПРЕДЛОЖЕНИЯ НАЗЫВАЮТСЯ ОДНОСОСТАВ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НАЙДИТЕ ТАКИЕ ПРЕДЛОЖЕНИЯ В ТЕКСТЕ БУНИНА И ВЫПИШИТЕ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ОПРЕДЕЛИТЕ ВИДЫ ЭТИХ ПРЕДЛОЖ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cc"/>
                </a:solidFill>
                <a:latin typeface="Tahoma"/>
              </a:rPr>
              <a:t>           </a:t>
            </a:r>
            <a:r>
              <a:rPr b="1" i="1" lang="en-US" sz="4400" spc="-1" strike="noStrike">
                <a:solidFill>
                  <a:srgbClr val="33cccc"/>
                </a:solidFill>
                <a:latin typeface="Tahoma"/>
              </a:rPr>
              <a:t>«ОТГАДАЙ-КА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В.Ломон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Умолчание местоимений личных перед спрягаемыми глаголами к украшению и важности служ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492280"/>
            <a:ext cx="3311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7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О каких предложениях идет 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речь?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Приведите примеры таких предложений из текста </a:t>
            </a:r>
            <a:br>
              <a:rPr sz="4000"/>
            </a:b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И.А.Бун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1356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Дайте характеристику определенно-личным предложения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33cccc"/>
                </a:solidFill>
                <a:latin typeface="Tahoma"/>
              </a:rPr>
              <a:t>Придумайте рисунок для этого вида предлож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90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073240" cy="2663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7183440" y="1700280"/>
            <a:ext cx="1960560" cy="2519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Мальчик дарит девочке плюшевого медведя"/>
          <p:cNvPicPr/>
          <p:nvPr/>
        </p:nvPicPr>
        <p:blipFill>
          <a:blip r:embed="rId4"/>
          <a:stretch/>
        </p:blipFill>
        <p:spPr>
          <a:xfrm>
            <a:off x="3564000" y="4005360"/>
            <a:ext cx="2376360" cy="22827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ОПРЕДЕЛЕННО-ЛИЧНЫЕ ПРЕДЛОЖЕНИЯ</a:t>
            </a:r>
            <a:br>
              <a:rPr sz="4000"/>
            </a:b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  Я                                         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0292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лаго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1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ед. и мн.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лаголы 2 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ед. и мн.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cf4633"/>
                </a:solidFill>
                <a:latin typeface="Tahoma"/>
              </a:rPr>
              <a:t>В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              </a:t>
            </a: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«Отгадай-ка!»</a:t>
            </a:r>
            <a:br>
              <a:rPr sz="4000"/>
            </a:br>
            <a:r>
              <a:rPr b="1" i="1" lang="ru-RU" sz="40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М.Пешк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0" y="2349360"/>
            <a:ext cx="4316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Действующее лицо намеренно устране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меренно представляется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известн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пределенно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А.М.Пешковский"/>
          <p:cNvPicPr/>
          <p:nvPr/>
        </p:nvPicPr>
        <p:blipFill>
          <a:blip r:embed="rId2"/>
          <a:stretch/>
        </p:blipFill>
        <p:spPr>
          <a:xfrm>
            <a:off x="1042920" y="1844640"/>
            <a:ext cx="29671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9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4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О каких предложениях идет речь?</a:t>
            </a:r>
            <a:br>
              <a:rPr sz="3600"/>
            </a:b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Найдите подобные предложения в текс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Охарактеризуйте неопределенно-личные предлож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Придумайте рисунок для этого вида предлож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100"/>
                            </p:stCondLst>
                            <p:childTnLst>
                              <p:par>
                                <p:cTn id="3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700"/>
                            </p:stCondLst>
                            <p:childTnLst>
                              <p:par>
                                <p:cTn id="4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00411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545080" cy="3483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5660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ни</a:t>
            </a:r>
            <a:br>
              <a:rPr sz="40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глаголы 3 лица мн.ч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333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НЕОПРЕДЕЛЕННО-ЛИЧНЫЕ</a:t>
            </a:r>
            <a:br>
              <a:rPr sz="3600"/>
            </a:b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            ПРЕДЛОЖЕНИ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43588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Tahoma"/>
              </a:rPr>
              <a:t>Какие односоставные предложения нами не назв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Прочитайте их, дайте характеристику и нарисуйте, к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вы их себе представляе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20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00"/>
                            </p:stCondLst>
                            <p:childTnLst>
                              <p:par>
                                <p:cTn id="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4360" y="1844640"/>
            <a:ext cx="3024000" cy="2952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1413000"/>
            <a:ext cx="2016360" cy="1584360"/>
          </a:xfrm>
          <a:prstGeom prst="irregularSeal1">
            <a:avLst/>
          </a:prstGeom>
          <a:solidFill>
            <a:srgbClr val="eac302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8360" y="2997360"/>
            <a:ext cx="287280" cy="720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997360"/>
            <a:ext cx="289080" cy="647640"/>
          </a:xfrm>
          <a:prstGeom prst="ellipse">
            <a:avLst/>
          </a:prstGeom>
          <a:solidFill>
            <a:srgbClr val="e5ffff"/>
          </a:solidFill>
          <a:ln w="9360">
            <a:solidFill>
              <a:srgbClr val="724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1476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Безличны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3 лицо ед ч. безличных и личных глаго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форма среднего 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финит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5076720" y="0"/>
            <a:ext cx="33116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Назыв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НОЧЬ. УЛИЦА. ФОНАРЬ. АПТ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BG101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537080" cy="5040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Ночь. Улица. Фонарь. Аптека."/>
          <p:cNvPicPr/>
          <p:nvPr/>
        </p:nvPicPr>
        <p:blipFill>
          <a:blip r:embed="rId3"/>
          <a:stretch/>
        </p:blipFill>
        <p:spPr>
          <a:xfrm>
            <a:off x="4643280" y="2276640"/>
            <a:ext cx="3888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50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31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ЛИШЬ СЛОВУ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                              ЖИЗНЬ ДАНА</a:t>
            </a:r>
            <a:br>
              <a:rPr sz="4400"/>
            </a:br>
            <a:r>
              <a:rPr b="1" lang="en-US" sz="4400" spc="-1" strike="noStrike">
                <a:solidFill>
                  <a:srgbClr val="724f2c"/>
                </a:solidFill>
                <a:latin typeface="Times New Roman"/>
              </a:rPr>
              <a:t>                                      И.А.Буни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2770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САМОДИКТАНТ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cf4633"/>
                </a:solidFill>
                <a:latin typeface="Tahoma"/>
              </a:rPr>
              <a:t>ПО ПАМЯТИ ЗАПИШИТЕ БЕЛИЧНЫЕ И НАЗЫВНЫЕ ПРЕДЛОЖЕНИЯ ИЗ ПРОИЗВЕДЕНИЙ И.А.БУНИНА, КОТОРЫЕ ВЫ ПОДОБРАЛИ САМОСТОЯТЕЛЬНО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1" name="" descr="Иван Бунин"/>
          <p:cNvPicPr/>
          <p:nvPr/>
        </p:nvPicPr>
        <p:blipFill>
          <a:blip r:embed="rId2"/>
          <a:stretch/>
        </p:blipFill>
        <p:spPr>
          <a:xfrm>
            <a:off x="179280" y="4437000"/>
            <a:ext cx="203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Возможные варианты    предлож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манный серп, неясный полумрак,     Свинцово-тусклый блеск железной крыши,     Шум мельницы, далекий лай собак,     Таинственный зигзаг летучей мыш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«Апрель»)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Виде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500280"/>
            <a:ext cx="2590920" cy="1935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1916280"/>
            <a:ext cx="2593800" cy="1726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5013360"/>
            <a:ext cx="23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ЕРВЫЙ УТРЕНН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РЕБРЯНЫЙ МОРОЗ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ИШИНА И ЗВОНКИЙ ХОЛОД НА ЗА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27280" cy="2303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627280" y="692280"/>
            <a:ext cx="2881440" cy="24447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5292720" y="1628640"/>
            <a:ext cx="2952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4633"/>
                </a:solidFill>
                <a:latin typeface="Tahoma"/>
              </a:rPr>
              <a:t>Возможные варианты предлож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5554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имним холодом пахну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оля и на л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рким пурпуром зажгли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 закатом неб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«Первый снег»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26828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2205000" cy="3240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72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ПРЕКРАСНЫЕ СТРОКИ НАПИСАНЫ БУНИНЫМ: ЧТО НИ СЛОВО, ТО ЧУДЕСНАЯ КАРТИНА!</a:t>
            </a:r>
            <a:br>
              <a:rPr sz="4000"/>
            </a:br>
            <a:r>
              <a:rPr b="1" lang="en-US" sz="4000" spc="-1" strike="noStrike">
                <a:solidFill>
                  <a:srgbClr val="cf4633"/>
                </a:solidFill>
                <a:latin typeface="Tahoma"/>
              </a:rPr>
              <a:t>КАК ЖЕ УДАЕТСЯ ПИСАТЕЛЮ ТВОРИТЬ ЭТИ ЧУДЕСА СО СЛОВОМ?</a:t>
            </a:r>
            <a:br>
              <a:rPr sz="4000"/>
            </a:br>
            <a:r>
              <a:rPr b="1" lang="en-US" sz="4000" spc="-1" strike="noStrike">
                <a:solidFill>
                  <a:srgbClr val="eac302"/>
                </a:solidFill>
                <a:latin typeface="Tahoma"/>
              </a:rPr>
              <a:t>(АНАЛИЗ ВЫРАЗИТЕЛЬНО-ИЗОБРАЗИТЕЛЬНЫХ СРЕДСТВ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ТВОР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8785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ЧЕМ ЛЮДИ ВЕДУТ ДНЕВН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ЧИТАЙТЕ ОТРЫВКИ ИЗ ДНЕВ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.А.БУНИНА. (карточ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ДЕЛАЙТЕ НЕСКОЛЬКО ДНЕВНИК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ПИСЕЙ, ПОДОБНО БУНИ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УЙТЕ ПРИ ЭТ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НОСОСТАВНЫЕ ПРЕД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ЫХ В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0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785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В его стихах – веселая капель,</a:t>
            </a:r>
            <a:br>
              <a:rPr sz="2800"/>
            </a:b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Откосы гор, блестящие слюд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И спетая березой молод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Песнь солнышку, и вешн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куп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Прозрачен стих, как севе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апр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То он бежит проточною вод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То теплится студеною звезд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В нем есть какой-то бодрый, трез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хмел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aecea"/>
                </a:solidFill>
                <a:latin typeface="Arial"/>
              </a:rPr>
              <a:t>И.Северя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1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0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1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c302"/>
                </a:solidFill>
                <a:latin typeface="Times New Roman"/>
              </a:rPr>
              <a:t>«Синтаксическая пятиминутка»</a:t>
            </a:r>
            <a:br>
              <a:rPr sz="3600"/>
            </a:br>
            <a:r>
              <a:rPr b="1" lang="en-US" sz="2800" spc="-1" strike="noStrike">
                <a:solidFill>
                  <a:srgbClr val="eac302"/>
                </a:solidFill>
                <a:latin typeface="Times New Roman"/>
              </a:rPr>
              <a:t>Пунктуационный разбор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c302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«</a:t>
            </a:r>
            <a:r>
              <a:rPr b="1" i="1" lang="en-US" sz="2800" spc="-1" strike="noStrike">
                <a:solidFill>
                  <a:srgbClr val="724f2c"/>
                </a:solidFill>
                <a:latin typeface="Times New Roman"/>
              </a:rPr>
              <a:t>ПОЭЗИЯ И ПРОЗА БУНИНА – ЭТО ЛИРИКА РОДНЫХ МЕСТ, МОТИВЫ ДЕРЕВЕНСКОЙ И УСАДЕБНОЙ ЖИЗНИ, ТОНКАЯ ЖИВОПИСЬ ПРИРОДЫ</a:t>
            </a:r>
            <a:r>
              <a:rPr b="1" i="1" lang="en-US" sz="2800" spc="-1" strike="noStrike">
                <a:solidFill>
                  <a:srgbClr val="724f2c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24f2c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c302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eac302"/>
                </a:solidFill>
                <a:latin typeface="Times New Roman"/>
              </a:rPr>
              <a:t>А.Т.Твард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Твардовский А. Т."/>
          <p:cNvPicPr/>
          <p:nvPr/>
        </p:nvPicPr>
        <p:blipFill>
          <a:blip r:embed="rId1"/>
          <a:stretch/>
        </p:blipFill>
        <p:spPr>
          <a:xfrm>
            <a:off x="6227640" y="2637000"/>
            <a:ext cx="20876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ПРОВЕРЬ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.                СУЩ.          ТИРЕ МЕЖ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ЛЕЖАЩИМ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УЕМ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                   ,      ,        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овеств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родные члены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900000" y="234936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924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292428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306864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234936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41497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11280" y="465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653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4581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7280" y="4797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0364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47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0" y="4581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479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88000" y="41497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365720"/>
            <a:ext cx="57636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11280" y="4365720"/>
            <a:ext cx="57636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465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365720"/>
            <a:ext cx="72072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81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724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32360" y="4365720"/>
            <a:ext cx="64764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2360" y="4724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4292640"/>
            <a:ext cx="64764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600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6000" y="47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Tahoma"/>
              </a:rPr>
              <a:t>«В его стихах веселая капель…»</a:t>
            </a:r>
            <a:br>
              <a:rPr sz="3600"/>
            </a:br>
            <a:r>
              <a:rPr b="1" i="1" lang="en-US" sz="3600" spc="-1" strike="noStrike">
                <a:solidFill>
                  <a:srgbClr val="33cccc"/>
                </a:solidFill>
                <a:latin typeface="Arial"/>
              </a:rPr>
              <a:t>                                        И.Северян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924360" y="1483920"/>
            <a:ext cx="468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аждый рассказ, каждая повесть, каждое стихотворение Бунина – это раздумья писателя о жизни, о мире, обо всем, чем живет человек, и, конечно, о России. «До боли в сердце» любит он темные аллеи и поля с поющими жаворонками, зимние вьюги и апрельские светлые вечера. Бунин – необыкновенный мастер русского пейзаж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989000"/>
            <a:ext cx="19209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РАБОТА С ТЕКСТОМ</a:t>
            </a:r>
            <a:br>
              <a:rPr sz="4400"/>
            </a:b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И.Бунина «Последняя весна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3588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Шестая неделя, а еще  совсем зима. Встал в пять часов, оделся и вышел из дому. Какая радость, молодость, этот предрассветный час!  Валенки, полушубок – все счастье. Ещё ночь, глухо, снежно. В темном небе только чудится рассвет. Первый сладкий вздох свежестью, когда вышел на крыльцо. Пахнет новым снего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ля очень белы. Их белизна сливается с бледно-серым небом, погружает в оцепенение. Вдали все смутно, зыбко. Черно сереют инеем ле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Знаменское заехали с задов. Глушь, пустота, все занесено сне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125360"/>
            <a:ext cx="67690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ВОПРОС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е впечатление произвел текс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писатель выбирает именно такое выражение – «сладкий вздох»? Как называется это изобразительное средств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«вздох свежестью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это за счастье – «валенки и полушубок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ы понимаете выражение «рассвет только чудится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5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8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4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65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ВОПРОС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12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ъясните смысл предложения: «… их белизна, сливаясь с бледно-серым небом, погружает в оцепенени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«Черно сереют инеем леса». А почему Бунин не сказал: «… в жемчужном инее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дберите синонимы к слову «зыбк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акое, по-вашему, слово у Бунина чаще всего встречается? Выпишите, подберите эпитеты в стиле Бунина, придумайте свои вариа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30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850"/>
                            </p:stCondLst>
                            <p:childTnLst>
                              <p:par>
                                <p:cTn id="2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850"/>
                            </p:stCondLst>
                            <p:childTnLst>
                              <p:par>
                                <p:cTn id="2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59:35Z</dcterms:created>
  <dc:creator>Денис</dc:creator>
  <dc:description/>
  <dc:language>en-US</dc:language>
  <cp:lastModifiedBy>Денис</cp:lastModifiedBy>
  <dcterms:modified xsi:type="dcterms:W3CDTF">2009-05-17T17:03:41Z</dcterms:modified>
  <cp:revision>46</cp:revision>
  <dc:subject/>
  <dc:title>«На урок – с И.Буниным»</dc:title>
</cp:coreProperties>
</file>