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5DE-7347-4D74-BB63-00A21C06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B1B-AA22-4336-AB33-EAE8110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F87-6A9C-4F7E-9905-D79BF981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390-2866-42FE-A3DE-62B05A2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F5214-2A46-4C3C-A4F2-0133B092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2677-BA15-4900-9FFE-E58550A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6758-58BA-4A31-8BF5-1BF43060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A7979-18A2-423B-82CE-EDC010F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186E1-AB04-4E74-B7C1-0A857B2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275F-A930-49BA-BF31-DB3A0B7E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D131-1089-4F53-9FD5-2856B60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268-AF99-4AAE-A30C-0EDAA42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51545-BADE-455F-9028-9133664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7B107-5888-4397-B36A-4CA0F94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A4A5D-33F2-42D2-BD62-ADCC9AB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32627-A269-4465-86A1-63CC7C8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8C3BC-82F3-4697-B42B-D43137CF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D694-CDE2-46EB-9617-BBD1F806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0C21-6FB7-40DF-834E-0737048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58BD-D6FE-4C52-81CE-A30DD033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10C7-5F6B-45EF-918E-104C4B3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8441-560C-4667-8451-8A2CF716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241-5ECE-4C27-9F7A-D0F5D63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561E-5ABC-409F-961E-0C1452FF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E881-382B-41C7-900C-2092C7E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F081-D82E-43E0-B7E2-356EF1F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AE31-C165-4036-B648-D417438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85F6-039E-42AA-A97E-13911453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776D-F76F-4468-85A1-49F9BA84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17D1-AF4F-4001-9EF5-D9EF0AFA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E18F-F379-4BB5-98D5-A95F50FF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90F6D-7BF0-4A8F-AED1-F5FB3A8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D2EE-3E66-4855-B444-34FCC42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29F-D71F-4EF4-AFD6-AE982EF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C558-287B-4F5C-9A34-C192E493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EB77-69F9-498F-BE0B-C733E165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D590-7F4D-44EB-B50A-E99E865D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8C53-6602-46E5-B8E4-9ECFA4C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4CCD-B4A2-41C8-A2A8-F05D93B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13AE-5FC4-4814-9479-C1B6A58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F06B-DDE4-46CC-B210-E7996CB3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2D79-04E5-4327-AE4B-02E255F6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D37D-8DA0-45AA-A2FA-401992AB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EBC0-FFD4-4507-A297-E3AC75BD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7CD-97C4-4452-8AF1-369AC8AA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34EE-E6A8-4370-80AE-B1FCBD3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4C58-E970-46D3-979C-D791154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2F1D-73C9-483D-8F0D-AB8A766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7A02-CE26-4B23-992F-37D84DA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00B6-9719-4489-BA90-FABCFAD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C927-E6D7-4AEB-985E-F78DA73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ECB8-E1B3-49DF-B0CC-735B230B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A6FE-3F07-4EA7-90E5-7E9535E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214E-7416-4524-AF33-C08291C2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337D-059C-40FD-A257-ED682498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2C2-6EBD-4052-9663-321B834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7FCE-7B00-4F64-B497-9B89894C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75A5-1F11-4304-8116-2123F7FC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7314-BFCB-48D7-B974-B618945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6BB7-518F-4FB4-AE3C-BF917B96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CEA2-70CC-40F8-8C36-A4CD3CA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59F1-8674-41A1-9198-C4F369D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79A8-DAE9-4F86-892A-9998C428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B9F4F-D6BF-4A37-8BFE-77ABFB6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F58C-BADC-4435-92FC-8B8B6C6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8349E-0D95-455F-9BFB-6B99F73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A3C-4EA4-4BB9-8BA6-908E9DE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B47D6-13B4-4CC6-B7BC-FBF46898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408E-9281-4134-99D4-979203E8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4529-A554-45DE-AFDF-FC8A4022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54C1-B41E-4FEB-8E25-3BF85DB7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D2E1-4CB3-4FFC-ACD8-4AE2635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E98B-0583-4005-9510-11CA1723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B132-0045-4D36-B882-F2C95980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0BFB-6768-45D1-8FE8-FA803DC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C2A2-776B-48F3-A4D1-8575221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A1E4-F287-48A7-969A-17B3355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120-EE8B-4A07-AF05-E4A22BFA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F0569-D8EE-4DF2-A5AC-44472B0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8B63-DB8F-43B2-988F-9474C44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E6A2-FEA1-473B-90B6-81C5BC7F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6D770-1BB8-4D77-B68A-0E90D3C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3641-AF14-4F03-A813-91D294E3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678-1AA3-4CC7-BAD2-C43FF3D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2305-9488-4C20-AD75-448C112D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74D-8776-466A-B2F7-CAEF3F52E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DDB2-7F8F-4329-B67A-920CF6AC5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1D1-9C75-400B-982F-00FBB2E5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3B39-B07F-4124-934E-62688F95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AEF-4945-42BD-AC98-C001DD85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F22-2C68-46F5-9027-EA8EF9B4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ikompas.ru/img/compas/2008-11-08/mihail_lomonosov/13394442_ori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video.mail.ru/mail/ski.ustkatav.h/90/91.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go.mail.ru/frame.html?imgurl=http://pux.moy.su/_ph/9/1/915192682.jpg&amp;pageurl=http://pux.moy.su%2Fphoto%2F9&amp;id=31137675&amp;iid=4&amp;imgwidth=130&amp;imgheight=97&amp;imgsize=372463&amp;images_links=b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go.mail.ru/frame.html?imgurl=http://rt.moy.su/_ph/9/1/280492689.jpg&amp;pageurl=http://faza.stsland.ru%2Fpriroda.htm&amp;id=52472838&amp;iid=8&amp;imgwidth=1536&amp;imgheight=1024&amp;imgsize=131577&amp;images_links=b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go.mail.ru/frame.html?imgurl=http://www.nicefoto.ru/tumb.php?type=trash&amp;id=8441.jpg&amp;pageurl=http://kro1975.livejournal.com%2F1382233.html&amp;id=69205929&amp;iid=0&amp;imgwidth=180&amp;imgheight=120&amp;imgsize=169034&amp;images_links=b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5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smi2.ru/data/images/14830.jpeg&amp;pageurl=http://smi2.ru%2F%3Ftag%3D9034%26of%3D161&amp;id=46249092&amp;iid=3&amp;imgwidth=100&amp;imgheight=56&amp;imgsize=96829&amp;images_links=b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0&amp;text=&#1087;&#1086;&#1088;&#1090;&#1088;&#1077;&#1090;%20&#1057;&#1077;&#1074;&#1077;&#1088;&#1103;&#1085;&#1080;&#1085;&#1072;&amp;img_url=schools.techno.ru%2Fsch758%2F1%2Fi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www.axed.ru/main.php?g2_view=core.DownloadItem&amp;g2_itemId=9783&amp;g2_serialNumber=2&amp;pageurl=http://www.bfoto.ru%2Fbfoto_ru_149.php&amp;id=54189324&amp;iid=7&amp;imgwidth=864&amp;imgheight=581&amp;imgsize=203008&amp;images_links=b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«На урок – с </a:t>
            </a:r>
            <a:r>
              <a:rPr b="1" i="1" lang="en-US" sz="5400" spc="-1" strike="noStrike">
                <a:solidFill>
                  <a:srgbClr val="33cccc"/>
                </a:solidFill>
                <a:latin typeface="Tahoma"/>
              </a:rPr>
              <a:t>И.Буниным</a:t>
            </a: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Обобщение знаний о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составных предложения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ва Н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СОШ №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ЭПИТЕТЫ, МЕТАФО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ЛАДКИЙ ВЗДОХ», «ЖЕМЧУЖНЫЙ ИНЕЙ», «СВЕЖЕЕ УТРО», «СВЕЖИЙ ЗАПАХ ЯНВАРСКОЙ МЕТЕЛИ», «СВЕЖЕЮТ С КАЖДЫМ ДНЕМ И МОЛОДЕЮТ СОСНЫ», «ВЕЕТ ЛЕГКОЙ СВЕЖЕСТ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ИНОНИМЫ: ЗЫБКО, СМУТНО, НЕЯСНО, НЕОТЧЕТЛИ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4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ОДНОСОСТАВНЫЕ      </a:t>
            </a:r>
            <a:br>
              <a:rPr sz="4000"/>
            </a:b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  ПРЕД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КАКИЕ ПРЕДЛОЖЕНИЯ НАЗЫВАЮТСЯ ОДНОСОСТАВ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НАЙДИТЕ ТАКИЕ ПРЕДЛОЖЕНИЯ В ТЕКСТЕ БУНИНА И ВЫПИШИТЕ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ОПРЕДЕЛИТЕ ВИДЫ ЭТИХ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           </a:t>
            </a: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.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Умолчание местоимений личных перед спрягаемыми глаголами к украшению и важности служ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492280"/>
            <a:ext cx="3311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7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О каких предложениях идет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речь?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Приведите примеры таких предложений из текста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И.А.Бун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Дайте характеристику определенно-личным предложения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9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073240" cy="2663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7183440" y="1700280"/>
            <a:ext cx="1960560" cy="2519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Мальчик дарит девочке плюшевого медведя"/>
          <p:cNvPicPr/>
          <p:nvPr/>
        </p:nvPicPr>
        <p:blipFill>
          <a:blip r:embed="rId4"/>
          <a:stretch/>
        </p:blipFill>
        <p:spPr>
          <a:xfrm>
            <a:off x="3564000" y="4005360"/>
            <a:ext cx="2376360" cy="22827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ОПРЕДЕЛЕННО-ЛИЧНЫЕ ПРЕДЛОЖЕНИЯ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  Я                                         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0292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1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ы 2 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В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           </a:t>
            </a: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М.Пеш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0" y="2349360"/>
            <a:ext cx="4316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ействующее лицо намеренно устране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меренно представляется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известн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пределенно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А.М.Пешковский"/>
          <p:cNvPicPr/>
          <p:nvPr/>
        </p:nvPicPr>
        <p:blipFill>
          <a:blip r:embed="rId2"/>
          <a:stretch/>
        </p:blipFill>
        <p:spPr>
          <a:xfrm>
            <a:off x="1042920" y="1844640"/>
            <a:ext cx="29671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9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4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 каких предложениях идет речь?</a:t>
            </a:r>
            <a:br>
              <a:rPr sz="3600"/>
            </a:b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Найдите подобные предложения в текс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характеризуйте неопределенно-личные предлож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100"/>
                            </p:stCondLst>
                            <p:childTnLst>
                              <p:par>
                                <p:cTn id="3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7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0041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545080" cy="3483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5660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ни</a:t>
            </a:r>
            <a:br>
              <a:rPr sz="40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лаголы 3 лица мн.ч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33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НЕОПРЕДЕЛЕННО-ЛИЧНЫЕ</a:t>
            </a:r>
            <a:br>
              <a:rPr sz="36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         ПРЕДЛОЖЕНИ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43588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Tahoma"/>
              </a:rPr>
              <a:t>Какие односоставные предложения нами не назв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очитайте их, дайте характеристику и нарисуйте, к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вы их себе представля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2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0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1844640"/>
            <a:ext cx="3024000" cy="2952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1413000"/>
            <a:ext cx="2016360" cy="1584360"/>
          </a:xfrm>
          <a:prstGeom prst="irregularSeal1">
            <a:avLst/>
          </a:prstGeom>
          <a:solidFill>
            <a:srgbClr val="eac302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2997360"/>
            <a:ext cx="287280" cy="720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997360"/>
            <a:ext cx="289080" cy="6476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1476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Безличны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3 лицо ед ч. безличных и личных глаго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форма среднего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финит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5076720" y="0"/>
            <a:ext cx="33116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Назы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НОЧЬ. УЛИЦА. ФОНАРЬ. АПТ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BG101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537080" cy="504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Ночь. Улица. Фонарь. Аптека."/>
          <p:cNvPicPr/>
          <p:nvPr/>
        </p:nvPicPr>
        <p:blipFill>
          <a:blip r:embed="rId3"/>
          <a:stretch/>
        </p:blipFill>
        <p:spPr>
          <a:xfrm>
            <a:off x="4643280" y="2276640"/>
            <a:ext cx="3888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ЛИШЬ СЛОВУ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ЖИЗНЬ ДАНА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        И.А.Бун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2770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САМОДИКТАНТ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ПО ПАМЯТИ ЗАПИШИТЕ БЕЛИЧНЫЕ И НАЗЫВНЫЕ ПРЕДЛОЖЕНИЯ ИЗ ПРОИЗВЕДЕНИЙ И.А.БУНИНА, КОТОРЫЕ ВЫ ПОДОБРАЛИ САМОСТОЯТЕЛЬНО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1" name="" descr="Иван Бунин"/>
          <p:cNvPicPr/>
          <p:nvPr/>
        </p:nvPicPr>
        <p:blipFill>
          <a:blip r:embed="rId2"/>
          <a:stretch/>
        </p:blipFill>
        <p:spPr>
          <a:xfrm>
            <a:off x="179280" y="4437000"/>
            <a:ext cx="203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  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манный серп, неясный полумрак,     Свинцово-тусклый блеск железной крыши,     Шум мельницы, далекий лай собак,     Таинственный зигзаг летучей мыш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«Апрель»)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Виде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500280"/>
            <a:ext cx="2590920" cy="1935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916280"/>
            <a:ext cx="2593800" cy="172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5013360"/>
            <a:ext cx="23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РВЫЙ УТРЕН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РЕБРЯНЫЙ МОРОЗ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ИШИНА И ЗВОНКИЙ ХОЛОД НА ЗА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27280" cy="2303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27280" y="692280"/>
            <a:ext cx="2881440" cy="2444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5292720" y="1628640"/>
            <a:ext cx="2952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5554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имним холодом пахну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ля и на л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рким пурпуром зажгли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 закатом неб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«Первый снег»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26828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205000" cy="3240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72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ПРЕКРАСНЫЕ СТРОКИ НАПИСАНЫ БУНИНЫМ: ЧТО НИ СЛОВО, ТО ЧУДЕСНАЯ КАРТИНА!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КАК ЖЕ УДАЕТСЯ ПИСАТЕЛЮ ТВОРИТЬ ЭТИ ЧУДЕСА СО СЛОВОМ?</a:t>
            </a:r>
            <a:br>
              <a:rPr sz="4000"/>
            </a:br>
            <a:r>
              <a:rPr b="1" lang="en-US" sz="4000" spc="-1" strike="noStrike">
                <a:solidFill>
                  <a:srgbClr val="eac302"/>
                </a:solidFill>
                <a:latin typeface="Tahoma"/>
              </a:rPr>
              <a:t>(АНАЛИЗ ВЫРАЗИТЕЛЬНО-ИЗОБРАЗИТЕЛЬНЫХ СРЕДСТ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ВОР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8785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ЧЕМ ЛЮДИ ВЕДУТ ДНЕВ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ЧИТАЙТЕ ОТРЫВКИ ИЗ ДНЕВ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.А.БУНИНА. (карточ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ЛАЙТЕ НЕСКОЛЬКО ДНЕВНИК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ИСЕЙ, ПОДОБНО БУН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УЙТЕ ПРИ ЭТ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НОСОСТАВНЫЕ ПРЕД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ЫХ В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его стихах – веселая капель,</a:t>
            </a:r>
            <a:br>
              <a:rPr sz="2800"/>
            </a:b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Откосы гор, блестящие слю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 спетая березой молод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еснь солнышку, и вешн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куп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розрачен стих, как севе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апр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он бежит проточною во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теплится студеною звезд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нем есть какой-то бодрый, трез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хм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.Северя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0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c302"/>
                </a:solidFill>
                <a:latin typeface="Times New Roman"/>
              </a:rPr>
              <a:t>«Синтаксическая пятиминутка»</a:t>
            </a:r>
            <a:br>
              <a:rPr sz="3600"/>
            </a:br>
            <a:r>
              <a:rPr b="1" lang="en-US" sz="2800" spc="-1" strike="noStrike">
                <a:solidFill>
                  <a:srgbClr val="eac302"/>
                </a:solidFill>
                <a:latin typeface="Times New Roman"/>
              </a:rPr>
              <a:t>Пунктуационный разбор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c302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724f2c"/>
                </a:solidFill>
                <a:latin typeface="Times New Roman"/>
              </a:rPr>
              <a:t>ПОЭЗИЯ И ПРОЗА БУНИНА – ЭТО ЛИРИКА РОДНЫХ МЕСТ, МОТИВЫ ДЕРЕВЕНСКОЙ И УСАДЕБНОЙ ЖИЗНИ, ТОНКАЯ ЖИВОПИСЬ ПРИРОДЫ</a:t>
            </a:r>
            <a:r>
              <a:rPr b="1" i="1" lang="en-US" sz="2800" spc="-1" strike="noStrike">
                <a:solidFill>
                  <a:srgbClr val="724f2c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А.Т.Твард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Твардовский А. Т."/>
          <p:cNvPicPr/>
          <p:nvPr/>
        </p:nvPicPr>
        <p:blipFill>
          <a:blip r:embed="rId1"/>
          <a:stretch/>
        </p:blipFill>
        <p:spPr>
          <a:xfrm>
            <a:off x="6227640" y="2637000"/>
            <a:ext cx="208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.                СУЩ.          ТИРЕ 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ЛЕЖАЩИМ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                   ,      ,        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вест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род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3493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9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306864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234936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41497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653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581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4797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0364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0" y="4581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479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88000" y="41497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365720"/>
            <a:ext cx="72072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7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2360" y="4365720"/>
            <a:ext cx="64764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472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4292640"/>
            <a:ext cx="64764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6000" y="47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«В его стихах веселая капель…»</a:t>
            </a:r>
            <a:br>
              <a:rPr sz="3600"/>
            </a:br>
            <a:r>
              <a:rPr b="1" i="1" lang="en-US" sz="3600" spc="-1" strike="noStrike">
                <a:solidFill>
                  <a:srgbClr val="33cccc"/>
                </a:solidFill>
                <a:latin typeface="Arial"/>
              </a:rPr>
              <a:t>                                        И.Северян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24360" y="1483920"/>
            <a:ext cx="468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аждый рассказ, каждая повесть, каждое стихотворение Бунина – это раздумья писателя о жизни, о мире, обо всем, чем живет человек, и, конечно, о России. «До боли в сердце» любит он темные аллеи и поля с поющими жаворонками, зимние вьюги и апрельские светлые вечера. Бунин – необыкновенный мастер русского пейза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89000"/>
            <a:ext cx="19209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РАБОТА С ТЕКСТОМ</a:t>
            </a:r>
            <a:br>
              <a:rPr sz="44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И.Бунина «Последняя весна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3588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Шестая неделя, а еще  совсем зима. Встал в пять часов, оделся и вышел из дому. Какая радость, молодость, этот предрассветный час!  Валенки, полушубок – все счастье. Ещё ночь, глухо, снежно. В темном небе только чудится рассвет. Первый сладкий вздох свежестью, когда вышел на крыльцо. Пахнет новым снег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ля очень белы. Их белизна сливается с бледно-серым небом, погружает в оцепенение. Вдали все смутно, зыбко. Черно сереют инеем ле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Знаменское заехали с задов. Глушь, пустота, все занесено сне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125360"/>
            <a:ext cx="67690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впечатление произвел текс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писатель выбирает именно такое выражение – «сладкий вздох»? Как называется это изобразительное сред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«вздох свежестью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это за счастье – «валенки и полушубок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ы понимаете выражение «рассвет только чудится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8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4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65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ъясните смысл предложения: «… их белизна, сливаясь с бледно-серым небом, погружает в оцепенен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Черно сереют инеем леса». А почему Бунин не сказал: «… в жемчужном инее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дберите синонимы к слову «зыбк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акое, по-вашему, слово у Бунина чаще всего встречается? Выпишите, подберите эпитеты в стиле Бунина, придумайте свои вариа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30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850"/>
                            </p:stCondLst>
                            <p:childTnLst>
                              <p:par>
                                <p:cTn id="2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5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9:35Z</dcterms:created>
  <dc:creator>Денис</dc:creator>
  <dc:description/>
  <dc:language>en-US</dc:language>
  <cp:lastModifiedBy>Денис</cp:lastModifiedBy>
  <dcterms:modified xsi:type="dcterms:W3CDTF">2009-05-17T17:03:41Z</dcterms:modified>
  <cp:revision>46</cp:revision>
  <dc:subject/>
  <dc:title>«На урок – с И.Буниным»</dc:title>
</cp:coreProperties>
</file>