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FF4-3221-4468-91F2-698B0694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D62-0C20-4E0D-B739-212109D3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FB6-88BB-4664-921F-E9D2D63C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F6F-D0F9-492D-960B-48598C51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3EF-48FC-48FA-8A1F-54F6A84F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ABA-BCCB-40E3-ACCF-0F858CBF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B1D-F219-41A5-9F26-64F7A8A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037-D889-4648-AB47-8A11310C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C22-7EAF-4791-9F71-D61EC40B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A41-55D8-45A5-9A9C-8ECA3BB8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148-FBEF-4BFF-8C98-A8237E5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395-2CB9-41B1-9480-1306CC8B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C1CE-7C30-470B-B74A-865AC7EEC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hyperlink" Target="http://www.labirint-shop.ru/" TargetMode="External"/><Relationship Id="rId5" Type="http://schemas.openxmlformats.org/officeDocument/2006/relationships/hyperlink" Target="http://www.bolero.ru/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3933720"/>
            <a:ext cx="864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Verdana"/>
              </a:rPr>
              <a:t>Как  сделать урок интересным, запоминающимся, развивающим ученика, нравственно и эстетически воспитывающ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684360" y="476280"/>
            <a:ext cx="7800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менение ИКТ на уроках музыки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8" descr="i?id=55528016&amp;tov=7"/>
          <p:cNvPicPr/>
          <p:nvPr/>
        </p:nvPicPr>
        <p:blipFill>
          <a:blip r:embed="rId1"/>
          <a:stretch/>
        </p:blipFill>
        <p:spPr>
          <a:xfrm>
            <a:off x="2987640" y="1628640"/>
            <a:ext cx="3000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Энциклопедия 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«Музыкальные инструмен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325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едчайшая коллекция муз. инструментов всех стран и народов, включая археологические нахо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Знакомит с историей возникновения и развития инструментов, особенностями устройства и звуч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Разде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1. Семейства музыкальны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нстр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2. Музыкальные ансамб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3. Инструменты стран ми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4. Инструменты от А до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"/>
          <p:cNvPicPr/>
          <p:nvPr/>
        </p:nvPicPr>
        <p:blipFill>
          <a:blip r:embed="rId1"/>
          <a:stretch/>
        </p:blipFill>
        <p:spPr>
          <a:xfrm>
            <a:off x="4572000" y="1484280"/>
            <a:ext cx="4314960" cy="430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009400" y="5734080"/>
            <a:ext cx="36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Более 1000 муз. фраг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выше 900 муз.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66"/>
                </a:solidFill>
                <a:latin typeface="Georgia"/>
              </a:rPr>
              <a:t>ШЕДЕВРЫ МУЗЫКИ</a:t>
            </a:r>
            <a:r>
              <a:rPr b="0" i="1" lang="ru-RU" sz="2800" spc="-1" strike="noStrike">
                <a:solidFill>
                  <a:srgbClr val="cc0066"/>
                </a:solidFill>
                <a:latin typeface="Georgia"/>
              </a:rPr>
              <a:t> -уникальный мультимедиапродукт для всех, кто интересуется классической музыкой </a:t>
            </a:r>
            <a:br>
              <a:rPr sz="2800"/>
            </a:br>
            <a:r>
              <a:rPr b="0" i="1" lang="ru-RU" sz="2800" spc="-1" strike="noStrike">
                <a:solidFill>
                  <a:srgbClr val="cc0066"/>
                </a:solidFill>
                <a:latin typeface="Georgia"/>
              </a:rPr>
              <a:t>и историей ее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4"/>
          <p:cNvPicPr/>
          <p:nvPr/>
        </p:nvPicPr>
        <p:blipFill>
          <a:blip r:embed="rId1"/>
          <a:stretch/>
        </p:blipFill>
        <p:spPr>
          <a:xfrm>
            <a:off x="793800" y="1946160"/>
            <a:ext cx="3670200" cy="417528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98720" y="1699920"/>
            <a:ext cx="4444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нтерактивные рассказы  о 80 шедеврах классической 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звученные лекции, рассказывающие об эпохах и музыкальных  жан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иблиографические стат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 40 композит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олее 2000 ста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бразцы звучания муз. инстр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олее 1000 иллюст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коло 10 часов звука, видеофрагменты опер и бал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1403280" y="2141640"/>
          <a:ext cx="27925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141640"/>
                    <a:ext cx="2792520" cy="320040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2920" y="692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отовое сопровождение  к  огромному количеству песен способствует значительному расширению круга исполняемых произведени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олее интенсивному формированию музыкальных вкусов детей и их исполнительских спосо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спользуемые в работе микрофоны  становятся мощным дополнительным стимулом  для музыкальных зан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чащиеся имеют возможность показать себя с лучшей стороны, чувствуют себя настоящими артиста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692360" y="549360"/>
            <a:ext cx="2933640" cy="6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ние КАРАО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410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етям предстоит сделать новые муз. инструменты, узнать как они звучат, сыграть на них мелодию в любом стиле - джаз, рок-н-ролл, кантри, валь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ожно разучить песни и станцевать вместе с друз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ыполняя задания уч-ся получают: представление об азах муз. грамоты – нотах, ритме и муз. сти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ебята развивают память, логику, творческое мышление, муз. сл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6"/>
          <p:cNvPicPr/>
          <p:nvPr/>
        </p:nvPicPr>
        <p:blipFill>
          <a:blip r:embed="rId1"/>
          <a:stretch/>
        </p:blipFill>
        <p:spPr>
          <a:xfrm>
            <a:off x="5076720" y="1484280"/>
            <a:ext cx="3767400" cy="394956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1619280" y="0"/>
            <a:ext cx="6305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иффорд. Угадай мелодию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381560" y="5607000"/>
            <a:ext cx="4762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нтернет –магаз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абиринт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abirint-shop.ru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олеро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olero.ru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льный класс-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это веселое развлечение, игра и уроки музыки одновре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ает описание различных типов муз. инструментов (старинных, классических, современных), позволяет услышать их звуч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ит сведения по теории музыки (гармония, интервал, мелодия, тон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ает представление о различных муз. стилях и жанрах (джаз, рок, рэп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брав песню из перечня, можно исполнить ее под фонограмму, записать на компьютер и прослушать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5"/>
          <p:cNvPicPr/>
          <p:nvPr/>
        </p:nvPicPr>
        <p:blipFill>
          <a:blip r:embed="rId1"/>
          <a:stretch/>
        </p:blipFill>
        <p:spPr>
          <a:xfrm>
            <a:off x="503280" y="1620720"/>
            <a:ext cx="4157640" cy="42768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86" name="Text Box 5"/>
          <p:cNvSpPr/>
          <p:nvPr/>
        </p:nvSpPr>
        <p:spPr>
          <a:xfrm>
            <a:off x="542160" y="5805360"/>
            <a:ext cx="39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нтернет-магазин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WW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MG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4246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т компьютера в домашнем пользовании у многих учащихся и педагог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достаточная компьютерная грамотность педагог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ремя самостоятельных занятий в компьютерных классах отведено далеко не во всех школ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 педагога недостаточно времени для подготовки к занятию, на котором используются ИК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сутствие контакта с учителем информат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рабочем графике педагога не отведено время для исследования возможностей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3"/>
          <p:cNvSpPr txBox="1"/>
          <p:nvPr/>
        </p:nvSpPr>
        <p:spPr>
          <a:xfrm>
            <a:off x="2627280" y="692280"/>
            <a:ext cx="406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250920" y="260280"/>
            <a:ext cx="8642160" cy="70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именение информационных технологий позволяет:</a:t>
            </a:r>
            <a:r>
              <a:rPr b="1" i="1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По-новому использовать на уроках музыки текстовую, звуковую, графическую и видеоинформацию и её источ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Обогащать методические возможности урока музыки, придать ему современный уров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Помогать активизации творческого потенциал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Способствовать воспитанию интереса к музыкальной куль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Формировать духовный мир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i?id=140138973&amp;tov=5"/>
          <p:cNvPicPr/>
          <p:nvPr/>
        </p:nvPicPr>
        <p:blipFill>
          <a:blip r:embed="rId1"/>
          <a:stretch/>
        </p:blipFill>
        <p:spPr>
          <a:xfrm>
            <a:off x="7667640" y="3645000"/>
            <a:ext cx="10476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50920" y="404640"/>
            <a:ext cx="8713800" cy="68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имущества использования ИКТ в обра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ед традиционным обуч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нформационные технологии значительно расширяют возможности предъявления учебной информ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рименение цвета, графики, звука, всех современных средств видеотехники воссоздают реальную обстановку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Компьютер позволяет существенно повысить мотивацию учащихся к обу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КТ вовлекают обучающихся в учебный процесс, способствуют наиболее широкому раскрытию их творческих способностей, активизации 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омогают качественно изменить контроль деятель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озволяют наглядно представить результат своих действ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i?id=140138973&amp;tov=5"/>
          <p:cNvPicPr/>
          <p:nvPr/>
        </p:nvPicPr>
        <p:blipFill>
          <a:blip r:embed="rId1"/>
          <a:stretch/>
        </p:blipFill>
        <p:spPr>
          <a:xfrm>
            <a:off x="7885080" y="5661000"/>
            <a:ext cx="10479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Эффективность применения информационных технологий значительно повышается за счет реализации основных принципов работы учи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истематичность применения 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мпетентность учителя в компьютерных технолог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нтерес и инициатива самого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вор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временные технически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граммное методическое обеспечени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?id=48483554&amp;tov=0"/>
          <p:cNvPicPr/>
          <p:nvPr/>
        </p:nvPicPr>
        <p:blipFill>
          <a:blip r:embed="rId1"/>
          <a:stretch/>
        </p:blipFill>
        <p:spPr>
          <a:xfrm>
            <a:off x="6877080" y="3068640"/>
            <a:ext cx="1971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260280"/>
            <a:ext cx="87138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Направления использования ИКТ в работе учителя музы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средство наглядности на занятиях при изучении нового материала (мультимедиа, видео, компакт-диск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епление изложенного материала (обучающие програм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практических занятий, самостояте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и проверка знаний учащихся (викторины, тес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ка качества обучения (тест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презентаций, докладов, выступ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образование учащихся и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еосъемка школьных мероприятий и создание видеоте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информации через подключение к Интерн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ерепи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50920" y="0"/>
            <a:ext cx="8642160" cy="70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еханизмы использования ИКТ на уроках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В своей работе, на уроках музыки, помимо традиционных ТСО, я активно использую новые информационные технологии - мультимедийные возможности, предоставляемые компьют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На компьютерном диске, который я готовлю заранее к нужному  уроку находится весь </a:t>
            </a: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 Unicode MS"/>
              </a:rPr>
              <a:t>иллюстративный материал</a:t>
            </a: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музыкальные аудиозаписи, фонограммы песен, тексты, цитаты, рисунки, фото, портреты, сцены из спектаклей, фрагменты опер, балетов, видеоклипы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Это значительно облегчает подачу учебного материала и его усв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овизна средств вызывает удивление у школьников. Чудеса на экране в классе, почти как чудеса в сказке. Все это умножает силу воздействия, как педагогических приемов, так и самого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i?id=29757715&amp;tov=5"/>
          <p:cNvPicPr/>
          <p:nvPr/>
        </p:nvPicPr>
        <p:blipFill>
          <a:blip r:embed="rId1"/>
          <a:stretch/>
        </p:blipFill>
        <p:spPr>
          <a:xfrm>
            <a:off x="250920" y="189000"/>
            <a:ext cx="6667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86fdb"/>
                </a:solidFill>
                <a:latin typeface="Arial"/>
              </a:rPr>
              <a:t>Программы для работы с музыкой </a:t>
            </a:r>
            <a:br>
              <a:rPr sz="3600"/>
            </a:br>
            <a:r>
              <a:rPr b="0" lang="ru-RU" sz="3600" spc="-1" strike="noStrike">
                <a:solidFill>
                  <a:srgbClr val="986fdb"/>
                </a:solidFill>
                <a:latin typeface="Arial"/>
              </a:rPr>
              <a:t>    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cument"/>
          <p:cNvSpPr/>
          <p:nvPr/>
        </p:nvSpPr>
        <p:spPr>
          <a:xfrm>
            <a:off x="3564000" y="5084640"/>
            <a:ext cx="2419200" cy="1451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граммы для пения кара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cument"/>
          <p:cNvSpPr/>
          <p:nvPr/>
        </p:nvSpPr>
        <p:spPr>
          <a:xfrm>
            <a:off x="3348000" y="1628640"/>
            <a:ext cx="249552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соч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cument"/>
          <p:cNvSpPr/>
          <p:nvPr/>
        </p:nvSpPr>
        <p:spPr>
          <a:xfrm>
            <a:off x="324000" y="1628640"/>
            <a:ext cx="261288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игрыв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cument"/>
          <p:cNvSpPr/>
          <p:nvPr/>
        </p:nvSpPr>
        <p:spPr>
          <a:xfrm>
            <a:off x="6227640" y="1628640"/>
            <a:ext cx="264816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констру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932360" y="3500280"/>
            <a:ext cx="264780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Обуч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cument"/>
          <p:cNvSpPr/>
          <p:nvPr/>
        </p:nvSpPr>
        <p:spPr>
          <a:xfrm>
            <a:off x="826920" y="3429000"/>
            <a:ext cx="264816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энциклопе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217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5 часов классической 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400 биографических ста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200 статей о произвед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ловарь муз.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12 тематических экскурсий о муз. культуре разных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идеофрагменты и ани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Муз. викторины различной сл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Хро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1-1"/>
          <p:cNvPicPr/>
          <p:nvPr/>
        </p:nvPicPr>
        <p:blipFill>
          <a:blip r:embed="rId1"/>
          <a:stretch/>
        </p:blipFill>
        <p:spPr>
          <a:xfrm>
            <a:off x="324000" y="1557360"/>
            <a:ext cx="4160520" cy="416088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1476360" y="404640"/>
            <a:ext cx="662472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нциклопедия классической музыки</a:t>
            </a:r>
            <a:endParaRPr b="0" lang="en-US" sz="2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88000" y="1699920"/>
            <a:ext cx="4146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Иллюстрированная истор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ru-RU" sz="2200" spc="-1" strike="noStrike">
                <a:solidFill>
                  <a:srgbClr val="cc3300"/>
                </a:solidFill>
                <a:latin typeface="Arial"/>
              </a:rPr>
              <a:t>зарубежной поп. 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3300"/>
                </a:solidFill>
                <a:latin typeface="Arial"/>
              </a:rPr>
              <a:t>-отечественной поп. 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3300"/>
                </a:solidFill>
                <a:latin typeface="Arial"/>
              </a:rPr>
              <a:t>-дж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Более 3300 ста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3000 иллюст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600 аудиофраг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23 видеофраг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Словарь: 400 муз. тер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2"/>
          <p:cNvPicPr/>
          <p:nvPr/>
        </p:nvPicPr>
        <p:blipFill>
          <a:blip r:embed="rId1"/>
          <a:stretch/>
        </p:blipFill>
        <p:spPr>
          <a:xfrm>
            <a:off x="503280" y="1851120"/>
            <a:ext cx="4179960" cy="39877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66" name="WordArt 4"/>
          <p:cNvSpPr txBox="1"/>
          <p:nvPr/>
        </p:nvSpPr>
        <p:spPr>
          <a:xfrm>
            <a:off x="900000" y="476280"/>
            <a:ext cx="753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нциклопедия популярной музыки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5880" y="1125360"/>
            <a:ext cx="48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Посвящена року, джазу  и поп - му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9:29:58Z</dcterms:created>
  <dc:creator>User</dc:creator>
  <dc:description/>
  <dc:language>en-US</dc:language>
  <cp:lastModifiedBy>Коля</cp:lastModifiedBy>
  <dcterms:modified xsi:type="dcterms:W3CDTF">2013-03-20T19:23:42Z</dcterms:modified>
  <cp:revision>9</cp:revision>
  <dc:subject/>
  <dc:title>Слайд 1</dc:title>
</cp:coreProperties>
</file>