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9C3-DC36-49EC-AD5F-73871FFF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5F3-4200-4E06-A499-FFEDE74A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B61-C0E5-41DB-8398-4F011BD3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311-C38E-4311-A7FE-1A5D927D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EA2-AAF2-4E86-99B3-3F474AF4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38C-2D20-43CA-8686-34ACCF3B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EFA-C913-4F43-B798-4C3182AD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9C9-08E9-4634-9936-CB7D4996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E05-8D08-4A65-8BB0-050A8E13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441-1B15-4796-94A3-09EEB984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455-05AD-49C7-A645-C44515A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067-27DB-4CC7-A204-A381A3B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7584-94AE-4254-BCF1-07674AFCB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hyperlink" Target="http://www.labirint-shop.ru/" TargetMode="External"/><Relationship Id="rId5" Type="http://schemas.openxmlformats.org/officeDocument/2006/relationships/hyperlink" Target="http://www.bolero.ru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933720"/>
            <a:ext cx="864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Как  сделать урок интересным, запоминающимся, развивающим ученика, нравственно и эстетически воспитыв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4360" y="476280"/>
            <a:ext cx="78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нение ИКТ на уроках музыки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8" descr="i?id=55528016&amp;tov=7"/>
          <p:cNvPicPr/>
          <p:nvPr/>
        </p:nvPicPr>
        <p:blipFill>
          <a:blip r:embed="rId1"/>
          <a:stretch/>
        </p:blipFill>
        <p:spPr>
          <a:xfrm>
            <a:off x="2987640" y="1628640"/>
            <a:ext cx="3000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Энциклопедия 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«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325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дчайшая коллекция муз. инструментов всех стран и народов, включая археологические нахо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накомит с историей возникновения и развития инструментов, особенностями устройства и зву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. Семейства музыкаль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стр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2. Музыкальные ансамб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3. Инструменты стран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4. Инструменты от А до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4572000" y="1484280"/>
            <a:ext cx="4314960" cy="430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009400" y="5734080"/>
            <a:ext cx="36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Более 1000 муз. фраг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выше 900 муз.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66"/>
                </a:solidFill>
                <a:latin typeface="Georgia"/>
              </a:rPr>
              <a:t>ШЕДЕВРЫ МУЗЫКИ</a:t>
            </a:r>
            <a:r>
              <a:rPr b="0" i="1" lang="ru-RU" sz="2800" spc="-1" strike="noStrike">
                <a:solidFill>
                  <a:srgbClr val="cc0066"/>
                </a:solidFill>
                <a:latin typeface="Georgia"/>
              </a:rPr>
              <a:t> -уникальный мультимедиапродукт для всех, кто интересуется классической музыкой </a:t>
            </a:r>
            <a:br>
              <a:rPr sz="2800"/>
            </a:br>
            <a:r>
              <a:rPr b="0" i="1" lang="ru-RU" sz="2800" spc="-1" strike="noStrike">
                <a:solidFill>
                  <a:srgbClr val="cc0066"/>
                </a:solidFill>
                <a:latin typeface="Georgia"/>
              </a:rPr>
              <a:t>и историей ее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4"/>
          <p:cNvPicPr/>
          <p:nvPr/>
        </p:nvPicPr>
        <p:blipFill>
          <a:blip r:embed="rId1"/>
          <a:stretch/>
        </p:blipFill>
        <p:spPr>
          <a:xfrm>
            <a:off x="793800" y="1946160"/>
            <a:ext cx="3670200" cy="41752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98720" y="1699920"/>
            <a:ext cx="4444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терактивные рассказы  о 80 шедеврах классической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звученные лекции, рассказывающие об эпохах и музыкальных  жан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иблиографические стат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 40 композит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2000 ста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бразцы звучания муз. инстр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1000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коло 10 часов звука, видеофрагменты опер и бал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1403280" y="2141640"/>
          <a:ext cx="27925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41640"/>
                    <a:ext cx="2792520" cy="320040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отовое сопровождение  к  огромному количеству песен способствует значительному расширению круга исполняемых произведен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интенсивному формированию музыкальных вкусов детей и их исполнительски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спользуемые в работе микрофоны  становятся мощным дополнительным стимулом  для музыкальных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ащиеся имеют возможность показать себя с лучшей стороны, чувствуют себя настоящими артист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692360" y="549360"/>
            <a:ext cx="293364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ние КАРАО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41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етям предстоит сделать новые муз. инструменты, узнать как они звучат, сыграть на них мелодию в любом стиле - джаз, рок-н-ролл, кантри, валь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жно разучить песни и станцевать вместе с друз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полняя задания уч-ся получают: представление об азах муз. грамоты – нотах, ритме и муз. сти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бята развивают память, логику, творческое мышление, муз. 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6"/>
          <p:cNvPicPr/>
          <p:nvPr/>
        </p:nvPicPr>
        <p:blipFill>
          <a:blip r:embed="rId1"/>
          <a:stretch/>
        </p:blipFill>
        <p:spPr>
          <a:xfrm>
            <a:off x="5076720" y="1484280"/>
            <a:ext cx="3767400" cy="39495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1619280" y="0"/>
            <a:ext cx="6305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иффорд. Угадай мелодию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381560" y="5607000"/>
            <a:ext cx="4762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нтернет –магаз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абиринт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abirint-shop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олеро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olero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й класс-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то веселое развлечение, игра и уроки музыки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ет описание различных типов муз. инструментов (старинных, классических, современных), позволяет услышать их звуч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ит сведения по теории музыки (гармония, интервал, мелодия, тон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ет представление о различных муз. стилях и жанрах (джаз, рок, рэп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брав песню из перечня, можно исполнить ее под фонограмму, записать на компьютер и прослушать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"/>
          <p:cNvPicPr/>
          <p:nvPr/>
        </p:nvPicPr>
        <p:blipFill>
          <a:blip r:embed="rId1"/>
          <a:stretch/>
        </p:blipFill>
        <p:spPr>
          <a:xfrm>
            <a:off x="503280" y="1620720"/>
            <a:ext cx="4157640" cy="42768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542160" y="5805360"/>
            <a:ext cx="39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нтернет-магазин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WW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MG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4246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т компьютера в домашнем пользовании у многих учащихся и педагог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достаточная компьютерная грамотность педагог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ремя самостоятельных занятий в компьютерных классах отведено далеко не во всех школ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педагога недостаточно времени для подготовки к занятию, на котором используются И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сутствие контакта с учителем информат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абочем графике педагога не отведено время для исследования возможностей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2627280" y="69228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250920" y="260280"/>
            <a:ext cx="864216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менение информационных технологий позволяет:</a:t>
            </a: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-новому использовать на уроках музыки текстовую, звуковую, графическую и видеоинформацию и её источ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Обогащать методические возможности урока музыки, придать ему современный уров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могать активизации творческого потенциал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Способствовать воспитанию интереса к музыкальн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ормировать духовный мир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i?id=140138973&amp;tov=5"/>
          <p:cNvPicPr/>
          <p:nvPr/>
        </p:nvPicPr>
        <p:blipFill>
          <a:blip r:embed="rId1"/>
          <a:stretch/>
        </p:blipFill>
        <p:spPr>
          <a:xfrm>
            <a:off x="7667640" y="3645000"/>
            <a:ext cx="1047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0920" y="404640"/>
            <a:ext cx="8713800" cy="68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имущества использования ИКТ в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д традиционным обуч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нформационные технологии значительно расширяют возможности предъявления учебной информ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именение цвета, графики, звука, всех современных средств видеотехники воссоздают реальную обстановку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омпьютер позволяет существенно повысить мотивацию учащихся к обу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КТ вовлекают обучающихся в учебный процесс, способствуют наиболее широкому раскрытию их творческих способностей, активизации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могают качественно изменить контроль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зволяют наглядно представить результат своих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i?id=140138973&amp;tov=5"/>
          <p:cNvPicPr/>
          <p:nvPr/>
        </p:nvPicPr>
        <p:blipFill>
          <a:blip r:embed="rId1"/>
          <a:stretch/>
        </p:blipFill>
        <p:spPr>
          <a:xfrm>
            <a:off x="7885080" y="5661000"/>
            <a:ext cx="1047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ффективность применения информационных технологий значительно повышается за счет реализации основных принципов работы уч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стематичность применения 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етентность учителя в компьютерных технолог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рес и инициатива самого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вор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ременные технически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граммное методическое обеспечени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?id=48483554&amp;tov=0"/>
          <p:cNvPicPr/>
          <p:nvPr/>
        </p:nvPicPr>
        <p:blipFill>
          <a:blip r:embed="rId1"/>
          <a:stretch/>
        </p:blipFill>
        <p:spPr>
          <a:xfrm>
            <a:off x="6877080" y="3068640"/>
            <a:ext cx="1971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260280"/>
            <a:ext cx="87138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Направления использования ИКТ в работе учителя муз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редство наглядности на занятиях при изучении нового материала (мультимедиа, видео, компакт-дис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изложенного материала (обучающие програм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практических занятий, самостоя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и проверка знаний учащихся (викторины, тес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а качества обучения (тес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презентаций, докладов, выступ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бразование учащихся и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съемка школьных мероприятий и создание видеоте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информации через подключение к Интерн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ереп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0"/>
            <a:ext cx="8642160" cy="70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ханизмы использования ИКТ на уроках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В своей работе, на уроках музыки, помимо традиционных ТСО, я активно использую новые информационные технологии - мультимедийные возможности, предоставляемые компью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На компьютерном диске, который я готовлю заранее к нужному  уроку находится весь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 Unicode MS"/>
              </a:rPr>
              <a:t>иллюстративный материал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музыкальные аудиозаписи, фонограммы песен, тексты, цитаты, рисунки, фото, портреты, сцены из спектаклей, фрагменты опер, балетов, видеоклипы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Это значительно облегчает подачу учебного материала и его усв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овизна средств вызывает удивление у школьников. Чудеса на экране в классе, почти как чудеса в сказке. Все это умножает силу воздействия, как педагогических приемов, так и сам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?id=29757715&amp;tov=5"/>
          <p:cNvPicPr/>
          <p:nvPr/>
        </p:nvPicPr>
        <p:blipFill>
          <a:blip r:embed="rId1"/>
          <a:stretch/>
        </p:blipFill>
        <p:spPr>
          <a:xfrm>
            <a:off x="250920" y="189000"/>
            <a:ext cx="666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6fdb"/>
                </a:solidFill>
                <a:latin typeface="Arial"/>
              </a:rPr>
              <a:t>Программы для работы с музыкой </a:t>
            </a:r>
            <a:br>
              <a:rPr sz="3600"/>
            </a:br>
            <a:r>
              <a:rPr b="0" lang="ru-RU" sz="3600" spc="-1" strike="noStrike">
                <a:solidFill>
                  <a:srgbClr val="986fdb"/>
                </a:solidFill>
                <a:latin typeface="Arial"/>
              </a:rPr>
              <a:t>    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cument"/>
          <p:cNvSpPr/>
          <p:nvPr/>
        </p:nvSpPr>
        <p:spPr>
          <a:xfrm>
            <a:off x="3564000" y="5084640"/>
            <a:ext cx="2419200" cy="1451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 для пения кара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cument"/>
          <p:cNvSpPr/>
          <p:nvPr/>
        </p:nvSpPr>
        <p:spPr>
          <a:xfrm>
            <a:off x="3348000" y="1628640"/>
            <a:ext cx="249552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соч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cument"/>
          <p:cNvSpPr/>
          <p:nvPr/>
        </p:nvSpPr>
        <p:spPr>
          <a:xfrm>
            <a:off x="324000" y="1628640"/>
            <a:ext cx="261288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игры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cument"/>
          <p:cNvSpPr/>
          <p:nvPr/>
        </p:nvSpPr>
        <p:spPr>
          <a:xfrm>
            <a:off x="6227640" y="1628640"/>
            <a:ext cx="264816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констру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932360" y="3500280"/>
            <a:ext cx="264780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Обуч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cument"/>
          <p:cNvSpPr/>
          <p:nvPr/>
        </p:nvSpPr>
        <p:spPr>
          <a:xfrm>
            <a:off x="826920" y="3429000"/>
            <a:ext cx="264816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энциклоп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217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5 часов классической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400 биографических ста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200 статей о произвед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оварь муз.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12 тематических экскурсий о муз. культуре раз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идеофрагменты и ани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уз. викторины различной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Хро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-1"/>
          <p:cNvPicPr/>
          <p:nvPr/>
        </p:nvPicPr>
        <p:blipFill>
          <a:blip r:embed="rId1"/>
          <a:stretch/>
        </p:blipFill>
        <p:spPr>
          <a:xfrm>
            <a:off x="324000" y="1557360"/>
            <a:ext cx="4160520" cy="416088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1476360" y="404640"/>
            <a:ext cx="662472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нциклопедия классической музыки</a:t>
            </a:r>
            <a:endParaRPr b="0" lang="en-US" sz="2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88000" y="1699920"/>
            <a:ext cx="414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Иллюстрированная истор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зарубежной поп. 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-отечественной поп. 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-дж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олее 3300 ста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000 иллюст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600 аудиофраг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3 видеофраг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ловарь: 400 муз.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2"/>
          <p:cNvPicPr/>
          <p:nvPr/>
        </p:nvPicPr>
        <p:blipFill>
          <a:blip r:embed="rId1"/>
          <a:stretch/>
        </p:blipFill>
        <p:spPr>
          <a:xfrm>
            <a:off x="503280" y="1851120"/>
            <a:ext cx="4179960" cy="3987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66" name="WordArt 4"/>
          <p:cNvSpPr txBox="1"/>
          <p:nvPr/>
        </p:nvSpPr>
        <p:spPr>
          <a:xfrm>
            <a:off x="900000" y="476280"/>
            <a:ext cx="753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нциклопедия популярной музыки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5880" y="1125360"/>
            <a:ext cx="48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Посвящена року, джазу  и поп - му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9:29:58Z</dcterms:created>
  <dc:creator>User</dc:creator>
  <dc:description/>
  <dc:language>en-US</dc:language>
  <cp:lastModifiedBy>Коля</cp:lastModifiedBy>
  <dcterms:modified xsi:type="dcterms:W3CDTF">2013-03-20T19:23:42Z</dcterms:modified>
  <cp:revision>9</cp:revision>
  <dc:subject/>
  <dc:title>Слайд 1</dc:title>
</cp:coreProperties>
</file>