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4EEA-91E3-4545-8021-200949CA2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C9D0-94C4-4AB9-B603-218F8FFE4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1C0F-CE42-4AC0-B0A7-90E81FBD3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F3BF-7F55-45F7-9ED9-61A44C86E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6F69-712D-4189-AD7D-18BCB6BC2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0475-D7DB-4857-97ED-CD8C1BAF4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6D6A-30C8-49AF-BEDB-E91EBD210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5BC7-E468-4D9F-86DE-0D8E4CD73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253F-D0C2-48AC-98AC-A470C31E3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3227-7E04-45EA-8C6D-495273A6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C08C-2CFC-438D-8965-A01AD8DA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E6AC-5B90-4A57-84AA-2E8E814A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28CBD-2ABD-45AA-AE8F-8FEFA055A2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hyperlink" Target="http://www.labirint-shop.ru/" TargetMode="External"/><Relationship Id="rId5" Type="http://schemas.openxmlformats.org/officeDocument/2006/relationships/hyperlink" Target="http://www.bolero.ru/" TargetMode="External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50920" y="3933720"/>
            <a:ext cx="8640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Verdana"/>
              </a:rPr>
              <a:t>Как  сделать урок интересным, запоминающимся, развивающим ученика, нравственно и эстетически воспитывающи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684360" y="476280"/>
            <a:ext cx="780084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именение ИКТ на уроках музыки</a:t>
            </a:r>
            <a:endParaRPr b="0" lang="en-US" sz="40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3" name="Picture 8" descr="i?id=55528016&amp;tov=7"/>
          <p:cNvPicPr/>
          <p:nvPr/>
        </p:nvPicPr>
        <p:blipFill>
          <a:blip r:embed="rId1"/>
          <a:stretch/>
        </p:blipFill>
        <p:spPr>
          <a:xfrm>
            <a:off x="2987640" y="1628640"/>
            <a:ext cx="300024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Энциклопедия </a:t>
            </a:r>
            <a:br>
              <a:rPr sz="4000"/>
            </a:br>
            <a:r>
              <a:rPr b="0" lang="ru-RU" sz="4000" spc="-1" strike="noStrike">
                <a:solidFill>
                  <a:srgbClr val="cc0066"/>
                </a:solidFill>
                <a:latin typeface="Arial"/>
              </a:rPr>
              <a:t>«Музыкальные инструмент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43257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Редчайшая коллекция муз. инструментов всех стран и народов, включая археологические наход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Знакомит с историей возникновения и развития инструментов, особенностями устройства и звуч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66"/>
                </a:solidFill>
                <a:uFillTx/>
                <a:latin typeface="Arial"/>
              </a:rPr>
              <a:t>Раздел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1. Семейства музыкальных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инструмен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2. Музыкальные ансамбл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3. Инструменты стран ми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4. Инструменты от А до 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3"/>
          <p:cNvPicPr/>
          <p:nvPr/>
        </p:nvPicPr>
        <p:blipFill>
          <a:blip r:embed="rId1"/>
          <a:stretch/>
        </p:blipFill>
        <p:spPr>
          <a:xfrm>
            <a:off x="4572000" y="1484280"/>
            <a:ext cx="4314960" cy="4302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5009400" y="5734080"/>
            <a:ext cx="365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Более 1000 муз. фрагмен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Свыше 900 муз. инстр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cc0066"/>
                </a:solidFill>
                <a:latin typeface="Georgia"/>
              </a:rPr>
              <a:t>ШЕДЕВРЫ МУЗЫКИ</a:t>
            </a:r>
            <a:r>
              <a:rPr b="0" i="1" lang="ru-RU" sz="2800" spc="-1" strike="noStrike">
                <a:solidFill>
                  <a:srgbClr val="cc0066"/>
                </a:solidFill>
                <a:latin typeface="Georgia"/>
              </a:rPr>
              <a:t> -уникальный мультимедиапродукт для всех, кто интересуется классической музыкой </a:t>
            </a:r>
            <a:br>
              <a:rPr sz="2800"/>
            </a:br>
            <a:r>
              <a:rPr b="0" i="1" lang="ru-RU" sz="2800" spc="-1" strike="noStrike">
                <a:solidFill>
                  <a:srgbClr val="cc0066"/>
                </a:solidFill>
                <a:latin typeface="Georgia"/>
              </a:rPr>
              <a:t>и историей ее разви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4"/>
          <p:cNvPicPr/>
          <p:nvPr/>
        </p:nvPicPr>
        <p:blipFill>
          <a:blip r:embed="rId1"/>
          <a:stretch/>
        </p:blipFill>
        <p:spPr>
          <a:xfrm>
            <a:off x="793800" y="1946160"/>
            <a:ext cx="3670200" cy="4175280"/>
          </a:xfrm>
          <a:prstGeom prst="rect">
            <a:avLst/>
          </a:prstGeom>
          <a:ln w="28440">
            <a:solidFill>
              <a:srgbClr val="000066"/>
            </a:solidFill>
            <a:miter/>
          </a:ln>
        </p:spPr>
      </p:pic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98720" y="1699920"/>
            <a:ext cx="44449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Интерактивные рассказы  о 80 шедеврах классической музы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Озвученные лекции, рассказывающие об эпохах и музыкальных  жанр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Библиографические стать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о 40 композитор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Более 2000 ста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Образцы звучания муз. инструмент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Более 1000 иллюстр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Около 10 часов звука, видеофрагменты опер и бале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2"/>
          <p:cNvGraphicFramePr/>
          <p:nvPr/>
        </p:nvGraphicFramePr>
        <p:xfrm>
          <a:off x="1403280" y="2141640"/>
          <a:ext cx="279252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141640"/>
                    <a:ext cx="2792520" cy="3200400"/>
                  </a:xfrm>
                  <a:prstGeom prst="rect">
                    <a:avLst/>
                  </a:prstGeom>
                  <a:ln w="38160">
                    <a:solidFill>
                      <a:srgbClr val="000066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642920" y="692280"/>
            <a:ext cx="40388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22640" indent="-4226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Готовое сопровождение  к  огромному количеству песен способствует значительному расширению круга исполняемых произведений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2640" indent="-4226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более интенсивному формированию музыкальных вкусов детей и их исполнительских способност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2640" indent="-4226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Используемые в работе микрофоны  становятся мощным дополнительным стимулом  для музыкальных занят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2640" indent="-4226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Учащиеся имеют возможность показать себя с лучшей стороны, чувствуют себя настоящими артистами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WordArt 4"/>
          <p:cNvSpPr txBox="1"/>
          <p:nvPr/>
        </p:nvSpPr>
        <p:spPr>
          <a:xfrm>
            <a:off x="1692360" y="549360"/>
            <a:ext cx="2933640" cy="63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ние КАРАОК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4000" y="1484280"/>
            <a:ext cx="41036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Детям предстоит сделать новые муз. инструменты, узнать как они звучат, сыграть на них мелодию в любом стиле - джаз, рок-н-ролл, кантри, вальс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Можно разучить песни и станцевать вместе с друзь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Выполняя задания уч-ся получают: представление об азах муз. грамоты – нотах, ритме и муз. стил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Ребята развивают память, логику, творческое мышление, муз. слу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6"/>
          <p:cNvPicPr/>
          <p:nvPr/>
        </p:nvPicPr>
        <p:blipFill>
          <a:blip r:embed="rId1"/>
          <a:stretch/>
        </p:blipFill>
        <p:spPr>
          <a:xfrm>
            <a:off x="5076720" y="1484280"/>
            <a:ext cx="3767400" cy="3949560"/>
          </a:xfrm>
          <a:prstGeom prst="rect">
            <a:avLst/>
          </a:prstGeom>
          <a:ln w="0">
            <a:noFill/>
          </a:ln>
        </p:spPr>
      </p:pic>
      <p:sp>
        <p:nvSpPr>
          <p:cNvPr id="81" name="WordArt 4"/>
          <p:cNvSpPr txBox="1"/>
          <p:nvPr/>
        </p:nvSpPr>
        <p:spPr>
          <a:xfrm>
            <a:off x="1619280" y="0"/>
            <a:ext cx="63054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лиффорд. Угадай мелодию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4381560" y="5607000"/>
            <a:ext cx="47624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                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Интернет –магази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Лабиринт»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labirint-shop.ru/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Болеро»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bolero.ru/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узыкальный класс- 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это веселое развлечение, игра и уроки музыки одновремен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Дает описание различных типов муз. инструментов (старинных, классических, современных), позволяет услышать их звуча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Содержит сведения по теории музыки (гармония, интервал, мелодия, тон…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Дает представление о различных муз. стилях и жанрах (джаз, рок, рэп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Выбрав песню из перечня, можно исполнить ее под фонограмму, записать на компьютер и прослушать результа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5"/>
          <p:cNvPicPr/>
          <p:nvPr/>
        </p:nvPicPr>
        <p:blipFill>
          <a:blip r:embed="rId1"/>
          <a:stretch/>
        </p:blipFill>
        <p:spPr>
          <a:xfrm>
            <a:off x="503280" y="1620720"/>
            <a:ext cx="4157640" cy="4276800"/>
          </a:xfrm>
          <a:prstGeom prst="rect">
            <a:avLst/>
          </a:prstGeom>
          <a:ln w="28440">
            <a:solidFill>
              <a:srgbClr val="000066"/>
            </a:solidFill>
            <a:miter/>
          </a:ln>
        </p:spPr>
      </p:pic>
      <p:sp>
        <p:nvSpPr>
          <p:cNvPr id="86" name="Text Box 5"/>
          <p:cNvSpPr/>
          <p:nvPr/>
        </p:nvSpPr>
        <p:spPr>
          <a:xfrm>
            <a:off x="542160" y="5805360"/>
            <a:ext cx="396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нтернет-магазин: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WW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NMG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042920" y="1628640"/>
            <a:ext cx="742464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ет компьютера в домашнем пользовании у многих учащихся и педагогов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едостаточная компьютерная грамотность педагог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ремя самостоятельных занятий в компьютерных классах отведено далеко не во всех школах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 педагога недостаточно времени для подготовки к занятию, на котором используются ИКТ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тсутствие контакта с учителем информатик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рабочем графике педагога не отведено время для исследования возможностей Интерн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3"/>
          <p:cNvSpPr txBox="1"/>
          <p:nvPr/>
        </p:nvSpPr>
        <p:spPr>
          <a:xfrm>
            <a:off x="2627280" y="692280"/>
            <a:ext cx="4067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блемы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5"/>
          <p:cNvSpPr/>
          <p:nvPr/>
        </p:nvSpPr>
        <p:spPr>
          <a:xfrm>
            <a:off x="250920" y="260280"/>
            <a:ext cx="8642160" cy="70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Применение информационных технологий позволяет:</a:t>
            </a:r>
            <a:r>
              <a:rPr b="1" i="1" lang="ru-RU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45000"/>
              </a:lnSpc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По-новому использовать на уроках музыки текстовую, звуковую, графическую и видеоинформацию и её источн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45000"/>
              </a:lnSpc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Обогащать методические возможности урока музыки, придать ему современный уровен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45000"/>
              </a:lnSpc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Помогать активизации творческого потенциала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45000"/>
              </a:lnSpc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Способствовать воспитанию интереса к музыкальной культур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45000"/>
              </a:lnSpc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Формировать духовный мир ребен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4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i?id=140138973&amp;tov=5"/>
          <p:cNvPicPr/>
          <p:nvPr/>
        </p:nvPicPr>
        <p:blipFill>
          <a:blip r:embed="rId1"/>
          <a:stretch/>
        </p:blipFill>
        <p:spPr>
          <a:xfrm>
            <a:off x="7667640" y="3645000"/>
            <a:ext cx="104760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5"/>
          <p:cNvSpPr/>
          <p:nvPr/>
        </p:nvSpPr>
        <p:spPr>
          <a:xfrm>
            <a:off x="250920" y="404640"/>
            <a:ext cx="8713800" cy="68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еимущества использования ИКТ в образова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еред традиционным обучение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Информационные технологии значительно расширяют возможности предъявления учебной информа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Применение цвета, графики, звука, всех современных средств видеотехники воссоздают реальную обстановку действи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Компьютер позволяет существенно повысить мотивацию учащихся к обуч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ИКТ вовлекают обучающихся в учебный процесс, способствуют наиболее широкому раскрытию их творческих способностей, активизации познавательн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Помогают качественно изменить контроль деятельности уча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Позволяют наглядно представить результат своих действ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i?id=140138973&amp;tov=5"/>
          <p:cNvPicPr/>
          <p:nvPr/>
        </p:nvPicPr>
        <p:blipFill>
          <a:blip r:embed="rId1"/>
          <a:stretch/>
        </p:blipFill>
        <p:spPr>
          <a:xfrm>
            <a:off x="7885080" y="5661000"/>
            <a:ext cx="104796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250920" y="333360"/>
            <a:ext cx="8713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Эффективность применения информационных технологий значительно повышается за счет реализации основных принципов работы учител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истематичность применения 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омпетентность учителя в компьютерных технолог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Интерес и инициатива самого учите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Творче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овременные технические сред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рограммное методическое обеспечение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i?id=48483554&amp;tov=0"/>
          <p:cNvPicPr/>
          <p:nvPr/>
        </p:nvPicPr>
        <p:blipFill>
          <a:blip r:embed="rId1"/>
          <a:stretch/>
        </p:blipFill>
        <p:spPr>
          <a:xfrm>
            <a:off x="6877080" y="3068640"/>
            <a:ext cx="19717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179280" y="260280"/>
            <a:ext cx="8713800" cy="68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99"/>
                </a:solidFill>
                <a:latin typeface="Arial"/>
              </a:rPr>
              <a:t>Направления использования ИКТ в работе учителя музы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средство наглядности на занятиях при изучении нового материала (мультимедиа, видео, компакт-диск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крепление изложенного материала (обучающие программ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едение практических занятий, самостоятельной рабо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троль и проверка знаний учащихся (викторины, тес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агностика качества обучения (тесты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готовка презентаций, докладов, выступл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мообразование учащихся и педагог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деосъемка школьных мероприятий и создание видеоте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учение информации через подключение к Интернет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ктронная перепис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250920" y="0"/>
            <a:ext cx="8642160" cy="70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Механизмы использования ИКТ на уроках музы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66"/>
                </a:solidFill>
                <a:latin typeface="Arial Unicode MS"/>
              </a:rPr>
              <a:t>В своей работе, на уроках музыки, помимо традиционных ТСО, я активно использую новые информационные технологии - мультимедийные возможности, предоставляемые компьютер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 Unicode MS"/>
              </a:rPr>
              <a:t>	</a:t>
            </a:r>
            <a:r>
              <a:rPr b="1" lang="ru-RU" sz="1600" spc="-1" strike="noStrike">
                <a:solidFill>
                  <a:srgbClr val="000066"/>
                </a:solidFill>
                <a:latin typeface="Arial Unicode MS"/>
              </a:rPr>
              <a:t>На компьютерном диске, который я готовлю заранее к нужному  уроку находится весь </a:t>
            </a:r>
            <a:r>
              <a:rPr b="1" lang="ru-RU" sz="1600" spc="-1" strike="noStrike" u="sng">
                <a:solidFill>
                  <a:srgbClr val="000066"/>
                </a:solidFill>
                <a:uFillTx/>
                <a:latin typeface="Arial Unicode MS"/>
              </a:rPr>
              <a:t>иллюстративный материал</a:t>
            </a:r>
            <a:r>
              <a:rPr b="1" lang="ru-RU" sz="1600" spc="-1" strike="noStrike">
                <a:solidFill>
                  <a:srgbClr val="000066"/>
                </a:solidFill>
                <a:latin typeface="Arial Unicode MS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Arial"/>
              </a:rPr>
              <a:t>музыкальные аудиозаписи, фонограммы песен, тексты, цитаты, рисунки, фото, портреты, сцены из спектаклей, фрагменты опер, балетов, видеоклипы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Это значительно облегчает подачу учебного материала и его усво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Новизна средств вызывает удивление у школьников. Чудеса на экране в классе, почти как чудеса в сказке. Все это умножает силу воздействия, как педагогических приемов, так и самого искус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i?id=29757715&amp;tov=5"/>
          <p:cNvPicPr/>
          <p:nvPr/>
        </p:nvPicPr>
        <p:blipFill>
          <a:blip r:embed="rId1"/>
          <a:stretch/>
        </p:blipFill>
        <p:spPr>
          <a:xfrm>
            <a:off x="250920" y="189000"/>
            <a:ext cx="66672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86fdb"/>
                </a:solidFill>
                <a:latin typeface="Arial"/>
              </a:rPr>
              <a:t>Программы для работы с музыкой </a:t>
            </a:r>
            <a:br>
              <a:rPr sz="3600"/>
            </a:br>
            <a:r>
              <a:rPr b="0" lang="ru-RU" sz="3600" spc="-1" strike="noStrike">
                <a:solidFill>
                  <a:srgbClr val="986fdb"/>
                </a:solidFill>
                <a:latin typeface="Arial"/>
              </a:rPr>
              <a:t>    на компьюте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Document"/>
          <p:cNvSpPr/>
          <p:nvPr/>
        </p:nvSpPr>
        <p:spPr>
          <a:xfrm>
            <a:off x="3564000" y="5084640"/>
            <a:ext cx="2419200" cy="1451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6fdb"/>
                </a:solidFill>
                <a:latin typeface="Georgia"/>
              </a:rPr>
              <a:t>Программы для пения карао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Document"/>
          <p:cNvSpPr/>
          <p:nvPr/>
        </p:nvSpPr>
        <p:spPr>
          <a:xfrm>
            <a:off x="3348000" y="1628640"/>
            <a:ext cx="2495520" cy="14479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6fdb"/>
                </a:solidFill>
                <a:latin typeface="Georgia"/>
              </a:rPr>
              <a:t>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6fdb"/>
                </a:solidFill>
                <a:latin typeface="Georgia"/>
              </a:rPr>
              <a:t>д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6fdb"/>
                </a:solidFill>
                <a:latin typeface="Georgia"/>
              </a:rPr>
              <a:t>сочи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6fdb"/>
                </a:solidFill>
                <a:latin typeface="Georgia"/>
              </a:rPr>
              <a:t>музы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Document"/>
          <p:cNvSpPr/>
          <p:nvPr/>
        </p:nvSpPr>
        <p:spPr>
          <a:xfrm>
            <a:off x="324000" y="1628640"/>
            <a:ext cx="2612880" cy="14479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6fdb"/>
                </a:solidFill>
                <a:latin typeface="Georgia"/>
              </a:rPr>
              <a:t>Музыка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6fdb"/>
                </a:solidFill>
                <a:latin typeface="Georgia"/>
              </a:rPr>
              <a:t>проигрыва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Document"/>
          <p:cNvSpPr/>
          <p:nvPr/>
        </p:nvSpPr>
        <p:spPr>
          <a:xfrm>
            <a:off x="6227640" y="1628640"/>
            <a:ext cx="2648160" cy="14479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6fdb"/>
                </a:solidFill>
                <a:latin typeface="Georgia"/>
              </a:rPr>
              <a:t>Музыка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6fdb"/>
                </a:solidFill>
                <a:latin typeface="Georgia"/>
              </a:rPr>
              <a:t>конструкт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932360" y="3500280"/>
            <a:ext cx="2647800" cy="14479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6fdb"/>
                </a:solidFill>
                <a:latin typeface="Georgia"/>
              </a:rPr>
              <a:t>Обучающ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6fdb"/>
                </a:solidFill>
                <a:latin typeface="Georgia"/>
              </a:rPr>
              <a:t>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Document"/>
          <p:cNvSpPr/>
          <p:nvPr/>
        </p:nvSpPr>
        <p:spPr>
          <a:xfrm>
            <a:off x="826920" y="3429000"/>
            <a:ext cx="2648160" cy="14479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6fdb"/>
                </a:solidFill>
                <a:latin typeface="Georgia"/>
              </a:rPr>
              <a:t>Музыка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6fdb"/>
                </a:solidFill>
                <a:latin typeface="Georgia"/>
              </a:rPr>
              <a:t>энциклопед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2177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5 часов классической музы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400 биографических ста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200 статей о произведен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словарь муз. терми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12 тематических экскурсий о муз. культуре разных стр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видеофрагменты и аним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Муз. викторины различной слож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Хрон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1-1"/>
          <p:cNvPicPr/>
          <p:nvPr/>
        </p:nvPicPr>
        <p:blipFill>
          <a:blip r:embed="rId1"/>
          <a:stretch/>
        </p:blipFill>
        <p:spPr>
          <a:xfrm>
            <a:off x="324000" y="1557360"/>
            <a:ext cx="4160520" cy="4160880"/>
          </a:xfrm>
          <a:prstGeom prst="rect">
            <a:avLst/>
          </a:prstGeom>
          <a:ln w="0">
            <a:noFill/>
          </a:ln>
        </p:spPr>
      </p:pic>
      <p:sp>
        <p:nvSpPr>
          <p:cNvPr id="63" name="WordArt 4"/>
          <p:cNvSpPr txBox="1"/>
          <p:nvPr/>
        </p:nvSpPr>
        <p:spPr>
          <a:xfrm>
            <a:off x="1476360" y="404640"/>
            <a:ext cx="6624720" cy="7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66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Энциклопедия классической музыки</a:t>
            </a:r>
            <a:endParaRPr b="0" lang="en-US" sz="2800" spc="1" strike="noStrike">
              <a:ln w="9360">
                <a:solidFill>
                  <a:srgbClr val="ff66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788000" y="1699920"/>
            <a:ext cx="4146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Иллюстрированная истор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i="1" lang="ru-RU" sz="2200" spc="-1" strike="noStrike">
                <a:solidFill>
                  <a:srgbClr val="cc3300"/>
                </a:solidFill>
                <a:latin typeface="Arial"/>
              </a:rPr>
              <a:t>зарубежной поп. музы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cc3300"/>
                </a:solidFill>
                <a:latin typeface="Arial"/>
              </a:rPr>
              <a:t>-отечественной поп. музы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cc3300"/>
                </a:solidFill>
                <a:latin typeface="Arial"/>
              </a:rPr>
              <a:t>-джа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Более 3300 ста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3000 иллюстр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600 аудиофраг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23 видеофраг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Словарь: 400 муз. терми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2"/>
          <p:cNvPicPr/>
          <p:nvPr/>
        </p:nvPicPr>
        <p:blipFill>
          <a:blip r:embed="rId1"/>
          <a:stretch/>
        </p:blipFill>
        <p:spPr>
          <a:xfrm>
            <a:off x="503280" y="1851120"/>
            <a:ext cx="4179960" cy="3987720"/>
          </a:xfrm>
          <a:prstGeom prst="rect">
            <a:avLst/>
          </a:prstGeom>
          <a:ln w="57240">
            <a:solidFill>
              <a:srgbClr val="000066"/>
            </a:solidFill>
            <a:miter/>
          </a:ln>
        </p:spPr>
      </p:pic>
      <p:sp>
        <p:nvSpPr>
          <p:cNvPr id="66" name="WordArt 4"/>
          <p:cNvSpPr txBox="1"/>
          <p:nvPr/>
        </p:nvSpPr>
        <p:spPr>
          <a:xfrm>
            <a:off x="900000" y="476280"/>
            <a:ext cx="7534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Энциклопедия популярной музыки 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605880" y="1125360"/>
            <a:ext cx="482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66"/>
                </a:solidFill>
                <a:latin typeface="Arial"/>
              </a:rPr>
              <a:t>Посвящена року, джазу  и поп - музы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5T09:29:58Z</dcterms:created>
  <dc:creator>User</dc:creator>
  <dc:description/>
  <dc:language>en-US</dc:language>
  <cp:lastModifiedBy>Коля</cp:lastModifiedBy>
  <dcterms:modified xsi:type="dcterms:W3CDTF">2013-03-20T19:23:42Z</dcterms:modified>
  <cp:revision>9</cp:revision>
  <dc:subject/>
  <dc:title>Слайд 1</dc:title>
</cp:coreProperties>
</file>