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DE6-10BA-47B5-BC42-8666CBAB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49E-C85F-43A6-8B7C-FCEFDEDA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763-04B7-448F-9355-7C04C647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85920"/>
            <a:ext cx="27493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E88-E9FF-400E-909D-321A6B31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BBE-F454-4711-B511-A33791DA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9C8-4BC2-4955-AB79-BC3E76CF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49E-B2DA-4311-8415-1B2DF1A0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872-4906-4EFC-B681-9D77A768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174600"/>
            <a:ext cx="8508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DDA-7CD4-4387-B939-AC561410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AB0-582B-4F37-A5F1-6A85AD2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8592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A9F-FB3A-4B04-BB05-BA6E0D8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676160"/>
            <a:ext cx="41670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5920"/>
            <a:ext cx="853920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4B4-72CD-4908-89C5-C3B4016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174600"/>
            <a:ext cx="8508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392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42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45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0706E8-DFCA-4968-A7E5-E1EAF69969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-273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b7e7ff"/>
                </a:solidFill>
                <a:uFillTx/>
                <a:latin typeface="Arial"/>
              </a:rPr>
              <a:t>Мой любимый вид спорта фигурное катание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2286000" y="1643040"/>
            <a:ext cx="64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составил ученик 1 «б» к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лазов Констан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Чикилева Ирина Алексе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165480" y="162000"/>
            <a:ext cx="58341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для н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боком на стуле, одна рука на спинк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ругая на сиденье стул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гнуть ноги, приподняв их с по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атем встать и снова перейти в прежнее положение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подняв согнутые но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916000" cy="3446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79280" y="4026600"/>
            <a:ext cx="46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4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тоя спиной к стулу, руки на поясе, сесть на стул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оги вытянуть вперед. Затем, опустив ноги на пол, опять вста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580000" y="3240000"/>
            <a:ext cx="31323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280" y="2700000"/>
            <a:ext cx="85410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172800"/>
            <a:ext cx="8510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9360" y="16966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архива семьи Поглаз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и из семейного архива Базаров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Вместе со своей семьей мы очень любим ходить на каток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68360" y="2340000"/>
            <a:ext cx="3851280" cy="382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95604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один из самых популярных и красивых зимних видов спорта, входящих в программу Олимпийских игр. Кроме широкого разнообразия спортивных состязаний в различных дисциплинах фигурного катания, по всему миру проводится большое количество разного рода шоу – программ, например, всемирно известное шоу «Звезды на льду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гурное катание на коньках – одно из наиболее популярных видов спорта, отличающийся высокой эмоциональностью и выразительностью дв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471400" y="719280"/>
            <a:ext cx="408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кататься на ка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асшитом блестками пл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ять улыбкой глаз и губ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ыполнять тройной тулуп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о задом ехать, то бо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ращаться бешеным волчк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овороте, на ви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юблю подпрыгнуть на катк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 приземлившись, вновь скольж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перед к зигзагу-вираж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пусть каток совсем не т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де ждет тебя зеркальный л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сфальт укладывает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весит пару-тройку тон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о очень дорог мне като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свежий воздуха глоток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етом в жаркие ден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 заменяет мне конь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11280" y="360360"/>
            <a:ext cx="352908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859280" y="3780000"/>
            <a:ext cx="360036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539640" y="30477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мские фигурис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700360" y="360360"/>
            <a:ext cx="3419280" cy="3240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95280" y="383220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ера Евгеньевна Базарова (род. 28 января 1993 года в Екатеринбурге) —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сийская фигуристк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ступающая в парном катании. В паре с Юрием Ларионовым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на — серебряный призёр чемпионата мира среди юниоро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007 года, двукратный бронзовый призёр чемпионатов России, бронзовый призёр чемпионата Европы 201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179280"/>
            <a:ext cx="558000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Юрий Юрьевич Ларионов (род. 19 августа 1986 года в Новосибирске) — российский фигурист, выступающий в парном катании. В паре с Верой Базаровой, он — серебряный призёр чемпионата мира среди юниоров 2007 года, двукратный бронзовый призёр чемпионатов России, бронзовый призёр чемпионата Европы 2011. Мастер спорта России международного класса[1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 состоянию на ноябрь 2011 года пара занимает 3-е место в рейтинге Международного союза конькобежцев (ИСУ)[2]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580000" y="1260360"/>
            <a:ext cx="34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982440"/>
            <a:ext cx="851832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 u="sng">
                <a:solidFill>
                  <a:srgbClr val="b7e7ff"/>
                </a:solidFill>
                <a:uFillTx/>
                <a:latin typeface="Arial"/>
              </a:rPr>
              <a:t>ФИЗИЧЕСКИЕ УПРАЖНЕН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-1446120"/>
            <a:ext cx="57592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зические упражнения типа потяг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Сидя на стуле, потяну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исти согнутых рук над плечами, пальцы выпрямлен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759280" y="189000"/>
            <a:ext cx="3240360" cy="3591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40000" y="3918600"/>
            <a:ext cx="5759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Сидя потянуться, подняв руки со сплетенными пальц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д голово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адони повернуты вверх. Смотреть на кисти ру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аждое упражнение ребенок должен повторить 2—3 раз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79280" y="3060720"/>
            <a:ext cx="3060720" cy="35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05:39Z</dcterms:created>
  <dc:creator>nastya</dc:creator>
  <dc:description/>
  <dc:language>en-US</dc:language>
  <cp:lastModifiedBy>Admin</cp:lastModifiedBy>
  <dcterms:modified xsi:type="dcterms:W3CDTF">2012-03-02T17:06:12Z</dcterms:modified>
  <cp:revision>11</cp:revision>
  <dc:subject/>
  <dc:title>Слайд 1</dc:title>
</cp:coreProperties>
</file>