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2B4-7E09-4B9D-8520-E6C44DC5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8C7-4F71-46DE-85B3-E2EB665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603-96FA-4C21-AA3A-701E4FD2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F51-E1C6-4569-BADD-EA29C51A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ACE-F7E3-4C52-9F4C-6591589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506-9CC1-4F99-A3F8-AB9CE26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A60-C865-4276-9BA9-1342BD7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FB6-B846-4BCE-B9A5-1B42159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092-AE77-40FB-AAA9-F2BB2A7E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0BA-F211-4230-A277-9E9E1C6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DE7-EFA1-4A36-9C6C-27EA8822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6F7-47B9-4774-A815-84DA685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B4E353-1D19-4930-9F48-97367579192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b7e7ff"/>
                </a:solidFill>
                <a:uFillTx/>
                <a:latin typeface="Arial"/>
              </a:rPr>
              <a:t>Мой любимый вид спорта фигурное катание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286000" y="1643040"/>
            <a:ext cx="64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составил ученик 1 «б» 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глазов Констан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Чикилева Ирина Алекс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165480" y="162000"/>
            <a:ext cx="58341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ческие упражнения для н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дя боком на стуле, одна рука на спинк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ругая на сиденье стул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гнуть ноги, приподняв их с по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тем встать и снова перейти в прежнее положени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подняв согнутые ног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916000" cy="3446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79280" y="4026600"/>
            <a:ext cx="46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4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оя спиной к стулу, руки на поясе, сесть на стул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оги вытянуть вперед. Затем, опустив ноги на пол, опять вста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31323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172800"/>
            <a:ext cx="8510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280" y="2700000"/>
            <a:ext cx="85410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2800"/>
            <a:ext cx="8510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360" y="16966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и из архива семьи Поглазо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и из семейного архива Базаро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Вместе со своей семьей мы очень любим ходить на каток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68360" y="2340000"/>
            <a:ext cx="3851280" cy="382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95604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гурное катание один из самых популярных и красивых зимних видов спорта, входящих в программу Олимпийских игр. Кроме широкого разнообразия спортивных состязаний в различных дисциплинах фигурного катания, по всему миру проводится большое количество разного рода шоу – программ, например, всемирно известное шоу «Звезды на льду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гурное катание на коньках – одно из наиболее популярных видов спорта, отличающийся высокой эмоциональностью и выразительностью дв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471400" y="719280"/>
            <a:ext cx="408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лю кататься на ка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асшитом блестками платк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ять улыбкой глаз и губ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выполнять тройной тулуп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 задом ехать, то бочк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ращаться бешеным волчк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овороте, на ви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лю подпрыгнуть на катк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 приземлившись, вновь скольж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перед к зигзагу-вираж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пусть каток совсем не т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ждет тебя зеркальный л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сфальт укладывает 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весит пару-тройку тон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 очень дорог мне кат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свежий воздуха глот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летом в жаркие ден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 заменяет мне конь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11280" y="360360"/>
            <a:ext cx="352908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859280" y="378000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9640" y="30477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мские фигурис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700360" y="360360"/>
            <a:ext cx="341928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95280" y="38322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ера Евгеньевна Базарова (род. 28 января 1993 года в Екатеринбурге) —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сийская фигуристк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ступающая в парном катании. В паре с Юрием Ларионовым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на — серебряный призёр чемпионата мира среди юниор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007 года, двукратный бронзовый призёр чемпионатов России, бронзовый призёр чемпионата Европы 201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179280"/>
            <a:ext cx="558000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Юрий Юрьевич Ларионов (род. 19 августа 1986 года в Новосибирске) — российский фигурист, выступающий в парном катании. В паре с Верой Базаровой, он — серебряный призёр чемпионата мира среди юниоров 2007 года, двукратный бронзовый призёр чемпионатов России, бронзовый призёр чемпионата Европы 2011. Мастер спорта России международного класса[1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 состоянию на ноябрь 2011 года пара занимает 3-е место в рейтинге Международного союза конькобежцев (ИСУ)[2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580000" y="1260360"/>
            <a:ext cx="3419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982440"/>
            <a:ext cx="851832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0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ФИЗИЧЕСКИЕ УПРАЖНЕН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-1446120"/>
            <a:ext cx="57592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ческие упражнения типа потяг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Сидя на стуле, потяну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исти согнутых рук над плечами, пальцы выпрямлен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759280" y="189000"/>
            <a:ext cx="3240360" cy="3591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40000" y="3918600"/>
            <a:ext cx="5759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жнение 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дя потянуться, подняв руки со сплетенными пальц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д голово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адони повернуты вверх. Смотреть на кисти ру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ждое упражнение ребенок должен повторить 2—3 раз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79280" y="3060720"/>
            <a:ext cx="3060720" cy="35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05:39Z</dcterms:created>
  <dc:creator>nastya</dc:creator>
  <dc:description/>
  <dc:language>en-US</dc:language>
  <cp:lastModifiedBy>Admin</cp:lastModifiedBy>
  <dcterms:modified xsi:type="dcterms:W3CDTF">2012-03-02T17:06:12Z</dcterms:modified>
  <cp:revision>11</cp:revision>
  <dc:subject/>
  <dc:title>Слайд 1</dc:title>
</cp:coreProperties>
</file>