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43E-C7DB-40C3-82B5-AE715E4C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933-8264-4C43-994B-B29CA3DD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E3E-526B-430D-BDDF-1E43247C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316-3176-4019-B1AC-94BA0753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890-2C65-4356-A284-6B5E064F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14A-CCB7-4956-883D-E99CFC1B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294-188B-4626-B58C-1441FBAE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350-9CB2-4653-A57A-75EC9D4D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FB4-6241-4845-9232-53180120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FF3-9BCA-4D1C-9559-F24BBE88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871-129A-4130-BADB-9FBDDE8C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832-CA0A-4121-8B32-2A29BC1A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2B760F-A8D2-41D7-ABDF-32AE67EBCEC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 u="sng">
                <a:solidFill>
                  <a:srgbClr val="b7e7ff"/>
                </a:solidFill>
                <a:uFillTx/>
                <a:latin typeface="Arial"/>
              </a:rPr>
              <a:t>Мой любимый вид спорта фигурное катание!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3500280"/>
            <a:ext cx="4643280" cy="3357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286000" y="1643040"/>
            <a:ext cx="647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ю составил ученик 1 «б» к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глазов Констант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ь: Чикилева Ирина Алексе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165480" y="162000"/>
            <a:ext cx="583416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зические упражнения для н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пражнение 3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Сидя боком на стуле, одна рука на спинк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ругая на сиденье стул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гнуть ноги, приподняв их с пол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атем встать и снова перейти в прежнее положени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подняв согнутые ног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916000" cy="3446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79280" y="4026600"/>
            <a:ext cx="46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пражнение 4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оя спиной к стулу, руки на поясе, сесть на стул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оги вытянуть вперед. Затем, опустив ноги на пол, опять встат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580000" y="3240000"/>
            <a:ext cx="31323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172800"/>
            <a:ext cx="8510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8280" y="2700000"/>
            <a:ext cx="85410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лагодарю за внима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172800"/>
            <a:ext cx="8510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9360" y="16966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и из архива семьи Поглазов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и из семейного архива Базаров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Arial"/>
              </a:rPr>
              <a:t>Вместе со своей семьей мы очень любим ходить на каток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68360" y="2340000"/>
            <a:ext cx="3851280" cy="382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95604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гурное катание один из самых популярных и красивых зимних видов спорта, входящих в программу Олимпийских игр. Кроме широкого разнообразия спортивных состязаний в различных дисциплинах фигурного катания, по всему миру проводится большое количество разного рода шоу – программ, например, всемирно известное шоу «Звезды на льду»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гурное катание на коньках – одно из наиболее популярных видов спорта, отличающийся высокой эмоциональностью и выразительностью дви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471400" y="719280"/>
            <a:ext cx="408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юблю кататься на кат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асшитом блестками платк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иять улыбкой глаз и губ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выполнять тройной тулуп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о задом ехать, то бочк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ращаться бешеным волчк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повороте, на вит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юблю подпрыгнуть на катк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 приземлившись, вновь скольж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перед к зигзагу-виражу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пусть каток совсем не то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де ждет тебя зеркальный л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сфальт укладывает 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весит пару-тройку тон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о очень дорог мне кат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свежий воздуха глото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летом в жаркие день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н заменяет мне коньк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11280" y="360360"/>
            <a:ext cx="3529080" cy="28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859280" y="3780000"/>
            <a:ext cx="360036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39640" y="30477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мские фигурис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700360" y="360360"/>
            <a:ext cx="3419280" cy="3240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395280" y="383220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ера Евгеньевна Базарова (род. 28 января 1993 года в Екатеринбурге) —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ссийская фигуристк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ступающая в парном катании. В паре с Юрием Ларионовым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на — серебряный призёр чемпионата мира среди юниоро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007 года, двукратный бронзовый призёр чемпионатов России, бронзовый призёр чемпионата Европы 201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79280" y="179280"/>
            <a:ext cx="558000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Юрий Юрьевич Ларионов (род. 19 августа 1986 года в Новосибирске) — российский фигурист, выступающий в парном катании. В паре с Верой Базаровой, он — серебряный призёр чемпионата мира среди юниоров 2007 года, двукратный бронзовый призёр чемпионатов России, бронзовый призёр чемпионата Европы 2011. Мастер спорта России международного класса[1]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 состоянию на ноябрь 2011 года пара занимает 3-е место в рейтинге Международного союза конькобежцев (ИСУ)[2]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580000" y="1260360"/>
            <a:ext cx="34196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982440"/>
            <a:ext cx="851832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br>
              <a:rPr sz="4800"/>
            </a:br>
            <a:r>
              <a:rPr b="0" i="1" lang="ru-RU" sz="4800" spc="-1" strike="noStrike" u="sng">
                <a:solidFill>
                  <a:srgbClr val="b7e7ff"/>
                </a:solidFill>
                <a:uFillTx/>
                <a:latin typeface="Arial"/>
              </a:rPr>
              <a:t>ФИЗИЧЕСКИЕ УПРАЖНЕНИЯ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-1446120"/>
            <a:ext cx="57592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зические упражнения типа потяги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пражнение 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Сидя на стуле, потянуть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исти согнутых рук над плечами, пальцы выпрямлен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759280" y="189000"/>
            <a:ext cx="3240360" cy="3591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240000" y="3918600"/>
            <a:ext cx="57596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жнение 2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Сидя потянуться, подняв руки со сплетенными пальца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д голово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адони повернуты вверх. Смотреть на кисти ру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аждое упражнение ребенок должен повторить 2—3 раз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79280" y="3060720"/>
            <a:ext cx="3060720" cy="35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4:05:39Z</dcterms:created>
  <dc:creator>nastya</dc:creator>
  <dc:description/>
  <dc:language>en-US</dc:language>
  <cp:lastModifiedBy>Admin</cp:lastModifiedBy>
  <dcterms:modified xsi:type="dcterms:W3CDTF">2012-03-02T17:06:12Z</dcterms:modified>
  <cp:revision>11</cp:revision>
  <dc:subject/>
  <dc:title>Слайд 1</dc:title>
</cp:coreProperties>
</file>