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512-7593-4BB1-994B-2234B6AA7B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F92-CE8D-4DF4-A23A-82017BF0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289-6446-4D7E-BC41-805CE57D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CAE-3C71-4965-8CA8-56D62EA6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2D4-FB65-4638-A0F1-F6EE8AEB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A76-3D6B-4184-9AE9-D3D9437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E80-055A-4566-A4EE-92675E1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175-4F97-4ADC-AE7F-44DCEEE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66-D7B7-495E-BB85-B36B4EA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906-9795-4CD7-BB90-4FDA111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F71-45D2-4963-8E59-2F91515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692-A983-4C52-8831-B45E3F3E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A6D-1574-44D9-859C-9468B3C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9E9-CF5D-4E2F-B44E-6583470B9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поверхность многогранника разрезать по некоторым ребрам и развернуть ее на плоскость так, чтобы все многоугольники, входящие в эту поверхность, лежали в данной плоскости, то полученная фигура на плоскости называется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зверткой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ногогранника. Например, на рисунке изображены развертки куба и треугольн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64119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звёрткой какого многогранника может служить пентаграмм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авильной пятиугольной пирами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195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ли фигура, изображенная на рисунке, развёрткой некоторого параллелепипед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224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укажите развёртки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ктаэдр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6, 9 и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912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83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Может ли развёрткой многогранника быть квадр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2133720"/>
            <a:ext cx="5032080" cy="3812400"/>
            <a:chOff x="762120" y="2133720"/>
            <a:chExt cx="5032080" cy="3812400"/>
          </a:xfrm>
        </p:grpSpPr>
        <p:sp>
          <p:nvSpPr>
            <p:cNvPr id="98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а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700360" y="2133720"/>
              <a:ext cx="3093840" cy="30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тетраэдра равняется 1 с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5486400"/>
            <a:ext cx="7924680" cy="459720"/>
            <a:chOff x="762120" y="5486400"/>
            <a:chExt cx="7924680" cy="459720"/>
          </a:xfrm>
        </p:grpSpPr>
        <p:sp>
          <p:nvSpPr>
            <p:cNvPr id="104" name=""/>
            <p:cNvSpPr/>
            <p:nvPr/>
          </p:nvSpPr>
          <p:spPr>
            <a:xfrm>
              <a:off x="762120" y="54864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1835280" y="5516640"/>
            <a:ext cx="40644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551664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гексаэдра равняется 2 д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: а) октаэдра; б) икосаэдра равно 4 мм. Найдите площадь его развёр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2120" y="5486400"/>
            <a:ext cx="3089160" cy="459720"/>
            <a:chOff x="762120" y="5486400"/>
            <a:chExt cx="3089160" cy="459720"/>
          </a:xfrm>
        </p:grpSpPr>
        <p:sp>
          <p:nvSpPr>
            <p:cNvPr id="116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195640" y="5516640"/>
            <a:ext cx="6984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4140360" y="5486400"/>
            <a:ext cx="3671640" cy="459720"/>
            <a:chOff x="4140360" y="5486400"/>
            <a:chExt cx="3671640" cy="459720"/>
          </a:xfrm>
        </p:grpSpPr>
        <p:sp>
          <p:nvSpPr>
            <p:cNvPr id="120" name=""/>
            <p:cNvSpPr/>
            <p:nvPr/>
          </p:nvSpPr>
          <p:spPr>
            <a:xfrm>
              <a:off x="4140360" y="5486400"/>
              <a:ext cx="36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4572000" y="5516640"/>
            <a:ext cx="69840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90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изготовления модели многогранника из плотной бумаги, картона или другого материала достаточно изготовить его развертку и затем склеить соответствующие ребра. Для удобства склейки развертку многогранника изготавливают с клапанами, по которым и производится склейк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378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09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ругим способом моделирования многогранников является изготовление моделей многогранников с помощью конструктора, состоящего из многоугольников, сделанных из плотного материала с отгибающимися клапанами и резиновых колечек - основной крепежной детали конструктора. Подбирая соответствующим образом многоугольники в качестве граней многогранника и скрепляя их резиновыми колечками, можно получать модели различных многогран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7899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из фигур, изображенных на рисунке не являются развёртками правильного тетраэдра? По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724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а 3, так как у неё имеется точка, в которой сходится четыре треугольника, а у тетраэдра имеются только вершины, в которых сходится по три реб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36600" y="2436840"/>
            <a:ext cx="66690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9, 10,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52480" y="2500200"/>
            <a:ext cx="7437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12, 13, 14,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5840" y="2325600"/>
            <a:ext cx="7310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8, 29, 30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3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9520" y="2141640"/>
            <a:ext cx="8184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фигуры, которые являются развёртками приз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б), в), г), 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5880" y="2516040"/>
            <a:ext cx="8110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к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жите фигуры, которые являются развёртками пирами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в), г), 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7360" y="2558880"/>
            <a:ext cx="836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7:14:52Z</dcterms:created>
  <dc:creator>*</dc:creator>
  <dc:description/>
  <dc:language>en-US</dc:language>
  <cp:lastModifiedBy>*</cp:lastModifiedBy>
  <dcterms:modified xsi:type="dcterms:W3CDTF">2008-07-31T03:58:41Z</dcterms:modified>
  <cp:revision>19</cp:revision>
  <dc:subject/>
  <dc:title>ПАРАЛЛЕЛЕПИПЕД</dc:title>
</cp:coreProperties>
</file>