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325B-531C-46A8-9ABB-E4D1C25DB2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B1A-8B8F-4E22-A9E0-2FD66FF3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8B4E-DFBE-4C60-B61B-2F5A01DD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7ECB-8188-4005-865C-2773DA50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2FC8-6ADB-40C8-8D74-FA4E5581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FF3-92EE-47C7-ACCB-D1737DE0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A62B-33C2-43A7-ACF3-9C5CF7E2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6BB9-8A73-4CEE-AEEC-1CFAD34A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8F84-1269-4917-8F46-EAB2C082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85F6-ADFF-47F0-9885-2AC8E9B1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458-B210-440C-BA54-B62767F9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5FE2-1314-4E9C-839D-688F2891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618A-E0ED-4416-953D-F98672A4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E5E3-F816-4425-B42C-DEEF30A6C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МОДЕЛИРОВАНИЕ МНОГОГРАН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85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Если поверхность многогранника разрезать по некоторым ребрам и развернуть ее на плоскость так, чтобы все многоугольники, входящие в эту поверхность, лежали в данной плоскости, то полученная фигура на плоскости называется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азверткой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ногогранника. Например, на рисунке изображены развертки куба и треугольной 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3657600"/>
            <a:ext cx="641196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0666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азвёрткой какого многогранника может служить пентаграмма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?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5257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равильной пятиугольной пирамид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31957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10666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Является ли фигура, изображенная на рисунке, развёрткой некоторого параллелепипеда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5257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Н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32244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09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 рисунке укажите развёртки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октаэдра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54864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Фигуры 6, 9 и 1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9124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83664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Может ли развёрткой многогранника быть квадра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62120" y="2133720"/>
            <a:ext cx="5032080" cy="3812400"/>
            <a:chOff x="762120" y="2133720"/>
            <a:chExt cx="5032080" cy="3812400"/>
          </a:xfrm>
        </p:grpSpPr>
        <p:sp>
          <p:nvSpPr>
            <p:cNvPr id="98" name=""/>
            <p:cNvSpPr/>
            <p:nvPr/>
          </p:nvSpPr>
          <p:spPr>
            <a:xfrm>
              <a:off x="762120" y="5486400"/>
              <a:ext cx="30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Да.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2700360" y="2133720"/>
              <a:ext cx="3093840" cy="308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60948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Ребро правильного тетраэдра равняется 1 см. Найдите площадь его развёр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62120" y="5486400"/>
            <a:ext cx="7924680" cy="459720"/>
            <a:chOff x="762120" y="5486400"/>
            <a:chExt cx="7924680" cy="459720"/>
          </a:xfrm>
        </p:grpSpPr>
        <p:sp>
          <p:nvSpPr>
            <p:cNvPr id="104" name=""/>
            <p:cNvSpPr/>
            <p:nvPr/>
          </p:nvSpPr>
          <p:spPr>
            <a:xfrm>
              <a:off x="762120" y="5486400"/>
              <a:ext cx="79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       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см</a:t>
              </a:r>
              <a:r>
                <a:rPr b="0" lang="en-US" sz="2400" spc="-1" strike="noStrike" baseline="30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5" name=""/>
            <p:cNvGraphicFramePr/>
            <p:nvPr/>
          </p:nvGraphicFramePr>
          <p:xfrm>
            <a:off x="1835280" y="5516640"/>
            <a:ext cx="406440" cy="39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5280" y="5516640"/>
                      <a:ext cx="406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60948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Ребро правильного гексаэдра равняется 2 дм. Найдите площадь его развёр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4864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24 дм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60948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Ребро правильного: а) октаэдра; б) икосаэдра равно 4 мм. Найдите площадь его развёрт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62120" y="5486400"/>
            <a:ext cx="3089160" cy="459720"/>
            <a:chOff x="762120" y="5486400"/>
            <a:chExt cx="3089160" cy="459720"/>
          </a:xfrm>
        </p:grpSpPr>
        <p:sp>
          <p:nvSpPr>
            <p:cNvPr id="116" name=""/>
            <p:cNvSpPr/>
            <p:nvPr/>
          </p:nvSpPr>
          <p:spPr>
            <a:xfrm>
              <a:off x="762120" y="5486400"/>
              <a:ext cx="30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а)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          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мм</a:t>
              </a:r>
              <a:r>
                <a:rPr b="0" lang="en-US" sz="2400" spc="-1" strike="noStrike" baseline="30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;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2195640" y="5516640"/>
            <a:ext cx="698400" cy="39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5640" y="5516640"/>
                      <a:ext cx="69840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9" name=""/>
          <p:cNvGrpSpPr/>
          <p:nvPr/>
        </p:nvGrpSpPr>
        <p:grpSpPr>
          <a:xfrm>
            <a:off x="4140360" y="5486400"/>
            <a:ext cx="3671640" cy="459720"/>
            <a:chOff x="4140360" y="5486400"/>
            <a:chExt cx="3671640" cy="459720"/>
          </a:xfrm>
        </p:grpSpPr>
        <p:sp>
          <p:nvSpPr>
            <p:cNvPr id="120" name=""/>
            <p:cNvSpPr/>
            <p:nvPr/>
          </p:nvSpPr>
          <p:spPr>
            <a:xfrm>
              <a:off x="4140360" y="5486400"/>
              <a:ext cx="36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б)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          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мм</a:t>
              </a:r>
              <a:r>
                <a:rPr b="0" lang="en-US" sz="2400" spc="-1" strike="noStrike" baseline="30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4572000" y="5516640"/>
            <a:ext cx="698400" cy="39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5516640"/>
                      <a:ext cx="69840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99072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ля изготовления модели многогранника из плотной бумаги, картона или другого материала достаточно изготовить его развертку и затем склеить соответствующие ребра. Для удобства склейки развертку многогранника изготавливают с клапанами, по которым и производится склейка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МОДЕЛИРОВАНИЕ МНОГОГРАН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03280" y="3716280"/>
            <a:ext cx="63784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60948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ругим способом моделирования многогранников является изготовление моделей многогранников с помощью конструктора, состоящего из многоугольников, сделанных из плотного материала с отгибающимися клапанами и резиновых колечек - основной крепежной детали конструктора. Подбирая соответствующим образом многоугольники в качестве граней многогранника и скрепляя их резиновыми колечками, можно получать модели различных многогран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МОДЕЛИРОВАНИЕ МНОГОГРАН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4365720"/>
            <a:ext cx="78994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0666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ие из фигур, изображенных на рисунке не являются развёртками правильного тетраэдра? Почему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7242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Фигура 3, так как у неё имеется точка, в которой сходится четыре треугольника, а у тетраэдра имеются только вершины, в которых сходится по три реб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36600" y="2436840"/>
            <a:ext cx="666900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06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жите развёртки куб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4724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Фигуры 9, 10, 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52480" y="2500200"/>
            <a:ext cx="74376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06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жите развёртки куб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4724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Фигуры 12, 13, 14, 1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5840" y="2325600"/>
            <a:ext cx="73105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106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жите развёртки куб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5257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28, 29, 30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32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79520" y="2141640"/>
            <a:ext cx="818496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066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жите фигуры, которые являются развёртками приз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5257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), б), в), г), д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15880" y="2516040"/>
            <a:ext cx="811044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10666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Ук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жите фигуры, которые являются развёртками пирами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5257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), в), г), д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7360" y="2558880"/>
            <a:ext cx="8369280" cy="17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07:14:52Z</dcterms:created>
  <dc:creator>*</dc:creator>
  <dc:description/>
  <dc:language>en-US</dc:language>
  <cp:lastModifiedBy>*</cp:lastModifiedBy>
  <dcterms:modified xsi:type="dcterms:W3CDTF">2008-07-31T03:58:41Z</dcterms:modified>
  <cp:revision>19</cp:revision>
  <dc:subject/>
  <dc:title>ПАРАЛЛЕЛЕПИПЕД</dc:title>
</cp:coreProperties>
</file>