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D4D0-AFFD-4D5B-81BF-6775AE65AF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CE7-9DEF-43A0-9429-D5DE5DE8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101-259E-41DC-A3D6-A2E00DE0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E78-BEC4-46EB-9C1E-5DB42833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C26-F0AA-432F-A5EC-F3A53E74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306-DCF4-405E-A06C-6E3B884F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9FC-D84D-4E54-9093-B5BC5DC6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5A8-9AAF-42D4-ABCF-016E8A9A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2B8-A91A-4A5F-9FA9-7A8C2E49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F51-39C9-4004-9488-F6FA44AC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8D3-39FB-4B87-A07B-42FA997E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0BC-91C2-4D37-A696-76F4FDE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C32-A2D0-41C6-BDAE-A7CA2638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BC58-E3AF-4C1A-A410-131AA4526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МОДЕЛИРОВАНИЕ МНОГОГРА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Если поверхность многогранника разрезать по некоторым ребрам и развернуть ее на плоскость так, чтобы все многоугольники, входящие в эту поверхность, лежали в данной плоскости, то полученная фигура на плоскости называется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азверткой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многогранника. Например, на рисунке изображены развертки куба и треугольн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64119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Развёрткой какого многогранника может служить пентаграмм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равильной пятиугольной пирами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195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Является ли фигура, изображенная на рисунке, развёрткой некоторого параллелепипед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2244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а рисунке укажите развёртки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ктаэдра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486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ы 6, 9 и 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912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83664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Может ли развёрткой многогранника быть квадр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2120" y="2133720"/>
            <a:ext cx="5032080" cy="3812400"/>
            <a:chOff x="762120" y="2133720"/>
            <a:chExt cx="5032080" cy="3812400"/>
          </a:xfrm>
        </p:grpSpPr>
        <p:sp>
          <p:nvSpPr>
            <p:cNvPr id="98" name=""/>
            <p:cNvSpPr/>
            <p:nvPr/>
          </p:nvSpPr>
          <p:spPr>
            <a:xfrm>
              <a:off x="762120" y="5486400"/>
              <a:ext cx="30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Да.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700360" y="2133720"/>
              <a:ext cx="3093840" cy="308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6094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ебро правильного тетраэдра равняется 1 см. Найдите площадь его развёр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62120" y="5486400"/>
            <a:ext cx="7924680" cy="459720"/>
            <a:chOff x="762120" y="5486400"/>
            <a:chExt cx="7924680" cy="459720"/>
          </a:xfrm>
        </p:grpSpPr>
        <p:sp>
          <p:nvSpPr>
            <p:cNvPr id="104" name=""/>
            <p:cNvSpPr/>
            <p:nvPr/>
          </p:nvSpPr>
          <p:spPr>
            <a:xfrm>
              <a:off x="762120" y="548640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 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см</a:t>
              </a:r>
              <a:r>
                <a:rPr b="0" lang="en-US" sz="2400" spc="-1" strike="noStrike" baseline="30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1835280" y="5516640"/>
            <a:ext cx="406440" cy="39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5516640"/>
                      <a:ext cx="4064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094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ебро правильного гексаэдра равняется 2 дм. Найдите площадь его развёр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486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24 дм</a:t>
            </a:r>
            <a:r>
              <a:rPr b="0" lang="en-US" sz="24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60948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ебро правильного: а) октаэдра; б) икосаэдра равно 4 мм. Найдите площадь его развёрт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62120" y="5486400"/>
            <a:ext cx="3089160" cy="459720"/>
            <a:chOff x="762120" y="5486400"/>
            <a:chExt cx="3089160" cy="459720"/>
          </a:xfrm>
        </p:grpSpPr>
        <p:sp>
          <p:nvSpPr>
            <p:cNvPr id="116" name=""/>
            <p:cNvSpPr/>
            <p:nvPr/>
          </p:nvSpPr>
          <p:spPr>
            <a:xfrm>
              <a:off x="762120" y="5486400"/>
              <a:ext cx="30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а)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мм</a:t>
              </a:r>
              <a:r>
                <a:rPr b="0" lang="en-US" sz="2400" spc="-1" strike="noStrike" baseline="30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;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195640" y="5516640"/>
            <a:ext cx="698400" cy="39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5640" y="5516640"/>
                      <a:ext cx="6984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4140360" y="5486400"/>
            <a:ext cx="3671640" cy="459720"/>
            <a:chOff x="4140360" y="5486400"/>
            <a:chExt cx="3671640" cy="459720"/>
          </a:xfrm>
        </p:grpSpPr>
        <p:sp>
          <p:nvSpPr>
            <p:cNvPr id="120" name=""/>
            <p:cNvSpPr/>
            <p:nvPr/>
          </p:nvSpPr>
          <p:spPr>
            <a:xfrm>
              <a:off x="4140360" y="5486400"/>
              <a:ext cx="36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б)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мм</a:t>
              </a:r>
              <a:r>
                <a:rPr b="0" lang="en-US" sz="2400" spc="-1" strike="noStrike" baseline="30000">
                  <a:solidFill>
                    <a:srgbClr val="00cc99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.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4572000" y="5516640"/>
            <a:ext cx="698400" cy="39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5516640"/>
                      <a:ext cx="69840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9072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ля изготовления модели многогранника из плотной бумаги, картона или другого материала достаточно изготовить его развертку и затем склеить соответствующие ребра. Для удобства склейки развертку многогранника изготавливают с клапанами, по которым и производится склейка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МОДЕЛИРОВАНИЕ МНОГОГРА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3716280"/>
            <a:ext cx="63784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6094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ругим способом моделирования многогранников является изготовление моделей многогранников с помощью конструктора, состоящего из многоугольников, сделанных из плотного материала с отгибающимися клапанами и резиновых колечек - основной крепежной детали конструктора. Подбирая соответствующим образом многоугольники в качестве граней многогранника и скрепляя их резиновыми колечками, можно получать модели различных многогран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МОДЕЛИРОВАНИЕ МНОГОГРАН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7899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кие из фигур, изображенных на рисунке не являются развёртками правильного тетраэдра? Почем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4724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а 3, так как у неё имеется точка, в которой сходится четыре треугольника, а у тетраэдра имеются только вершины, в которых сходится по три реб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36600" y="2436840"/>
            <a:ext cx="66690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развёртки куб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ы 9, 10,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52480" y="2500200"/>
            <a:ext cx="74376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развёртки куб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72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Фигуры 12, 13, 14, 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5840" y="2325600"/>
            <a:ext cx="7310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развёртки куб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28, 29, 30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32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79520" y="2141640"/>
            <a:ext cx="81849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0666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кажите фигуры, которые являются развёртками приз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, б), в), г), д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15880" y="2516040"/>
            <a:ext cx="8110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Упражнение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066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к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жите фигуры, которые являются развёртками пирами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5257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), в), г), д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7360" y="2558880"/>
            <a:ext cx="8369280" cy="17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7:14:52Z</dcterms:created>
  <dc:creator>*</dc:creator>
  <dc:description/>
  <dc:language>en-US</dc:language>
  <cp:lastModifiedBy>*</cp:lastModifiedBy>
  <dcterms:modified xsi:type="dcterms:W3CDTF">2008-07-31T03:58:41Z</dcterms:modified>
  <cp:revision>19</cp:revision>
  <dc:subject/>
  <dc:title>ПАРАЛЛЕЛЕПИПЕД</dc:title>
</cp:coreProperties>
</file>