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4E3-E8A2-4283-A2C3-1263B52D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6BD-EBA3-4932-9F92-52940A02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43B-595D-4F94-8B94-B15E1162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719-1F30-463B-BABE-15E322E6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C033-2EF6-4088-9B8E-1B65D667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8122-70FA-456D-B17B-E82EDA43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C820-2831-437E-91C4-17B35833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3842-3D7E-4680-8DE8-EFFC6019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7C3B-65C6-4EF0-8C23-F7C3FE4F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39A3-AE70-427B-8C9F-99FF025D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BC20-2525-43F8-92BD-B5DD6FD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8AE-9A06-4DD1-9073-6769C6DF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AE29-0D65-4006-B329-C6A450A1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0106-56EB-4584-B3EC-46FF5954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90EC-53AD-4EE5-A1A2-862F83E7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44E6-6289-4443-A376-4EC19454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BB3E-0D94-44C9-9747-973680C4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C45-CDE4-461E-8858-A97AD0B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D20-A435-4F71-8667-EF76B4CF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E73-A36D-4AE8-B816-ED005CCD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B8F-A631-429A-ACB6-EEF8CEF6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2EE-814F-4855-B71B-933D2A06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F6F-E636-471F-9CBA-F066FBB1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9AF-64E5-48A1-BABE-16BE5697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C622-9456-40FB-9988-70128FC0C1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8D49-EF1F-4CBE-BAD0-3A9EA5B873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5656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"Моделирование одежды. Профессия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художника - модельера"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297320"/>
            <a:ext cx="67816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Шве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а хорошо знать  технологическую обработку швейных    изделий, чувствовать современное направление моды, разбираться в ткан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луэт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скостное восприятие всего изделия в целом, его очертания. Для   более   точной  характеристики   его   сравнивают   с  геометрическими  фигур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ямой силуэт похож по своим очертаниям на прямоугольник и квадрат :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519280" cy="450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илуэт трапеция напоминает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рапецию узкую вверху и расширенную внизу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95640" y="2708280"/>
            <a:ext cx="2097360" cy="37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илуэт "треугольник"  приближается к треугольнику,  зауженному  внизу и  расширенному вверху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203640" y="2754360"/>
            <a:ext cx="2608200" cy="41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илуэт, образованный плавными кривыми линиями,  сравнивают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 овалом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2665080" cy="46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аряду с силуэтом для костюма очень важно соотношение частей по величине между собой. 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Короткий верх длинный н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линный верх короткий н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Равномерный верх и н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696000" cy="288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Большую роль в композиции - т.е. составление костюма играет - цвет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75308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окрашенные цве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47640" y="3716280"/>
          <a:ext cx="5830920" cy="517680"/>
        </p:xfrm>
        <a:graphic>
          <a:graphicData uri="http://schemas.openxmlformats.org/drawingml/2006/table">
            <a:tbl>
              <a:tblPr/>
              <a:tblGrid>
                <a:gridCol w="1748160"/>
                <a:gridCol w="228600"/>
                <a:gridCol w="1755720"/>
                <a:gridCol w="269640"/>
                <a:gridCol w="182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ый Советский художник - моделье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П. Ламанова (1861-194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2950920" cy="429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Цели урок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ить учащихся с последовательностью изготовления одежды от эскиза до готового изделия: научить моделированию одежды на примере макетирования из бумаги и ткани на условную фигуру (бумажную куклу). Дать сведения об основах композиции костюма; о профессиях работников, занятых в технологическом процессе изготовления одежды. Развивать    у    учащихся    пространственное    воображение,    творческое мышление, эстетический вкус. Выбрать модели одежды для творческих про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ё эскиз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mod83_1_2"/>
          <p:cNvPicPr/>
          <p:nvPr/>
        </p:nvPicPr>
        <p:blipFill>
          <a:blip r:embed="rId1"/>
          <a:stretch/>
        </p:blipFill>
        <p:spPr>
          <a:xfrm>
            <a:off x="3132000" y="1916280"/>
            <a:ext cx="2952720" cy="49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ссийский художник - моделье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Зай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9092"/>
          <p:cNvPicPr/>
          <p:nvPr/>
        </p:nvPicPr>
        <p:blipFill>
          <a:blip r:embed="rId1"/>
          <a:stretch/>
        </p:blipFill>
        <p:spPr>
          <a:xfrm>
            <a:off x="1979640" y="1844640"/>
            <a:ext cx="446400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Вопросы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Как вы представляете себе работу художника модельера (Придумает новые модели одежды, должен хорошо знать человеческую фигуру,  ее  пропорции, хорошо разбираться в цвете, тканях чувствовать силуэт, уметь шить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ак приступаем к работе художника - моделье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ктическ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ение    эскизов    моделей   -   одежды  на    тему:    «Летний    отдых». Макетирование на условную фигу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ное положение - стоя, ноги врозь, руки опущены. Поднять плечи вверх - вдох, опустить плечи, округляя спину, - выдох. Поднять плечи - вдох, опустить, слегка прогибаясь в пояснице и сводя лопатки, выдох. Повторить 4-8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ное положение - стоя, руки опущены. Выполнить поочерёдные круги назад то правым, то левым плечом. Повторить 4-8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ное положение - стоя, ноги врозь, руки на голову. выполнить повороты туловища вправо - влево. Повторить 10-12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57200" cy="36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нструкционная карта</a:t>
            </a:r>
            <a:br>
              <a:rPr sz="40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Инструменты и принадлежности: ножницы, карандаш, ластик, фломастеры, цветная бумага, кусочки ткани, клей булавки, бумажные куклы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Обвести карандашом контуры условной фигуры на листе в альбо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Наметить места для прорезей на плечах и линии талии. Аккуратно сделать прорези длиной 5-7 мм. для закрепления моделей одеж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Выполнить эскизы моделей одежды из цветной бумаги или кусочков хлопчатобумажной ткани с закрепительными деталями по размеру проре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и для летнего отдыха должны представлять собой плечевые и поясные изделия простой конструкции, определенного силуэта, соответствующих пропорций и цветовой гаммы. Костюм могут дополнять головной убор, сумка, украшения, обу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Вырезать модели одежды с закрепительными деталями и закрепить на условной фигу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ить устно на вопросы: из какой ткани может быть выполнена твоя модель одежды? Где можно отдыхать в этой одежде? Какие силуэты, пропорции имеет придуманный тобой костюм? Какого цвета он должен бы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ие дополнения можно подобрать к костю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ни - защита творческих про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ведение ито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Наглядные пособ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цы моделей одежды для летнего отдыха, журналы мод, плакаты по композиции костюма (силуэты, пропорции, цвет). Раздаточный материал: лекало условной фигуры (бумажные куклы), инструкционные карты. Инструменты, принадлежности и материал: ножницы, линейка, карандаш, фломастеры, меты, цветная бумага, кусочки хлопчатобумажной ткани, бул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д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роде шутливо говорят: "Наряди пенек, будет паренек". Но чтобы нарядить его надо изготовить одежд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цесс создания одежды можно проследить по схеме цепочке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3357720"/>
            <a:ext cx="9144000" cy="24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Эскиз – графическое изображение модели на бумаге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6" descr="mod83_1_1"/>
          <p:cNvPicPr/>
          <p:nvPr/>
        </p:nvPicPr>
        <p:blipFill>
          <a:blip r:embed="rId1"/>
          <a:stretch/>
        </p:blipFill>
        <p:spPr>
          <a:xfrm>
            <a:off x="2700360" y="1844640"/>
            <a:ext cx="395460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Художник - моделье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ен хорошо знать человеческую фигуру, её пропорции, пластику, хорошо разбираться в цветовых сочетаниях, тканях, чувствовать линии кроя, силуэт, уметь ши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Художник - конструкто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ен иметь пространственное воображение, хорошо чувствовать силуэт, линии, пропорции в одежде, разбираться в тканях, цветовой  гамме, должен знать технологию изготовления одеж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хноло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ен знать направления моды,   отлично шить, следить за   современной технологией обработки     швейных изделий, новым     оборудованием, перспективными направлениями м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29:53Z</dcterms:created>
  <dc:creator>илья</dc:creator>
  <dc:description/>
  <dc:language>en-US</dc:language>
  <cp:lastModifiedBy>ZooM</cp:lastModifiedBy>
  <dcterms:modified xsi:type="dcterms:W3CDTF">2013-11-07T18:05:48Z</dcterms:modified>
  <cp:revision>29</cp:revision>
  <dc:subject/>
  <dc:title>"Моделирование одежды. Профессия художника - модельера". </dc:title>
</cp:coreProperties>
</file>