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8BDE-A532-4EF5-A167-B6C1CE4E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263E-8AAB-4C8C-ABA3-CCC759E2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79BE-5433-433B-A2EF-988EC6A4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C2A6-0B97-481F-A2F3-9541CD6B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D306-0969-48E7-A460-4A538573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0243-47A9-4CF6-8B69-D33E6723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C7E3-8F09-41FC-BE66-708CB5A3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29D1-38C0-4807-9690-125CD7ED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4529-2F4C-4910-82E1-53FAA104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BB19-1478-4D4F-99BA-E1E491BC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3B20-F938-4256-B291-EDECA01D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BBA8-F40E-4839-B849-E76D0B05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F773-F463-4C41-B8C8-2D31FDB6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637F-4E0A-46AE-91A8-7D321A66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CDFF-7414-4F43-AA6F-402E417C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D656-CB44-4822-8073-B48F2C1C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1FD6-CE5C-477C-8FBC-C4B80B06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FC2C-99CE-4E5C-AC23-279CA1A9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AB1C-D034-4316-B8C3-A8CA6D0C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92E1-FCBD-42F9-B6D6-CFE0A894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D583-DB18-44F8-966A-EA919736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EF26-D107-4EC3-97A5-98924AE2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B5B4-B17C-4B70-8B18-11815B66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486C-E215-4642-BE1F-587F4DD4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FB58-3D95-4D1A-8257-E38AA861A3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B624-017E-4C88-A4A6-249FFE9DB48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56560" cy="16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"Моделирование одежды. Профессия</a:t>
            </a:r>
            <a:br>
              <a:rPr sz="4000"/>
            </a:b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художника - модельера"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297320"/>
            <a:ext cx="678168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Шве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жна хорошо знать  технологическую обработку швейных    изделий, чувствовать современное направление моды, разбираться в тканя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илуэт 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скостное восприятие всего изделия в целом, его очертания. Для   более   точной  характеристики   его   сравнивают   с  геометрическими  фигур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рямой силуэт похож по своим очертаниям на прямоугольник и квадрат :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3276720" y="2349360"/>
            <a:ext cx="2519280" cy="450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Силуэт трапеция напоминает </a:t>
            </a: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трапецию узкую вверху и расширенную внизу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995640" y="2708280"/>
            <a:ext cx="2097360" cy="3786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Силуэт "треугольник"  приближается к треугольнику,  зауженному  внизу и  расширенному вверху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3203640" y="2754360"/>
            <a:ext cx="2608200" cy="410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Силуэт, образованный плавными кривыми линиями,  сравнивают</a:t>
            </a: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с овалом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3419640" y="2205000"/>
            <a:ext cx="2665080" cy="465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Наряду с силуэтом для костюма очень важно соотношение частей по величине между собой. 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Короткий верх длинный ни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Длинный верх короткий ни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Равномерный верх и ни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6696000" cy="288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Большую роль в композиции - т.е. составление костюма играет - цвет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753080" cy="446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еокрашенные цве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47640" y="3716280"/>
          <a:ext cx="5830920" cy="517680"/>
        </p:xfrm>
        <a:graphic>
          <a:graphicData uri="http://schemas.openxmlformats.org/drawingml/2006/table">
            <a:tbl>
              <a:tblPr/>
              <a:tblGrid>
                <a:gridCol w="1748160"/>
                <a:gridCol w="228600"/>
                <a:gridCol w="1755720"/>
                <a:gridCol w="269640"/>
                <a:gridCol w="1828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8c8c8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ервый Советский художник - моделье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.П. Ламанова (1861-194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2916360" y="2565360"/>
            <a:ext cx="2950920" cy="429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Цели урока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накомить учащихся с последовательностью изготовления одежды от эскиза до готового изделия: научить моделированию одежды на примере макетирования из бумаги и ткани на условную фигуру (бумажную куклу). Дать сведения об основах композиции костюма; о профессиях работников, занятых в технологическом процессе изготовления одежды. Развивать    у    учащихся    пространственное    воображение,    творческое мышление, эстетический вкус. Выбрать модели одежды для творческих проек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Её эскиз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mod83_1_2"/>
          <p:cNvPicPr/>
          <p:nvPr/>
        </p:nvPicPr>
        <p:blipFill>
          <a:blip r:embed="rId1"/>
          <a:stretch/>
        </p:blipFill>
        <p:spPr>
          <a:xfrm>
            <a:off x="3132000" y="1916280"/>
            <a:ext cx="2952720" cy="494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ссийский художник - моделье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Зайц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9092"/>
          <p:cNvPicPr/>
          <p:nvPr/>
        </p:nvPicPr>
        <p:blipFill>
          <a:blip r:embed="rId1"/>
          <a:stretch/>
        </p:blipFill>
        <p:spPr>
          <a:xfrm>
            <a:off x="1979640" y="1844640"/>
            <a:ext cx="4464000" cy="374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Вопросы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Как вы представляете себе работу художника модельера (Придумает новые модели одежды, должен хорошо знать человеческую фигуру,  ее  пропорции, хорошо разбираться в цвете, тканях чувствовать силуэт, уметь шить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так приступаем к работе художника - моделье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ктическая рабо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ение    эскизов    моделей   -   одежды  на    тему:    «Летний    отдых». Макетирование на условную фигу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ЗКУЛЬТМИНУ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ходное положение - стоя, ноги врозь, руки опущены. Поднять плечи вверх - вдох, опустить плечи, округляя спину, - выдох. Поднять плечи - вдох, опустить, слегка прогибаясь в пояснице и сводя лопатки, выдох. Повторить 4-8 ра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ходное положение - стоя, руки опущены. Выполнить поочерёдные круги назад то правым, то левым плечом. Повторить 4-8 ра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ходное положение - стоя, ноги врозь, руки на голову. выполнить повороты туловища вправо - влево. Повторить 10-12 ра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457200" cy="36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Инструкционная карта</a:t>
            </a:r>
            <a:br>
              <a:rPr sz="4000"/>
            </a:b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Инструменты и принадлежности: ножницы, карандаш, ластик, фломастеры, цветная бумага, кусочки ткани, клей булавки, бумажные куклы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Обвести карандашом контуры условной фигуры на листе в альбо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Наметить места для прорезей на плечах и линии талии. Аккуратно сделать прорези длиной 5-7 мм. для закрепления моделей одеж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Выполнить эскизы моделей одежды из цветной бумаги или кусочков хлопчатобумажной ткани с закрепительными деталями по размеру прорез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дели для летнего отдыха должны представлять собой плечевые и поясные изделия простой конструкции, определенного силуэта, соответствующих пропорций и цветовой гаммы. Костюм могут дополнять головной убор, сумка, украшения, обув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Вырезать модели одежды с закрепительными деталями и закрепить на условной фигу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ветить устно на вопросы: из какой ткани может быть выполнена твоя модель одежды? Где можно отдыхать в этой одежде? Какие силуэты, пропорции имеет придуманный тобой костюм? Какого цвета он должен быт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ие дополнения можно подобрать к костюм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ни - защита творческих проек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ведение итог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Наглядные пособ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зцы моделей одежды для летнего отдыха, журналы мод, плакаты по композиции костюма (силуэты, пропорции, цвет). Раздаточный материал: лекало условной фигуры (бумажные куклы), инструкционные карты. Инструменты, принадлежности и материал: ножницы, линейка, карандаш, фломастеры, меты, цветная бумага, кусочки хлопчатобумажной ткани, булав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од уро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ароде шутливо говорят: "Наряди пенек, будет паренек". Но чтобы нарядить его надо изготовить одежд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оцесс создания одежды можно проследить по схеме цепочке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0" y="3357720"/>
            <a:ext cx="9144000" cy="24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Эскиз – графическое изображение модели на бумаге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Picture 6" descr="mod83_1_1"/>
          <p:cNvPicPr/>
          <p:nvPr/>
        </p:nvPicPr>
        <p:blipFill>
          <a:blip r:embed="rId1"/>
          <a:stretch/>
        </p:blipFill>
        <p:spPr>
          <a:xfrm>
            <a:off x="2700360" y="1844640"/>
            <a:ext cx="3954600" cy="501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Художник - модельер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жен хорошо знать человеческую фигуру, её пропорции, пластику, хорошо разбираться в цветовых сочетаниях, тканях, чувствовать линии кроя, силуэт, уметь ши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Художник - конструктор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жен иметь пространственное воображение, хорошо чувствовать силуэт, линии, пропорции в одежде, разбираться в тканях, цветовой  гамме, должен знать технологию изготовления одеж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ехнолог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жен знать направления моды,   отлично шить, следить за   современной технологией обработки     швейных изделий, новым     оборудованием, перспективными направлениями мо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9:29:53Z</dcterms:created>
  <dc:creator>илья</dc:creator>
  <dc:description/>
  <dc:language>en-US</dc:language>
  <cp:lastModifiedBy>ZooM</cp:lastModifiedBy>
  <dcterms:modified xsi:type="dcterms:W3CDTF">2013-11-07T18:05:48Z</dcterms:modified>
  <cp:revision>29</cp:revision>
  <dc:subject/>
  <dc:title>"Моделирование одежды. Профессия художника - модельера". </dc:title>
</cp:coreProperties>
</file>