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A8A4-15A2-4334-B58D-122A21AD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5F2D-EE78-4EE2-B413-A1BC63CC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4776-7B85-4A79-A8BE-5249D0FB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DE58-A71B-462F-B9B4-176EDE75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832A-4FF5-4892-9E5C-3B99228D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050F-4658-41F9-A189-7FD8E0BE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C9DE-7B9D-4314-9DF8-63AA3E2F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AB44-BB01-4D37-B549-D4FDB267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DF54-A7E5-4CA3-8050-63E6832F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263F-9DE2-4098-9BD5-324549DF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5E5B-BA5C-4FE5-A0A5-9AF93019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C49-FFA2-4E91-8647-D17E1B0F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D1F5-E142-4AAD-A646-FAE90AB4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2D10-DD35-47F1-AE20-7C904778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4240-F6FE-47F9-8688-759CEC32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66D2-A355-4491-9244-C10C2D10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0ABA-5D30-48FD-9444-B17C223C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1EDC-79A0-47CD-8AB4-37C58FCF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66A-F6C7-4BBA-A575-04304C79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CFD-9916-447F-A29F-8CE3CF22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A75-9195-45F4-8F6E-EDF2A830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CFFA-FAD6-419C-913E-AA164A3D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2624-C59D-473E-B78A-8F42F07C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C2FA-15AF-4F5F-9CCB-C4ACEE0E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4ECB-E82B-43C8-9606-30D62EFAE3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E8E2-4D69-48D7-913D-72E0B667B20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56560" cy="16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"Моделирование одежды. Профессия</a:t>
            </a:r>
            <a:br>
              <a:rPr sz="4000"/>
            </a:b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художника - модельера"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297320"/>
            <a:ext cx="6781680" cy="14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Шве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на хорошо знать  технологическую обработку швейных    изделий, чувствовать современное направление моды, разбираться в тканя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луэт 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скостное восприятие всего изделия в целом, его очертания. Для   более   точной  характеристики   его   сравнивают   с  геометрическими  фигур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ямой силуэт похож по своим очертаниям на прямоугольник и квадрат :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3276720" y="2349360"/>
            <a:ext cx="2519280" cy="450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илуэт трапеция напоминает 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рапецию узкую вверху и расширенную внизу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95640" y="2708280"/>
            <a:ext cx="2097360" cy="378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илуэт "треугольник"  приближается к треугольнику,  зауженному  внизу и  расширенному вверху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3203640" y="2754360"/>
            <a:ext cx="2608200" cy="41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илуэт, образованный плавными кривыми линиями,  сравнивают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 овалом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419640" y="2205000"/>
            <a:ext cx="2665080" cy="465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Наряду с силуэтом для костюма очень важно соотношение частей по величине между собой. 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Короткий верх длинный н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линный верх короткий н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Равномерный верх и н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6696000" cy="288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Большую роль в композиции - т.е. составление костюма играет - цвет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753080" cy="44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еокрашенные цве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47640" y="3716280"/>
          <a:ext cx="5830920" cy="517680"/>
        </p:xfrm>
        <a:graphic>
          <a:graphicData uri="http://schemas.openxmlformats.org/drawingml/2006/table">
            <a:tbl>
              <a:tblPr/>
              <a:tblGrid>
                <a:gridCol w="1748160"/>
                <a:gridCol w="228600"/>
                <a:gridCol w="1755720"/>
                <a:gridCol w="269640"/>
                <a:gridCol w="1828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ервый Советский художник - моделье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П. Ламанова (1861-194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916360" y="2565360"/>
            <a:ext cx="2950920" cy="429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Цели урок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накомить учащихся с последовательностью изготовления одежды от эскиза до готового изделия: научить моделированию одежды на примере макетирования из бумаги и ткани на условную фигуру (бумажную куклу). Дать сведения об основах композиции костюма; о профессиях работников, занятых в технологическом процессе изготовления одежды. Развивать    у    учащихся    пространственное    воображение,    творческое мышление, эстетический вкус. Выбрать модели одежды для творческих проек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Её эскиз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mod83_1_2"/>
          <p:cNvPicPr/>
          <p:nvPr/>
        </p:nvPicPr>
        <p:blipFill>
          <a:blip r:embed="rId1"/>
          <a:stretch/>
        </p:blipFill>
        <p:spPr>
          <a:xfrm>
            <a:off x="3132000" y="1916280"/>
            <a:ext cx="2952720" cy="494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ссийский художник - моделье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Зайц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9092"/>
          <p:cNvPicPr/>
          <p:nvPr/>
        </p:nvPicPr>
        <p:blipFill>
          <a:blip r:embed="rId1"/>
          <a:stretch/>
        </p:blipFill>
        <p:spPr>
          <a:xfrm>
            <a:off x="1979640" y="1844640"/>
            <a:ext cx="4464000" cy="37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Вопросы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Как вы представляете себе работу художника модельера (Придумает новые модели одежды, должен хорошо знать человеческую фигуру,  ее  пропорции, хорошо разбираться в цвете, тканях чувствовать силуэт, уметь шить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ак приступаем к работе художника - моделье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ктическая рабо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ение    эскизов    моделей   -   одежды  на    тему:    «Летний    отдых». Макетирование на условную фигу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КУЛЬТМИНУ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ходное положение - стоя, ноги врозь, руки опущены. Поднять плечи вверх - вдох, опустить плечи, округляя спину, - выдох. Поднять плечи - вдох, опустить, слегка прогибаясь в пояснице и сводя лопатки, выдох. Повторить 4-8 р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ходное положение - стоя, руки опущены. Выполнить поочерёдные круги назад то правым, то левым плечом. Повторить 4-8 р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ходное положение - стоя, ноги врозь, руки на голову. выполнить повороты туловища вправо - влево. Повторить 10-12 р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57200" cy="36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Инструкционная карта</a:t>
            </a:r>
            <a:br>
              <a:rPr sz="4000"/>
            </a:br>
            <a:r>
              <a:rPr b="1" lang="ru-RU" sz="1800" spc="-1" strike="noStrike">
                <a:solidFill>
                  <a:srgbClr val="ffffb7"/>
                </a:solidFill>
                <a:latin typeface="Arial Black"/>
              </a:rPr>
              <a:t>Инструменты и принадлежности: ножницы, карандаш, ластик, фломастеры, цветная бумага, кусочки ткани, клей булавки, бумажные куклы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Обвести карандашом контуры условной фигуры на листе в альбо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Наметить места для прорезей на плечах и линии талии. Аккуратно сделать прорези длиной 5-7 мм. для закрепления моделей одеж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Выполнить эскизы моделей одежды из цветной бумаги или кусочков хлопчатобумажной ткани с закрепительными деталями по размеру прорез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дели для летнего отдыха должны представлять собой плечевые и поясные изделия простой конструкции, определенного силуэта, соответствующих пропорций и цветовой гаммы. Костюм могут дополнять головной убор, сумка, украшения, обув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Вырезать модели одежды с закрепительными деталями и закрепить на условной фигу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ветить устно на вопросы: из какой ткани может быть выполнена твоя модель одежды? Где можно отдыхать в этой одежде? Какие силуэты, пропорции имеет придуманный тобой костюм? Какого цвета он должен бы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ие дополнения можно подобрать к костюм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ни - защита творческих проек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ведение итог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Наглядные пособ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цы моделей одежды для летнего отдыха, журналы мод, плакаты по композиции костюма (силуэты, пропорции, цвет). Раздаточный материал: лекало условной фигуры (бумажные куклы), инструкционные карты. Инструменты, принадлежности и материал: ножницы, линейка, карандаш, фломастеры, меты, цветная бумага, кусочки хлопчатобумажной ткани, була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д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роде шутливо говорят: "Наряди пенек, будет паренек". Но чтобы нарядить его надо изготовить одежд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оцесс создания одежды можно проследить по схеме цепочке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0" y="3357720"/>
            <a:ext cx="9144000" cy="24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Эскиз – графическое изображение модели на бумаге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6" descr="mod83_1_1"/>
          <p:cNvPicPr/>
          <p:nvPr/>
        </p:nvPicPr>
        <p:blipFill>
          <a:blip r:embed="rId1"/>
          <a:stretch/>
        </p:blipFill>
        <p:spPr>
          <a:xfrm>
            <a:off x="2700360" y="1844640"/>
            <a:ext cx="3954600" cy="501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Художник - модельер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ен хорошо знать человеческую фигуру, её пропорции, пластику, хорошо разбираться в цветовых сочетаниях, тканях, чувствовать линии кроя, силуэт, уметь ши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Художник - конструктор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ен иметь пространственное воображение, хорошо чувствовать силуэт, линии, пропорции в одежде, разбираться в тканях, цветовой  гамме, должен знать технологию изготовления одеж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ехнолог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ен знать направления моды,   отлично шить, следить за   современной технологией обработки     швейных изделий, новым     оборудованием, перспективными направлениями мо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9:29:53Z</dcterms:created>
  <dc:creator>илья</dc:creator>
  <dc:description/>
  <dc:language>en-US</dc:language>
  <cp:lastModifiedBy>ZooM</cp:lastModifiedBy>
  <dcterms:modified xsi:type="dcterms:W3CDTF">2013-11-07T18:05:48Z</dcterms:modified>
  <cp:revision>29</cp:revision>
  <dc:subject/>
  <dc:title>"Моделирование одежды. Профессия художника - модельера". </dc:title>
</cp:coreProperties>
</file>