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00F-6F85-4A06-A692-D131069E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1E2-4E7C-4528-81F0-91FE6E7D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C7B-3EFD-4A14-A967-E079538B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29A-5748-4AC1-A901-6CFA728D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8647-1C10-4B32-94DD-12D43169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0E55-ED9F-4B28-A122-B34FFB7E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4BE2-8E83-4B0A-9299-EE9FCFCF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8DBE-FB36-47D7-B821-6012FCB3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8FF9-5437-4378-8745-64EAF2A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E625-8BB7-4AF5-A99F-CB62B0A0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CDE5-82F5-4093-8CDF-4BEF3A1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1D0-EF19-476D-ACBF-ED4ACBBC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4BE-2562-4AED-9489-4659503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B2EC-783D-4D24-86D8-B4E557A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07E3-62DC-4F75-B093-EE5216B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F57-ED35-435C-B3CD-15AEBCF2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E35B-713C-4C2E-ADCC-EFC05448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AFC-8E94-4C62-9324-CCDE44D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1EC-6709-4516-B202-DC9360A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AAE-5973-421A-84FE-574A7C63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649-2A07-4A8F-8433-5E1E1101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D5E-D682-41AD-9AF5-BBB6D84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268-FA6B-4A2E-835F-5A892AC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D7A-6B89-4DFB-AF22-4C0825C2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FB9-627F-4A3D-B498-25E4039C6C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6D97-F63B-4B35-B43C-693B517EE9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М.Ю. Лермонтов « Когда волнуется желтеющая нива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Терёшина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те 1-ю строфу. Что видит лирический герой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гляде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ит перед собой(что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ре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этому она(что?) колыше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почему?) лес шум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или спрятаться под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те 2-ю строфу. Какой общий вопрос можно к ней поставить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образ-пейзаж видит лирический гер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берите синонимы к словосочетанию «румяный вече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рисуйте словами картину «златого утр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 видит поэт ландыш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то вы знаете о М.Ю.Лермонтов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33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.Ю.Лермонтов – один из крупнейших русских поэтов 19 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н продолжает в литературе пушкинские тради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воём творчестве поэт обращается к душе человека, соотносит человека и прир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48120" cy="40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ое впечатление произвело на вас это стихотворени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понравилось стихотворение(чем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ихотворение на меня произвело….впечатл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непонятно(что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176720" cy="30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ими впечатлениями делится с нами поэт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ъясните значение словосочет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Желтеющая нива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линовая слива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андыш серебристый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 каких временах года говорится в стихотворен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48360" y="206064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221616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34495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берите из текста необходимые прилагательные и глагол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ва(какая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ес(какой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ива(какая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са(какая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чер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ро(какое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андыш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юч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48360" y="3284640"/>
            <a:ext cx="3665520" cy="242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какого лица написано стихотвор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йдите в тексте знакомые местоим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ы думаете, кому кивает головой серебристый ландыш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читайте 3-ю строф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ы думаете, кто играет в овраг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юч, ручей бежит, играет, течё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значит студёны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лепечет(тихо шепчет)студёный ключ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40360" y="5084640"/>
            <a:ext cx="4762440" cy="157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Используя синонимы к словам, составьте предложения, близкие по смыслу к3-й и 4-й строкам 5-й строф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Cloud"/>
          <p:cNvSpPr/>
          <p:nvPr/>
        </p:nvSpPr>
        <p:spPr>
          <a:xfrm>
            <a:off x="611280" y="2509920"/>
            <a:ext cx="4537080" cy="26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печет –произносит, издаёт тихие, неясные звуки, медленно, тихо гов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5508720" y="1916280"/>
            <a:ext cx="2743200" cy="2087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га – легенда, сказание, 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"/>
          <p:cNvSpPr/>
          <p:nvPr/>
        </p:nvSpPr>
        <p:spPr>
          <a:xfrm>
            <a:off x="4067280" y="4149720"/>
            <a:ext cx="4681440" cy="251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чится – очень быстро бежит, очень быстро те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то происходит в душе поэта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может автор постигнуть(понять) и увидеть на земле и на неб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900000" y="3500280"/>
            <a:ext cx="504360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иряется – успокаивается, становится тише, не волн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1:30:54Z</dcterms:created>
  <dc:creator>Андрей Кеша</dc:creator>
  <dc:description/>
  <dc:language>en-US</dc:language>
  <cp:lastModifiedBy>Андрей Кеша</cp:lastModifiedBy>
  <dcterms:modified xsi:type="dcterms:W3CDTF">2010-02-28T12:56:22Z</dcterms:modified>
  <cp:revision>2</cp:revision>
  <dc:subject/>
  <dc:title>М.Ю. Лермонтов « Когда волнуется желтеющая нива»</dc:title>
</cp:coreProperties>
</file>