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F71-CA43-49CC-9E63-1A4E509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BAF-EEEB-45FE-97A3-585986D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3AF-06C8-45A4-81FA-68391CD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709-6829-4AE4-94D9-00762C88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F76-766F-40BF-8B95-DAA0ECAE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CBB1-1BD6-4106-8BD7-1E6E67E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06B-F808-44E7-AABD-E6432DA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1CC5-54CD-4C6C-B6C0-CACD199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2200-E64B-4187-AC07-AD1BD21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2AF2-E4FB-43EB-A2CF-7794E383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3520-E772-4107-951D-27098AC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A1D-ECF9-4426-ACFE-DBC5E2B7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895-AE2B-4B83-AF4E-6019773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1CD4-B6F7-4791-AEF8-A8D910C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FA9-449A-4FBE-9F93-E5459FD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782A-CEB2-461C-B0B7-385E9801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5F7F-34AB-4566-875D-716E36EE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27F-ED32-4059-84B5-BA78D69C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261-8DAB-444B-82F7-A8223279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2BC-55AC-4A2D-A318-A8253171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97B-0251-4764-91F4-2D84844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FBD-8AC5-4F97-BDC9-CE1649F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7B3-6035-463C-A2ED-19FC97E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105-037C-46C3-8374-6F829CA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96D-4B04-4677-80DF-66ADBA2694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A812-4807-4E2B-8FA6-88DF3AD3CD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.Ю. Лермонтов « Когда волнуется желтеющая нива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Терёшина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те 1-ю строфу. Что видит лирический герой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гляде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ит перед собой(что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ре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этому она(что?) колыше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почему?) лес шум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или спрятаться под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те 2-ю строфу. Какой общий вопрос можно к ней поставить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образ-пейзаж видит лирический гер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берите синонимы к словосочетанию «румяны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рисуйте словами картину «златого утр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 видит поэт ландыш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вы знаете о М.Ю.Лермонтов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.Ю.Лермонтов – один из крупнейших русских поэтов 19 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н продолжает в литературе пушкинские тради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воём творчестве поэт обращается к душе человека, соотносит человека и прир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48120" cy="40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ое впечатление произвело на вас это стихотворени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понравилось стихотворение(чем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ихотворение на меня произвело….впечатл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непонятно(что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176720" cy="30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ими впечатлениями делится с нами поэт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ъясните значение словосочет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елтеющая нива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линовая слива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ндыш серебристый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 каких временах года говорится в стихотворен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221616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34495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берите из текста необходимые прилагательные и глагол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ва(какая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ес(какой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ива(какая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а(какая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чер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ро(какое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ндыш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юч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48360" y="3284640"/>
            <a:ext cx="3665520" cy="242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какого лица написано стихотвор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йдите в тексте знакомые местоим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ому кивает головой серебристый ландыш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читайте 3-ю строф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то играет в овраг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юч, ручей бежит, играет, течё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значит студёны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лепечет(тихо шепчет)студёный ключ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4762440" cy="157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Используя синонимы к словам, составьте предложения, близкие по смыслу к3-й и 4-й строкам 5-й строф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Cloud"/>
          <p:cNvSpPr/>
          <p:nvPr/>
        </p:nvSpPr>
        <p:spPr>
          <a:xfrm>
            <a:off x="611280" y="2509920"/>
            <a:ext cx="4537080" cy="26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ечет –произносит, издаёт тихие, неясные звуки, медленно, тихо гов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508720" y="1916280"/>
            <a:ext cx="2743200" cy="2087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га – легенда, сказание, 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4067280" y="4149720"/>
            <a:ext cx="4681440" cy="251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ится – очень быстро бежит, очень быстро те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происходит в душе поэта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может автор постигнуть(понять) и увидеть на земле и на н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900000" y="3500280"/>
            <a:ext cx="504360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иряется – успокаивается, становится тише, не волн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1:30:54Z</dcterms:created>
  <dc:creator>Андрей Кеша</dc:creator>
  <dc:description/>
  <dc:language>en-US</dc:language>
  <cp:lastModifiedBy>Андрей Кеша</cp:lastModifiedBy>
  <dcterms:modified xsi:type="dcterms:W3CDTF">2010-02-28T12:56:22Z</dcterms:modified>
  <cp:revision>2</cp:revision>
  <dc:subject/>
  <dc:title>М.Ю. Лермонтов « Когда волнуется желтеющая нива»</dc:title>
</cp:coreProperties>
</file>