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8F9-062A-4833-AB2D-E7AE985D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FC6-AADA-4DD7-AB4A-C3EE68CC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7AA-5C7F-45B1-B60C-82982894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905-545C-4D50-B7A8-27473F9E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3825-E86A-45AF-960D-402FCA45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11EF-DADB-4AAF-8178-6AA1B40F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D91A-BD30-42CC-A548-9B37DCC3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0E97-2557-4B84-8FA8-B025D74A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FD1F-B80C-47B5-9B73-59E676CA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0A21-FA30-4642-BFAD-B4D5639D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0563-2D3A-4D05-A74E-E1FEA303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DC3-7223-48B2-8E12-B0751D43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2691-3E11-4604-995A-B3C3101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CC3-2B5A-4C02-ADA1-E020D498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2F97-C255-4A86-8013-D4D88F46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3506-CEA9-4A8D-8BF1-C4A9E381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B70F-D433-4064-B082-69CC8000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344-21CF-4664-82D3-656B3464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18B-64F6-4EA3-889A-868A37B1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CCC-9F81-4B0D-BCCD-ECACEA61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E0E-6BC6-4208-9DD4-614B2C0E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C2C-A560-490E-8BD6-708403D6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1E7-E195-4F55-BFC0-499097B6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07E-2057-4522-AF1A-76C044A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66A3-B2F8-4D83-8D15-CF8A637669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0C0A-71F1-4A93-8AAF-EF084CA0B15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М.Ю. Лермонтов « Когда волнуется желтеющая нива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Терёшина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читайте 1-ю строфу. Что видит лирический герой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гляде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ит перед собой(что?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ре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этому она(что?) колышет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почему?) лес шум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или спрятаться под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читайте 2-ю строфу. Какой общий вопрос можно к ней поставить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образ-пейзаж видит лирический гер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берите синонимы к словосочетанию «румяный вече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рисуйте словами картину «златого утр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м видит поэт ландыш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то вы знаете о М.Ю.Лермонтов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48000" y="1599840"/>
            <a:ext cx="533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.Ю.Лермонтов – один из крупнейших русских поэтов 19 ве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н продолжает в литературе пушкинские тради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своём творчестве поэт обращается к душе человека, соотносит человека и прир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48120" cy="400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акое впечатление произвело на вас это стихотворение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не понравилось стихотворение(чем?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ихотворение на меня произвело….впечатл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не непонятно(что?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176720" cy="30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акими впечатлениями делится с нами поэт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ъясните значение словосочет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Желтеющая нива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линовая слива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андыш серебристый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 каких временах года говорится в стихотворен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48360" y="206064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32720" y="4292640"/>
            <a:ext cx="221616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34495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ыберите из текста необходимые прилагательные и глагол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ива(какая?) (что делает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ес(какой?) (что делает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ива(какая?) (что делает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са(какая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ечер(какой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тро(какое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андыш(какой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юч(какой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48360" y="3284640"/>
            <a:ext cx="3665520" cy="242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 какого лица написано стихотворе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йдите в тексте знакомые местоим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вы думаете, кому кивает головой серебристый ландыш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читайте 3-ю строф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вы думаете, кто играет в овраг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юч, ручей бежит, играет, течё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значит студёны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лепечет(тихо шепчет)студёный ключ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40360" y="5084640"/>
            <a:ext cx="4762440" cy="157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Используя синонимы к словам, составьте предложения, близкие по смыслу к3-й и 4-й строкам 5-й строф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Cloud"/>
          <p:cNvSpPr/>
          <p:nvPr/>
        </p:nvSpPr>
        <p:spPr>
          <a:xfrm>
            <a:off x="611280" y="2509920"/>
            <a:ext cx="4537080" cy="2647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печет –произносит, издаёт тихие, неясные звуки, медленно, тихо гово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5508720" y="1916280"/>
            <a:ext cx="2743200" cy="2087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га – легенда, сказание, рас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"/>
          <p:cNvSpPr/>
          <p:nvPr/>
        </p:nvSpPr>
        <p:spPr>
          <a:xfrm>
            <a:off x="4067280" y="4149720"/>
            <a:ext cx="4681440" cy="251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чится – очень быстро бежит, очень быстро теч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то происходит в душе поэта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может автор постигнуть(понять) и увидеть на земле и на неб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900000" y="3500280"/>
            <a:ext cx="5043600" cy="2448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иряется – успокаивается, становится тише, не волн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1:30:54Z</dcterms:created>
  <dc:creator>Андрей Кеша</dc:creator>
  <dc:description/>
  <dc:language>en-US</dc:language>
  <cp:lastModifiedBy>Андрей Кеша</cp:lastModifiedBy>
  <dcterms:modified xsi:type="dcterms:W3CDTF">2010-02-28T12:56:22Z</dcterms:modified>
  <cp:revision>2</cp:revision>
  <dc:subject/>
  <dc:title>М.Ю. Лермонтов « Когда волнуется желтеющая нива»</dc:title>
</cp:coreProperties>
</file>