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DC9-2A21-4EBF-8778-1FD53D3E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7EFD-A233-4841-869F-DF68D533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816-8D97-4373-B14B-5B2EB9ED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191-2C36-407A-A096-EA9FBF15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4AE8-2F77-4E19-BC5A-355CDDCE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55E0-4FBA-4EAE-A29D-39D2C213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F267-C6F9-4918-99BF-0C42D2F0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5099-A3C7-490E-BB9B-8F4E194E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2C05-469E-4971-97CA-7E03DF51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74A3-BB8A-4CBC-8978-3D2A6BB9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5158-C452-475B-B70B-724F9D87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D8A-BE4A-4DE8-863E-86B9BEE3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0A65-575B-429F-B42E-CA8B7A25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0B6D-A9A6-4775-8942-0276C66D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DF69-0AE0-42D8-ACFE-CD1D53B1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EA01-EE55-4A36-9B10-B88DD86F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8BA1-4547-4C5E-A84F-A4CC5B8E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F9AE2-2FE8-4306-896A-971E9893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6116F-33CF-4B8A-B86D-FEDCA8C6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32E84-2CFD-430B-A9A8-F70C0BB9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B5264-3147-47A9-8958-A4D40666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E704C-7CA0-46ED-9068-495EEAAA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FAE-EE85-47A9-924E-BA49CB41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F91C3-E34F-45D2-A179-FC8CF3DF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8BF6C-8E72-49D8-ACAB-468F1F83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37B6A-74F1-4D83-891D-29F571F3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CEDC2-1791-4985-AAA8-042E8BFB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8FD33-12D0-4B6B-B684-72D73C01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E4132-7302-439A-A0DC-31FCF0FA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C0D60-AB82-477A-9868-C439C478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D8D85-C667-4220-AA16-32F6A07F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F8EE7-F8EA-453E-8E26-7A50FA0D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A922-6F3C-4028-8A32-5FBF502F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548-E2D7-4C5B-8C3A-D4A1C75E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FAAAC-9C7B-4B5F-BF55-342C07B4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8C157-9ABC-4E91-8EED-3474CE5E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7ACE8-DFE2-461F-BF10-9E7CE647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7562-A826-485E-A9E7-C347CB55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B7F6-4185-4103-9000-9E6BA39A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3A00F-8CE2-4326-93C4-23AF162D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5687E-94DF-4CE8-B74A-A8081E1E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FC146-4C6D-4C37-AF5B-9BFCA55F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C7C6D-4484-4523-A62A-6F03117F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ECB73-8A4A-4A98-881A-0F508505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84D-3414-421C-B2FD-17D13605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51258-7CE7-4BEE-B078-9411AFCA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31BD0-AAB1-4873-91F0-14080EDC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81125-E6DA-4EE9-9DB4-089CB090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78EB0-A8EB-4C79-A3ED-60846C1B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DF4C9-9512-4864-B79E-519144ED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ED77C-B90F-4F50-996E-C84E3E1C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57AD4-30ED-4EE3-A4BB-D2C2C700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6E761-2175-4A4E-A0C5-6B33334B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CA843-5295-4D1B-95D0-D0D54CE9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F25C5-BAC4-4E89-875B-E7112945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C0F-C388-460A-BF68-4476F77E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D3E6B-6559-41A9-84E9-BABC7FC9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E374E-AFAB-4B9A-83F2-2D5ACE3B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0AC0A-37B8-43E8-9D68-212FE810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92646-F7DB-48DB-BB49-103178C0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A433A-ABB1-421D-8BF7-53D76826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43670-E2FA-4BED-8501-C875C5A1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9C517-B3DE-4788-8861-3FAD100E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5BC4C0-F9A4-45E9-AB38-6DD5D793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F5902-C2E9-4852-9C01-10C44605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248AAF-9680-440D-8CAF-796808DD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006-92FB-4EB4-955D-12C02FB7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20311D-40B2-47BD-BB01-4D22106C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391E9-29E6-4EF5-B9A7-743D8020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EF003-5DDF-4FFF-AD17-57D72F49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2F088-C2C6-4011-A5A2-7F028C21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B3983-7936-4600-A7B6-3B4F6D2D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D0435-91F5-4386-839E-FB585675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F1312-D305-4525-98DC-7DBBF202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7C24F-E75B-4E03-9E34-307B3149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41649-EBAE-4639-80A4-8DDB9E12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52EB1C-F3BB-4DB0-882E-9A9DD317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6E9-6D67-4F31-A2F8-0DCC3119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423DB-3441-4894-8753-3208E2F8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6F402-7244-4A82-A87C-6B243AF0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BAD55-15CF-4974-9CA1-B376E941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EC6C3-C8F2-4595-B89B-73DF50D0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9B0B3-F5F8-4ED9-AD44-E79344E5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95D-4AE2-4C1E-A46C-B25BF870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1BCF-CAED-4118-AB94-53DF4E57B9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4913-D4FF-4F0D-96EF-F9B86C8EC7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EF03-FCA4-486B-BEE4-49603B0D32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E8F8-0869-4954-B6CF-354DF7E2604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F4EC-AC86-4598-B966-A79C26268E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2DC0-769F-46E5-9E2F-1A4A120A8D7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8F37-DFA4-48B6-82FF-9D3365A836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ru.wikipedia.org/wiki/&#1042;&#1086;&#1079;&#1074;&#1077;&#1076;&#1077;&#1085;&#1080;&#1077;_&#1074;_&#1089;&#1090;&#1077;&#1087;&#1077;&#1085;&#1100;" TargetMode="External"/><Relationship Id="rId4" Type="http://schemas.openxmlformats.org/officeDocument/2006/relationships/hyperlink" Target="http://ru.wikipedia.org/wiki/&#1063;&#1080;&#1089;&#1083;&#1086;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63;&#1080;&#1089;&#1083;&#1086;_&#1069;&#1081;&#1083;&#1077;&#1088;&#1072;" TargetMode="External"/><Relationship Id="rId4" Type="http://schemas.openxmlformats.org/officeDocument/2006/relationships/hyperlink" Target="http://ru.wikipedia.org/wiki/&#1069;&#1081;&#1083;&#1077;&#1088;,_&#1051;&#1077;&#1086;&#1085;&#1072;&#1088;&#1076;" TargetMode="External"/><Relationship Id="rId5" Type="http://schemas.openxmlformats.org/officeDocument/2006/relationships/hyperlink" Target="http://ru.wikipedia.org/wiki/&#1058;&#1077;&#1086;&#1088;&#1080;&#1103;_&#1080;&#1085;&#1092;&#1086;&#1088;&#1084;&#1072;&#1094;&#1080;&#1080;" TargetMode="External"/><Relationship Id="rId6" Type="http://schemas.openxmlformats.org/officeDocument/2006/relationships/hyperlink" Target="http://ru.wikipedia.org/wiki/&#1048;&#1085;&#1092;&#1086;&#1088;&#1084;&#1072;&#1090;&#1080;&#1082;&#1072;" TargetMode="External"/><Relationship Id="rId7" Type="http://schemas.openxmlformats.org/officeDocument/2006/relationships/hyperlink" Target="http://ru.wikipedia.org/wiki/&#1053;&#1077;&#1087;&#1088;&#1077;&#1088;&#1099;&#1074;&#1085;&#1086;&#1077;_&#1086;&#1090;&#1086;&#1073;&#1088;&#1072;&#1078;&#1077;&#1085;&#1080;&#1077;" TargetMode="External"/><Relationship Id="rId8" Type="http://schemas.openxmlformats.org/officeDocument/2006/relationships/hyperlink" Target="http://ru.wikipedia.org/wiki/&#1044;&#1080;&#1092;&#1092;&#1077;&#1088;&#1077;&#1085;&#1094;&#1080;&#1088;&#1091;&#1077;&#1084;&#1072;&#1103;_&#1092;&#1091;&#1085;&#1082;&#1094;&#1080;&#1103;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ru.wikipedia.org/wiki/&#1055;&#1088;&#1086;&#1080;&#1079;&#1074;&#1086;&#1076;&#1085;&#1072;&#1103;_&#1092;&#1091;&#1085;&#1082;&#1094;&#1080;&#1080;" TargetMode="External"/><Relationship Id="rId5" Type="http://schemas.openxmlformats.org/officeDocument/2006/relationships/hyperlink" Target="http://ru.wikipedia.org/wiki/&#1044;&#1080;&#1092;&#1092;&#1077;&#1088;&#1077;&#1085;&#1094;&#1080;&#1072;&#1083;&#1100;&#1085;&#1086;&#1077;_&#1091;&#1088;&#1072;&#1074;&#1085;&#1077;&#1085;&#1080;&#1077;" TargetMode="External"/><Relationship Id="rId6" Type="http://schemas.openxmlformats.org/officeDocument/2006/relationships/hyperlink" Target="http://ru.wikipedia.org/wiki/&#1055;&#1088;&#1086;&#1089;&#1090;&#1086;&#1077;_&#1095;&#1080;&#1089;&#1083;&#1086;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3;&#1100;&#1082;&#1091;&#1083;&#1103;&#1090;&#1086;&#1088;" TargetMode="External"/><Relationship Id="rId2" Type="http://schemas.openxmlformats.org/officeDocument/2006/relationships/hyperlink" Target="http://ru.wikipedia.org/wiki/&#1051;&#1086;&#1075;&#1072;&#1088;&#1080;&#1092;&#1084;&#1080;&#1095;&#1077;&#1089;&#1082;&#1080;&#1081;_&#1084;&#1072;&#1089;&#1096;&#1090;&#1072;&#1073;" TargetMode="External"/><Relationship Id="rId3" Type="http://schemas.openxmlformats.org/officeDocument/2006/relationships/hyperlink" Target="http://ru.wikipedia.org/wiki/&#1051;&#1086;&#1075;&#1072;&#1088;&#1080;&#1092;&#1084;&#1080;&#1095;&#1077;&#1089;&#1082;&#1072;&#1103;_&#1083;&#1080;&#1085;&#1077;&#1081;&#1082;&#1072;" TargetMode="External"/><Relationship Id="rId4" Type="http://schemas.openxmlformats.org/officeDocument/2006/relationships/hyperlink" Target="http://ru.wikipedia.org/wiki/&#1060;&#1080;&#1079;&#1080;&#1082;&#1072;" TargetMode="External"/><Relationship Id="rId5" Type="http://schemas.openxmlformats.org/officeDocument/2006/relationships/hyperlink" Target="http://ru.wikipedia.org/wiki/&#1044;&#1077;&#1094;&#1080;&#1073;&#1077;&#1083;" TargetMode="External"/><Relationship Id="rId6" Type="http://schemas.openxmlformats.org/officeDocument/2006/relationships/hyperlink" Target="http://ru.wikipedia.org/wiki/&#1040;&#1089;&#1090;&#1088;&#1086;&#1085;&#1086;&#1084;&#1080;&#1103;" TargetMode="External"/><Relationship Id="rId7" Type="http://schemas.openxmlformats.org/officeDocument/2006/relationships/hyperlink" Target="http://ru.wikipedia.org/wiki/&#1042;&#1080;&#1076;&#1080;&#1084;&#1072;&#1103;_&#1079;&#1074;&#1105;&#1079;&#1076;&#1085;&#1072;&#1103;_&#1074;&#1077;&#1083;&#1080;&#1095;&#1080;&#1085;&#1072;" TargetMode="External"/><Relationship Id="rId8" Type="http://schemas.openxmlformats.org/officeDocument/2006/relationships/hyperlink" Target="http://ru.wikipedia.org/wiki/&#1061;&#1080;&#1084;&#1080;&#1103;" TargetMode="External"/><Relationship Id="rId9" Type="http://schemas.openxmlformats.org/officeDocument/2006/relationships/hyperlink" Target="http://ru.wikipedia.org/wiki/&#1042;&#1086;&#1076;&#1086;&#1088;&#1086;&#1076;" TargetMode="External"/><Relationship Id="rId10" Type="http://schemas.openxmlformats.org/officeDocument/2006/relationships/hyperlink" Target="http://ru.wikipedia.org/wiki/&#1048;&#1086;&#1085;" TargetMode="External"/><Relationship Id="rId11" Type="http://schemas.openxmlformats.org/officeDocument/2006/relationships/hyperlink" Target="http://ru.wikipedia.org/wiki/&#1042;&#1086;&#1076;&#1086;&#1088;&#1086;&#1076;&#1085;&#1099;&#1081;_&#1087;&#1086;&#1082;&#1072;&#1079;&#1072;&#1090;&#1077;&#1083;&#1100;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Заголовок 1"/>
          <p:cNvGrpSpPr/>
          <p:nvPr/>
        </p:nvGrpSpPr>
        <p:grpSpPr>
          <a:xfrm>
            <a:off x="2219400" y="3078000"/>
            <a:ext cx="6302160" cy="2024280"/>
            <a:chOff x="2219400" y="3078000"/>
            <a:chExt cx="6302160" cy="2024280"/>
          </a:xfrm>
        </p:grpSpPr>
        <p:pic>
          <p:nvPicPr>
            <p:cNvPr id="35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219400" y="3078000"/>
              <a:ext cx="6302160" cy="20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286000" y="3124080"/>
              <a:ext cx="6172200" cy="18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ffff"/>
                  </a:solidFill>
                  <a:latin typeface="Century Schoolbook"/>
                </a:rPr>
                <a:t>ЛОГАРИФМ</a:t>
              </a:r>
              <a:endParaRPr b="0" lang="en-US" sz="6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54" name="Подзаголовок 2"/>
          <p:cNvGrpSpPr/>
          <p:nvPr/>
        </p:nvGrpSpPr>
        <p:grpSpPr>
          <a:xfrm>
            <a:off x="1974960" y="4834080"/>
            <a:ext cx="6546600" cy="1627200"/>
            <a:chOff x="1974960" y="4834080"/>
            <a:chExt cx="6546600" cy="1627200"/>
          </a:xfrm>
        </p:grpSpPr>
        <p:pic>
          <p:nvPicPr>
            <p:cNvPr id="355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1974960" y="4834080"/>
              <a:ext cx="65466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2286000" y="5003640"/>
              <a:ext cx="61722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575f6d"/>
                  </a:solidFill>
                  <a:latin typeface="Century Schoolbook"/>
                </a:rPr>
                <a:t>Основные понятия</a:t>
              </a:r>
              <a:endParaRPr b="0" lang="en-US" sz="4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fe8637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4583"/>
                </a:solidFill>
                <a:latin typeface="Century Schoolbook"/>
              </a:rPr>
              <a:t>С</a:t>
            </a:r>
            <a:r>
              <a:rPr b="1" lang="en-US" sz="4400" spc="-1" strike="noStrike">
                <a:solidFill>
                  <a:srgbClr val="244583"/>
                </a:solidFill>
                <a:latin typeface="Century Schoolbook"/>
              </a:rPr>
              <a:t>ВОЙСТВА ЛОГАРИФМОВ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solidFill>
            <a:srgbClr val="f5cd2d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6)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  Логарифм степени равен произведению показателя степени на логарифм её основания: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L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og 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 b </a:t>
            </a:r>
            <a:r>
              <a:rPr b="1" i="1" lang="ru-RU" sz="2400" spc="-1" strike="noStrike" baseline="30000">
                <a:solidFill>
                  <a:srgbClr val="7030a0"/>
                </a:solidFill>
                <a:latin typeface="Century Schoolbook"/>
              </a:rPr>
              <a:t>k 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) = 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k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 · log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  b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7) Логарифм основания в степени равен произведению степени в минус первой степени на логарифм её осн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Log n b= 1/n log 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a                    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Содержимое 3" descr="0465.jpg"/>
          <p:cNvPicPr/>
          <p:nvPr/>
        </p:nvPicPr>
        <p:blipFill>
          <a:blip r:embed="rId1"/>
          <a:stretch/>
        </p:blipFill>
        <p:spPr>
          <a:xfrm>
            <a:off x="214200" y="428760"/>
            <a:ext cx="8696520" cy="585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езентацию приготови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ошелева Наст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Заголовок 1"/>
          <p:cNvGrpSpPr/>
          <p:nvPr/>
        </p:nvGrpSpPr>
        <p:grpSpPr>
          <a:xfrm>
            <a:off x="390600" y="225360"/>
            <a:ext cx="7594560" cy="1279440"/>
            <a:chOff x="390600" y="225360"/>
            <a:chExt cx="7594560" cy="1279440"/>
          </a:xfrm>
        </p:grpSpPr>
        <p:pic>
          <p:nvPicPr>
            <p:cNvPr id="3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225360"/>
              <a:ext cx="75945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39d"/>
                  </a:solidFill>
                  <a:latin typeface="Century Schoolbook"/>
                </a:rPr>
                <a:t>ОПРЕДЕЛЕНИЕ</a:t>
              </a:r>
              <a:endParaRPr b="0" lang="en-US" sz="5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60" name="Содержимое 2"/>
          <p:cNvGrpSpPr/>
          <p:nvPr/>
        </p:nvGrpSpPr>
        <p:grpSpPr>
          <a:xfrm>
            <a:off x="328680" y="1432080"/>
            <a:ext cx="7662960" cy="5133960"/>
            <a:chOff x="328680" y="1432080"/>
            <a:chExt cx="7662960" cy="5133960"/>
          </a:xfrm>
        </p:grpSpPr>
        <p:pic>
          <p:nvPicPr>
            <p:cNvPr id="36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28680" y="1432080"/>
              <a:ext cx="76629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457200" y="1600200"/>
              <a:ext cx="7467480" cy="48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Логарифм числа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по основанию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определяется как </a:t>
              </a:r>
              <a:r>
                <a:rPr b="0" lang="ru-RU" sz="32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3"/>
                </a:rPr>
                <a:t>показатель степени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, в которую надо возвести </a:t>
              </a:r>
              <a:r>
                <a:rPr b="0" lang="ru-RU" sz="32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4"/>
                </a:rPr>
                <a:t>число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, чтобы получить число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. Обозначение: log</a:t>
              </a:r>
              <a:r>
                <a:rPr b="0" i="1" lang="ru-RU" sz="3200" spc="-1" strike="noStrike" baseline="-25000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. Из определения следует, что записи log</a:t>
              </a:r>
              <a:r>
                <a:rPr b="0" i="1" lang="ru-RU" sz="3200" spc="-1" strike="noStrike" baseline="-25000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=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x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и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i="1" lang="ru-RU" sz="3200" spc="-1" strike="noStrike" baseline="30000">
                  <a:solidFill>
                    <a:srgbClr val="000000"/>
                  </a:solidFill>
                  <a:latin typeface="Century Schoolbook"/>
                </a:rPr>
                <a:t>x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=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эквивалентны.</a:t>
              </a: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Где</a:t>
              </a:r>
              <a:r>
                <a:rPr b="0" lang="en-US" sz="3200" spc="-1" strike="noStrike">
                  <a:solidFill>
                    <a:srgbClr val="000000"/>
                  </a:solidFill>
                  <a:latin typeface="Century Schoolbook"/>
                </a:rPr>
                <a:t> b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не</a:t>
              </a:r>
              <a:r>
                <a:rPr b="0" lang="en-US" sz="3200" spc="-1" strike="noStrike">
                  <a:solidFill>
                    <a:srgbClr val="000000"/>
                  </a:solidFill>
                  <a:latin typeface="Century Schoolbook"/>
                </a:rPr>
                <a:t> = 1, a&gt;0, b &gt; 0</a:t>
              </a: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Пример: log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8 = 3, потому что 2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= 8.</a:t>
              </a: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Заголовок 3"/>
          <p:cNvGrpSpPr/>
          <p:nvPr/>
        </p:nvGrpSpPr>
        <p:grpSpPr>
          <a:xfrm>
            <a:off x="390600" y="152280"/>
            <a:ext cx="4314600" cy="1365480"/>
            <a:chOff x="390600" y="152280"/>
            <a:chExt cx="4314600" cy="1365480"/>
          </a:xfrm>
        </p:grpSpPr>
        <p:pic>
          <p:nvPicPr>
            <p:cNvPr id="364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390600" y="152280"/>
              <a:ext cx="431460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57200" y="272880"/>
              <a:ext cx="4186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entury Schoolbook"/>
                </a:rPr>
                <a:t>ВЕЩЕСТВЕННЫЙ ЛОГАРИФМ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66" name="Текст 5"/>
          <p:cNvGrpSpPr/>
          <p:nvPr/>
        </p:nvGrpSpPr>
        <p:grpSpPr>
          <a:xfrm>
            <a:off x="365040" y="1359000"/>
            <a:ext cx="4346640" cy="4859280"/>
            <a:chOff x="365040" y="1359000"/>
            <a:chExt cx="4346640" cy="4859280"/>
          </a:xfrm>
        </p:grpSpPr>
        <p:pic>
          <p:nvPicPr>
            <p:cNvPr id="367" name="Текст 5" descr=""/>
            <p:cNvPicPr/>
            <p:nvPr/>
          </p:nvPicPr>
          <p:blipFill>
            <a:blip r:embed="rId2"/>
            <a:stretch/>
          </p:blipFill>
          <p:spPr>
            <a:xfrm>
              <a:off x="365040" y="1359000"/>
              <a:ext cx="4346640" cy="48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457200" y="1434960"/>
              <a:ext cx="4186080" cy="46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Логарифм вещественного числа log</a:t>
              </a:r>
              <a:r>
                <a:rPr b="0" i="1" lang="ru-RU" sz="1600" spc="-1" strike="noStrike" baseline="-25000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имеет смысл при .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Наиболее широкое применение нашли следующие виды логарифмов: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Десятичные: основание: число 10.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Натуральные: основание: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3"/>
                </a:rPr>
                <a:t>e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(число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4"/>
                </a:rPr>
                <a:t>Эйлера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Двоичные: основание: число 2. Они применяются в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5"/>
                </a:rPr>
                <a:t>теории информации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и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6"/>
                </a:rPr>
                <a:t>информатике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Если рассматривать логарифмируемое число как переменную, мы получим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Century Schoolbook"/>
                </a:rPr>
                <a:t>логарифмическую функцию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, например: . Эта функция определена в правой части числовой прямой: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Century Schoolbook"/>
                </a:rPr>
                <a:t>x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&gt; 0,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7"/>
                </a:rPr>
                <a:t>непрерывна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и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8"/>
                </a:rPr>
                <a:t>дифференцируема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69" name="Содержимое 6" descr="8674881.jpg"/>
          <p:cNvPicPr/>
          <p:nvPr/>
        </p:nvPicPr>
        <p:blipFill>
          <a:blip r:embed="rId9"/>
          <a:stretch/>
        </p:blipFill>
        <p:spPr>
          <a:xfrm>
            <a:off x="5000760" y="357120"/>
            <a:ext cx="3981240" cy="563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7176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1192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Содержимое 4" descr="6.jpg"/>
          <p:cNvPicPr/>
          <p:nvPr/>
        </p:nvPicPr>
        <p:blipFill>
          <a:blip r:embed="rId1"/>
          <a:stretch/>
        </p:blipFill>
        <p:spPr>
          <a:xfrm>
            <a:off x="285840" y="214200"/>
            <a:ext cx="8553240" cy="607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Заголовок 9"/>
          <p:cNvGrpSpPr/>
          <p:nvPr/>
        </p:nvGrpSpPr>
        <p:grpSpPr>
          <a:xfrm>
            <a:off x="390600" y="225360"/>
            <a:ext cx="7594560" cy="1279440"/>
            <a:chOff x="390600" y="225360"/>
            <a:chExt cx="7594560" cy="1279440"/>
          </a:xfrm>
        </p:grpSpPr>
        <p:pic>
          <p:nvPicPr>
            <p:cNvPr id="374" name="Заголовок 9" descr=""/>
            <p:cNvPicPr/>
            <p:nvPr/>
          </p:nvPicPr>
          <p:blipFill>
            <a:blip r:embed="rId1"/>
            <a:stretch/>
          </p:blipFill>
          <p:spPr>
            <a:xfrm>
              <a:off x="390600" y="225360"/>
              <a:ext cx="75945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0a0"/>
                  </a:solidFill>
                  <a:latin typeface="Century Schoolbook"/>
                </a:rPr>
                <a:t>НАТУРАЛЬНЫЕ ЛОГАРИФМЫ</a:t>
              </a:r>
              <a:br>
                <a:rPr sz="2700"/>
              </a:br>
              <a:endParaRPr b="0" lang="en-US" sz="3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76" name="Содержимое 4" descr="1221031407_001.jpg"/>
          <p:cNvPicPr/>
          <p:nvPr/>
        </p:nvPicPr>
        <p:blipFill>
          <a:blip r:embed="rId2"/>
          <a:stretch/>
        </p:blipFill>
        <p:spPr>
          <a:xfrm>
            <a:off x="733320" y="1743120"/>
            <a:ext cx="3105360" cy="4286160"/>
          </a:xfrm>
          <a:prstGeom prst="rect">
            <a:avLst/>
          </a:prstGeom>
          <a:ln w="0">
            <a:noFill/>
          </a:ln>
        </p:spPr>
      </p:pic>
      <p:grpSp>
        <p:nvGrpSpPr>
          <p:cNvPr id="377" name="Содержимое 11"/>
          <p:cNvGrpSpPr/>
          <p:nvPr/>
        </p:nvGrpSpPr>
        <p:grpSpPr>
          <a:xfrm>
            <a:off x="4206960" y="1481040"/>
            <a:ext cx="3870360" cy="4786560"/>
            <a:chOff x="4206960" y="1481040"/>
            <a:chExt cx="3870360" cy="4786560"/>
          </a:xfrm>
        </p:grpSpPr>
        <p:pic>
          <p:nvPicPr>
            <p:cNvPr id="378" name="Содержимое 11" descr=""/>
            <p:cNvPicPr/>
            <p:nvPr/>
          </p:nvPicPr>
          <p:blipFill>
            <a:blip r:embed="rId3"/>
            <a:stretch/>
          </p:blipFill>
          <p:spPr>
            <a:xfrm>
              <a:off x="4206960" y="1481040"/>
              <a:ext cx="3870360" cy="47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270320" y="1600200"/>
              <a:ext cx="3657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Для </a:t>
              </a:r>
              <a:r>
                <a:rPr b="0" lang="en-US" sz="18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4"/>
                </a:rPr>
                <a:t>производной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entury Schoolbook"/>
                </a:rPr>
                <a:t> натурального логарифма справедлива простая формула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По этой причине в математических исследованиях преимущественно используют именно натуральные логарифмы. Они нередко появляются при решении </a:t>
              </a:r>
              <a:r>
                <a:rPr b="0" lang="en-US" sz="18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5"/>
                </a:rPr>
                <a:t>дифференциальных уравнений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entury Schoolbook"/>
                </a:rPr>
                <a:t>, исследовании статистических зависимостей (например, распределения </a:t>
              </a:r>
              <a:r>
                <a:rPr b="0" lang="en-US" sz="18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6"/>
                </a:rPr>
                <a:t>простых чисел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entury Schoolbook"/>
                </a:rPr>
                <a:t>) и т. п.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gradFill rotWithShape="0">
            <a:gsLst>
              <a:gs pos="0">
                <a:srgbClr val="d2c671"/>
              </a:gs>
              <a:gs pos="100000">
                <a:srgbClr val="fff9d5"/>
              </a:gs>
            </a:gsLst>
            <a:lin ang="162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entury Schoolbook"/>
              </a:rPr>
              <a:t>ДЕСЯТИЧНЫЕ ЛОГАРИФМЫ</a:t>
            </a:r>
            <a:br>
              <a:rPr sz="27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b32c16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Логарифмы по основанию 10 (обозначение: lg </a:t>
            </a: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) до изобретения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калькуляторов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широко применялись для вычислений.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Неравномерная шкала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десятичных логарифмов обычно наносится и на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логарифмические линейки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 Подобная шкала широко используется в различных областях науки, например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Физика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— интенсивность звука (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децибелы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Астрономия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— шкала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яркости звёзд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Химия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— активность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водородных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ионов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11"/>
              </a:rPr>
              <a:t>pH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ейсмология — шкала Рихтер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Теория музыки — нотная шкал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Содержимое 4" descr="image008.jpg"/>
          <p:cNvPicPr/>
          <p:nvPr/>
        </p:nvPicPr>
        <p:blipFill>
          <a:blip r:embed="rId12"/>
          <a:stretch/>
        </p:blipFill>
        <p:spPr>
          <a:xfrm>
            <a:off x="4357800" y="1857240"/>
            <a:ext cx="4309920" cy="350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Заголовок 1"/>
          <p:cNvGrpSpPr/>
          <p:nvPr/>
        </p:nvGrpSpPr>
        <p:grpSpPr>
          <a:xfrm>
            <a:off x="390600" y="225360"/>
            <a:ext cx="7594560" cy="1279440"/>
            <a:chOff x="390600" y="225360"/>
            <a:chExt cx="7594560" cy="1279440"/>
          </a:xfrm>
        </p:grpSpPr>
        <p:pic>
          <p:nvPicPr>
            <p:cNvPr id="38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225360"/>
              <a:ext cx="75945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cdfe3"/>
                  </a:solidFill>
                  <a:latin typeface="Century Schoolbook"/>
                </a:rPr>
                <a:t>СВОЙСТВА ЛОГАРИФМОВ</a:t>
              </a:r>
              <a:endParaRPr b="0" lang="en-US" sz="4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86" name="Содержимое 2"/>
          <p:cNvGrpSpPr/>
          <p:nvPr/>
        </p:nvGrpSpPr>
        <p:grpSpPr>
          <a:xfrm>
            <a:off x="274680" y="1457280"/>
            <a:ext cx="7716960" cy="5108760"/>
            <a:chOff x="274680" y="1457280"/>
            <a:chExt cx="7716960" cy="5108760"/>
          </a:xfrm>
        </p:grpSpPr>
        <p:pic>
          <p:nvPicPr>
            <p:cNvPr id="38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274680" y="1457280"/>
              <a:ext cx="771696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457200" y="1600200"/>
              <a:ext cx="7467480" cy="48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1)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  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log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 b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= 1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, 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так как  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b 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Century Schoolbook"/>
                </a:rPr>
                <a:t>1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= b .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         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b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2)   log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 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1 = 0 ,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так как  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b 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Century Schoolbook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= 1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.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        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3) 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log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 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 = 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   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b     b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   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основное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тригонометрическое тождество 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Содержимое 3" descr="Logariphm.GIF"/>
          <p:cNvPicPr/>
          <p:nvPr/>
        </p:nvPicPr>
        <p:blipFill>
          <a:blip r:embed="rId1"/>
          <a:stretch/>
        </p:blipFill>
        <p:spPr>
          <a:xfrm>
            <a:off x="357120" y="214200"/>
            <a:ext cx="8326440" cy="623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Заголовок 1"/>
          <p:cNvGrpSpPr/>
          <p:nvPr/>
        </p:nvGrpSpPr>
        <p:grpSpPr>
          <a:xfrm>
            <a:off x="390600" y="225360"/>
            <a:ext cx="7594560" cy="1279440"/>
            <a:chOff x="390600" y="225360"/>
            <a:chExt cx="7594560" cy="1279440"/>
          </a:xfrm>
        </p:grpSpPr>
        <p:pic>
          <p:nvPicPr>
            <p:cNvPr id="39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225360"/>
              <a:ext cx="75945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entury Schoolbook"/>
                </a:rPr>
                <a:t>СВОЙСТВА ЛОГАРИФМОВ</a:t>
              </a:r>
              <a:endParaRPr b="0" lang="en-US" sz="4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94" name="Содержимое 2"/>
          <p:cNvGrpSpPr/>
          <p:nvPr/>
        </p:nvGrpSpPr>
        <p:grpSpPr>
          <a:xfrm>
            <a:off x="304920" y="1517760"/>
            <a:ext cx="7686720" cy="5048280"/>
            <a:chOff x="304920" y="1517760"/>
            <a:chExt cx="7686720" cy="5048280"/>
          </a:xfrm>
        </p:grpSpPr>
        <p:pic>
          <p:nvPicPr>
            <p:cNvPr id="39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04920" y="1517760"/>
              <a:ext cx="768672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57200" y="1600200"/>
              <a:ext cx="7467480" cy="48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4)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Логарифм произведения равен сумме логарифмов сомножителей: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log (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 ab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) = log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a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+ log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b 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5)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Логарифм частного равен разности логарифмов делимого и делителя: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        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log (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 a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/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 b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) = log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a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– log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b 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4:21:15Z</dcterms:created>
  <dc:creator>Natya</dc:creator>
  <dc:description/>
  <dc:language>en-US</dc:language>
  <cp:lastModifiedBy>Мама</cp:lastModifiedBy>
  <dcterms:modified xsi:type="dcterms:W3CDTF">2013-03-13T01:34:55Z</dcterms:modified>
  <cp:revision>16</cp:revision>
  <dc:subject/>
  <dc:title>Слайд 1</dc:title>
</cp:coreProperties>
</file>