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114-2CD5-4946-9ED7-13462D3C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576-8823-4CBE-AA40-BE54833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842-C5EE-43FB-9829-D8C9BE1C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39E-F5B1-4DDC-9C37-50394C27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C129-8FAE-4538-898F-BE488EEA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6DFB-1C42-40ED-B9B7-C1BEF07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E0C-A16D-4FF7-A2F2-0BC2083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8B06-9D99-4CC7-AFEB-1BA0B0BA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598E-6942-43EE-9309-6C0671E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F8F0-B2C4-4596-8B13-2E7A5D4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723-C7D7-4CE2-AA59-C42BB15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51E-6502-43B9-9BFC-E8C58C2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CBC-48BE-443A-A920-1BBF662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977D-FD52-465A-AB03-C749133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B3E-9674-4F41-A6CE-B6CC13ED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4DD9-C60D-4674-B0B5-4933DC24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2C10-2459-4163-80E2-7482AB3C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F7091-5A05-4887-A827-0C49BCD7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87D19-EDBD-4994-80EF-2AA7BD2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7E5ED-155E-47D3-A9A0-39A88FA5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F575B-E410-4CB3-BC3D-9992738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EDC2D-B8F3-45AC-9026-EA1F72A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9EB-32A4-423B-8E1A-9E96EC4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817F8-5F42-4B3F-9132-CAEBBBF6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78BD7-A4C1-413D-922F-0096585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24C8B-B4B1-42AE-829D-F06C5C5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2676B-8480-42E4-AC71-C06845E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50228-70FF-48A8-A612-C4F9D16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59F69-EE3C-4A50-BB22-9F38961D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0412F-89E3-4EAE-997E-ED67C03E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88AFB-4BB7-4E63-99DA-C26AA797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A368-DF2C-4744-A503-EB44DE7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1040-D718-4A54-86BF-45A0E4A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F0C-CE66-48A3-8D1A-FF99B0E8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B4CC-5717-44A8-85A9-DDBB7B7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4D01-9A9F-42B7-B611-4AF03912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5919-C698-4413-85A8-181D2353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FBE47-E1E5-4285-B60B-03DAC588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4B33-D712-4191-94B4-241D68D4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D433-6616-485B-A8F6-2CE4EDF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8A23-01CC-46FB-8347-DC07F0E9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06BD-CFB4-44A9-B09F-AFC76BFF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F63C-35A7-43BE-ABB9-3D2D0302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FB987-BA52-49F6-ADB9-3E13EF63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D19-B5C1-47E3-8421-06216BA7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48FD5-654F-4189-84BD-90BF7E1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BBAE7-22C8-4364-858A-60184F0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DC7A1-6BE3-49EF-ACF8-0CADB081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7663F-E950-48F9-8800-43466BA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3B480-5AA3-4A0A-82AF-8292B8B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67A51-1A9B-4ABC-984F-F12DBB0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EB1A4-EA6E-4531-B852-1E4F96C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400B7-53F4-4D91-A914-64214CD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25386-EFB2-4A46-AFA2-D725B47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B112C-4768-4F40-9895-1C53B3D8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CF8-0510-4BEF-9BCF-73BB902D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F34A6-9B8F-4BC3-9510-91F7884E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C6484-EC7C-431E-89A5-2E242A94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771F0-833C-4458-A279-4E8C3CCF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6B1DD-551B-4911-99D7-02929FA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2E4CA-9D73-4B51-B8AC-C6FAB78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F104F-B273-4042-BD68-5D352084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A5A10-8D40-416C-893F-66A50CBF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35FA1-872B-45F0-8D5E-417C416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23163-A03E-43D8-99B4-399BF20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C3D02-0A6D-4186-B66E-EA670842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83A-1B62-4E62-B8AA-72D54CB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0CBB9-1EEB-4503-A6B8-90CE2AD9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9B89A-0874-44FD-8B7C-A198041D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25EAF-4DD8-4D5A-9A27-EF5C1656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8F713-DA0D-4E18-B31D-E13B12D6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CC928-1980-41EB-8A4F-9C522F99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71445-550D-4182-B5FB-884720F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8659E-736E-493C-B4A4-1E2962C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E679E-6E74-474B-B9ED-0D4EC99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66421-E8D1-4E78-ACA0-222A297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EA6A1-716C-445D-A400-B262FCA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87A-5BFC-4615-82AD-07F9BE9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EB128-65C0-4336-B341-881E4EF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A4088-4A51-40D7-AB1D-6CBD8B4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DD49C-6EAC-4D15-AD39-FC585FF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BD13D-AC7B-45A2-9323-3D4FDC3D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9EABD-D8C9-41F5-B85C-4303AEF0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24B-6D05-4442-829D-9D67D70D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16C9-A5E6-4D5E-AF28-08592D8883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85FE-8C22-40EF-809B-17C54891D3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4C2-1530-46E2-825D-919EB731AF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C1F7-C195-4333-9643-8E832E9E36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C0B-A8F6-44BB-AEF5-8E7C75BA51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7648-952A-4EE8-B963-833CC8C554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432-4731-4758-81FF-B7D44A33A8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2;&#1086;&#1079;&#1074;&#1077;&#1076;&#1077;&#1085;&#1080;&#1077;_&#1074;_&#1089;&#1090;&#1077;&#1087;&#1077;&#1085;&#1100;" TargetMode="External"/><Relationship Id="rId4" Type="http://schemas.openxmlformats.org/officeDocument/2006/relationships/hyperlink" Target="http://ru.wikipedia.org/wiki/&#1063;&#1080;&#1089;&#1083;&#1086;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3;&#1080;&#1089;&#1083;&#1086;_&#1069;&#1081;&#1083;&#1077;&#1088;&#1072;" TargetMode="External"/><Relationship Id="rId4" Type="http://schemas.openxmlformats.org/officeDocument/2006/relationships/hyperlink" Target="http://ru.wikipedia.org/wiki/&#1069;&#1081;&#1083;&#1077;&#1088;,_&#1051;&#1077;&#1086;&#1085;&#1072;&#1088;&#1076;" TargetMode="External"/><Relationship Id="rId5" Type="http://schemas.openxmlformats.org/officeDocument/2006/relationships/hyperlink" Target="http://ru.wikipedia.org/wiki/&#1058;&#1077;&#1086;&#1088;&#1080;&#1103;_&#1080;&#1085;&#1092;&#1086;&#1088;&#1084;&#1072;&#1094;&#1080;&#1080;" TargetMode="External"/><Relationship Id="rId6" Type="http://schemas.openxmlformats.org/officeDocument/2006/relationships/hyperlink" Target="http://ru.wikipedia.org/wiki/&#1048;&#1085;&#1092;&#1086;&#1088;&#1084;&#1072;&#1090;&#1080;&#1082;&#1072;" TargetMode="External"/><Relationship Id="rId7" Type="http://schemas.openxmlformats.org/officeDocument/2006/relationships/hyperlink" Target="http://ru.wikipedia.org/wiki/&#1053;&#1077;&#1087;&#1088;&#1077;&#1088;&#1099;&#1074;&#1085;&#1086;&#1077;_&#1086;&#1090;&#1086;&#1073;&#1088;&#1072;&#1078;&#1077;&#1085;&#1080;&#1077;" TargetMode="External"/><Relationship Id="rId8" Type="http://schemas.openxmlformats.org/officeDocument/2006/relationships/hyperlink" Target="http://ru.wikipedia.org/wiki/&#1044;&#1080;&#1092;&#1092;&#1077;&#1088;&#1077;&#1085;&#1094;&#1080;&#1088;&#1091;&#1077;&#1084;&#1072;&#1103;_&#1092;&#1091;&#1085;&#1082;&#1094;&#1080;&#1103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ru.wikipedia.org/wiki/&#1055;&#1088;&#1086;&#1080;&#1079;&#1074;&#1086;&#1076;&#1085;&#1072;&#1103;_&#1092;&#1091;&#1085;&#1082;&#1094;&#1080;&#1080;" TargetMode="External"/><Relationship Id="rId5" Type="http://schemas.openxmlformats.org/officeDocument/2006/relationships/hyperlink" Target="http://ru.wikipedia.org/wiki/&#1044;&#1080;&#1092;&#1092;&#1077;&#1088;&#1077;&#1085;&#1094;&#1080;&#1072;&#1083;&#1100;&#1085;&#1086;&#1077;_&#1091;&#1088;&#1072;&#1074;&#1085;&#1077;&#1085;&#1080;&#1077;" TargetMode="External"/><Relationship Id="rId6" Type="http://schemas.openxmlformats.org/officeDocument/2006/relationships/hyperlink" Target="http://ru.wikipedia.org/wiki/&#1055;&#1088;&#1086;&#1089;&#1090;&#1086;&#1077;_&#1095;&#1080;&#1089;&#1083;&#1086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82;&#1091;&#1083;&#1103;&#1090;&#1086;&#1088;" TargetMode="External"/><Relationship Id="rId2" Type="http://schemas.openxmlformats.org/officeDocument/2006/relationships/hyperlink" Target="http://ru.wikipedia.org/wiki/&#1051;&#1086;&#1075;&#1072;&#1088;&#1080;&#1092;&#1084;&#1080;&#1095;&#1077;&#1089;&#1082;&#1080;&#1081;_&#1084;&#1072;&#1089;&#1096;&#1090;&#1072;&#1073;" TargetMode="External"/><Relationship Id="rId3" Type="http://schemas.openxmlformats.org/officeDocument/2006/relationships/hyperlink" Target="http://ru.wikipedia.org/wiki/&#1051;&#1086;&#1075;&#1072;&#1088;&#1080;&#1092;&#1084;&#1080;&#1095;&#1077;&#1089;&#1082;&#1072;&#1103;_&#1083;&#1080;&#1085;&#1077;&#1081;&#1082;&#1072;" TargetMode="External"/><Relationship Id="rId4" Type="http://schemas.openxmlformats.org/officeDocument/2006/relationships/hyperlink" Target="http://ru.wikipedia.org/wiki/&#1060;&#1080;&#1079;&#1080;&#1082;&#1072;" TargetMode="External"/><Relationship Id="rId5" Type="http://schemas.openxmlformats.org/officeDocument/2006/relationships/hyperlink" Target="http://ru.wikipedia.org/wiki/&#1044;&#1077;&#1094;&#1080;&#1073;&#1077;&#1083;" TargetMode="External"/><Relationship Id="rId6" Type="http://schemas.openxmlformats.org/officeDocument/2006/relationships/hyperlink" Target="http://ru.wikipedia.org/wiki/&#1040;&#1089;&#1090;&#1088;&#1086;&#1085;&#1086;&#1084;&#1080;&#1103;" TargetMode="External"/><Relationship Id="rId7" Type="http://schemas.openxmlformats.org/officeDocument/2006/relationships/hyperlink" Target="http://ru.wikipedia.org/wiki/&#1042;&#1080;&#1076;&#1080;&#1084;&#1072;&#1103;_&#1079;&#1074;&#1105;&#1079;&#1076;&#1085;&#1072;&#1103;_&#1074;&#1077;&#1083;&#1080;&#1095;&#1080;&#1085;&#1072;" TargetMode="External"/><Relationship Id="rId8" Type="http://schemas.openxmlformats.org/officeDocument/2006/relationships/hyperlink" Target="http://ru.wikipedia.org/wiki/&#1061;&#1080;&#1084;&#1080;&#1103;" TargetMode="External"/><Relationship Id="rId9" Type="http://schemas.openxmlformats.org/officeDocument/2006/relationships/hyperlink" Target="http://ru.wikipedia.org/wiki/&#1042;&#1086;&#1076;&#1086;&#1088;&#1086;&#1076;" TargetMode="External"/><Relationship Id="rId10" Type="http://schemas.openxmlformats.org/officeDocument/2006/relationships/hyperlink" Target="http://ru.wikipedia.org/wiki/&#1048;&#1086;&#1085;" TargetMode="External"/><Relationship Id="rId11" Type="http://schemas.openxmlformats.org/officeDocument/2006/relationships/hyperlink" Target="http://ru.wikipedia.org/wiki/&#1042;&#1086;&#1076;&#1086;&#1088;&#1086;&#1076;&#1085;&#1099;&#1081;_&#1087;&#1086;&#1082;&#1072;&#1079;&#1072;&#1090;&#1077;&#1083;&#1100;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Заголовок 1"/>
          <p:cNvGrpSpPr/>
          <p:nvPr/>
        </p:nvGrpSpPr>
        <p:grpSpPr>
          <a:xfrm>
            <a:off x="2219400" y="3078000"/>
            <a:ext cx="6302160" cy="2024280"/>
            <a:chOff x="2219400" y="3078000"/>
            <a:chExt cx="6302160" cy="2024280"/>
          </a:xfrm>
        </p:grpSpPr>
        <p:pic>
          <p:nvPicPr>
            <p:cNvPr id="35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219400" y="3078000"/>
              <a:ext cx="630216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286000" y="3124080"/>
              <a:ext cx="617220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entury Schoolbook"/>
                </a:rPr>
                <a:t>ЛОГАРИФМ</a:t>
              </a:r>
              <a:endParaRPr b="0" lang="en-US" sz="6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54" name="Подзаголовок 2"/>
          <p:cNvGrpSpPr/>
          <p:nvPr/>
        </p:nvGrpSpPr>
        <p:grpSpPr>
          <a:xfrm>
            <a:off x="1974960" y="4834080"/>
            <a:ext cx="6546600" cy="1627200"/>
            <a:chOff x="1974960" y="4834080"/>
            <a:chExt cx="6546600" cy="1627200"/>
          </a:xfrm>
        </p:grpSpPr>
        <p:pic>
          <p:nvPicPr>
            <p:cNvPr id="35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974960" y="4834080"/>
              <a:ext cx="65466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286000" y="5003640"/>
              <a:ext cx="6172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575f6d"/>
                  </a:solidFill>
                  <a:latin typeface="Century Schoolbook"/>
                </a:rPr>
                <a:t>Основные понятия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4583"/>
                </a:solidFill>
                <a:latin typeface="Century Schoolbook"/>
              </a:rPr>
              <a:t>С</a:t>
            </a:r>
            <a:r>
              <a:rPr b="1" lang="en-US" sz="4400" spc="-1" strike="noStrike">
                <a:solidFill>
                  <a:srgbClr val="244583"/>
                </a:solidFill>
                <a:latin typeface="Century Schoolbook"/>
              </a:rPr>
              <a:t>ВОЙСТВА ЛОГАРИФМ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6)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Логарифм степени равен произведению показателя степени на логарифм её основания: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og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 b </a:t>
            </a:r>
            <a:r>
              <a:rPr b="1" i="1" lang="ru-RU" sz="2400" spc="-1" strike="noStrike" baseline="30000">
                <a:solidFill>
                  <a:srgbClr val="7030a0"/>
                </a:solidFill>
                <a:latin typeface="Century Schoolbook"/>
              </a:rPr>
              <a:t>k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) =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k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 · log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b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7) Логарифм основания в степени равен произведению степени в минус первой степени на логарифм её осн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og n b= 1/n log 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a                   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Содержимое 3" descr="0465.jpg"/>
          <p:cNvPicPr/>
          <p:nvPr/>
        </p:nvPicPr>
        <p:blipFill>
          <a:blip r:embed="rId1"/>
          <a:stretch/>
        </p:blipFill>
        <p:spPr>
          <a:xfrm>
            <a:off x="214200" y="428760"/>
            <a:ext cx="8696520" cy="585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езентацию приготови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шелева Наст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39d"/>
                  </a:solidFill>
                  <a:latin typeface="Century Schoolbook"/>
                </a:rPr>
                <a:t>ОПРЕДЕЛЕНИЕ</a:t>
              </a:r>
              <a:endParaRPr b="0" lang="en-US" sz="5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0" name="Содержимое 2"/>
          <p:cNvGrpSpPr/>
          <p:nvPr/>
        </p:nvGrpSpPr>
        <p:grpSpPr>
          <a:xfrm>
            <a:off x="328680" y="1432080"/>
            <a:ext cx="7662960" cy="5133960"/>
            <a:chOff x="328680" y="1432080"/>
            <a:chExt cx="7662960" cy="5133960"/>
          </a:xfrm>
        </p:grpSpPr>
        <p:pic>
          <p:nvPicPr>
            <p:cNvPr id="36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8680" y="1432080"/>
              <a:ext cx="76629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Логарифм числа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 основанию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определяется как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показатель степени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в которую надо возвести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чис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чтобы получить число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Обозначение: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Из определения следует, что записи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эквивалентны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Гд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н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= 1, a&gt;0, b &gt; 0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Пример: log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8 = 3, потому что 2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8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3"/>
          <p:cNvGrpSpPr/>
          <p:nvPr/>
        </p:nvGrpSpPr>
        <p:grpSpPr>
          <a:xfrm>
            <a:off x="390600" y="152280"/>
            <a:ext cx="4314600" cy="1365480"/>
            <a:chOff x="390600" y="152280"/>
            <a:chExt cx="4314600" cy="1365480"/>
          </a:xfrm>
        </p:grpSpPr>
        <p:pic>
          <p:nvPicPr>
            <p:cNvPr id="36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90600" y="152280"/>
              <a:ext cx="43146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57200" y="272880"/>
              <a:ext cx="4186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entury Schoolbook"/>
                </a:rPr>
                <a:t>ВЕЩЕСТВЕННЫЙ ЛОГАРИФ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6" name="Текст 5"/>
          <p:cNvGrpSpPr/>
          <p:nvPr/>
        </p:nvGrpSpPr>
        <p:grpSpPr>
          <a:xfrm>
            <a:off x="365040" y="1359000"/>
            <a:ext cx="4346640" cy="4859280"/>
            <a:chOff x="365040" y="1359000"/>
            <a:chExt cx="4346640" cy="4859280"/>
          </a:xfrm>
        </p:grpSpPr>
        <p:pic>
          <p:nvPicPr>
            <p:cNvPr id="367" name="Текст 5" descr=""/>
            <p:cNvPicPr/>
            <p:nvPr/>
          </p:nvPicPr>
          <p:blipFill>
            <a:blip r:embed="rId2"/>
            <a:stretch/>
          </p:blipFill>
          <p:spPr>
            <a:xfrm>
              <a:off x="365040" y="1359000"/>
              <a:ext cx="43466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57200" y="1434960"/>
              <a:ext cx="4186080" cy="46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 вещественного числа log</a:t>
              </a:r>
              <a:r>
                <a:rPr b="0" i="1" lang="ru-RU" sz="16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меет смысл при 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иболее широкое применение нашли следующие виды логарифмов: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есятичные: основание: число 10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туральные: основание: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e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(число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Эйлер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воичные: основание: число 2. Они применяются в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теории информации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информатике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Если рассматривать логарифмируемое число как переменную, мы получим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ическую функц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, например: . Эта функция определена в правой части числовой прямой: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&gt; 0,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7"/>
                </a:rPr>
                <a:t>непрерывн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8"/>
                </a:rPr>
                <a:t>дифференцируем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69" name="Содержимое 6" descr="8674881.jpg"/>
          <p:cNvPicPr/>
          <p:nvPr/>
        </p:nvPicPr>
        <p:blipFill>
          <a:blip r:embed="rId9"/>
          <a:stretch/>
        </p:blipFill>
        <p:spPr>
          <a:xfrm>
            <a:off x="5000760" y="357120"/>
            <a:ext cx="3981240" cy="563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Содержимое 4" descr="6.jpg"/>
          <p:cNvPicPr/>
          <p:nvPr/>
        </p:nvPicPr>
        <p:blipFill>
          <a:blip r:embed="rId1"/>
          <a:stretch/>
        </p:blipFill>
        <p:spPr>
          <a:xfrm>
            <a:off x="285840" y="214200"/>
            <a:ext cx="8553240" cy="607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9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74" name="Заголовок 9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0a0"/>
                  </a:solidFill>
                  <a:latin typeface="Century Schoolbook"/>
                </a:rPr>
                <a:t>НАТУРАЛЬНЫЕ ЛОГАРИФМЫ</a:t>
              </a:r>
              <a:br>
                <a:rPr sz="2700"/>
              </a:br>
              <a:endParaRPr b="0" lang="en-US" sz="3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76" name="Содержимое 4" descr="1221031407_001.jpg"/>
          <p:cNvPicPr/>
          <p:nvPr/>
        </p:nvPicPr>
        <p:blipFill>
          <a:blip r:embed="rId2"/>
          <a:stretch/>
        </p:blipFill>
        <p:spPr>
          <a:xfrm>
            <a:off x="733320" y="1743120"/>
            <a:ext cx="31053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одержимое 11"/>
          <p:cNvGrpSpPr/>
          <p:nvPr/>
        </p:nvGrpSpPr>
        <p:grpSpPr>
          <a:xfrm>
            <a:off x="4206960" y="1481040"/>
            <a:ext cx="3870360" cy="4786560"/>
            <a:chOff x="4206960" y="1481040"/>
            <a:chExt cx="3870360" cy="4786560"/>
          </a:xfrm>
        </p:grpSpPr>
        <p:pic>
          <p:nvPicPr>
            <p:cNvPr id="378" name="Содержимое 11" descr=""/>
            <p:cNvPicPr/>
            <p:nvPr/>
          </p:nvPicPr>
          <p:blipFill>
            <a:blip r:embed="rId3"/>
            <a:stretch/>
          </p:blipFill>
          <p:spPr>
            <a:xfrm>
              <a:off x="4206960" y="1481040"/>
              <a:ext cx="3870360" cy="47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70320" y="1600200"/>
              <a:ext cx="3657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Дл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производно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 натурального логарифма справедлива простая формул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По этой причине в математических исследованиях преимущественно используют именно натуральные логарифмы. Они нередко появляются при решении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дифференциальных уравнени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, исследовании статистических зависимостей (например, распределени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простых чисел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) и т. п.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gradFill rotWithShape="0">
            <a:gsLst>
              <a:gs pos="0">
                <a:srgbClr val="d2c671"/>
              </a:gs>
              <a:gs pos="100000">
                <a:srgbClr val="fff9d5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entury Schoolbook"/>
              </a:rPr>
              <a:t>ДЕСЯТИЧНЫЕ ЛОГАРИФМЫ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32c1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Логарифмы по основанию 10 (обозначение: lg 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 до изобретения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калькулятор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широко применялись для вычислений.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Неравномерная шкал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десятичных логарифмов обычно наносится и н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логарифмические линейки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Подобная шкала широко используется в различных областях науки, например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Физик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интенсивность звука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децибелы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Астроно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шкал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яркости звёзд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Хи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активность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водородных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ион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pH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йсмология — шкала Рихтер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еория музыки — нотная шкал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Содержимое 4" descr="image008.jpg"/>
          <p:cNvPicPr/>
          <p:nvPr/>
        </p:nvPicPr>
        <p:blipFill>
          <a:blip r:embed="rId12"/>
          <a:stretch/>
        </p:blipFill>
        <p:spPr>
          <a:xfrm>
            <a:off x="4357800" y="1857240"/>
            <a:ext cx="43099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cdfe3"/>
                  </a:solidFill>
                  <a:latin typeface="Century Schoolbook"/>
                </a:rPr>
                <a:t>СВОЙСТВА ЛОГАРИФМОВ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86" name="Содержимое 2"/>
          <p:cNvGrpSpPr/>
          <p:nvPr/>
        </p:nvGrpSpPr>
        <p:grpSpPr>
          <a:xfrm>
            <a:off x="274680" y="1457280"/>
            <a:ext cx="7716960" cy="5108760"/>
            <a:chOff x="274680" y="1457280"/>
            <a:chExt cx="7716960" cy="5108760"/>
          </a:xfrm>
        </p:grpSpPr>
        <p:pic>
          <p:nvPicPr>
            <p:cNvPr id="38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74680" y="1457280"/>
              <a:ext cx="77169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)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 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,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= b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      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2)   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 = 0 ,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     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3)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b     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основное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ригонометрическое тождество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Logariphm.GIF"/>
          <p:cNvPicPr/>
          <p:nvPr/>
        </p:nvPicPr>
        <p:blipFill>
          <a:blip r:embed="rId1"/>
          <a:stretch/>
        </p:blipFill>
        <p:spPr>
          <a:xfrm>
            <a:off x="357120" y="214200"/>
            <a:ext cx="8326440" cy="623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entury Schoolbook"/>
                </a:rPr>
                <a:t>СВОЙСТВА ЛОГАРИФМОВ</a:t>
              </a:r>
              <a:endParaRPr b="0" lang="en-US" sz="4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94" name="Содержимое 2"/>
          <p:cNvGrpSpPr/>
          <p:nvPr/>
        </p:nvGrpSpPr>
        <p:grpSpPr>
          <a:xfrm>
            <a:off x="304920" y="1517760"/>
            <a:ext cx="7686720" cy="5048280"/>
            <a:chOff x="304920" y="1517760"/>
            <a:chExt cx="7686720" cy="5048280"/>
          </a:xfrm>
        </p:grpSpPr>
        <p:pic>
          <p:nvPicPr>
            <p:cNvPr id="39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4920" y="1517760"/>
              <a:ext cx="768672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4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произведения равен сумме логарифмов сомножителей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+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5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частного равен разности логарифмов делимого и делителя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       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/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–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21:15Z</dcterms:created>
  <dc:creator>Natya</dc:creator>
  <dc:description/>
  <dc:language>en-US</dc:language>
  <cp:lastModifiedBy>Мама</cp:lastModifiedBy>
  <dcterms:modified xsi:type="dcterms:W3CDTF">2013-03-13T01:34:55Z</dcterms:modified>
  <cp:revision>16</cp:revision>
  <dc:subject/>
  <dc:title>Слайд 1</dc:title>
</cp:coreProperties>
</file>