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618-A172-4901-9F64-11FF76AA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832-6536-4296-83D5-DFE9338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F1F-5212-46C8-86B9-CBD4A9AF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0FA-2E5A-4D8F-8446-C068C077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1A52-13F6-474C-9ADB-D49CAB12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389F-B278-4002-852F-54CB3DF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A7B6-28B8-41A7-B451-FA35826B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332F-982A-488D-9824-EA7B1D22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E152-FCDE-4073-B174-F6C9DBFA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6C7B-2871-4871-B66A-41A5FA71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0516-60C4-4A68-ADF9-DB6210F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150-AB47-47B4-8AED-9D0F7E79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5E9A-4730-44EE-A668-FC456B19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5234-E3A3-41D3-AE33-EA86DBD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C0B6-E9A2-4D0C-B2D0-9736753C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1ED-E011-43A4-8BAD-36BBB2AF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F484-7C88-434C-AD28-7B93EEF8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2072C-A588-4EF9-86FA-B8884A34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6E0CD-7CB2-485D-A84A-509E7B7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DFDBF-1618-45F5-84A8-2F4F965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117A3-DC08-4BD6-831F-B8DA393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92B5A-FAC4-4314-9648-4AACD89B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3BB-8EAF-4446-A601-651F849B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FDA77-0BE0-4772-8396-9653A56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59C7C-9DF3-4D7C-A7B4-42CA718F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3B370-1F36-4B60-8E4F-062FBF3A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BBE5E-09F9-41F2-8C9D-837A35E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07070-E927-4759-BE80-D0B8E6E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C34B5-8E2D-4867-87D7-A78E5CED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4DB60-4F93-4207-A5EC-C413891A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23CED-030F-4A39-BFB5-AE39EECB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C3487-3F09-4AC3-894B-2C764957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8C35-7497-467D-9C56-29AFAA9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E01-BBB4-459C-8122-B8BFCD3D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590F-2DEF-4D09-B947-913D84C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3582-F055-47AD-94C9-08FB8A2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DC4D-A6E5-4797-BC09-3BF52008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EB77-6292-42D2-8C41-B93043C5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F121-5D9D-4C3B-AB8E-4A1A682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5C81-0506-4794-9FF4-9D6B568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8707-570D-4B12-BF90-F65731B9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587D-15FB-45E4-A856-ED64D366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494D-17F5-4F0E-8717-D964AA3F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5A290-C6C8-4FED-A4A1-ED588AFF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78F-E1D7-425F-842D-3CAF3B15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C3C2B-ADCE-458E-8CF1-E8824C51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4EF2B-ADC9-42D3-BE0D-A4ECD62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19B61-BF9F-4FB0-B962-B6C51EB3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5C9903-6F87-45B2-818F-E140828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9A90D-B74D-480C-BB76-36A9ADED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976D5-518F-4789-8178-48B7E13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5F386-60CB-4561-B481-7785900A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3354A-3BD9-4BA2-A39C-B74E920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9B3CB-B3BD-4F4F-AB48-35919A03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BA35E-7567-49DC-961A-1F116F4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DD1-81F7-4876-83B3-D57ED32A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A0389-B3CE-4297-89E2-C21DA438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46750-D914-4382-B800-1ACFE39E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7DC4D-05E8-447F-8014-14E59D90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C8F3F-159D-4E5A-9DE0-5F481C11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B5BD3-F7E0-4A69-B498-621E01C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749C3-3BBD-49B1-B74D-686780E1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223E8-09BB-4EB2-8104-108F787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BAFE6-28B8-4A61-B46C-11DB080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EB95F-FE99-4AF8-B19B-B3F0A5B1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A79B1-B59F-4D97-9B5F-AE958AB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E70-AD76-4D6F-8A6B-1F14B96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417F8-E63A-4131-AB5F-9901F08E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A0D53-0E46-4FFF-BD15-D564FDC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C67E3-2142-499D-B42B-85A7659B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3EBA0-950A-48F1-83B9-704BA99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FAEE9-324B-436D-9783-059485B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ED51F-630B-44DE-9055-5764847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660A1-9E0D-44AD-9841-8DD97D72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5B6DF-2D8E-447E-B778-BC47F26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0B516-79E7-4711-9BF8-D1E5BE1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8E431-30FD-468E-86A8-EF4E5BA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1D4-334E-4523-9D03-E0EC228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CA011-EFC9-4EEE-A0F5-5FD313A0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B4D72-2755-4388-8E94-E3C47D7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6DA61-1442-43D9-AB2D-2695C52F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A05D0-2284-4C53-9985-9549312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81AAC-4E2C-47D8-8E92-179F5819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767-F204-4002-85D7-A1A57F0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CFC0-21B6-4DB2-8E60-599936E9F3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0C87-507F-4DA5-9DC1-B73E758F17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23B-4FD7-4FC6-90F2-E6823F6BDA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00BA-D849-437D-81A6-8C703D202D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0D13-9557-4975-91C9-B91E28F66C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4DC-3BFF-45C6-A9DF-0D7E5BF2E2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CBD5-1C02-4AB8-B7D5-8B563F36DA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2;&#1086;&#1079;&#1074;&#1077;&#1076;&#1077;&#1085;&#1080;&#1077;_&#1074;_&#1089;&#1090;&#1077;&#1087;&#1077;&#1085;&#1100;" TargetMode="External"/><Relationship Id="rId4" Type="http://schemas.openxmlformats.org/officeDocument/2006/relationships/hyperlink" Target="http://ru.wikipedia.org/wiki/&#1063;&#1080;&#1089;&#1083;&#1086;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3;&#1080;&#1089;&#1083;&#1086;_&#1069;&#1081;&#1083;&#1077;&#1088;&#1072;" TargetMode="External"/><Relationship Id="rId4" Type="http://schemas.openxmlformats.org/officeDocument/2006/relationships/hyperlink" Target="http://ru.wikipedia.org/wiki/&#1069;&#1081;&#1083;&#1077;&#1088;,_&#1051;&#1077;&#1086;&#1085;&#1072;&#1088;&#1076;" TargetMode="External"/><Relationship Id="rId5" Type="http://schemas.openxmlformats.org/officeDocument/2006/relationships/hyperlink" Target="http://ru.wikipedia.org/wiki/&#1058;&#1077;&#1086;&#1088;&#1080;&#1103;_&#1080;&#1085;&#1092;&#1086;&#1088;&#1084;&#1072;&#1094;&#1080;&#1080;" TargetMode="External"/><Relationship Id="rId6" Type="http://schemas.openxmlformats.org/officeDocument/2006/relationships/hyperlink" Target="http://ru.wikipedia.org/wiki/&#1048;&#1085;&#1092;&#1086;&#1088;&#1084;&#1072;&#1090;&#1080;&#1082;&#1072;" TargetMode="External"/><Relationship Id="rId7" Type="http://schemas.openxmlformats.org/officeDocument/2006/relationships/hyperlink" Target="http://ru.wikipedia.org/wiki/&#1053;&#1077;&#1087;&#1088;&#1077;&#1088;&#1099;&#1074;&#1085;&#1086;&#1077;_&#1086;&#1090;&#1086;&#1073;&#1088;&#1072;&#1078;&#1077;&#1085;&#1080;&#1077;" TargetMode="External"/><Relationship Id="rId8" Type="http://schemas.openxmlformats.org/officeDocument/2006/relationships/hyperlink" Target="http://ru.wikipedia.org/wiki/&#1044;&#1080;&#1092;&#1092;&#1077;&#1088;&#1077;&#1085;&#1094;&#1080;&#1088;&#1091;&#1077;&#1084;&#1072;&#1103;_&#1092;&#1091;&#1085;&#1082;&#1094;&#1080;&#1103;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ru.wikipedia.org/wiki/&#1055;&#1088;&#1086;&#1080;&#1079;&#1074;&#1086;&#1076;&#1085;&#1072;&#1103;_&#1092;&#1091;&#1085;&#1082;&#1094;&#1080;&#1080;" TargetMode="External"/><Relationship Id="rId5" Type="http://schemas.openxmlformats.org/officeDocument/2006/relationships/hyperlink" Target="http://ru.wikipedia.org/wiki/&#1044;&#1080;&#1092;&#1092;&#1077;&#1088;&#1077;&#1085;&#1094;&#1080;&#1072;&#1083;&#1100;&#1085;&#1086;&#1077;_&#1091;&#1088;&#1072;&#1074;&#1085;&#1077;&#1085;&#1080;&#1077;" TargetMode="External"/><Relationship Id="rId6" Type="http://schemas.openxmlformats.org/officeDocument/2006/relationships/hyperlink" Target="http://ru.wikipedia.org/wiki/&#1055;&#1088;&#1086;&#1089;&#1090;&#1086;&#1077;_&#1095;&#1080;&#1089;&#1083;&#1086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3;&#1100;&#1082;&#1091;&#1083;&#1103;&#1090;&#1086;&#1088;" TargetMode="External"/><Relationship Id="rId2" Type="http://schemas.openxmlformats.org/officeDocument/2006/relationships/hyperlink" Target="http://ru.wikipedia.org/wiki/&#1051;&#1086;&#1075;&#1072;&#1088;&#1080;&#1092;&#1084;&#1080;&#1095;&#1077;&#1089;&#1082;&#1080;&#1081;_&#1084;&#1072;&#1089;&#1096;&#1090;&#1072;&#1073;" TargetMode="External"/><Relationship Id="rId3" Type="http://schemas.openxmlformats.org/officeDocument/2006/relationships/hyperlink" Target="http://ru.wikipedia.org/wiki/&#1051;&#1086;&#1075;&#1072;&#1088;&#1080;&#1092;&#1084;&#1080;&#1095;&#1077;&#1089;&#1082;&#1072;&#1103;_&#1083;&#1080;&#1085;&#1077;&#1081;&#1082;&#1072;" TargetMode="External"/><Relationship Id="rId4" Type="http://schemas.openxmlformats.org/officeDocument/2006/relationships/hyperlink" Target="http://ru.wikipedia.org/wiki/&#1060;&#1080;&#1079;&#1080;&#1082;&#1072;" TargetMode="External"/><Relationship Id="rId5" Type="http://schemas.openxmlformats.org/officeDocument/2006/relationships/hyperlink" Target="http://ru.wikipedia.org/wiki/&#1044;&#1077;&#1094;&#1080;&#1073;&#1077;&#1083;" TargetMode="External"/><Relationship Id="rId6" Type="http://schemas.openxmlformats.org/officeDocument/2006/relationships/hyperlink" Target="http://ru.wikipedia.org/wiki/&#1040;&#1089;&#1090;&#1088;&#1086;&#1085;&#1086;&#1084;&#1080;&#1103;" TargetMode="External"/><Relationship Id="rId7" Type="http://schemas.openxmlformats.org/officeDocument/2006/relationships/hyperlink" Target="http://ru.wikipedia.org/wiki/&#1042;&#1080;&#1076;&#1080;&#1084;&#1072;&#1103;_&#1079;&#1074;&#1105;&#1079;&#1076;&#1085;&#1072;&#1103;_&#1074;&#1077;&#1083;&#1080;&#1095;&#1080;&#1085;&#1072;" TargetMode="External"/><Relationship Id="rId8" Type="http://schemas.openxmlformats.org/officeDocument/2006/relationships/hyperlink" Target="http://ru.wikipedia.org/wiki/&#1061;&#1080;&#1084;&#1080;&#1103;" TargetMode="External"/><Relationship Id="rId9" Type="http://schemas.openxmlformats.org/officeDocument/2006/relationships/hyperlink" Target="http://ru.wikipedia.org/wiki/&#1042;&#1086;&#1076;&#1086;&#1088;&#1086;&#1076;" TargetMode="External"/><Relationship Id="rId10" Type="http://schemas.openxmlformats.org/officeDocument/2006/relationships/hyperlink" Target="http://ru.wikipedia.org/wiki/&#1048;&#1086;&#1085;" TargetMode="External"/><Relationship Id="rId11" Type="http://schemas.openxmlformats.org/officeDocument/2006/relationships/hyperlink" Target="http://ru.wikipedia.org/wiki/&#1042;&#1086;&#1076;&#1086;&#1088;&#1086;&#1076;&#1085;&#1099;&#1081;_&#1087;&#1086;&#1082;&#1072;&#1079;&#1072;&#1090;&#1077;&#1083;&#1100;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Заголовок 1"/>
          <p:cNvGrpSpPr/>
          <p:nvPr/>
        </p:nvGrpSpPr>
        <p:grpSpPr>
          <a:xfrm>
            <a:off x="2219400" y="3078000"/>
            <a:ext cx="6302160" cy="2024280"/>
            <a:chOff x="2219400" y="3078000"/>
            <a:chExt cx="6302160" cy="2024280"/>
          </a:xfrm>
        </p:grpSpPr>
        <p:pic>
          <p:nvPicPr>
            <p:cNvPr id="35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219400" y="3078000"/>
              <a:ext cx="630216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286000" y="3124080"/>
              <a:ext cx="6172200" cy="18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ffffff"/>
                  </a:solidFill>
                  <a:latin typeface="Century Schoolbook"/>
                </a:rPr>
                <a:t>ЛОГАРИФМ</a:t>
              </a:r>
              <a:endParaRPr b="0" lang="en-US" sz="6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54" name="Подзаголовок 2"/>
          <p:cNvGrpSpPr/>
          <p:nvPr/>
        </p:nvGrpSpPr>
        <p:grpSpPr>
          <a:xfrm>
            <a:off x="1974960" y="4834080"/>
            <a:ext cx="6546600" cy="1627200"/>
            <a:chOff x="1974960" y="4834080"/>
            <a:chExt cx="6546600" cy="1627200"/>
          </a:xfrm>
        </p:grpSpPr>
        <p:pic>
          <p:nvPicPr>
            <p:cNvPr id="35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974960" y="4834080"/>
              <a:ext cx="65466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2286000" y="5003640"/>
              <a:ext cx="6172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575f6d"/>
                  </a:solidFill>
                  <a:latin typeface="Century Schoolbook"/>
                </a:rPr>
                <a:t>Основные понятия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e8637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4583"/>
                </a:solidFill>
                <a:latin typeface="Century Schoolbook"/>
              </a:rPr>
              <a:t>С</a:t>
            </a:r>
            <a:r>
              <a:rPr b="1" lang="en-US" sz="4400" spc="-1" strike="noStrike">
                <a:solidFill>
                  <a:srgbClr val="244583"/>
                </a:solidFill>
                <a:latin typeface="Century Schoolbook"/>
              </a:rPr>
              <a:t>ВОЙСТВА ЛОГАРИФМ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6)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Логарифм степени равен произведению показателя степени на логарифм её основания: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og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 b </a:t>
            </a:r>
            <a:r>
              <a:rPr b="1" i="1" lang="ru-RU" sz="2400" spc="-1" strike="noStrike" baseline="30000">
                <a:solidFill>
                  <a:srgbClr val="7030a0"/>
                </a:solidFill>
                <a:latin typeface="Century Schoolbook"/>
              </a:rPr>
              <a:t>k 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) = 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k</a:t>
            </a: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 · log</a:t>
            </a: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  b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entury Schoolbook"/>
              </a:rPr>
              <a:t>7) Логарифм основания в степени равен произведению степени в минус первой степени на логарифм её осн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Log n b= 1/n log 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7030a0"/>
                </a:solidFill>
                <a:latin typeface="Century Schoolbook"/>
              </a:rPr>
              <a:t>a                    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Содержимое 3" descr="0465.jpg"/>
          <p:cNvPicPr/>
          <p:nvPr/>
        </p:nvPicPr>
        <p:blipFill>
          <a:blip r:embed="rId1"/>
          <a:stretch/>
        </p:blipFill>
        <p:spPr>
          <a:xfrm>
            <a:off x="214200" y="428760"/>
            <a:ext cx="8696520" cy="585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езентацию приготови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шелева Наст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39d"/>
                  </a:solidFill>
                  <a:latin typeface="Century Schoolbook"/>
                </a:rPr>
                <a:t>ОПРЕДЕЛЕНИЕ</a:t>
              </a:r>
              <a:endParaRPr b="0" lang="en-US" sz="5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0" name="Содержимое 2"/>
          <p:cNvGrpSpPr/>
          <p:nvPr/>
        </p:nvGrpSpPr>
        <p:grpSpPr>
          <a:xfrm>
            <a:off x="328680" y="1432080"/>
            <a:ext cx="7662960" cy="5133960"/>
            <a:chOff x="328680" y="1432080"/>
            <a:chExt cx="7662960" cy="5133960"/>
          </a:xfrm>
        </p:grpSpPr>
        <p:pic>
          <p:nvPicPr>
            <p:cNvPr id="36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8680" y="1432080"/>
              <a:ext cx="7662960" cy="51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Логарифм числа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по основанию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определяется как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показатель степени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в которую надо возвести </a:t>
              </a:r>
              <a:r>
                <a:rPr b="0" lang="ru-RU" sz="32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чис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, чтобы получить число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Обозначение: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. Из определения следует, что записи log</a:t>
              </a:r>
              <a:r>
                <a:rPr b="0" i="1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эквивалентны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Гд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b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не</a:t>
              </a:r>
              <a:r>
                <a:rPr b="0" lang="en-US" sz="3200" spc="-1" strike="noStrike">
                  <a:solidFill>
                    <a:srgbClr val="000000"/>
                  </a:solidFill>
                  <a:latin typeface="Century Schoolbook"/>
                </a:rPr>
                <a:t> = 1, a&gt;0, b &gt; 0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Пример: log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8 = 3, потому что 2</a:t>
              </a:r>
              <a:r>
                <a:rPr b="0" lang="ru-RU" sz="3200" spc="-1" strike="noStrike" baseline="30000">
                  <a:solidFill>
                    <a:srgbClr val="000000"/>
                  </a:solidFill>
                  <a:latin typeface="Century Schoolbook"/>
                </a:rPr>
                <a:t>3</a:t>
              </a:r>
              <a:r>
                <a:rPr b="0" lang="ru-RU" sz="3200" spc="-1" strike="noStrike">
                  <a:solidFill>
                    <a:srgbClr val="000000"/>
                  </a:solidFill>
                  <a:latin typeface="Century Schoolbook"/>
                </a:rPr>
                <a:t> = 8.</a:t>
              </a: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Заголовок 3"/>
          <p:cNvGrpSpPr/>
          <p:nvPr/>
        </p:nvGrpSpPr>
        <p:grpSpPr>
          <a:xfrm>
            <a:off x="390600" y="152280"/>
            <a:ext cx="4314600" cy="1365480"/>
            <a:chOff x="390600" y="152280"/>
            <a:chExt cx="4314600" cy="1365480"/>
          </a:xfrm>
        </p:grpSpPr>
        <p:pic>
          <p:nvPicPr>
            <p:cNvPr id="36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90600" y="152280"/>
              <a:ext cx="4314600" cy="13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57200" y="272880"/>
              <a:ext cx="4186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entury Schoolbook"/>
                </a:rPr>
                <a:t>ВЕЩЕСТВЕННЫЙ ЛОГАРИФМ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66" name="Текст 5"/>
          <p:cNvGrpSpPr/>
          <p:nvPr/>
        </p:nvGrpSpPr>
        <p:grpSpPr>
          <a:xfrm>
            <a:off x="365040" y="1359000"/>
            <a:ext cx="4346640" cy="4859280"/>
            <a:chOff x="365040" y="1359000"/>
            <a:chExt cx="4346640" cy="4859280"/>
          </a:xfrm>
        </p:grpSpPr>
        <p:pic>
          <p:nvPicPr>
            <p:cNvPr id="367" name="Текст 5" descr=""/>
            <p:cNvPicPr/>
            <p:nvPr/>
          </p:nvPicPr>
          <p:blipFill>
            <a:blip r:embed="rId2"/>
            <a:stretch/>
          </p:blipFill>
          <p:spPr>
            <a:xfrm>
              <a:off x="365040" y="1359000"/>
              <a:ext cx="434664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57200" y="1434960"/>
              <a:ext cx="4186080" cy="46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 вещественного числа log</a:t>
              </a:r>
              <a:r>
                <a:rPr b="0" i="1" lang="ru-RU" sz="1600" spc="-1" strike="noStrike" baseline="-25000">
                  <a:solidFill>
                    <a:srgbClr val="000000"/>
                  </a:solidFill>
                  <a:latin typeface="Century Schoolbook"/>
                </a:rPr>
                <a:t>b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меет смысл при 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иболее широкое применение нашли следующие виды логарифмов: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есятичные: основание: число 10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Натуральные: основание: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3"/>
                </a:rPr>
                <a:t>e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(число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Эйлер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Двоичные: основание: число 2. Они применяются в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теории информации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информатике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Если рассматривать логарифмируемое число как переменную, мы получим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логарифмическую функц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, например: . Эта функция определена в правой части числовой прямой: </a:t>
              </a:r>
              <a:r>
                <a:rPr b="0" i="1" lang="ru-RU" sz="1600" spc="-1" strike="noStrike">
                  <a:solidFill>
                    <a:srgbClr val="000000"/>
                  </a:solidFill>
                  <a:latin typeface="Century Schoolbook"/>
                </a:rPr>
                <a:t>x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&gt; 0,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7"/>
                </a:rPr>
                <a:t>непрерывн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и </a:t>
              </a:r>
              <a:r>
                <a:rPr b="0" lang="ru-RU" sz="16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8"/>
                </a:rPr>
                <a:t>дифференцируема</a:t>
              </a:r>
              <a:r>
                <a:rPr b="0" lang="ru-RU" sz="1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69" name="Содержимое 6" descr="8674881.jpg"/>
          <p:cNvPicPr/>
          <p:nvPr/>
        </p:nvPicPr>
        <p:blipFill>
          <a:blip r:embed="rId9"/>
          <a:stretch/>
        </p:blipFill>
        <p:spPr>
          <a:xfrm>
            <a:off x="5000760" y="357120"/>
            <a:ext cx="3981240" cy="563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Содержимое 4" descr="6.jpg"/>
          <p:cNvPicPr/>
          <p:nvPr/>
        </p:nvPicPr>
        <p:blipFill>
          <a:blip r:embed="rId1"/>
          <a:stretch/>
        </p:blipFill>
        <p:spPr>
          <a:xfrm>
            <a:off x="285840" y="214200"/>
            <a:ext cx="8553240" cy="607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9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74" name="Заголовок 9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0a0"/>
                  </a:solidFill>
                  <a:latin typeface="Century Schoolbook"/>
                </a:rPr>
                <a:t>НАТУРАЛЬНЫЕ ЛОГАРИФМЫ</a:t>
              </a:r>
              <a:br>
                <a:rPr sz="2700"/>
              </a:br>
              <a:endParaRPr b="0" lang="en-US" sz="36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pic>
        <p:nvPicPr>
          <p:cNvPr id="376" name="Содержимое 4" descr="1221031407_001.jpg"/>
          <p:cNvPicPr/>
          <p:nvPr/>
        </p:nvPicPr>
        <p:blipFill>
          <a:blip r:embed="rId2"/>
          <a:stretch/>
        </p:blipFill>
        <p:spPr>
          <a:xfrm>
            <a:off x="733320" y="1743120"/>
            <a:ext cx="31053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одержимое 11"/>
          <p:cNvGrpSpPr/>
          <p:nvPr/>
        </p:nvGrpSpPr>
        <p:grpSpPr>
          <a:xfrm>
            <a:off x="4206960" y="1481040"/>
            <a:ext cx="3870360" cy="4786560"/>
            <a:chOff x="4206960" y="1481040"/>
            <a:chExt cx="3870360" cy="4786560"/>
          </a:xfrm>
        </p:grpSpPr>
        <p:pic>
          <p:nvPicPr>
            <p:cNvPr id="378" name="Содержимое 11" descr=""/>
            <p:cNvPicPr/>
            <p:nvPr/>
          </p:nvPicPr>
          <p:blipFill>
            <a:blip r:embed="rId3"/>
            <a:stretch/>
          </p:blipFill>
          <p:spPr>
            <a:xfrm>
              <a:off x="4206960" y="1481040"/>
              <a:ext cx="3870360" cy="47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270320" y="1600200"/>
              <a:ext cx="3657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Дл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4"/>
                </a:rPr>
                <a:t>производно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 натурального логарифма справедлива простая формула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Schoolbook"/>
                </a:rPr>
                <a:t>По этой причине в математических исследованиях преимущественно используют именно натуральные логарифмы. Они нередко появляются при решении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5"/>
                </a:rPr>
                <a:t>дифференциальных уравнений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, исследовании статистических зависимостей (например, распределения </a:t>
              </a:r>
              <a:r>
                <a:rPr b="0" lang="en-US" sz="1800" spc="-1" strike="noStrike" u="sng">
                  <a:solidFill>
                    <a:srgbClr val="d2611c"/>
                  </a:solidFill>
                  <a:uFillTx/>
                  <a:latin typeface="Century Schoolbook"/>
                  <a:hlinkClick r:id="rId6"/>
                </a:rPr>
                <a:t>простых чисел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Century Schoolbook"/>
                </a:rPr>
                <a:t>) и т. п.</a:t>
              </a: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80000"/>
                </a:lnSpc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gradFill rotWithShape="0">
            <a:gsLst>
              <a:gs pos="0">
                <a:srgbClr val="d2c671"/>
              </a:gs>
              <a:gs pos="100000">
                <a:srgbClr val="fff9d5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entury Schoolbook"/>
              </a:rPr>
              <a:t>ДЕСЯТИЧНЫЕ ЛОГАРИФМЫ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32c16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Логарифмы по основанию 10 (обозначение: lg </a:t>
            </a: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 до изобретения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калькулятор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широко применялись для вычислений.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Неравномерная шкал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десятичных логарифмов обычно наносится и н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логарифмические линейки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Подобная шкала широко используется в различных областях науки, например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Физик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интенсивность звука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децибелы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Астроно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шкала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яркости звёзд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Химия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— активность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9"/>
              </a:rPr>
              <a:t>водородных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0"/>
              </a:rPr>
              <a:t>ионов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ru-RU" sz="1400" spc="-1" strike="noStrike" u="sng">
                <a:solidFill>
                  <a:srgbClr val="d2611c"/>
                </a:solidFill>
                <a:uFillTx/>
                <a:latin typeface="Century Schoolbook"/>
                <a:hlinkClick r:id="rId11"/>
              </a:rPr>
              <a:t>pH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йсмология — шкала Рихтер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еория музыки — нотная шкал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Содержимое 4" descr="image008.jpg"/>
          <p:cNvPicPr/>
          <p:nvPr/>
        </p:nvPicPr>
        <p:blipFill>
          <a:blip r:embed="rId12"/>
          <a:stretch/>
        </p:blipFill>
        <p:spPr>
          <a:xfrm>
            <a:off x="4357800" y="1857240"/>
            <a:ext cx="43099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cdfe3"/>
                  </a:solidFill>
                  <a:latin typeface="Century Schoolbook"/>
                </a:rPr>
                <a:t>СВОЙСТВА ЛОГАРИФМОВ</a:t>
              </a:r>
              <a:endParaRPr b="0" lang="en-US" sz="4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86" name="Содержимое 2"/>
          <p:cNvGrpSpPr/>
          <p:nvPr/>
        </p:nvGrpSpPr>
        <p:grpSpPr>
          <a:xfrm>
            <a:off x="274680" y="1457280"/>
            <a:ext cx="7716960" cy="5108760"/>
            <a:chOff x="274680" y="1457280"/>
            <a:chExt cx="7716960" cy="5108760"/>
          </a:xfrm>
        </p:grpSpPr>
        <p:pic>
          <p:nvPicPr>
            <p:cNvPr id="38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74680" y="1457280"/>
              <a:ext cx="771696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)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 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,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= b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      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                         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2)   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1 = 0 ,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ак как  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 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Century Schoolbook"/>
                </a:rPr>
                <a:t>0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= 1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.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       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3)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log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  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 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b     b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   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основное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тригонометрическое тождество </a:t>
              </a:r>
              <a:endParaRPr b="0" lang="en-US" sz="28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Содержимое 3" descr="Logariphm.GIF"/>
          <p:cNvPicPr/>
          <p:nvPr/>
        </p:nvPicPr>
        <p:blipFill>
          <a:blip r:embed="rId1"/>
          <a:stretch/>
        </p:blipFill>
        <p:spPr>
          <a:xfrm>
            <a:off x="357120" y="214200"/>
            <a:ext cx="8326440" cy="623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Заголовок 1"/>
          <p:cNvGrpSpPr/>
          <p:nvPr/>
        </p:nvGrpSpPr>
        <p:grpSpPr>
          <a:xfrm>
            <a:off x="390600" y="225360"/>
            <a:ext cx="7594560" cy="1279440"/>
            <a:chOff x="390600" y="225360"/>
            <a:chExt cx="7594560" cy="1279440"/>
          </a:xfrm>
        </p:grpSpPr>
        <p:pic>
          <p:nvPicPr>
            <p:cNvPr id="3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25360"/>
              <a:ext cx="75945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entury Schoolbook"/>
                </a:rPr>
                <a:t>СВОЙСТВА ЛОГАРИФМОВ</a:t>
              </a:r>
              <a:endParaRPr b="0" lang="en-US" sz="4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grpSp>
        <p:nvGrpSpPr>
          <p:cNvPr id="394" name="Содержимое 2"/>
          <p:cNvGrpSpPr/>
          <p:nvPr/>
        </p:nvGrpSpPr>
        <p:grpSpPr>
          <a:xfrm>
            <a:off x="304920" y="1517760"/>
            <a:ext cx="7686720" cy="5048280"/>
            <a:chOff x="304920" y="1517760"/>
            <a:chExt cx="7686720" cy="5048280"/>
          </a:xfrm>
        </p:grpSpPr>
        <p:pic>
          <p:nvPicPr>
            <p:cNvPr id="39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4920" y="1517760"/>
              <a:ext cx="7686720" cy="50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4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произведения равен сумме логарифмов сомножителей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+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5)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Логарифм частного равен разности логарифмов делимого и делителя: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        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log (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/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 b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) =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a 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– log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 b .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entury Schoolbook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e8637"/>
                </a:buClr>
                <a:buSzPct val="7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4:21:15Z</dcterms:created>
  <dc:creator>Natya</dc:creator>
  <dc:description/>
  <dc:language>en-US</dc:language>
  <cp:lastModifiedBy>Мама</cp:lastModifiedBy>
  <dcterms:modified xsi:type="dcterms:W3CDTF">2013-03-13T01:34:55Z</dcterms:modified>
  <cp:revision>16</cp:revision>
  <dc:subject/>
  <dc:title>Слайд 1</dc:title>
</cp:coreProperties>
</file>