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416-AD3C-41BB-99F9-E4C48B6B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8BC-0B85-450D-AE37-AA415189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BFF-EA1E-4757-B006-D3FE31AB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F44-3EB0-4565-ABE6-C58D47DA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17C1-6FE5-43AC-86CF-4999B7A2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ED11-4FAD-4762-98FA-A1FF0D7B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EFFE-3E9C-465A-8B3A-F3AF8383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1801-C4BC-403E-AFFC-0C14564C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583B-5254-46FF-BBA0-1742D6FE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381A-6BD9-492E-99DE-2E00A635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D8B6-A66D-4CAD-BF41-39D3106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9D0-E865-4345-AFC7-2301A619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2677-5DAA-4596-A6E6-CE4B2FF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5263-D791-4158-B769-85BDE0BB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0BE9-F9E2-4CFD-A89A-8C1D1F52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24D7-EA2E-4F72-B9AD-5F02C1EE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67C2-9EBD-4947-9FD4-DB19398D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640-FED9-4CA9-ADC2-56A7E6DC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C0E-65F5-41E2-9B2F-21818830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88E-C37A-418F-B2AA-4D7DF2F1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484-6125-456B-9176-6AF51C96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84A-17DB-4126-A0F4-05E9C503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C70-270E-43FE-9543-BD9B046E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FF1-9252-4741-A601-19034FB6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3147-1CE6-4E51-9D3C-F3430AFA28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A021-6292-46B6-B0C6-2A1C99F75ED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Исследовательская работа по стихотворению М.Ю.Лермонтова «Утес»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120" y="4114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дготови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читель начальных класс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ОУ «СОШ №13 г.Зеленокумска» Самойлова Татьяна Степанов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Цель исследования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оказать, что стихотворение М.Ю.Лермонтова «Утес» - это не только красивое описание природы, но «зашифрованное» философское рассуждение о межличностных отношения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21"/>
          <p:cNvPicPr/>
          <p:nvPr/>
        </p:nvPicPr>
        <p:blipFill>
          <a:blip r:embed="rId1"/>
          <a:stretch/>
        </p:blipFill>
        <p:spPr>
          <a:xfrm>
            <a:off x="380880" y="304920"/>
            <a:ext cx="5181840" cy="6095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715000" y="380880"/>
            <a:ext cx="3429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ихаил Юрьевич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ермонт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одился в Москв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1814 год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эт, прозаик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матург. Неоднократно приезжал на Кавказ. Написал множество произведений о Кавказ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к Лермонтов описал удивительно красивый пейзаж  в стихотворении «Утес»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Почему тучка золотая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е золотит заходящее солнышк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Что за грудь у утеса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кло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Почему туча убежала, играясь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етер ее сду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Что значит по лазури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ярко-синему неб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Что за морщинка у утеса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сщелина в гор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Почему остался влажный след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пельки воды от туч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3200400" cy="632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вод:</a:t>
            </a:r>
            <a:br>
              <a:rPr sz="28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тихотворение – это не пособие по природоведению. Его образный язык помогает нам представить этот старый изрезанный расщелинами утес, лучи заходящего солнца, маленькую тучку, сверкающее голубое небо, почувствовать порывы утреннего ветра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5" descr="waterfall3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ипотеза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80880" y="21333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писывая природу, Лермонтов подразумевал  и межчеловеческие отношен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олько ли о размере идет речь, когда поэт говорит «тучка»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Нет, еще можно так сказать о возраст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олько ли о размере мы говорим об утесе-великане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Нет, он еще старый, неподвижный, прикован к месту, может только размышлять в одиночестве и плакат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ак о чем же еще стихотворение? 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О молодости и старости. О том, как юные легкомысленны, подвижны, изменчивы. А старые люди мудры, но порой одиноки и неподвижн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посещения тучки как «чувствовал» себя утес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Ему стало хуже. Его тоска одиночества усилилась.</a:t>
            </a:r>
            <a:br>
              <a:rPr sz="2800"/>
            </a:b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Тучка не могла понять утеса: она стремительна, юная, ей не известны чувства, которые переживает утес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 поэзии есть одна важная, почти волшебная особенность. Поэт произносит слова, которые живут сразу и одновременно двойной жизнью. Например, мы видим и пейзажную зарисовку, и одновременно угадываем в ней рассказ о человеческих отношениях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imes New Roman"/>
              </a:rPr>
              <a:t>В чем же особенность стихотворения?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22093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ихотворение маленькое, но оно насыщено чувствами. В нем яркие картины, в нем звучит музы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8T19:09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