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BFD-C846-4412-8C5A-3DB590FE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C64-8097-44BD-94FD-7F03AE45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F19-32E8-4CD8-88A8-8845E35C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2FB-6231-4371-A30C-5F1789D5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CB19-6488-4187-94D5-80440F90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B480-8DE2-4B4C-A003-B9000C4F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872F-6E0E-4B70-9EEF-9920F3E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4E0C-6635-4472-AEBD-2875483C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347D-F0B2-4F8F-884E-6E62D77F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D153-EBCC-4836-9440-8CCA8624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065F-5672-4B8B-B18D-762C6E7F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EF8-5883-4DE3-B334-AC9A884F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401A-82D5-4A54-8FAA-4E040A39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F4F8-EB1A-4878-AF1B-F32A995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C31C-D23E-482F-9C21-29DAFF7A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6ACA-1931-4E00-8A8C-F49DCFD7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CBFC-8BCC-45E7-8B66-8252C6D4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C1F-CCE4-486D-BBC5-4849DDA6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C07-AF71-4734-9A37-85C9DA3C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287-ADFD-4ED8-8938-78CE9235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40F-D84B-4771-9115-B23BFB8B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024-BB47-4C6A-B60A-E9DAE480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4EC-C598-4F4E-8A90-D190C3D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5D0-8417-4039-A71D-1B7DD1A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3228-AAAC-41B5-8319-51A675C70B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2F4-FF4C-46EC-9417-E2BA36C1149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Исследовательская работа по стихотворению М.Ю.Лермонтова «Утес»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4114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готови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читель начальных класс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У «СОШ №13 г.Зеленокумска» Самойлова Татьяна Степанов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ель исследования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оказать, что стихотворение М.Ю.Лермонтова «Утес» - это не только красивое описание природы, но «зашифрованное» философское рассуждение о межличностных отношения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21"/>
          <p:cNvPicPr/>
          <p:nvPr/>
        </p:nvPicPr>
        <p:blipFill>
          <a:blip r:embed="rId1"/>
          <a:stretch/>
        </p:blipFill>
        <p:spPr>
          <a:xfrm>
            <a:off x="380880" y="304920"/>
            <a:ext cx="5181840" cy="609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715000" y="380880"/>
            <a:ext cx="3429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ихаил Юрьевич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ермонт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одился в Моск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1814 год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эт, прозаик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матург. Неоднократно приезжал на Кавказ. Написал множество произведений о Кавказ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к Лермонтов описал удивительно красивый пейзаж  в стихотворении «Утес»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Почему тучка золотая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е золотит заходящее солнышк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Что за грудь у утеса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кло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очему туча убежала, играясь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етер ее сду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Что значит по лазури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ярко-синему неб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Что за морщинка у утеса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сщелина в гор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очему остался влажный след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пельки воды от туч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3200400" cy="63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вод:</a:t>
            </a:r>
            <a:br>
              <a:rPr sz="28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тихотворение – это не пособие по природоведению. Его образный язык помогает нам представить этот старый изрезанный расщелинами утес, лучи заходящего солнца, маленькую тучку, сверкающее голубое небо, почувствовать порывы утреннего ветра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5" descr="waterfall3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ипотеза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80880" y="21333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писывая природу, Лермонтов подразумевал  и межчеловеческие отношен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лько ли о размере идет речь, когда поэт говорит «тучка»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Нет, еще можно так сказать о возраст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лько ли о размере мы говорим об утесе-великан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Нет, он еще старый, неподвижный, прикован к месту, может только размышлять в одиночестве и плака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ак о чем же еще стихотворение? 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О молодости и старости. О том, как юные легкомысленны, подвижны, изменчивы. А старые люди мудры, но порой одиноки и неподвижн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посещения тучки как «чувствовал» себя утес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Ему стало хуже. Его тоска одиночества усилилась.</a:t>
            </a:r>
            <a:br>
              <a:rPr sz="2800"/>
            </a:b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Тучка не могла понять утеса: она стремительна, юная, ей не известны чувства, которые переживает утес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поэзии есть одна важная, почти волшебная особенность. Поэт произносит слова, которые живут сразу и одновременно двойной жизнью. Например, мы видим и пейзажную зарисовку, и одновременно угадываем в ней рассказ о человеческих отношениях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imes New Roman"/>
              </a:rPr>
              <a:t>В чем же особенность стихотворения?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22093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ихотворение маленькое, но оно насыщено чувствами. В нем яркие картины, в нем звучит музы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8T19:09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