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5DB-CA41-4D84-AC38-BE19D33E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F3A-54A7-459E-A589-3ED4099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262-80C2-4AF7-8ACD-D9770DF2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CA-1BAA-4997-B870-89207224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0D9-AF59-494B-9A62-56F1AD34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34A-9B62-4203-BAB9-E2D1E5B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224-EA45-43D3-92AD-CCE7C8DD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675E-3A37-4B9B-B2FE-388D27C9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10C6-0A05-4159-9F4C-9219C1B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ADC1-600F-4D18-8E1D-625C763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E14-1507-41F7-8923-6D6E432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966-390A-4874-9D4E-B4F17C1F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70F0-1827-4FAD-BE45-464C169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F18-504E-4724-8882-93FF8D9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E828-77E8-4441-A96E-6E63F608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33A8-8E66-4EC8-8B0C-A5B92054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128-5004-411A-8BBF-F793211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57D-C6C7-4E92-8938-73296E89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BB6-7C76-4BC4-8E93-F51A715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CC3-A17A-4C37-A905-8D5605C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0F8-BCFD-4D70-A6AF-AD245E1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DCB-1EC3-4BFD-A802-D41FF7A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15A-E1DA-49AB-9CCB-A2F9C0F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845-2B8F-41E6-B4A9-561AAB3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FFBA-B025-4A38-93D4-E0384285F9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E2B7-894F-4E1D-9F23-4F3CECE64CA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Исследовательская работа по стихотворению М.Ю.Лермонтова «Утес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41144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У «СОШ №13 г.Зеленокумска» Самойлова Татьяна Степанов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казать, что стихотворение М.Ю.Лермонтова «Утес» - это не только красивое описание природы, но «зашифрованное» философское рассуждение о межличностных отношения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1"/>
          <p:cNvPicPr/>
          <p:nvPr/>
        </p:nvPicPr>
        <p:blipFill>
          <a:blip r:embed="rId1"/>
          <a:stretch/>
        </p:blipFill>
        <p:spPr>
          <a:xfrm>
            <a:off x="380880" y="304920"/>
            <a:ext cx="5181840" cy="609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715000" y="380880"/>
            <a:ext cx="3429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ихаил Юрьеви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ермонт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дился в Моск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1814 год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эт, прозаик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матург. Неоднократно приезжал на Кавказ. Написал множество произведений о Кавказ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к Лермонтов описал удивительно красивый пейзаж  в стихотворении «Утес»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Почему тучка золотая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е золотит заходящее солнышк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грудь у утес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ло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туча убежала, играяс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тер ее сду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начит по лазури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ярко-синему неб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Что за морщинка у утеса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сщелина в гор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чему остался влажный след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пельки воды от ту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вод:</a:t>
            </a:r>
            <a:br>
              <a:rPr sz="28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тихотворение – это не пособие по природоведению. Его образный язык помогает нам представить этот старый изрезанный расщелинами утес, лучи заходящего солнца, маленькую тучку, сверкающее голубое небо, почувствовать порывы утреннего ветр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5" descr="waterfall3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ипотеза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880" y="2133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писывая природу, Лермонтов подразумевал  и межчеловеческие отношен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идет речь, когда поэт говорит «тучка»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еще можно так сказать о возраст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лько ли о размере мы говорим об утесе-великан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Нет, он еще старый, неподвижный, прикован к месту, может только размышлять в одиночестве и плак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ак о чем же еще стихотворение?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О молодости и старости. О том, как юные легкомысленны, подвижны, изменчивы. А старые люди мудры, но порой одиноки и неподвиж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посещения тучки как «чувствовал» себя утес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Ему стало хуже. Его тоска одиночества усилилась.</a:t>
            </a: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Тучка не могла понять утеса: она стремительна, юная, ей не известны чувства, которые переживает утес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ec85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поэзии есть одна важная, почти волшебная особенность. Поэт произносит слова, которые живут сразу и одновременно двойной жизнью. Например, мы видим и пейзажную зарисовку, и одновременно угадываем в ней рассказ о человеческих отношения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В чем же особенность стихотворения?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093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ихотворение маленькое, но оно насыщено чувствами. В нем яркие картины, в нем звучит музы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19:09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