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4B5C-A903-42B1-8D7B-DEC7CDE355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7CD8-C382-4C94-B6C4-2A1476637A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9CC-76BC-4678-8500-08B86ACC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E60-E3BE-467D-9F6B-2344024E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4E0-591E-4275-BE4E-95B04CF0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1B6-D109-4DF7-A95A-0C938417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BA4-DB1E-494B-8075-0F02F35B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B4D-C6D2-47EF-9D7D-04A4759D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F43-8092-48BA-85F6-9FFC19B1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57C-11B8-4E98-9052-DA50871A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37A-5995-4001-B19A-F220192B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0F4-DFF3-49CB-83B7-B7782799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01D-8B3D-4921-8C81-A2FA56D6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FF9-F7BD-4150-99EA-8A1A7A81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F124-3D3D-4450-8831-9570B0B00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036800" y="-171360"/>
            <a:ext cx="7211880" cy="3421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куб1.gif"/>
          <p:cNvPicPr/>
          <p:nvPr/>
        </p:nvPicPr>
        <p:blipFill>
          <a:blip r:embed="rId2"/>
          <a:stretch/>
        </p:blipFill>
        <p:spPr>
          <a:xfrm>
            <a:off x="0" y="4508640"/>
            <a:ext cx="9144000" cy="158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F:\гифы\merkaba.gif"/>
          <p:cNvPicPr/>
          <p:nvPr/>
        </p:nvPicPr>
        <p:blipFill>
          <a:blip r:embed="rId3"/>
          <a:stretch/>
        </p:blipFill>
        <p:spPr>
          <a:xfrm>
            <a:off x="468360" y="2492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755640" y="333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лассификация геометрических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бъект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194480" y="2637000"/>
            <a:ext cx="10234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6"/>
          <p:cNvCxnSpPr/>
          <p:nvPr/>
        </p:nvCxnSpPr>
        <p:spPr>
          <a:xfrm flipH="1">
            <a:off x="1762920" y="1989000"/>
            <a:ext cx="104220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pic>
        <p:nvPicPr>
          <p:cNvPr id="54" name="Рисунок 9" descr="1.gif"/>
          <p:cNvPicPr/>
          <p:nvPr/>
        </p:nvPicPr>
        <p:blipFill>
          <a:blip r:embed="rId1"/>
          <a:stretch/>
        </p:blipFill>
        <p:spPr>
          <a:xfrm>
            <a:off x="0" y="3789360"/>
            <a:ext cx="2527200" cy="252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Пользователь\Desktop\циркуль.png"/>
          <p:cNvPicPr/>
          <p:nvPr/>
        </p:nvPicPr>
        <p:blipFill>
          <a:blip r:embed="rId2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755640" y="333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лассификация геометрических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бъект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194480" y="2637000"/>
            <a:ext cx="10234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771640" y="2637000"/>
            <a:ext cx="2880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ские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6"/>
          <p:cNvCxnSpPr/>
          <p:nvPr/>
        </p:nvCxnSpPr>
        <p:spPr>
          <a:xfrm flipH="1">
            <a:off x="1762920" y="1989000"/>
            <a:ext cx="104220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0" name="Прямая со стрелкой 7"/>
          <p:cNvCxnSpPr/>
          <p:nvPr/>
        </p:nvCxnSpPr>
        <p:spPr>
          <a:xfrm flipH="1">
            <a:off x="4610880" y="1989000"/>
            <a:ext cx="252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pic>
        <p:nvPicPr>
          <p:cNvPr id="61" name="Рисунок 10" descr="2.gif"/>
          <p:cNvPicPr/>
          <p:nvPr/>
        </p:nvPicPr>
        <p:blipFill>
          <a:blip r:embed="rId1"/>
          <a:stretch/>
        </p:blipFill>
        <p:spPr>
          <a:xfrm>
            <a:off x="2700360" y="3933720"/>
            <a:ext cx="3024000" cy="2360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2" descr="Рисунок2.gif"/>
          <p:cNvPicPr/>
          <p:nvPr/>
        </p:nvPicPr>
        <p:blipFill>
          <a:blip r:embed="rId2"/>
          <a:stretch/>
        </p:blipFill>
        <p:spPr>
          <a:xfrm>
            <a:off x="0" y="3765600"/>
            <a:ext cx="2543040" cy="254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Пользователь\Desktop\циркуль.png"/>
          <p:cNvPicPr/>
          <p:nvPr/>
        </p:nvPicPr>
        <p:blipFill>
          <a:blip r:embed="rId3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3" descr="Рисунок1.gif"/>
          <p:cNvPicPr/>
          <p:nvPr/>
        </p:nvPicPr>
        <p:blipFill>
          <a:blip r:embed="rId1"/>
          <a:stretch/>
        </p:blipFill>
        <p:spPr>
          <a:xfrm>
            <a:off x="2700360" y="3933720"/>
            <a:ext cx="3048120" cy="2381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2" descr="Рисунок2.gif"/>
          <p:cNvPicPr/>
          <p:nvPr/>
        </p:nvPicPr>
        <p:blipFill>
          <a:blip r:embed="rId2"/>
          <a:stretch/>
        </p:blipFill>
        <p:spPr>
          <a:xfrm>
            <a:off x="0" y="378936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755640" y="333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лассификация геометрических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бъект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194480" y="2637000"/>
            <a:ext cx="10234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771640" y="2637000"/>
            <a:ext cx="2880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ские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6443640" y="2637000"/>
            <a:ext cx="2425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мные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6"/>
          <p:cNvCxnSpPr/>
          <p:nvPr/>
        </p:nvCxnSpPr>
        <p:spPr>
          <a:xfrm flipH="1">
            <a:off x="1762920" y="1989000"/>
            <a:ext cx="104220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1" name="Прямая со стрелкой 7"/>
          <p:cNvCxnSpPr/>
          <p:nvPr/>
        </p:nvCxnSpPr>
        <p:spPr>
          <a:xfrm flipH="1">
            <a:off x="4610880" y="1989000"/>
            <a:ext cx="252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Прямая со стрелкой 8"/>
          <p:cNvCxnSpPr/>
          <p:nvPr/>
        </p:nvCxnSpPr>
        <p:spPr>
          <a:xfrm>
            <a:off x="7111080" y="2028600"/>
            <a:ext cx="556200" cy="6087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pic>
        <p:nvPicPr>
          <p:cNvPr id="73" name="Рисунок 11" descr="3.gif"/>
          <p:cNvPicPr/>
          <p:nvPr/>
        </p:nvPicPr>
        <p:blipFill>
          <a:blip r:embed="rId3"/>
          <a:stretch/>
        </p:blipFill>
        <p:spPr>
          <a:xfrm>
            <a:off x="6156360" y="3573360"/>
            <a:ext cx="2670120" cy="267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Пользователь\Desktop\циркуль.png"/>
          <p:cNvPicPr/>
          <p:nvPr/>
        </p:nvPicPr>
        <p:blipFill>
          <a:blip r:embed="rId4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3348000" y="189000"/>
            <a:ext cx="338472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Ли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193400" y="1557360"/>
            <a:ext cx="11088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2771640" y="1557360"/>
            <a:ext cx="2880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ма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6300720" y="1557360"/>
            <a:ext cx="24242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5"/>
          <p:cNvCxnSpPr/>
          <p:nvPr/>
        </p:nvCxnSpPr>
        <p:spPr>
          <a:xfrm flipH="1">
            <a:off x="1762920" y="836640"/>
            <a:ext cx="1585080" cy="72000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0" name="Прямая со стрелкой 6"/>
          <p:cNvCxnSpPr/>
          <p:nvPr/>
        </p:nvCxnSpPr>
        <p:spPr>
          <a:xfrm flipH="1">
            <a:off x="4611240" y="836640"/>
            <a:ext cx="32400" cy="72144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1" name="Прямая со стрелкой 7"/>
          <p:cNvCxnSpPr/>
          <p:nvPr/>
        </p:nvCxnSpPr>
        <p:spPr>
          <a:xfrm>
            <a:off x="6732720" y="836640"/>
            <a:ext cx="1008720" cy="72000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2" name="Полилиния 12"/>
          <p:cNvSpPr/>
          <p:nvPr/>
        </p:nvSpPr>
        <p:spPr>
          <a:xfrm>
            <a:off x="485640" y="2921040"/>
            <a:ext cx="1632240" cy="1650960"/>
          </a:xfrm>
          <a:custGeom>
            <a:avLst/>
            <a:gdLst/>
            <a:ahLst/>
            <a:rect l="l" t="t" r="r" b="b"/>
            <a:pathLst>
              <a:path w="1631853" h="1650609">
                <a:moveTo>
                  <a:pt x="35170" y="1214511"/>
                </a:moveTo>
                <a:cubicBezTo>
                  <a:pt x="17585" y="951914"/>
                  <a:pt x="0" y="689317"/>
                  <a:pt x="147711" y="497058"/>
                </a:cubicBezTo>
                <a:cubicBezTo>
                  <a:pt x="295422" y="304799"/>
                  <a:pt x="715108" y="0"/>
                  <a:pt x="921434" y="60960"/>
                </a:cubicBezTo>
                <a:cubicBezTo>
                  <a:pt x="1127760" y="121920"/>
                  <a:pt x="1268437" y="618978"/>
                  <a:pt x="1385668" y="862818"/>
                </a:cubicBezTo>
                <a:cubicBezTo>
                  <a:pt x="1502899" y="1106658"/>
                  <a:pt x="1631853" y="1397391"/>
                  <a:pt x="1624819" y="1524000"/>
                </a:cubicBezTo>
                <a:cubicBezTo>
                  <a:pt x="1617785" y="1650609"/>
                  <a:pt x="1343465" y="1622474"/>
                  <a:pt x="1343465" y="1622474"/>
                </a:cubicBezTo>
                <a:lnTo>
                  <a:pt x="1343465" y="1622474"/>
                </a:lnTo>
              </a:path>
            </a:pathLst>
          </a:custGeom>
          <a:noFill/>
          <a:ln w="5724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3"/>
          <p:cNvSpPr/>
          <p:nvPr/>
        </p:nvSpPr>
        <p:spPr>
          <a:xfrm rot="19476600">
            <a:off x="3676680" y="2614320"/>
            <a:ext cx="1324080" cy="2054160"/>
          </a:xfrm>
          <a:custGeom>
            <a:avLst/>
            <a:gdLst/>
            <a:ahLst/>
            <a:rect l="l" t="t" r="r" b="b"/>
            <a:pathLst>
              <a:path w="759656" h="1730326">
                <a:moveTo>
                  <a:pt x="112542" y="1730326"/>
                </a:moveTo>
                <a:lnTo>
                  <a:pt x="112542" y="1730326"/>
                </a:lnTo>
                <a:lnTo>
                  <a:pt x="154745" y="1547446"/>
                </a:lnTo>
                <a:lnTo>
                  <a:pt x="759656" y="1477107"/>
                </a:lnTo>
                <a:lnTo>
                  <a:pt x="703385" y="844061"/>
                </a:lnTo>
                <a:lnTo>
                  <a:pt x="0" y="717452"/>
                </a:lnTo>
                <a:lnTo>
                  <a:pt x="450167" y="28135"/>
                </a:lnTo>
                <a:lnTo>
                  <a:pt x="464234" y="0"/>
                </a:ln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 flipV="1">
            <a:off x="6300720" y="3429000"/>
            <a:ext cx="2232000" cy="100800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Пользователь\Desktop\циркуль.png"/>
          <p:cNvPicPr/>
          <p:nvPr/>
        </p:nvPicPr>
        <p:blipFill>
          <a:blip r:embed="rId1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1"/>
          <p:cNvSpPr/>
          <p:nvPr/>
        </p:nvSpPr>
        <p:spPr>
          <a:xfrm>
            <a:off x="3348000" y="189000"/>
            <a:ext cx="352764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Плоские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826920" y="1484280"/>
            <a:ext cx="1081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203640" y="1484280"/>
            <a:ext cx="2881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7020000" y="1557360"/>
            <a:ext cx="12729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5"/>
          <p:cNvCxnSpPr/>
          <p:nvPr/>
        </p:nvCxnSpPr>
        <p:spPr>
          <a:xfrm flipH="1">
            <a:off x="1762920" y="835560"/>
            <a:ext cx="158508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1" name="Прямая со стрелкой 6"/>
          <p:cNvCxnSpPr/>
          <p:nvPr/>
        </p:nvCxnSpPr>
        <p:spPr>
          <a:xfrm flipH="1">
            <a:off x="4610880" y="836280"/>
            <a:ext cx="252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2" name="Прямая со стрелкой 7"/>
          <p:cNvCxnSpPr/>
          <p:nvPr/>
        </p:nvCxnSpPr>
        <p:spPr>
          <a:xfrm>
            <a:off x="6732360" y="836280"/>
            <a:ext cx="93564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3" name="Прямая со стрелкой 10"/>
          <p:cNvCxnSpPr/>
          <p:nvPr/>
        </p:nvCxnSpPr>
        <p:spPr>
          <a:xfrm flipH="1">
            <a:off x="1692000" y="1989000"/>
            <a:ext cx="1800720" cy="165672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4" name="Прямая со стрелкой 12"/>
          <p:cNvCxnSpPr/>
          <p:nvPr/>
        </p:nvCxnSpPr>
        <p:spPr>
          <a:xfrm flipH="1">
            <a:off x="4427280" y="1988640"/>
            <a:ext cx="2160" cy="1080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5" name="Прямая со стрелкой 15"/>
          <p:cNvCxnSpPr/>
          <p:nvPr/>
        </p:nvCxnSpPr>
        <p:spPr>
          <a:xfrm>
            <a:off x="5724360" y="1915920"/>
            <a:ext cx="1656720" cy="187380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96" name="TextBox 23"/>
          <p:cNvSpPr/>
          <p:nvPr/>
        </p:nvSpPr>
        <p:spPr>
          <a:xfrm>
            <a:off x="3276720" y="3068640"/>
            <a:ext cx="2519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ырех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250920" y="3645000"/>
            <a:ext cx="2124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7020000" y="3789360"/>
            <a:ext cx="1979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27"/>
          <p:cNvSpPr/>
          <p:nvPr/>
        </p:nvSpPr>
        <p:spPr>
          <a:xfrm>
            <a:off x="7308720" y="2565360"/>
            <a:ext cx="1511280" cy="6476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28"/>
          <p:cNvSpPr/>
          <p:nvPr/>
        </p:nvSpPr>
        <p:spPr>
          <a:xfrm>
            <a:off x="468360" y="2349360"/>
            <a:ext cx="1079280" cy="10796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Равнобедренный треугольник 33"/>
          <p:cNvSpPr/>
          <p:nvPr/>
        </p:nvSpPr>
        <p:spPr>
          <a:xfrm>
            <a:off x="900000" y="4797360"/>
            <a:ext cx="935280" cy="1152720"/>
          </a:xfrm>
          <a:prstGeom prst="triangle">
            <a:avLst>
              <a:gd name="adj" fmla="val 5000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4"/>
          <p:cNvSpPr/>
          <p:nvPr/>
        </p:nvSpPr>
        <p:spPr>
          <a:xfrm>
            <a:off x="3924360" y="4437000"/>
            <a:ext cx="1008000" cy="12956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авильный пятиугольник 36"/>
          <p:cNvSpPr/>
          <p:nvPr/>
        </p:nvSpPr>
        <p:spPr>
          <a:xfrm>
            <a:off x="7524720" y="4724280"/>
            <a:ext cx="1150920" cy="1152720"/>
          </a:xfrm>
          <a:prstGeom prst="pentagon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Пользователь\Desktop\циркуль.png"/>
          <p:cNvPicPr/>
          <p:nvPr/>
        </p:nvPicPr>
        <p:blipFill>
          <a:blip r:embed="rId1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3348000" y="189000"/>
            <a:ext cx="338472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Объемные т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187280" y="1484280"/>
            <a:ext cx="23767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а в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651640" y="1484280"/>
            <a:ext cx="25923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гра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5364000" y="2637000"/>
            <a:ext cx="1656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5"/>
          <p:cNvCxnSpPr/>
          <p:nvPr/>
        </p:nvCxnSpPr>
        <p:spPr>
          <a:xfrm flipH="1">
            <a:off x="2626560" y="836280"/>
            <a:ext cx="104364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0" name="Прямая со стрелкой 6"/>
          <p:cNvCxnSpPr/>
          <p:nvPr/>
        </p:nvCxnSpPr>
        <p:spPr>
          <a:xfrm>
            <a:off x="6589440" y="836280"/>
            <a:ext cx="93564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1" name="Прямая со стрелкой 7"/>
          <p:cNvCxnSpPr/>
          <p:nvPr/>
        </p:nvCxnSpPr>
        <p:spPr>
          <a:xfrm>
            <a:off x="7955640" y="1988640"/>
            <a:ext cx="556200" cy="60732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2" name="Прямая со стрелкой 9"/>
          <p:cNvCxnSpPr/>
          <p:nvPr/>
        </p:nvCxnSpPr>
        <p:spPr>
          <a:xfrm flipH="1">
            <a:off x="5795640" y="1989000"/>
            <a:ext cx="44208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113" name="TextBox 11"/>
          <p:cNvSpPr/>
          <p:nvPr/>
        </p:nvSpPr>
        <p:spPr>
          <a:xfrm>
            <a:off x="7236000" y="2637000"/>
            <a:ext cx="1657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2050920" y="3398760"/>
            <a:ext cx="11527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250920" y="3398760"/>
            <a:ext cx="14414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3635280" y="3398760"/>
            <a:ext cx="1008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15"/>
          <p:cNvCxnSpPr/>
          <p:nvPr/>
        </p:nvCxnSpPr>
        <p:spPr>
          <a:xfrm flipH="1">
            <a:off x="610560" y="1989000"/>
            <a:ext cx="1089720" cy="1440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8" name="Прямая со стрелкой 16"/>
          <p:cNvCxnSpPr>
            <a:endCxn id="116" idx="0"/>
          </p:cNvCxnSpPr>
          <p:nvPr/>
        </p:nvCxnSpPr>
        <p:spPr>
          <a:xfrm>
            <a:off x="3346920" y="1989000"/>
            <a:ext cx="793080" cy="141048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9" name="Прямая со стрелкой 17"/>
          <p:cNvCxnSpPr>
            <a:stCxn id="106" idx="2"/>
            <a:endCxn id="114" idx="0"/>
          </p:cNvCxnSpPr>
          <p:nvPr/>
        </p:nvCxnSpPr>
        <p:spPr>
          <a:xfrm>
            <a:off x="2375280" y="1945800"/>
            <a:ext cx="251640" cy="145332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120" name="Цилиндр 29"/>
          <p:cNvSpPr/>
          <p:nvPr/>
        </p:nvSpPr>
        <p:spPr>
          <a:xfrm>
            <a:off x="468360" y="4292640"/>
            <a:ext cx="1008000" cy="1584360"/>
          </a:xfrm>
          <a:prstGeom prst="can">
            <a:avLst>
              <a:gd name="adj" fmla="val 1590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Овал 31"/>
          <p:cNvGrpSpPr/>
          <p:nvPr/>
        </p:nvGrpSpPr>
        <p:grpSpPr>
          <a:xfrm>
            <a:off x="3432240" y="4687920"/>
            <a:ext cx="1195200" cy="1189080"/>
            <a:chOff x="3432240" y="4687920"/>
            <a:chExt cx="1195200" cy="1189080"/>
          </a:xfrm>
        </p:grpSpPr>
        <p:pic>
          <p:nvPicPr>
            <p:cNvPr id="122" name="Овал 31" descr=""/>
            <p:cNvPicPr/>
            <p:nvPr/>
          </p:nvPicPr>
          <p:blipFill>
            <a:blip r:embed="rId1"/>
            <a:stretch/>
          </p:blipFill>
          <p:spPr>
            <a:xfrm>
              <a:off x="3432240" y="4687920"/>
              <a:ext cx="11952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649680" y="4883040"/>
              <a:ext cx="763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Группа 33"/>
          <p:cNvGrpSpPr/>
          <p:nvPr/>
        </p:nvGrpSpPr>
        <p:grpSpPr>
          <a:xfrm>
            <a:off x="2124000" y="4292640"/>
            <a:ext cx="863640" cy="1873080"/>
            <a:chOff x="2124000" y="4292640"/>
            <a:chExt cx="863640" cy="1873080"/>
          </a:xfrm>
        </p:grpSpPr>
        <p:sp>
          <p:nvSpPr>
            <p:cNvPr id="125" name="Равнобедренный треугольник 30"/>
            <p:cNvSpPr/>
            <p:nvPr/>
          </p:nvSpPr>
          <p:spPr>
            <a:xfrm>
              <a:off x="2124000" y="4292640"/>
              <a:ext cx="863640" cy="1728720"/>
            </a:xfrm>
            <a:prstGeom prst="triangle">
              <a:avLst>
                <a:gd name="adj" fmla="val 50000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Овал 32"/>
            <p:cNvSpPr/>
            <p:nvPr/>
          </p:nvSpPr>
          <p:spPr>
            <a:xfrm>
              <a:off x="2124000" y="5877000"/>
              <a:ext cx="863640" cy="288720"/>
            </a:xfrm>
            <a:prstGeom prst="ellipse">
              <a:avLst/>
            </a:prstGeom>
            <a:solidFill>
              <a:srgbClr val="baabcd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Куб 34"/>
          <p:cNvSpPr/>
          <p:nvPr/>
        </p:nvSpPr>
        <p:spPr>
          <a:xfrm>
            <a:off x="5651640" y="4221000"/>
            <a:ext cx="1008000" cy="1800360"/>
          </a:xfrm>
          <a:prstGeom prst="cube">
            <a:avLst>
              <a:gd name="adj" fmla="val 2500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37"/>
          <p:cNvGrpSpPr/>
          <p:nvPr/>
        </p:nvGrpSpPr>
        <p:grpSpPr>
          <a:xfrm>
            <a:off x="7667280" y="4154400"/>
            <a:ext cx="830880" cy="1584000"/>
            <a:chOff x="7667280" y="4154400"/>
            <a:chExt cx="830880" cy="1584000"/>
          </a:xfrm>
        </p:grpSpPr>
        <p:grpSp>
          <p:nvGrpSpPr>
            <p:cNvPr id="129" name="Равнобедренный треугольник 35"/>
            <p:cNvGrpSpPr/>
            <p:nvPr/>
          </p:nvGrpSpPr>
          <p:grpSpPr>
            <a:xfrm>
              <a:off x="7667280" y="4154400"/>
              <a:ext cx="622800" cy="1584000"/>
              <a:chOff x="7667280" y="4154400"/>
              <a:chExt cx="622800" cy="1584000"/>
            </a:xfrm>
          </p:grpSpPr>
          <p:pic>
            <p:nvPicPr>
              <p:cNvPr id="130" name="Равнобедренный треугольник 35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7667280" y="4154040"/>
                <a:ext cx="622440" cy="158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 rot="387600">
                <a:off x="7874280" y="4904280"/>
                <a:ext cx="27540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Равнобедренный треугольник 36"/>
            <p:cNvGrpSpPr/>
            <p:nvPr/>
          </p:nvGrpSpPr>
          <p:grpSpPr>
            <a:xfrm>
              <a:off x="8057520" y="4172040"/>
              <a:ext cx="440640" cy="1550520"/>
              <a:chOff x="8057520" y="4172040"/>
              <a:chExt cx="440640" cy="1550520"/>
            </a:xfrm>
          </p:grpSpPr>
          <p:pic>
            <p:nvPicPr>
              <p:cNvPr id="133" name="Равнобедренный треугольник 36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8057520" y="4171680"/>
                <a:ext cx="440280" cy="155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 rot="20829600">
                <a:off x="8217720" y="4899600"/>
                <a:ext cx="12492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5" name="Picture 2" descr="C:\Users\Пользователь\Desktop\циркуль.png"/>
          <p:cNvPicPr/>
          <p:nvPr/>
        </p:nvPicPr>
        <p:blipFill>
          <a:blip r:embed="rId4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9:03:41Z</dcterms:created>
  <dc:creator>Солдатова</dc:creator>
  <dc:description/>
  <dc:language>en-US</dc:language>
  <cp:lastModifiedBy>Солдатова</cp:lastModifiedBy>
  <dcterms:modified xsi:type="dcterms:W3CDTF">2011-01-08T15:17:17Z</dcterms:modified>
  <cp:revision>23</cp:revision>
  <dc:subject/>
  <dc:title>Классификация геометрических объектов</dc:title>
</cp:coreProperties>
</file>