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DC5-864B-4B7D-88FB-1AC6403B7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0AC7-5B31-4229-A101-DF04E6E4C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449-C41E-4648-A074-4E769195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7D7-598E-4789-A23B-BE8F8AB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D87-06DC-421E-BEA3-9689633A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16E-9CE2-4900-8B16-F2299CA9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763-51CD-4A3C-AE03-3A95EA49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E3F-9F7C-4200-99DA-910372B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1BC-5BCB-4AB0-9700-93EFB3BC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A1-CA29-4A10-ACAF-3A518E09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899-8367-4071-996C-0CB421A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693-FCA0-4D6A-BE76-18A61A5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384-CAF3-4332-A9F4-673DAD7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690-ECA6-44C0-89A2-44E1863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2f2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C8D-7CCB-4B5F-9E19-C4B0B8DA5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36800" y="-171360"/>
            <a:ext cx="7211880" cy="3421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куб1.gif"/>
          <p:cNvPicPr/>
          <p:nvPr/>
        </p:nvPicPr>
        <p:blipFill>
          <a:blip r:embed="rId2"/>
          <a:stretch/>
        </p:blipFill>
        <p:spPr>
          <a:xfrm>
            <a:off x="0" y="4508640"/>
            <a:ext cx="9144000" cy="158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F:\гифы\merkaba.gif"/>
          <p:cNvPicPr/>
          <p:nvPr/>
        </p:nvPicPr>
        <p:blipFill>
          <a:blip r:embed="rId3"/>
          <a:stretch/>
        </p:blipFill>
        <p:spPr>
          <a:xfrm>
            <a:off x="468360" y="2492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54" name="Рисунок 9" descr="1.gif"/>
          <p:cNvPicPr/>
          <p:nvPr/>
        </p:nvPicPr>
        <p:blipFill>
          <a:blip r:embed="rId1"/>
          <a:stretch/>
        </p:blipFill>
        <p:spPr>
          <a:xfrm>
            <a:off x="0" y="3789360"/>
            <a:ext cx="252720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Пользователь\Desktop\циркуль.png"/>
          <p:cNvPicPr/>
          <p:nvPr/>
        </p:nvPicPr>
        <p:blipFill>
          <a:blip r:embed="rId2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0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61" name="Рисунок 10" descr="2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24000" cy="23608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65600"/>
            <a:ext cx="2543040" cy="25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esktop\циркуль.png"/>
          <p:cNvPicPr/>
          <p:nvPr/>
        </p:nvPicPr>
        <p:blipFill>
          <a:blip r:embed="rId3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3" descr="Рисунок1.gif"/>
          <p:cNvPicPr/>
          <p:nvPr/>
        </p:nvPicPr>
        <p:blipFill>
          <a:blip r:embed="rId1"/>
          <a:stretch/>
        </p:blipFill>
        <p:spPr>
          <a:xfrm>
            <a:off x="2700360" y="3933720"/>
            <a:ext cx="3048120" cy="2381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0" y="378936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755640" y="333360"/>
            <a:ext cx="777240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лассификация геометрических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объект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194480" y="2637000"/>
            <a:ext cx="10234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2771640" y="263700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лоские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6443640" y="2637000"/>
            <a:ext cx="2425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ные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6"/>
          <p:cNvCxnSpPr/>
          <p:nvPr/>
        </p:nvCxnSpPr>
        <p:spPr>
          <a:xfrm flipH="1">
            <a:off x="1762920" y="1989000"/>
            <a:ext cx="104220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1" name="Прямая со стрелкой 7"/>
          <p:cNvCxnSpPr/>
          <p:nvPr/>
        </p:nvCxnSpPr>
        <p:spPr>
          <a:xfrm flipH="1">
            <a:off x="4610880" y="198900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Прямая со стрелкой 8"/>
          <p:cNvCxnSpPr/>
          <p:nvPr/>
        </p:nvCxnSpPr>
        <p:spPr>
          <a:xfrm>
            <a:off x="7111080" y="2028600"/>
            <a:ext cx="556200" cy="6087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pic>
        <p:nvPicPr>
          <p:cNvPr id="73" name="Рисунок 11" descr="3.gif"/>
          <p:cNvPicPr/>
          <p:nvPr/>
        </p:nvPicPr>
        <p:blipFill>
          <a:blip r:embed="rId3"/>
          <a:stretch/>
        </p:blipFill>
        <p:spPr>
          <a:xfrm>
            <a:off x="6156360" y="3573360"/>
            <a:ext cx="2670120" cy="26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Ли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193400" y="1557360"/>
            <a:ext cx="11088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771640" y="1557360"/>
            <a:ext cx="2880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ма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300720" y="1557360"/>
            <a:ext cx="24242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5"/>
          <p:cNvCxnSpPr/>
          <p:nvPr/>
        </p:nvCxnSpPr>
        <p:spPr>
          <a:xfrm flipH="1">
            <a:off x="1762920" y="836640"/>
            <a:ext cx="158508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0" name="Прямая со стрелкой 6"/>
          <p:cNvCxnSpPr/>
          <p:nvPr/>
        </p:nvCxnSpPr>
        <p:spPr>
          <a:xfrm flipH="1">
            <a:off x="4611240" y="836640"/>
            <a:ext cx="32400" cy="72144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1" name="Прямая со стрелкой 7"/>
          <p:cNvCxnSpPr/>
          <p:nvPr/>
        </p:nvCxnSpPr>
        <p:spPr>
          <a:xfrm>
            <a:off x="6732720" y="836640"/>
            <a:ext cx="1008720" cy="7200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2" name="Полилиния 12"/>
          <p:cNvSpPr/>
          <p:nvPr/>
        </p:nvSpPr>
        <p:spPr>
          <a:xfrm>
            <a:off x="485640" y="2921040"/>
            <a:ext cx="1632240" cy="1650960"/>
          </a:xfrm>
          <a:custGeom>
            <a:avLst/>
            <a:gdLst/>
            <a:ahLst/>
            <a:rect l="l" t="t" r="r" b="b"/>
            <a:pathLst>
              <a:path w="1631853" h="1650609">
                <a:moveTo>
                  <a:pt x="35170" y="1214511"/>
                </a:moveTo>
                <a:cubicBezTo>
                  <a:pt x="17585" y="951914"/>
                  <a:pt x="0" y="689317"/>
                  <a:pt x="147711" y="497058"/>
                </a:cubicBezTo>
                <a:cubicBezTo>
                  <a:pt x="295422" y="304799"/>
                  <a:pt x="715108" y="0"/>
                  <a:pt x="921434" y="60960"/>
                </a:cubicBezTo>
                <a:cubicBezTo>
                  <a:pt x="1127760" y="121920"/>
                  <a:pt x="1268437" y="618978"/>
                  <a:pt x="1385668" y="862818"/>
                </a:cubicBezTo>
                <a:cubicBezTo>
                  <a:pt x="1502899" y="1106658"/>
                  <a:pt x="1631853" y="1397391"/>
                  <a:pt x="1624819" y="1524000"/>
                </a:cubicBezTo>
                <a:cubicBezTo>
                  <a:pt x="1617785" y="1650609"/>
                  <a:pt x="1343465" y="1622474"/>
                  <a:pt x="1343465" y="1622474"/>
                </a:cubicBezTo>
                <a:lnTo>
                  <a:pt x="1343465" y="1622474"/>
                </a:lnTo>
              </a:path>
            </a:pathLst>
          </a:custGeom>
          <a:noFill/>
          <a:ln w="5724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3"/>
          <p:cNvSpPr/>
          <p:nvPr/>
        </p:nvSpPr>
        <p:spPr>
          <a:xfrm rot="19476600">
            <a:off x="3676680" y="2614320"/>
            <a:ext cx="1324080" cy="2054160"/>
          </a:xfrm>
          <a:custGeom>
            <a:avLst/>
            <a:gdLst/>
            <a:ahLst/>
            <a:rect l="l" t="t" r="r" b="b"/>
            <a:pathLst>
              <a:path w="759656" h="1730326">
                <a:moveTo>
                  <a:pt x="112542" y="1730326"/>
                </a:moveTo>
                <a:lnTo>
                  <a:pt x="112542" y="1730326"/>
                </a:lnTo>
                <a:lnTo>
                  <a:pt x="154745" y="1547446"/>
                </a:lnTo>
                <a:lnTo>
                  <a:pt x="759656" y="1477107"/>
                </a:lnTo>
                <a:lnTo>
                  <a:pt x="703385" y="844061"/>
                </a:lnTo>
                <a:lnTo>
                  <a:pt x="0" y="717452"/>
                </a:lnTo>
                <a:lnTo>
                  <a:pt x="450167" y="28135"/>
                </a:lnTo>
                <a:lnTo>
                  <a:pt x="464234" y="0"/>
                </a:ln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 flipV="1">
            <a:off x="6300720" y="3429000"/>
            <a:ext cx="2232000" cy="1008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3348000" y="189000"/>
            <a:ext cx="352764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Плоские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826920" y="1484280"/>
            <a:ext cx="10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203640" y="1484280"/>
            <a:ext cx="288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020000" y="1557360"/>
            <a:ext cx="12729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5"/>
          <p:cNvCxnSpPr/>
          <p:nvPr/>
        </p:nvCxnSpPr>
        <p:spPr>
          <a:xfrm flipH="1">
            <a:off x="1762920" y="835560"/>
            <a:ext cx="1585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1" name="Прямая со стрелкой 6"/>
          <p:cNvCxnSpPr/>
          <p:nvPr/>
        </p:nvCxnSpPr>
        <p:spPr>
          <a:xfrm flipH="1">
            <a:off x="4610880" y="836280"/>
            <a:ext cx="252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2" name="Прямая со стрелкой 7"/>
          <p:cNvCxnSpPr/>
          <p:nvPr/>
        </p:nvCxnSpPr>
        <p:spPr>
          <a:xfrm>
            <a:off x="673236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3" name="Прямая со стрелкой 10"/>
          <p:cNvCxnSpPr/>
          <p:nvPr/>
        </p:nvCxnSpPr>
        <p:spPr>
          <a:xfrm flipH="1">
            <a:off x="1692000" y="1989000"/>
            <a:ext cx="1800720" cy="16567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4" name="Прямая со стрелкой 12"/>
          <p:cNvCxnSpPr/>
          <p:nvPr/>
        </p:nvCxnSpPr>
        <p:spPr>
          <a:xfrm flipH="1">
            <a:off x="4427280" y="1988640"/>
            <a:ext cx="2160" cy="108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95" name="Прямая со стрелкой 15"/>
          <p:cNvCxnSpPr/>
          <p:nvPr/>
        </p:nvCxnSpPr>
        <p:spPr>
          <a:xfrm>
            <a:off x="5724360" y="1915920"/>
            <a:ext cx="1656720" cy="187380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96" name="TextBox 23"/>
          <p:cNvSpPr/>
          <p:nvPr/>
        </p:nvSpPr>
        <p:spPr>
          <a:xfrm>
            <a:off x="3276720" y="3068640"/>
            <a:ext cx="2519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920" y="3645000"/>
            <a:ext cx="2124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7020000" y="3789360"/>
            <a:ext cx="1979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о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27"/>
          <p:cNvSpPr/>
          <p:nvPr/>
        </p:nvSpPr>
        <p:spPr>
          <a:xfrm>
            <a:off x="7308720" y="2565360"/>
            <a:ext cx="1511280" cy="647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28"/>
          <p:cNvSpPr/>
          <p:nvPr/>
        </p:nvSpPr>
        <p:spPr>
          <a:xfrm>
            <a:off x="468360" y="2349360"/>
            <a:ext cx="1079280" cy="1079640"/>
          </a:xfrm>
          <a:prstGeom prst="ellipse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Равнобедренный треугольник 33"/>
          <p:cNvSpPr/>
          <p:nvPr/>
        </p:nvSpPr>
        <p:spPr>
          <a:xfrm>
            <a:off x="900000" y="4797360"/>
            <a:ext cx="935280" cy="1152720"/>
          </a:xfrm>
          <a:prstGeom prst="triangle">
            <a:avLst>
              <a:gd name="adj" fmla="val 50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4"/>
          <p:cNvSpPr/>
          <p:nvPr/>
        </p:nvSpPr>
        <p:spPr>
          <a:xfrm>
            <a:off x="3924360" y="4437000"/>
            <a:ext cx="1008000" cy="12956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авильный пятиугольник 36"/>
          <p:cNvSpPr/>
          <p:nvPr/>
        </p:nvSpPr>
        <p:spPr>
          <a:xfrm>
            <a:off x="7524720" y="4724280"/>
            <a:ext cx="1150920" cy="1152720"/>
          </a:xfrm>
          <a:prstGeom prst="pentagon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Пользователь\Desktop\циркуль.png"/>
          <p:cNvPicPr/>
          <p:nvPr/>
        </p:nvPicPr>
        <p:blipFill>
          <a:blip r:embed="rId1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1"/>
          <p:cNvSpPr/>
          <p:nvPr/>
        </p:nvSpPr>
        <p:spPr>
          <a:xfrm>
            <a:off x="3348000" y="189000"/>
            <a:ext cx="3384720" cy="647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Объемные т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187280" y="1484280"/>
            <a:ext cx="2376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а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651640" y="1484280"/>
            <a:ext cx="25923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5364000" y="2637000"/>
            <a:ext cx="1656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5"/>
          <p:cNvCxnSpPr/>
          <p:nvPr/>
        </p:nvCxnSpPr>
        <p:spPr>
          <a:xfrm flipH="1">
            <a:off x="2626560" y="836280"/>
            <a:ext cx="1043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>
            <a:off x="6589440" y="836280"/>
            <a:ext cx="93564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1" name="Прямая со стрелкой 7"/>
          <p:cNvCxnSpPr/>
          <p:nvPr/>
        </p:nvCxnSpPr>
        <p:spPr>
          <a:xfrm>
            <a:off x="7955640" y="1988640"/>
            <a:ext cx="556200" cy="607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2" name="Прямая со стрелкой 9"/>
          <p:cNvCxnSpPr/>
          <p:nvPr/>
        </p:nvCxnSpPr>
        <p:spPr>
          <a:xfrm flipH="1">
            <a:off x="5795640" y="1989000"/>
            <a:ext cx="442080" cy="648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13" name="TextBox 11"/>
          <p:cNvSpPr/>
          <p:nvPr/>
        </p:nvSpPr>
        <p:spPr>
          <a:xfrm>
            <a:off x="7236000" y="2637000"/>
            <a:ext cx="1657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2050920" y="3398760"/>
            <a:ext cx="11527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250920" y="3398760"/>
            <a:ext cx="14414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3635280" y="3398760"/>
            <a:ext cx="1008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15"/>
          <p:cNvCxnSpPr/>
          <p:nvPr/>
        </p:nvCxnSpPr>
        <p:spPr>
          <a:xfrm flipH="1">
            <a:off x="610560" y="1989000"/>
            <a:ext cx="1089720" cy="144036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8" name="Прямая со стрелкой 16"/>
          <p:cNvCxnSpPr>
            <a:endCxn id="116" idx="0"/>
          </p:cNvCxnSpPr>
          <p:nvPr/>
        </p:nvCxnSpPr>
        <p:spPr>
          <a:xfrm>
            <a:off x="3346920" y="1989000"/>
            <a:ext cx="793080" cy="141048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19" name="Прямая со стрелкой 17"/>
          <p:cNvCxnSpPr>
            <a:stCxn id="106" idx="2"/>
            <a:endCxn id="114" idx="0"/>
          </p:cNvCxnSpPr>
          <p:nvPr/>
        </p:nvCxnSpPr>
        <p:spPr>
          <a:xfrm>
            <a:off x="2375280" y="1945800"/>
            <a:ext cx="251640" cy="1453320"/>
          </a:xfrm>
          <a:prstGeom prst="straightConnector1">
            <a:avLst/>
          </a:prstGeom>
          <a:ln w="381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20" name="Цилиндр 29"/>
          <p:cNvSpPr/>
          <p:nvPr/>
        </p:nvSpPr>
        <p:spPr>
          <a:xfrm>
            <a:off x="468360" y="4292640"/>
            <a:ext cx="1008000" cy="1584360"/>
          </a:xfrm>
          <a:prstGeom prst="can">
            <a:avLst>
              <a:gd name="adj" fmla="val 15907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Овал 31"/>
          <p:cNvGrpSpPr/>
          <p:nvPr/>
        </p:nvGrpSpPr>
        <p:grpSpPr>
          <a:xfrm>
            <a:off x="3432240" y="4687920"/>
            <a:ext cx="1195200" cy="1189080"/>
            <a:chOff x="3432240" y="4687920"/>
            <a:chExt cx="1195200" cy="1189080"/>
          </a:xfrm>
        </p:grpSpPr>
        <p:pic>
          <p:nvPicPr>
            <p:cNvPr id="122" name="Овал 31" descr=""/>
            <p:cNvPicPr/>
            <p:nvPr/>
          </p:nvPicPr>
          <p:blipFill>
            <a:blip r:embed="rId1"/>
            <a:stretch/>
          </p:blipFill>
          <p:spPr>
            <a:xfrm>
              <a:off x="3432240" y="4687920"/>
              <a:ext cx="11952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649680" y="488304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3"/>
          <p:cNvGrpSpPr/>
          <p:nvPr/>
        </p:nvGrpSpPr>
        <p:grpSpPr>
          <a:xfrm>
            <a:off x="2124000" y="4292640"/>
            <a:ext cx="863640" cy="1873080"/>
            <a:chOff x="2124000" y="4292640"/>
            <a:chExt cx="863640" cy="1873080"/>
          </a:xfrm>
        </p:grpSpPr>
        <p:sp>
          <p:nvSpPr>
            <p:cNvPr id="125" name="Равнобедренный треугольник 30"/>
            <p:cNvSpPr/>
            <p:nvPr/>
          </p:nvSpPr>
          <p:spPr>
            <a:xfrm>
              <a:off x="2124000" y="4292640"/>
              <a:ext cx="863640" cy="1728720"/>
            </a:xfrm>
            <a:prstGeom prst="triangle">
              <a:avLst>
                <a:gd name="adj" fmla="val 50000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32"/>
            <p:cNvSpPr/>
            <p:nvPr/>
          </p:nvSpPr>
          <p:spPr>
            <a:xfrm>
              <a:off x="2124000" y="5877000"/>
              <a:ext cx="863640" cy="288720"/>
            </a:xfrm>
            <a:prstGeom prst="ellipse">
              <a:avLst/>
            </a:prstGeom>
            <a:solidFill>
              <a:srgbClr val="baabcd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Куб 34"/>
          <p:cNvSpPr/>
          <p:nvPr/>
        </p:nvSpPr>
        <p:spPr>
          <a:xfrm>
            <a:off x="5651640" y="4221000"/>
            <a:ext cx="1008000" cy="1800360"/>
          </a:xfrm>
          <a:prstGeom prst="cube">
            <a:avLst>
              <a:gd name="adj" fmla="val 2500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37"/>
          <p:cNvGrpSpPr/>
          <p:nvPr/>
        </p:nvGrpSpPr>
        <p:grpSpPr>
          <a:xfrm>
            <a:off x="7667280" y="4154400"/>
            <a:ext cx="830880" cy="1584000"/>
            <a:chOff x="7667280" y="4154400"/>
            <a:chExt cx="830880" cy="1584000"/>
          </a:xfrm>
        </p:grpSpPr>
        <p:grpSp>
          <p:nvGrpSpPr>
            <p:cNvPr id="129" name="Равнобедренный треугольник 35"/>
            <p:cNvGrpSpPr/>
            <p:nvPr/>
          </p:nvGrpSpPr>
          <p:grpSpPr>
            <a:xfrm>
              <a:off x="7667280" y="4154400"/>
              <a:ext cx="622800" cy="1584000"/>
              <a:chOff x="7667280" y="4154400"/>
              <a:chExt cx="622800" cy="1584000"/>
            </a:xfrm>
          </p:grpSpPr>
          <p:pic>
            <p:nvPicPr>
              <p:cNvPr id="130" name="Равнобедренный треугольник 35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7667280" y="4154040"/>
                <a:ext cx="622440" cy="158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387600">
                <a:off x="7874280" y="4904280"/>
                <a:ext cx="2754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Равнобедренный треугольник 36"/>
            <p:cNvGrpSpPr/>
            <p:nvPr/>
          </p:nvGrpSpPr>
          <p:grpSpPr>
            <a:xfrm>
              <a:off x="8057520" y="4172040"/>
              <a:ext cx="440640" cy="1550520"/>
              <a:chOff x="8057520" y="4172040"/>
              <a:chExt cx="440640" cy="1550520"/>
            </a:xfrm>
          </p:grpSpPr>
          <p:pic>
            <p:nvPicPr>
              <p:cNvPr id="133" name="Равнобедренный треугольник 36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8057520" y="4171680"/>
                <a:ext cx="4402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 rot="20829600">
                <a:off x="8217720" y="4899600"/>
                <a:ext cx="124920" cy="72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5" name="Picture 2" descr="C:\Users\Пользователь\Desktop\циркуль.png"/>
          <p:cNvPicPr/>
          <p:nvPr/>
        </p:nvPicPr>
        <p:blipFill>
          <a:blip r:embed="rId4"/>
          <a:stretch/>
        </p:blipFill>
        <p:spPr>
          <a:xfrm>
            <a:off x="7812000" y="1125360"/>
            <a:ext cx="1106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9:03:41Z</dcterms:created>
  <dc:creator>Солдатова</dc:creator>
  <dc:description/>
  <dc:language>en-US</dc:language>
  <cp:lastModifiedBy>Солдатова</cp:lastModifiedBy>
  <dcterms:modified xsi:type="dcterms:W3CDTF">2011-01-08T15:17:17Z</dcterms:modified>
  <cp:revision>23</cp:revision>
  <dc:subject/>
  <dc:title>Классификация геометрических объектов</dc:title>
</cp:coreProperties>
</file>