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4E9F-EE73-4A11-BEFE-2C771367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B0A-5732-45B1-8420-FA014C56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387-1942-46D0-8D8B-20E5D64F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94A-F291-4B0D-A76A-CE19BFCF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E959-9B51-4C40-87A4-24A113C5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878-74A7-4EFC-AF9D-B9DE7F38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928-16B6-4312-8035-99BBC4EA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8E12-1A94-4333-A77D-A2862EB5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865-ACB0-4952-BE09-571AA795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8FF-2F78-43FE-A934-F9B0EB33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014-B37B-4465-806B-9325A991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584E-A679-48B5-BC10-AA8F21DA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a7ffc4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19E9-5554-4806-8B36-330FAFE6E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08120" y="762120"/>
            <a:ext cx="7369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К О Г Д А    В Ы   Б У Д Е Т Е 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  С  П  А  С  С  К  О М…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514600" y="4343400"/>
            <a:ext cx="6477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… 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Люблю  ли  я  родин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Что  же  другое  можно любить  на  зем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Что  одно  неизменно,  что выше  всех  сомнений,  чему нельзя  не  верить?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портрет виардо"/>
          <p:cNvPicPr/>
          <p:nvPr/>
        </p:nvPicPr>
        <p:blipFill>
          <a:blip r:embed="rId6"/>
          <a:stretch/>
        </p:blipFill>
        <p:spPr>
          <a:xfrm>
            <a:off x="660240" y="4308480"/>
            <a:ext cx="1424160" cy="18543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въезд"/>
          <p:cNvPicPr/>
          <p:nvPr/>
        </p:nvPicPr>
        <p:blipFill>
          <a:blip r:embed="rId1"/>
          <a:stretch/>
        </p:blipFill>
        <p:spPr>
          <a:xfrm>
            <a:off x="838080" y="671400"/>
            <a:ext cx="3810240" cy="317988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pic>
        <p:nvPicPr>
          <p:cNvPr id="94" name="Picture 5" descr="дуб"/>
          <p:cNvPicPr/>
          <p:nvPr/>
        </p:nvPicPr>
        <p:blipFill>
          <a:blip r:embed="rId2"/>
          <a:stretch/>
        </p:blipFill>
        <p:spPr>
          <a:xfrm>
            <a:off x="5257800" y="674640"/>
            <a:ext cx="3429000" cy="314964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95" name="Text Box 6"/>
          <p:cNvSpPr/>
          <p:nvPr/>
        </p:nvSpPr>
        <p:spPr>
          <a:xfrm>
            <a:off x="762120" y="40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ВЪЕЗД  В  УСАДЬ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57800" y="39625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ЛЮБИМЫЙ  ДУБ  ТУРГЕН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33520" y="457200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исьме Я.П.Полонскому из Буживаля 30 мая 1882 года Тургенев пис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«Когда вы будете в Спасском, поклонитесь от меня  дому, саду, моему молодому дубу, родине поклонитесь, которую я уже вероятно никогда не увиж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380880" y="4724280"/>
            <a:ext cx="845820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Памятник Тургеневу И.С.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819520" y="457200"/>
            <a:ext cx="3862440" cy="571500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7"/>
          <p:cNvGrpSpPr/>
          <p:nvPr/>
        </p:nvGrpSpPr>
        <p:grpSpPr>
          <a:xfrm>
            <a:off x="0" y="-61920"/>
            <a:ext cx="9144000" cy="6921360"/>
            <a:chOff x="0" y="-61920"/>
            <a:chExt cx="9144000" cy="6921360"/>
          </a:xfrm>
        </p:grpSpPr>
        <p:pic>
          <p:nvPicPr>
            <p:cNvPr id="45" name="Picture 2" descr="спас 3"/>
            <p:cNvPicPr/>
            <p:nvPr/>
          </p:nvPicPr>
          <p:blipFill>
            <a:blip r:embed="rId1"/>
            <a:stretch/>
          </p:blipFill>
          <p:spPr>
            <a:xfrm>
              <a:off x="0" y="-61920"/>
              <a:ext cx="3090960" cy="412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3" descr="спас 4"/>
            <p:cNvPicPr/>
            <p:nvPr/>
          </p:nvPicPr>
          <p:blipFill>
            <a:blip r:embed="rId2"/>
            <a:stretch/>
          </p:blipFill>
          <p:spPr>
            <a:xfrm>
              <a:off x="2971800" y="-61920"/>
              <a:ext cx="3600360" cy="15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спас 5"/>
            <p:cNvPicPr/>
            <p:nvPr/>
          </p:nvPicPr>
          <p:blipFill>
            <a:blip r:embed="rId3"/>
            <a:stretch/>
          </p:blipFill>
          <p:spPr>
            <a:xfrm>
              <a:off x="3048120" y="1461960"/>
              <a:ext cx="309060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5" descr="спас 6"/>
            <p:cNvPicPr/>
            <p:nvPr/>
          </p:nvPicPr>
          <p:blipFill>
            <a:blip r:embed="rId4"/>
            <a:stretch/>
          </p:blipFill>
          <p:spPr>
            <a:xfrm>
              <a:off x="0" y="4014720"/>
              <a:ext cx="478800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спас 7"/>
            <p:cNvPicPr/>
            <p:nvPr/>
          </p:nvPicPr>
          <p:blipFill>
            <a:blip r:embed="rId5"/>
            <a:stretch/>
          </p:blipFill>
          <p:spPr>
            <a:xfrm>
              <a:off x="4788000" y="4014720"/>
              <a:ext cx="435600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7" descr="спас 8"/>
            <p:cNvPicPr/>
            <p:nvPr/>
          </p:nvPicPr>
          <p:blipFill>
            <a:blip r:embed="rId6"/>
            <a:stretch/>
          </p:blipFill>
          <p:spPr>
            <a:xfrm>
              <a:off x="6156360" y="-61920"/>
              <a:ext cx="2987640" cy="40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9"/>
            <p:cNvSpPr/>
            <p:nvPr/>
          </p:nvSpPr>
          <p:spPr>
            <a:xfrm>
              <a:off x="3048120" y="1309680"/>
              <a:ext cx="215892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Пруд Савин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0"/>
            <p:cNvSpPr/>
            <p:nvPr/>
          </p:nvSpPr>
          <p:spPr>
            <a:xfrm>
              <a:off x="6172200" y="3595680"/>
              <a:ext cx="18003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Бежин лу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0" y="3672000"/>
              <a:ext cx="21956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Аллея в пар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2"/>
            <p:cNvSpPr/>
            <p:nvPr/>
          </p:nvSpPr>
          <p:spPr>
            <a:xfrm>
              <a:off x="3048120" y="3595680"/>
              <a:ext cx="295272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Александровский тра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3"/>
            <p:cNvSpPr/>
            <p:nvPr/>
          </p:nvSpPr>
          <p:spPr>
            <a:xfrm>
              <a:off x="4876920" y="6429240"/>
              <a:ext cx="28191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Главный дом усадьб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5"/>
            <p:cNvSpPr/>
            <p:nvPr/>
          </p:nvSpPr>
          <p:spPr>
            <a:xfrm>
              <a:off x="2133720" y="6491160"/>
              <a:ext cx="25905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Флигель изгнан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ом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35193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58" name="Text Box 5"/>
          <p:cNvSpPr/>
          <p:nvPr/>
        </p:nvSpPr>
        <p:spPr>
          <a:xfrm>
            <a:off x="228600" y="3962520"/>
            <a:ext cx="8991720" cy="36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 незапамятных времен стояла в середине сельского кладбища деревянная церковь Спаса Преображения, по ней и село стали звать Спасс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конце ХУ1 в. Иван Грозный пожаловал сельцо Ивану Лутовино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 протяжении многих поколений Спасское -  центральная усадьба многочисленных лутовиновских поместий. Центр усадьбы  - двухэтажный деревянный дом, украшенный колон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еред фасадом были разбиты пышные цветники с фигурными клумб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От дома к пруду тянулись многочисленные «служб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457200" y="4724280"/>
            <a:ext cx="8305920" cy="1981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ианино"/>
          <p:cNvPicPr/>
          <p:nvPr/>
        </p:nvPicPr>
        <p:blipFill>
          <a:blip r:embed="rId1"/>
          <a:stretch/>
        </p:blipFill>
        <p:spPr>
          <a:xfrm>
            <a:off x="4724280" y="449280"/>
            <a:ext cx="3962520" cy="309564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pic>
        <p:nvPicPr>
          <p:cNvPr id="61" name="Picture 5" descr="спас 2"/>
          <p:cNvPicPr/>
          <p:nvPr/>
        </p:nvPicPr>
        <p:blipFill>
          <a:blip r:embed="rId2"/>
          <a:stretch/>
        </p:blipFill>
        <p:spPr>
          <a:xfrm>
            <a:off x="457200" y="3813120"/>
            <a:ext cx="3962520" cy="282888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62" name="Text Box 6"/>
          <p:cNvSpPr/>
          <p:nvPr/>
        </p:nvSpPr>
        <p:spPr>
          <a:xfrm>
            <a:off x="457200" y="762120"/>
            <a:ext cx="36576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первом этаже - 12, во втором – 10 покоев. Комнаты расписаны разными крас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Рассказ Лаврецкого в романе «Дворянское гнездо» построен на основе семейных преданий, сохранившихся в Спасс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380880" y="228600"/>
            <a:ext cx="3810240" cy="228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648320" y="4079880"/>
            <a:ext cx="441936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произведениях  Тургенева отчетливо проступают следы лутовиновской стар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ртреты, находившиеся в доме, и легенды, связанные с ними, легли в основу рассказа «Три портре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Дед Тургенева выведен в рассказе «Однодворец Овсянников»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4876920" y="3962520"/>
            <a:ext cx="4038480" cy="2514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228600" y="838080"/>
            <a:ext cx="3505320" cy="63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Варвара Петровна Лутовинова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(1787-1850) – племянница Ивана Ивановича Лутовинова, бывшего владельцем Спасского, получила имение в наследство после смерти дяди и стала самой богатой невестой в окру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14 января 1816 г. произошло ее бракосочетание с  </a:t>
            </a:r>
            <a:r>
              <a:rPr b="1" lang="ru-RU" sz="2000" spc="-1" strike="noStrike">
                <a:solidFill>
                  <a:srgbClr val="009999"/>
                </a:solidFill>
                <a:latin typeface="Times New Roman"/>
              </a:rPr>
              <a:t>Сергеем Николаевичем Тургеневым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– столбовым дворянином, ведшим свой род  с 1440 г., от татарского мурзы Льва Тургена. Их жизнь окутана множеством леген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52280" y="914400"/>
            <a:ext cx="3505320" cy="5638680"/>
          </a:xfrm>
          <a:custGeom>
            <a:avLst/>
            <a:gdLst>
              <a:gd name="textAreaLeft" fmla="*/ 171000 w 3505320"/>
              <a:gd name="textAreaRight" fmla="*/ 3334320 w 3505320"/>
              <a:gd name="textAreaTop" fmla="*/ 171000 h 5638680"/>
              <a:gd name="textAreaBottom" fmla="*/ 5467680 h 5638680"/>
            </a:gdLst>
            <a:ahLst/>
            <a:rect l="textAreaLeft" t="textAreaTop" r="textAreaRight" b="textAreaBottom"/>
            <a:pathLst>
              <a:path w="21600" h="34745">
                <a:moveTo>
                  <a:pt x="3600" y="0"/>
                </a:moveTo>
                <a:arcTo wR="3600" hR="3600" stAng="16200000" swAng="-5400000"/>
                <a:lnTo>
                  <a:pt x="0" y="31145"/>
                </a:lnTo>
                <a:arcTo wR="3600" hR="3600" stAng="10800000" swAng="-5400000"/>
                <a:lnTo>
                  <a:pt x="18000" y="347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038480" y="6230880"/>
            <a:ext cx="4953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8"/>
          <p:cNvSpPr txBox="1"/>
          <p:nvPr/>
        </p:nvSpPr>
        <p:spPr>
          <a:xfrm>
            <a:off x="1981080" y="361800"/>
            <a:ext cx="47815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  О  Д  О  С  Л  О  В  Н  А  Я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" name="Picture 9" descr="отец С"/>
          <p:cNvPicPr/>
          <p:nvPr/>
        </p:nvPicPr>
        <p:blipFill>
          <a:blip r:embed="rId1"/>
          <a:stretch/>
        </p:blipFill>
        <p:spPr>
          <a:xfrm>
            <a:off x="3743280" y="990720"/>
            <a:ext cx="2710080" cy="342900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pic>
        <p:nvPicPr>
          <p:cNvPr id="71" name="Picture 10" descr="варвара"/>
          <p:cNvPicPr/>
          <p:nvPr/>
        </p:nvPicPr>
        <p:blipFill>
          <a:blip r:embed="rId2"/>
          <a:stretch/>
        </p:blipFill>
        <p:spPr>
          <a:xfrm>
            <a:off x="6553080" y="2330280"/>
            <a:ext cx="2411640" cy="43149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pic>
        <p:nvPicPr>
          <p:cNvPr id="72" name="Picture 12" descr="герб 1"/>
          <p:cNvPicPr/>
          <p:nvPr/>
        </p:nvPicPr>
        <p:blipFill>
          <a:blip r:embed="rId3"/>
          <a:srcRect l="1682" t="0" r="1682" b="3668"/>
          <a:stretch/>
        </p:blipFill>
        <p:spPr>
          <a:xfrm>
            <a:off x="4343400" y="4564080"/>
            <a:ext cx="1400040" cy="214164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братья"/>
          <p:cNvPicPr/>
          <p:nvPr/>
        </p:nvPicPr>
        <p:blipFill>
          <a:blip r:embed="rId1"/>
          <a:stretch/>
        </p:blipFill>
        <p:spPr>
          <a:xfrm>
            <a:off x="439560" y="1757520"/>
            <a:ext cx="3903840" cy="36273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74" name="Text Box 5"/>
          <p:cNvSpPr/>
          <p:nvPr/>
        </p:nvSpPr>
        <p:spPr>
          <a:xfrm>
            <a:off x="228600" y="58672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БРАТЬЯ  НИКОЛАЙ  И  ИВАН  ТУРГЕНЕ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648320" y="12193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572000" y="1295280"/>
            <a:ext cx="403848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ван родился 28 октября (9 ноября) 1818 года в г. Ор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Братьев воспитывали по «спартанской системе»: заставляли обливаться холодной водой, делать гимнастику, учили плавать, верховой езде, не бояться б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ервым, кто заинтересовал мальчика русской словесностью, был дворовый сл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1827 г. семья переезжает в Москву, так как детям нужно было уч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4648320" y="990720"/>
            <a:ext cx="4190760" cy="5333760"/>
          </a:xfrm>
          <a:custGeom>
            <a:avLst/>
            <a:gdLst>
              <a:gd name="textAreaLeft" fmla="*/ 204480 w 4190760"/>
              <a:gd name="textAreaRight" fmla="*/ 3986280 w 4190760"/>
              <a:gd name="textAreaTop" fmla="*/ 204480 h 5333760"/>
              <a:gd name="textAreaBottom" fmla="*/ 5129280 h 5333760"/>
            </a:gdLst>
            <a:ahLst/>
            <a:rect l="textAreaLeft" t="textAreaTop" r="textAreaRight" b="textAreaBottom"/>
            <a:pathLst>
              <a:path w="21600" h="27491">
                <a:moveTo>
                  <a:pt x="3600" y="0"/>
                </a:moveTo>
                <a:arcTo wR="3600" hR="3600" stAng="16200000" swAng="-5400000"/>
                <a:lnTo>
                  <a:pt x="0" y="23891"/>
                </a:lnTo>
                <a:arcTo wR="3600" hR="3600" stAng="10800000" swAng="-5400000"/>
                <a:lnTo>
                  <a:pt x="18000" y="27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9"/>
          <p:cNvSpPr txBox="1"/>
          <p:nvPr/>
        </p:nvSpPr>
        <p:spPr>
          <a:xfrm>
            <a:off x="2971800" y="457200"/>
            <a:ext cx="2457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  Р  А  Т  Ь  Я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7 лет"/>
          <p:cNvPicPr/>
          <p:nvPr/>
        </p:nvPicPr>
        <p:blipFill>
          <a:blip r:embed="rId1"/>
          <a:stretch/>
        </p:blipFill>
        <p:spPr>
          <a:xfrm>
            <a:off x="730080" y="1638360"/>
            <a:ext cx="2776680" cy="412272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pic>
        <p:nvPicPr>
          <p:cNvPr id="80" name="Picture 5" descr="12 лет"/>
          <p:cNvPicPr/>
          <p:nvPr/>
        </p:nvPicPr>
        <p:blipFill>
          <a:blip r:embed="rId2"/>
          <a:stretch/>
        </p:blipFill>
        <p:spPr>
          <a:xfrm>
            <a:off x="5033880" y="1600200"/>
            <a:ext cx="3245040" cy="411480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81" name="Text Box 6"/>
          <p:cNvSpPr/>
          <p:nvPr/>
        </p:nvSpPr>
        <p:spPr>
          <a:xfrm>
            <a:off x="228600" y="6095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ИВАН ТУРГЕНЕВ  В  ВОЗРАСТЕ 7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876920" y="6095880"/>
            <a:ext cx="3962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ИВАН ТУРГЕНЕВ  В  ВОЗРАСТЕ 12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9"/>
          <p:cNvSpPr txBox="1"/>
          <p:nvPr/>
        </p:nvSpPr>
        <p:spPr>
          <a:xfrm>
            <a:off x="2666880" y="457200"/>
            <a:ext cx="33912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З Р О С Л Е Н И Е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26 лет"/>
          <p:cNvPicPr/>
          <p:nvPr/>
        </p:nvPicPr>
        <p:blipFill>
          <a:blip r:embed="rId1"/>
          <a:srcRect l="0" t="8857" r="0" b="0"/>
          <a:stretch/>
        </p:blipFill>
        <p:spPr>
          <a:xfrm>
            <a:off x="4667400" y="838080"/>
            <a:ext cx="3828960" cy="46497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pic>
        <p:nvPicPr>
          <p:cNvPr id="85" name="Picture 5" descr="20 лет"/>
          <p:cNvPicPr/>
          <p:nvPr/>
        </p:nvPicPr>
        <p:blipFill>
          <a:blip r:embed="rId2"/>
          <a:srcRect l="0" t="0" r="0" b="8857"/>
          <a:stretch/>
        </p:blipFill>
        <p:spPr>
          <a:xfrm>
            <a:off x="361800" y="838080"/>
            <a:ext cx="3829320" cy="46497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86" name="Text Box 6"/>
          <p:cNvSpPr/>
          <p:nvPr/>
        </p:nvSpPr>
        <p:spPr>
          <a:xfrm>
            <a:off x="304920" y="62485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.ТУРГЕНЕВУ  20 ЛЕ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257800" y="6248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.ТУРГЕНЕВУ  26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Утро туманное"/>
          <p:cNvPicPr/>
          <p:nvPr/>
        </p:nvPicPr>
        <p:blipFill>
          <a:blip r:embed="rId1"/>
          <a:stretch/>
        </p:blipFill>
        <p:spPr>
          <a:xfrm>
            <a:off x="1447920" y="2743200"/>
            <a:ext cx="6476760" cy="374796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89" name="Text Box 5"/>
          <p:cNvSpPr/>
          <p:nvPr/>
        </p:nvSpPr>
        <p:spPr>
          <a:xfrm>
            <a:off x="1143000" y="64771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КАРТИНА ХУДОЖНИКА Б.ЩЕРБ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685800" y="380880"/>
            <a:ext cx="80391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 Т Р О    Т У М А Н Н О Е,   У Т Р О    С Е Д О Е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Лариса Голубкина - Утро туманное.mp3" descr=""/>
          <p:cNvPicPr/>
          <p:nvPr/>
        </p:nvPicPr>
        <p:blipFill>
          <a:blip r:embed="rId2"/>
          <a:stretch/>
        </p:blipFill>
        <p:spPr>
          <a:xfrm>
            <a:off x="9677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304920" y="1295280"/>
            <a:ext cx="86104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ПИСЬМЕ Е.В.ЛЬВОВОЙ В 1879 ГОДУ И.С.ТУРГЕНЕВ ПИСАЛ: «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…ПИШЕТСЯ ХОРОШО, ТОЛЬКО ЖИВЯ В РУССКОЙ ДЕРЕВНЕ. ТАМ И ВОЗДУХ-ТО КАК БУДТО «ПОЛОН МЫСЛЕЙ»!.. МЫСЛИ НАПРАШИВАЮТСЯ САМ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607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06T08:16:3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