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58F-7395-4FF1-ADDA-1C5DC9F0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2D9-B527-4E44-8F24-A263DD2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082-0EBE-4D4A-8AC2-2B3FA41F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E65-909E-4F24-8C80-0B1918F1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211-068E-47B6-B471-98257F4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D2F-09DC-4FE7-90CB-FC214867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F1F-D20E-45BC-893C-67F2EB3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873-82E7-40C3-9B00-2E5877CB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1EF-0B14-4E50-837B-0079580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BA2-4C6B-42AC-95E7-2EBB204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326-84B3-4763-B52D-74F8030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07E-CBCE-44F0-8231-C26B322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a7ffc4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D9FE-1C7E-4AE3-AFCE-EC70174C9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08120" y="762120"/>
            <a:ext cx="7369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 О Г Д А    В Ы   Б У Д Е Т Е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  С  П  А  С  С  К  О М…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14600" y="4343400"/>
            <a:ext cx="6477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… 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Люблю  ли  я  родин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 же  другое  можно любить  на 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 одно  неизменно,  что выше  всех  сомнений,  чему нельзя  не  верит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портрет виардо"/>
          <p:cNvPicPr/>
          <p:nvPr/>
        </p:nvPicPr>
        <p:blipFill>
          <a:blip r:embed="rId6"/>
          <a:stretch/>
        </p:blipFill>
        <p:spPr>
          <a:xfrm>
            <a:off x="660240" y="4308480"/>
            <a:ext cx="1424160" cy="1854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въезд"/>
          <p:cNvPicPr/>
          <p:nvPr/>
        </p:nvPicPr>
        <p:blipFill>
          <a:blip r:embed="rId1"/>
          <a:stretch/>
        </p:blipFill>
        <p:spPr>
          <a:xfrm>
            <a:off x="838080" y="671400"/>
            <a:ext cx="3810240" cy="3179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94" name="Picture 5" descr="дуб"/>
          <p:cNvPicPr/>
          <p:nvPr/>
        </p:nvPicPr>
        <p:blipFill>
          <a:blip r:embed="rId2"/>
          <a:stretch/>
        </p:blipFill>
        <p:spPr>
          <a:xfrm>
            <a:off x="5257800" y="674640"/>
            <a:ext cx="3429000" cy="3149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762120" y="40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ЪЕЗД  В  УСАДЬ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3962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ЛЮБИМЫЙ  ДУБ  ТУРГЕ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3520" y="457200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исьме Я.П.Полонскому из Буживаля 30 мая 1882 года Тургенев 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«Когда вы будете в Спасском, поклонитесь от меня  дому, саду, моему молодому дубу, родине поклонитесь, которую я уже вероятно никогда не увиж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380880" y="4724280"/>
            <a:ext cx="84582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мятник Тургеневу И.С.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19520" y="457200"/>
            <a:ext cx="3862440" cy="57150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7"/>
          <p:cNvGrpSpPr/>
          <p:nvPr/>
        </p:nvGrpSpPr>
        <p:grpSpPr>
          <a:xfrm>
            <a:off x="0" y="-61920"/>
            <a:ext cx="9144000" cy="6921360"/>
            <a:chOff x="0" y="-61920"/>
            <a:chExt cx="9144000" cy="6921360"/>
          </a:xfrm>
        </p:grpSpPr>
        <p:pic>
          <p:nvPicPr>
            <p:cNvPr id="45" name="Picture 2" descr="спас 3"/>
            <p:cNvPicPr/>
            <p:nvPr/>
          </p:nvPicPr>
          <p:blipFill>
            <a:blip r:embed="rId1"/>
            <a:stretch/>
          </p:blipFill>
          <p:spPr>
            <a:xfrm>
              <a:off x="0" y="-61920"/>
              <a:ext cx="3090960" cy="412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" descr="спас 4"/>
            <p:cNvPicPr/>
            <p:nvPr/>
          </p:nvPicPr>
          <p:blipFill>
            <a:blip r:embed="rId2"/>
            <a:stretch/>
          </p:blipFill>
          <p:spPr>
            <a:xfrm>
              <a:off x="2971800" y="-61920"/>
              <a:ext cx="360036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спас 5"/>
            <p:cNvPicPr/>
            <p:nvPr/>
          </p:nvPicPr>
          <p:blipFill>
            <a:blip r:embed="rId3"/>
            <a:stretch/>
          </p:blipFill>
          <p:spPr>
            <a:xfrm>
              <a:off x="3048120" y="1461960"/>
              <a:ext cx="30906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спас 6"/>
            <p:cNvPicPr/>
            <p:nvPr/>
          </p:nvPicPr>
          <p:blipFill>
            <a:blip r:embed="rId4"/>
            <a:stretch/>
          </p:blipFill>
          <p:spPr>
            <a:xfrm>
              <a:off x="0" y="4014720"/>
              <a:ext cx="478800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спас 7"/>
            <p:cNvPicPr/>
            <p:nvPr/>
          </p:nvPicPr>
          <p:blipFill>
            <a:blip r:embed="rId5"/>
            <a:stretch/>
          </p:blipFill>
          <p:spPr>
            <a:xfrm>
              <a:off x="4788000" y="4014720"/>
              <a:ext cx="435600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спас 8"/>
            <p:cNvPicPr/>
            <p:nvPr/>
          </p:nvPicPr>
          <p:blipFill>
            <a:blip r:embed="rId6"/>
            <a:stretch/>
          </p:blipFill>
          <p:spPr>
            <a:xfrm>
              <a:off x="6156360" y="-61920"/>
              <a:ext cx="2987640" cy="40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9"/>
            <p:cNvSpPr/>
            <p:nvPr/>
          </p:nvSpPr>
          <p:spPr>
            <a:xfrm>
              <a:off x="3048120" y="1309680"/>
              <a:ext cx="21589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Пруд Сави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6172200" y="3595680"/>
              <a:ext cx="1800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Бежин л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0" y="3672000"/>
              <a:ext cx="21956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ллея в пар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3048120" y="3595680"/>
              <a:ext cx="29527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лександровский тра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4876920" y="6429240"/>
              <a:ext cx="28191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Главный дом усадь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133720" y="649116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Флигель изгнан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ом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3519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228600" y="3962520"/>
            <a:ext cx="899172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 незапамятных времен стояла в середине сельского кладбища деревянная церковь Спаса Преображения, по ней и село стали звать Спас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конце ХУ1 в. Иван Грозный пожаловал сельцо Ивану Лутовин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 протяжении многих поколений Спасское -  центральная усадьба многочисленных лутовиновских поместий. Центр усадьбы  - двухэтажный деревянный дом, украшенный колон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еред фасадом были разбиты пышные цветники с фигурными клум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т дома к пруду тянулись многочисленные «служб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57200" y="4724280"/>
            <a:ext cx="8305920" cy="19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ианино"/>
          <p:cNvPicPr/>
          <p:nvPr/>
        </p:nvPicPr>
        <p:blipFill>
          <a:blip r:embed="rId1"/>
          <a:stretch/>
        </p:blipFill>
        <p:spPr>
          <a:xfrm>
            <a:off x="4724280" y="449280"/>
            <a:ext cx="3962520" cy="3095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61" name="Picture 5" descr="спас 2"/>
          <p:cNvPicPr/>
          <p:nvPr/>
        </p:nvPicPr>
        <p:blipFill>
          <a:blip r:embed="rId2"/>
          <a:stretch/>
        </p:blipFill>
        <p:spPr>
          <a:xfrm>
            <a:off x="457200" y="3813120"/>
            <a:ext cx="3962520" cy="2828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457200" y="762120"/>
            <a:ext cx="36576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ервом этаже - 12, во втором – 10 покоев. Комнаты расписаны разными крас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ссказ Лаврецкого в романе «Дворянское гнездо» построен на основе семейных преданий, сохранившихся в Спас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380880" y="228600"/>
            <a:ext cx="381024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648320" y="4079880"/>
            <a:ext cx="4419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роизведениях  Тургенева отчетливо проступают следы лутовиновской стар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ртреты, находившиеся в доме, и легенды, связанные с ними, легли в основу рассказа «Три портр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ед Тургенева выведен в рассказе «Однодворец Овсянников»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876920" y="3962520"/>
            <a:ext cx="40384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228600" y="838080"/>
            <a:ext cx="350532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арвара Петровна Лутовинова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(1787-1850) – племянница Ивана Ивановича Лутовинова, бывшего владельцем Спасского, получила имение в наследство после смерти дяди и стала самой богатой невестой в ок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14 января 1816 г. произошло ее бракосочетание с 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ергеем Николаевичем Тургеневым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– столбовым дворянином, ведшим свой род  с 1440 г., от татарского мурзы Льва Тургена. Их жизнь окутана множеством леге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2280" y="914400"/>
            <a:ext cx="3505320" cy="563868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5638680"/>
              <a:gd name="textAreaBottom" fmla="*/ 5467680 h 5638680"/>
            </a:gdLst>
            <a:ahLst/>
            <a:rect l="textAreaLeft" t="textAreaTop" r="textAreaRight" b="textAreaBottom"/>
            <a:pathLst>
              <a:path w="21600" h="34745">
                <a:moveTo>
                  <a:pt x="3600" y="0"/>
                </a:moveTo>
                <a:arcTo wR="3600" hR="3600" stAng="16200000" swAng="-5400000"/>
                <a:lnTo>
                  <a:pt x="0" y="31145"/>
                </a:lnTo>
                <a:arcTo wR="3600" hR="3600" stAng="10800000" swAng="-5400000"/>
                <a:lnTo>
                  <a:pt x="18000" y="347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38480" y="6230880"/>
            <a:ext cx="4953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1981080" y="361800"/>
            <a:ext cx="47815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  О  Д  О  С  Л  О  В  Н  А  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9" descr="отец С"/>
          <p:cNvPicPr/>
          <p:nvPr/>
        </p:nvPicPr>
        <p:blipFill>
          <a:blip r:embed="rId1"/>
          <a:stretch/>
        </p:blipFill>
        <p:spPr>
          <a:xfrm>
            <a:off x="3743280" y="990720"/>
            <a:ext cx="2710080" cy="34290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71" name="Picture 10" descr="варвара"/>
          <p:cNvPicPr/>
          <p:nvPr/>
        </p:nvPicPr>
        <p:blipFill>
          <a:blip r:embed="rId2"/>
          <a:stretch/>
        </p:blipFill>
        <p:spPr>
          <a:xfrm>
            <a:off x="6553080" y="2330280"/>
            <a:ext cx="2411640" cy="43149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72" name="Picture 12" descr="герб 1"/>
          <p:cNvPicPr/>
          <p:nvPr/>
        </p:nvPicPr>
        <p:blipFill>
          <a:blip r:embed="rId3"/>
          <a:srcRect l="1682" t="0" r="1682" b="3668"/>
          <a:stretch/>
        </p:blipFill>
        <p:spPr>
          <a:xfrm>
            <a:off x="4343400" y="4564080"/>
            <a:ext cx="1400040" cy="2141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ратья"/>
          <p:cNvPicPr/>
          <p:nvPr/>
        </p:nvPicPr>
        <p:blipFill>
          <a:blip r:embed="rId1"/>
          <a:stretch/>
        </p:blipFill>
        <p:spPr>
          <a:xfrm>
            <a:off x="439560" y="1757520"/>
            <a:ext cx="3903840" cy="3627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228600" y="5867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РАТЬЯ  НИКОЛАЙ  И  ИВАН  ТУРГЕНЕ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48320" y="1219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0" y="1295280"/>
            <a:ext cx="40384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ван родился 28 октября (9 ноября) 1818 года в г. Ор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ратьев воспитывали по «спартанской системе»: заставляли обливаться холодной водой, делать гимнастику, учили плавать, верховой езде, не бояться б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ервым, кто заинтересовал мальчика русской словесностью, был дворовый сл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1827 г. семья переезжает в Москву, так как детям нужно было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4648320" y="990720"/>
            <a:ext cx="4190760" cy="5333760"/>
          </a:xfrm>
          <a:custGeom>
            <a:avLst/>
            <a:gdLst>
              <a:gd name="textAreaLeft" fmla="*/ 204480 w 4190760"/>
              <a:gd name="textAreaRight" fmla="*/ 3986280 w 4190760"/>
              <a:gd name="textAreaTop" fmla="*/ 204480 h 5333760"/>
              <a:gd name="textAreaBottom" fmla="*/ 5129280 h 5333760"/>
            </a:gdLst>
            <a:ahLst/>
            <a:rect l="textAreaLeft" t="textAreaTop" r="textAreaRight" b="textAreaBottom"/>
            <a:pathLst>
              <a:path w="21600" h="27491">
                <a:moveTo>
                  <a:pt x="3600" y="0"/>
                </a:moveTo>
                <a:arcTo wR="3600" hR="3600" stAng="16200000" swAng="-5400000"/>
                <a:lnTo>
                  <a:pt x="0" y="23891"/>
                </a:lnTo>
                <a:arcTo wR="3600" hR="3600" stAng="10800000" swAng="-5400000"/>
                <a:lnTo>
                  <a:pt x="18000" y="27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2971800" y="457200"/>
            <a:ext cx="2457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  Р  А  Т  Ь  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7 лет"/>
          <p:cNvPicPr/>
          <p:nvPr/>
        </p:nvPicPr>
        <p:blipFill>
          <a:blip r:embed="rId1"/>
          <a:stretch/>
        </p:blipFill>
        <p:spPr>
          <a:xfrm>
            <a:off x="730080" y="1638360"/>
            <a:ext cx="2776680" cy="412272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80" name="Picture 5" descr="12 лет"/>
          <p:cNvPicPr/>
          <p:nvPr/>
        </p:nvPicPr>
        <p:blipFill>
          <a:blip r:embed="rId2"/>
          <a:stretch/>
        </p:blipFill>
        <p:spPr>
          <a:xfrm>
            <a:off x="5033880" y="1600200"/>
            <a:ext cx="3245040" cy="41148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1" name="Text Box 6"/>
          <p:cNvSpPr/>
          <p:nvPr/>
        </p:nvSpPr>
        <p:spPr>
          <a:xfrm>
            <a:off x="228600" y="6095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ВАН ТУРГЕНЕВ  В  ВОЗРАСТЕ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876920" y="609588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ВАН ТУРГЕНЕВ  В  ВОЗРАСТЕ 12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2666880" y="457200"/>
            <a:ext cx="3391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З Р О С Л Е Н И 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6 лет"/>
          <p:cNvPicPr/>
          <p:nvPr/>
        </p:nvPicPr>
        <p:blipFill>
          <a:blip r:embed="rId1"/>
          <a:srcRect l="0" t="8857" r="0" b="0"/>
          <a:stretch/>
        </p:blipFill>
        <p:spPr>
          <a:xfrm>
            <a:off x="4667400" y="838080"/>
            <a:ext cx="3828960" cy="46497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85" name="Picture 5" descr="20 лет"/>
          <p:cNvPicPr/>
          <p:nvPr/>
        </p:nvPicPr>
        <p:blipFill>
          <a:blip r:embed="rId2"/>
          <a:srcRect l="0" t="0" r="0" b="8857"/>
          <a:stretch/>
        </p:blipFill>
        <p:spPr>
          <a:xfrm>
            <a:off x="361800" y="838080"/>
            <a:ext cx="3829320" cy="46497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6" name="Text Box 6"/>
          <p:cNvSpPr/>
          <p:nvPr/>
        </p:nvSpPr>
        <p:spPr>
          <a:xfrm>
            <a:off x="3049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.ТУРГЕНЕВУ  20 ЛЕ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25780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.ТУРГЕНЕВУ  2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Утро туманное"/>
          <p:cNvPicPr/>
          <p:nvPr/>
        </p:nvPicPr>
        <p:blipFill>
          <a:blip r:embed="rId1"/>
          <a:stretch/>
        </p:blipFill>
        <p:spPr>
          <a:xfrm>
            <a:off x="1447920" y="2743200"/>
            <a:ext cx="6476760" cy="37479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1143000" y="6477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АРТИНА ХУДОЖНИКА Б.ЩЕРБ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685800" y="380880"/>
            <a:ext cx="8039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 Т Р О    Т У М А Н Н О Е,   У Т Р О    С Е Д О 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Лариса Голубкина - Утро туманное.mp3" descr=""/>
          <p:cNvPicPr/>
          <p:nvPr/>
        </p:nvPicPr>
        <p:blipFill>
          <a:blip r:embed="rId2"/>
          <a:stretch/>
        </p:blipFill>
        <p:spPr>
          <a:xfrm>
            <a:off x="9677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04920" y="1295280"/>
            <a:ext cx="8610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ИСЬМЕ Е.В.ЛЬВОВОЙ В 1879 ГОДУ И.С.ТУРГЕНЕВ ПИСАЛ: «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…ПИШЕТСЯ ХОРОШО, ТОЛЬКО ЖИВЯ В РУССКОЙ ДЕРЕВНЕ. ТАМ И ВОЗДУХ-ТО КАК БУДТО «ПОЛОН МЫСЛЕЙ»!.. МЫСЛИ НАПРАШИВАЮТСЯ СА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60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08:16:3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