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0BCF0-327A-4EEE-BAFF-0D7E870B1E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: Учить решать задачи со спичками, практическим путём научить предвидеть, каким образом, перекладывая спички, добиться нужного результата; развивать смекалку, способность предвидеть результат и образное реш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авильный ответ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 землекопов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В самом деле, пять землекопов за 5 часов выкапывают 5 м канавы; значит, пять землекопов за 1 час вырыли бы 1 м канавы, а в 100 часов — 100 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F0C7-ED47-4C72-B856-4604E02E0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A044-DE87-443E-A4A4-257E33C20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D408-7ABE-4E50-B13D-0E46B412A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3F51-6896-468F-B30F-6D04A8E96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5454-6117-4A7D-97F4-F3C7F3738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8699-D43D-42E0-BCA5-9A02AC674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883C-9A68-4BD3-8C8A-D0567DC03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C3DF-0642-4FD4-89AF-4C216A46F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4C5C-A6E0-48D5-925D-E6E22DCA7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9BB3-5ED2-4E8A-9428-5E3DE596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72C3-6738-4200-A15E-A9B662EA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4B4C-21A6-48C0-B7BB-6E21D99E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8d1ba"/>
            </a:gs>
            <a:gs pos="50000">
              <a:srgbClr val="fefefe"/>
            </a:gs>
            <a:gs pos="100000">
              <a:srgbClr val="e8d1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A9BD8-BDD7-4D6A-BB56-682D8636C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9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s52.radikal.ru/i136/1008/fa/effeea01a045.jpg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8.png"/><Relationship Id="rId21" Type="http://schemas.openxmlformats.org/officeDocument/2006/relationships/slideLayout" Target="../slideLayouts/slideLayout3.xml"/><Relationship Id="rId2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7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10.png"/><Relationship Id="rId20" Type="http://schemas.openxmlformats.org/officeDocument/2006/relationships/image" Target="../media/image7.png"/><Relationship Id="rId21" Type="http://schemas.openxmlformats.org/officeDocument/2006/relationships/image" Target="../media/image7.png"/><Relationship Id="rId22" Type="http://schemas.openxmlformats.org/officeDocument/2006/relationships/image" Target="../media/image7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6.png"/><Relationship Id="rId26" Type="http://schemas.openxmlformats.org/officeDocument/2006/relationships/image" Target="../media/image8.png"/><Relationship Id="rId27" Type="http://schemas.openxmlformats.org/officeDocument/2006/relationships/slideLayout" Target="../slideLayouts/slideLayout3.xml"/><Relationship Id="rId2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9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9.png"/><Relationship Id="rId13" Type="http://schemas.openxmlformats.org/officeDocument/2006/relationships/image" Target="../media/image7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9.png"/><Relationship Id="rId20" Type="http://schemas.openxmlformats.org/officeDocument/2006/relationships/image" Target="../media/image7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8.png"/><Relationship Id="rId24" Type="http://schemas.openxmlformats.org/officeDocument/2006/relationships/slideLayout" Target="../slideLayouts/slideLayout3.xml"/><Relationship Id="rId2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7.png"/><Relationship Id="rId13" Type="http://schemas.openxmlformats.org/officeDocument/2006/relationships/image" Target="../media/image9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8.png"/><Relationship Id="rId19" Type="http://schemas.openxmlformats.org/officeDocument/2006/relationships/slideLayout" Target="../slideLayouts/slideLayout3.xml"/><Relationship Id="rId2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8d1ba"/>
            </a:gs>
            <a:gs pos="50000">
              <a:srgbClr val="fefefe"/>
            </a:gs>
            <a:gs pos="100000">
              <a:srgbClr val="e8d1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79280" y="189000"/>
            <a:ext cx="5616720" cy="115092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Введение в геометри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651640" y="317520"/>
            <a:ext cx="3313080" cy="2376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348000" y="5516640"/>
            <a:ext cx="5616720" cy="115092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ратанова Марина Никола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КОУ СОШ №256 ГО ЗАТО г.Фоки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морский кр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1640" y="1386000"/>
            <a:ext cx="197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анятие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74160" y="2708280"/>
            <a:ext cx="4604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Упражнен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со спичкам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5994360"/>
            <a:ext cx="16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6 клас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8d1ba"/>
            </a:gs>
            <a:gs pos="50000">
              <a:srgbClr val="fefefe"/>
            </a:gs>
            <a:gs pos="100000">
              <a:srgbClr val="e8d1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7308720" y="189000"/>
            <a:ext cx="1511280" cy="20178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95280" y="476280"/>
            <a:ext cx="14414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85760" y="1484280"/>
            <a:ext cx="7570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Расположите 8 спичек так, чтобы получило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4 треугольника и квадрат, располагая вс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спички на плоск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380360" y="6093000"/>
            <a:ext cx="1511280" cy="504720"/>
          </a:xfrm>
          <a:custGeom>
            <a:avLst/>
            <a:gdLst>
              <a:gd name="textAreaLeft" fmla="*/ 32400 w 1511280"/>
              <a:gd name="textAreaRight" fmla="*/ 1478880 w 1511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64646" h="21600">
                <a:moveTo>
                  <a:pt x="0" y="0"/>
                </a:moveTo>
                <a:lnTo>
                  <a:pt x="64646" y="0"/>
                </a:lnTo>
                <a:lnTo>
                  <a:pt x="64646" y="21600"/>
                </a:lnTo>
                <a:lnTo>
                  <a:pt x="0" y="21600"/>
                </a:lnTo>
                <a:close/>
              </a:path>
              <a:path fill="lightenLess" w="64646" h="21600">
                <a:moveTo>
                  <a:pt x="0" y="0"/>
                </a:moveTo>
                <a:lnTo>
                  <a:pt x="64646" y="0"/>
                </a:lnTo>
                <a:lnTo>
                  <a:pt x="63246" y="1400"/>
                </a:lnTo>
                <a:lnTo>
                  <a:pt x="1400" y="1400"/>
                </a:lnTo>
                <a:close/>
              </a:path>
              <a:path fill="darken" w="64646" h="21600">
                <a:moveTo>
                  <a:pt x="64646" y="0"/>
                </a:moveTo>
                <a:lnTo>
                  <a:pt x="64646" y="21600"/>
                </a:lnTo>
                <a:lnTo>
                  <a:pt x="63246" y="20200"/>
                </a:lnTo>
                <a:lnTo>
                  <a:pt x="63246" y="1400"/>
                </a:lnTo>
                <a:close/>
              </a:path>
              <a:path fill="darkenLess" w="64646" h="21600">
                <a:moveTo>
                  <a:pt x="646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6" y="20200"/>
                </a:lnTo>
                <a:close/>
              </a:path>
              <a:path fill="lighten" w="646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e8d1ba"/>
              </a:gs>
              <a:gs pos="50000">
                <a:srgbClr val="fefefe"/>
              </a:gs>
              <a:gs pos="100000">
                <a:srgbClr val="e8d1ba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твет (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Рисунок 21" descr="Спичка2.gif"/>
          <p:cNvPicPr/>
          <p:nvPr/>
        </p:nvPicPr>
        <p:blipFill>
          <a:blip r:embed="rId2"/>
          <a:stretch/>
        </p:blipFill>
        <p:spPr>
          <a:xfrm>
            <a:off x="1403280" y="3284640"/>
            <a:ext cx="216000" cy="330192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21" descr="Спичка2.gif"/>
          <p:cNvPicPr/>
          <p:nvPr/>
        </p:nvPicPr>
        <p:blipFill>
          <a:blip r:embed="rId3"/>
          <a:stretch/>
        </p:blipFill>
        <p:spPr>
          <a:xfrm>
            <a:off x="2124000" y="3284640"/>
            <a:ext cx="216000" cy="330192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21" descr="Спичка2.gif"/>
          <p:cNvPicPr/>
          <p:nvPr/>
        </p:nvPicPr>
        <p:blipFill>
          <a:blip r:embed="rId4"/>
          <a:stretch/>
        </p:blipFill>
        <p:spPr>
          <a:xfrm>
            <a:off x="2627280" y="3284640"/>
            <a:ext cx="217440" cy="330192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21" descr="Спичка2.gif"/>
          <p:cNvPicPr/>
          <p:nvPr/>
        </p:nvPicPr>
        <p:blipFill>
          <a:blip r:embed="rId5"/>
          <a:stretch/>
        </p:blipFill>
        <p:spPr>
          <a:xfrm>
            <a:off x="1763640" y="3357720"/>
            <a:ext cx="217440" cy="330192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21" descr="Спичка2.gif"/>
          <p:cNvPicPr/>
          <p:nvPr/>
        </p:nvPicPr>
        <p:blipFill>
          <a:blip r:embed="rId6"/>
          <a:stretch/>
        </p:blipFill>
        <p:spPr>
          <a:xfrm>
            <a:off x="2916360" y="3141720"/>
            <a:ext cx="217440" cy="330192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21" descr="Спичка2.gif"/>
          <p:cNvPicPr/>
          <p:nvPr/>
        </p:nvPicPr>
        <p:blipFill>
          <a:blip r:embed="rId7"/>
          <a:stretch/>
        </p:blipFill>
        <p:spPr>
          <a:xfrm>
            <a:off x="1116000" y="3068640"/>
            <a:ext cx="216000" cy="3301920"/>
          </a:xfrm>
          <a:prstGeom prst="rect">
            <a:avLst/>
          </a:prstGeom>
          <a:ln w="0">
            <a:noFill/>
          </a:ln>
        </p:spPr>
      </p:pic>
      <p:pic>
        <p:nvPicPr>
          <p:cNvPr id="231" name="Рисунок 21" descr="Спичка2.gif"/>
          <p:cNvPicPr/>
          <p:nvPr/>
        </p:nvPicPr>
        <p:blipFill>
          <a:blip r:embed="rId8"/>
          <a:stretch/>
        </p:blipFill>
        <p:spPr>
          <a:xfrm>
            <a:off x="755640" y="3357720"/>
            <a:ext cx="216000" cy="3301920"/>
          </a:xfrm>
          <a:prstGeom prst="rect">
            <a:avLst/>
          </a:prstGeom>
          <a:ln w="0">
            <a:noFill/>
          </a:ln>
        </p:spPr>
      </p:pic>
      <p:pic>
        <p:nvPicPr>
          <p:cNvPr id="232" name="Рисунок 21" descr="Спичка2.gif"/>
          <p:cNvPicPr/>
          <p:nvPr/>
        </p:nvPicPr>
        <p:blipFill>
          <a:blip r:embed="rId9"/>
          <a:stretch/>
        </p:blipFill>
        <p:spPr>
          <a:xfrm>
            <a:off x="324000" y="3213000"/>
            <a:ext cx="217440" cy="330228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 flipH="1" rot="3729000">
            <a:off x="3623400" y="1879200"/>
            <a:ext cx="1368360" cy="2520720"/>
          </a:xfrm>
          <a:prstGeom prst="rtTriangle">
            <a:avLst/>
          </a:prstGeom>
          <a:solidFill>
            <a:srgbClr val="cdff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Рисунок 16" descr="Спичка2.gif"/>
          <p:cNvPicPr/>
          <p:nvPr/>
        </p:nvPicPr>
        <p:blipFill>
          <a:blip r:embed="rId10"/>
          <a:stretch/>
        </p:blipFill>
        <p:spPr>
          <a:xfrm rot="3594000">
            <a:off x="4714560" y="2257200"/>
            <a:ext cx="208080" cy="3132000"/>
          </a:xfrm>
          <a:prstGeom prst="rect">
            <a:avLst/>
          </a:prstGeom>
          <a:ln w="0">
            <a:noFill/>
          </a:ln>
        </p:spPr>
      </p:pic>
      <p:pic>
        <p:nvPicPr>
          <p:cNvPr id="235" name="Рисунок 16" descr="Спичка2.gif"/>
          <p:cNvPicPr/>
          <p:nvPr/>
        </p:nvPicPr>
        <p:blipFill>
          <a:blip r:embed="rId11"/>
          <a:stretch/>
        </p:blipFill>
        <p:spPr>
          <a:xfrm rot="19989600">
            <a:off x="3277800" y="2831760"/>
            <a:ext cx="190440" cy="3060720"/>
          </a:xfrm>
          <a:prstGeom prst="rect">
            <a:avLst/>
          </a:prstGeom>
          <a:ln w="0">
            <a:noFill/>
          </a:ln>
        </p:spPr>
      </p:pic>
      <p:pic>
        <p:nvPicPr>
          <p:cNvPr id="236" name="Рисунок 16" descr="Спичка2.gif"/>
          <p:cNvPicPr/>
          <p:nvPr/>
        </p:nvPicPr>
        <p:blipFill>
          <a:blip r:embed="rId12"/>
          <a:stretch/>
        </p:blipFill>
        <p:spPr>
          <a:xfrm rot="19961400">
            <a:off x="5151600" y="3481200"/>
            <a:ext cx="209520" cy="313200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16" descr="Спичка2.gif"/>
          <p:cNvPicPr/>
          <p:nvPr/>
        </p:nvPicPr>
        <p:blipFill>
          <a:blip r:embed="rId13"/>
          <a:stretch/>
        </p:blipFill>
        <p:spPr>
          <a:xfrm rot="3594000">
            <a:off x="3921840" y="4136400"/>
            <a:ext cx="216000" cy="31320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 flipH="1" rot="14377800">
            <a:off x="3706920" y="5157360"/>
            <a:ext cx="1368360" cy="2521080"/>
          </a:xfrm>
          <a:prstGeom prst="rtTriangle">
            <a:avLst/>
          </a:prstGeom>
          <a:solidFill>
            <a:srgbClr val="cdff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 rot="9133200">
            <a:off x="5362920" y="3499200"/>
            <a:ext cx="1368720" cy="2521440"/>
          </a:xfrm>
          <a:prstGeom prst="rtTriangle">
            <a:avLst/>
          </a:prstGeom>
          <a:solidFill>
            <a:srgbClr val="cdff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 rot="19938000">
            <a:off x="2050560" y="3573360"/>
            <a:ext cx="1368720" cy="2521080"/>
          </a:xfrm>
          <a:prstGeom prst="rtTriangle">
            <a:avLst/>
          </a:prstGeom>
          <a:solidFill>
            <a:srgbClr val="cdff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rot="19929600">
            <a:off x="3850920" y="4292640"/>
            <a:ext cx="1046160" cy="100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271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59259E-006 L 0.33472 0.0007 E">
                                      <p:cBhvr>
                                        <p:cTn id="274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4.07407E-006 L 0.17726 -0.27223 E">
                                      <p:cBhvr>
                                        <p:cTn id="278" dur="2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280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4444E-006 -5.92593E-006 L 0.23628 0.23078 E">
                                      <p:cBhvr>
                                        <p:cTn id="284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286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4.44444E-006 L 0.2441 -0.01041 E">
                                      <p:cBhvr>
                                        <p:cTn id="290" dur="2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97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05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13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21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4000"/>
                            </p:stCondLst>
                            <p:childTnLst>
                              <p:par>
                                <p:cTn id="3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8d1ba"/>
            </a:gs>
            <a:gs pos="50000">
              <a:srgbClr val="fefefe"/>
            </a:gs>
            <a:gs pos="100000">
              <a:srgbClr val="e8d1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98880" y="476280"/>
            <a:ext cx="812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Методическое пособ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веден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геометрию. 6 класс: планирование, конспек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нятий / авт.-сост. И.В.Фотина. – Волгоград: Учитель, 20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7192800" y="4221000"/>
            <a:ext cx="1951200" cy="26370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277200" y="2136600"/>
            <a:ext cx="53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s52.radikal.ru/i136/1008/fa/effeea01a045.jpg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67640" y="1773360"/>
            <a:ext cx="136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Землекоп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8d1ba"/>
            </a:gs>
            <a:gs pos="50000">
              <a:srgbClr val="fefefe"/>
            </a:gs>
            <a:gs pos="100000">
              <a:srgbClr val="e8d1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55640" y="3862440"/>
            <a:ext cx="849240" cy="2601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547640" y="3860640"/>
            <a:ext cx="849600" cy="26035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2340000" y="3860640"/>
            <a:ext cx="849240" cy="26035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3132000" y="3860640"/>
            <a:ext cx="849600" cy="26035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3924360" y="3860640"/>
            <a:ext cx="849240" cy="26035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зми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324000" y="189000"/>
            <a:ext cx="1439640" cy="2017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332000" y="1989000"/>
            <a:ext cx="50403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ять землекопов за 5 часов выкапыва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ов длиной 5 метров. Сколько потребу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емлекопов, чтобы вырыть такой же глуб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ов, длина которого 100 м за 100 ча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7093080" y="981000"/>
            <a:ext cx="14414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7"/>
          <a:stretch/>
        </p:blipFill>
        <p:spPr>
          <a:xfrm>
            <a:off x="179280" y="2276640"/>
            <a:ext cx="1495440" cy="4581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380360" y="6093000"/>
            <a:ext cx="1511280" cy="504720"/>
          </a:xfrm>
          <a:custGeom>
            <a:avLst/>
            <a:gdLst>
              <a:gd name="textAreaLeft" fmla="*/ 32400 w 1511280"/>
              <a:gd name="textAreaRight" fmla="*/ 1478880 w 1511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64646" h="21600">
                <a:moveTo>
                  <a:pt x="0" y="0"/>
                </a:moveTo>
                <a:lnTo>
                  <a:pt x="64646" y="0"/>
                </a:lnTo>
                <a:lnTo>
                  <a:pt x="64646" y="21600"/>
                </a:lnTo>
                <a:lnTo>
                  <a:pt x="0" y="21600"/>
                </a:lnTo>
                <a:close/>
              </a:path>
              <a:path fill="lightenLess" w="64646" h="21600">
                <a:moveTo>
                  <a:pt x="0" y="0"/>
                </a:moveTo>
                <a:lnTo>
                  <a:pt x="64646" y="0"/>
                </a:lnTo>
                <a:lnTo>
                  <a:pt x="63246" y="1400"/>
                </a:lnTo>
                <a:lnTo>
                  <a:pt x="1400" y="1400"/>
                </a:lnTo>
                <a:close/>
              </a:path>
              <a:path fill="darken" w="64646" h="21600">
                <a:moveTo>
                  <a:pt x="64646" y="0"/>
                </a:moveTo>
                <a:lnTo>
                  <a:pt x="64646" y="21600"/>
                </a:lnTo>
                <a:lnTo>
                  <a:pt x="63246" y="20200"/>
                </a:lnTo>
                <a:lnTo>
                  <a:pt x="63246" y="1400"/>
                </a:lnTo>
                <a:close/>
              </a:path>
              <a:path fill="darkenLess" w="64646" h="21600">
                <a:moveTo>
                  <a:pt x="646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6" y="20200"/>
                </a:lnTo>
                <a:close/>
              </a:path>
              <a:path fill="lighten" w="646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e8d1ba"/>
              </a:gs>
              <a:gs pos="50000">
                <a:srgbClr val="fefefe"/>
              </a:gs>
              <a:gs pos="100000">
                <a:srgbClr val="e8d1ba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5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8d1ba"/>
            </a:gs>
            <a:gs pos="50000">
              <a:srgbClr val="fefefe"/>
            </a:gs>
            <a:gs pos="100000">
              <a:srgbClr val="e8d1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зми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1439640" cy="20178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7093080" y="981000"/>
            <a:ext cx="14414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50920" y="4437000"/>
            <a:ext cx="50403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 столе три совершенно одинаковых ящика. В од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з них лежат 2 чёрных шарика, в другом – чёрный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елый, в третьем – 2 белых. На ящиках есть надпис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«2 чёрных», «2 белых», «Чёрный и белый». Однак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звестно, что ни одна из надписей не соответству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ействительности. Сможете ли вы определить, где ка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шарики лежат, вынув всего один шари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з какой-нибудь короб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16000" y="2205000"/>
            <a:ext cx="2087640" cy="1440000"/>
          </a:xfrm>
          <a:prstGeom prst="cube">
            <a:avLst>
              <a:gd name="adj" fmla="val 250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 чёр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19640" y="2205000"/>
            <a:ext cx="2087280" cy="1440000"/>
          </a:xfrm>
          <a:prstGeom prst="cube">
            <a:avLst>
              <a:gd name="adj" fmla="val 25000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 бел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2205000"/>
            <a:ext cx="2087640" cy="1440000"/>
          </a:xfrm>
          <a:prstGeom prst="cube">
            <a:avLst>
              <a:gd name="adj" fmla="val 25000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Чёр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бел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rId5" action="ppaction://hlinksldjump"/>
          </p:cNvPr>
          <p:cNvSpPr/>
          <p:nvPr/>
        </p:nvSpPr>
        <p:spPr>
          <a:xfrm>
            <a:off x="8317080" y="5084640"/>
            <a:ext cx="574560" cy="55404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" action="ppaction://hlinkshowjump?jump=nextslide"/>
          </p:cNvPr>
          <p:cNvSpPr/>
          <p:nvPr/>
        </p:nvSpPr>
        <p:spPr>
          <a:xfrm>
            <a:off x="8317080" y="4365720"/>
            <a:ext cx="574560" cy="55404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rId6" action="ppaction://hlinksldjump"/>
          </p:cNvPr>
          <p:cNvSpPr/>
          <p:nvPr/>
        </p:nvSpPr>
        <p:spPr>
          <a:xfrm>
            <a:off x="8101080" y="6237360"/>
            <a:ext cx="718920" cy="431640"/>
          </a:xfrm>
          <a:custGeom>
            <a:avLst/>
            <a:gdLst>
              <a:gd name="textAreaLeft" fmla="*/ 27720 w 718920"/>
              <a:gd name="textAreaRight" fmla="*/ 691200 w 718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64" h="21600">
                <a:moveTo>
                  <a:pt x="0" y="0"/>
                </a:moveTo>
                <a:lnTo>
                  <a:pt x="35964" y="0"/>
                </a:lnTo>
                <a:lnTo>
                  <a:pt x="35964" y="21600"/>
                </a:lnTo>
                <a:lnTo>
                  <a:pt x="0" y="21600"/>
                </a:lnTo>
                <a:close/>
              </a:path>
              <a:path fill="lightenLess" w="35964" h="21600">
                <a:moveTo>
                  <a:pt x="0" y="0"/>
                </a:moveTo>
                <a:lnTo>
                  <a:pt x="35964" y="0"/>
                </a:lnTo>
                <a:lnTo>
                  <a:pt x="34564" y="1400"/>
                </a:lnTo>
                <a:lnTo>
                  <a:pt x="1400" y="1400"/>
                </a:lnTo>
                <a:close/>
              </a:path>
              <a:path fill="darken" w="35964" h="21600">
                <a:moveTo>
                  <a:pt x="35964" y="0"/>
                </a:moveTo>
                <a:lnTo>
                  <a:pt x="35964" y="21600"/>
                </a:lnTo>
                <a:lnTo>
                  <a:pt x="34564" y="20200"/>
                </a:lnTo>
                <a:lnTo>
                  <a:pt x="34564" y="1400"/>
                </a:lnTo>
                <a:close/>
              </a:path>
              <a:path fill="darkenLess" w="35964" h="21600">
                <a:moveTo>
                  <a:pt x="35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4" y="20200"/>
                </a:lnTo>
                <a:close/>
              </a:path>
              <a:path fill="lighten" w="35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4" h="21600">
                <a:moveTo>
                  <a:pt x="10976" y="3794"/>
                </a:moveTo>
                <a:lnTo>
                  <a:pt x="24988" y="10800"/>
                </a:lnTo>
                <a:lnTo>
                  <a:pt x="10976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9933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8d1ba"/>
            </a:gs>
            <a:gs pos="50000">
              <a:srgbClr val="fefefe"/>
            </a:gs>
            <a:gs pos="100000">
              <a:srgbClr val="e8d1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20000" y="3573360"/>
            <a:ext cx="914400" cy="9144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156360" y="3429000"/>
            <a:ext cx="914400" cy="9144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9280" y="260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24000" y="4653000"/>
            <a:ext cx="1439640" cy="20178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635280" y="3068640"/>
            <a:ext cx="2087640" cy="1440000"/>
          </a:xfrm>
          <a:prstGeom prst="cube">
            <a:avLst>
              <a:gd name="adj" fmla="val 250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83280" y="3068640"/>
            <a:ext cx="2087640" cy="1440000"/>
          </a:xfrm>
          <a:prstGeom prst="cube">
            <a:avLst>
              <a:gd name="adj" fmla="val 25000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87280" y="3068640"/>
            <a:ext cx="2087640" cy="1440000"/>
          </a:xfrm>
          <a:prstGeom prst="cube">
            <a:avLst>
              <a:gd name="adj" fmla="val 25000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258920" y="3571920"/>
            <a:ext cx="1584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 чёр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06920" y="3573360"/>
            <a:ext cx="1584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 бел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4560" y="3645000"/>
            <a:ext cx="1584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Чёр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бел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20697000">
            <a:off x="5940360" y="2349000"/>
            <a:ext cx="457200" cy="998640"/>
          </a:xfrm>
          <a:custGeom>
            <a:avLst/>
            <a:gdLst/>
            <a:ahLst/>
            <a:rect l="l" t="t" r="r" b="b"/>
            <a:pathLst>
              <a:path w="288" h="629">
                <a:moveTo>
                  <a:pt x="136" y="235"/>
                </a:moveTo>
                <a:lnTo>
                  <a:pt x="0" y="0"/>
                </a:lnTo>
                <a:lnTo>
                  <a:pt x="152" y="629"/>
                </a:lnTo>
                <a:lnTo>
                  <a:pt x="288" y="60"/>
                </a:lnTo>
                <a:lnTo>
                  <a:pt x="144" y="235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" action="ppaction://hlinkshowjump?jump=previousslide"/>
          </p:cNvPr>
          <p:cNvSpPr/>
          <p:nvPr/>
        </p:nvSpPr>
        <p:spPr>
          <a:xfrm>
            <a:off x="7956720" y="5805360"/>
            <a:ext cx="826920" cy="576360"/>
          </a:xfrm>
          <a:custGeom>
            <a:avLst/>
            <a:gdLst>
              <a:gd name="textAreaLeft" fmla="*/ 37080 w 826920"/>
              <a:gd name="textAreaRight" fmla="*/ 789840 w 8269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0984" h="21600">
                <a:moveTo>
                  <a:pt x="0" y="0"/>
                </a:moveTo>
                <a:lnTo>
                  <a:pt x="30984" y="0"/>
                </a:lnTo>
                <a:lnTo>
                  <a:pt x="30984" y="21600"/>
                </a:lnTo>
                <a:lnTo>
                  <a:pt x="0" y="21600"/>
                </a:lnTo>
                <a:close/>
              </a:path>
              <a:path fill="lightenLess" w="30984" h="21600">
                <a:moveTo>
                  <a:pt x="0" y="0"/>
                </a:moveTo>
                <a:lnTo>
                  <a:pt x="30984" y="0"/>
                </a:lnTo>
                <a:lnTo>
                  <a:pt x="29584" y="1400"/>
                </a:lnTo>
                <a:lnTo>
                  <a:pt x="1400" y="1400"/>
                </a:lnTo>
                <a:close/>
              </a:path>
              <a:path fill="darken" w="30984" h="21600">
                <a:moveTo>
                  <a:pt x="30984" y="0"/>
                </a:moveTo>
                <a:lnTo>
                  <a:pt x="30984" y="21600"/>
                </a:lnTo>
                <a:lnTo>
                  <a:pt x="29584" y="20200"/>
                </a:lnTo>
                <a:lnTo>
                  <a:pt x="29584" y="1400"/>
                </a:lnTo>
                <a:close/>
              </a:path>
              <a:path fill="darkenLess" w="30984" h="21600">
                <a:moveTo>
                  <a:pt x="309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584" y="20200"/>
                </a:lnTo>
                <a:close/>
              </a:path>
              <a:path fill="lighten" w="309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984" h="21600">
                <a:moveTo>
                  <a:pt x="8486" y="7493"/>
                </a:moveTo>
                <a:lnTo>
                  <a:pt x="11993" y="7493"/>
                </a:lnTo>
                <a:lnTo>
                  <a:pt x="11993" y="12828"/>
                </a:lnTo>
                <a:cubicBezTo>
                  <a:pt x="11993" y="13751"/>
                  <a:pt x="12794" y="14482"/>
                  <a:pt x="13830" y="14482"/>
                </a:cubicBezTo>
                <a:lnTo>
                  <a:pt x="15492" y="14482"/>
                </a:lnTo>
                <a:cubicBezTo>
                  <a:pt x="16528" y="14482"/>
                  <a:pt x="17329" y="13751"/>
                  <a:pt x="17329" y="12828"/>
                </a:cubicBezTo>
                <a:lnTo>
                  <a:pt x="17329" y="7493"/>
                </a:lnTo>
                <a:lnTo>
                  <a:pt x="15492" y="7493"/>
                </a:lnTo>
                <a:lnTo>
                  <a:pt x="19000" y="3985"/>
                </a:lnTo>
                <a:lnTo>
                  <a:pt x="22673" y="7493"/>
                </a:lnTo>
                <a:lnTo>
                  <a:pt x="20836" y="7493"/>
                </a:lnTo>
                <a:lnTo>
                  <a:pt x="20836" y="12828"/>
                </a:lnTo>
                <a:cubicBezTo>
                  <a:pt x="20836" y="15596"/>
                  <a:pt x="18260" y="18155"/>
                  <a:pt x="15492" y="18155"/>
                </a:cubicBezTo>
                <a:lnTo>
                  <a:pt x="13830" y="18155"/>
                </a:lnTo>
                <a:cubicBezTo>
                  <a:pt x="11062" y="18155"/>
                  <a:pt x="8486" y="15596"/>
                  <a:pt x="8486" y="12828"/>
                </a:cubicBez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6823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000"/>
                            </p:stCondLst>
                            <p:childTnLst>
                              <p:par>
                                <p:cTn id="5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61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65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69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8 0.01042 L 0.26771 0.01042 E">
                                      <p:cBhvr>
                                        <p:cTn id="71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16 0.01042 L 0.26753 0.01065 E">
                                      <p:cBhvr>
                                        <p:cTn id="75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0.33333 L -0.53559 -0.00255 E">
                                      <p:cBhvr>
                                        <p:cTn id="78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8d1ba"/>
            </a:gs>
            <a:gs pos="50000">
              <a:srgbClr val="fefefe"/>
            </a:gs>
            <a:gs pos="100000">
              <a:srgbClr val="e8d1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020000" y="3500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156360" y="3500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9280" y="260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24000" y="4653000"/>
            <a:ext cx="1439640" cy="20178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635280" y="3068640"/>
            <a:ext cx="2087640" cy="1440000"/>
          </a:xfrm>
          <a:prstGeom prst="cube">
            <a:avLst>
              <a:gd name="adj" fmla="val 250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84720" y="3068640"/>
            <a:ext cx="2087640" cy="1440000"/>
          </a:xfrm>
          <a:prstGeom prst="cube">
            <a:avLst>
              <a:gd name="adj" fmla="val 25000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87280" y="3068640"/>
            <a:ext cx="2087640" cy="1440000"/>
          </a:xfrm>
          <a:prstGeom prst="cube">
            <a:avLst>
              <a:gd name="adj" fmla="val 25000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58920" y="3571920"/>
            <a:ext cx="1584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 чёр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706920" y="3573360"/>
            <a:ext cx="1584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 бел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154560" y="3645000"/>
            <a:ext cx="1584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Чёр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бел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20697000">
            <a:off x="5940360" y="2349000"/>
            <a:ext cx="457200" cy="998640"/>
          </a:xfrm>
          <a:custGeom>
            <a:avLst/>
            <a:gdLst/>
            <a:ahLst/>
            <a:rect l="l" t="t" r="r" b="b"/>
            <a:pathLst>
              <a:path w="288" h="629">
                <a:moveTo>
                  <a:pt x="136" y="235"/>
                </a:moveTo>
                <a:lnTo>
                  <a:pt x="0" y="0"/>
                </a:lnTo>
                <a:lnTo>
                  <a:pt x="152" y="629"/>
                </a:lnTo>
                <a:lnTo>
                  <a:pt x="288" y="60"/>
                </a:lnTo>
                <a:lnTo>
                  <a:pt x="144" y="235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" action="ppaction://hlinkshowjump?jump=previousslide"/>
          </p:cNvPr>
          <p:cNvSpPr/>
          <p:nvPr/>
        </p:nvSpPr>
        <p:spPr>
          <a:xfrm>
            <a:off x="7956720" y="5805360"/>
            <a:ext cx="826920" cy="576360"/>
          </a:xfrm>
          <a:custGeom>
            <a:avLst/>
            <a:gdLst>
              <a:gd name="textAreaLeft" fmla="*/ 37080 w 826920"/>
              <a:gd name="textAreaRight" fmla="*/ 789840 w 8269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0984" h="21600">
                <a:moveTo>
                  <a:pt x="0" y="0"/>
                </a:moveTo>
                <a:lnTo>
                  <a:pt x="30984" y="0"/>
                </a:lnTo>
                <a:lnTo>
                  <a:pt x="30984" y="21600"/>
                </a:lnTo>
                <a:lnTo>
                  <a:pt x="0" y="21600"/>
                </a:lnTo>
                <a:close/>
              </a:path>
              <a:path fill="lightenLess" w="30984" h="21600">
                <a:moveTo>
                  <a:pt x="0" y="0"/>
                </a:moveTo>
                <a:lnTo>
                  <a:pt x="30984" y="0"/>
                </a:lnTo>
                <a:lnTo>
                  <a:pt x="29584" y="1400"/>
                </a:lnTo>
                <a:lnTo>
                  <a:pt x="1400" y="1400"/>
                </a:lnTo>
                <a:close/>
              </a:path>
              <a:path fill="darken" w="30984" h="21600">
                <a:moveTo>
                  <a:pt x="30984" y="0"/>
                </a:moveTo>
                <a:lnTo>
                  <a:pt x="30984" y="21600"/>
                </a:lnTo>
                <a:lnTo>
                  <a:pt x="29584" y="20200"/>
                </a:lnTo>
                <a:lnTo>
                  <a:pt x="29584" y="1400"/>
                </a:lnTo>
                <a:close/>
              </a:path>
              <a:path fill="darkenLess" w="30984" h="21600">
                <a:moveTo>
                  <a:pt x="309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584" y="20200"/>
                </a:lnTo>
                <a:close/>
              </a:path>
              <a:path fill="lighten" w="309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984" h="21600">
                <a:moveTo>
                  <a:pt x="8486" y="7493"/>
                </a:moveTo>
                <a:lnTo>
                  <a:pt x="11993" y="7493"/>
                </a:lnTo>
                <a:lnTo>
                  <a:pt x="11993" y="12828"/>
                </a:lnTo>
                <a:cubicBezTo>
                  <a:pt x="11993" y="13751"/>
                  <a:pt x="12794" y="14482"/>
                  <a:pt x="13830" y="14482"/>
                </a:cubicBezTo>
                <a:lnTo>
                  <a:pt x="15492" y="14482"/>
                </a:lnTo>
                <a:cubicBezTo>
                  <a:pt x="16528" y="14482"/>
                  <a:pt x="17329" y="13751"/>
                  <a:pt x="17329" y="12828"/>
                </a:cubicBezTo>
                <a:lnTo>
                  <a:pt x="17329" y="7493"/>
                </a:lnTo>
                <a:lnTo>
                  <a:pt x="15492" y="7493"/>
                </a:lnTo>
                <a:lnTo>
                  <a:pt x="19000" y="3985"/>
                </a:lnTo>
                <a:lnTo>
                  <a:pt x="22673" y="7493"/>
                </a:lnTo>
                <a:lnTo>
                  <a:pt x="20836" y="7493"/>
                </a:lnTo>
                <a:lnTo>
                  <a:pt x="20836" y="12828"/>
                </a:lnTo>
                <a:cubicBezTo>
                  <a:pt x="20836" y="15596"/>
                  <a:pt x="18260" y="18155"/>
                  <a:pt x="15492" y="18155"/>
                </a:cubicBezTo>
                <a:lnTo>
                  <a:pt x="13830" y="18155"/>
                </a:lnTo>
                <a:cubicBezTo>
                  <a:pt x="11062" y="18155"/>
                  <a:pt x="8486" y="15596"/>
                  <a:pt x="8486" y="12828"/>
                </a:cubicBez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6823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33333E-006 L -0.00278 -0.42361 E">
                                      <p:cBhvr>
                                        <p:cTn id="104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3.33333E-006 L 0.00504 -0.29768 E">
                                      <p:cBhvr>
                                        <p:cTn id="108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8 2.22222E-006 L -0.26771 -0.01042 E">
                                      <p:cBhvr>
                                        <p:cTn id="112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2.22222E-006 L 0.00035 0.33588 E">
                                      <p:cBhvr>
                                        <p:cTn id="114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3.7037E-006 L 0.53593 0.00023 E">
                                      <p:cBhvr>
                                        <p:cTn id="118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0.33588 L -0.2677 -1.11111E-006 E">
                                      <p:cBhvr>
                                        <p:cTn id="121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8d1ba"/>
            </a:gs>
            <a:gs pos="50000">
              <a:srgbClr val="fefefe"/>
            </a:gs>
            <a:gs pos="100000">
              <a:srgbClr val="e8d1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308720" y="189000"/>
            <a:ext cx="1511280" cy="20178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5280" y="476280"/>
            <a:ext cx="14414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58840" y="1700280"/>
            <a:ext cx="8439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Из спичек составлена фигура. Убери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три спички так, чтобы общее число треуголь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стало равным 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Рисунок 15" descr="Спичка2.gif"/>
          <p:cNvPicPr/>
          <p:nvPr/>
        </p:nvPicPr>
        <p:blipFill>
          <a:blip r:embed="rId2"/>
          <a:stretch/>
        </p:blipFill>
        <p:spPr>
          <a:xfrm>
            <a:off x="3059280" y="436572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15" descr="Спичка2.gif"/>
          <p:cNvPicPr/>
          <p:nvPr/>
        </p:nvPicPr>
        <p:blipFill>
          <a:blip r:embed="rId3"/>
          <a:stretch/>
        </p:blipFill>
        <p:spPr>
          <a:xfrm rot="3535800">
            <a:off x="3380760" y="389952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15" descr="Спичка2.gif"/>
          <p:cNvPicPr/>
          <p:nvPr/>
        </p:nvPicPr>
        <p:blipFill>
          <a:blip r:embed="rId4"/>
          <a:stretch/>
        </p:blipFill>
        <p:spPr>
          <a:xfrm rot="7235400">
            <a:off x="2803680" y="3828240"/>
            <a:ext cx="1066680" cy="12564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5" descr="Спичка2.gif"/>
          <p:cNvPicPr/>
          <p:nvPr/>
        </p:nvPicPr>
        <p:blipFill>
          <a:blip r:embed="rId5"/>
          <a:stretch/>
        </p:blipFill>
        <p:spPr>
          <a:xfrm rot="3535800">
            <a:off x="3957120" y="483624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15" descr="Спичка2.gif"/>
          <p:cNvPicPr/>
          <p:nvPr/>
        </p:nvPicPr>
        <p:blipFill>
          <a:blip r:embed="rId6"/>
          <a:stretch/>
        </p:blipFill>
        <p:spPr>
          <a:xfrm rot="7235400">
            <a:off x="2227680" y="476316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15" descr="Спичка2.gif"/>
          <p:cNvPicPr/>
          <p:nvPr/>
        </p:nvPicPr>
        <p:blipFill>
          <a:blip r:embed="rId7"/>
          <a:stretch/>
        </p:blipFill>
        <p:spPr>
          <a:xfrm rot="7235400">
            <a:off x="1651320" y="577116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15" descr="Спичка2.gif"/>
          <p:cNvPicPr/>
          <p:nvPr/>
        </p:nvPicPr>
        <p:blipFill>
          <a:blip r:embed="rId8"/>
          <a:stretch/>
        </p:blipFill>
        <p:spPr>
          <a:xfrm rot="3535800">
            <a:off x="4532760" y="5771160"/>
            <a:ext cx="1066680" cy="12564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15" descr="Спичка2.gif"/>
          <p:cNvPicPr/>
          <p:nvPr/>
        </p:nvPicPr>
        <p:blipFill>
          <a:blip r:embed="rId9"/>
          <a:stretch/>
        </p:blipFill>
        <p:spPr>
          <a:xfrm>
            <a:off x="2482920" y="522936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15" descr="Спичка2.gif"/>
          <p:cNvPicPr/>
          <p:nvPr/>
        </p:nvPicPr>
        <p:blipFill>
          <a:blip r:embed="rId10"/>
          <a:stretch/>
        </p:blipFill>
        <p:spPr>
          <a:xfrm>
            <a:off x="3635280" y="5229360"/>
            <a:ext cx="1067040" cy="12528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15" descr="Спичка2.gif"/>
          <p:cNvPicPr/>
          <p:nvPr/>
        </p:nvPicPr>
        <p:blipFill>
          <a:blip r:embed="rId11"/>
          <a:stretch/>
        </p:blipFill>
        <p:spPr>
          <a:xfrm>
            <a:off x="1978200" y="6165720"/>
            <a:ext cx="1066680" cy="12564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15" descr="Спичка2.gif"/>
          <p:cNvPicPr/>
          <p:nvPr/>
        </p:nvPicPr>
        <p:blipFill>
          <a:blip r:embed="rId12"/>
          <a:stretch/>
        </p:blipFill>
        <p:spPr>
          <a:xfrm>
            <a:off x="3130560" y="6165720"/>
            <a:ext cx="1066680" cy="12564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15" descr="Спичка2.gif"/>
          <p:cNvPicPr/>
          <p:nvPr/>
        </p:nvPicPr>
        <p:blipFill>
          <a:blip r:embed="rId13"/>
          <a:stretch/>
        </p:blipFill>
        <p:spPr>
          <a:xfrm>
            <a:off x="4211640" y="6165720"/>
            <a:ext cx="1066680" cy="12564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15" descr="Спичка2.gif"/>
          <p:cNvPicPr/>
          <p:nvPr/>
        </p:nvPicPr>
        <p:blipFill>
          <a:blip r:embed="rId14"/>
          <a:stretch/>
        </p:blipFill>
        <p:spPr>
          <a:xfrm rot="3535800">
            <a:off x="2804040" y="4763160"/>
            <a:ext cx="1066680" cy="12564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15" descr="Спичка2.gif"/>
          <p:cNvPicPr/>
          <p:nvPr/>
        </p:nvPicPr>
        <p:blipFill>
          <a:blip r:embed="rId15"/>
          <a:stretch/>
        </p:blipFill>
        <p:spPr>
          <a:xfrm rot="3535800">
            <a:off x="2299680" y="569988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15" descr="Спичка2.gif"/>
          <p:cNvPicPr/>
          <p:nvPr/>
        </p:nvPicPr>
        <p:blipFill>
          <a:blip r:embed="rId16"/>
          <a:stretch/>
        </p:blipFill>
        <p:spPr>
          <a:xfrm rot="3535800">
            <a:off x="3380760" y="569988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15" descr="Спичка2.gif"/>
          <p:cNvPicPr/>
          <p:nvPr/>
        </p:nvPicPr>
        <p:blipFill>
          <a:blip r:embed="rId17"/>
          <a:stretch/>
        </p:blipFill>
        <p:spPr>
          <a:xfrm rot="7235400">
            <a:off x="3306960" y="4763160"/>
            <a:ext cx="1066680" cy="12564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15" descr="Спичка2.gif"/>
          <p:cNvPicPr/>
          <p:nvPr/>
        </p:nvPicPr>
        <p:blipFill>
          <a:blip r:embed="rId18"/>
          <a:stretch/>
        </p:blipFill>
        <p:spPr>
          <a:xfrm rot="7235400">
            <a:off x="2803680" y="5699880"/>
            <a:ext cx="1066680" cy="12564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15" descr="Спичка2.gif"/>
          <p:cNvPicPr/>
          <p:nvPr/>
        </p:nvPicPr>
        <p:blipFill>
          <a:blip r:embed="rId19"/>
          <a:stretch/>
        </p:blipFill>
        <p:spPr>
          <a:xfrm rot="18035400">
            <a:off x="3957120" y="5699520"/>
            <a:ext cx="1066680" cy="1252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7380360" y="6093000"/>
            <a:ext cx="1511280" cy="504720"/>
          </a:xfrm>
          <a:custGeom>
            <a:avLst/>
            <a:gdLst>
              <a:gd name="textAreaLeft" fmla="*/ 32400 w 1511280"/>
              <a:gd name="textAreaRight" fmla="*/ 1478880 w 1511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64646" h="21600">
                <a:moveTo>
                  <a:pt x="0" y="0"/>
                </a:moveTo>
                <a:lnTo>
                  <a:pt x="64646" y="0"/>
                </a:lnTo>
                <a:lnTo>
                  <a:pt x="64646" y="21600"/>
                </a:lnTo>
                <a:lnTo>
                  <a:pt x="0" y="21600"/>
                </a:lnTo>
                <a:close/>
              </a:path>
              <a:path fill="lightenLess" w="64646" h="21600">
                <a:moveTo>
                  <a:pt x="0" y="0"/>
                </a:moveTo>
                <a:lnTo>
                  <a:pt x="64646" y="0"/>
                </a:lnTo>
                <a:lnTo>
                  <a:pt x="63246" y="1400"/>
                </a:lnTo>
                <a:lnTo>
                  <a:pt x="1400" y="1400"/>
                </a:lnTo>
                <a:close/>
              </a:path>
              <a:path fill="darken" w="64646" h="21600">
                <a:moveTo>
                  <a:pt x="64646" y="0"/>
                </a:moveTo>
                <a:lnTo>
                  <a:pt x="64646" y="21600"/>
                </a:lnTo>
                <a:lnTo>
                  <a:pt x="63246" y="20200"/>
                </a:lnTo>
                <a:lnTo>
                  <a:pt x="63246" y="1400"/>
                </a:lnTo>
                <a:close/>
              </a:path>
              <a:path fill="darkenLess" w="64646" h="21600">
                <a:moveTo>
                  <a:pt x="646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6" y="20200"/>
                </a:lnTo>
                <a:close/>
              </a:path>
              <a:path fill="lighten" w="646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e8d1ba"/>
              </a:gs>
              <a:gs pos="50000">
                <a:srgbClr val="fefefe"/>
              </a:gs>
              <a:gs pos="100000">
                <a:srgbClr val="e8d1ba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твет (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124000" y="5516640"/>
            <a:ext cx="792360" cy="5763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76720" y="5516640"/>
            <a:ext cx="792000" cy="5763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356000" y="5516640"/>
            <a:ext cx="792360" cy="5763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10800000">
            <a:off x="2700360" y="5373360"/>
            <a:ext cx="792000" cy="5763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10800000">
            <a:off x="3780000" y="5373360"/>
            <a:ext cx="792000" cy="5763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700360" y="3789360"/>
            <a:ext cx="1800360" cy="13683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92360" y="3284640"/>
            <a:ext cx="3816360" cy="3024000"/>
          </a:xfrm>
          <a:prstGeom prst="triangle">
            <a:avLst>
              <a:gd name="adj" fmla="val 50000"/>
            </a:avLst>
          </a:prstGeom>
          <a:noFill/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7380360" y="4653000"/>
            <a:ext cx="863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0"/>
          <a:stretch/>
        </p:blipFill>
        <p:spPr>
          <a:xfrm>
            <a:off x="0" y="4797360"/>
            <a:ext cx="150012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7037E-006 L 0.41858 -0.14074 E">
                                      <p:cBhvr>
                                        <p:cTn id="127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2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0.00394 C 0.02135 0.00834 0.0427 0.01505 0.06423 0.01829 C 0.08663 0.02732 0.10086 0.02639 0.12708 0.02778 C 0.15208 0.02709 0.17725 0.02709 0.20225 0.02616 C 0.22239 0.02524 0.24513 0.0169 0.2651 0.01343 C 0.26718 0.0125 0.26927 0.01111 0.27135 0.01042 C 0.27447 0.00903 0.28072 0.00718 0.28072 0.00741 C 0.28819 0.00139 0.29253 -0.00578 0.29965 -0.0118 C 0.30833 -0.01898 0.3151 -0.02731 0.32309 -0.03541 C 0.325 -0.03726 0.3276 -0.03819 0.32951 -0.04004 C 0.3342 -0.04537 0.33732 -0.05509 0.34513 -0.0574 C 0.35017 -0.05902 0.35572 -0.05926 0.36076 -0.06064 C 0.37204 -0.06342 0.38246 -0.06689 0.39375 -0.06851 C 0.40243 -0.07152 0.40694 -0.07801 0.41423 -0.08264 C 0.41805 -0.08541 0.42343 -0.08564 0.42673 -0.08912 C 0.43576 -0.09814 0.446 -0.10532 0.45503 -0.11435 C 0.45868 -0.11805 0.46163 -0.12245 0.46597 -0.12523 C 0.46909 -0.12754 0.47222 -0.12939 0.47534 -0.13171 C 0.47691 -0.13264 0.48003 -0.13472 0.48003 -0.13449 C 0.48333 -0.13981 0.4875 -0.14305 0.48958 -0.14907 C 0.48888 -0.15231 0.48541 -0.1662 0.48316 -0.16944 C 0.48229 -0.17106 0.47986 -0.17152 0.47847 -0.17268 C 0.47517 -0.17569 0.47222 -0.17893 0.46909 -0.18217 C 0.46788 -0.18333 0.46597 -0.18287 0.46441 -0.18356 C 0.45677 -0.1875 0.44878 -0.18981 0.44079 -0.19305 C 0.43385 -0.19606 0.42743 -0.20162 0.42048 -0.20416 C 0.41128 -0.20764 0.40017 -0.21018 0.39062 -0.21203 C 0.33107 -0.21041 0.34704 -0.21412 0.31215 -0.20254 C 0.30138 -0.19166 0.30642 -0.1956 0.29809 -0.19004 C 0.29618 -0.18703 0.29548 -0.18333 0.2934 -0.18055 C 0.29062 -0.17708 0.28385 -0.17106 0.28385 -0.17083 C 0.28055 -0.16111 0.2776 -0.15995 0.28715 -0.1537 C 0.28941 -0.14652 0.29218 -0.14583 0.29965 -0.14583 E">
                                      <p:cBhvr>
                                        <p:cTn id="133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13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85185E-006 C 0.04011 -0.10301 0.08073 -0.20579 0.13924 -0.22291 C 0.19844 -0.24004 0.30868 -0.12407 0.35347 -0.10278 C 0.39775 -0.08148 0.40174 -0.08842 0.40643 -0.09537 E">
                                      <p:cBhvr>
                                        <p:cTn id="139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600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7000"/>
                            </p:stCondLst>
                            <p:childTnLst>
                              <p:par>
                                <p:cTn id="1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8d1ba"/>
            </a:gs>
            <a:gs pos="50000">
              <a:srgbClr val="fefefe"/>
            </a:gs>
            <a:gs pos="100000">
              <a:srgbClr val="e8d1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308720" y="189000"/>
            <a:ext cx="1511280" cy="20178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95280" y="476280"/>
            <a:ext cx="14414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5600" y="1700280"/>
            <a:ext cx="821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Из спичек составлена фигура. Убери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4 спички так, чтобы образовалось 5 квадрат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Рисунок 15" descr="Спичка2.gif"/>
          <p:cNvPicPr/>
          <p:nvPr/>
        </p:nvPicPr>
        <p:blipFill>
          <a:blip r:embed="rId2"/>
          <a:stretch/>
        </p:blipFill>
        <p:spPr>
          <a:xfrm>
            <a:off x="1403280" y="4365720"/>
            <a:ext cx="125640" cy="106668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15" descr="Спичка2.gif"/>
          <p:cNvPicPr/>
          <p:nvPr/>
        </p:nvPicPr>
        <p:blipFill>
          <a:blip r:embed="rId3"/>
          <a:stretch/>
        </p:blipFill>
        <p:spPr>
          <a:xfrm>
            <a:off x="1403280" y="3213000"/>
            <a:ext cx="125640" cy="106704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15" descr="Спичка2.gif"/>
          <p:cNvPicPr/>
          <p:nvPr/>
        </p:nvPicPr>
        <p:blipFill>
          <a:blip r:embed="rId4"/>
          <a:stretch/>
        </p:blipFill>
        <p:spPr>
          <a:xfrm>
            <a:off x="1547640" y="3141720"/>
            <a:ext cx="1067040" cy="12528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15" descr="Спичка2.gif"/>
          <p:cNvPicPr/>
          <p:nvPr/>
        </p:nvPicPr>
        <p:blipFill>
          <a:blip r:embed="rId5"/>
          <a:stretch/>
        </p:blipFill>
        <p:spPr>
          <a:xfrm>
            <a:off x="2700360" y="314172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15" descr="Спичка2.gif"/>
          <p:cNvPicPr/>
          <p:nvPr/>
        </p:nvPicPr>
        <p:blipFill>
          <a:blip r:embed="rId6"/>
          <a:stretch/>
        </p:blipFill>
        <p:spPr>
          <a:xfrm>
            <a:off x="1476360" y="659772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15" descr="Спичка2.gif"/>
          <p:cNvPicPr/>
          <p:nvPr/>
        </p:nvPicPr>
        <p:blipFill>
          <a:blip r:embed="rId7"/>
          <a:stretch/>
        </p:blipFill>
        <p:spPr>
          <a:xfrm>
            <a:off x="3851280" y="314172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15" descr="Спичка2.gif"/>
          <p:cNvPicPr/>
          <p:nvPr/>
        </p:nvPicPr>
        <p:blipFill>
          <a:blip r:embed="rId8"/>
          <a:stretch/>
        </p:blipFill>
        <p:spPr>
          <a:xfrm>
            <a:off x="2627280" y="6597720"/>
            <a:ext cx="1066680" cy="1252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7380360" y="6093000"/>
            <a:ext cx="1511280" cy="504720"/>
          </a:xfrm>
          <a:custGeom>
            <a:avLst/>
            <a:gdLst>
              <a:gd name="textAreaLeft" fmla="*/ 32400 w 1511280"/>
              <a:gd name="textAreaRight" fmla="*/ 1478880 w 1511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64646" h="21600">
                <a:moveTo>
                  <a:pt x="0" y="0"/>
                </a:moveTo>
                <a:lnTo>
                  <a:pt x="64646" y="0"/>
                </a:lnTo>
                <a:lnTo>
                  <a:pt x="64646" y="21600"/>
                </a:lnTo>
                <a:lnTo>
                  <a:pt x="0" y="21600"/>
                </a:lnTo>
                <a:close/>
              </a:path>
              <a:path fill="lightenLess" w="64646" h="21600">
                <a:moveTo>
                  <a:pt x="0" y="0"/>
                </a:moveTo>
                <a:lnTo>
                  <a:pt x="64646" y="0"/>
                </a:lnTo>
                <a:lnTo>
                  <a:pt x="63246" y="1400"/>
                </a:lnTo>
                <a:lnTo>
                  <a:pt x="1400" y="1400"/>
                </a:lnTo>
                <a:close/>
              </a:path>
              <a:path fill="darken" w="64646" h="21600">
                <a:moveTo>
                  <a:pt x="64646" y="0"/>
                </a:moveTo>
                <a:lnTo>
                  <a:pt x="64646" y="21600"/>
                </a:lnTo>
                <a:lnTo>
                  <a:pt x="63246" y="20200"/>
                </a:lnTo>
                <a:lnTo>
                  <a:pt x="63246" y="1400"/>
                </a:lnTo>
                <a:close/>
              </a:path>
              <a:path fill="darkenLess" w="64646" h="21600">
                <a:moveTo>
                  <a:pt x="646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6" y="20200"/>
                </a:lnTo>
                <a:close/>
              </a:path>
              <a:path fill="lighten" w="646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e8d1ba"/>
              </a:gs>
              <a:gs pos="50000">
                <a:srgbClr val="fefefe"/>
              </a:gs>
              <a:gs pos="100000">
                <a:srgbClr val="e8d1ba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твет (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7380360" y="4653000"/>
            <a:ext cx="647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44" name="Рисунок 15" descr="Спичка2.gif"/>
          <p:cNvPicPr/>
          <p:nvPr/>
        </p:nvPicPr>
        <p:blipFill>
          <a:blip r:embed="rId9"/>
          <a:stretch/>
        </p:blipFill>
        <p:spPr>
          <a:xfrm>
            <a:off x="1403280" y="5516640"/>
            <a:ext cx="125640" cy="106668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15" descr="Спичка2.gif"/>
          <p:cNvPicPr/>
          <p:nvPr/>
        </p:nvPicPr>
        <p:blipFill>
          <a:blip r:embed="rId10"/>
          <a:stretch/>
        </p:blipFill>
        <p:spPr>
          <a:xfrm>
            <a:off x="3708360" y="3213000"/>
            <a:ext cx="125280" cy="106704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15" descr="Спичка2.gif"/>
          <p:cNvPicPr/>
          <p:nvPr/>
        </p:nvPicPr>
        <p:blipFill>
          <a:blip r:embed="rId11"/>
          <a:stretch/>
        </p:blipFill>
        <p:spPr>
          <a:xfrm>
            <a:off x="2484360" y="4365720"/>
            <a:ext cx="125640" cy="106668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15" descr="Спичка2.gif"/>
          <p:cNvPicPr/>
          <p:nvPr/>
        </p:nvPicPr>
        <p:blipFill>
          <a:blip r:embed="rId12"/>
          <a:stretch/>
        </p:blipFill>
        <p:spPr>
          <a:xfrm>
            <a:off x="4859280" y="3213000"/>
            <a:ext cx="125640" cy="106704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15" descr="Спичка2.gif"/>
          <p:cNvPicPr/>
          <p:nvPr/>
        </p:nvPicPr>
        <p:blipFill>
          <a:blip r:embed="rId13"/>
          <a:stretch/>
        </p:blipFill>
        <p:spPr>
          <a:xfrm>
            <a:off x="4859280" y="5516640"/>
            <a:ext cx="125640" cy="106668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15" descr="Спичка2.gif"/>
          <p:cNvPicPr/>
          <p:nvPr/>
        </p:nvPicPr>
        <p:blipFill>
          <a:blip r:embed="rId14"/>
          <a:stretch/>
        </p:blipFill>
        <p:spPr>
          <a:xfrm>
            <a:off x="2484360" y="5516640"/>
            <a:ext cx="125640" cy="106668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15" descr="Спичка2.gif"/>
          <p:cNvPicPr/>
          <p:nvPr/>
        </p:nvPicPr>
        <p:blipFill>
          <a:blip r:embed="rId15"/>
          <a:stretch/>
        </p:blipFill>
        <p:spPr>
          <a:xfrm>
            <a:off x="2556000" y="3213000"/>
            <a:ext cx="125280" cy="106704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15" descr="Спичка2.gif"/>
          <p:cNvPicPr/>
          <p:nvPr/>
        </p:nvPicPr>
        <p:blipFill>
          <a:blip r:embed="rId16"/>
          <a:stretch/>
        </p:blipFill>
        <p:spPr>
          <a:xfrm>
            <a:off x="3780000" y="659772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15" descr="Спичка2.gif"/>
          <p:cNvPicPr/>
          <p:nvPr/>
        </p:nvPicPr>
        <p:blipFill>
          <a:blip r:embed="rId17"/>
          <a:stretch/>
        </p:blipFill>
        <p:spPr>
          <a:xfrm>
            <a:off x="3708360" y="5516640"/>
            <a:ext cx="125280" cy="106668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15" descr="Спичка2.gif"/>
          <p:cNvPicPr/>
          <p:nvPr/>
        </p:nvPicPr>
        <p:blipFill>
          <a:blip r:embed="rId18"/>
          <a:stretch/>
        </p:blipFill>
        <p:spPr>
          <a:xfrm>
            <a:off x="3708360" y="4365720"/>
            <a:ext cx="125280" cy="106668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15" descr="Спичка2.gif"/>
          <p:cNvPicPr/>
          <p:nvPr/>
        </p:nvPicPr>
        <p:blipFill>
          <a:blip r:embed="rId19"/>
          <a:stretch/>
        </p:blipFill>
        <p:spPr>
          <a:xfrm>
            <a:off x="4859280" y="4365720"/>
            <a:ext cx="125640" cy="106668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15" descr="Спичка2.gif"/>
          <p:cNvPicPr/>
          <p:nvPr/>
        </p:nvPicPr>
        <p:blipFill>
          <a:blip r:embed="rId20"/>
          <a:stretch/>
        </p:blipFill>
        <p:spPr>
          <a:xfrm>
            <a:off x="1547640" y="4292640"/>
            <a:ext cx="1067040" cy="12528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15" descr="Спичка2.gif"/>
          <p:cNvPicPr/>
          <p:nvPr/>
        </p:nvPicPr>
        <p:blipFill>
          <a:blip r:embed="rId21"/>
          <a:stretch/>
        </p:blipFill>
        <p:spPr>
          <a:xfrm>
            <a:off x="3851280" y="429264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15" descr="Спичка2.gif"/>
          <p:cNvPicPr/>
          <p:nvPr/>
        </p:nvPicPr>
        <p:blipFill>
          <a:blip r:embed="rId22"/>
          <a:stretch/>
        </p:blipFill>
        <p:spPr>
          <a:xfrm>
            <a:off x="2627280" y="537372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15" descr="Спичка2.gif"/>
          <p:cNvPicPr/>
          <p:nvPr/>
        </p:nvPicPr>
        <p:blipFill>
          <a:blip r:embed="rId23"/>
          <a:stretch/>
        </p:blipFill>
        <p:spPr>
          <a:xfrm>
            <a:off x="3851280" y="537372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15" descr="Спичка2.gif"/>
          <p:cNvPicPr/>
          <p:nvPr/>
        </p:nvPicPr>
        <p:blipFill>
          <a:blip r:embed="rId24"/>
          <a:stretch/>
        </p:blipFill>
        <p:spPr>
          <a:xfrm>
            <a:off x="1476360" y="537372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15" descr="Спичка2.gif"/>
          <p:cNvPicPr/>
          <p:nvPr/>
        </p:nvPicPr>
        <p:blipFill>
          <a:blip r:embed="rId25"/>
          <a:stretch/>
        </p:blipFill>
        <p:spPr>
          <a:xfrm>
            <a:off x="2700360" y="4292640"/>
            <a:ext cx="1066680" cy="1252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619280" y="3357720"/>
            <a:ext cx="865080" cy="863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924360" y="3357720"/>
            <a:ext cx="865080" cy="863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71640" y="4508640"/>
            <a:ext cx="865440" cy="86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19280" y="5589720"/>
            <a:ext cx="865080" cy="86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924360" y="5589720"/>
            <a:ext cx="865080" cy="86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6"/>
          <a:stretch/>
        </p:blipFill>
        <p:spPr>
          <a:xfrm>
            <a:off x="0" y="4797360"/>
            <a:ext cx="150012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1.11111E-006 L 0.41736 0.08403 E">
                                      <p:cBhvr>
                                        <p:cTn id="180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8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8.67362E-019 L 0.27552 -0.19954 E">
                                      <p:cBhvr>
                                        <p:cTn id="186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188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85185E-006 L 0.63004 -0.17847 E">
                                      <p:cBhvr>
                                        <p:cTn id="192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194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3.7037E-006 L 0.40157 -0.45139 E">
                                      <p:cBhvr>
                                        <p:cTn id="198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400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6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800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8d1ba"/>
            </a:gs>
            <a:gs pos="50000">
              <a:srgbClr val="fefefe"/>
            </a:gs>
            <a:gs pos="100000">
              <a:srgbClr val="e8d1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7308720" y="189000"/>
            <a:ext cx="1511280" cy="20178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95280" y="476280"/>
            <a:ext cx="14414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21040" y="1773360"/>
            <a:ext cx="6063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Переложить одну спичку так, что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получилось верное равен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Рисунок 15" descr="Спичка2.gif"/>
          <p:cNvPicPr/>
          <p:nvPr/>
        </p:nvPicPr>
        <p:blipFill>
          <a:blip r:embed="rId2"/>
          <a:stretch/>
        </p:blipFill>
        <p:spPr>
          <a:xfrm rot="7320000">
            <a:off x="1508400" y="361224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15" descr="Спичка2.gif"/>
          <p:cNvPicPr/>
          <p:nvPr/>
        </p:nvPicPr>
        <p:blipFill>
          <a:blip r:embed="rId3"/>
          <a:stretch/>
        </p:blipFill>
        <p:spPr>
          <a:xfrm>
            <a:off x="4932360" y="342900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15" descr="Спичка2.gif"/>
          <p:cNvPicPr/>
          <p:nvPr/>
        </p:nvPicPr>
        <p:blipFill>
          <a:blip r:embed="rId4"/>
          <a:stretch/>
        </p:blipFill>
        <p:spPr>
          <a:xfrm rot="4694400">
            <a:off x="3884760" y="5051880"/>
            <a:ext cx="1067040" cy="1256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380360" y="6093000"/>
            <a:ext cx="1511280" cy="504720"/>
          </a:xfrm>
          <a:custGeom>
            <a:avLst/>
            <a:gdLst>
              <a:gd name="textAreaLeft" fmla="*/ 32400 w 1511280"/>
              <a:gd name="textAreaRight" fmla="*/ 1478880 w 1511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64646" h="21600">
                <a:moveTo>
                  <a:pt x="0" y="0"/>
                </a:moveTo>
                <a:lnTo>
                  <a:pt x="64646" y="0"/>
                </a:lnTo>
                <a:lnTo>
                  <a:pt x="64646" y="21600"/>
                </a:lnTo>
                <a:lnTo>
                  <a:pt x="0" y="21600"/>
                </a:lnTo>
                <a:close/>
              </a:path>
              <a:path fill="lightenLess" w="64646" h="21600">
                <a:moveTo>
                  <a:pt x="0" y="0"/>
                </a:moveTo>
                <a:lnTo>
                  <a:pt x="64646" y="0"/>
                </a:lnTo>
                <a:lnTo>
                  <a:pt x="63246" y="1400"/>
                </a:lnTo>
                <a:lnTo>
                  <a:pt x="1400" y="1400"/>
                </a:lnTo>
                <a:close/>
              </a:path>
              <a:path fill="darken" w="64646" h="21600">
                <a:moveTo>
                  <a:pt x="64646" y="0"/>
                </a:moveTo>
                <a:lnTo>
                  <a:pt x="64646" y="21600"/>
                </a:lnTo>
                <a:lnTo>
                  <a:pt x="63246" y="20200"/>
                </a:lnTo>
                <a:lnTo>
                  <a:pt x="63246" y="1400"/>
                </a:lnTo>
                <a:close/>
              </a:path>
              <a:path fill="darkenLess" w="64646" h="21600">
                <a:moveTo>
                  <a:pt x="646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6" y="20200"/>
                </a:lnTo>
                <a:close/>
              </a:path>
              <a:path fill="lighten" w="646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e8d1ba"/>
              </a:gs>
              <a:gs pos="50000">
                <a:srgbClr val="fefefe"/>
              </a:gs>
              <a:gs pos="100000">
                <a:srgbClr val="e8d1ba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твет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Рисунок 15" descr="Спичка2.gif"/>
          <p:cNvPicPr/>
          <p:nvPr/>
        </p:nvPicPr>
        <p:blipFill>
          <a:blip r:embed="rId5"/>
          <a:stretch/>
        </p:blipFill>
        <p:spPr>
          <a:xfrm rot="4321800">
            <a:off x="1364760" y="512352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15" descr="Спичка2.gif"/>
          <p:cNvPicPr/>
          <p:nvPr/>
        </p:nvPicPr>
        <p:blipFill>
          <a:blip r:embed="rId6"/>
          <a:stretch/>
        </p:blipFill>
        <p:spPr>
          <a:xfrm>
            <a:off x="3132000" y="3141720"/>
            <a:ext cx="125640" cy="106668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15" descr="Спичка2.gif"/>
          <p:cNvPicPr/>
          <p:nvPr/>
        </p:nvPicPr>
        <p:blipFill>
          <a:blip r:embed="rId7"/>
          <a:stretch/>
        </p:blipFill>
        <p:spPr>
          <a:xfrm>
            <a:off x="4068720" y="4581360"/>
            <a:ext cx="125280" cy="106704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15" descr="Спичка2.gif"/>
          <p:cNvPicPr/>
          <p:nvPr/>
        </p:nvPicPr>
        <p:blipFill>
          <a:blip r:embed="rId8"/>
          <a:stretch/>
        </p:blipFill>
        <p:spPr>
          <a:xfrm>
            <a:off x="2556000" y="4581360"/>
            <a:ext cx="125280" cy="106704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15" descr="Спичка2.gif"/>
          <p:cNvPicPr/>
          <p:nvPr/>
        </p:nvPicPr>
        <p:blipFill>
          <a:blip r:embed="rId9"/>
          <a:stretch/>
        </p:blipFill>
        <p:spPr>
          <a:xfrm rot="14490000">
            <a:off x="1508760" y="361224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15" descr="Спичка2.gif"/>
          <p:cNvPicPr/>
          <p:nvPr/>
        </p:nvPicPr>
        <p:blipFill>
          <a:blip r:embed="rId10"/>
          <a:stretch/>
        </p:blipFill>
        <p:spPr>
          <a:xfrm rot="6505800">
            <a:off x="4172040" y="5051880"/>
            <a:ext cx="1067040" cy="12564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15" descr="Спичка2.gif"/>
          <p:cNvPicPr/>
          <p:nvPr/>
        </p:nvPicPr>
        <p:blipFill>
          <a:blip r:embed="rId11"/>
          <a:stretch/>
        </p:blipFill>
        <p:spPr>
          <a:xfrm rot="17062800">
            <a:off x="1724400" y="5051880"/>
            <a:ext cx="1067040" cy="125280"/>
          </a:xfrm>
          <a:prstGeom prst="rect">
            <a:avLst/>
          </a:prstGeom>
          <a:ln w="0">
            <a:noFill/>
          </a:ln>
        </p:spPr>
      </p:pic>
      <p:pic>
        <p:nvPicPr>
          <p:cNvPr id="182" name="Рисунок 15" descr="Спичка2.gif"/>
          <p:cNvPicPr/>
          <p:nvPr/>
        </p:nvPicPr>
        <p:blipFill>
          <a:blip r:embed="rId12"/>
          <a:stretch/>
        </p:blipFill>
        <p:spPr>
          <a:xfrm>
            <a:off x="6372360" y="3141720"/>
            <a:ext cx="125280" cy="1066680"/>
          </a:xfrm>
          <a:prstGeom prst="rect">
            <a:avLst/>
          </a:prstGeom>
          <a:ln w="0">
            <a:noFill/>
          </a:ln>
        </p:spPr>
      </p:pic>
      <p:pic>
        <p:nvPicPr>
          <p:cNvPr id="183" name="Рисунок 15" descr="Спичка2.gif"/>
          <p:cNvPicPr/>
          <p:nvPr/>
        </p:nvPicPr>
        <p:blipFill>
          <a:blip r:embed="rId13"/>
          <a:stretch/>
        </p:blipFill>
        <p:spPr>
          <a:xfrm>
            <a:off x="2627280" y="3573360"/>
            <a:ext cx="1066680" cy="125640"/>
          </a:xfrm>
          <a:prstGeom prst="rect">
            <a:avLst/>
          </a:prstGeom>
          <a:ln w="0">
            <a:noFill/>
          </a:ln>
        </p:spPr>
      </p:pic>
      <p:pic>
        <p:nvPicPr>
          <p:cNvPr id="184" name="Рисунок 15" descr="Спичка2.gif"/>
          <p:cNvPicPr/>
          <p:nvPr/>
        </p:nvPicPr>
        <p:blipFill>
          <a:blip r:embed="rId14"/>
          <a:stretch/>
        </p:blipFill>
        <p:spPr>
          <a:xfrm>
            <a:off x="2843280" y="501336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15" descr="Спичка2.gif"/>
          <p:cNvPicPr/>
          <p:nvPr/>
        </p:nvPicPr>
        <p:blipFill>
          <a:blip r:embed="rId15"/>
          <a:stretch/>
        </p:blipFill>
        <p:spPr>
          <a:xfrm>
            <a:off x="4932360" y="378936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15" descr="Спичка2.gif"/>
          <p:cNvPicPr/>
          <p:nvPr/>
        </p:nvPicPr>
        <p:blipFill>
          <a:blip r:embed="rId16"/>
          <a:stretch/>
        </p:blipFill>
        <p:spPr>
          <a:xfrm rot="7320000">
            <a:off x="3740400" y="361224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87" name="Рисунок 15" descr="Спичка2.gif"/>
          <p:cNvPicPr/>
          <p:nvPr/>
        </p:nvPicPr>
        <p:blipFill>
          <a:blip r:embed="rId17"/>
          <a:stretch/>
        </p:blipFill>
        <p:spPr>
          <a:xfrm rot="14490000">
            <a:off x="3740760" y="361224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88" name="Рисунок 15" descr="Спичка2.gif"/>
          <p:cNvPicPr/>
          <p:nvPr/>
        </p:nvPicPr>
        <p:blipFill>
          <a:blip r:embed="rId18"/>
          <a:stretch/>
        </p:blipFill>
        <p:spPr>
          <a:xfrm>
            <a:off x="5003640" y="4869000"/>
            <a:ext cx="1067040" cy="125280"/>
          </a:xfrm>
          <a:prstGeom prst="rect">
            <a:avLst/>
          </a:prstGeom>
          <a:ln w="0">
            <a:noFill/>
          </a:ln>
        </p:spPr>
      </p:pic>
      <p:pic>
        <p:nvPicPr>
          <p:cNvPr id="189" name="Рисунок 15" descr="Спичка2.gif"/>
          <p:cNvPicPr/>
          <p:nvPr/>
        </p:nvPicPr>
        <p:blipFill>
          <a:blip r:embed="rId19"/>
          <a:stretch/>
        </p:blipFill>
        <p:spPr>
          <a:xfrm>
            <a:off x="6443640" y="4581360"/>
            <a:ext cx="125280" cy="106704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15" descr="Спичка2.gif"/>
          <p:cNvPicPr/>
          <p:nvPr/>
        </p:nvPicPr>
        <p:blipFill>
          <a:blip r:embed="rId20"/>
          <a:stretch/>
        </p:blipFill>
        <p:spPr>
          <a:xfrm>
            <a:off x="5003640" y="5229360"/>
            <a:ext cx="1067040" cy="12528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15" descr="Спичка2.gif"/>
          <p:cNvPicPr/>
          <p:nvPr/>
        </p:nvPicPr>
        <p:blipFill>
          <a:blip r:embed="rId21"/>
          <a:stretch/>
        </p:blipFill>
        <p:spPr>
          <a:xfrm rot="7320000">
            <a:off x="6405840" y="512352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92" name="Рисунок 15" descr="Спичка2.gif"/>
          <p:cNvPicPr/>
          <p:nvPr/>
        </p:nvPicPr>
        <p:blipFill>
          <a:blip r:embed="rId22"/>
          <a:stretch/>
        </p:blipFill>
        <p:spPr>
          <a:xfrm rot="14490000">
            <a:off x="6406200" y="512352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3"/>
          <a:stretch/>
        </p:blipFill>
        <p:spPr>
          <a:xfrm>
            <a:off x="0" y="4797360"/>
            <a:ext cx="150012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228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1.85185E-006 L 0.07083 -1.85185E-006 E">
                                      <p:cBhvr>
                                        <p:cTn id="231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6 8.14815E-006 L 0.07883 8.14815E-006 E">
                                      <p:cBhvr>
                                        <p:cTn id="235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8d1ba"/>
            </a:gs>
            <a:gs pos="50000">
              <a:srgbClr val="fefefe"/>
            </a:gs>
            <a:gs pos="100000">
              <a:srgbClr val="e8d1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7308720" y="189000"/>
            <a:ext cx="1511280" cy="20178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95280" y="476280"/>
            <a:ext cx="14414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74520" y="1557360"/>
            <a:ext cx="508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Переложить 4 спички так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чтобы получилось 3 квадра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380360" y="6093000"/>
            <a:ext cx="1511280" cy="504720"/>
          </a:xfrm>
          <a:custGeom>
            <a:avLst/>
            <a:gdLst>
              <a:gd name="textAreaLeft" fmla="*/ 32400 w 1511280"/>
              <a:gd name="textAreaRight" fmla="*/ 1478880 w 1511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64646" h="21600">
                <a:moveTo>
                  <a:pt x="0" y="0"/>
                </a:moveTo>
                <a:lnTo>
                  <a:pt x="64646" y="0"/>
                </a:lnTo>
                <a:lnTo>
                  <a:pt x="64646" y="21600"/>
                </a:lnTo>
                <a:lnTo>
                  <a:pt x="0" y="21600"/>
                </a:lnTo>
                <a:close/>
              </a:path>
              <a:path fill="lightenLess" w="64646" h="21600">
                <a:moveTo>
                  <a:pt x="0" y="0"/>
                </a:moveTo>
                <a:lnTo>
                  <a:pt x="64646" y="0"/>
                </a:lnTo>
                <a:lnTo>
                  <a:pt x="63246" y="1400"/>
                </a:lnTo>
                <a:lnTo>
                  <a:pt x="1400" y="1400"/>
                </a:lnTo>
                <a:close/>
              </a:path>
              <a:path fill="darken" w="64646" h="21600">
                <a:moveTo>
                  <a:pt x="64646" y="0"/>
                </a:moveTo>
                <a:lnTo>
                  <a:pt x="64646" y="21600"/>
                </a:lnTo>
                <a:lnTo>
                  <a:pt x="63246" y="20200"/>
                </a:lnTo>
                <a:lnTo>
                  <a:pt x="63246" y="1400"/>
                </a:lnTo>
                <a:close/>
              </a:path>
              <a:path fill="darkenLess" w="64646" h="21600">
                <a:moveTo>
                  <a:pt x="646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6" y="20200"/>
                </a:lnTo>
                <a:close/>
              </a:path>
              <a:path fill="lighten" w="646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e8d1ba"/>
              </a:gs>
              <a:gs pos="50000">
                <a:srgbClr val="fefefe"/>
              </a:gs>
              <a:gs pos="100000">
                <a:srgbClr val="e8d1ba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твет (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7380360" y="4292640"/>
            <a:ext cx="647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195640" y="3068640"/>
            <a:ext cx="2087280" cy="1942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348000" y="4292640"/>
            <a:ext cx="2087640" cy="1942920"/>
          </a:xfrm>
          <a:prstGeom prst="rect">
            <a:avLst/>
          </a:prstGeom>
          <a:solidFill>
            <a:srgbClr val="99ccff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Рисунок 15" descr="Спичка2.gif"/>
          <p:cNvPicPr/>
          <p:nvPr/>
        </p:nvPicPr>
        <p:blipFill>
          <a:blip r:embed="rId2"/>
          <a:stretch/>
        </p:blipFill>
        <p:spPr>
          <a:xfrm>
            <a:off x="2050920" y="2924280"/>
            <a:ext cx="125640" cy="1066680"/>
          </a:xfrm>
          <a:prstGeom prst="rect">
            <a:avLst/>
          </a:prstGeom>
          <a:ln w="0">
            <a:noFill/>
          </a:ln>
        </p:spPr>
      </p:pic>
      <p:pic>
        <p:nvPicPr>
          <p:cNvPr id="203" name="Рисунок 15" descr="Спичка2.gif"/>
          <p:cNvPicPr/>
          <p:nvPr/>
        </p:nvPicPr>
        <p:blipFill>
          <a:blip r:embed="rId3"/>
          <a:stretch/>
        </p:blipFill>
        <p:spPr>
          <a:xfrm>
            <a:off x="2195640" y="2852640"/>
            <a:ext cx="1066680" cy="125640"/>
          </a:xfrm>
          <a:prstGeom prst="rect">
            <a:avLst/>
          </a:prstGeom>
          <a:ln w="0">
            <a:noFill/>
          </a:ln>
        </p:spPr>
      </p:pic>
      <p:pic>
        <p:nvPicPr>
          <p:cNvPr id="204" name="Рисунок 15" descr="Спичка2.gif"/>
          <p:cNvPicPr/>
          <p:nvPr/>
        </p:nvPicPr>
        <p:blipFill>
          <a:blip r:embed="rId4"/>
          <a:stretch/>
        </p:blipFill>
        <p:spPr>
          <a:xfrm>
            <a:off x="2124000" y="6308640"/>
            <a:ext cx="1067040" cy="125640"/>
          </a:xfrm>
          <a:prstGeom prst="rect">
            <a:avLst/>
          </a:prstGeom>
          <a:ln w="0">
            <a:noFill/>
          </a:ln>
        </p:spPr>
      </p:pic>
      <p:pic>
        <p:nvPicPr>
          <p:cNvPr id="205" name="Рисунок 15" descr="Спичка2.gif"/>
          <p:cNvPicPr/>
          <p:nvPr/>
        </p:nvPicPr>
        <p:blipFill>
          <a:blip r:embed="rId5"/>
          <a:stretch/>
        </p:blipFill>
        <p:spPr>
          <a:xfrm>
            <a:off x="4427640" y="2852640"/>
            <a:ext cx="1066680" cy="12564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15" descr="Спичка2.gif"/>
          <p:cNvPicPr/>
          <p:nvPr/>
        </p:nvPicPr>
        <p:blipFill>
          <a:blip r:embed="rId6"/>
          <a:stretch/>
        </p:blipFill>
        <p:spPr>
          <a:xfrm>
            <a:off x="2050920" y="5227560"/>
            <a:ext cx="12564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Рисунок 15" descr="Спичка2.gif"/>
          <p:cNvPicPr/>
          <p:nvPr/>
        </p:nvPicPr>
        <p:blipFill>
          <a:blip r:embed="rId7"/>
          <a:stretch/>
        </p:blipFill>
        <p:spPr>
          <a:xfrm>
            <a:off x="5506920" y="4076640"/>
            <a:ext cx="125640" cy="1067040"/>
          </a:xfrm>
          <a:prstGeom prst="rect">
            <a:avLst/>
          </a:prstGeom>
          <a:ln w="0">
            <a:noFill/>
          </a:ln>
        </p:spPr>
      </p:pic>
      <p:pic>
        <p:nvPicPr>
          <p:cNvPr id="208" name="Рисунок 15" descr="Спичка2.gif"/>
          <p:cNvPicPr/>
          <p:nvPr/>
        </p:nvPicPr>
        <p:blipFill>
          <a:blip r:embed="rId8"/>
          <a:stretch/>
        </p:blipFill>
        <p:spPr>
          <a:xfrm>
            <a:off x="3203640" y="4076640"/>
            <a:ext cx="125280" cy="1067040"/>
          </a:xfrm>
          <a:prstGeom prst="rect">
            <a:avLst/>
          </a:prstGeom>
          <a:ln w="0">
            <a:noFill/>
          </a:ln>
        </p:spPr>
      </p:pic>
      <p:pic>
        <p:nvPicPr>
          <p:cNvPr id="209" name="Рисунок 15" descr="Спичка2.gif"/>
          <p:cNvPicPr/>
          <p:nvPr/>
        </p:nvPicPr>
        <p:blipFill>
          <a:blip r:embed="rId9"/>
          <a:stretch/>
        </p:blipFill>
        <p:spPr>
          <a:xfrm>
            <a:off x="5506920" y="2924280"/>
            <a:ext cx="125640" cy="1066680"/>
          </a:xfrm>
          <a:prstGeom prst="rect">
            <a:avLst/>
          </a:prstGeom>
          <a:ln w="0">
            <a:noFill/>
          </a:ln>
        </p:spPr>
      </p:pic>
      <p:pic>
        <p:nvPicPr>
          <p:cNvPr id="210" name="Рисунок 15" descr="Спичка2.gif"/>
          <p:cNvPicPr/>
          <p:nvPr/>
        </p:nvPicPr>
        <p:blipFill>
          <a:blip r:embed="rId10"/>
          <a:stretch/>
        </p:blipFill>
        <p:spPr>
          <a:xfrm>
            <a:off x="5506920" y="5227560"/>
            <a:ext cx="125640" cy="106704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15" descr="Спичка2.gif"/>
          <p:cNvPicPr/>
          <p:nvPr/>
        </p:nvPicPr>
        <p:blipFill>
          <a:blip r:embed="rId11"/>
          <a:stretch/>
        </p:blipFill>
        <p:spPr>
          <a:xfrm>
            <a:off x="2050920" y="4076640"/>
            <a:ext cx="125640" cy="1067040"/>
          </a:xfrm>
          <a:prstGeom prst="rect">
            <a:avLst/>
          </a:prstGeom>
          <a:ln w="0">
            <a:noFill/>
          </a:ln>
        </p:spPr>
      </p:pic>
      <p:pic>
        <p:nvPicPr>
          <p:cNvPr id="212" name="Рисунок 15" descr="Спичка2.gif"/>
          <p:cNvPicPr/>
          <p:nvPr/>
        </p:nvPicPr>
        <p:blipFill>
          <a:blip r:embed="rId12"/>
          <a:stretch/>
        </p:blipFill>
        <p:spPr>
          <a:xfrm>
            <a:off x="4427640" y="6308640"/>
            <a:ext cx="1066680" cy="125640"/>
          </a:xfrm>
          <a:prstGeom prst="rect">
            <a:avLst/>
          </a:prstGeom>
          <a:ln w="0">
            <a:noFill/>
          </a:ln>
        </p:spPr>
      </p:pic>
      <p:pic>
        <p:nvPicPr>
          <p:cNvPr id="213" name="Рисунок 15" descr="Спичка2.gif"/>
          <p:cNvPicPr/>
          <p:nvPr/>
        </p:nvPicPr>
        <p:blipFill>
          <a:blip r:embed="rId13"/>
          <a:stretch/>
        </p:blipFill>
        <p:spPr>
          <a:xfrm>
            <a:off x="4356000" y="4076640"/>
            <a:ext cx="125640" cy="1067040"/>
          </a:xfrm>
          <a:prstGeom prst="rect">
            <a:avLst/>
          </a:prstGeom>
          <a:ln w="0">
            <a:noFill/>
          </a:ln>
        </p:spPr>
      </p:pic>
      <p:pic>
        <p:nvPicPr>
          <p:cNvPr id="214" name="Рисунок 15" descr="Спичка2.gif"/>
          <p:cNvPicPr/>
          <p:nvPr/>
        </p:nvPicPr>
        <p:blipFill>
          <a:blip r:embed="rId14"/>
          <a:stretch/>
        </p:blipFill>
        <p:spPr>
          <a:xfrm>
            <a:off x="3274920" y="2852640"/>
            <a:ext cx="1067040" cy="12564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15" descr="Спичка2.gif"/>
          <p:cNvPicPr/>
          <p:nvPr/>
        </p:nvPicPr>
        <p:blipFill>
          <a:blip r:embed="rId15"/>
          <a:stretch/>
        </p:blipFill>
        <p:spPr>
          <a:xfrm>
            <a:off x="3274920" y="5084640"/>
            <a:ext cx="1067040" cy="125640"/>
          </a:xfrm>
          <a:prstGeom prst="rect">
            <a:avLst/>
          </a:prstGeom>
          <a:ln w="0">
            <a:noFill/>
          </a:ln>
        </p:spPr>
      </p:pic>
      <p:pic>
        <p:nvPicPr>
          <p:cNvPr id="216" name="Рисунок 15" descr="Спичка2.gif"/>
          <p:cNvPicPr/>
          <p:nvPr/>
        </p:nvPicPr>
        <p:blipFill>
          <a:blip r:embed="rId16"/>
          <a:stretch/>
        </p:blipFill>
        <p:spPr>
          <a:xfrm>
            <a:off x="3274920" y="6308640"/>
            <a:ext cx="1067040" cy="125640"/>
          </a:xfrm>
          <a:prstGeom prst="rect">
            <a:avLst/>
          </a:prstGeom>
          <a:ln w="0">
            <a:noFill/>
          </a:ln>
        </p:spPr>
      </p:pic>
      <p:pic>
        <p:nvPicPr>
          <p:cNvPr id="217" name="Рисунок 15" descr="Спичка2.gif"/>
          <p:cNvPicPr/>
          <p:nvPr/>
        </p:nvPicPr>
        <p:blipFill>
          <a:blip r:embed="rId17"/>
          <a:stretch/>
        </p:blipFill>
        <p:spPr>
          <a:xfrm>
            <a:off x="3348000" y="4003560"/>
            <a:ext cx="1066680" cy="125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419640" y="4149720"/>
            <a:ext cx="865080" cy="86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8"/>
          <a:stretch/>
        </p:blipFill>
        <p:spPr>
          <a:xfrm>
            <a:off x="0" y="4797360"/>
            <a:ext cx="150012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238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59259E-006 L 0.00468 0.16944 E">
                                      <p:cBhvr>
                                        <p:cTn id="241" dur="2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4.07407E-006 L -0.12483 0.00625 E">
                                      <p:cBhvr>
                                        <p:cTn id="243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1.11111E-006 L -1.38889E-006 -0.17847 E">
                                      <p:cBhvr>
                                        <p:cTn id="247" dur="2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8.67362E-019 L 0.11823 8.67362E-019 E">
                                      <p:cBhvr>
                                        <p:cTn id="249" dur="20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400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6000"/>
                            </p:stCondLst>
                            <p:childTnLst>
                              <p:par>
                                <p:cTn id="2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0T06:15:49Z</dcterms:created>
  <dc:creator>Мама</dc:creator>
  <dc:description/>
  <dc:language>en-US</dc:language>
  <cp:lastModifiedBy>Мама</cp:lastModifiedBy>
  <dcterms:modified xsi:type="dcterms:W3CDTF">2013-06-13T11:43:09Z</dcterms:modified>
  <cp:revision>17</cp:revision>
  <dc:subject/>
  <dc:title>Слайд 1</dc:title>
</cp:coreProperties>
</file>