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9CF4-731A-4F06-A67F-D7F98FA78F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Учить решать задачи со спичками, практическим путём научить предвидеть, каким образом, перекладывая спички, добиться нужного результата; развивать смекалку, способность предвидеть результат и образное ре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вильный ответ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землекопо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 самом деле, пять землекопов за 5 часов выкапывают 5 м канавы; значит, пять землекопов за 1 час вырыли бы 1 м канавы, а в 100 часов — 100 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F90-6FEA-468C-8946-A9E3367C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8A70-A714-4D1E-AF66-CDDF4AB7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9132-9462-45BA-9AD8-7FBF46A5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780-A2FF-4D9C-A363-ACBE2E66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A79-8FDC-4984-BF8D-F24A8508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791-AAF5-491D-8C4C-43B2711D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0A0-DA9B-4517-B0D6-7A805E59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60E-8FE7-4C53-802B-E4197779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4E7-CF34-49F4-AABA-FB54ACDB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BD64-AB78-423E-8C26-22C7DF06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6F69-24B3-4650-88BF-436297EF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2EAB-82C4-419B-BED4-C64372F1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8B53-0EDC-419B-92C0-632483DAE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s52.radikal.ru/i136/1008/fa/effeea01a045.jpg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8.png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7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8.png"/><Relationship Id="rId27" Type="http://schemas.openxmlformats.org/officeDocument/2006/relationships/slideLayout" Target="../slideLayouts/slideLayout3.xml"/><Relationship Id="rId2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9.png"/><Relationship Id="rId13" Type="http://schemas.openxmlformats.org/officeDocument/2006/relationships/image" Target="../media/image7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9.png"/><Relationship Id="rId20" Type="http://schemas.openxmlformats.org/officeDocument/2006/relationships/image" Target="../media/image7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3.xml"/><Relationship Id="rId2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3.xml"/><Relationship Id="rId2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8900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ведение в геометр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51640" y="317520"/>
            <a:ext cx="3313080" cy="23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48000" y="551664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ОУ СОШ №256 ГО ЗАТО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640" y="1386000"/>
            <a:ext cx="197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нятие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4160" y="2708280"/>
            <a:ext cx="460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Упражн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о спичк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994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5760" y="1484280"/>
            <a:ext cx="757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Расположите 8 спичек так, чтобы получи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 треугольника и квадрат, располагая в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пички на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efefe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21" descr="Спичка2.gif"/>
          <p:cNvPicPr/>
          <p:nvPr/>
        </p:nvPicPr>
        <p:blipFill>
          <a:blip r:embed="rId2"/>
          <a:stretch/>
        </p:blipFill>
        <p:spPr>
          <a:xfrm>
            <a:off x="1403280" y="3284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21" descr="Спичка2.gif"/>
          <p:cNvPicPr/>
          <p:nvPr/>
        </p:nvPicPr>
        <p:blipFill>
          <a:blip r:embed="rId3"/>
          <a:stretch/>
        </p:blipFill>
        <p:spPr>
          <a:xfrm>
            <a:off x="2124000" y="3284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21" descr="Спичка2.gif"/>
          <p:cNvPicPr/>
          <p:nvPr/>
        </p:nvPicPr>
        <p:blipFill>
          <a:blip r:embed="rId4"/>
          <a:stretch/>
        </p:blipFill>
        <p:spPr>
          <a:xfrm>
            <a:off x="2627280" y="328464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1" descr="Спичка2.gif"/>
          <p:cNvPicPr/>
          <p:nvPr/>
        </p:nvPicPr>
        <p:blipFill>
          <a:blip r:embed="rId5"/>
          <a:stretch/>
        </p:blipFill>
        <p:spPr>
          <a:xfrm>
            <a:off x="1763640" y="335772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1" descr="Спичка2.gif"/>
          <p:cNvPicPr/>
          <p:nvPr/>
        </p:nvPicPr>
        <p:blipFill>
          <a:blip r:embed="rId6"/>
          <a:stretch/>
        </p:blipFill>
        <p:spPr>
          <a:xfrm>
            <a:off x="2916360" y="314172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1" descr="Спичка2.gif"/>
          <p:cNvPicPr/>
          <p:nvPr/>
        </p:nvPicPr>
        <p:blipFill>
          <a:blip r:embed="rId7"/>
          <a:stretch/>
        </p:blipFill>
        <p:spPr>
          <a:xfrm>
            <a:off x="1116000" y="3068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21" descr="Спичка2.gif"/>
          <p:cNvPicPr/>
          <p:nvPr/>
        </p:nvPicPr>
        <p:blipFill>
          <a:blip r:embed="rId8"/>
          <a:stretch/>
        </p:blipFill>
        <p:spPr>
          <a:xfrm>
            <a:off x="755640" y="335772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21" descr="Спичка2.gif"/>
          <p:cNvPicPr/>
          <p:nvPr/>
        </p:nvPicPr>
        <p:blipFill>
          <a:blip r:embed="rId9"/>
          <a:stretch/>
        </p:blipFill>
        <p:spPr>
          <a:xfrm>
            <a:off x="324000" y="3213000"/>
            <a:ext cx="217440" cy="33022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flipH="1" rot="3729000">
            <a:off x="3623400" y="1879200"/>
            <a:ext cx="1368360" cy="252072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16" descr="Спичка2.gif"/>
          <p:cNvPicPr/>
          <p:nvPr/>
        </p:nvPicPr>
        <p:blipFill>
          <a:blip r:embed="rId10"/>
          <a:stretch/>
        </p:blipFill>
        <p:spPr>
          <a:xfrm rot="3594000">
            <a:off x="4714560" y="2257200"/>
            <a:ext cx="208080" cy="31320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6" descr="Спичка2.gif"/>
          <p:cNvPicPr/>
          <p:nvPr/>
        </p:nvPicPr>
        <p:blipFill>
          <a:blip r:embed="rId11"/>
          <a:stretch/>
        </p:blipFill>
        <p:spPr>
          <a:xfrm rot="19989600">
            <a:off x="3277800" y="2831760"/>
            <a:ext cx="190440" cy="30607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6" descr="Спичка2.gif"/>
          <p:cNvPicPr/>
          <p:nvPr/>
        </p:nvPicPr>
        <p:blipFill>
          <a:blip r:embed="rId12"/>
          <a:stretch/>
        </p:blipFill>
        <p:spPr>
          <a:xfrm rot="19961400">
            <a:off x="5151600" y="3481200"/>
            <a:ext cx="209520" cy="3132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6" descr="Спичка2.gif"/>
          <p:cNvPicPr/>
          <p:nvPr/>
        </p:nvPicPr>
        <p:blipFill>
          <a:blip r:embed="rId13"/>
          <a:stretch/>
        </p:blipFill>
        <p:spPr>
          <a:xfrm rot="3594000">
            <a:off x="3921840" y="4136400"/>
            <a:ext cx="216000" cy="3132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flipH="1" rot="14377800">
            <a:off x="3706920" y="5157360"/>
            <a:ext cx="1368360" cy="252108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rot="9133200">
            <a:off x="5362920" y="3499200"/>
            <a:ext cx="1368720" cy="252144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19938000">
            <a:off x="2050560" y="3573360"/>
            <a:ext cx="1368720" cy="252108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9929600">
            <a:off x="3850920" y="4292640"/>
            <a:ext cx="1046160" cy="100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59259E-006 L 0.33472 0.0007 E">
                                      <p:cBhvr>
                                        <p:cTn id="274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17726 -0.27223 E">
                                      <p:cBhvr>
                                        <p:cTn id="27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8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5.92593E-006 L 0.23628 0.23078 E">
                                      <p:cBhvr>
                                        <p:cTn id="28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8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0.2441 -0.01041 E">
                                      <p:cBhvr>
                                        <p:cTn id="290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98880" y="476280"/>
            <a:ext cx="812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етодиче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ед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еометрию. 6 класс: планирование, консп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нятий / авт.-сост. И.В.Фотина. – Волгоград: Учитель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192800" y="4221000"/>
            <a:ext cx="1951200" cy="2637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77200" y="2136600"/>
            <a:ext cx="53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52.radikal.ru/i136/1008/fa/effeea01a045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7640" y="17733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емлеко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862440"/>
            <a:ext cx="849240" cy="2601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47640" y="3860640"/>
            <a:ext cx="849600" cy="2603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340000" y="3860640"/>
            <a:ext cx="849240" cy="2603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132000" y="3860640"/>
            <a:ext cx="849600" cy="2603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924360" y="3860640"/>
            <a:ext cx="849240" cy="2603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32000" y="1989000"/>
            <a:ext cx="504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ять землекопов за 5 часов выкап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в длиной 5 метров. Сколько по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емлекопов, чтобы вырыть такой же глуб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в, длина которого 100 м за 100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179280" y="2276640"/>
            <a:ext cx="1495440" cy="4581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efefe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4437000"/>
            <a:ext cx="504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столе три совершенно одинаковых ящика. В од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 них лежат 2 чёрных шарика, в другом – чёрный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лый, в третьем – 2 белых. На ящиках есть надпис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2 чёрных», «2 белых», «Чёрный и белый». Одна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вестно, что ни одна из надписей не соответств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йствительности. Сможете ли вы определить, где ка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арики лежат, вынув всего один шар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 какой-нибудь короб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220500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чёр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2205000"/>
            <a:ext cx="2087280" cy="144000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бел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220500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ё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5" action="ppaction://hlinksldjump"/>
          </p:cNvPr>
          <p:cNvSpPr/>
          <p:nvPr/>
        </p:nvSpPr>
        <p:spPr>
          <a:xfrm>
            <a:off x="8317080" y="5084640"/>
            <a:ext cx="574560" cy="5540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317080" y="4365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6" action="ppaction://hlinksldjump"/>
          </p:cNvPr>
          <p:cNvSpPr/>
          <p:nvPr/>
        </p:nvSpPr>
        <p:spPr>
          <a:xfrm>
            <a:off x="8101080" y="6237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24988" y="10800"/>
                </a:lnTo>
                <a:lnTo>
                  <a:pt x="10976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20000" y="35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3429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35280" y="306864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3280" y="306864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306864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58920" y="3571920"/>
            <a:ext cx="15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чёр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06920" y="3573360"/>
            <a:ext cx="15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бел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4560" y="3645000"/>
            <a:ext cx="15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ё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697000">
            <a:off x="5940360" y="2349000"/>
            <a:ext cx="457200" cy="998640"/>
          </a:xfrm>
          <a:custGeom>
            <a:avLst/>
            <a:gdLst/>
            <a:ahLst/>
            <a:rect l="l" t="t" r="r" b="b"/>
            <a:pathLst>
              <a:path w="288" h="629">
                <a:moveTo>
                  <a:pt x="136" y="235"/>
                </a:moveTo>
                <a:lnTo>
                  <a:pt x="0" y="0"/>
                </a:lnTo>
                <a:lnTo>
                  <a:pt x="152" y="629"/>
                </a:lnTo>
                <a:lnTo>
                  <a:pt x="288" y="60"/>
                </a:lnTo>
                <a:lnTo>
                  <a:pt x="144" y="235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7956720" y="5805360"/>
            <a:ext cx="826920" cy="576360"/>
          </a:xfrm>
          <a:custGeom>
            <a:avLst/>
            <a:gdLst>
              <a:gd name="textAreaLeft" fmla="*/ 37080 w 826920"/>
              <a:gd name="textAreaRight" fmla="*/ 789840 w 826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0984" h="21600">
                <a:moveTo>
                  <a:pt x="0" y="0"/>
                </a:moveTo>
                <a:lnTo>
                  <a:pt x="30984" y="0"/>
                </a:lnTo>
                <a:lnTo>
                  <a:pt x="30984" y="21600"/>
                </a:lnTo>
                <a:lnTo>
                  <a:pt x="0" y="21600"/>
                </a:lnTo>
                <a:close/>
              </a:path>
              <a:path fill="lightenLess" w="30984" h="21600">
                <a:moveTo>
                  <a:pt x="0" y="0"/>
                </a:moveTo>
                <a:lnTo>
                  <a:pt x="30984" y="0"/>
                </a:lnTo>
                <a:lnTo>
                  <a:pt x="29584" y="1400"/>
                </a:lnTo>
                <a:lnTo>
                  <a:pt x="1400" y="1400"/>
                </a:lnTo>
                <a:close/>
              </a:path>
              <a:path fill="darken" w="30984" h="21600">
                <a:moveTo>
                  <a:pt x="30984" y="0"/>
                </a:moveTo>
                <a:lnTo>
                  <a:pt x="30984" y="21600"/>
                </a:lnTo>
                <a:lnTo>
                  <a:pt x="29584" y="20200"/>
                </a:lnTo>
                <a:lnTo>
                  <a:pt x="29584" y="1400"/>
                </a:lnTo>
                <a:close/>
              </a:path>
              <a:path fill="darkenLess" w="30984" h="21600">
                <a:moveTo>
                  <a:pt x="30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84" y="20200"/>
                </a:lnTo>
                <a:close/>
              </a:path>
              <a:path fill="lighten" w="30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84" h="21600">
                <a:moveTo>
                  <a:pt x="8486" y="7493"/>
                </a:moveTo>
                <a:lnTo>
                  <a:pt x="11993" y="7493"/>
                </a:lnTo>
                <a:lnTo>
                  <a:pt x="11993" y="12828"/>
                </a:lnTo>
                <a:cubicBezTo>
                  <a:pt x="11993" y="13751"/>
                  <a:pt x="12794" y="14482"/>
                  <a:pt x="13830" y="14482"/>
                </a:cubicBezTo>
                <a:lnTo>
                  <a:pt x="15492" y="14482"/>
                </a:lnTo>
                <a:cubicBezTo>
                  <a:pt x="16528" y="14482"/>
                  <a:pt x="17329" y="13751"/>
                  <a:pt x="17329" y="12828"/>
                </a:cubicBezTo>
                <a:lnTo>
                  <a:pt x="17329" y="7493"/>
                </a:lnTo>
                <a:lnTo>
                  <a:pt x="15492" y="7493"/>
                </a:lnTo>
                <a:lnTo>
                  <a:pt x="19000" y="3985"/>
                </a:lnTo>
                <a:lnTo>
                  <a:pt x="22673" y="7493"/>
                </a:lnTo>
                <a:lnTo>
                  <a:pt x="20836" y="7493"/>
                </a:lnTo>
                <a:lnTo>
                  <a:pt x="20836" y="12828"/>
                </a:lnTo>
                <a:cubicBezTo>
                  <a:pt x="20836" y="15596"/>
                  <a:pt x="18260" y="18155"/>
                  <a:pt x="15492" y="18155"/>
                </a:cubicBezTo>
                <a:lnTo>
                  <a:pt x="13830" y="18155"/>
                </a:lnTo>
                <a:cubicBezTo>
                  <a:pt x="11062" y="18155"/>
                  <a:pt x="8486" y="15596"/>
                  <a:pt x="8486" y="12828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82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1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.01042 L 0.26771 0.01042 E">
                                      <p:cBhvr>
                                        <p:cTn id="7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16 0.01042 L 0.26753 0.01065 E">
                                      <p:cBhvr>
                                        <p:cTn id="7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33333 L -0.53559 -0.00255 E">
                                      <p:cBhvr>
                                        <p:cTn id="7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20000" y="350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6360" y="350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635280" y="306864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306864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306864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3571920"/>
            <a:ext cx="15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чёр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06920" y="3573360"/>
            <a:ext cx="15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бел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54560" y="3645000"/>
            <a:ext cx="15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ё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0697000">
            <a:off x="5940360" y="2349000"/>
            <a:ext cx="457200" cy="998640"/>
          </a:xfrm>
          <a:custGeom>
            <a:avLst/>
            <a:gdLst/>
            <a:ahLst/>
            <a:rect l="l" t="t" r="r" b="b"/>
            <a:pathLst>
              <a:path w="288" h="629">
                <a:moveTo>
                  <a:pt x="136" y="235"/>
                </a:moveTo>
                <a:lnTo>
                  <a:pt x="0" y="0"/>
                </a:lnTo>
                <a:lnTo>
                  <a:pt x="152" y="629"/>
                </a:lnTo>
                <a:lnTo>
                  <a:pt x="288" y="60"/>
                </a:lnTo>
                <a:lnTo>
                  <a:pt x="144" y="235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7956720" y="5805360"/>
            <a:ext cx="826920" cy="576360"/>
          </a:xfrm>
          <a:custGeom>
            <a:avLst/>
            <a:gdLst>
              <a:gd name="textAreaLeft" fmla="*/ 37080 w 826920"/>
              <a:gd name="textAreaRight" fmla="*/ 789840 w 826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0984" h="21600">
                <a:moveTo>
                  <a:pt x="0" y="0"/>
                </a:moveTo>
                <a:lnTo>
                  <a:pt x="30984" y="0"/>
                </a:lnTo>
                <a:lnTo>
                  <a:pt x="30984" y="21600"/>
                </a:lnTo>
                <a:lnTo>
                  <a:pt x="0" y="21600"/>
                </a:lnTo>
                <a:close/>
              </a:path>
              <a:path fill="lightenLess" w="30984" h="21600">
                <a:moveTo>
                  <a:pt x="0" y="0"/>
                </a:moveTo>
                <a:lnTo>
                  <a:pt x="30984" y="0"/>
                </a:lnTo>
                <a:lnTo>
                  <a:pt x="29584" y="1400"/>
                </a:lnTo>
                <a:lnTo>
                  <a:pt x="1400" y="1400"/>
                </a:lnTo>
                <a:close/>
              </a:path>
              <a:path fill="darken" w="30984" h="21600">
                <a:moveTo>
                  <a:pt x="30984" y="0"/>
                </a:moveTo>
                <a:lnTo>
                  <a:pt x="30984" y="21600"/>
                </a:lnTo>
                <a:lnTo>
                  <a:pt x="29584" y="20200"/>
                </a:lnTo>
                <a:lnTo>
                  <a:pt x="29584" y="1400"/>
                </a:lnTo>
                <a:close/>
              </a:path>
              <a:path fill="darkenLess" w="30984" h="21600">
                <a:moveTo>
                  <a:pt x="30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84" y="20200"/>
                </a:lnTo>
                <a:close/>
              </a:path>
              <a:path fill="lighten" w="30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84" h="21600">
                <a:moveTo>
                  <a:pt x="8486" y="7493"/>
                </a:moveTo>
                <a:lnTo>
                  <a:pt x="11993" y="7493"/>
                </a:lnTo>
                <a:lnTo>
                  <a:pt x="11993" y="12828"/>
                </a:lnTo>
                <a:cubicBezTo>
                  <a:pt x="11993" y="13751"/>
                  <a:pt x="12794" y="14482"/>
                  <a:pt x="13830" y="14482"/>
                </a:cubicBezTo>
                <a:lnTo>
                  <a:pt x="15492" y="14482"/>
                </a:lnTo>
                <a:cubicBezTo>
                  <a:pt x="16528" y="14482"/>
                  <a:pt x="17329" y="13751"/>
                  <a:pt x="17329" y="12828"/>
                </a:cubicBezTo>
                <a:lnTo>
                  <a:pt x="17329" y="7493"/>
                </a:lnTo>
                <a:lnTo>
                  <a:pt x="15492" y="7493"/>
                </a:lnTo>
                <a:lnTo>
                  <a:pt x="19000" y="3985"/>
                </a:lnTo>
                <a:lnTo>
                  <a:pt x="22673" y="7493"/>
                </a:lnTo>
                <a:lnTo>
                  <a:pt x="20836" y="7493"/>
                </a:lnTo>
                <a:lnTo>
                  <a:pt x="20836" y="12828"/>
                </a:lnTo>
                <a:cubicBezTo>
                  <a:pt x="20836" y="15596"/>
                  <a:pt x="18260" y="18155"/>
                  <a:pt x="15492" y="18155"/>
                </a:cubicBezTo>
                <a:lnTo>
                  <a:pt x="13830" y="18155"/>
                </a:lnTo>
                <a:cubicBezTo>
                  <a:pt x="11062" y="18155"/>
                  <a:pt x="8486" y="15596"/>
                  <a:pt x="8486" y="12828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82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L -0.00278 -0.42361 E">
                                      <p:cBhvr>
                                        <p:cTn id="10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0.00504 -0.29768 E">
                                      <p:cBhvr>
                                        <p:cTn id="10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2.22222E-006 L -0.26771 -0.01042 E">
                                      <p:cBhvr>
                                        <p:cTn id="11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L 0.00035 0.33588 E">
                                      <p:cBhvr>
                                        <p:cTn id="11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6 L 0.53593 0.00023 E">
                                      <p:cBhvr>
                                        <p:cTn id="11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33588 L -0.2677 -1.11111E-006 E">
                                      <p:cBhvr>
                                        <p:cTn id="12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8840" y="1700280"/>
            <a:ext cx="843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Из спичек составлена фигура. Убе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три спички так, чтобы общее число треуг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тало равным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5" descr="Спичка2.gif"/>
          <p:cNvPicPr/>
          <p:nvPr/>
        </p:nvPicPr>
        <p:blipFill>
          <a:blip r:embed="rId2"/>
          <a:stretch/>
        </p:blipFill>
        <p:spPr>
          <a:xfrm>
            <a:off x="3059280" y="4365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5" descr="Спичка2.gif"/>
          <p:cNvPicPr/>
          <p:nvPr/>
        </p:nvPicPr>
        <p:blipFill>
          <a:blip r:embed="rId3"/>
          <a:stretch/>
        </p:blipFill>
        <p:spPr>
          <a:xfrm rot="3535800">
            <a:off x="3380760" y="3899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Спичка2.gif"/>
          <p:cNvPicPr/>
          <p:nvPr/>
        </p:nvPicPr>
        <p:blipFill>
          <a:blip r:embed="rId4"/>
          <a:stretch/>
        </p:blipFill>
        <p:spPr>
          <a:xfrm rot="7235400">
            <a:off x="2803680" y="38282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5" descr="Спичка2.gif"/>
          <p:cNvPicPr/>
          <p:nvPr/>
        </p:nvPicPr>
        <p:blipFill>
          <a:blip r:embed="rId5"/>
          <a:stretch/>
        </p:blipFill>
        <p:spPr>
          <a:xfrm rot="3535800">
            <a:off x="3957120" y="4836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5" descr="Спичка2.gif"/>
          <p:cNvPicPr/>
          <p:nvPr/>
        </p:nvPicPr>
        <p:blipFill>
          <a:blip r:embed="rId6"/>
          <a:stretch/>
        </p:blipFill>
        <p:spPr>
          <a:xfrm rot="7235400">
            <a:off x="2227680" y="47631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5" descr="Спичка2.gif"/>
          <p:cNvPicPr/>
          <p:nvPr/>
        </p:nvPicPr>
        <p:blipFill>
          <a:blip r:embed="rId7"/>
          <a:stretch/>
        </p:blipFill>
        <p:spPr>
          <a:xfrm rot="7235400">
            <a:off x="1651320" y="57711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5" descr="Спичка2.gif"/>
          <p:cNvPicPr/>
          <p:nvPr/>
        </p:nvPicPr>
        <p:blipFill>
          <a:blip r:embed="rId8"/>
          <a:stretch/>
        </p:blipFill>
        <p:spPr>
          <a:xfrm rot="3535800">
            <a:off x="4532760" y="5771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5" descr="Спичка2.gif"/>
          <p:cNvPicPr/>
          <p:nvPr/>
        </p:nvPicPr>
        <p:blipFill>
          <a:blip r:embed="rId9"/>
          <a:stretch/>
        </p:blipFill>
        <p:spPr>
          <a:xfrm>
            <a:off x="2482920" y="5229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3635280" y="522936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197820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313056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21164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5" descr="Спичка2.gif"/>
          <p:cNvPicPr/>
          <p:nvPr/>
        </p:nvPicPr>
        <p:blipFill>
          <a:blip r:embed="rId14"/>
          <a:stretch/>
        </p:blipFill>
        <p:spPr>
          <a:xfrm rot="3535800">
            <a:off x="2804040" y="4763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5" descr="Спичка2.gif"/>
          <p:cNvPicPr/>
          <p:nvPr/>
        </p:nvPicPr>
        <p:blipFill>
          <a:blip r:embed="rId15"/>
          <a:stretch/>
        </p:blipFill>
        <p:spPr>
          <a:xfrm rot="3535800">
            <a:off x="2299680" y="569988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5" descr="Спичка2.gif"/>
          <p:cNvPicPr/>
          <p:nvPr/>
        </p:nvPicPr>
        <p:blipFill>
          <a:blip r:embed="rId16"/>
          <a:stretch/>
        </p:blipFill>
        <p:spPr>
          <a:xfrm rot="3535800">
            <a:off x="3380760" y="569988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5" descr="Спичка2.gif"/>
          <p:cNvPicPr/>
          <p:nvPr/>
        </p:nvPicPr>
        <p:blipFill>
          <a:blip r:embed="rId17"/>
          <a:stretch/>
        </p:blipFill>
        <p:spPr>
          <a:xfrm rot="7235400">
            <a:off x="3306960" y="4763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5" descr="Спичка2.gif"/>
          <p:cNvPicPr/>
          <p:nvPr/>
        </p:nvPicPr>
        <p:blipFill>
          <a:blip r:embed="rId18"/>
          <a:stretch/>
        </p:blipFill>
        <p:spPr>
          <a:xfrm rot="7235400">
            <a:off x="2803680" y="569988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5" descr="Спичка2.gif"/>
          <p:cNvPicPr/>
          <p:nvPr/>
        </p:nvPicPr>
        <p:blipFill>
          <a:blip r:embed="rId19"/>
          <a:stretch/>
        </p:blipFill>
        <p:spPr>
          <a:xfrm rot="18035400">
            <a:off x="3957120" y="569952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efefe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5516640"/>
            <a:ext cx="79236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551664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5516640"/>
            <a:ext cx="79236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2700360" y="537336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3780000" y="537336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3789360"/>
            <a:ext cx="1800360" cy="1368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3284640"/>
            <a:ext cx="3816360" cy="302400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380360" y="465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0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0.41858 -0.14074 E">
                                      <p:cBhvr>
                                        <p:cTn id="12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.00394 C 0.02135 0.00834 0.0427 0.01505 0.06423 0.01829 C 0.08663 0.02732 0.10086 0.02639 0.12708 0.02778 C 0.15208 0.02709 0.17725 0.02709 0.20225 0.02616 C 0.22239 0.02524 0.24513 0.0169 0.2651 0.01343 C 0.26718 0.0125 0.26927 0.01111 0.27135 0.01042 C 0.27447 0.00903 0.28072 0.00718 0.28072 0.00741 C 0.28819 0.00139 0.29253 -0.00578 0.29965 -0.0118 C 0.30833 -0.01898 0.3151 -0.02731 0.32309 -0.03541 C 0.325 -0.03726 0.3276 -0.03819 0.32951 -0.04004 C 0.3342 -0.04537 0.33732 -0.05509 0.34513 -0.0574 C 0.35017 -0.05902 0.35572 -0.05926 0.36076 -0.06064 C 0.37204 -0.06342 0.38246 -0.06689 0.39375 -0.06851 C 0.40243 -0.07152 0.40694 -0.07801 0.41423 -0.08264 C 0.41805 -0.08541 0.42343 -0.08564 0.42673 -0.08912 C 0.43576 -0.09814 0.446 -0.10532 0.45503 -0.11435 C 0.45868 -0.11805 0.46163 -0.12245 0.46597 -0.12523 C 0.46909 -0.12754 0.47222 -0.12939 0.47534 -0.13171 C 0.47691 -0.13264 0.48003 -0.13472 0.48003 -0.13449 C 0.48333 -0.13981 0.4875 -0.14305 0.48958 -0.14907 C 0.48888 -0.15231 0.48541 -0.1662 0.48316 -0.16944 C 0.48229 -0.17106 0.47986 -0.17152 0.47847 -0.17268 C 0.47517 -0.17569 0.47222 -0.17893 0.46909 -0.18217 C 0.46788 -0.18333 0.46597 -0.18287 0.46441 -0.18356 C 0.45677 -0.1875 0.44878 -0.18981 0.44079 -0.19305 C 0.43385 -0.19606 0.42743 -0.20162 0.42048 -0.20416 C 0.41128 -0.20764 0.40017 -0.21018 0.39062 -0.21203 C 0.33107 -0.21041 0.34704 -0.21412 0.31215 -0.20254 C 0.30138 -0.19166 0.30642 -0.1956 0.29809 -0.19004 C 0.29618 -0.18703 0.29548 -0.18333 0.2934 -0.18055 C 0.29062 -0.17708 0.28385 -0.17106 0.28385 -0.17083 C 0.28055 -0.16111 0.2776 -0.15995 0.28715 -0.1537 C 0.28941 -0.14652 0.29218 -0.14583 0.29965 -0.14583 E">
                                      <p:cBhvr>
                                        <p:cTn id="133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3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C 0.04011 -0.10301 0.08073 -0.20579 0.13924 -0.22291 C 0.19844 -0.24004 0.30868 -0.12407 0.35347 -0.10278 C 0.39775 -0.08148 0.40174 -0.08842 0.40643 -0.09537 E">
                                      <p:cBhvr>
                                        <p:cTn id="139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" y="1700280"/>
            <a:ext cx="821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Из спичек составлена фигура. Убе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 спички так, чтобы образовалось 5 квадрат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15" descr="Спичка2.gif"/>
          <p:cNvPicPr/>
          <p:nvPr/>
        </p:nvPicPr>
        <p:blipFill>
          <a:blip r:embed="rId2"/>
          <a:stretch/>
        </p:blipFill>
        <p:spPr>
          <a:xfrm>
            <a:off x="140328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5" descr="Спичка2.gif"/>
          <p:cNvPicPr/>
          <p:nvPr/>
        </p:nvPicPr>
        <p:blipFill>
          <a:blip r:embed="rId3"/>
          <a:stretch/>
        </p:blipFill>
        <p:spPr>
          <a:xfrm>
            <a:off x="1403280" y="321300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5" descr="Спичка2.gif"/>
          <p:cNvPicPr/>
          <p:nvPr/>
        </p:nvPicPr>
        <p:blipFill>
          <a:blip r:embed="rId4"/>
          <a:stretch/>
        </p:blipFill>
        <p:spPr>
          <a:xfrm>
            <a:off x="1547640" y="314172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5" descr="Спичка2.gif"/>
          <p:cNvPicPr/>
          <p:nvPr/>
        </p:nvPicPr>
        <p:blipFill>
          <a:blip r:embed="rId5"/>
          <a:stretch/>
        </p:blipFill>
        <p:spPr>
          <a:xfrm>
            <a:off x="2700360" y="3141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5" descr="Спичка2.gif"/>
          <p:cNvPicPr/>
          <p:nvPr/>
        </p:nvPicPr>
        <p:blipFill>
          <a:blip r:embed="rId6"/>
          <a:stretch/>
        </p:blipFill>
        <p:spPr>
          <a:xfrm>
            <a:off x="1476360" y="6597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5" descr="Спичка2.gif"/>
          <p:cNvPicPr/>
          <p:nvPr/>
        </p:nvPicPr>
        <p:blipFill>
          <a:blip r:embed="rId7"/>
          <a:stretch/>
        </p:blipFill>
        <p:spPr>
          <a:xfrm>
            <a:off x="3851280" y="3141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5" descr="Спичка2.gif"/>
          <p:cNvPicPr/>
          <p:nvPr/>
        </p:nvPicPr>
        <p:blipFill>
          <a:blip r:embed="rId8"/>
          <a:stretch/>
        </p:blipFill>
        <p:spPr>
          <a:xfrm>
            <a:off x="2627280" y="659772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efefe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80360" y="465300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4" name="Рисунок 15" descr="Спичка2.gif"/>
          <p:cNvPicPr/>
          <p:nvPr/>
        </p:nvPicPr>
        <p:blipFill>
          <a:blip r:embed="rId9"/>
          <a:stretch/>
        </p:blipFill>
        <p:spPr>
          <a:xfrm>
            <a:off x="140328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3708360" y="321300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248436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4859280" y="321300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85928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248436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2556000" y="321300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5" descr="Спичка2.gif"/>
          <p:cNvPicPr/>
          <p:nvPr/>
        </p:nvPicPr>
        <p:blipFill>
          <a:blip r:embed="rId16"/>
          <a:stretch/>
        </p:blipFill>
        <p:spPr>
          <a:xfrm>
            <a:off x="3780000" y="6597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5" descr="Спичка2.gif"/>
          <p:cNvPicPr/>
          <p:nvPr/>
        </p:nvPicPr>
        <p:blipFill>
          <a:blip r:embed="rId17"/>
          <a:stretch/>
        </p:blipFill>
        <p:spPr>
          <a:xfrm>
            <a:off x="3708360" y="551664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5" descr="Спичка2.gif"/>
          <p:cNvPicPr/>
          <p:nvPr/>
        </p:nvPicPr>
        <p:blipFill>
          <a:blip r:embed="rId18"/>
          <a:stretch/>
        </p:blipFill>
        <p:spPr>
          <a:xfrm>
            <a:off x="3708360" y="436572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5" descr="Спичка2.gif"/>
          <p:cNvPicPr/>
          <p:nvPr/>
        </p:nvPicPr>
        <p:blipFill>
          <a:blip r:embed="rId19"/>
          <a:stretch/>
        </p:blipFill>
        <p:spPr>
          <a:xfrm>
            <a:off x="485928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5" descr="Спичка2.gif"/>
          <p:cNvPicPr/>
          <p:nvPr/>
        </p:nvPicPr>
        <p:blipFill>
          <a:blip r:embed="rId20"/>
          <a:stretch/>
        </p:blipFill>
        <p:spPr>
          <a:xfrm>
            <a:off x="1547640" y="429264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5" descr="Спичка2.gif"/>
          <p:cNvPicPr/>
          <p:nvPr/>
        </p:nvPicPr>
        <p:blipFill>
          <a:blip r:embed="rId21"/>
          <a:stretch/>
        </p:blipFill>
        <p:spPr>
          <a:xfrm>
            <a:off x="3851280" y="42926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5" descr="Спичка2.gif"/>
          <p:cNvPicPr/>
          <p:nvPr/>
        </p:nvPicPr>
        <p:blipFill>
          <a:blip r:embed="rId22"/>
          <a:stretch/>
        </p:blipFill>
        <p:spPr>
          <a:xfrm>
            <a:off x="262728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5" descr="Спичка2.gif"/>
          <p:cNvPicPr/>
          <p:nvPr/>
        </p:nvPicPr>
        <p:blipFill>
          <a:blip r:embed="rId23"/>
          <a:stretch/>
        </p:blipFill>
        <p:spPr>
          <a:xfrm>
            <a:off x="385128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5" descr="Спичка2.gif"/>
          <p:cNvPicPr/>
          <p:nvPr/>
        </p:nvPicPr>
        <p:blipFill>
          <a:blip r:embed="rId24"/>
          <a:stretch/>
        </p:blipFill>
        <p:spPr>
          <a:xfrm>
            <a:off x="147636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5" descr="Спичка2.gif"/>
          <p:cNvPicPr/>
          <p:nvPr/>
        </p:nvPicPr>
        <p:blipFill>
          <a:blip r:embed="rId25"/>
          <a:stretch/>
        </p:blipFill>
        <p:spPr>
          <a:xfrm>
            <a:off x="2700360" y="429264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19280" y="3357720"/>
            <a:ext cx="865080" cy="86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3357720"/>
            <a:ext cx="865080" cy="86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71640" y="4508640"/>
            <a:ext cx="86544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558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558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6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0.41736 0.08403 E">
                                      <p:cBhvr>
                                        <p:cTn id="18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8.67362E-019 L 0.27552 -0.19954 E">
                                      <p:cBhvr>
                                        <p:cTn id="18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8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0.63004 -0.17847 E">
                                      <p:cBhvr>
                                        <p:cTn id="19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9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6 L 0.40157 -0.45139 E">
                                      <p:cBhvr>
                                        <p:cTn id="19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21040" y="1773360"/>
            <a:ext cx="606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ереложить одну спичку так, чт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олучилось верное 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15" descr="Спичка2.gif"/>
          <p:cNvPicPr/>
          <p:nvPr/>
        </p:nvPicPr>
        <p:blipFill>
          <a:blip r:embed="rId2"/>
          <a:stretch/>
        </p:blipFill>
        <p:spPr>
          <a:xfrm rot="7320000">
            <a:off x="150840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5" descr="Спичка2.gif"/>
          <p:cNvPicPr/>
          <p:nvPr/>
        </p:nvPicPr>
        <p:blipFill>
          <a:blip r:embed="rId3"/>
          <a:stretch/>
        </p:blipFill>
        <p:spPr>
          <a:xfrm>
            <a:off x="4932360" y="342900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5" descr="Спичка2.gif"/>
          <p:cNvPicPr/>
          <p:nvPr/>
        </p:nvPicPr>
        <p:blipFill>
          <a:blip r:embed="rId4"/>
          <a:stretch/>
        </p:blipFill>
        <p:spPr>
          <a:xfrm rot="4694400">
            <a:off x="3884760" y="5051880"/>
            <a:ext cx="1067040" cy="125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efefe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15" descr="Спичка2.gif"/>
          <p:cNvPicPr/>
          <p:nvPr/>
        </p:nvPicPr>
        <p:blipFill>
          <a:blip r:embed="rId5"/>
          <a:stretch/>
        </p:blipFill>
        <p:spPr>
          <a:xfrm rot="4321800">
            <a:off x="136476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5" descr="Спичка2.gif"/>
          <p:cNvPicPr/>
          <p:nvPr/>
        </p:nvPicPr>
        <p:blipFill>
          <a:blip r:embed="rId6"/>
          <a:stretch/>
        </p:blipFill>
        <p:spPr>
          <a:xfrm>
            <a:off x="3132000" y="3141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5" descr="Спичка2.gif"/>
          <p:cNvPicPr/>
          <p:nvPr/>
        </p:nvPicPr>
        <p:blipFill>
          <a:blip r:embed="rId7"/>
          <a:stretch/>
        </p:blipFill>
        <p:spPr>
          <a:xfrm>
            <a:off x="406872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5" descr="Спичка2.gif"/>
          <p:cNvPicPr/>
          <p:nvPr/>
        </p:nvPicPr>
        <p:blipFill>
          <a:blip r:embed="rId8"/>
          <a:stretch/>
        </p:blipFill>
        <p:spPr>
          <a:xfrm>
            <a:off x="255600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5" descr="Спичка2.gif"/>
          <p:cNvPicPr/>
          <p:nvPr/>
        </p:nvPicPr>
        <p:blipFill>
          <a:blip r:embed="rId9"/>
          <a:stretch/>
        </p:blipFill>
        <p:spPr>
          <a:xfrm rot="14490000">
            <a:off x="150876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5" descr="Спичка2.gif"/>
          <p:cNvPicPr/>
          <p:nvPr/>
        </p:nvPicPr>
        <p:blipFill>
          <a:blip r:embed="rId10"/>
          <a:stretch/>
        </p:blipFill>
        <p:spPr>
          <a:xfrm rot="6505800">
            <a:off x="4172040" y="505188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5" descr="Спичка2.gif"/>
          <p:cNvPicPr/>
          <p:nvPr/>
        </p:nvPicPr>
        <p:blipFill>
          <a:blip r:embed="rId11"/>
          <a:stretch/>
        </p:blipFill>
        <p:spPr>
          <a:xfrm rot="17062800">
            <a:off x="1724400" y="505188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6372360" y="314172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2627280" y="35733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2843280" y="5013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4932360" y="3789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5" descr="Спичка2.gif"/>
          <p:cNvPicPr/>
          <p:nvPr/>
        </p:nvPicPr>
        <p:blipFill>
          <a:blip r:embed="rId16"/>
          <a:stretch/>
        </p:blipFill>
        <p:spPr>
          <a:xfrm rot="7320000">
            <a:off x="374040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5" descr="Спичка2.gif"/>
          <p:cNvPicPr/>
          <p:nvPr/>
        </p:nvPicPr>
        <p:blipFill>
          <a:blip r:embed="rId17"/>
          <a:stretch/>
        </p:blipFill>
        <p:spPr>
          <a:xfrm rot="14490000">
            <a:off x="374076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5" descr="Спичка2.gif"/>
          <p:cNvPicPr/>
          <p:nvPr/>
        </p:nvPicPr>
        <p:blipFill>
          <a:blip r:embed="rId18"/>
          <a:stretch/>
        </p:blipFill>
        <p:spPr>
          <a:xfrm>
            <a:off x="5003640" y="486900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5" descr="Спичка2.gif"/>
          <p:cNvPicPr/>
          <p:nvPr/>
        </p:nvPicPr>
        <p:blipFill>
          <a:blip r:embed="rId19"/>
          <a:stretch/>
        </p:blipFill>
        <p:spPr>
          <a:xfrm>
            <a:off x="644364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5" descr="Спичка2.gif"/>
          <p:cNvPicPr/>
          <p:nvPr/>
        </p:nvPicPr>
        <p:blipFill>
          <a:blip r:embed="rId20"/>
          <a:stretch/>
        </p:blipFill>
        <p:spPr>
          <a:xfrm>
            <a:off x="5003640" y="522936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5" descr="Спичка2.gif"/>
          <p:cNvPicPr/>
          <p:nvPr/>
        </p:nvPicPr>
        <p:blipFill>
          <a:blip r:embed="rId21"/>
          <a:stretch/>
        </p:blipFill>
        <p:spPr>
          <a:xfrm rot="7320000">
            <a:off x="640584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5" descr="Спичка2.gif"/>
          <p:cNvPicPr/>
          <p:nvPr/>
        </p:nvPicPr>
        <p:blipFill>
          <a:blip r:embed="rId22"/>
          <a:stretch/>
        </p:blipFill>
        <p:spPr>
          <a:xfrm rot="14490000">
            <a:off x="640620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3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5185E-006 L 0.07083 -1.85185E-006 E">
                                      <p:cBhvr>
                                        <p:cTn id="231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8.14815E-006 L 0.07883 8.14815E-006 E">
                                      <p:cBhvr>
                                        <p:cTn id="235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74520" y="1557360"/>
            <a:ext cx="50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ереложить 4 спички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чтобы получилось 3 квад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efefe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380360" y="429264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3068640"/>
            <a:ext cx="2087280" cy="1942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292640"/>
            <a:ext cx="2087640" cy="194292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15" descr="Спичка2.gif"/>
          <p:cNvPicPr/>
          <p:nvPr/>
        </p:nvPicPr>
        <p:blipFill>
          <a:blip r:embed="rId2"/>
          <a:stretch/>
        </p:blipFill>
        <p:spPr>
          <a:xfrm>
            <a:off x="2050920" y="292428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15" descr="Спичка2.gif"/>
          <p:cNvPicPr/>
          <p:nvPr/>
        </p:nvPicPr>
        <p:blipFill>
          <a:blip r:embed="rId3"/>
          <a:stretch/>
        </p:blipFill>
        <p:spPr>
          <a:xfrm>
            <a:off x="2195640" y="2852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5" descr="Спичка2.gif"/>
          <p:cNvPicPr/>
          <p:nvPr/>
        </p:nvPicPr>
        <p:blipFill>
          <a:blip r:embed="rId4"/>
          <a:stretch/>
        </p:blipFill>
        <p:spPr>
          <a:xfrm>
            <a:off x="2124000" y="6308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5" descr="Спичка2.gif"/>
          <p:cNvPicPr/>
          <p:nvPr/>
        </p:nvPicPr>
        <p:blipFill>
          <a:blip r:embed="rId5"/>
          <a:stretch/>
        </p:blipFill>
        <p:spPr>
          <a:xfrm>
            <a:off x="4427640" y="2852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5" descr="Спичка2.gif"/>
          <p:cNvPicPr/>
          <p:nvPr/>
        </p:nvPicPr>
        <p:blipFill>
          <a:blip r:embed="rId6"/>
          <a:stretch/>
        </p:blipFill>
        <p:spPr>
          <a:xfrm>
            <a:off x="2050920" y="522756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5" descr="Спичка2.gif"/>
          <p:cNvPicPr/>
          <p:nvPr/>
        </p:nvPicPr>
        <p:blipFill>
          <a:blip r:embed="rId7"/>
          <a:stretch/>
        </p:blipFill>
        <p:spPr>
          <a:xfrm>
            <a:off x="550692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5" descr="Спичка2.gif"/>
          <p:cNvPicPr/>
          <p:nvPr/>
        </p:nvPicPr>
        <p:blipFill>
          <a:blip r:embed="rId8"/>
          <a:stretch/>
        </p:blipFill>
        <p:spPr>
          <a:xfrm>
            <a:off x="3203640" y="407664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5" descr="Спичка2.gif"/>
          <p:cNvPicPr/>
          <p:nvPr/>
        </p:nvPicPr>
        <p:blipFill>
          <a:blip r:embed="rId9"/>
          <a:stretch/>
        </p:blipFill>
        <p:spPr>
          <a:xfrm>
            <a:off x="5506920" y="292428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5506920" y="522756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205092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4427640" y="6308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35600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3274920" y="2852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3274920" y="5084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15" descr="Спичка2.gif"/>
          <p:cNvPicPr/>
          <p:nvPr/>
        </p:nvPicPr>
        <p:blipFill>
          <a:blip r:embed="rId16"/>
          <a:stretch/>
        </p:blipFill>
        <p:spPr>
          <a:xfrm>
            <a:off x="3274920" y="6308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5" descr="Спичка2.gif"/>
          <p:cNvPicPr/>
          <p:nvPr/>
        </p:nvPicPr>
        <p:blipFill>
          <a:blip r:embed="rId17"/>
          <a:stretch/>
        </p:blipFill>
        <p:spPr>
          <a:xfrm>
            <a:off x="3348000" y="4003560"/>
            <a:ext cx="1066680" cy="125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419640" y="414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8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00468 0.16944 E">
                                      <p:cBhvr>
                                        <p:cTn id="241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07407E-006 L -0.12483 0.00625 E">
                                      <p:cBhvr>
                                        <p:cTn id="243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-1.38889E-006 -0.17847 E">
                                      <p:cBhvr>
                                        <p:cTn id="247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8.67362E-019 L 0.11823 8.67362E-019 E">
                                      <p:cBhvr>
                                        <p:cTn id="249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6:15:49Z</dcterms:created>
  <dc:creator>Мама</dc:creator>
  <dc:description/>
  <dc:language>en-US</dc:language>
  <cp:lastModifiedBy>Мама</cp:lastModifiedBy>
  <dcterms:modified xsi:type="dcterms:W3CDTF">2013-06-13T11:43:09Z</dcterms:modified>
  <cp:revision>17</cp:revision>
  <dc:subject/>
  <dc:title>Слайд 1</dc:title>
</cp:coreProperties>
</file>