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0E1-F257-4607-BF4E-C3FFCAD7D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Учить решать задачи со спичками, практическим путём научить предвидеть, каким образом, перекладывая спички, добиться нужного результата; развивать смекалку, способность предвидеть результат и образное ре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ьный ответ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землекоп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самом деле, пять землекопов за 5 часов выкапывают 5 м канавы; значит, пять землекопов за 1 час вырыли бы 1 м канавы, а в 100 часов — 100 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F58-E125-41F4-BA09-1854E62C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E6E-2764-40BF-AEAD-062D2E6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0BA-5FAB-4396-B153-15540CF6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36C-911B-4208-8B83-0970285E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EA-9B2E-4531-A6E9-E00F6A62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5D5-4AEE-45D5-BE4A-5E453BA8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BDE-3BB2-4F2F-8FDB-24AF35A9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5D9-F9C5-4EBC-A5BC-F8A666C5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4D1-B807-4B58-A16D-612248F1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28D-DD37-4D1C-B12E-78EC76FC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EC5-CE27-4D65-95C3-08C010DA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B56-18BC-4CAC-B60D-97B7C60E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9B05-85F0-4945-8F9A-F240885E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52.radikal.ru/i136/1008/fa/effeea01a045.jpg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8.png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9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" y="1386000"/>
            <a:ext cx="19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няти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4160" y="2708280"/>
            <a:ext cx="460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о спичк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27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8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29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8880" y="4762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77200" y="2136600"/>
            <a:ext cx="53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52.radikal.ru/i136/1008/fa/effeea01a04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640" y="17733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емлеко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862440"/>
            <a:ext cx="849240" cy="260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849240" cy="2603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132000" y="3860640"/>
            <a:ext cx="849600" cy="26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924360" y="3860640"/>
            <a:ext cx="849240" cy="2603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32000" y="1989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ять землекопов за 5 часов выкапы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 длиной 5 метров. Сколько по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млекопов, чтобы вырыть такой же глуб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в, длина которого 100 м за 100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79280" y="2276640"/>
            <a:ext cx="1495440" cy="4581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4437000"/>
            <a:ext cx="50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столе три совершенно одинаковых ящика. В од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них лежат 2 чёрных шарика, в другом – чёрны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ый, в третьем – 2 белых. На ящиках есть надпи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2 чёрных», «2 белых», «Чёрный и белый». Одна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естно, что ни одна из надписей не соотве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йствительности. Сможете ли вы определить, где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рики лежат, вынув всего один ша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какой-нибудь короб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205000"/>
            <a:ext cx="208728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20500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8317080" y="508464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17080" y="4365720"/>
            <a:ext cx="574560" cy="5540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810108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20000" y="3573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42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3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1042 L 0.26771 0.01042 E">
                                      <p:cBhvr>
                                        <p:cTn id="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0.01042 L 0.26753 0.01065 E">
                                      <p:cBhvr>
                                        <p:cTn id="7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33333 L -0.53559 -0.00255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2000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350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60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635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068640"/>
            <a:ext cx="2087640" cy="14400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357192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чё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6920" y="357336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бе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54560" y="3645000"/>
            <a:ext cx="158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ё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697000">
            <a:off x="5940360" y="2349000"/>
            <a:ext cx="457200" cy="998640"/>
          </a:xfrm>
          <a:custGeom>
            <a:avLst/>
            <a:gdLst/>
            <a:ahLst/>
            <a:rect l="l" t="t" r="r" b="b"/>
            <a:pathLst>
              <a:path w="288" h="629">
                <a:moveTo>
                  <a:pt x="136" y="235"/>
                </a:moveTo>
                <a:lnTo>
                  <a:pt x="0" y="0"/>
                </a:lnTo>
                <a:lnTo>
                  <a:pt x="152" y="629"/>
                </a:lnTo>
                <a:lnTo>
                  <a:pt x="288" y="60"/>
                </a:lnTo>
                <a:lnTo>
                  <a:pt x="144" y="235"/>
                </a:ln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8486" y="7493"/>
                </a:moveTo>
                <a:lnTo>
                  <a:pt x="11993" y="7493"/>
                </a:lnTo>
                <a:lnTo>
                  <a:pt x="11993" y="12828"/>
                </a:lnTo>
                <a:cubicBezTo>
                  <a:pt x="11993" y="13751"/>
                  <a:pt x="12794" y="14482"/>
                  <a:pt x="13830" y="14482"/>
                </a:cubicBezTo>
                <a:lnTo>
                  <a:pt x="15492" y="14482"/>
                </a:lnTo>
                <a:cubicBezTo>
                  <a:pt x="16528" y="14482"/>
                  <a:pt x="17329" y="13751"/>
                  <a:pt x="17329" y="12828"/>
                </a:cubicBezTo>
                <a:lnTo>
                  <a:pt x="17329" y="7493"/>
                </a:lnTo>
                <a:lnTo>
                  <a:pt x="15492" y="7493"/>
                </a:lnTo>
                <a:lnTo>
                  <a:pt x="19000" y="3985"/>
                </a:lnTo>
                <a:lnTo>
                  <a:pt x="22673" y="7493"/>
                </a:lnTo>
                <a:lnTo>
                  <a:pt x="20836" y="7493"/>
                </a:lnTo>
                <a:lnTo>
                  <a:pt x="20836" y="12828"/>
                </a:lnTo>
                <a:cubicBezTo>
                  <a:pt x="20836" y="15596"/>
                  <a:pt x="18260" y="18155"/>
                  <a:pt x="15492" y="18155"/>
                </a:cubicBezTo>
                <a:lnTo>
                  <a:pt x="13830" y="18155"/>
                </a:lnTo>
                <a:cubicBezTo>
                  <a:pt x="11062" y="18155"/>
                  <a:pt x="8486" y="15596"/>
                  <a:pt x="8486" y="12828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82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L -0.00278 -0.42361 E">
                                      <p:cBhvr>
                                        <p:cTn id="10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0.00504 -0.29768 E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22222E-006 L -0.26771 -0.01042 E">
                                      <p:cBhvr>
                                        <p:cTn id="11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2222E-006 L 0.00035 0.33588 E">
                                      <p:cBhvr>
                                        <p:cTn id="11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6 L 0.53593 0.00023 E">
                                      <p:cBhvr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33588 L -0.2677 -1.11111E-006 E">
                                      <p:cBhvr>
                                        <p:cTn id="12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12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3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3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4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18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18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8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19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23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235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efefe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efefe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24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243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24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24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Мама</cp:lastModifiedBy>
  <dcterms:modified xsi:type="dcterms:W3CDTF">2013-06-13T11:43:09Z</dcterms:modified>
  <cp:revision>17</cp:revision>
  <dc:subject/>
  <dc:title>Слайд 1</dc:title>
</cp:coreProperties>
</file>