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944-44FF-40E4-8EBC-70B6EC8E4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центральной симметрией; научить строить центрально-симметричные фигуры; дать представление о центре симметрии прям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особы считаются разными, если многоугольники, получаемые при одном способе, не равны многоугольникам, получаемым при другом спосо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. Вопрос? Какую закономерность можно заметить, аблюдая за построением симметричной фиг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78E-91EB-469C-8E9A-09F230F7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E35-ED70-4C51-BA1E-84F6452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614-8B1F-409E-8AA8-4F0FF796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291-B4A8-4D0D-8053-29C42D1A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CD6-6C8E-4CA7-A1D8-2D34D48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4DC-17C7-4A0B-9C74-4A20CF2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F53-56F0-4FEB-8392-F0829A92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B18-2E9D-4D63-94CA-9A01803F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9AD-F5F7-4C78-9306-74C62C8C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195-AB83-4EEC-B732-13A4F41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177-DF27-4075-8243-D336C51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AFE-2496-4011-82DF-FB702B84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FF3B-0C7E-4550-AD76-280C464F2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g-fotki.yandex.ru/get/5412/4243123.30/0_877ef_507a5464_XL" TargetMode="External"/><Relationship Id="rId3" Type="http://schemas.openxmlformats.org/officeDocument/2006/relationships/hyperlink" Target="http://www.edu54.ru/sites/default/files/userfiles/image/16fa245c2025t.jpg" TargetMode="External"/><Relationship Id="rId4" Type="http://schemas.openxmlformats.org/officeDocument/2006/relationships/hyperlink" Target="http://i68.mindmix.ru/73/76/187673/98/2928498/konfeta.gif" TargetMode="External"/><Relationship Id="rId5" Type="http://schemas.openxmlformats.org/officeDocument/2006/relationships/hyperlink" Target="http://data.photo.sibnet.ru/upload/imggreat/135512159865.jpg" TargetMode="External"/><Relationship Id="rId6" Type="http://schemas.openxmlformats.org/officeDocument/2006/relationships/hyperlink" Target="http://www.klbviktoria.com/assets/images/prev4/nashi0dostizhenia20foto.jpg" TargetMode="External"/><Relationship Id="rId7" Type="http://schemas.openxmlformats.org/officeDocument/2006/relationships/hyperlink" Target="http://etftrends.typepad.com/photos/uncategorized/2008/04/30/scissors_2.png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7440" y="2708280"/>
            <a:ext cx="479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Центра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имметр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688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341360" y="2889360"/>
            <a:ext cx="3011400" cy="2487600"/>
          </a:xfrm>
          <a:custGeom>
            <a:avLst/>
            <a:gdLst/>
            <a:ahLst/>
            <a:rect l="l" t="t" r="r" b="b"/>
            <a:pathLst>
              <a:path w="1897" h="1567">
                <a:moveTo>
                  <a:pt x="1252" y="307"/>
                </a:moveTo>
                <a:lnTo>
                  <a:pt x="1897" y="922"/>
                </a:lnTo>
                <a:lnTo>
                  <a:pt x="622" y="1567"/>
                </a:lnTo>
                <a:lnTo>
                  <a:pt x="0" y="0"/>
                </a:lnTo>
              </a:path>
            </a:pathLst>
          </a:custGeom>
          <a:noFill/>
          <a:ln w="1015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340080" y="3340080"/>
            <a:ext cx="2000160" cy="12600"/>
          </a:xfrm>
          <a:custGeom>
            <a:avLst/>
            <a:gdLst/>
            <a:ahLst/>
            <a:rect l="l" t="t" r="r" b="b"/>
            <a:pathLst>
              <a:path w="1260" h="8">
                <a:moveTo>
                  <a:pt x="0" y="8"/>
                </a:moveTo>
                <a:lnTo>
                  <a:pt x="126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352760" y="2352600"/>
            <a:ext cx="11160" cy="2011320"/>
          </a:xfrm>
          <a:custGeom>
            <a:avLst/>
            <a:gdLst/>
            <a:ahLst/>
            <a:rect l="l" t="t" r="r" b="b"/>
            <a:pathLst>
              <a:path w="7" h="1267">
                <a:moveTo>
                  <a:pt x="0" y="0"/>
                </a:moveTo>
                <a:lnTo>
                  <a:pt x="7" y="12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284720" y="3789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284720" y="2781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868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871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363920" y="1341360"/>
            <a:ext cx="3011760" cy="2498760"/>
          </a:xfrm>
          <a:custGeom>
            <a:avLst/>
            <a:gdLst/>
            <a:ahLst/>
            <a:rect l="l" t="t" r="r" b="b"/>
            <a:pathLst>
              <a:path w="1897" h="1574">
                <a:moveTo>
                  <a:pt x="1897" y="1574"/>
                </a:moveTo>
                <a:lnTo>
                  <a:pt x="1264" y="0"/>
                </a:lnTo>
                <a:lnTo>
                  <a:pt x="0" y="607"/>
                </a:lnTo>
                <a:lnTo>
                  <a:pt x="615" y="1267"/>
                </a:lnTo>
              </a:path>
            </a:pathLst>
          </a:custGeom>
          <a:noFill/>
          <a:ln w="10152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708360" y="3141720"/>
            <a:ext cx="289080" cy="360360"/>
            <a:chOff x="3708360" y="3141720"/>
            <a:chExt cx="289080" cy="360360"/>
          </a:xfrm>
        </p:grpSpPr>
        <p:sp>
          <p:nvSpPr>
            <p:cNvPr id="876" name=""/>
            <p:cNvSpPr/>
            <p:nvPr/>
          </p:nvSpPr>
          <p:spPr>
            <a:xfrm flipV="1">
              <a:off x="3708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3781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3852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716360" y="3141720"/>
            <a:ext cx="289080" cy="360360"/>
            <a:chOff x="4716360" y="3141720"/>
            <a:chExt cx="289080" cy="360360"/>
          </a:xfrm>
        </p:grpSpPr>
        <p:sp>
          <p:nvSpPr>
            <p:cNvPr id="880" name=""/>
            <p:cNvSpPr/>
            <p:nvPr/>
          </p:nvSpPr>
          <p:spPr>
            <a:xfrm flipV="1">
              <a:off x="4716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789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860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0412 L 1.11111E-006 3.09898E-006 E">
                                      <p:cBhvr>
                                        <p:cTn id="493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5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8.32562E-007 L 0.22048 0.00023 E">
                                      <p:cBhvr>
                                        <p:cTn id="551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580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6320" y="1197000"/>
            <a:ext cx="606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На рисунке изображён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×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4 клетки. Сколько суще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пособов разрезания на две ра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асти так, чтобы линия разреза 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линиям клетчатой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08000" y="3645000"/>
            <a:ext cx="2809800" cy="2808000"/>
            <a:chOff x="1908000" y="3645000"/>
            <a:chExt cx="2809800" cy="2808000"/>
          </a:xfrm>
        </p:grpSpPr>
        <p:sp>
          <p:nvSpPr>
            <p:cNvPr id="893" name=""/>
            <p:cNvSpPr/>
            <p:nvPr/>
          </p:nvSpPr>
          <p:spPr>
            <a:xfrm>
              <a:off x="190800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0800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0800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0800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1036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1036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1036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1036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13080" y="36450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13080" y="43452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13080" y="504792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13080" y="575064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1544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1544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1544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01544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rcRect l="18508" t="0" r="18508" b="-34"/>
          <a:stretch/>
        </p:blipFill>
        <p:spPr>
          <a:xfrm rot="12734400">
            <a:off x="5076360" y="3573000"/>
            <a:ext cx="1905120" cy="30258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13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924360" y="1125360"/>
            <a:ext cx="2279520" cy="4586040"/>
            <a:chOff x="3924360" y="1125360"/>
            <a:chExt cx="2279520" cy="4586040"/>
          </a:xfrm>
        </p:grpSpPr>
        <p:sp>
          <p:nvSpPr>
            <p:cNvPr id="930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4360" y="458280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24360" y="343044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6720" y="458424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6720" y="34318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24360" y="1125360"/>
            <a:ext cx="71280" cy="460872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7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25208 -3.7037E-007 E">
                                      <p:cBhvr>
                                        <p:cTn id="61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4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771640" y="1125360"/>
            <a:ext cx="3431880" cy="4586040"/>
            <a:chOff x="2771640" y="1125360"/>
            <a:chExt cx="3431880" cy="4586040"/>
          </a:xfrm>
        </p:grpSpPr>
        <p:sp>
          <p:nvSpPr>
            <p:cNvPr id="962" name=""/>
            <p:cNvSpPr/>
            <p:nvPr/>
          </p:nvSpPr>
          <p:spPr>
            <a:xfrm>
              <a:off x="50770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232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232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770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7164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7164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77080" y="45849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77080" y="3430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0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55800" y="110484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76720" y="342900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55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657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7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1619280" y="1125360"/>
            <a:ext cx="4584600" cy="3432240"/>
            <a:chOff x="1619280" y="1125360"/>
            <a:chExt cx="4584600" cy="3432240"/>
          </a:xfrm>
        </p:grpSpPr>
        <p:sp>
          <p:nvSpPr>
            <p:cNvPr id="996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7164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928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7672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4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92356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55800" y="2260440"/>
            <a:ext cx="12960" cy="1155960"/>
          </a:xfrm>
          <a:custGeom>
            <a:avLst/>
            <a:gdLst/>
            <a:ahLst/>
            <a:rect l="l" t="t" r="r" b="b"/>
            <a:pathLst>
              <a:path w="8" h="728">
                <a:moveTo>
                  <a:pt x="8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067360" y="3429000"/>
            <a:ext cx="936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2800" y="2260440"/>
            <a:ext cx="1160640" cy="17640"/>
          </a:xfrm>
          <a:custGeom>
            <a:avLst/>
            <a:gdLst/>
            <a:ahLst/>
            <a:rect l="l" t="t" r="r" b="b"/>
            <a:pathLst>
              <a:path w="731" h="11">
                <a:moveTo>
                  <a:pt x="0" y="0"/>
                </a:moveTo>
                <a:lnTo>
                  <a:pt x="731" y="11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54760" y="4559400"/>
            <a:ext cx="1130040" cy="12600"/>
          </a:xfrm>
          <a:custGeom>
            <a:avLst/>
            <a:gdLst/>
            <a:ahLst/>
            <a:rect l="l" t="t" r="r" b="b"/>
            <a:pathLst>
              <a:path w="712" h="8">
                <a:moveTo>
                  <a:pt x="0" y="0"/>
                </a:moveTo>
                <a:lnTo>
                  <a:pt x="712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0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1.11111E-006 0.16806 E">
                                      <p:cBhvr>
                                        <p:cTn id="703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1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771640" y="1125360"/>
            <a:ext cx="3432240" cy="4584960"/>
            <a:chOff x="2771640" y="1125360"/>
            <a:chExt cx="3432240" cy="4584960"/>
          </a:xfrm>
        </p:grpSpPr>
        <p:sp>
          <p:nvSpPr>
            <p:cNvPr id="1033" name=""/>
            <p:cNvSpPr/>
            <p:nvPr/>
          </p:nvSpPr>
          <p:spPr>
            <a:xfrm>
              <a:off x="507672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1640" y="3429000"/>
              <a:ext cx="112572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76720" y="45831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76720" y="343044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71640" y="1125360"/>
            <a:ext cx="1800" cy="3454560"/>
          </a:xfrm>
          <a:custGeom>
            <a:avLst/>
            <a:gdLst/>
            <a:ahLst/>
            <a:rect l="l" t="t" r="r" b="b"/>
            <a:pathLst>
              <a:path w="1" h="2176">
                <a:moveTo>
                  <a:pt x="0" y="0"/>
                </a:moveTo>
                <a:lnTo>
                  <a:pt x="0" y="217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24360" y="2260440"/>
            <a:ext cx="115560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54760" y="2260440"/>
            <a:ext cx="1440" cy="3441960"/>
          </a:xfrm>
          <a:custGeom>
            <a:avLst/>
            <a:gdLst/>
            <a:ahLst/>
            <a:rect l="l" t="t" r="r" b="b"/>
            <a:pathLst>
              <a:path w="1" h="2168">
                <a:moveTo>
                  <a:pt x="0" y="0"/>
                </a:moveTo>
                <a:lnTo>
                  <a:pt x="0" y="216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11760" y="2260440"/>
            <a:ext cx="12600" cy="2320920"/>
          </a:xfrm>
          <a:custGeom>
            <a:avLst/>
            <a:gdLst/>
            <a:ahLst/>
            <a:rect l="l" t="t" r="r" b="b"/>
            <a:pathLst>
              <a:path w="8" h="1462">
                <a:moveTo>
                  <a:pt x="8" y="0"/>
                </a:moveTo>
                <a:lnTo>
                  <a:pt x="0" y="146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771640" y="4581360"/>
            <a:ext cx="115596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000"/>
                            </p:stCondLst>
                            <p:childTnLst>
                              <p:par>
                                <p:cTn id="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4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749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51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68760" y="1125360"/>
            <a:ext cx="2880" cy="1122480"/>
          </a:xfrm>
          <a:custGeom>
            <a:avLst/>
            <a:gdLst/>
            <a:ahLst/>
            <a:rect l="l" t="t" r="r" b="b"/>
            <a:pathLst>
              <a:path w="2" h="707">
                <a:moveTo>
                  <a:pt x="2" y="0"/>
                </a:moveTo>
                <a:lnTo>
                  <a:pt x="0" y="707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771640" y="2273400"/>
            <a:ext cx="2283120" cy="3240"/>
          </a:xfrm>
          <a:custGeom>
            <a:avLst/>
            <a:gdLst/>
            <a:ahLst/>
            <a:rect l="l" t="t" r="r" b="b"/>
            <a:pathLst>
              <a:path w="1438" h="2">
                <a:moveTo>
                  <a:pt x="0" y="2"/>
                </a:moveTo>
                <a:lnTo>
                  <a:pt x="143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755800" y="4572000"/>
            <a:ext cx="2298960" cy="1440"/>
          </a:xfrm>
          <a:custGeom>
            <a:avLst/>
            <a:gdLst/>
            <a:ahLst/>
            <a:rect l="l" t="t" r="r" b="b"/>
            <a:pathLst>
              <a:path w="1448" h="1">
                <a:moveTo>
                  <a:pt x="0" y="0"/>
                </a:moveTo>
                <a:lnTo>
                  <a:pt x="144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76720" y="4581360"/>
            <a:ext cx="180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077" name=""/>
            <p:cNvSpPr/>
            <p:nvPr/>
          </p:nvSpPr>
          <p:spPr>
            <a:xfrm>
              <a:off x="5078160" y="227952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74880" y="1125360"/>
              <a:ext cx="11253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24000" y="342900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71640" y="342900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78160" y="343224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8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0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03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8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911760" y="1130400"/>
            <a:ext cx="12600" cy="1150920"/>
          </a:xfrm>
          <a:custGeom>
            <a:avLst/>
            <a:gdLst/>
            <a:ahLst/>
            <a:rect l="l" t="t" r="r" b="b"/>
            <a:pathLst>
              <a:path w="8" h="725">
                <a:moveTo>
                  <a:pt x="0" y="0"/>
                </a:moveTo>
                <a:lnTo>
                  <a:pt x="8" y="725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24360" y="2260440"/>
            <a:ext cx="1130400" cy="16200"/>
          </a:xfrm>
          <a:custGeom>
            <a:avLst/>
            <a:gdLst/>
            <a:ahLst/>
            <a:rect l="l" t="t" r="r" b="b"/>
            <a:pathLst>
              <a:path w="712" h="10">
                <a:moveTo>
                  <a:pt x="0" y="10"/>
                </a:moveTo>
                <a:lnTo>
                  <a:pt x="712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755800" y="4559400"/>
            <a:ext cx="1143000" cy="12600"/>
          </a:xfrm>
          <a:custGeom>
            <a:avLst/>
            <a:gdLst/>
            <a:ahLst/>
            <a:rect l="l" t="t" r="r" b="b"/>
            <a:pathLst>
              <a:path w="720" h="8">
                <a:moveTo>
                  <a:pt x="0" y="8"/>
                </a:moveTo>
                <a:lnTo>
                  <a:pt x="72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11760" y="4572000"/>
            <a:ext cx="144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114" name=""/>
            <p:cNvSpPr/>
            <p:nvPr/>
          </p:nvSpPr>
          <p:spPr>
            <a:xfrm>
              <a:off x="507816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924360" y="458136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24360" y="3429000"/>
              <a:ext cx="112680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342900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7816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124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3794"/>
                </a:moveTo>
                <a:lnTo>
                  <a:pt x="22438" y="10800"/>
                </a:lnTo>
                <a:lnTo>
                  <a:pt x="842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55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57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37400" y="1341360"/>
            <a:ext cx="61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ая т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на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очке: А; В; 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; M; N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13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37380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765080" y="4365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86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875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037E-007 L 0.49617 -0.14699 E">
                                      <p:cBhvr>
                                        <p:cTn id="883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4 -0.29398 L 4.72222E-006 -3.7037E-007 E">
                                      <p:cBhvr>
                                        <p:cTn id="88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891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7 -0.14699 L -5.27778E-006 -3.7037E-007 E">
                                      <p:cBhvr>
                                        <p:cTn id="895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97720" y="1341360"/>
            <a:ext cx="722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отрез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трезку: АВ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D; 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O; BO; OC; BD;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24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73800" y="50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65080" y="4508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84328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1636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843280" y="350028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843280" y="357336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372360" y="3500280"/>
            <a:ext cx="0" cy="194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843280" y="4483080"/>
            <a:ext cx="1805040" cy="1033560"/>
          </a:xfrm>
          <a:custGeom>
            <a:avLst/>
            <a:gdLst/>
            <a:ahLst/>
            <a:rect l="l" t="t" r="r" b="b"/>
            <a:pathLst>
              <a:path w="1137" h="651">
                <a:moveTo>
                  <a:pt x="0" y="651"/>
                </a:moveTo>
                <a:lnTo>
                  <a:pt x="1137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3492360"/>
            <a:ext cx="1701720" cy="990720"/>
          </a:xfrm>
          <a:custGeom>
            <a:avLst/>
            <a:gdLst/>
            <a:ahLst/>
            <a:rect l="l" t="t" r="r" b="b"/>
            <a:pathLst>
              <a:path w="1072" h="624">
                <a:moveTo>
                  <a:pt x="0" y="624"/>
                </a:moveTo>
                <a:lnTo>
                  <a:pt x="1072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44720" y="3479760"/>
            <a:ext cx="1803600" cy="1028880"/>
          </a:xfrm>
          <a:custGeom>
            <a:avLst/>
            <a:gdLst/>
            <a:ahLst/>
            <a:rect l="l" t="t" r="r" b="b"/>
            <a:pathLst>
              <a:path w="1136" h="648">
                <a:moveTo>
                  <a:pt x="0" y="0"/>
                </a:moveTo>
                <a:lnTo>
                  <a:pt x="1136" y="648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635360" y="4508640"/>
            <a:ext cx="1714680" cy="977760"/>
          </a:xfrm>
          <a:custGeom>
            <a:avLst/>
            <a:gdLst/>
            <a:ahLst/>
            <a:rect l="l" t="t" r="r" b="b"/>
            <a:pathLst>
              <a:path w="1080" h="616">
                <a:moveTo>
                  <a:pt x="1080" y="61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635360" y="3505320"/>
            <a:ext cx="1714680" cy="1003320"/>
          </a:xfrm>
          <a:custGeom>
            <a:avLst/>
            <a:gdLst/>
            <a:ahLst/>
            <a:rect l="l" t="t" r="r" b="b"/>
            <a:pathLst>
              <a:path w="1080" h="632">
                <a:moveTo>
                  <a:pt x="0" y="632"/>
                </a:moveTo>
                <a:lnTo>
                  <a:pt x="1080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832120" y="4432320"/>
            <a:ext cx="1917720" cy="1092240"/>
          </a:xfrm>
          <a:custGeom>
            <a:avLst/>
            <a:gdLst/>
            <a:ahLst/>
            <a:rect l="l" t="t" r="r" b="b"/>
            <a:pathLst>
              <a:path w="1208" h="688">
                <a:moveTo>
                  <a:pt x="0" y="688"/>
                </a:moveTo>
                <a:lnTo>
                  <a:pt x="1208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08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910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14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-0.00018 -0.29398 E">
                                      <p:cBhvr>
                                        <p:cTn id="916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38594 -0.29398 E">
                                      <p:cBhvr>
                                        <p:cTn id="920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922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26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8594 4.07407E-006 E">
                                      <p:cBhvr>
                                        <p:cTn id="928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932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33 L -0.38594 0.00533 E">
                                      <p:cBhvr>
                                        <p:cTn id="934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49618 -0.14699 E">
                                      <p:cBhvr>
                                        <p:cTn id="973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8 -0.14699 L -2.77778E-007 1.48148E-006 E">
                                      <p:cBhvr>
                                        <p:cTn id="977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028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а дала детям конфеты: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у всех конфет и ещё од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ыну половину оставшихся и ещё 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конфет было у ма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76440" y="3284640"/>
            <a:ext cx="4103640" cy="3024000"/>
            <a:chOff x="2476440" y="3284640"/>
            <a:chExt cx="4103640" cy="3024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716360" y="3284640"/>
              <a:ext cx="186372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476440" y="3357720"/>
              <a:ext cx="195264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4356000" y="4508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rot="2209800">
              <a:off x="3563640" y="4076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 rot="4930800">
              <a:off x="4301280" y="45622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 rot="18606600">
              <a:off x="3438360" y="412992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 rot="19972200">
              <a:off x="4500720" y="4581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 rot="5002800">
              <a:off x="3725640" y="384300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 rot="8359200">
            <a:off x="323280" y="5733720"/>
            <a:ext cx="1081080" cy="973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36960" y="4991400"/>
            <a:ext cx="1731240" cy="1571400"/>
            <a:chOff x="336960" y="4991400"/>
            <a:chExt cx="1731240" cy="1571400"/>
          </a:xfrm>
        </p:grpSpPr>
        <p:pic>
          <p:nvPicPr>
            <p:cNvPr id="70" name="" descr=""/>
            <p:cNvPicPr/>
            <p:nvPr/>
          </p:nvPicPr>
          <p:blipFill>
            <a:blip r:embed="rId11"/>
            <a:stretch/>
          </p:blipFill>
          <p:spPr>
            <a:xfrm rot="20011800">
              <a:off x="826560" y="51814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2"/>
            <a:stretch/>
          </p:blipFill>
          <p:spPr>
            <a:xfrm>
              <a:off x="611280" y="558972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3"/>
            <a:stretch/>
          </p:blipFill>
          <p:spPr>
            <a:xfrm>
              <a:off x="900000" y="5445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4"/>
            <a:stretch/>
          </p:blipFill>
          <p:spPr>
            <a:xfrm rot="17173200">
              <a:off x="414360" y="535428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8359200">
            <a:off x="899280" y="5884560"/>
            <a:ext cx="108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А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37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83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987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991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5" dur="2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0.00781 -0.01042 E">
                                      <p:cBhvr>
                                        <p:cTn id="997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50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592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0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1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1011" dur="2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19" dur="2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023" dur="2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632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581360" y="4448160"/>
            <a:ext cx="1238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771640" y="342900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321600" y="342900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-1774800" y="260280"/>
            <a:ext cx="35496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648320" y="3500280"/>
            <a:ext cx="222876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643280" y="3500280"/>
            <a:ext cx="222912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340000" y="4005360"/>
            <a:ext cx="4559400" cy="1003320"/>
          </a:xfrm>
          <a:custGeom>
            <a:avLst/>
            <a:gdLst/>
            <a:ahLst/>
            <a:rect l="l" t="t" r="r" b="b"/>
            <a:pathLst>
              <a:path w="2872" h="632">
                <a:moveTo>
                  <a:pt x="2872" y="0"/>
                </a:moveTo>
                <a:lnTo>
                  <a:pt x="0" y="6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33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-0.49479 0.14861 E">
                                      <p:cBhvr>
                                        <p:cTn id="10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45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4775 0.15 E">
                                      <p:cBhvr>
                                        <p:cTn id="1047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рямоугольник АВ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753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843280" y="3500280"/>
            <a:ext cx="3529080" cy="2016360"/>
          </a:xfrm>
          <a:prstGeom prst="rect">
            <a:avLst/>
          </a:prstGeom>
          <a:solidFill>
            <a:srgbClr val="d7907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2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2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66" dur="20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38594 -0.29398 E">
                                      <p:cBhvr>
                                        <p:cTn id="1068" dur="20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72" dur="20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5E-006 1.85185E-006 E">
                                      <p:cBhvr>
                                        <p:cTn id="1074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етырёх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874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4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7" dur="2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1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95" dur="2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99" dur="2000" fill="hold"/>
                                        <p:tgtEl>
                                          <p:spTgt spid="1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49479 0.14861 E">
                                      <p:cBhvr>
                                        <p:cTn id="1103" dur="2000" fill="hold"/>
                                        <p:tgtEl>
                                          <p:spTgt spid="1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739 -0.14537 L 2.5E-006 1.85185E-006 E">
                                      <p:cBhvr>
                                        <p:cTn id="1107" dur="2000" fill="hold"/>
                                        <p:tgtEl>
                                          <p:spTgt spid="1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11" dur="2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0.0033 0.06829 E">
                                      <p:cBhvr>
                                        <p:cTn id="1113" dur="2000" fill="hold"/>
                                        <p:tgtEl>
                                          <p:spTgt spid="1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animClr clrSpc="rgb">
                                      <p:cBhvr>
                                        <p:cTn id="1116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1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1992" name=""/>
          <p:cNvSpPr/>
          <p:nvPr/>
        </p:nvSpPr>
        <p:spPr>
          <a:xfrm>
            <a:off x="395280" y="1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7560" y="1700280"/>
            <a:ext cx="73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412/4243123.30/0_877ef_507a5464_X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86120" y="220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du54.ru/sites/default/files/userfiles/image/16fa245c2025t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85040" y="278136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68.mindmix.ru/73/76/187673/98/2928498/konfeta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840" y="3357720"/>
            <a:ext cx="64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ata.photo.sibnet.ru/upload/imggreat/13551215986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6840" y="393372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lbviktoria.com/assets/images/prev4/nashi0dostizhenia20foto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85760" y="4437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24360" y="148428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23640" y="19890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360" y="24922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ф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24000" y="3068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ай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24000" y="36450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ортс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24000" y="4221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4000" y="4149720"/>
            <a:ext cx="3168360" cy="2376360"/>
            <a:chOff x="324000" y="4149720"/>
            <a:chExt cx="3168360" cy="2376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053440" y="4149720"/>
              <a:ext cx="143892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4000" y="4206960"/>
              <a:ext cx="1507320" cy="22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75160" y="511128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 rot="2209800">
              <a:off x="1163520" y="477144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 rot="4930800">
              <a:off x="1725840" y="516024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6"/>
            <a:stretch/>
          </p:blipFill>
          <p:spPr>
            <a:xfrm rot="18606600">
              <a:off x="1059120" y="482040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 rot="19972200">
              <a:off x="1886040" y="516816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 rot="5002800">
              <a:off x="1280520" y="4595040"/>
              <a:ext cx="849240" cy="75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971640" y="2276640"/>
            <a:ext cx="720072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97640" y="2036880"/>
            <a:ext cx="1440" cy="438120"/>
          </a:xfrm>
          <a:custGeom>
            <a:avLst/>
            <a:gdLst/>
            <a:ahLst/>
            <a:rect l="l" t="t" r="r" b="b"/>
            <a:pathLst>
              <a:path w="1" h="276">
                <a:moveTo>
                  <a:pt x="0" y="0"/>
                </a:moveTo>
                <a:lnTo>
                  <a:pt x="0" y="276"/>
                </a:lnTo>
              </a:path>
            </a:pathLst>
          </a:custGeom>
          <a:noFill/>
          <a:ln w="540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00000">
            <a:off x="248508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2625480" y="910440"/>
            <a:ext cx="507960" cy="3816360"/>
          </a:xfrm>
          <a:custGeom>
            <a:avLst/>
            <a:gdLst>
              <a:gd name="textAreaLeft" fmla="*/ 149400 w 507960"/>
              <a:gd name="textAreaRight" fmla="*/ 508320 w 507960"/>
              <a:gd name="textAreaTop" fmla="*/ 744840 h 3816360"/>
              <a:gd name="textAreaBottom" fmla="*/ 307152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16200000">
            <a:off x="608544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2160" y="1530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6200000">
            <a:off x="536148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 rot="16200000">
            <a:off x="709020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6160" y="2322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284640"/>
            <a:ext cx="5545080" cy="865080"/>
            <a:chOff x="2843280" y="3284640"/>
            <a:chExt cx="5545080" cy="865080"/>
          </a:xfrm>
        </p:grpSpPr>
        <p:sp>
          <p:nvSpPr>
            <p:cNvPr id="100" name=""/>
            <p:cNvSpPr txBox="1"/>
            <p:nvPr/>
          </p:nvSpPr>
          <p:spPr>
            <a:xfrm>
              <a:off x="2843280" y="3284640"/>
              <a:ext cx="55450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5 + 5 + 1)   2 = 22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227640" y="3573360"/>
              <a:ext cx="14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я? Я делюсь на 3, но не на 9, а также на 2 и 5, но не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больше 100 и меньше 200…  Кто 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5229360"/>
            <a:ext cx="1944720" cy="46800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89704" h="21600">
                <a:moveTo>
                  <a:pt x="0" y="0"/>
                </a:moveTo>
                <a:lnTo>
                  <a:pt x="89704" y="0"/>
                </a:lnTo>
                <a:lnTo>
                  <a:pt x="89704" y="21600"/>
                </a:lnTo>
                <a:lnTo>
                  <a:pt x="0" y="21600"/>
                </a:lnTo>
                <a:close/>
              </a:path>
              <a:path fill="lightenLess" w="89704" h="21600">
                <a:moveTo>
                  <a:pt x="0" y="0"/>
                </a:moveTo>
                <a:lnTo>
                  <a:pt x="89704" y="0"/>
                </a:lnTo>
                <a:lnTo>
                  <a:pt x="88304" y="1400"/>
                </a:lnTo>
                <a:lnTo>
                  <a:pt x="1400" y="1400"/>
                </a:lnTo>
                <a:close/>
              </a:path>
              <a:path fill="darken" w="89704" h="21600">
                <a:moveTo>
                  <a:pt x="89704" y="0"/>
                </a:moveTo>
                <a:lnTo>
                  <a:pt x="89704" y="21600"/>
                </a:lnTo>
                <a:lnTo>
                  <a:pt x="88304" y="20200"/>
                </a:lnTo>
                <a:lnTo>
                  <a:pt x="88304" y="1400"/>
                </a:lnTo>
                <a:close/>
              </a:path>
              <a:path fill="darkenLess" w="89704" h="21600">
                <a:moveTo>
                  <a:pt x="89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304" y="20200"/>
                </a:lnTo>
                <a:close/>
              </a:path>
              <a:path fill="lighten" w="89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647" t="3675" r="11431" b="9233"/>
          <a:stretch/>
        </p:blipFill>
        <p:spPr>
          <a:xfrm>
            <a:off x="3635280" y="3573360"/>
            <a:ext cx="2951280" cy="243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56000" y="3645000"/>
            <a:ext cx="108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4000" y="3716280"/>
            <a:ext cx="208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5084640"/>
            <a:ext cx="28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3 = 5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566100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10 = 15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23736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 &lt; 150 &lt; 20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637000"/>
            <a:ext cx="50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беге участвовало 31 спортсмен. Число спортсме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ежавших раньше Джона, в 4 раза меньш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, кто прибежал позже 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место занял Дж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3203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520" y="3286080"/>
            <a:ext cx="86425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33360"/>
            <a:ext cx="938160" cy="2952720"/>
          </a:xfrm>
          <a:custGeom>
            <a:avLst/>
            <a:gdLst/>
            <a:ahLst/>
            <a:rect l="l" t="t" r="r" b="b"/>
            <a:pathLst>
              <a:path w="461" h="943">
                <a:moveTo>
                  <a:pt x="2" y="943"/>
                </a:moveTo>
                <a:lnTo>
                  <a:pt x="0" y="0"/>
                </a:lnTo>
                <a:lnTo>
                  <a:pt x="461" y="38"/>
                </a:lnTo>
                <a:lnTo>
                  <a:pt x="392" y="453"/>
                </a:lnTo>
                <a:lnTo>
                  <a:pt x="0" y="307"/>
                </a:lnTo>
              </a:path>
            </a:pathLst>
          </a:custGeom>
          <a:solidFill>
            <a:srgbClr val="ff0000"/>
          </a:solidFill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76360" y="2205000"/>
            <a:ext cx="1619280" cy="137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 rot="16200000">
            <a:off x="3129120" y="621360"/>
            <a:ext cx="508320" cy="6265800"/>
          </a:xfrm>
          <a:custGeom>
            <a:avLst/>
            <a:gdLst>
              <a:gd name="textAreaLeft" fmla="*/ 149400 w 508320"/>
              <a:gd name="textAreaRight" fmla="*/ 508680 w 508320"/>
              <a:gd name="textAreaTop" fmla="*/ 1222560 h 6265800"/>
              <a:gd name="textAreaBottom" fmla="*/ 5043240 h 62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8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6200000">
            <a:off x="7631280" y="2745360"/>
            <a:ext cx="433440" cy="1942920"/>
          </a:xfrm>
          <a:custGeom>
            <a:avLst/>
            <a:gdLst>
              <a:gd name="textAreaLeft" fmla="*/ 127440 w 433440"/>
              <a:gd name="textAreaRight" fmla="*/ 433800 w 433440"/>
              <a:gd name="textAreaTop" fmla="*/ 485640 h 1942920"/>
              <a:gd name="textAreaBottom" fmla="*/ 1457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280" y="4076640"/>
            <a:ext cx="6193080" cy="733320"/>
          </a:xfrm>
          <a:custGeom>
            <a:avLst/>
            <a:gdLst>
              <a:gd name="textAreaLeft" fmla="*/ 1083240 w 6193080"/>
              <a:gd name="textAreaRight" fmla="*/ 4489560 w 6193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790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9640" y="47401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4 раза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5373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0 : 5 = 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537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59280" y="342900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7280" y="98100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место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3201E-006 L 0.79341 -0.00532 E">
                                      <p:cBhvr>
                                        <p:cTn id="9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32192E-006 L 0.51997 -0.2833 E">
                                      <p:cBhvr>
                                        <p:cTn id="12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39200" y="1341360"/>
            <a:ext cx="63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стройте центрально-симметр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фигуры относительно точки (цент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28720" y="2492280"/>
            <a:ext cx="7559640" cy="3527640"/>
            <a:chOff x="828720" y="2492280"/>
            <a:chExt cx="7559640" cy="3527640"/>
          </a:xfrm>
        </p:grpSpPr>
        <p:sp>
          <p:nvSpPr>
            <p:cNvPr id="140" name=""/>
            <p:cNvSpPr/>
            <p:nvPr/>
          </p:nvSpPr>
          <p:spPr>
            <a:xfrm>
              <a:off x="1836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4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8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2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61080" y="2492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64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36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7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18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5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8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01800" y="36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35280" y="2997000"/>
            <a:ext cx="1511280" cy="2017080"/>
            <a:chOff x="1835280" y="2997000"/>
            <a:chExt cx="1511280" cy="2017080"/>
          </a:xfrm>
        </p:grpSpPr>
        <p:sp>
          <p:nvSpPr>
            <p:cNvPr id="248" name=""/>
            <p:cNvSpPr/>
            <p:nvPr/>
          </p:nvSpPr>
          <p:spPr>
            <a:xfrm rot="16200000">
              <a:off x="1835280" y="400428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835280" y="35010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83528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34000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843640" y="2998440"/>
              <a:ext cx="50256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835280" y="45108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3500280"/>
            <a:ext cx="1511280" cy="2016000"/>
            <a:chOff x="5867280" y="3500280"/>
            <a:chExt cx="1511280" cy="2016000"/>
          </a:xfrm>
        </p:grpSpPr>
        <p:sp>
          <p:nvSpPr>
            <p:cNvPr id="255" name=""/>
            <p:cNvSpPr/>
            <p:nvPr/>
          </p:nvSpPr>
          <p:spPr>
            <a:xfrm rot="5400000">
              <a:off x="6875280" y="4005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875280" y="450828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687528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37056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867280" y="501120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6875280" y="349992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1835280" y="3499920"/>
            <a:ext cx="5545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40000" y="349992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350028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2997360"/>
            <a:ext cx="55450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500280"/>
            <a:ext cx="25192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2997360"/>
            <a:ext cx="25192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149720"/>
            <a:ext cx="7128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3440" y="486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20240" y="2924280"/>
            <a:ext cx="61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271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V="1">
            <a:off x="4356000" y="333000"/>
            <a:ext cx="0" cy="5543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3357720"/>
            <a:ext cx="74901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72360" y="1341360"/>
            <a:ext cx="0" cy="2016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355640" y="1341360"/>
            <a:ext cx="201636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8036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427640" y="3860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4000" y="3357720"/>
            <a:ext cx="0" cy="25192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356000" y="587700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45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46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46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47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3357720"/>
            <a:ext cx="0" cy="2016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340000" y="5373720"/>
            <a:ext cx="2016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836640"/>
            <a:ext cx="0" cy="2592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348000" y="83664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332000" y="2852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928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440" y="606276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оординатной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023 L 0.44098 -0.58773 E">
                                      <p:cBhvr>
                                        <p:cTn id="22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22048 0.73426 E">
                                      <p:cBhvr>
                                        <p:cTn id="26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30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33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489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66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67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67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68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0916E-006 L 0.22048 0.73427 E">
                                      <p:cBhvr>
                                        <p:cTn id="37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400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429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458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6T11:07:30Z</dcterms:modified>
  <cp:revision>24</cp:revision>
  <dc:subject/>
  <dc:title>Слайд 1</dc:title>
</cp:coreProperties>
</file>