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wmf" ContentType="image/x-wmf"/>
  <Override PartName="/ppt/media/image8.jpeg" ContentType="image/jpeg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7D8-489E-4ED3-9B37-77A7214A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08D-1078-4679-B566-FE5BB6E3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4E9-D37C-4399-AA92-66E625E2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242-E41B-4EA5-A584-0D845B0D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358-9A68-4460-B3DB-6AD47A38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D24-21FD-4074-B91C-164300F4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ECD-BDE6-4013-92E8-39A7B6F0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BDC-17F2-4D47-8F52-6612E805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DED-619E-4162-BB01-62D2CF6D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BC5-0934-4EDB-B3D3-276A63F0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532-B7F4-4645-B681-159AAF90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D5D-3AA6-4285-99EF-0680AC1C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95AA-7BA5-4397-ABB5-B136BEC72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Футбол, футбол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Работу выполнила ученица 8 класса Соболева Т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1762200" cy="144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176220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8360" y="4653000"/>
            <a:ext cx="17622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877080" y="5013360"/>
            <a:ext cx="1762200" cy="1447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52601E-006 L -0.60035 -0.00069 E">
                                      <p:cBhvr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545 0.35607 L 0.66545 0.68902 E">
                                      <p:cBhvr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302 -0.38081 L 0.56302 -0.71376 E">
                                      <p:cBhvr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36 0.16323 C -0.27344 -0.00162000000000001 -0.40052 -0.16648 -0.51302 -0.18983 C -0.62552 -0.21318 -0.77031 -0.0111 -0.82101 0.02381 E"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31792E-006 C 0.05573 0.01363 0.11163 0.02751 0.15556 0.09086 C 0.19948 0.15421 0.23889 0.32878 0.26354 0.38057 C 0.28819 0.43236 0.25417 0.4541 0.3033 0.40161 C 0.35243 0.34913 0.5099 0.126 0.55885 0.06543 C 0.60781 0.00485 0.60226 0.0215 0.59687 0.03814 E">
                                      <p:cBhvr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99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тве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на поставленный вопро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Да, самая лучшая игра- это футбол! И не смотря на то, что наши футболисты проиграли Израилю со счетом 2:1, мы всё равно их любим и всегда будем болеть за них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1971720" cy="237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316728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Я хочу ответить на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93680" y="6008760"/>
          <a:ext cx="500724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6008760"/>
                    <a:ext cx="50072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920" y="1268280"/>
            <a:ext cx="74901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лучшая игра-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о футбол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92720" y="4508640"/>
            <a:ext cx="320364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95280" y="4508640"/>
            <a:ext cx="2664000" cy="20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Мои размышления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Мой любимый футболи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Из жизни футболи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Моя любимая кома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О Спарта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buClr>
                <a:srgbClr val="cc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О 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Мои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Футбол- самая лучшая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с футболом мы навсегд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Футбол- это крут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футбол- это класс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Россия, вперёд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и приз будет наш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3500280"/>
            <a:ext cx="2232000" cy="2521080"/>
          </a:xfrm>
          <a:prstGeom prst="wedgeEllipseCallout">
            <a:avLst>
              <a:gd name="adj1" fmla="val -46939"/>
              <a:gd name="adj2" fmla="val 35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Bodoni MT Condensed"/>
              </a:rPr>
              <a:t>Кстати, эти </a:t>
            </a:r>
            <a:r>
              <a:rPr b="1" lang="en-US" sz="3200" spc="-1" strike="noStrike">
                <a:solidFill>
                  <a:srgbClr val="cc00ff"/>
                </a:solidFill>
                <a:latin typeface="Bodoni MT Condensed"/>
              </a:rPr>
              <a:t>стихи</a:t>
            </a:r>
            <a:r>
              <a:rPr b="1" lang="en-US" sz="2400" spc="-1" strike="noStrike">
                <a:solidFill>
                  <a:srgbClr val="cc00ff"/>
                </a:solidFill>
                <a:latin typeface="Bodoni MT Condensed"/>
              </a:rPr>
              <a:t> я сочинила са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МОЙ ЛЮБИМЫЙ ФУТБОЛИСТ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ЗНАЕТЕ КТО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708360" cy="362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299736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Андрей Аршав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66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 Narrow"/>
              </a:rPr>
              <a:t>ИЗ ЖИЗНИ ФУТБО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АНДРЕЙ АРШАВИН РОДИЛСЯ 29 МАЯ 1981ГОДА. НА ДАННЫЙ МОМЕНТ ИГРАЕТ В «ФК ЗЕНИТ» И ЯВЛЯЕТСЯ КАПИТАНОМ СБОРНОЙ РОССИИ ПО ФУТБОЛУ. ОН ОДИН ИЗ САМЫХ ТЕХНИЧНЫХ ИГРОКОВ РОССИ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56000" y="3213000"/>
            <a:ext cx="37083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Моя любимая кома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73200" y="2060280"/>
            <a:ext cx="3970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Кто знает, что это за коман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184720" cy="4394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00720" y="436572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Black"/>
              </a:rPr>
              <a:t>Это Спарта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66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О Спарта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Спартак – моя любимая футбольная команда. Он 9 раз становился чемпионом России и трижды серебренными призёрами Премьер- лиги. Павлюченко один из лучших бомбардиров России. На его счету за 2007 год 14 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882800"/>
            <a:ext cx="47163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О с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341000"/>
            <a:ext cx="3178080" cy="37767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197000"/>
            <a:ext cx="5194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Я очень люблю спорт, поэтому свою презентацию я посвятила одному из видов спорта- футболу. Я раньше занималась футболом, но сейчас я предпочитаю волейбол, но всё- таки любовь к футболу у меня сохранилась и для меня это самый лучший вид спор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305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9:45:26Z</dcterms:created>
  <dc:creator>User</dc:creator>
  <dc:description/>
  <dc:language>en-US</dc:language>
  <cp:lastModifiedBy>User</cp:lastModifiedBy>
  <dcterms:modified xsi:type="dcterms:W3CDTF">2008-01-15T11:31:46Z</dcterms:modified>
  <cp:revision>8</cp:revision>
  <dc:subject/>
  <dc:title>Футбол, футбол…</dc:title>
</cp:coreProperties>
</file>