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708-0A0A-4C3E-B059-D6510EF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B3A-B8EA-40EA-AE4C-E513FB50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8A9-4E41-4BF8-9144-1BE64A25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C4B-ECC3-409D-B93A-23173B0D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CBD-6E26-46EB-89D6-FD25F6A5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2EC-AE25-4AB9-8B27-8181908C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11F-785B-4EDA-A990-8DB96267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43D-4976-43CA-A3E3-8C20BC8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ABC-6281-46FE-8EB1-794CE6EC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53A-7AEF-4817-977E-84F1237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635-7264-409B-9303-FF5EA8B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6A9-08C6-4240-BCE2-94149715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CA5B-C7DD-4A13-B7C6-C4D62C73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Футбол, футбо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боту выполнила ученица 8 класса Собол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176220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877080" y="5013360"/>
            <a:ext cx="1762200" cy="144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52601E-006 L -0.60035 -0.00069 E"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545 0.35607 L 0.66545 0.68902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2 -0.38081 L 0.56302 -0.71376 E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36 0.16323 C -0.27344 -0.00162000000000001 -0.40052 -0.16648 -0.51302 -0.18983 C -0.62552 -0.21318 -0.77031 -0.0111 -0.82101 0.02381 E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31792E-006 C 0.05573 0.01363 0.11163 0.02751 0.15556 0.09086 C 0.19948 0.15421 0.23889 0.32878 0.26354 0.38057 C 0.28819 0.43236 0.25417 0.4541 0.3033 0.40161 C 0.35243 0.34913 0.5099 0.126 0.55885 0.06543 C 0.60781 0.00485 0.60226 0.0215 0.59687 0.03814 E">
                                      <p:cBhvr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99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поставленный вопро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Да, самая лучшая игра- это футбол! И не смотря на то, что наши футболисты проиграли Израилю со счетом 2:1, мы всё равно их любим и всегда будем болеть за них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971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31672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Я хочу ответи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93680" y="6008760"/>
          <a:ext cx="50072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6008760"/>
                    <a:ext cx="5007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1268280"/>
            <a:ext cx="74901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лучшая игра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футбол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508640"/>
            <a:ext cx="32036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2664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и размышления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й любимый футбол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Из жизни футбол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я любимая 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Спарта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Мои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Футбол- самая лучш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 футболом мы навсег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Футбол- это кру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футбол- это клас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Россия, вперё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и приз будет наш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3500280"/>
            <a:ext cx="2232000" cy="2521080"/>
          </a:xfrm>
          <a:prstGeom prst="wedgeEllipseCallout">
            <a:avLst>
              <a:gd name="adj1" fmla="val -46939"/>
              <a:gd name="adj2" fmla="val 3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Кстати, эти </a:t>
            </a:r>
            <a:r>
              <a:rPr b="1" lang="en-US" sz="3200" spc="-1" strike="noStrike">
                <a:solidFill>
                  <a:srgbClr val="cc00ff"/>
                </a:solidFill>
                <a:latin typeface="Bodoni MT Condensed"/>
              </a:rPr>
              <a:t>стихи</a:t>
            </a: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 я сочинила с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МОЙ ЛЮБИМЫЙ ФУТБОЛИС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ЗНАЕТЕ К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08360" cy="362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2997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Андрей Арша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Narrow"/>
              </a:rPr>
              <a:t>ИЗ ЖИЗНИ ФУТБО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НДРЕЙ АРШАВИН РОДИЛСЯ 29 МАЯ 1981ГОДА. НА ДАННЫЙ МОМЕНТ ИГРАЕТ В «ФК ЗЕНИТ» И ЯВЛЯЕТСЯ КАПИТАНОМ СБОРНОЙ РОССИИ ПО ФУТБОЛУ. ОН ОДИН ИЗ САМЫХ ТЕХНИЧНЫХ ИГРОКОВ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3708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Моя любимая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3200" y="2060280"/>
            <a:ext cx="3970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Кто знает, что это за коман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184720" cy="4394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00720" y="4365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Это Спарта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О Спарт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партак – моя любимая футбольная команда. Он 9 раз становился чемпионом России и трижды серебренными призёрами Премьер- лиги. Павлюченко один из лучших бомбардиров России. На его счету за 2007 год 14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882800"/>
            <a:ext cx="4716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341000"/>
            <a:ext cx="3178080" cy="3776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194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Я очень люблю спорт, поэтому свою презентацию я посвятила одному из видов спорта- футболу. Я раньше занималась футболом, но сейчас я предпочитаю волейбол, но всё- таки любовь к футболу у меня сохранилась и для меня это самый лучший вид спо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05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9:45:26Z</dcterms:created>
  <dc:creator>User</dc:creator>
  <dc:description/>
  <dc:language>en-US</dc:language>
  <cp:lastModifiedBy>User</cp:lastModifiedBy>
  <dcterms:modified xsi:type="dcterms:W3CDTF">2008-01-15T11:31:46Z</dcterms:modified>
  <cp:revision>8</cp:revision>
  <dc:subject/>
  <dc:title>Футбол, футбол…</dc:title>
</cp:coreProperties>
</file>