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wmf" ContentType="image/x-wmf"/>
  <Override PartName="/ppt/media/image8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8B6-4739-4715-900F-BEDA855B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590-FEC5-4F42-AB7C-BC3C9757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2EC-74BB-4579-AC08-CB6E9CD7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315-5BC4-4AD5-963C-998A2C8A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7B7-E566-4B58-9892-A545FE2F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23A-63EC-4F94-8242-6CDD8E29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E72-19D1-49B1-8B7F-53CF115D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9BD-AF95-49DA-A388-3AB373D5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BE8-88D6-4FBA-95C4-1DC07F1A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6FC-42AC-464A-ABEE-1BCE5D79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1F4-BCE9-4F47-A714-493F94C1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0BF-8E9F-4FD5-8642-1DBE411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205C-4313-44A6-9048-D98C69D0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Футбол, футбол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Работу выполнила ученица 8 класса Соболева Т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1762200" cy="144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176220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17622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877080" y="5013360"/>
            <a:ext cx="1762200" cy="1447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52601E-006 L -0.60035 -0.00069 E">
                                      <p:cBhvr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545 0.35607 L 0.66545 0.68902 E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302 -0.38081 L 0.56302 -0.71376 E">
                                      <p:cBhvr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36 0.16323 C -0.27344 -0.00162000000000001 -0.40052 -0.16648 -0.51302 -0.18983 C -0.62552 -0.21318 -0.77031 -0.0111 -0.82101 0.02381 E"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31792E-006 C 0.05573 0.01363 0.11163 0.02751 0.15556 0.09086 C 0.19948 0.15421 0.23889 0.32878 0.26354 0.38057 C 0.28819 0.43236 0.25417 0.4541 0.3033 0.40161 C 0.35243 0.34913 0.5099 0.126 0.55885 0.06543 C 0.60781 0.00485 0.60226 0.0215 0.59687 0.03814 E">
                                      <p:cBhvr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99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тве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а поставленный вопро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Да, самая лучшая игра- это футбол! И не смотря на то, что наши футболисты проиграли Израилю со счетом 2:1, мы всё равно их любим и всегда будем болеть за них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1971720" cy="237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316728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Я хочу ответи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93680" y="6008760"/>
          <a:ext cx="500724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6008760"/>
                    <a:ext cx="5007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1268280"/>
            <a:ext cx="74901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лучшая игра-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о футбол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92720" y="4508640"/>
            <a:ext cx="320364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95280" y="4508640"/>
            <a:ext cx="266400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Мои размышления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Мой любимый футбол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Из жизни футболи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Моя любимая кома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О Спарта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О 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Мои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Футбол- самая лучш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с футболом мы навсегд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Футбол- это кру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футбол- это класс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Россия, вперёд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и приз будет наш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3500280"/>
            <a:ext cx="2232000" cy="2521080"/>
          </a:xfrm>
          <a:prstGeom prst="wedgeEllipseCallout">
            <a:avLst>
              <a:gd name="adj1" fmla="val -46939"/>
              <a:gd name="adj2" fmla="val 35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Bodoni MT Condensed"/>
              </a:rPr>
              <a:t>Кстати, эти </a:t>
            </a:r>
            <a:r>
              <a:rPr b="1" lang="en-US" sz="3200" spc="-1" strike="noStrike">
                <a:solidFill>
                  <a:srgbClr val="cc00ff"/>
                </a:solidFill>
                <a:latin typeface="Bodoni MT Condensed"/>
              </a:rPr>
              <a:t>стихи</a:t>
            </a:r>
            <a:r>
              <a:rPr b="1" lang="en-US" sz="2400" spc="-1" strike="noStrike">
                <a:solidFill>
                  <a:srgbClr val="cc00ff"/>
                </a:solidFill>
                <a:latin typeface="Bodoni MT Condensed"/>
              </a:rPr>
              <a:t> я сочинила са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МОЙ ЛЮБИМЫЙ ФУТБОЛИС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ЗНАЕТЕ КТО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708360" cy="362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299736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Андрей Аршав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66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 Narrow"/>
              </a:rPr>
              <a:t>ИЗ ЖИЗНИ ФУТБО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АНДРЕЙ АРШАВИН РОДИЛСЯ 29 МАЯ 1981ГОДА. НА ДАННЫЙ МОМЕНТ ИГРАЕТ В «ФК ЗЕНИТ» И ЯВЛЯЕТСЯ КАПИТАНОМ СБОРНОЙ РОССИИ ПО ФУТБОЛУ. ОН ОДИН ИЗ САМЫХ ТЕХНИЧНЫХ ИГРОКОВ РОССИ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37083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Моя любимая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73200" y="2060280"/>
            <a:ext cx="3970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Кто знает, что это за коман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184720" cy="4394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00720" y="43657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Black"/>
              </a:rPr>
              <a:t>Это Спарта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О Спарта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Спартак – моя любимая футбольная команда. Он 9 раз становился чемпионом России и трижды серебренными призёрами Премьер- лиги. Павлюченко один из лучших бомбардиров России. На его счету за 2007 год 14 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882800"/>
            <a:ext cx="47163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О с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341000"/>
            <a:ext cx="3178080" cy="3776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197000"/>
            <a:ext cx="5194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Я очень люблю спорт, поэтому свою презентацию я посвятила одному из видов спорта- футболу. Я раньше занималась футболом, но сейчас я предпочитаю волейбол, но всё- таки любовь к футболу у меня сохранилась и для меня это самый лучший вид спор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305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9:45:26Z</dcterms:created>
  <dc:creator>User</dc:creator>
  <dc:description/>
  <dc:language>en-US</dc:language>
  <cp:lastModifiedBy>User</cp:lastModifiedBy>
  <dcterms:modified xsi:type="dcterms:W3CDTF">2008-01-15T11:31:46Z</dcterms:modified>
  <cp:revision>8</cp:revision>
  <dc:subject/>
  <dc:title>Футбол, футбол…</dc:title>
</cp:coreProperties>
</file>