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316-FB84-471F-9CC7-9F2E6CA3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4BD-E9E0-4ED5-9D68-22E15570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548-178E-41F4-A432-CC49B561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C0F-E8A8-4684-87DF-78100A12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5977-BBF2-43CC-8F77-EA6C7E89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8EDC-6348-4557-B20D-48C9F2B3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7B58-ADFB-4AB3-AE6E-AF40831C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63CB-FAFE-42EF-A36A-E2F6E17F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A0F4-4028-493E-B43E-1AD2601E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1BD6-D345-4460-8B1E-80215A48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B864-0F32-4FE4-82E1-2C171352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6E4-CFB8-4A1B-9A7B-A2B786D8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2C07-6A88-4D65-8221-87BFBB7B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AA99-600C-4DA7-90CA-7815ECDD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5142-1562-4E15-BF74-C67AA625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71CD-35C7-413E-A1FC-72EA00CD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D568-6F18-4AF6-ADC6-EF497001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992-3DAA-4F64-9495-7199119F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ABD-8082-4F23-A739-24445BBE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ACA-A6E7-48A1-A0C8-56B75174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B39-9087-4A3E-B41E-47CB95F9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621-AB7B-4FEA-BB2D-9AFCFCFB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DBA-4C90-4FBB-9567-15D85165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12B-0CE3-44D4-A94D-967A57D5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E73E-7B84-45AB-97C5-323664ED9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0DE9-B989-45FB-A584-CDA80E0B1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toplenka.ru/photo/kustov/51959/small/664232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istory-lim.narod.ru/2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school76.yar.ru/menu/work/sport/sport/man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venda.ru/project/2007/Androsov/index.1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go.mail.ru/frame.html?imgurl=http://www.specialradio.net/art/images/01609.jpg&amp;pageurl=http://art.specialradio.ru%2F%3Fid%3D239&amp;id=31962200&amp;iid=0&amp;imgwidth=500&amp;imgheight=476&amp;imgsize=106695&amp;images_links=b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go.mail.ru/frame.html?imgurl=http://www.in-media.ru/pics/3594.jpg&amp;pageurl=http://www.lokr.ru%2F%3Fcat_id%3D16%26page%3D162&amp;id=7542838&amp;iid=7&amp;imgwidth=100&amp;imgheight=76&amp;imgsize=16516&amp;images_links=b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onlinetoplist.com/img/save/glad_4b.jpg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go.mail.ru/frame.html?imgurl=http://www.mirovoekino.ru/images/films/177/thumb_3.jpg&amp;pageurl=http://kinobar.artngroup.ru%2Fbayki%2Findex2.html&amp;id=69973082&amp;iid=2&amp;imgwidth=140&amp;imgheight=93&amp;imgsize=60948&amp;images_links=b" TargetMode="External"/><Relationship Id="rId14" Type="http://schemas.openxmlformats.org/officeDocument/2006/relationships/image" Target="../media/image10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oevieiskusstva.narod.ru/2343_fight4-1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media1.picsearch.com/is?xtfwXDc-8EIBaTWFKaLG6yfMiPZwm8z9fc6vTCcfQjs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as.baikal.tv/news/nimg/2002_03_17/1/R%20-%20Masleniza0996!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doronino.memorandum.ru/pic/masl2006_02.jpg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go.mail.ru/frame.html?imgurl=http://wap.photohost.ru/thumbnails/100/100/295729.jpg&amp;pageurl=http://www.photohost.ru%2Fshowpicture.php%3Fpictureid%3D295729%26galleryid%3D16436%26user%3D0%26days%3D%26sti%3D&amp;id=18478480&amp;iid=2&amp;imgwidth=303&amp;imgheight=400&amp;imgsize=206208&amp;images_links=b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go.mail.ru/frame.html?imgurl=http://history.rin.ru/images/tree/small/2225-1.jpg&amp;pageurl=http://history.rin.ru%2Fcgi-bin%2Fhistory.pl%3Fnum%3D2225&amp;id=2705669&amp;iid=2&amp;imgwidth=150&amp;imgheight=104&amp;imgsize=65620&amp;images_links=b" TargetMode="External"/><Relationship Id="rId12" Type="http://schemas.openxmlformats.org/officeDocument/2006/relationships/image" Target="../media/image16.jpeg"/><Relationship Id="rId13" Type="http://schemas.openxmlformats.org/officeDocument/2006/relationships/hyperlink" Target="http://go.mail.ru/frame.html?imgurl=http://www.newsprom.ru/photo/116896507500469.jpg&amp;pageurl=http://www.masters.donntu.edu.ua%2F2007%2Fkita%2Fanimitsa%2Find%2Findex.htm&amp;id=36119746&amp;iid=5&amp;imgwidth=200&amp;imgheight=133&amp;imgsize=66977&amp;images_links=b" TargetMode="External"/><Relationship Id="rId14" Type="http://schemas.openxmlformats.org/officeDocument/2006/relationships/image" Target="../media/image17.jpeg"/><Relationship Id="rId15" Type="http://schemas.openxmlformats.org/officeDocument/2006/relationships/hyperlink" Target="http://go.mail.ru/frame.html?imgurl=http://www.equestrian.ru/photos/photoreport2008/kubok_kshve/KSHT0060_bushina_kompliment_sm.jpg&amp;pageurl=http://www.equestrian.ru%2Fsport%2Friders%2F1410%3Fsubsection%3Dphotos%26p%3D0&amp;id=59607185&amp;iid=4&amp;imgwidth=150&amp;imgheight=124&amp;imgsize=142312&amp;images_links=b" TargetMode="External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ido.edu.ru/psychology/pedagogical_psychology/komensk.jpg&amp;pageurl=http://portal-slovo.likelove.ru%2Fpre_school_education%2F492%2F%3FSHOWALL_1%3D1&amp;id=34820301&amp;iid=7&amp;imgwidth=65&amp;imgheight=100&amp;imgsize=19449&amp;images_links=b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dekabristy.ru/ist_ros/gos_ob/ob_org/decab/ideol/russo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ru.wikipedia.org/wiki/&#1048;&#1079;&#1086;&#1073;&#1088;&#1072;&#1078;&#1077;&#1085;&#1080;&#1077;:Johann_Heinrich_Pestalozzi.jp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627280" y="333360"/>
            <a:ext cx="6335640" cy="61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изическая культура лич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 её взаимосвязь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общей культурой об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403280" y="333000"/>
            <a:ext cx="76327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  </a:t>
            </a: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Важнейшее значение в обществе приобретает физическая культура как средство укрепления здоровья, физического воспитания подрастающего поколения, организации культурного, а значит, здорового образа жизн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вязь занятий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физической культурой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 укреплением здоровья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известна с давних времён.</a:t>
            </a:r>
            <a:r>
              <a:rPr b="1" i="1" lang="en-US" sz="2800" spc="-1" strike="noStrike">
                <a:solidFill>
                  <a:srgbClr val="333300"/>
                </a:solidFill>
                <a:latin typeface="Georgia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Ещё древние люди говорили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728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820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409800">
            <a:off x="7164360" y="4652640"/>
            <a:ext cx="1293840" cy="1841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rot="611400">
            <a:off x="6659640" y="404640"/>
            <a:ext cx="2147760" cy="1432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 rot="20985000">
            <a:off x="1979280" y="4868640"/>
            <a:ext cx="2016000" cy="1531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 rot="857400">
            <a:off x="4572000" y="4941720"/>
            <a:ext cx="2073240" cy="1387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 rot="20908200">
            <a:off x="6443280" y="2276280"/>
            <a:ext cx="16588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331640" y="260280"/>
            <a:ext cx="763596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Georgia"/>
              </a:rPr>
              <a:t>       </a:t>
            </a:r>
            <a:r>
              <a:rPr b="1" i="1" lang="en-US" sz="4000" spc="-1" strike="noStrike">
                <a:solidFill>
                  <a:srgbClr val="cc6600"/>
                </a:solidFill>
                <a:latin typeface="Georgia"/>
              </a:rPr>
              <a:t>Таким образом, физическая культура, являясь важной составляющей общей культуры общества, служит мощным и эффективным средством физического воспитания всесторонне развитой личности.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32000" y="1523520"/>
            <a:ext cx="7812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Georgia"/>
              </a:rPr>
              <a:t>   </a:t>
            </a:r>
            <a:r>
              <a:rPr b="1" i="1" lang="en-US" sz="3200" spc="-1" strike="noStrike">
                <a:solidFill>
                  <a:srgbClr val="663300"/>
                </a:solidFill>
                <a:latin typeface="Georgia"/>
              </a:rPr>
              <a:t>это составная часть общечеловеческой культуры, представляющая собой совокупность духовных и материальных ценностей, создаваемых и используемых обществом для физического развития, укрепления его здоровья и совершенствования двигательной активности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95640" y="260280"/>
            <a:ext cx="62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ая культура - 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86920" y="1699920"/>
            <a:ext cx="7780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истему физического воспита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пециальные научные знания по анатомии, физиологии, психологии и другим отраслям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Спортивные достиж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Общественную и личную гигиену труда и отдых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Правильный режим труда и отдых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Закаливание и оздоровлени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19280" y="260280"/>
            <a:ext cx="73342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Физическая культура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включает в себя: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436400" y="2420640"/>
            <a:ext cx="7707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1" i="1" lang="en-US" sz="3200" spc="-1" strike="noStrike">
                <a:solidFill>
                  <a:srgbClr val="663300"/>
                </a:solidFill>
                <a:latin typeface="Georgia"/>
              </a:rPr>
              <a:t>Процесс преобразования физических свойств человека характеризуется тем, что с помощью специально подобранных упражнений и соответствующих методов воздействия на человеческий организм можно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692360" y="189000"/>
            <a:ext cx="72770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изическая культура 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вязана с преобразованием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изических (телесных) свойств.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258560" y="188640"/>
            <a:ext cx="788508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Направленно развивать формы и увеличивать рельефность мускулатуры тел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Повышать объёмы сердца, дыхания, изменять интенсивность обменных процессов, повышать энергетические возможности организм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Осваивать сложные двигательные действия и эффективно управлять движениями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Улучшать защитные функции организма и повышать его работоспособность, укреплять здоровье и повышать долголетие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Развивать физические качества и осваивать разные виды спорт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628640"/>
            <a:ext cx="1968480" cy="1632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1484280"/>
            <a:ext cx="1873080" cy="1187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619280" y="1341360"/>
            <a:ext cx="3095640" cy="1000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3789360"/>
            <a:ext cx="1944720" cy="1862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0" y="3645000"/>
            <a:ext cx="1873080" cy="1444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050920" y="5300640"/>
            <a:ext cx="2175120" cy="130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835280" y="3573360"/>
            <a:ext cx="2232000" cy="1476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619280" y="115920"/>
            <a:ext cx="7334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Зарождение физической культуры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547640" y="2897280"/>
            <a:ext cx="749160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      </a:t>
            </a: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Первобытное общество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                               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Georgia"/>
              </a:rPr>
              <a:t>                                  </a:t>
            </a:r>
            <a:r>
              <a:rPr b="1" i="1" lang="en-US" sz="2400" spc="-1" strike="noStrike">
                <a:solidFill>
                  <a:srgbClr val="663300"/>
                </a:solidFill>
                <a:latin typeface="Georgia"/>
              </a:rPr>
              <a:t>Древнеримская империя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87280" y="188640"/>
            <a:ext cx="74916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Бег, борьба, метания, занятия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с тяжестями, игры – средства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физического воспитания в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1" i="1" lang="en-US" sz="2000" spc="-1" strike="noStrike">
                <a:solidFill>
                  <a:srgbClr val="333300"/>
                </a:solidFill>
                <a:latin typeface="Georgia"/>
              </a:rPr>
              <a:t>первобытном обществе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Военно-физическая подготовка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1" i="1" lang="en-US" sz="2000" spc="-1" strike="noStrike">
                <a:solidFill>
                  <a:srgbClr val="333300"/>
                </a:solidFill>
                <a:latin typeface="Georgia"/>
              </a:rPr>
              <a:t>феодалов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велась в специальных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рыцарских школах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Среди </a:t>
            </a:r>
            <a:r>
              <a:rPr b="1" i="1" lang="en-US" sz="1800" spc="-1" strike="noStrike">
                <a:solidFill>
                  <a:srgbClr val="333300"/>
                </a:solidFill>
                <a:latin typeface="Georgia"/>
              </a:rPr>
              <a:t>крестьян и ремесленников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были популярны кулачные бои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перетягивание каната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подвижные игры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В конце </a:t>
            </a:r>
            <a:r>
              <a:rPr b="1" i="1" lang="en-US" sz="2000" spc="-1" strike="noStrike">
                <a:solidFill>
                  <a:srgbClr val="333300"/>
                </a:solidFill>
                <a:latin typeface="Georgia"/>
              </a:rPr>
              <a:t>19 века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предпочтение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отдавалось верховой езде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фехтованию, плаванию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С началом проведения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Олимпийских игр как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составляющая физической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культуры появилось понятие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000" spc="-1" strike="noStrike">
                <a:solidFill>
                  <a:srgbClr val="333300"/>
                </a:solidFill>
                <a:latin typeface="Georgia"/>
              </a:rPr>
              <a:t>«спорт высших достижений»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1557360"/>
            <a:ext cx="1460520" cy="1393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89000"/>
            <a:ext cx="1508040" cy="1108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1844640"/>
            <a:ext cx="1539720" cy="1241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24360" y="333360"/>
            <a:ext cx="1497240" cy="1128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67640" y="3357720"/>
            <a:ext cx="1195200" cy="1573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6000" y="5300640"/>
            <a:ext cx="1750680" cy="1211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651640" y="3500280"/>
            <a:ext cx="1726920" cy="1148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364000" y="494172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24280"/>
            <a:ext cx="1271520" cy="194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4508640"/>
            <a:ext cx="1806480" cy="2068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3933720"/>
            <a:ext cx="1714320" cy="25434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956720" cy="47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Передовые представители буржуазной интеллигенции Я.А.Коменский (1592-1670), Ж.-Ж.Руссо (1712-1778), И.Г.Песталоцци (1746-1827) выдвигали в своё время проекты реформ системы образования, в которых подчеркивалась мысль о необходимости физического 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духовного воспитания с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начальных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ступеней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    </a:t>
            </a:r>
            <a:r>
              <a:rPr b="0" i="1" lang="en-US" sz="2400" spc="-1" strike="noStrike">
                <a:solidFill>
                  <a:srgbClr val="333300"/>
                </a:solidFill>
                <a:latin typeface="Georgia"/>
              </a:rPr>
              <a:t>образов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19280" y="260280"/>
            <a:ext cx="72738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Реформаторы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системы образования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02:41Z</dcterms:created>
  <dc:creator>Admin</dc:creator>
  <dc:description/>
  <dc:language>en-US</dc:language>
  <cp:lastModifiedBy>Admin</cp:lastModifiedBy>
  <dcterms:modified xsi:type="dcterms:W3CDTF">2008-11-13T12:38:31Z</dcterms:modified>
  <cp:revision>13</cp:revision>
  <dc:subject/>
  <dc:title>Слайд 1</dc:title>
</cp:coreProperties>
</file>