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DB25-1981-424E-8C83-0CF050CD0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A057-4555-4D05-9016-010D2C7ED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8D21-D465-4EC1-8175-105DFBD33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E5D7-89FC-46CC-AED1-0C38C5278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8C7DC-2E47-4206-93D3-CC3BC6657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69D9F-B9E6-44C1-8654-F2E5457FB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249FC-86A8-4860-937B-B94E1D7E5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8806B-98BB-4D3A-A089-CA97B6861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A35D6-2E28-4354-950D-58795B872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A5406-04CC-436C-AA5D-069D64C07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7F6F8-00FF-487A-AE90-CEB72E84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6E0B-34B2-41C7-8A89-92AC2863B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B50C6-7AD0-451A-9C41-A37DAFF3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9744A-CDA0-40F5-8D97-38A8D7B0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A3736-268F-41AF-9282-42E1CA517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5AA9F-35DF-479D-8DEF-38DB4510C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1C87B-8976-4422-9193-C2390A9E0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1087-0383-48A1-BC95-291ADFB26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A5A2-4979-48F6-9F79-F8FD9CE8A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BB75-A655-43BC-AD14-93EA95E14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5FEA-7406-4F18-8CFB-1707D84D0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A875-B6AA-4181-B6F3-D5D6B9ECF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5BCA-E302-4EF3-8BC1-ADAC8163D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0DE2-31F7-430C-8CF0-3F52FF20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C4F9B-02F4-4F1F-A05B-1EACCA3B02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C8079-27E3-49F5-B8A9-7055975CB2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fotoplenka.ru/photo/kustov/51959/small/664232.jpg" TargetMode="External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history-lim.narod.ru/2.gif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school76.yar.ru/menu/work/sport/sport/man.jpg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www.venda.ru/project/2007/Androsov/index.1.jpg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go.mail.ru/frame.html?imgurl=http://www.specialradio.net/art/images/01609.jpg&amp;pageurl=http://art.specialradio.ru%2F%3Fid%3D239&amp;id=31962200&amp;iid=0&amp;imgwidth=500&amp;imgheight=476&amp;imgsize=106695&amp;images_links=b" TargetMode="External"/><Relationship Id="rId8" Type="http://schemas.openxmlformats.org/officeDocument/2006/relationships/image" Target="../media/image7.jpeg"/><Relationship Id="rId9" Type="http://schemas.openxmlformats.org/officeDocument/2006/relationships/hyperlink" Target="http://go.mail.ru/frame.html?imgurl=http://www.in-media.ru/pics/3594.jpg&amp;pageurl=http://www.lokr.ru%2F%3Fcat_id%3D16%26page%3D162&amp;id=7542838&amp;iid=7&amp;imgwidth=100&amp;imgheight=76&amp;imgsize=16516&amp;images_links=b" TargetMode="External"/><Relationship Id="rId10" Type="http://schemas.openxmlformats.org/officeDocument/2006/relationships/image" Target="../media/image8.jpeg"/><Relationship Id="rId11" Type="http://schemas.openxmlformats.org/officeDocument/2006/relationships/hyperlink" Target="http://onlinetoplist.com/img/save/glad_4b.jpg" TargetMode="External"/><Relationship Id="rId12" Type="http://schemas.openxmlformats.org/officeDocument/2006/relationships/image" Target="../media/image9.jpeg"/><Relationship Id="rId13" Type="http://schemas.openxmlformats.org/officeDocument/2006/relationships/hyperlink" Target="http://go.mail.ru/frame.html?imgurl=http://www.mirovoekino.ru/images/films/177/thumb_3.jpg&amp;pageurl=http://kinobar.artngroup.ru%2Fbayki%2Findex2.html&amp;id=69973082&amp;iid=2&amp;imgwidth=140&amp;imgheight=93&amp;imgsize=60948&amp;images_links=b" TargetMode="External"/><Relationship Id="rId14" Type="http://schemas.openxmlformats.org/officeDocument/2006/relationships/image" Target="../media/image10.jpeg"/><Relationship Id="rId15" Type="http://schemas.openxmlformats.org/officeDocument/2006/relationships/image" Target="../media/image2.jpeg"/><Relationship Id="rId16" Type="http://schemas.openxmlformats.org/officeDocument/2006/relationships/image" Target="../media/image2.jpeg"/><Relationship Id="rId1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boevieiskusstva.narod.ru/2343_fight4-1.jpg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media1.picsearch.com/is?xtfwXDc-8EIBaTWFKaLG6yfMiPZwm8z9fc6vTCcfQjs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as.baikal.tv/news/nimg/2002_03_17/1/R%20-%20Masleniza0996!.jpg" TargetMode="External"/><Relationship Id="rId6" Type="http://schemas.openxmlformats.org/officeDocument/2006/relationships/image" Target="../media/image13.jpeg"/><Relationship Id="rId7" Type="http://schemas.openxmlformats.org/officeDocument/2006/relationships/hyperlink" Target="http://www.doronino.memorandum.ru/pic/masl2006_02.jpg" TargetMode="External"/><Relationship Id="rId8" Type="http://schemas.openxmlformats.org/officeDocument/2006/relationships/image" Target="../media/image14.jpeg"/><Relationship Id="rId9" Type="http://schemas.openxmlformats.org/officeDocument/2006/relationships/hyperlink" Target="http://go.mail.ru/frame.html?imgurl=http://wap.photohost.ru/thumbnails/100/100/295729.jpg&amp;pageurl=http://www.photohost.ru%2Fshowpicture.php%3Fpictureid%3D295729%26galleryid%3D16436%26user%3D0%26days%3D%26sti%3D&amp;id=18478480&amp;iid=2&amp;imgwidth=303&amp;imgheight=400&amp;imgsize=206208&amp;images_links=b" TargetMode="External"/><Relationship Id="rId10" Type="http://schemas.openxmlformats.org/officeDocument/2006/relationships/image" Target="../media/image15.jpeg"/><Relationship Id="rId11" Type="http://schemas.openxmlformats.org/officeDocument/2006/relationships/hyperlink" Target="http://go.mail.ru/frame.html?imgurl=http://history.rin.ru/images/tree/small/2225-1.jpg&amp;pageurl=http://history.rin.ru%2Fcgi-bin%2Fhistory.pl%3Fnum%3D2225&amp;id=2705669&amp;iid=2&amp;imgwidth=150&amp;imgheight=104&amp;imgsize=65620&amp;images_links=b" TargetMode="External"/><Relationship Id="rId12" Type="http://schemas.openxmlformats.org/officeDocument/2006/relationships/image" Target="../media/image16.jpeg"/><Relationship Id="rId13" Type="http://schemas.openxmlformats.org/officeDocument/2006/relationships/hyperlink" Target="http://go.mail.ru/frame.html?imgurl=http://www.newsprom.ru/photo/116896507500469.jpg&amp;pageurl=http://www.masters.donntu.edu.ua%2F2007%2Fkita%2Fanimitsa%2Find%2Findex.htm&amp;id=36119746&amp;iid=5&amp;imgwidth=200&amp;imgheight=133&amp;imgsize=66977&amp;images_links=b" TargetMode="External"/><Relationship Id="rId14" Type="http://schemas.openxmlformats.org/officeDocument/2006/relationships/image" Target="../media/image17.jpeg"/><Relationship Id="rId15" Type="http://schemas.openxmlformats.org/officeDocument/2006/relationships/hyperlink" Target="http://go.mail.ru/frame.html?imgurl=http://www.equestrian.ru/photos/photoreport2008/kubok_kshve/KSHT0060_bushina_kompliment_sm.jpg&amp;pageurl=http://www.equestrian.ru%2Fsport%2Friders%2F1410%3Fsubsection%3Dphotos%26p%3D0&amp;id=59607185&amp;iid=4&amp;imgwidth=150&amp;imgheight=124&amp;imgsize=142312&amp;images_links=b" TargetMode="External"/><Relationship Id="rId16" Type="http://schemas.openxmlformats.org/officeDocument/2006/relationships/image" Target="../media/image18.jpeg"/><Relationship Id="rId1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www.ido.edu.ru/psychology/pedagogical_psychology/komensk.jpg&amp;pageurl=http://portal-slovo.likelove.ru%2Fpre_school_education%2F492%2F%3FSHOWALL_1%3D1&amp;id=34820301&amp;iid=7&amp;imgwidth=65&amp;imgheight=100&amp;imgsize=19449&amp;images_links=b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www.dekabristy.ru/ist_ros/gos_ob/ob_org/decab/ideol/russo.jpg" TargetMode="External"/><Relationship Id="rId4" Type="http://schemas.openxmlformats.org/officeDocument/2006/relationships/image" Target="../media/image20.jpeg"/><Relationship Id="rId5" Type="http://schemas.openxmlformats.org/officeDocument/2006/relationships/hyperlink" Target="http://ru.wikipedia.org/wiki/&#1048;&#1079;&#1086;&#1073;&#1088;&#1072;&#1078;&#1077;&#1085;&#1080;&#1077;:Johann_Heinrich_Pestalozzi.jpg" TargetMode="External"/><Relationship Id="rId6" Type="http://schemas.openxmlformats.org/officeDocument/2006/relationships/image" Target="../media/image21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2627280" y="333360"/>
            <a:ext cx="6335640" cy="612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Физическая культура личност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и её взаимосвязь 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общей культурой общест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 spd="med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1403280" y="333000"/>
            <a:ext cx="7632720" cy="626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Georgia"/>
              </a:rPr>
              <a:t>  </a:t>
            </a:r>
            <a:r>
              <a:rPr b="1" i="1" lang="en-US" sz="2800" spc="-1" strike="noStrike">
                <a:solidFill>
                  <a:srgbClr val="663300"/>
                </a:solidFill>
                <a:latin typeface="Georgia"/>
              </a:rPr>
              <a:t>Важнейшее значение в обществе приобретает физическая культура как средство укрепления здоровья, физического воспитания подрастающего поколения, организации культурного, а значит, здорового образа жизни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Georgia"/>
              </a:rPr>
              <a:t>Связь занятий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Georgia"/>
              </a:rPr>
              <a:t>физической культурой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Georgia"/>
              </a:rPr>
              <a:t>с укреплением здоровья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Georgia"/>
              </a:rPr>
              <a:t>известна с давних времён.</a:t>
            </a:r>
            <a:r>
              <a:rPr b="1" i="1" lang="en-US" sz="2800" spc="-1" strike="noStrike">
                <a:solidFill>
                  <a:srgbClr val="333300"/>
                </a:solidFill>
                <a:latin typeface="Georgia"/>
              </a:rPr>
              <a:t>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Georgia"/>
              </a:rPr>
              <a:t>Ещё древние люди говорили: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1" dur="8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" dur="8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7280"/>
                            </p:stCondLst>
                            <p:childTnLst>
                              <p:par>
                                <p:cTn id="4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7" dur="8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8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1" dur="8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3" dur="8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6" dur="8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7" dur="8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8" dur="8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1" dur="8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2" dur="8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" dur="8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8200"/>
                            </p:stCondLst>
                            <p:childTnLst>
                              <p:par>
                                <p:cTn id="4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7" dur="80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9" dur="80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 rot="409800">
            <a:off x="7164360" y="4652640"/>
            <a:ext cx="1293840" cy="18414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 rot="611400">
            <a:off x="6659640" y="404640"/>
            <a:ext cx="2147760" cy="14320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 rot="20985000">
            <a:off x="1979280" y="4868640"/>
            <a:ext cx="2016000" cy="15318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 rot="857400">
            <a:off x="4572000" y="4941720"/>
            <a:ext cx="2073240" cy="13878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 rot="20908200">
            <a:off x="6443280" y="2276280"/>
            <a:ext cx="1658880" cy="217008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331640" y="260280"/>
            <a:ext cx="7635960" cy="640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00"/>
                </a:solidFill>
                <a:latin typeface="Georgia"/>
              </a:rPr>
              <a:t>       </a:t>
            </a:r>
            <a:r>
              <a:rPr b="1" i="1" lang="en-US" sz="4000" spc="-1" strike="noStrike">
                <a:solidFill>
                  <a:srgbClr val="cc6600"/>
                </a:solidFill>
                <a:latin typeface="Georgia"/>
              </a:rPr>
              <a:t>Таким образом, физическая культура, являясь важной составляющей общей культуры общества, служит мощным и эффективным средством физического воспитания всесторонне развитой личности.</a:t>
            </a: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332000" y="1523520"/>
            <a:ext cx="78120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00"/>
                </a:solidFill>
                <a:latin typeface="Georgia"/>
              </a:rPr>
              <a:t>   </a:t>
            </a:r>
            <a:r>
              <a:rPr b="1" i="1" lang="en-US" sz="3200" spc="-1" strike="noStrike">
                <a:solidFill>
                  <a:srgbClr val="663300"/>
                </a:solidFill>
                <a:latin typeface="Georgia"/>
              </a:rPr>
              <a:t>это составная часть общечеловеческой культуры, представляющая собой совокупность духовных и материальных ценностей, создаваемых и используемых обществом для физического развития, укрепления его здоровья и совершенствования двигательной активности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195640" y="260280"/>
            <a:ext cx="62640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изическая культура - </a:t>
            </a:r>
            <a:endParaRPr b="0" i="1" lang="en-US" sz="18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pull dir="l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186920" y="1699920"/>
            <a:ext cx="77806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Georgia"/>
              </a:rPr>
              <a:t>Систему физического воспитания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Georgia"/>
              </a:rPr>
              <a:t>Специальные научные знания по анатомии, физиологии, психологии и другим отраслям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Georgia"/>
              </a:rPr>
              <a:t>Спортивные достижения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Georgia"/>
              </a:rPr>
              <a:t>Общественную и личную гигиену труда и отдыха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Georgia"/>
              </a:rPr>
              <a:t>Правильный режим труда и отдыха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Georgia"/>
              </a:rPr>
              <a:t>Закаливание и оздоровление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619280" y="260280"/>
            <a:ext cx="7334280" cy="10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Georgia"/>
              </a:rPr>
              <a:t>Физическая культура</a:t>
            </a:r>
            <a:endParaRPr b="0" i="1" lang="en-US" sz="18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Georgia"/>
              </a:rPr>
              <a:t> </a:t>
            </a:r>
            <a:r>
              <a:rPr b="0" i="1" lang="en-US" sz="18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Georgia"/>
              </a:rPr>
              <a:t>включает в себя:</a:t>
            </a:r>
            <a:endParaRPr b="0" i="1" lang="en-US" sz="18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p:transition spd="med">
    <p:pull dir="l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436400" y="2420640"/>
            <a:ext cx="77072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00"/>
                </a:solidFill>
                <a:latin typeface="Georgia"/>
              </a:rPr>
              <a:t>    </a:t>
            </a:r>
            <a:r>
              <a:rPr b="1" i="1" lang="en-US" sz="3200" spc="-1" strike="noStrike">
                <a:solidFill>
                  <a:srgbClr val="663300"/>
                </a:solidFill>
                <a:latin typeface="Georgia"/>
              </a:rPr>
              <a:t>Процесс преобразования физических свойств человека характеризуется тем, что с помощью специально подобранных упражнений и соответствующих методов воздействия на человеческий организм можно: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692360" y="189000"/>
            <a:ext cx="727704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Физическая культура </a:t>
            </a:r>
            <a:endParaRPr b="0" i="1" lang="en-US" sz="18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связана с преобразованием</a:t>
            </a:r>
            <a:endParaRPr b="0" i="1" lang="en-US" sz="18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 </a:t>
            </a:r>
            <a:r>
              <a:rPr b="0" i="1" lang="en-US" sz="18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физических (телесных) свойств.</a:t>
            </a:r>
            <a:endParaRPr b="0" i="1" lang="en-US" sz="18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p:transition spd="med">
    <p:pull dir="l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258560" y="188640"/>
            <a:ext cx="7885080" cy="66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Georgia"/>
              </a:rPr>
              <a:t>Направленно развивать формы и увеличивать рельефность мускулатуры тела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Georgia"/>
              </a:rPr>
              <a:t>Повышать объёмы сердца, дыхания, изменять интенсивность обменных процессов, повышать энергетические возможности организма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Georgia"/>
              </a:rPr>
              <a:t>Осваивать сложные двигательные действия и эффективно управлять движениями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Georgia"/>
              </a:rPr>
              <a:t>Улучшать защитные функции организма и повышать его работоспособность, укреплять здоровье и повышать долголетие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Georgia"/>
              </a:rPr>
              <a:t>Развивать физические качества и осваивать разные виды спорта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20000" y="1628640"/>
            <a:ext cx="1968480" cy="16322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32360" y="1484280"/>
            <a:ext cx="1873080" cy="1187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619280" y="1341360"/>
            <a:ext cx="3095640" cy="10000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877080" y="3789360"/>
            <a:ext cx="1944720" cy="18622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572000" y="3645000"/>
            <a:ext cx="1873080" cy="14446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050920" y="5300640"/>
            <a:ext cx="2175120" cy="13050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1835280" y="3573360"/>
            <a:ext cx="2232000" cy="14763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 txBox="1"/>
          <p:nvPr/>
        </p:nvSpPr>
        <p:spPr>
          <a:xfrm>
            <a:off x="1619280" y="115920"/>
            <a:ext cx="73342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Georgia"/>
              </a:rPr>
              <a:t>Зарождение физической культуры</a:t>
            </a:r>
            <a:endParaRPr b="0" i="1" lang="en-US" sz="18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547640" y="2897280"/>
            <a:ext cx="7491600" cy="396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Georgia"/>
              </a:rPr>
              <a:t>      </a:t>
            </a:r>
            <a:r>
              <a:rPr b="1" i="1" lang="en-US" sz="2400" spc="-1" strike="noStrike">
                <a:solidFill>
                  <a:srgbClr val="663300"/>
                </a:solidFill>
                <a:latin typeface="Georgia"/>
              </a:rPr>
              <a:t>Первобытное общество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Georgia"/>
              </a:rPr>
              <a:t>                                 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Georgia"/>
              </a:rPr>
              <a:t>                                  </a:t>
            </a:r>
            <a:r>
              <a:rPr b="1" i="1" lang="en-US" sz="2400" spc="-1" strike="noStrike">
                <a:solidFill>
                  <a:srgbClr val="663300"/>
                </a:solidFill>
                <a:latin typeface="Georgia"/>
              </a:rPr>
              <a:t>Древнеримская империя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1187280" y="188640"/>
            <a:ext cx="7491600" cy="66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00"/>
                </a:solidFill>
                <a:latin typeface="Georgia"/>
              </a:rPr>
              <a:t>Бег, борьба, метания, занятия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00"/>
                </a:solidFill>
                <a:latin typeface="Georgia"/>
              </a:rPr>
              <a:t>     </a:t>
            </a:r>
            <a:r>
              <a:rPr b="0" i="1" lang="en-US" sz="2000" spc="-1" strike="noStrike">
                <a:solidFill>
                  <a:srgbClr val="333300"/>
                </a:solidFill>
                <a:latin typeface="Georgia"/>
              </a:rPr>
              <a:t>с тяжестями, игры – средства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00"/>
                </a:solidFill>
                <a:latin typeface="Georgia"/>
              </a:rPr>
              <a:t>     </a:t>
            </a:r>
            <a:r>
              <a:rPr b="0" i="1" lang="en-US" sz="2000" spc="-1" strike="noStrike">
                <a:solidFill>
                  <a:srgbClr val="333300"/>
                </a:solidFill>
                <a:latin typeface="Georgia"/>
              </a:rPr>
              <a:t>физического воспитания в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00"/>
                </a:solidFill>
                <a:latin typeface="Georgia"/>
              </a:rPr>
              <a:t>     </a:t>
            </a:r>
            <a:r>
              <a:rPr b="1" i="1" lang="en-US" sz="2000" spc="-1" strike="noStrike">
                <a:solidFill>
                  <a:srgbClr val="333300"/>
                </a:solidFill>
                <a:latin typeface="Georgia"/>
              </a:rPr>
              <a:t>первобытном обществе</a:t>
            </a:r>
            <a:r>
              <a:rPr b="0" i="1" lang="en-US" sz="2000" spc="-1" strike="noStrike">
                <a:solidFill>
                  <a:srgbClr val="333300"/>
                </a:solidFill>
                <a:latin typeface="Georgia"/>
              </a:rPr>
              <a:t>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00"/>
                </a:solidFill>
                <a:latin typeface="Georgia"/>
              </a:rPr>
              <a:t>Военно-физическая подготовка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00"/>
                </a:solidFill>
                <a:latin typeface="Georgia"/>
              </a:rPr>
              <a:t>     </a:t>
            </a:r>
            <a:r>
              <a:rPr b="1" i="1" lang="en-US" sz="2000" spc="-1" strike="noStrike">
                <a:solidFill>
                  <a:srgbClr val="333300"/>
                </a:solidFill>
                <a:latin typeface="Georgia"/>
              </a:rPr>
              <a:t>феодалов</a:t>
            </a:r>
            <a:r>
              <a:rPr b="0" i="1" lang="en-US" sz="2000" spc="-1" strike="noStrike">
                <a:solidFill>
                  <a:srgbClr val="333300"/>
                </a:solidFill>
                <a:latin typeface="Georgia"/>
              </a:rPr>
              <a:t> велась в специальных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00"/>
                </a:solidFill>
                <a:latin typeface="Georgia"/>
              </a:rPr>
              <a:t>     </a:t>
            </a:r>
            <a:r>
              <a:rPr b="0" i="1" lang="en-US" sz="2000" spc="-1" strike="noStrike">
                <a:solidFill>
                  <a:srgbClr val="333300"/>
                </a:solidFill>
                <a:latin typeface="Georgia"/>
              </a:rPr>
              <a:t>рыцарских школах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00"/>
                </a:solidFill>
                <a:latin typeface="Georgia"/>
              </a:rPr>
              <a:t>Среди </a:t>
            </a:r>
            <a:r>
              <a:rPr b="1" i="1" lang="en-US" sz="1800" spc="-1" strike="noStrike">
                <a:solidFill>
                  <a:srgbClr val="333300"/>
                </a:solidFill>
                <a:latin typeface="Georgia"/>
              </a:rPr>
              <a:t>крестьян и ремесленников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00"/>
                </a:solidFill>
                <a:latin typeface="Georgia"/>
              </a:rPr>
              <a:t>     </a:t>
            </a:r>
            <a:r>
              <a:rPr b="0" i="1" lang="en-US" sz="2000" spc="-1" strike="noStrike">
                <a:solidFill>
                  <a:srgbClr val="333300"/>
                </a:solidFill>
                <a:latin typeface="Georgia"/>
              </a:rPr>
              <a:t>были популярны кулачные бои,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00"/>
                </a:solidFill>
                <a:latin typeface="Georgia"/>
              </a:rPr>
              <a:t>     </a:t>
            </a:r>
            <a:r>
              <a:rPr b="0" i="1" lang="en-US" sz="2000" spc="-1" strike="noStrike">
                <a:solidFill>
                  <a:srgbClr val="333300"/>
                </a:solidFill>
                <a:latin typeface="Georgia"/>
              </a:rPr>
              <a:t>перетягивание каната,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00"/>
                </a:solidFill>
                <a:latin typeface="Georgia"/>
              </a:rPr>
              <a:t>     </a:t>
            </a:r>
            <a:r>
              <a:rPr b="0" i="1" lang="en-US" sz="2000" spc="-1" strike="noStrike">
                <a:solidFill>
                  <a:srgbClr val="333300"/>
                </a:solidFill>
                <a:latin typeface="Georgia"/>
              </a:rPr>
              <a:t>подвижные игры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00"/>
                </a:solidFill>
                <a:latin typeface="Georgia"/>
              </a:rPr>
              <a:t>В конце </a:t>
            </a:r>
            <a:r>
              <a:rPr b="1" i="1" lang="en-US" sz="2000" spc="-1" strike="noStrike">
                <a:solidFill>
                  <a:srgbClr val="333300"/>
                </a:solidFill>
                <a:latin typeface="Georgia"/>
              </a:rPr>
              <a:t>19 века</a:t>
            </a:r>
            <a:r>
              <a:rPr b="0" i="1" lang="en-US" sz="2000" spc="-1" strike="noStrike">
                <a:solidFill>
                  <a:srgbClr val="333300"/>
                </a:solidFill>
                <a:latin typeface="Georgia"/>
              </a:rPr>
              <a:t> предпочтение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00"/>
                </a:solidFill>
                <a:latin typeface="Georgia"/>
              </a:rPr>
              <a:t>     </a:t>
            </a:r>
            <a:r>
              <a:rPr b="0" i="1" lang="en-US" sz="2000" spc="-1" strike="noStrike">
                <a:solidFill>
                  <a:srgbClr val="333300"/>
                </a:solidFill>
                <a:latin typeface="Georgia"/>
              </a:rPr>
              <a:t>отдавалось верховой езде,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00"/>
                </a:solidFill>
                <a:latin typeface="Georgia"/>
              </a:rPr>
              <a:t>     </a:t>
            </a:r>
            <a:r>
              <a:rPr b="0" i="1" lang="en-US" sz="2000" spc="-1" strike="noStrike">
                <a:solidFill>
                  <a:srgbClr val="333300"/>
                </a:solidFill>
                <a:latin typeface="Georgia"/>
              </a:rPr>
              <a:t>фехтованию, плаванию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00"/>
                </a:solidFill>
                <a:latin typeface="Georgia"/>
              </a:rPr>
              <a:t>С началом проведения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00"/>
                </a:solidFill>
                <a:latin typeface="Georgia"/>
              </a:rPr>
              <a:t>     </a:t>
            </a:r>
            <a:r>
              <a:rPr b="0" i="1" lang="en-US" sz="2000" spc="-1" strike="noStrike">
                <a:solidFill>
                  <a:srgbClr val="333300"/>
                </a:solidFill>
                <a:latin typeface="Georgia"/>
              </a:rPr>
              <a:t>Олимпийских игр как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00"/>
                </a:solidFill>
                <a:latin typeface="Georgia"/>
              </a:rPr>
              <a:t>     </a:t>
            </a:r>
            <a:r>
              <a:rPr b="0" i="1" lang="en-US" sz="2000" spc="-1" strike="noStrike">
                <a:solidFill>
                  <a:srgbClr val="333300"/>
                </a:solidFill>
                <a:latin typeface="Georgia"/>
              </a:rPr>
              <a:t>составляющая физической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00"/>
                </a:solidFill>
                <a:latin typeface="Georgia"/>
              </a:rPr>
              <a:t>     </a:t>
            </a:r>
            <a:r>
              <a:rPr b="0" i="1" lang="en-US" sz="2000" spc="-1" strike="noStrike">
                <a:solidFill>
                  <a:srgbClr val="333300"/>
                </a:solidFill>
                <a:latin typeface="Georgia"/>
              </a:rPr>
              <a:t>культуры появилось понятие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00"/>
                </a:solidFill>
                <a:latin typeface="Georgia"/>
              </a:rPr>
              <a:t>    </a:t>
            </a:r>
            <a:r>
              <a:rPr b="0" i="1" lang="en-US" sz="2000" spc="-1" strike="noStrike">
                <a:solidFill>
                  <a:srgbClr val="333300"/>
                </a:solidFill>
                <a:latin typeface="Georgia"/>
              </a:rPr>
              <a:t>«спорт высших достижений»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8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24720" y="1557360"/>
            <a:ext cx="1460520" cy="13939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451640" y="189000"/>
            <a:ext cx="1508040" cy="11080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796000" y="1844640"/>
            <a:ext cx="1539720" cy="12416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724360" y="333360"/>
            <a:ext cx="1497240" cy="11286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667640" y="3357720"/>
            <a:ext cx="1195200" cy="15732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7236000" y="5300640"/>
            <a:ext cx="1750680" cy="12114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5651640" y="3500280"/>
            <a:ext cx="1726920" cy="11480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5364000" y="4941720"/>
            <a:ext cx="1729080" cy="142884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1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1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1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1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7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17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17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17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17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7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7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7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7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7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17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7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7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17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17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17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17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17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51280" y="4724280"/>
            <a:ext cx="1271520" cy="19432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92720" y="4508640"/>
            <a:ext cx="1806480" cy="2068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236000" y="3933720"/>
            <a:ext cx="1714320" cy="254340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187280" y="1916280"/>
            <a:ext cx="7956720" cy="471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00"/>
                </a:solidFill>
                <a:latin typeface="Georgia"/>
              </a:rPr>
              <a:t>        </a:t>
            </a:r>
            <a:r>
              <a:rPr b="0" i="1" lang="en-US" sz="2400" spc="-1" strike="noStrike">
                <a:solidFill>
                  <a:srgbClr val="333300"/>
                </a:solidFill>
                <a:latin typeface="Georgia"/>
              </a:rPr>
              <a:t>Передовые представители буржуазной интеллигенции Я.А.Коменский (1592-1670), Ж.-Ж.Руссо (1712-1778), И.Г.Песталоцци (1746-1827) выдвигали в своё время проекты реформ системы образования, в которых подчеркивалась мысль о необходимости физического и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00"/>
                </a:solidFill>
                <a:latin typeface="Georgia"/>
              </a:rPr>
              <a:t>    </a:t>
            </a:r>
            <a:r>
              <a:rPr b="0" i="1" lang="en-US" sz="2400" spc="-1" strike="noStrike">
                <a:solidFill>
                  <a:srgbClr val="333300"/>
                </a:solidFill>
                <a:latin typeface="Georgia"/>
              </a:rPr>
              <a:t>духовного воспитания с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00"/>
                </a:solidFill>
                <a:latin typeface="Georgia"/>
              </a:rPr>
              <a:t>    </a:t>
            </a:r>
            <a:r>
              <a:rPr b="0" i="1" lang="en-US" sz="2400" spc="-1" strike="noStrike">
                <a:solidFill>
                  <a:srgbClr val="333300"/>
                </a:solidFill>
                <a:latin typeface="Georgia"/>
              </a:rPr>
              <a:t>начальных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00"/>
                </a:solidFill>
                <a:latin typeface="Georgia"/>
              </a:rPr>
              <a:t>    </a:t>
            </a:r>
            <a:r>
              <a:rPr b="0" i="1" lang="en-US" sz="2400" spc="-1" strike="noStrike">
                <a:solidFill>
                  <a:srgbClr val="333300"/>
                </a:solidFill>
                <a:latin typeface="Georgia"/>
              </a:rPr>
              <a:t>ступеней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00"/>
                </a:solidFill>
                <a:latin typeface="Georgia"/>
              </a:rPr>
              <a:t>    </a:t>
            </a:r>
            <a:r>
              <a:rPr b="0" i="1" lang="en-US" sz="2400" spc="-1" strike="noStrike">
                <a:solidFill>
                  <a:srgbClr val="333300"/>
                </a:solidFill>
                <a:latin typeface="Georgia"/>
              </a:rPr>
              <a:t>образования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619280" y="260280"/>
            <a:ext cx="727380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Georgia"/>
              </a:rPr>
              <a:t>Реформаторы</a:t>
            </a:r>
            <a:endParaRPr b="0" i="1" lang="en-US" sz="18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Georgia"/>
              </a:rPr>
              <a:t> </a:t>
            </a:r>
            <a:r>
              <a:rPr b="0" i="1" lang="en-US" sz="18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Georgia"/>
              </a:rPr>
              <a:t>системы образования</a:t>
            </a:r>
            <a:endParaRPr b="0" i="1" lang="en-US" sz="18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p:transition spd="med">
    <p:pull dir="l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2000"/>
                            </p:stCondLst>
                            <p:childTnLst>
                              <p:par>
                                <p:cTn id="3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13:02:41Z</dcterms:created>
  <dc:creator>Admin</dc:creator>
  <dc:description/>
  <dc:language>en-US</dc:language>
  <cp:lastModifiedBy>Admin</cp:lastModifiedBy>
  <dcterms:modified xsi:type="dcterms:W3CDTF">2008-11-13T12:38:31Z</dcterms:modified>
  <cp:revision>13</cp:revision>
  <dc:subject/>
  <dc:title>Слайд 1</dc:title>
</cp:coreProperties>
</file>