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86F-E1FE-449E-B54B-B9557658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FFD-A18C-49AB-95DD-E571F438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654-7431-448C-AFD3-C57A3927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36B-C4FF-4947-AEEF-319B8005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E6D0-B40C-448F-A528-619C2B3E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04FD-BDFD-4ECA-8453-1F032A9D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F4B6-5057-4121-995B-25147935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38C8-F874-4A2A-805E-C5095D72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EC3A-942C-4A68-B324-1759313A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C0B4-5254-4139-A813-ABB01789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FBDA-16A5-4C9B-AE95-D57E30E1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B77-93AB-499B-90B1-A447F326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D932-4783-428D-BBED-BAED5E2B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C704-23BE-4958-9344-41F62B5D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72B6-A2A7-4656-BA78-3DE23BEB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D188-0D39-44EE-AC28-9E6A091F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DC76-B05E-429A-9F8D-4D31D026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107-3799-4E25-8DB0-5A87C380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C82-7AA0-4A42-9A51-8B872C20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F3B-645D-4021-A9E4-12C85148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321-2801-45E2-B230-084A5A47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D5D-2D56-4AB3-BA91-CFEF7E6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946-28A0-4AC9-9ECB-5BC8C130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B02-4DD1-481C-B166-33BE38A3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4F0E-AE48-48E6-80DB-A4BCEF91D2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FC29-7CCD-4782-92B7-1DC638F796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268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4d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br>
              <a:rPr sz="9600"/>
            </a:b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705040" y="-4121280"/>
            <a:ext cx="3733920" cy="1510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тбол - аэроб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189000"/>
            <a:ext cx="87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Фитбол - аэробик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6912000" cy="51991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История фитбо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9966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тбол - волшебный швейцарский мяч. Он был создан в 1960 году в Европе. Впервые его начали использовать швейцарские врачи в качестве приспособления для физической реабилит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ячи большого размера (фитболы) появились сравнительно недавно. Хотя с древнейших времен в культуре любого народа мяч использовался в качестве развлечения. Фитбол в переводе с английского языка означает "мяч для опоры", который используется в оздоровительных целях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мнастический мяч применила врач-физиотерапевт Сюзан Кляйн-Фогельбах для лечения больных церебральным параличом. А в 80-х.г.г. её американская коллега Джоан Позднер Мауэр стала использовать мяч после травм опорно-двигательного аппара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е упражнения с использованием фитбола были составлены для лечения больных церебральным параличом. Но так как этот мяч безопасное и очень эффективное приспособление для физических тренировок, его стали использовать наряду с велотренажером и беговой дорожк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36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Чем полезен фитбол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820000" cy="609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я фитболом дают уникальную возможность воздействовать на мышцы спины и позвоночника. Но не только. Фитнес еще не знал таких упражнений, которые бы одновременно повышали тонус мышц, улучшали их взаимную координацию, развивали равновесие, улучшая работу вестибулярного аппарата, и в добавок работали на рельеф сразу всего тел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е - это жизнь. Данный «веселый» разноцветный надувной тренажер поможет вернуть утерянную подвижность, которой все мы обладали в детстве, оживит ваши мышцы и подарит им полноценную жизнь. Занятия с фитболом снимают дополнительную нагрузку на позвоночник. Все это позволяет заниматься фитболом людям с избыточным весом. Мяч отлично «разгружает» суставы, гимнастика полезна при варикозном расширении вен, остеохондрозе и артритах. Занятия фитбол-аэробикой – это щадящий, но достаточно эффективный способ привести себя в форму. Он уникален тем, что в нём практически отсутствует ударная нагрузка на нижние конеч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153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акже упражнения на мячах обладают оздоровительным эффектом, который подтвержден опытом работы специализированных, коррекционных и реабилитационных медицинских центров Европы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За счет вибрации при выполнении упражнений и амортизационной функции мяча улучшаются обмен веществ, кровообращение и микродинамика в межпозвонковых дисках и внутренних органах, что способствует разгрузке позвоночного столба, мобилизации различных его отделов, коррекции лордозов и кифозов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ля кого полезен фитбол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Абсолютно для всех!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Это отличная тренировка для тех, кто недавно перенес травму. Она также полезна при варикозе, остеохандрозе и артритах. Так что чудо-мяч улучшает не только вашу фигуру, но и здоров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труктура занят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302680" cy="449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целом схема построения фитбол-тренировки не отличается от классической схемы построения оздоровительной аэроб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РАЗМИ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ЭРОБНАЯ ЧАСТЬ(не менее 15 мину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ИЛОВАЯ (партерн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РАССЛАБЛЕНИЕ (замин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амятка нович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125360"/>
            <a:ext cx="8591400" cy="5732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убедиться в правильности выбранного размера, в сидячем положении на мяче ваши бедра должны быть параллельны по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легком сжатии, мяч должен прогибаться на 2,5 сантиметра. Чем жестче мяч, чем тяжелее удерживать на нем равновесие. И, наоборот, при слишком мягком фитболе вы получите минимальную нагрузку на мыш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бедитесь, что мяч не скользит по по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занятий выбирайте облегающие шорты или лосины, дабы избежать "собирания" ткани при движ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тите внимание на обувь - тренировочные кроссовки или кеды должны хорошо фиксироваться на ноге во избежание скольжения по по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нные упражнения следует повторять не менее 2 раз в неделю по 1-2 подхода из 15 повторов. Между повторами следует отдыхать по 1-2 минуты. Постепенно количество упражнений можно увеличивать до 2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629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 виду гимнастический мяч фитбол очень похож на детскую пляжную игрушку, но результатов позволяет добиваться совсем не детских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Занимайтесь и будьте здоровы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9:16Z</dcterms:created>
  <dc:creator>Admin</dc:creator>
  <dc:description/>
  <dc:language>en-US</dc:language>
  <cp:lastModifiedBy>Admin</cp:lastModifiedBy>
  <dcterms:modified xsi:type="dcterms:W3CDTF">2011-11-15T18:43:32Z</dcterms:modified>
  <cp:revision>2</cp:revision>
  <dc:subject/>
  <dc:title>                     </dc:title>
</cp:coreProperties>
</file>