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89C-16EC-470E-877A-81A3C999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880-161C-456C-863B-557C3705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6BA-F2B9-449E-AAC0-408BC2DC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6E6-1696-4E53-9FFA-AD73FBF9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9CA9-46CE-4FE2-BB10-FAD1D8C9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1C65-DFEC-41B4-BDA6-4CA0D7C8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8CCA-C649-4123-93E2-1CCDBE53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ECE1-AE3A-42AA-B4FC-A3DFF583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04B1-0B36-4C12-A38E-C35F825C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2835-6A74-4476-B59E-A819F0C1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04D2-7518-450C-AF0A-1386B282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79D-9CA1-41FD-A198-E5CFA5E1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B0C5-FE1C-490A-BC94-6F4FBF6D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2B00-01DE-411F-826F-DF554177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3D3F-BC2A-463E-AF63-58809B3B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ABDF-13A1-480E-98F6-0BF1BA2E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AB0D-8AE0-42B1-8AF4-38E97C76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3AD-2CD8-44EE-B901-00F03AF5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8E7-7336-4CF4-92B5-EB26DE7C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700-B5E1-46EE-B0BB-88CD29FF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CF55-79C7-4F9B-BFC1-88CC58C1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600-889D-4141-9062-276332D0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2E7-48C8-403B-B5F1-2030AA4B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7146-C2C8-4458-9E4A-2465279D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F111-B8B6-4702-B85A-FF004F97CA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0FE3-5564-4C14-853D-9D82AF63C3E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268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4d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705040" y="-4121280"/>
            <a:ext cx="3733920" cy="1510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тбол - аэроби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189000"/>
            <a:ext cx="87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Фитбол - аэробик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6912000" cy="51991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стория фитбол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9966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тбол - волшебный швейцарский мяч. Он был создан в 1960 году в Европе. Впервые его начали использовать швейцарские врачи в качестве приспособления для физической реабилит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ячи большого размера (фитболы) появились сравнительно недавно. Хотя с древнейших времен в культуре любого народа мяч использовался в качестве развлечения. Фитбол в переводе с английского языка означает "мяч для опоры", который используется в оздоровительных целях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мнастический мяч применила врач-физиотерапевт Сюзан Кляйн-Фогельбах для лечения больных церебральным параличом. А в 80-х.г.г. её американская коллега Джоан Позднер Мауэр стала использовать мяч после травм опорно-двигательного аппара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е упражнения с использованием фитбола были составлены для лечения больных церебральным параличом. Но так как этот мяч безопасное и очень эффективное приспособление для физических тренировок, его стали использовать наряду с велотренажером и беговой дорожк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6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Чем полезен фитбол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820000" cy="609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ия фитболом дают уникальную возможность воздействовать на мышцы спины и позвоночника. Но не только. Фитнес еще не знал таких упражнений, которые бы одновременно повышали тонус мышц, улучшали их взаимную координацию, развивали равновесие, улучшая работу вестибулярного аппарата, и в добавок работали на рельеф сразу всего те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е - это жизнь. Данный «веселый» разноцветный надувной тренажер поможет вернуть утерянную подвижность, которой все мы обладали в детстве, оживит ваши мышцы и подарит им полноценную жизнь. Занятия с фитболом снимают дополнительную нагрузку на позвоночник. Все это позволяет заниматься фитболом людям с избыточным весом. Мяч отлично «разгружает» суставы, гимнастика полезна при варикозном расширении вен, остеохондрозе и артритах. Занятия фитбол-аэробикой – это щадящий, но достаточно эффективный способ привести себя в форму. Он уникален тем, что в нём практически отсутствует ударная нагрузка на нижние конеч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153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акже упражнения на мячах обладают оздоровительным эффектом, который подтвержден опытом работы специализированных, коррекционных и реабилитационных медицинских центров Европы.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За счет вибрации при выполнении упражнений и амортизационной функции мяча улучшаются обмен веществ, кровообращение и микродинамика в межпозвонковых дисках и внутренних органах, что способствует разгрузке позвоночного столба, мобилизации различных его отделов, коррекции лордозов и кифозов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ля кого полезен фитбол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Абсолютно для всех!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Это отличная тренировка для тех, кто недавно перенес травму. Она также полезна при варикозе, остеохандрозе и артритах. Так что чудо-мяч улучшает не только вашу фигуру, но и здоровь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труктура занят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302680" cy="449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целом схема построения фитбол-тренировки не отличается от классической схемы построения оздоровительной аэроб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РАЗМИ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АЭРОБНАЯ ЧАСТЬ(не менее 15 мину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ИЛОВАЯ (партерна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РАССЛАБЛЕНИЕ (замин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амятка новичк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320" y="1125360"/>
            <a:ext cx="8591400" cy="5732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убедиться в правильности выбранного размера, в сидячем положении на мяче ваши бедра должны быть параллельны по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легком сжатии, мяч должен прогибаться на 2,5 сантиметра. Чем жестче мяч, чем тяжелее удерживать на нем равновесие. И, наоборот, при слишком мягком фитболе вы получите минимальную нагрузку на мыш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бедитесь, что мяч не скользит по по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занятий выбирайте облегающие шорты или лосины, дабы избежать "собирания" ткани при движ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тите внимание на обувь - тренировочные кроссовки или кеды должны хорошо фиксироваться на ноге во избежание скольжения по по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нные упражнения следует повторять не менее 2 раз в неделю по 1-2 подхода из 15 повторов. Между повторами следует отдыхать по 1-2 минуты. Постепенно количество упражнений можно увеличивать до 2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629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С виду гимнастический мяч фитбол очень похож на детскую пляжную игрушку, но результатов позволяет добиваться совсем не детских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.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Занимайтесь и будьте здоровы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49:16Z</dcterms:created>
  <dc:creator>Admin</dc:creator>
  <dc:description/>
  <dc:language>en-US</dc:language>
  <cp:lastModifiedBy>Admin</cp:lastModifiedBy>
  <dcterms:modified xsi:type="dcterms:W3CDTF">2011-11-15T18:43:32Z</dcterms:modified>
  <cp:revision>2</cp:revision>
  <dc:subject/>
  <dc:title>                     </dc:title>
</cp:coreProperties>
</file>