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55A-C11C-44EC-9958-7DED8C7D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7D7-996D-4C31-A125-FDD58716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2F7-FCDA-47DC-8199-2801D19E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B65-CDC4-4242-961F-D8B1D8A4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25DD-2D2B-441E-BA1E-B4038223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36F1-2E2E-49D1-B7F5-A01104A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A415-F189-449F-8514-5B22DA43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048-2700-494E-970F-8182AC2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E5B7-F9C5-48FC-AAAE-DD3F7316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5B2-8488-43E8-A32C-FA9CE0B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DB7-9304-4A6B-B27F-B4056A9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8E5-D2A1-46AD-9EA0-36B488C5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F2FC-4248-45A9-A128-180CA51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4819-086A-4903-86EA-CFD35AE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3497-59FA-484D-91AB-031CAE9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1D7A-5ED8-4DE3-BA9A-EC2BA3BF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37F-8C00-4A27-8494-862E1EE0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139-7E3E-4D2E-A127-B2CF6A7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85E-C8D8-4F88-8684-A072B1E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34B-ABC9-4D88-A795-F824837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7EE-C088-4B35-82BB-5C12CDE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2F0-948F-4858-A453-AFE7465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21F-2513-4054-9549-D4F28000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D4D-7611-4CF3-A7EE-E3BCF713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8D9-67E7-4C15-BDAF-7E8CE04EBA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92C7-C875-4BBE-A3ED-2B36B2B47B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2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4d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05040" y="-4121280"/>
            <a:ext cx="3733920" cy="151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тбол - аэроб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Фитбол - аэроб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5199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стория фитб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9966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тбол - волшебный швейцарский мяч. Он был создан в 1960 году в Европе. Впервые его начали использовать швейцарские врачи в качестве приспособления для физической реабилит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ячи большого размера (фитболы) появились сравнительно недавно. Хотя с древнейших времен в культуре любого народа мяч использовался в качестве развлечения. Фитбол в переводе с английского языка означает "мяч для опоры", который используется в оздоровительных целях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мнастический мяч применила врач-физиотерапевт Сюзан Кляйн-Фогельбах для лечения больных церебральным параличом. А в 80-х.г.г. её американская коллега Джоан Позднер Мауэр стала использовать мяч после травм опорно-двигательного аппар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упражнения с использованием фитбола были составлены для лечения больных церебральным параличом. Но так как этот мяч безопасное и очень эффективное приспособление для физических тренировок, его стали использовать наряду с велотренажером и беговой дорож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ем полезен фитбол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820000" cy="609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я фитболом дают уникальную возможность воздействовать на мышцы спины и позвоночника. Но не только. Фитнес еще не знал таких упражнений, которые бы одновременно повышали тонус мышц, улучшали их взаимную координацию, развивали равновесие, улучшая работу вестибулярного аппарата, и в добавок работали на рельеф сразу всего те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- это жизнь. Данный «веселый» разноцветный надувной тренажер поможет вернуть утерянную подвижность, которой все мы обладали в детстве, оживит ваши мышцы и подарит им полноценную жизнь. Занятия с фитболом снимают дополнительную нагрузку на позвоночник. Все это позволяет заниматься фитболом людям с избыточным весом. Мяч отлично «разгружает» суставы, гимнастика полезна при варикозном расширении вен, остеохондрозе и артритах. Занятия фитбол-аэробикой – это щадящий, но достаточно эффективный способ привести себя в форму. Он уникален тем, что в нём практически отсутствует ударная нагрузка на нижние конеч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15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кже упражнения на мячах обладают оздоровительным эффектом, который подтвержден опытом работы специализированных, коррекционных и реабилитационных медицинских центров Европы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 счет вибрации при выполнении упражнений и амортизационной функции мяча улучшаются обмен веществ, кровообращение и микродинамика в межпозвонковых дисках и внутренних органах, что способствует разгрузке позвоночного столба, мобилизации различных его отделов, коррекции лордозов и кифозов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ля кого полезен фитбо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Абсолютно для всех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то отличная тренировка для тех, кто недавно перенес травму. Она также полезна при варикозе, остеохандрозе и артритах. Так что чудо-мяч улучшает не только вашу фигуру, но и здоров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труктура занят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30268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целом схема построения фитбол-тренировки не отличается от классической схемы построения оздоровительной аэроб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ЗМ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ЭРОБНАЯ ЧАСТЬ(не менее 15 мин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ИЛОВАЯ (парте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ССЛАБЛЕНИЕ (замин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мятка нович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125360"/>
            <a:ext cx="8591400" cy="573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убедиться в правильности выбранного размера, в сидячем положении на мяче ваши бедра должны быть параллельны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легком сжатии, мяч должен прогибаться на 2,5 сантиметра. Чем жестче мяч, чем тяжелее удерживать на нем равновесие. И, наоборот, при слишком мягком фитболе вы получите минимальную нагрузку на мыш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бедитесь, что мяч не скользит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занятий выбирайте облегающие шорты или лосины, дабы избежать "собирания" ткани при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тите внимание на обувь - тренировочные кроссовки или кеды должны хорошо фиксироваться на ноге во избежание скольжения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нные упражнения следует повторять не менее 2 раз в неделю по 1-2 подхода из 15 повторов. Между повторами следует отдыхать по 1-2 минуты. Постепенно количество упражнений можно увеличивать до 2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 виду гимнастический мяч фитбол очень похож на детскую пляжную игрушку, но результатов позволяет добиваться совсем не детских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Занимайтесь и будьте здоров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9:16Z</dcterms:created>
  <dc:creator>Admin</dc:creator>
  <dc:description/>
  <dc:language>en-US</dc:language>
  <cp:lastModifiedBy>Admin</cp:lastModifiedBy>
  <dcterms:modified xsi:type="dcterms:W3CDTF">2011-11-15T18:43:32Z</dcterms:modified>
  <cp:revision>2</cp:revision>
  <dc:subject/>
  <dc:title>                     </dc:title>
</cp:coreProperties>
</file>