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C303-2766-4530-87F8-6D8574CE0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3902-AC9A-4EC3-9551-392646EF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D021-C138-46AA-82F2-CD227FD71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0766-B9D3-4FE6-85E9-A21419C5D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4A3E-8949-4F66-8A8A-CAEB605FD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8107-F9DC-44AC-ADCA-C3A5913C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A413-0B57-45BB-ABD9-0D478C04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24C6-0393-48CC-9833-4AC06829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30E1C-5A36-47C7-A3B6-A659BA92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EE73C-D5EE-43BE-9422-3D34D203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A6F4-5079-4385-84B4-24716C0F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AE90-D4C6-46CA-ACED-A994AD29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5684-B97E-4BDD-A915-1B5D45B5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46123-62BA-4BD9-9012-5A204B89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7CFA-C689-4D9E-8788-D9FA749F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4E8CB-8D8D-4FE0-95CF-66FA94D26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9726-C57B-477F-B61F-1D3040DDF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43B4-39B9-4FC7-887A-9A85F410B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9401-C907-46BE-8C13-5E922221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A8DF-9505-4EAE-81E3-271CB6BC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BE77-B6E8-4C31-9E93-20AB03DA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FCA6-9398-4A75-A51C-4519C926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021E-56D8-4932-A4DB-A4445BD0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2116-7D63-48C4-A225-F1B9A946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4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66AA-79D8-4DFD-89BE-7169A59B43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27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2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42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22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23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25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26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33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34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35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36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37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137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128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49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5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56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46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50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51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126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32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45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47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48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52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5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5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57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136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2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5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141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132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30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131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31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38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39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0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1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2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43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44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140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50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60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28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29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30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57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31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32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33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34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35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59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37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38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39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58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40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41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42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43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44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45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4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A625-A4F8-4249-A5F1-ECE6BC0533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360" y="1844280"/>
            <a:ext cx="6400800" cy="1841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Comic Sans MS"/>
              </a:rPr>
              <a:t>Пропорции и строение фигуры человек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omic Sans MS"/>
              </a:rPr>
              <a:t>Выполнение аппликации «ЦИРК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6870600" cy="14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Египтяне пользовались и специальными сетками-таблицами, которые наносили на поверхность каменной плиты или стены для создания рельефа или роспис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4" descr="а_0012"/>
          <p:cNvPicPr/>
          <p:nvPr/>
        </p:nvPicPr>
        <p:blipFill>
          <a:blip r:embed="rId1"/>
          <a:stretch/>
        </p:blipFill>
        <p:spPr>
          <a:xfrm>
            <a:off x="5640480" y="1700280"/>
            <a:ext cx="2993760" cy="388944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5"/>
          <p:cNvSpPr/>
          <p:nvPr/>
        </p:nvSpPr>
        <p:spPr>
          <a:xfrm>
            <a:off x="324000" y="2205000"/>
            <a:ext cx="5472000" cy="259236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Определенные размеры для сидячих фигур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Изображение разных богов в соответстви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с их иерархическим старшинством.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Детей изображали как взрослых, но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значительно меньших по размеру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2484360" y="5661000"/>
            <a:ext cx="6659640" cy="100800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Нанесение квадратной сетки помогает более точно передать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пропорции фигуры и выполнять части одного произведе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разными мастерам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40672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Скульптор Поликлет в </a:t>
            </a:r>
            <a:r>
              <a:rPr b="0" lang="en-US" sz="2000" spc="-1" strike="noStrike">
                <a:solidFill>
                  <a:srgbClr val="003300"/>
                </a:solidFill>
                <a:latin typeface="Comic Sans MS"/>
              </a:rPr>
              <a:t>V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веке до н. э. создал систему идеальных пропорций человеческой фигуры.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открытие пропорций связывают с ПИФАГОРОМ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Золотое сечение – это универсальный принцип гармонии 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красоты в пропорциях, которое олицетворяло равновесие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знаний, чувств и сил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Rectangle 17"/>
          <p:cNvSpPr/>
          <p:nvPr/>
        </p:nvSpPr>
        <p:spPr>
          <a:xfrm>
            <a:off x="4284720" y="981000"/>
            <a:ext cx="395928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Леонардо да Винчи разрабатыва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правила изображе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человеческой фигуры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пытаясь восстановить так называемый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200"/>
                </a:solidFill>
                <a:latin typeface="Comic Sans MS"/>
              </a:rPr>
              <a:t>«квадрат древних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18" descr="а_0002"/>
          <p:cNvPicPr/>
          <p:nvPr/>
        </p:nvPicPr>
        <p:blipFill>
          <a:blip r:embed="rId1"/>
          <a:stretch/>
        </p:blipFill>
        <p:spPr>
          <a:xfrm>
            <a:off x="4932360" y="2492280"/>
            <a:ext cx="3390840" cy="365760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19"/>
          <p:cNvSpPr/>
          <p:nvPr/>
        </p:nvSpPr>
        <p:spPr>
          <a:xfrm>
            <a:off x="1798560" y="6021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Он выполнил рисунок, в котором показана пропорциональная закономерность в соотношении частей тела человек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Rectangle 20"/>
          <p:cNvSpPr/>
          <p:nvPr/>
        </p:nvSpPr>
        <p:spPr>
          <a:xfrm>
            <a:off x="4512240" y="404640"/>
            <a:ext cx="33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Эпоха возрожд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21"/>
          <p:cNvSpPr/>
          <p:nvPr/>
        </p:nvSpPr>
        <p:spPr>
          <a:xfrm>
            <a:off x="498960" y="189000"/>
            <a:ext cx="27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Древняя Грец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80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Над выработкой канонов пропорций трудились такие знаменитые мастера эпохи Возрождения, как </a:t>
            </a:r>
            <a:br>
              <a:rPr sz="2400"/>
            </a:b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С. БОТИЧЕЛИ и МИКЕЛАНДЖЕЛ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Picture 4" descr="а_0003"/>
          <p:cNvPicPr/>
          <p:nvPr/>
        </p:nvPicPr>
        <p:blipFill>
          <a:blip r:embed="rId1"/>
          <a:stretch/>
        </p:blipFill>
        <p:spPr>
          <a:xfrm>
            <a:off x="1979640" y="1773360"/>
            <a:ext cx="2374920" cy="4680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а_0004"/>
          <p:cNvPicPr/>
          <p:nvPr/>
        </p:nvPicPr>
        <p:blipFill>
          <a:blip r:embed="rId2"/>
          <a:stretch/>
        </p:blipFill>
        <p:spPr>
          <a:xfrm>
            <a:off x="5364000" y="1773360"/>
            <a:ext cx="23972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687060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Художники и архитекторы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Comic Sans MS"/>
              </a:rPr>
              <a:t>XX</a:t>
            </a: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 ве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35344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Французский зодчий </a:t>
            </a: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Ле Корбюзье в 1947г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разработал «Модулор» - систему деле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человеческой фигуры на согласованные в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золотом сечении отрезки от ступни до талии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от талии до затылка и о затылка до верх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пальцев поднятой рук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На этой основе была создана школ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модулей для архитектурного проектирова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и дизайн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Picture 4" descr="а_0005"/>
          <p:cNvPicPr/>
          <p:nvPr/>
        </p:nvPicPr>
        <p:blipFill>
          <a:blip r:embed="rId1"/>
          <a:stretch/>
        </p:blipFill>
        <p:spPr>
          <a:xfrm>
            <a:off x="5724360" y="1773360"/>
            <a:ext cx="2880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ропорции всякого живого организма, развиваясь, изменяютс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Ребенок четырех-пяти лет – 1/4 или 1/5 час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Подросток – примерно 1/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Взрослый человек – размер голов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занимает примерно 1/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или 1/8 часть его рост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4" descr="а_0006"/>
          <p:cNvPicPr/>
          <p:nvPr/>
        </p:nvPicPr>
        <p:blipFill>
          <a:blip r:embed="rId1"/>
          <a:stretch/>
        </p:blipFill>
        <p:spPr>
          <a:xfrm>
            <a:off x="5867280" y="2133720"/>
            <a:ext cx="2872080" cy="296856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1187280" y="5300640"/>
            <a:ext cx="7777440" cy="649440"/>
          </a:xfrm>
          <a:prstGeom prst="rect">
            <a:avLst/>
          </a:prstGeom>
          <a:solidFill>
            <a:srgbClr val="ffef66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У каждого человека свои характерные пропорц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Форму и движения тела человека во многом определяет скеле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omic Sans MS"/>
              </a:rPr>
              <a:t>Скелет играет роль каркаса в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3300"/>
                </a:solidFill>
                <a:latin typeface="Comic Sans MS"/>
              </a:rPr>
              <a:t>строении фигу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4" descr="а_0007"/>
          <p:cNvPicPr/>
          <p:nvPr/>
        </p:nvPicPr>
        <p:blipFill>
          <a:blip r:embed="rId1"/>
          <a:stretch/>
        </p:blipFill>
        <p:spPr>
          <a:xfrm>
            <a:off x="5435640" y="1413000"/>
            <a:ext cx="27702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25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Полезно, передавая в рисунке форму человеческого тела и любого другого объекта, не только учитывать, но и намечать его каркас даже в тех случаях, когда он находится  внутри и его можно себе только представить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Picture 4" descr="16"/>
          <p:cNvPicPr/>
          <p:nvPr/>
        </p:nvPicPr>
        <p:blipFill>
          <a:blip r:embed="rId1"/>
          <a:stretch/>
        </p:blipFill>
        <p:spPr>
          <a:xfrm>
            <a:off x="1619280" y="2924280"/>
            <a:ext cx="6192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6870960" cy="7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Выполнение аппликац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     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Сегодня мы выполним пропорциональную фигуру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           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человека, используя метод аппликаци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1. Деление квадрата на ча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Picture 4" descr="а_0008"/>
          <p:cNvPicPr/>
          <p:nvPr/>
        </p:nvPicPr>
        <p:blipFill>
          <a:blip r:embed="rId1"/>
          <a:stretch/>
        </p:blipFill>
        <p:spPr>
          <a:xfrm>
            <a:off x="4716360" y="2205000"/>
            <a:ext cx="41036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2324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omic Sans MS"/>
              </a:rPr>
              <a:t>2. Выполнение частей фигурки 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Comic Sans MS"/>
              </a:rPr>
              <a:t>   человечка из альбомного лист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Picture 4" descr="а_0009"/>
          <p:cNvPicPr/>
          <p:nvPr/>
        </p:nvPicPr>
        <p:blipFill>
          <a:blip r:embed="rId1"/>
          <a:stretch/>
        </p:blipFill>
        <p:spPr>
          <a:xfrm>
            <a:off x="2411280" y="1628640"/>
            <a:ext cx="4608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6" descr="а_0010"/>
          <p:cNvPicPr/>
          <p:nvPr/>
        </p:nvPicPr>
        <p:blipFill>
          <a:blip r:embed="rId1"/>
          <a:stretch/>
        </p:blipFill>
        <p:spPr>
          <a:xfrm>
            <a:off x="2771640" y="1557360"/>
            <a:ext cx="3888000" cy="403236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7"/>
          <p:cNvSpPr/>
          <p:nvPr/>
        </p:nvSpPr>
        <p:spPr>
          <a:xfrm>
            <a:off x="1187280" y="5484960"/>
            <a:ext cx="745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         </a:t>
            </a:r>
            <a:br>
              <a:rPr sz="2800"/>
            </a:b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2195640" y="59500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4.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Фигурка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клоуна в профил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2124000" y="558972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3. Фигурка клоуна в фас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39640" y="549360"/>
            <a:ext cx="7201080" cy="64764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Так как фигурки у нас получились смешные, предлагаю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выполнить цирковых артистов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152280"/>
            <a:ext cx="730548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Различные представления о красоте человека в определенные исторические период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8" descr="3_0001"/>
          <p:cNvPicPr/>
          <p:nvPr/>
        </p:nvPicPr>
        <p:blipFill>
          <a:blip r:embed="rId1"/>
          <a:stretch/>
        </p:blipFill>
        <p:spPr>
          <a:xfrm>
            <a:off x="755640" y="1413000"/>
            <a:ext cx="3108240" cy="2682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3_0002"/>
          <p:cNvPicPr/>
          <p:nvPr/>
        </p:nvPicPr>
        <p:blipFill>
          <a:blip r:embed="rId2"/>
          <a:stretch/>
        </p:blipFill>
        <p:spPr>
          <a:xfrm>
            <a:off x="4643280" y="4005360"/>
            <a:ext cx="3678480" cy="18381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3"/>
          <p:cNvSpPr/>
          <p:nvPr/>
        </p:nvSpPr>
        <p:spPr>
          <a:xfrm>
            <a:off x="5724360" y="6165720"/>
            <a:ext cx="2374920" cy="35892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ревний Египет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Rectangle 17"/>
          <p:cNvSpPr/>
          <p:nvPr/>
        </p:nvSpPr>
        <p:spPr>
          <a:xfrm>
            <a:off x="3924360" y="1341360"/>
            <a:ext cx="41036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Главное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о( живот, грудь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b200"/>
                </a:solidFill>
                <a:uFillTx/>
                <a:latin typeface="Arial"/>
              </a:rPr>
              <a:t>Не обращали внима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лова, лицо, рук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18"/>
          <p:cNvSpPr/>
          <p:nvPr/>
        </p:nvSpPr>
        <p:spPr>
          <a:xfrm>
            <a:off x="1547640" y="4292640"/>
            <a:ext cx="2808360" cy="158436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ские фигуры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е правые руки 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ые ног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WordArt 19"/>
          <p:cNvSpPr txBox="1"/>
          <p:nvPr/>
        </p:nvSpPr>
        <p:spPr>
          <a:xfrm>
            <a:off x="3995640" y="1052640"/>
            <a:ext cx="2232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орм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5. Примеры разных движен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Picture 5" descr="а_0011"/>
          <p:cNvPicPr/>
          <p:nvPr/>
        </p:nvPicPr>
        <p:blipFill>
          <a:blip r:embed="rId1"/>
          <a:stretch/>
        </p:blipFill>
        <p:spPr>
          <a:xfrm>
            <a:off x="2843280" y="1341360"/>
            <a:ext cx="31687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Творческая странич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765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Как вы думаете, найдется ли работа для художника в цирке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Выбрать артиста определенного жанр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«Одеть» фигурку в яркий костю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(используя фломастеры и цветную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бумагу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Расположить свои фигурки н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«арене цирка» путем приклеива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omic Sans MS"/>
              </a:rPr>
              <a:t>Подведение итог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45840" y="1628280"/>
            <a:ext cx="84978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то нового мы узнали на уроке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(поиск пропорции фигуры человека в различные исторические периоды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 какими новыми терминами мы познакомились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(«пропорции». «канон», «золотое сечение»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ему научились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(учились находить пропорции, выполняли фигурки человечков в движении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то понравилось на уроке?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Подобрать рисунк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              </a:t>
            </a: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с изображением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                 </a:t>
            </a: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человека в движен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0560" y="152280"/>
            <a:ext cx="730548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Различные представления о красоте человека в определенные исторические период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5" descr="3_0003"/>
          <p:cNvPicPr/>
          <p:nvPr/>
        </p:nvPicPr>
        <p:blipFill>
          <a:blip r:embed="rId1"/>
          <a:stretch/>
        </p:blipFill>
        <p:spPr>
          <a:xfrm>
            <a:off x="6300720" y="1268280"/>
            <a:ext cx="1785960" cy="3614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3_0004"/>
          <p:cNvPicPr/>
          <p:nvPr/>
        </p:nvPicPr>
        <p:blipFill>
          <a:blip r:embed="rId2"/>
          <a:stretch/>
        </p:blipFill>
        <p:spPr>
          <a:xfrm>
            <a:off x="324000" y="1341360"/>
            <a:ext cx="2100240" cy="368136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8"/>
          <p:cNvSpPr/>
          <p:nvPr/>
        </p:nvSpPr>
        <p:spPr>
          <a:xfrm>
            <a:off x="3276720" y="1484280"/>
            <a:ext cx="2447640" cy="255420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тографическа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хожесть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стичность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ция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сота тела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сота лиц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6" descr="10_0006"/>
          <p:cNvPicPr/>
          <p:nvPr/>
        </p:nvPicPr>
        <p:blipFill>
          <a:blip r:embed="rId1"/>
          <a:stretch/>
        </p:blipFill>
        <p:spPr>
          <a:xfrm>
            <a:off x="250920" y="981000"/>
            <a:ext cx="3449520" cy="5499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11_0006"/>
          <p:cNvPicPr/>
          <p:nvPr/>
        </p:nvPicPr>
        <p:blipFill>
          <a:blip r:embed="rId2"/>
          <a:stretch/>
        </p:blipFill>
        <p:spPr>
          <a:xfrm>
            <a:off x="4716360" y="1052640"/>
            <a:ext cx="3210120" cy="5167080"/>
          </a:xfrm>
          <a:prstGeom prst="rect">
            <a:avLst/>
          </a:prstGeom>
          <a:ln w="0">
            <a:noFill/>
          </a:ln>
        </p:spPr>
      </p:pic>
      <p:sp>
        <p:nvSpPr>
          <p:cNvPr id="166" name="WordArt 8"/>
          <p:cNvSpPr txBox="1"/>
          <p:nvPr/>
        </p:nvSpPr>
        <p:spPr>
          <a:xfrm>
            <a:off x="3492360" y="404640"/>
            <a:ext cx="2159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вет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7" descr="15_0005"/>
          <p:cNvPicPr/>
          <p:nvPr/>
        </p:nvPicPr>
        <p:blipFill>
          <a:blip r:embed="rId1"/>
          <a:stretch/>
        </p:blipFill>
        <p:spPr>
          <a:xfrm>
            <a:off x="395280" y="260280"/>
            <a:ext cx="3789360" cy="6315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15_0006"/>
          <p:cNvPicPr/>
          <p:nvPr/>
        </p:nvPicPr>
        <p:blipFill>
          <a:blip r:embed="rId2"/>
          <a:stretch/>
        </p:blipFill>
        <p:spPr>
          <a:xfrm>
            <a:off x="4788000" y="333360"/>
            <a:ext cx="39528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8" descr="12_0006"/>
          <p:cNvPicPr/>
          <p:nvPr/>
        </p:nvPicPr>
        <p:blipFill>
          <a:blip r:embed="rId1"/>
          <a:stretch/>
        </p:blipFill>
        <p:spPr>
          <a:xfrm>
            <a:off x="324000" y="260280"/>
            <a:ext cx="3989160" cy="264636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9"/>
          <p:cNvSpPr/>
          <p:nvPr/>
        </p:nvSpPr>
        <p:spPr>
          <a:xfrm>
            <a:off x="842400" y="314172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А. Матис. Танец. Масло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Франция. 19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10" descr="13_0006"/>
          <p:cNvPicPr/>
          <p:nvPr/>
        </p:nvPicPr>
        <p:blipFill>
          <a:blip r:embed="rId2"/>
          <a:stretch/>
        </p:blipFill>
        <p:spPr>
          <a:xfrm>
            <a:off x="5076720" y="260280"/>
            <a:ext cx="3384720" cy="33130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3"/>
          <p:cNvSpPr/>
          <p:nvPr/>
        </p:nvSpPr>
        <p:spPr>
          <a:xfrm>
            <a:off x="3919320" y="3573360"/>
            <a:ext cx="48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П. Брейтель Младший 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Ярмарка с театральным представление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14"/>
          <p:cNvSpPr/>
          <p:nvPr/>
        </p:nvSpPr>
        <p:spPr>
          <a:xfrm>
            <a:off x="539640" y="4941720"/>
            <a:ext cx="7993080" cy="1151280"/>
          </a:xfrm>
          <a:prstGeom prst="rect">
            <a:avLst/>
          </a:prstGeom>
          <a:solidFill>
            <a:srgbClr val="ffef66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ЧЕЛОВЕК – главная тема в искусстве. Каждая историческая эпох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Выражает понимание красоты по-своему, но в этом разнообразии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Безусловно, есть что-то общее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Comic Sans MS"/>
              </a:rPr>
              <a:t>Пропорции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79135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Слово пропорция в переводе с латыни обозначает, «соотношение», «соразмерность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ропорциями называются размерные соотношения элементов или частей формы между собой, а также между различными объекта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Пропорция это гармонизация формы художественного произведения, пропорциональность – её эстетическое качество. Соразмерность частей образует красоту форм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880"/>
                            </p:stCondLst>
                            <p:childTnLst>
                              <p:par>
                                <p:cTn id="1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7160"/>
                            </p:stCondLst>
                            <p:childTnLst>
                              <p:par>
                                <p:cTn id="1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404640"/>
            <a:ext cx="68706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а уроке нам понадобится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6960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1.   Альбомный лис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2.</a:t>
            </a: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Цветная бумага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3.   Ножницы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4.   Кл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5.   Простой карандаш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6.   Фломастер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80"/>
                            </p:stCondLst>
                            <p:childTnLst>
                              <p:par>
                                <p:cTn id="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36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800"/>
                            </p:stCondLst>
                            <p:childTnLst>
                              <p:par>
                                <p:cTn id="1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120"/>
                            </p:stCondLst>
                            <p:childTnLst>
                              <p:par>
                                <p:cTn id="1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88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оиск пропорц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395280" y="620640"/>
            <a:ext cx="7416720" cy="72072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Обратимся к истории. Как решили её художники разны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эпох и разных культур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2556000" y="1484280"/>
            <a:ext cx="2808000" cy="43200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Comic Sans MS"/>
              </a:rPr>
              <a:t>Древний Египе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12" descr="а_0001"/>
          <p:cNvPicPr/>
          <p:nvPr/>
        </p:nvPicPr>
        <p:blipFill>
          <a:blip r:embed="rId1"/>
          <a:stretch/>
        </p:blipFill>
        <p:spPr>
          <a:xfrm>
            <a:off x="6804000" y="1413000"/>
            <a:ext cx="1776600" cy="48528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4"/>
          <p:cNvSpPr/>
          <p:nvPr/>
        </p:nvSpPr>
        <p:spPr>
          <a:xfrm>
            <a:off x="250920" y="1484280"/>
            <a:ext cx="6408720" cy="417672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                        </a:t>
            </a: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Древний Егип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Канон</a:t>
            </a:r>
            <a:r>
              <a:rPr b="1" lang="ru-RU" sz="2400" spc="-1" strike="noStrike" u="sng">
                <a:solidFill>
                  <a:srgbClr val="00b200"/>
                </a:solidFill>
                <a:uFillTx/>
                <a:latin typeface="Times New Roman"/>
              </a:rPr>
              <a:t> –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 то ест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такая система пропорций человеческой фигуры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которая делила изображения на части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Египтяне положили в основу деление фигу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21 ¼ части. В это число входили 19 равных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                                                 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часте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Разделения самой фигуры, 2 ¼ част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          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приходилась на изображение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                     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головного убор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Line 20"/>
          <p:cNvSpPr/>
          <p:nvPr/>
        </p:nvSpPr>
        <p:spPr>
          <a:xfrm>
            <a:off x="6732720" y="1916280"/>
            <a:ext cx="18000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12:12:51Z</dcterms:created>
  <dc:creator>*</dc:creator>
  <dc:description/>
  <dc:language>en-US</dc:language>
  <cp:lastModifiedBy>Коля</cp:lastModifiedBy>
  <dcterms:modified xsi:type="dcterms:W3CDTF">2013-05-31T13:43:53Z</dcterms:modified>
  <cp:revision>65</cp:revision>
  <dc:subject/>
  <dc:title>Пропорции и строение фигуры человек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