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0E4-1F92-481F-BEFE-4A27AF67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63E-1AE8-457E-8D3F-B1C0476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84E-788D-4ECE-85EF-A0DE5618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CD8-B92C-4F5C-9805-09610DBC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F36-F035-40BB-AD6B-3490D340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2CFC-2EB7-4AE9-A271-A06B3B0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3063-15A9-4E21-B44D-6E47935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E50-9A28-4CEB-BD1F-FF9E18B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A6F-90FE-430E-8BDB-8C740EA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E98-F9B4-4FE8-B76C-9D9A63D2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F2A-FB9C-4E7F-A97B-1C83F68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6C0-8FFA-4268-8D99-24FF1D0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46E6-6E00-4B05-B426-293F128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2719-AF59-41B0-899C-BD8CD099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74FC-8422-41B6-BC0A-D34F05A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C58C-8D7A-4784-B452-A2A69B38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F11D-8923-4451-9432-1F2DD469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F41-DAAE-4A94-AC55-0A51883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291-F63D-49C0-9F56-DA937F8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855-C4ED-400B-A5E9-9729063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2AA-1C50-48C4-B3A6-F34A3BC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9CE-43BE-43FF-9426-8CB2A06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E46-897E-4BD1-A551-AA3D5DE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F40-F68D-46D5-811E-EF41BA5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E052-C4D4-4F30-A6F5-9F0215A090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239E-9432-43F4-9A14-8B371E777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Коля</cp:lastModifiedBy>
  <dcterms:modified xsi:type="dcterms:W3CDTF">2013-05-31T13:43:53Z</dcterms:modified>
  <cp:revision>65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