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CB6-697C-4377-9C64-1CFE3D27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B08-046A-4BAE-A98D-4293F64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6CA-0404-4514-A7D9-E5A35D79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D97-02C3-48D0-8DA3-5564B18E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4540-239D-45F5-871B-C77C0D83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B9F-60E7-4AB9-9A14-EFD0F8C1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D12-FB68-4DA9-A769-1D6DD4A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CEB-EED8-4ABC-813B-11720E36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0048-9024-4CC4-A497-12B5C4B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04AF-575D-441F-8362-17E2F93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EFFF-6C15-46D9-8D74-0E722E3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051-2AC6-431E-9828-56BFDF8D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892F-E22D-46D6-889D-BCA1E55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B12-405F-485D-BF03-12FBB83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B1A1-01F0-4C7C-984E-F40E65F8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40B-50F8-40FB-96CF-4ED66556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F3B-D87A-48F5-8586-B75E352E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77E-C7C1-42F1-8477-C556CD8A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80B-3C41-4317-B66B-C6AC3577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52E-A1D1-4551-B98C-1753527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E49-5D52-47EF-8C04-BF51F78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A23-2F04-43E3-9A57-4A6F3B1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7AC-4968-4CAC-A253-1A454C0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BAC-A616-4657-A168-7BA20CC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BFB-1A8F-4E6C-8D06-E30EC5A306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B1B3-B1ED-4324-B28C-8E1B2A25B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Коля</cp:lastModifiedBy>
  <dcterms:modified xsi:type="dcterms:W3CDTF">2013-05-31T13:43:53Z</dcterms:modified>
  <cp:revision>65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