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D6495-8B20-409E-9AA1-E1809BFE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C3A9-9EA2-4A74-95DB-97595DA6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96D7-C603-499A-B011-4C4F1FCF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BC762-43EC-41C3-AD6F-2C57B667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A002-CED6-4963-A037-0A6C0722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D199-87A0-4B53-B5C9-AE4566D0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552F-203D-4659-86C7-F018CA18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C81E-CC98-4577-BCE5-4E431308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9B20-FAF8-4BD2-989F-1F70A8E4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6E08-5CEF-466B-989F-440DC0F3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4DD8-FD54-4606-8989-1E36D732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91C7-7CB6-41C5-B37D-C7E80D81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9E68-9DF1-40FC-BC52-5A45C41E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1566-371C-4039-9615-8B75B7EA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0B38-AA62-4E36-87E1-2F36B963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95F4-CCC9-4D9D-ADF0-516242E9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9F30-D8EA-4FE4-BA51-F7F30605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3A72B-71E3-4614-A24D-28EF3171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70CE-7B52-4A88-B306-ABCA38E9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9519-9A49-44FC-9948-077D405F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2EE06-942C-47A9-A208-AA5D332C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7E45-33D2-464C-989C-095150B6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B0434-0AB5-44B5-BF86-DF41767B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15E55-A888-41E5-B9A2-33E1D357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667F-551E-4501-A277-BEE7F391369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CBB4-9E6C-4D58-8D91-C5BC9F716C8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Courier New"/>
              </a:rPr>
              <a:t>«Эффективность урока – стимул к успеху учителя и ученик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62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определить взаимозависимость эффективности урока и качества образования и наметить направления повышения эффективности урока как основы качества образован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50560" y="3284640"/>
            <a:ext cx="87138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66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существить осмысление понятия «Эффективность» урок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66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пределить критерии эффективного урока и выявить противоречия практик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66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ценить пути повышения эффективности урока в условиях школ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851280" y="6021360"/>
            <a:ext cx="511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ок всему начало, всему и ит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95280" y="549360"/>
            <a:ext cx="835344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Результативность урока – уровень усвоения знаний и способов деятельности учащихся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395280" y="2133720"/>
            <a:ext cx="8748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ровни усвоения знани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усвоение на уровне восприятия, понимания, запомин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рименение в аналогичной и сходной ситуа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применение в новой ситуации, творческ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флексия – один из способов проверки результативности уро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68360" y="1844640"/>
            <a:ext cx="7416720" cy="46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флексия может быть представлен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просами: что нового для себя узнали, в чем затруднялись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утренними диалогами: что теперь, как быть дальш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ценкой своей работы: как я усвоил материал, как я работал, где допускал ошибки, справился, не справился с работ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Рефлексия себя в уроке»: оценка своей работы по 10-балльной шкале с позиций: «Я» (как я работал), «Мы» (помощь одноклассников, учителя мне и моя помощь им), «Дело» (понял ли материал, узнал ли больш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Творческий педагог – это педагог, способный преобразоваться, способный создавать вокруг себя новое, производительная активность которого на каждом новом этапе становится совершенней и эффективней.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Творческий педагог – это педагог, способный преобразоваться, способный создавать вокруг себя новое, производительная активность которого на каждом новом этапе становится совершенней и эффективней.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2746440" cy="427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Задание 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43280" y="259920"/>
            <a:ext cx="60595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0 минут урока – это спрессованный, насыщенный мыслями и чувствами отрезок совместного труда и того, кто учит, и тех, кого учат самостоятельно шагать по пути знаний, искать, запоминать осмысленное, применять усвоенно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000" y="3141720"/>
            <a:ext cx="8496360" cy="29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то значит слово «Эффективность»?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 чего зависит эффективность урок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ффект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действие, результат чего-либ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впечатление, производимое на кого-либо чем-либ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средство, прием для создания определенного впечат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ффективный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ющий определен-ный эффект, действен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Эффективность урока зависит от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Diagram 4"/>
          <p:cNvGrpSpPr/>
          <p:nvPr/>
        </p:nvGrpSpPr>
        <p:grpSpPr>
          <a:xfrm>
            <a:off x="504360" y="1486800"/>
            <a:ext cx="8325360" cy="4766760"/>
            <a:chOff x="504360" y="1486800"/>
            <a:chExt cx="8325360" cy="4766760"/>
          </a:xfrm>
        </p:grpSpPr>
        <p:sp>
          <p:nvSpPr>
            <p:cNvPr id="136" name="_s1028"/>
            <p:cNvSpPr/>
            <p:nvPr/>
          </p:nvSpPr>
          <p:spPr>
            <a:xfrm flipH="1" flipV="1">
              <a:off x="3138840" y="2712600"/>
              <a:ext cx="1011960" cy="77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_s1029"/>
            <p:cNvSpPr/>
            <p:nvPr/>
          </p:nvSpPr>
          <p:spPr>
            <a:xfrm>
              <a:off x="1761120" y="1851120"/>
              <a:ext cx="1739520" cy="957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Результа-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ивность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_s1030"/>
            <p:cNvSpPr/>
            <p:nvPr/>
          </p:nvSpPr>
          <p:spPr>
            <a:xfrm flipH="1" flipV="1">
              <a:off x="2194920" y="3426840"/>
              <a:ext cx="1646280" cy="29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_s1031"/>
            <p:cNvSpPr/>
            <p:nvPr/>
          </p:nvSpPr>
          <p:spPr>
            <a:xfrm>
              <a:off x="504360" y="2804760"/>
              <a:ext cx="173952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СО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_s1032"/>
            <p:cNvSpPr/>
            <p:nvPr/>
          </p:nvSpPr>
          <p:spPr>
            <a:xfrm flipH="1">
              <a:off x="2195280" y="4019760"/>
              <a:ext cx="1650960" cy="29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1033"/>
            <p:cNvSpPr/>
            <p:nvPr/>
          </p:nvSpPr>
          <p:spPr>
            <a:xfrm>
              <a:off x="508320" y="3982320"/>
              <a:ext cx="174024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Эмоциональная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атмосфера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_s1034"/>
            <p:cNvSpPr/>
            <p:nvPr/>
          </p:nvSpPr>
          <p:spPr>
            <a:xfrm flipH="1">
              <a:off x="3139200" y="4257360"/>
              <a:ext cx="1023840" cy="767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_s1035"/>
            <p:cNvSpPr/>
            <p:nvPr/>
          </p:nvSpPr>
          <p:spPr>
            <a:xfrm>
              <a:off x="1768320" y="4933440"/>
              <a:ext cx="174024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кретность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цели</a:t>
              </a:r>
              <a:r>
                <a:rPr b="0" lang="en-US" sz="1600" spc="-1" strike="noStrike">
                  <a:solidFill>
                    <a:srgbClr val="2c1735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_s1036"/>
            <p:cNvSpPr/>
            <p:nvPr/>
          </p:nvSpPr>
          <p:spPr>
            <a:xfrm>
              <a:off x="4663080" y="4346640"/>
              <a:ext cx="8280" cy="951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_s1037"/>
            <p:cNvSpPr/>
            <p:nvPr/>
          </p:nvSpPr>
          <p:spPr>
            <a:xfrm>
              <a:off x="3801240" y="5295960"/>
              <a:ext cx="174024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Активная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работа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учащихся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1038"/>
            <p:cNvSpPr/>
            <p:nvPr/>
          </p:nvSpPr>
          <p:spPr>
            <a:xfrm>
              <a:off x="5179320" y="4255560"/>
              <a:ext cx="1008360" cy="76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_s1039"/>
            <p:cNvSpPr/>
            <p:nvPr/>
          </p:nvSpPr>
          <p:spPr>
            <a:xfrm>
              <a:off x="5833800" y="4930920"/>
              <a:ext cx="1740240" cy="957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Умение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бщаться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_s1040"/>
            <p:cNvSpPr/>
            <p:nvPr/>
          </p:nvSpPr>
          <p:spPr>
            <a:xfrm>
              <a:off x="5492520" y="4015800"/>
              <a:ext cx="163800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_s1041"/>
            <p:cNvSpPr/>
            <p:nvPr/>
          </p:nvSpPr>
          <p:spPr>
            <a:xfrm>
              <a:off x="7090200" y="3977640"/>
              <a:ext cx="173952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Доступность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_s1042"/>
            <p:cNvSpPr/>
            <p:nvPr/>
          </p:nvSpPr>
          <p:spPr>
            <a:xfrm flipV="1">
              <a:off x="5488200" y="3428640"/>
              <a:ext cx="1642680" cy="29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_s1043"/>
            <p:cNvSpPr/>
            <p:nvPr/>
          </p:nvSpPr>
          <p:spPr>
            <a:xfrm>
              <a:off x="7085520" y="2800080"/>
              <a:ext cx="1740240" cy="957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астерство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_s1044"/>
            <p:cNvSpPr/>
            <p:nvPr/>
          </p:nvSpPr>
          <p:spPr>
            <a:xfrm flipV="1">
              <a:off x="5171040" y="2715120"/>
              <a:ext cx="1016640" cy="767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_s1045"/>
            <p:cNvSpPr/>
            <p:nvPr/>
          </p:nvSpPr>
          <p:spPr>
            <a:xfrm>
              <a:off x="5825520" y="1848960"/>
              <a:ext cx="174024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Разнообра-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зие методов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_s1046"/>
            <p:cNvSpPr/>
            <p:nvPr/>
          </p:nvSpPr>
          <p:spPr>
            <a:xfrm flipV="1">
              <a:off x="4663080" y="2444400"/>
              <a:ext cx="0" cy="94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_s1047"/>
            <p:cNvSpPr/>
            <p:nvPr/>
          </p:nvSpPr>
          <p:spPr>
            <a:xfrm>
              <a:off x="3792960" y="1486800"/>
              <a:ext cx="174024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ормирова-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ние умений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 навыков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_s1048"/>
            <p:cNvSpPr/>
            <p:nvPr/>
          </p:nvSpPr>
          <p:spPr>
            <a:xfrm>
              <a:off x="3792960" y="3393720"/>
              <a:ext cx="174024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Урок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При постановке целей следует обращать внимание на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блемность материа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гляд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иль общ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нение учащимися знаний на практи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тие способностей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держание материа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ллектуальные способности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окупность решений множества задач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жидание результа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Organization Chart 5"/>
          <p:cNvGrpSpPr/>
          <p:nvPr/>
        </p:nvGrpSpPr>
        <p:grpSpPr>
          <a:xfrm>
            <a:off x="250920" y="115920"/>
            <a:ext cx="8568000" cy="6524280"/>
            <a:chOff x="250920" y="115920"/>
            <a:chExt cx="8568000" cy="6524280"/>
          </a:xfrm>
        </p:grpSpPr>
        <p:cxnSp>
          <p:nvCxnSpPr>
            <p:cNvPr id="160" name="_s2052"/>
            <p:cNvCxnSpPr>
              <a:stCxn id="161" idx="1"/>
              <a:endCxn id="162" idx="2"/>
            </p:cNvCxnSpPr>
            <p:nvPr/>
          </p:nvCxnSpPr>
          <p:spPr>
            <a:xfrm rot="10800000">
              <a:off x="2820600" y="882720"/>
              <a:ext cx="857520" cy="5373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3" name="_s2053"/>
            <p:cNvCxnSpPr>
              <a:stCxn id="164" idx="1"/>
              <a:endCxn id="162" idx="2"/>
            </p:cNvCxnSpPr>
            <p:nvPr/>
          </p:nvCxnSpPr>
          <p:spPr>
            <a:xfrm rot="10800000">
              <a:off x="2820600" y="882720"/>
              <a:ext cx="857520" cy="4222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2054"/>
            <p:cNvCxnSpPr>
              <a:stCxn id="166" idx="1"/>
              <a:endCxn id="162" idx="2"/>
            </p:cNvCxnSpPr>
            <p:nvPr/>
          </p:nvCxnSpPr>
          <p:spPr>
            <a:xfrm rot="10800000">
              <a:off x="2820600" y="882720"/>
              <a:ext cx="857520" cy="3070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2055"/>
            <p:cNvCxnSpPr>
              <a:stCxn id="168" idx="1"/>
              <a:endCxn id="162" idx="2"/>
            </p:cNvCxnSpPr>
            <p:nvPr/>
          </p:nvCxnSpPr>
          <p:spPr>
            <a:xfrm rot="10800000">
              <a:off x="2820600" y="882720"/>
              <a:ext cx="857520" cy="1919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2056"/>
            <p:cNvCxnSpPr>
              <a:stCxn id="170" idx="1"/>
              <a:endCxn id="162" idx="2"/>
            </p:cNvCxnSpPr>
            <p:nvPr/>
          </p:nvCxnSpPr>
          <p:spPr>
            <a:xfrm rot="10800000">
              <a:off x="2820600" y="882720"/>
              <a:ext cx="857520" cy="768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2" name="_s2057"/>
            <p:cNvSpPr/>
            <p:nvPr/>
          </p:nvSpPr>
          <p:spPr>
            <a:xfrm>
              <a:off x="250920" y="115920"/>
              <a:ext cx="5140800" cy="76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  <a:ea typeface="Arial"/>
                </a:rPr>
                <a:t>Цель урока зависит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2058"/>
            <p:cNvSpPr/>
            <p:nvPr/>
          </p:nvSpPr>
          <p:spPr>
            <a:xfrm>
              <a:off x="3678120" y="1267200"/>
              <a:ext cx="5140800" cy="76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т содержания урок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2059"/>
            <p:cNvSpPr/>
            <p:nvPr/>
          </p:nvSpPr>
          <p:spPr>
            <a:xfrm>
              <a:off x="3678120" y="2418480"/>
              <a:ext cx="5140800" cy="76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т уровня профессионального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астерства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_s2060"/>
            <p:cNvSpPr/>
            <p:nvPr/>
          </p:nvSpPr>
          <p:spPr>
            <a:xfrm>
              <a:off x="3678120" y="3569760"/>
              <a:ext cx="5140800" cy="76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т типа урок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_s2061"/>
            <p:cNvSpPr/>
            <p:nvPr/>
          </p:nvSpPr>
          <p:spPr>
            <a:xfrm>
              <a:off x="3678120" y="4721040"/>
              <a:ext cx="5140800" cy="76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т методов и форм работ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_s2062"/>
            <p:cNvSpPr/>
            <p:nvPr/>
          </p:nvSpPr>
          <p:spPr>
            <a:xfrm>
              <a:off x="3678120" y="5872680"/>
              <a:ext cx="5140800" cy="76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т уровня  класса и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озможностей учеников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эффективности применяемых методов и приемов в обуче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2" name="Object 19"/>
          <p:cNvGraphicFramePr/>
          <p:nvPr/>
        </p:nvGraphicFramePr>
        <p:xfrm>
          <a:off x="611280" y="1413000"/>
          <a:ext cx="775152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7515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0"/>
          <p:cNvSpPr/>
          <p:nvPr/>
        </p:nvSpPr>
        <p:spPr>
          <a:xfrm>
            <a:off x="324000" y="5516640"/>
            <a:ext cx="504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кажи – и я забуд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кажи – и я запом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й мне действовать самому – и я научус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636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ы и виды организации деятельности учащихся на урок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24000" y="191628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24000" y="1557360"/>
            <a:ext cx="8820000" cy="50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пект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уппов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рческие за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мостоятельн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ление конспекта, рецензии, отзыва, рефер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сперим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та с контурными картами, иллюстраци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аимопроверка, самопровер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укцион ид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ст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06:14:24Z</dcterms:created>
  <dc:creator>Оксана</dc:creator>
  <dc:description/>
  <dc:language>en-US</dc:language>
  <cp:lastModifiedBy>Коля</cp:lastModifiedBy>
  <dcterms:modified xsi:type="dcterms:W3CDTF">2013-04-15T20:31:55Z</dcterms:modified>
  <cp:revision>19</cp:revision>
  <dc:subject/>
  <dc:title>«Эффективность урока как условие повышения качества образования»</dc:title>
</cp:coreProperties>
</file>