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23A51-EA56-4241-88E4-133288933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98E41-0919-46C8-B8E3-BF0BEF06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3D371-9305-4118-B831-E54135436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8FAA4-A6C3-4351-8ECA-81E89B59B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6F21-E4BE-4AE4-8000-8A82FA9F5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410E-EC4F-42AE-AB85-AB3E3B0F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B0B7-B7ED-4E8C-89E5-F90ED4BE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F0E5-F4B6-42E2-808A-3F2DDBC7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6FB9-868C-46F5-BF32-4745600E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A15A-381A-4208-BD2F-29944F6E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6669-B3EC-407A-AFF3-F611FDD8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FE61B-074C-4501-B132-84BCFF15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FB23-669C-4749-868D-A2FCFA3C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567F-DF49-4173-AAD7-D525D540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B1FC-CF31-4336-B4FA-9C8EF3D6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9673-367E-4B85-A33E-034CE9306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68F8-0ABA-4A58-9F1B-380F0C282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FEA0B-53E2-4FEF-9191-F465B2A7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5AD1B-A9A2-46E5-A695-7DAD5833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F1978-DED4-47E1-A8D4-FDD35E24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6F89E-3AD5-4AFF-8013-144D862F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76BDE-CD44-4ACA-8579-5873E564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9B240-C0A1-4234-BF5F-0EAFB3AC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DC02A-E939-48DE-BC5D-D84C20C4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4f627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45877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3f526e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a5d7a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B9C5-267E-4B75-B47D-98E349EB2B4E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4f627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45877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3f526e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a5d7a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0E51-6645-4F5A-834C-4DB6E9AF26F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1157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ccff"/>
                </a:solidFill>
                <a:latin typeface="Courier New"/>
              </a:rPr>
              <a:t>«Эффективность урока – стимул к успеху учителя и ученика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3628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Цель: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определить взаимозависимость эффективности урока и качества образования и наметить направления повышения эффективности урока как основы качества образования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50560" y="3284640"/>
            <a:ext cx="8713800" cy="30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Задачи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66cc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Осуществить осмысление понятия «Эффективность» урок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66cc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Определить критерии эффективного урока и выявить противоречия практик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66cc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Оценить пути повышения эффективности урока в условиях школы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3851280" y="6021360"/>
            <a:ext cx="5113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рок всему начало, всему и ито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95280" y="549360"/>
            <a:ext cx="835344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ahoma"/>
              </a:rPr>
              <a:t>Результативность урока – уровень усвоения знаний и способов деятельности учащихся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395280" y="2133720"/>
            <a:ext cx="87487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ровни усвоения знани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усвоение на уровне восприятия, понимания, запомина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применение в аналогичной и сходной ситуац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применение в новой ситуации, творческ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флексия – один из способов проверки результативности уро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468360" y="1844640"/>
            <a:ext cx="7416720" cy="46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флексия может быть представлен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просами: что нового для себя узнали, в чем затруднялись и т.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нутренними диалогами: что теперь, как быть дальш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ценкой своей работы: как я усвоил материал, как я работал, где допускал ошибки, справился, не справился с работ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Рефлексия себя в уроке»: оценка своей работы по 10-балльной шкале с позиций: «Я» (как я работал), «Мы» (помощь одноклассников, учителя мне и моя помощь им), «Дело» (понял ли материал, узнал ли больш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603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ahoma"/>
              </a:rPr>
              <a:t>Творческий педагог – это педагог, способный преобразоваться, способный создавать вокруг себя новое, производительная активность которого на каждом новом этапе становится совершенней и эффективней.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603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ahoma"/>
              </a:rPr>
              <a:t>Творческий педагог – это педагог, способный преобразоваться, способный создавать вокруг себя новое, производительная активность которого на каждом новом этапе становится совершенней и эффективней.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2746440" cy="427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Задание 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43280" y="259920"/>
            <a:ext cx="605952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0 минут урока – это спрессованный, насыщенный мыслями и чувствами отрезок совместного труда и того, кто учит, и тех, кого учат самостоятельно шагать по пути знаний, искать, запоминать осмысленное, применять усвоенно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000" y="3141720"/>
            <a:ext cx="8496360" cy="29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66cc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Что значит слово «Эффективность»?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66cc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т чего зависит эффективность урока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39640" y="620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Эффект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–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) действие, результат чего-либ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) впечатление, производимое на кого-либо чем-либ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) средство, прием для создания определенного впечатл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Эффективный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ющий определен-ный эффект, действен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Эффективность урока зависит от: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5" name="Diagram 4"/>
          <p:cNvGrpSpPr/>
          <p:nvPr/>
        </p:nvGrpSpPr>
        <p:grpSpPr>
          <a:xfrm>
            <a:off x="504360" y="1486800"/>
            <a:ext cx="8325360" cy="4766760"/>
            <a:chOff x="504360" y="1486800"/>
            <a:chExt cx="8325360" cy="4766760"/>
          </a:xfrm>
        </p:grpSpPr>
        <p:sp>
          <p:nvSpPr>
            <p:cNvPr id="136" name="_s1028"/>
            <p:cNvSpPr/>
            <p:nvPr/>
          </p:nvSpPr>
          <p:spPr>
            <a:xfrm flipH="1" flipV="1">
              <a:off x="3138840" y="2712600"/>
              <a:ext cx="1011960" cy="774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_s1029"/>
            <p:cNvSpPr/>
            <p:nvPr/>
          </p:nvSpPr>
          <p:spPr>
            <a:xfrm>
              <a:off x="1761120" y="1851120"/>
              <a:ext cx="1739520" cy="9579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Результа-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тивность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_s1030"/>
            <p:cNvSpPr/>
            <p:nvPr/>
          </p:nvSpPr>
          <p:spPr>
            <a:xfrm flipH="1" flipV="1">
              <a:off x="2194920" y="3426840"/>
              <a:ext cx="1646280" cy="299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_s1031"/>
            <p:cNvSpPr/>
            <p:nvPr/>
          </p:nvSpPr>
          <p:spPr>
            <a:xfrm>
              <a:off x="504360" y="2804760"/>
              <a:ext cx="1739520" cy="9576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ТСО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_s1032"/>
            <p:cNvSpPr/>
            <p:nvPr/>
          </p:nvSpPr>
          <p:spPr>
            <a:xfrm flipH="1">
              <a:off x="2195280" y="4019760"/>
              <a:ext cx="1650960" cy="29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_s1033"/>
            <p:cNvSpPr/>
            <p:nvPr/>
          </p:nvSpPr>
          <p:spPr>
            <a:xfrm>
              <a:off x="508320" y="3982320"/>
              <a:ext cx="1740240" cy="9576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Эмоциональная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атмосфера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_s1034"/>
            <p:cNvSpPr/>
            <p:nvPr/>
          </p:nvSpPr>
          <p:spPr>
            <a:xfrm flipH="1">
              <a:off x="3139200" y="4257360"/>
              <a:ext cx="1023840" cy="767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_s1035"/>
            <p:cNvSpPr/>
            <p:nvPr/>
          </p:nvSpPr>
          <p:spPr>
            <a:xfrm>
              <a:off x="1768320" y="4933440"/>
              <a:ext cx="1740240" cy="9576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кретность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цели</a:t>
              </a:r>
              <a:r>
                <a:rPr b="0" lang="en-US" sz="1600" spc="-1" strike="noStrike">
                  <a:solidFill>
                    <a:srgbClr val="2c1735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_s1036"/>
            <p:cNvSpPr/>
            <p:nvPr/>
          </p:nvSpPr>
          <p:spPr>
            <a:xfrm>
              <a:off x="4663080" y="4346640"/>
              <a:ext cx="8280" cy="951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_s1037"/>
            <p:cNvSpPr/>
            <p:nvPr/>
          </p:nvSpPr>
          <p:spPr>
            <a:xfrm>
              <a:off x="3801240" y="5295960"/>
              <a:ext cx="1740240" cy="9576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Активная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работа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учащихся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_s1038"/>
            <p:cNvSpPr/>
            <p:nvPr/>
          </p:nvSpPr>
          <p:spPr>
            <a:xfrm>
              <a:off x="5179320" y="4255560"/>
              <a:ext cx="1008360" cy="769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_s1039"/>
            <p:cNvSpPr/>
            <p:nvPr/>
          </p:nvSpPr>
          <p:spPr>
            <a:xfrm>
              <a:off x="5833800" y="4930920"/>
              <a:ext cx="1740240" cy="9579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Умение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бщаться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_s1040"/>
            <p:cNvSpPr/>
            <p:nvPr/>
          </p:nvSpPr>
          <p:spPr>
            <a:xfrm>
              <a:off x="5492520" y="4015800"/>
              <a:ext cx="1638000" cy="295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_s1041"/>
            <p:cNvSpPr/>
            <p:nvPr/>
          </p:nvSpPr>
          <p:spPr>
            <a:xfrm>
              <a:off x="7090200" y="3977640"/>
              <a:ext cx="1739520" cy="9576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Доступность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_s1042"/>
            <p:cNvSpPr/>
            <p:nvPr/>
          </p:nvSpPr>
          <p:spPr>
            <a:xfrm flipV="1">
              <a:off x="5488200" y="3428640"/>
              <a:ext cx="1642680" cy="29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_s1043"/>
            <p:cNvSpPr/>
            <p:nvPr/>
          </p:nvSpPr>
          <p:spPr>
            <a:xfrm>
              <a:off x="7085520" y="2800080"/>
              <a:ext cx="1740240" cy="9579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Мастерство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_s1044"/>
            <p:cNvSpPr/>
            <p:nvPr/>
          </p:nvSpPr>
          <p:spPr>
            <a:xfrm flipV="1">
              <a:off x="5171040" y="2715120"/>
              <a:ext cx="1016640" cy="767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_s1045"/>
            <p:cNvSpPr/>
            <p:nvPr/>
          </p:nvSpPr>
          <p:spPr>
            <a:xfrm>
              <a:off x="5825520" y="1848960"/>
              <a:ext cx="1740240" cy="9576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Разнообра-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зие методов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_s1046"/>
            <p:cNvSpPr/>
            <p:nvPr/>
          </p:nvSpPr>
          <p:spPr>
            <a:xfrm flipV="1">
              <a:off x="4663080" y="2444400"/>
              <a:ext cx="0" cy="94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_s1047"/>
            <p:cNvSpPr/>
            <p:nvPr/>
          </p:nvSpPr>
          <p:spPr>
            <a:xfrm>
              <a:off x="3792960" y="1486800"/>
              <a:ext cx="1740240" cy="9576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Формирова-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ние умений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и навыков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_s1048"/>
            <p:cNvSpPr/>
            <p:nvPr/>
          </p:nvSpPr>
          <p:spPr>
            <a:xfrm>
              <a:off x="3792960" y="3393720"/>
              <a:ext cx="1740240" cy="9576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  <a:ea typeface="Arial"/>
                </a:rPr>
                <a:t>Урок</a:t>
              </a:r>
              <a:endParaRPr b="0" lang="en-US" sz="23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При постановке целей следует обращать внимание на: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блемность материал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глядно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иль общ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менение учащимися знаний на практик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витие способностей учащих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держание материал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теллектуальные способности учащих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вокупность решений множества задач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жидание результа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Organization Chart 5"/>
          <p:cNvGrpSpPr/>
          <p:nvPr/>
        </p:nvGrpSpPr>
        <p:grpSpPr>
          <a:xfrm>
            <a:off x="250920" y="115920"/>
            <a:ext cx="8568000" cy="6524280"/>
            <a:chOff x="250920" y="115920"/>
            <a:chExt cx="8568000" cy="6524280"/>
          </a:xfrm>
        </p:grpSpPr>
        <p:cxnSp>
          <p:nvCxnSpPr>
            <p:cNvPr id="160" name="_s2052"/>
            <p:cNvCxnSpPr>
              <a:stCxn id="161" idx="1"/>
              <a:endCxn id="162" idx="2"/>
            </p:cNvCxnSpPr>
            <p:nvPr/>
          </p:nvCxnSpPr>
          <p:spPr>
            <a:xfrm rot="10800000">
              <a:off x="2820600" y="882720"/>
              <a:ext cx="857520" cy="5373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3" name="_s2053"/>
            <p:cNvCxnSpPr>
              <a:stCxn id="164" idx="1"/>
              <a:endCxn id="162" idx="2"/>
            </p:cNvCxnSpPr>
            <p:nvPr/>
          </p:nvCxnSpPr>
          <p:spPr>
            <a:xfrm rot="10800000">
              <a:off x="2820600" y="882720"/>
              <a:ext cx="857520" cy="42220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5" name="_s2054"/>
            <p:cNvCxnSpPr>
              <a:stCxn id="166" idx="1"/>
              <a:endCxn id="162" idx="2"/>
            </p:cNvCxnSpPr>
            <p:nvPr/>
          </p:nvCxnSpPr>
          <p:spPr>
            <a:xfrm rot="10800000">
              <a:off x="2820600" y="882720"/>
              <a:ext cx="857520" cy="3070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7" name="_s2055"/>
            <p:cNvCxnSpPr>
              <a:stCxn id="168" idx="1"/>
              <a:endCxn id="162" idx="2"/>
            </p:cNvCxnSpPr>
            <p:nvPr/>
          </p:nvCxnSpPr>
          <p:spPr>
            <a:xfrm rot="10800000">
              <a:off x="2820600" y="882720"/>
              <a:ext cx="857520" cy="1919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9" name="_s2056"/>
            <p:cNvCxnSpPr>
              <a:stCxn id="170" idx="1"/>
              <a:endCxn id="162" idx="2"/>
            </p:cNvCxnSpPr>
            <p:nvPr/>
          </p:nvCxnSpPr>
          <p:spPr>
            <a:xfrm rot="10800000">
              <a:off x="2820600" y="882720"/>
              <a:ext cx="857520" cy="768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62" name="_s2057"/>
            <p:cNvSpPr/>
            <p:nvPr/>
          </p:nvSpPr>
          <p:spPr>
            <a:xfrm>
              <a:off x="250920" y="115920"/>
              <a:ext cx="5140800" cy="76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lin ang="81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Arial"/>
                  <a:ea typeface="Arial"/>
                </a:rPr>
                <a:t>Цель урока зависит</a:t>
              </a:r>
              <a:endParaRPr b="0" lang="en-US" sz="3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_s2058"/>
            <p:cNvSpPr/>
            <p:nvPr/>
          </p:nvSpPr>
          <p:spPr>
            <a:xfrm>
              <a:off x="3678120" y="1267200"/>
              <a:ext cx="5140800" cy="76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lin ang="81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т содержания урока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_s2059"/>
            <p:cNvSpPr/>
            <p:nvPr/>
          </p:nvSpPr>
          <p:spPr>
            <a:xfrm>
              <a:off x="3678120" y="2418480"/>
              <a:ext cx="5140800" cy="76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lin ang="81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т уровня профессионального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мастерства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_s2060"/>
            <p:cNvSpPr/>
            <p:nvPr/>
          </p:nvSpPr>
          <p:spPr>
            <a:xfrm>
              <a:off x="3678120" y="3569760"/>
              <a:ext cx="5140800" cy="76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lin ang="81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т типа урока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_s2061"/>
            <p:cNvSpPr/>
            <p:nvPr/>
          </p:nvSpPr>
          <p:spPr>
            <a:xfrm>
              <a:off x="3678120" y="4721040"/>
              <a:ext cx="5140800" cy="76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lin ang="81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т методов и форм работы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_s2062"/>
            <p:cNvSpPr/>
            <p:nvPr/>
          </p:nvSpPr>
          <p:spPr>
            <a:xfrm>
              <a:off x="3678120" y="5872680"/>
              <a:ext cx="5140800" cy="76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lin ang="81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т уровня  класса и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возможностей учеников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епень эффективности применяемых методов и приемов в обучен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2" name="Object 19"/>
          <p:cNvGraphicFramePr/>
          <p:nvPr/>
        </p:nvGraphicFramePr>
        <p:xfrm>
          <a:off x="611280" y="1413000"/>
          <a:ext cx="7751520" cy="45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13000"/>
                    <a:ext cx="77515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 Box 10"/>
          <p:cNvSpPr/>
          <p:nvPr/>
        </p:nvSpPr>
        <p:spPr>
          <a:xfrm>
            <a:off x="324000" y="5516640"/>
            <a:ext cx="504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сскажи – и я забуд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кажи – и я запомн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ай мне действовать самому – и я научус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94920" y="404280"/>
            <a:ext cx="849636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рмы и виды организации деятельности учащихся на урок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24000" y="191628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24000" y="1557360"/>
            <a:ext cx="8820000" cy="50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спектир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упповая раб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ворческие зад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мостоятельная раб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авление конспекта, рецензии, отзыва, рефер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ксперимен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бота с контурными картами, иллюстрация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след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заимопроверка, самопровер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укцион ид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стир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06:14:24Z</dcterms:created>
  <dc:creator>Оксана</dc:creator>
  <dc:description/>
  <dc:language>en-US</dc:language>
  <cp:lastModifiedBy>Коля</cp:lastModifiedBy>
  <dcterms:modified xsi:type="dcterms:W3CDTF">2013-04-15T20:31:55Z</dcterms:modified>
  <cp:revision>19</cp:revision>
  <dc:subject/>
  <dc:title>«Эффективность урока как условие повышения качества образования»</dc:title>
</cp:coreProperties>
</file>