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5E8A-037F-4460-A1D0-EC76521F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287D-E363-49DA-B7AB-270DA65F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1303-7863-47BB-B80C-DA6C9D62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214E-5CDD-4CE8-9A8F-2C710835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2558-8C60-4FA4-97AB-5A11E8D5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51CE-EC7F-4E00-9573-D2C0CCDB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B1A1-F358-4678-91EC-43AB4D4C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A148-5553-4612-8A89-C74286EA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FC04-B366-4CBA-BFCC-9BB72308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F66A-D85B-4453-85EA-08B3F9F2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C520-7EBF-4B43-BD47-DE879D67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1F32-C606-4A96-8B0F-3DEC768D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15AD-7C5B-433D-983E-18E9397D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F5B1-97A7-4A85-8906-1381B5D1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DE49-ED33-4F34-9EF9-C9B00BD4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46A2-AC6E-4FE6-86B4-2ADF72FF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6E20-4E05-4663-B3F8-75EAAC88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7C09-B18F-464D-A2D6-BE1108F0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C70E8-1A90-4C45-A233-4702493C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8E91-35CB-4DD4-A400-0E5FD3FF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726B-D67A-4D62-88C5-8A385A0A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D63F-8256-4786-81F1-70648BD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1CF1-696A-486E-AA09-F4C867D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F3AD-610C-4B31-9226-D83ABCBC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B172-DCA2-4DE3-929A-00F02021B35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FB48-0C40-437A-9A10-2E180CD23DD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Courier New"/>
              </a:rPr>
              <a:t>«Эффективность урока – стимул к успеху учителя и ученик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определить взаимозависимость эффективности урока и качества образования и наметить направления повышения эффективности урока как основы качества образ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50560" y="3284640"/>
            <a:ext cx="87138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существить осмысление понятия «Эффективность» уро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пределить критерии эффективного урока и выявить противоречия практик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ценить пути повышения эффективности урока в условиях школ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851280" y="6021360"/>
            <a:ext cx="511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к всему начало, всему и ит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95280" y="549360"/>
            <a:ext cx="83534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Результативность урока – уровень усвоения знаний и способов деятельности учащихс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95280" y="2133720"/>
            <a:ext cx="8748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ровни усвоения знан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усвоение на уровне восприятия, понимания, запомин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рименение в аналогичной и сходной ситу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применение в новой ситуации, творческ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флексия – один из способов проверки результативности уро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68360" y="1844640"/>
            <a:ext cx="741672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флексия может быть представле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просами: что нового для себя узнали, в чем затруднялись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ними диалогами: что теперь, как быть дальш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ценкой своей работы: как я усвоил материал, как я работал, где допускал ошибки, справился, не справился с работ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Рефлексия себя в уроке»: оценка своей работы по 10-балльной шкале с позиций: «Я» (как я работал), «Мы» (помощь одноклассников, учителя мне и моя помощь им), «Дело» (понял ли материал, узнал ли больш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Творческий педагог – это педагог, способный преобразоваться, способный создавать вокруг себя новое, производительная активность которого на каждом новом этапе становится совершенней и эффективней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Творческий педагог – это педагог, способный преобразоваться, способный создавать вокруг себя новое, производительная активность которого на каждом новом этапе становится совершенней и эффективней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2746440" cy="427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43280" y="259920"/>
            <a:ext cx="60595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0 минут урока – это спрессованный, насыщенный мыслями и чувствами отрезок совместного труда и того, кто учит, и тех, кого учат самостоятельно шагать по пути знаний, искать, запоминать осмысленное, применять усвоенн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000" y="3141720"/>
            <a:ext cx="8496360" cy="29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то значит слово «Эффективность»?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 чего зависит эффективность урок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ффект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действие, результат чего-либ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впечатление, производимое на кого-либо чем-либ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редство, прием для создания определенного впечат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ффективный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ющий определен-ный эффект, действе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Эффективность урока зависит от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Diagram 4"/>
          <p:cNvGrpSpPr/>
          <p:nvPr/>
        </p:nvGrpSpPr>
        <p:grpSpPr>
          <a:xfrm>
            <a:off x="504360" y="1486800"/>
            <a:ext cx="8325360" cy="4766760"/>
            <a:chOff x="504360" y="1486800"/>
            <a:chExt cx="8325360" cy="4766760"/>
          </a:xfrm>
        </p:grpSpPr>
        <p:sp>
          <p:nvSpPr>
            <p:cNvPr id="136" name="_s1028"/>
            <p:cNvSpPr/>
            <p:nvPr/>
          </p:nvSpPr>
          <p:spPr>
            <a:xfrm flipH="1" flipV="1">
              <a:off x="3138840" y="2712600"/>
              <a:ext cx="1011960" cy="77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1029"/>
            <p:cNvSpPr/>
            <p:nvPr/>
          </p:nvSpPr>
          <p:spPr>
            <a:xfrm>
              <a:off x="1761120" y="1851120"/>
              <a:ext cx="1739520" cy="957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езульта-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ив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_s1030"/>
            <p:cNvSpPr/>
            <p:nvPr/>
          </p:nvSpPr>
          <p:spPr>
            <a:xfrm flipH="1" flipV="1">
              <a:off x="2194920" y="3426840"/>
              <a:ext cx="1646280" cy="2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1031"/>
            <p:cNvSpPr/>
            <p:nvPr/>
          </p:nvSpPr>
          <p:spPr>
            <a:xfrm>
              <a:off x="504360" y="2804760"/>
              <a:ext cx="173952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СО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1032"/>
            <p:cNvSpPr/>
            <p:nvPr/>
          </p:nvSpPr>
          <p:spPr>
            <a:xfrm flipH="1">
              <a:off x="2195280" y="4019760"/>
              <a:ext cx="1650960" cy="29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508320" y="398232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Эмоциональ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атмосфер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1034"/>
            <p:cNvSpPr/>
            <p:nvPr/>
          </p:nvSpPr>
          <p:spPr>
            <a:xfrm flipH="1">
              <a:off x="3139200" y="4257360"/>
              <a:ext cx="1023840" cy="767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1035"/>
            <p:cNvSpPr/>
            <p:nvPr/>
          </p:nvSpPr>
          <p:spPr>
            <a:xfrm>
              <a:off x="1768320" y="493344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крет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цели</a:t>
              </a:r>
              <a:r>
                <a:rPr b="0" lang="en-US" sz="1600" spc="-1" strike="noStrike">
                  <a:solidFill>
                    <a:srgbClr val="2c1735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1036"/>
            <p:cNvSpPr/>
            <p:nvPr/>
          </p:nvSpPr>
          <p:spPr>
            <a:xfrm>
              <a:off x="4663080" y="4346640"/>
              <a:ext cx="8280" cy="95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_s1037"/>
            <p:cNvSpPr/>
            <p:nvPr/>
          </p:nvSpPr>
          <p:spPr>
            <a:xfrm>
              <a:off x="3801240" y="529596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ктив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абот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чащихс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1038"/>
            <p:cNvSpPr/>
            <p:nvPr/>
          </p:nvSpPr>
          <p:spPr>
            <a:xfrm>
              <a:off x="5179320" y="4255560"/>
              <a:ext cx="1008360" cy="76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1039"/>
            <p:cNvSpPr/>
            <p:nvPr/>
          </p:nvSpPr>
          <p:spPr>
            <a:xfrm>
              <a:off x="5833800" y="4930920"/>
              <a:ext cx="1740240" cy="957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мение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бщатьс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_s1040"/>
            <p:cNvSpPr/>
            <p:nvPr/>
          </p:nvSpPr>
          <p:spPr>
            <a:xfrm>
              <a:off x="5492520" y="4015800"/>
              <a:ext cx="163800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1041"/>
            <p:cNvSpPr/>
            <p:nvPr/>
          </p:nvSpPr>
          <p:spPr>
            <a:xfrm>
              <a:off x="7090200" y="3977640"/>
              <a:ext cx="173952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Доступ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_s1042"/>
            <p:cNvSpPr/>
            <p:nvPr/>
          </p:nvSpPr>
          <p:spPr>
            <a:xfrm flipV="1">
              <a:off x="5488200" y="3428640"/>
              <a:ext cx="1642680" cy="29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_s1043"/>
            <p:cNvSpPr/>
            <p:nvPr/>
          </p:nvSpPr>
          <p:spPr>
            <a:xfrm>
              <a:off x="7085520" y="2800080"/>
              <a:ext cx="1740240" cy="957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астерство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_s1044"/>
            <p:cNvSpPr/>
            <p:nvPr/>
          </p:nvSpPr>
          <p:spPr>
            <a:xfrm flipV="1">
              <a:off x="5171040" y="2715120"/>
              <a:ext cx="1016640" cy="767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_s1045"/>
            <p:cNvSpPr/>
            <p:nvPr/>
          </p:nvSpPr>
          <p:spPr>
            <a:xfrm>
              <a:off x="5825520" y="184896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азнообра-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зие методов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_s1046"/>
            <p:cNvSpPr/>
            <p:nvPr/>
          </p:nvSpPr>
          <p:spPr>
            <a:xfrm flipV="1">
              <a:off x="4663080" y="2444400"/>
              <a:ext cx="0" cy="94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_s1047"/>
            <p:cNvSpPr/>
            <p:nvPr/>
          </p:nvSpPr>
          <p:spPr>
            <a:xfrm>
              <a:off x="3792960" y="148680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ормирова-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ие умений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 навыков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_s1048"/>
            <p:cNvSpPr/>
            <p:nvPr/>
          </p:nvSpPr>
          <p:spPr>
            <a:xfrm>
              <a:off x="3792960" y="339372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рок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При постановке целей следует обращать внимание на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блемность матер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гляд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ль общ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ение учащимися знаний на практи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способностей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держание матер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ллектуальные способности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окупность решений множества задач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жидание результа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Organization Chart 5"/>
          <p:cNvGrpSpPr/>
          <p:nvPr/>
        </p:nvGrpSpPr>
        <p:grpSpPr>
          <a:xfrm>
            <a:off x="250920" y="115920"/>
            <a:ext cx="8568000" cy="6524280"/>
            <a:chOff x="250920" y="115920"/>
            <a:chExt cx="8568000" cy="6524280"/>
          </a:xfrm>
        </p:grpSpPr>
        <p:cxnSp>
          <p:nvCxnSpPr>
            <p:cNvPr id="160" name="_s2052"/>
            <p:cNvCxnSpPr>
              <a:stCxn id="161" idx="1"/>
              <a:endCxn id="162" idx="2"/>
            </p:cNvCxnSpPr>
            <p:nvPr/>
          </p:nvCxnSpPr>
          <p:spPr>
            <a:xfrm rot="10800000">
              <a:off x="2820600" y="882720"/>
              <a:ext cx="857520" cy="5373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3" name="_s2053"/>
            <p:cNvCxnSpPr>
              <a:stCxn id="164" idx="1"/>
              <a:endCxn id="162" idx="2"/>
            </p:cNvCxnSpPr>
            <p:nvPr/>
          </p:nvCxnSpPr>
          <p:spPr>
            <a:xfrm rot="10800000">
              <a:off x="2820600" y="882720"/>
              <a:ext cx="857520" cy="4222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054"/>
            <p:cNvCxnSpPr>
              <a:stCxn id="166" idx="1"/>
              <a:endCxn id="162" idx="2"/>
            </p:cNvCxnSpPr>
            <p:nvPr/>
          </p:nvCxnSpPr>
          <p:spPr>
            <a:xfrm rot="10800000">
              <a:off x="2820600" y="882720"/>
              <a:ext cx="857520" cy="3070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055"/>
            <p:cNvCxnSpPr>
              <a:stCxn id="168" idx="1"/>
              <a:endCxn id="162" idx="2"/>
            </p:cNvCxnSpPr>
            <p:nvPr/>
          </p:nvCxnSpPr>
          <p:spPr>
            <a:xfrm rot="10800000">
              <a:off x="2820600" y="882720"/>
              <a:ext cx="857520" cy="191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2056"/>
            <p:cNvCxnSpPr>
              <a:stCxn id="170" idx="1"/>
              <a:endCxn id="162" idx="2"/>
            </p:cNvCxnSpPr>
            <p:nvPr/>
          </p:nvCxnSpPr>
          <p:spPr>
            <a:xfrm rot="10800000">
              <a:off x="2820600" y="882720"/>
              <a:ext cx="857520" cy="768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2" name="_s2057"/>
            <p:cNvSpPr/>
            <p:nvPr/>
          </p:nvSpPr>
          <p:spPr>
            <a:xfrm>
              <a:off x="250920" y="11592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Цель урока зависит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3678120" y="126720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содержания уро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2059"/>
            <p:cNvSpPr/>
            <p:nvPr/>
          </p:nvSpPr>
          <p:spPr>
            <a:xfrm>
              <a:off x="3678120" y="241848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уровня профессиональног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астерства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2060"/>
            <p:cNvSpPr/>
            <p:nvPr/>
          </p:nvSpPr>
          <p:spPr>
            <a:xfrm>
              <a:off x="3678120" y="356976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типа уро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2061"/>
            <p:cNvSpPr/>
            <p:nvPr/>
          </p:nvSpPr>
          <p:spPr>
            <a:xfrm>
              <a:off x="3678120" y="472104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методов и форм работ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_s2062"/>
            <p:cNvSpPr/>
            <p:nvPr/>
          </p:nvSpPr>
          <p:spPr>
            <a:xfrm>
              <a:off x="3678120" y="587268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уровня  класса и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озможностей ученико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эффективности применяемых методов и приемов в обуч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Object 19"/>
          <p:cNvGraphicFramePr/>
          <p:nvPr/>
        </p:nvGraphicFramePr>
        <p:xfrm>
          <a:off x="611280" y="1413000"/>
          <a:ext cx="775152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7515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0"/>
          <p:cNvSpPr/>
          <p:nvPr/>
        </p:nvSpPr>
        <p:spPr>
          <a:xfrm>
            <a:off x="324000" y="5516640"/>
            <a:ext cx="504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жи – и я забу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ажи – и я запом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й мне действовать самому – и я научус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636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ы и виды организации деятельности учащихся на уро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24000" y="191628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4000" y="1557360"/>
            <a:ext cx="882000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пект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кие за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ение конспекта, рецензии, отзыва, рефе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спери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с контурными картами, иллюстраци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проверка, самопровер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укцион и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т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6:14:24Z</dcterms:created>
  <dc:creator>Оксана</dc:creator>
  <dc:description/>
  <dc:language>en-US</dc:language>
  <cp:lastModifiedBy>Коля</cp:lastModifiedBy>
  <dcterms:modified xsi:type="dcterms:W3CDTF">2013-04-15T20:31:55Z</dcterms:modified>
  <cp:revision>19</cp:revision>
  <dc:subject/>
  <dc:title>«Эффективность урока как условие повышения качества образования»</dc:title>
</cp:coreProperties>
</file>