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D3F-EE61-49CD-9A7E-4DDB5EE0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2C3-939B-4C6D-A192-81EC522E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E05-6252-404E-B942-3384C67C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75C-1EC4-413D-8056-C8BB6A38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C96-AC4E-40B5-AE28-0853946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5BF-F788-4121-9980-0D2E3BF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E56-708D-4464-8908-ACD83604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E9C-5AD8-473F-B000-0F6DF64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E7B-12E0-4F9F-8282-C3C7516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655-3050-49AB-9975-4713EB5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466-E296-400A-8FC8-851FC56B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375-478A-4384-9C98-3206B02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C154-4B52-4AA8-8B06-627DF92C1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14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8076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Schoolbook"/>
              </a:rPr>
              <a:t>Данте Алигьери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4648320"/>
            <a:ext cx="78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Божественная комедия"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87680" y="2209680"/>
            <a:ext cx="197820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5809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Божественная комедия» состоит из трех частей: «Ад», «Чистилище» и «Ра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представляет себе путешествие по этим трем сферам загробного мира сначала с Вергилием  (римским поэтом 1 века до н.э.), а потом с Беатри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038480" cy="3247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867280" y="380880"/>
            <a:ext cx="250524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95680" y="3123720"/>
            <a:ext cx="4648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месте с Данте мы проходим через все ужасы 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На вратах ада начертано: «Оставьте всякую над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67020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о Данте, в ад душа человека может попасть и при жизни, ибо это не место, а состояние, в которое впадает тот, кто оказывается во власти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24000"/>
          </a:blip>
          <a:srcRect l="3336" t="2669" r="3336" b="1334"/>
          <a:stretch/>
        </p:blipFill>
        <p:spPr>
          <a:xfrm>
            <a:off x="4191120" y="457200"/>
            <a:ext cx="4622760" cy="5943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	</a:t>
            </a:r>
            <a:r>
              <a:rPr b="1" i="1" lang="en-US" sz="3600" spc="-1" strike="noStrike">
                <a:solidFill>
                  <a:srgbClr val="663300"/>
                </a:solidFill>
                <a:latin typeface="Tw Cen MT"/>
              </a:rPr>
              <a:t>«Божественная комедия» - это путь возвышения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2272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770280" cy="50292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5790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3 сентября 1321 года Данте Алигьери скончался в Раве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90720" y="533520"/>
            <a:ext cx="2550960" cy="4419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оплощение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«Божественной комедии» 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Tw Cen MT"/>
              </a:rPr>
              <a:t>в других видах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57200" y="2209680"/>
            <a:ext cx="2814480" cy="3962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4800600" cy="405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5720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Картины на тему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ой комед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141720" cy="396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2644560" cy="396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04920" y="2057400"/>
            <a:ext cx="2236680" cy="27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 в кукольном теат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2349360" cy="373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34320" y="2209680"/>
            <a:ext cx="19080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76720" y="1676520"/>
            <a:ext cx="2916000" cy="21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3297240" cy="247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Густав Д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е (Луи Кристоф Поль Густав Дорe) - знаменитый французский рисовальщик иллюстраций, живописец, скульптор и гравер (1833 - 188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чение восьми лет (1861-1868) работал над иллюстрациями к «Божественной комедии» Данте, которые  и на сегодняшний день считаются одними из луч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вюры Доре проникнуты драматизмом. Художник посредством удачно выбранных мотивов окружающего пейзажа и  освещения особенно мастерски придавал гравюрам живопис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63800" cy="3352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71024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49323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82880" y="228600"/>
            <a:ext cx="509112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09680" y="457200"/>
            <a:ext cx="4687920" cy="58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133720" y="304920"/>
            <a:ext cx="492264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209680" y="533520"/>
            <a:ext cx="4556160" cy="579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Алигьери Дан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оды жизни (1265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 13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редневековый итальянский поэт и филос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лся во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2200" y="1828800"/>
            <a:ext cx="350676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87368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7400" y="228600"/>
            <a:ext cx="4827600" cy="6019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04920"/>
            <a:ext cx="4848120" cy="617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228600"/>
            <a:ext cx="513396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Иллюстрации </a:t>
            </a:r>
            <a:br>
              <a:rPr sz="4800"/>
            </a:b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Блейка Уильям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0920" y="220968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нглийский поэт, художник, иллюстратор (1757—1827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Чтобы выполнить иллюстрации к поэме Данте, Блейк в 67 лет начинает изучать итальянский язык. Прежде чем умереть, Блейк успел гравировать 7 из 102 рисунков. 69 из них иллюстрировали песни «Ада», 20 — «Чистилища», 10 — «Рая» и еще 3 — без указания песн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2743200"/>
            <a:ext cx="2778120" cy="3124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та композиция иллюстрирует 29-ю песню «Чистилища». В правой части изображен Данте (одетый в красное), смотрящий в направлении Эдемского сада. По саду на великолепной колеснице, запряженной грифоном, едет Беатриче, возлюбленная поэта, в окружении духов четырех евангелистов (слева от Беатриче мы видим изображения, отчасти похожие на головы орла (Иоанн) и тельца (Лука), справа — на ангела (Матфей) и льва (Марк). Три женщины, стоящие на земле, олицетворяют Веру (в белом платье), Надежду (в зеленом) и Милосердие (в красн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519440" cy="3189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картине изображен второй круг ада, где находятся души великих любовников: Семирамиды, Клеопатры, Ахилла, Елены, Париса, Тристана. Отдельно от других, в завитке вихря, помещаются души Франчески да Римини и Паоло. Над головой Данте в сияющей сфере изображен символ бессмертного поцелу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иагональная композиция придает сцене особую выразительность. Ощущение бесконечности вихря создается за счет того, что начало и конец потока художник располагает за пределами изоб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5524560" cy="40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w Cen MT"/>
              </a:rPr>
              <a:t>«Божественная комедия» в иллюстрациях Г. Д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389640" cy="460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88771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90771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41911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Фрагмент карт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«Данте Алигьери с «Божественной комедией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удож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оменико ди Микел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948040" cy="64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w Cen MT"/>
              </a:rPr>
              <a:t>Данте и Беатрич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нте был влюблен в Беатриче Портинари. Данте и Беатриче стали такими же символами любви, как Тристан и Изольда, Ромео и Джульет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1523880"/>
            <a:ext cx="3441960" cy="4876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</p:spTree>
  </p:cSld>
  <p:transition spd="slow">
    <p:pull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4495680" cy="41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" y="46483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огила Беатриче Порти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685800"/>
            <a:ext cx="2895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те пронес через всю жизнь свою любовь к Беатриче и воспел ее в сонетах. Беатриче умерла в возрасте 2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572000"/>
            <a:ext cx="5029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И цвет любви и благость сожал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Ваш лик скорбящий мне не раз явл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Он милосердием таким си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Что на земле не нахожу сравн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86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принимал активное участие в политической жизни родного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 1302 году за участие в коалиции против Папы он был изгнан из Флор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стальные годы своей жизни Данте провел на чужб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854080" cy="472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Tw Cen MT"/>
              </a:rPr>
              <a:t>«Божественная комед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182880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3801960" cy="41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648320" y="451008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В годы изгнания Данте начал писать главный труд своей жизни– «Божественную комед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этом великом произведении Данте ставил перед собой цель: реально помочь людям справиться со страхом смерти. Эта задача была в то время чрезвычайно актуальной: душа средневекового человека разрывалась ужасом перед адскими м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92320" cy="340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2487600" cy="388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анте верил в реальное существование ада и в то, что смелость, честь и любовь помогут человеку выйти из него невре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791320" cy="410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23T13:58:5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