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FEA-6363-4406-A752-5970AC2C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254-249C-4E3F-BE79-40468B6D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7D1-614A-4BD3-AEB9-C8C0C3CD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B5C-7051-4D4B-AED5-DAE251B4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AA2D-924D-46B8-A662-9801C9FC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9B9A-7009-4673-B649-A2A714E6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E927-5485-45C6-80B6-FCFE2358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2C59-2459-42D3-BD02-6F11B182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BF1F-10D2-4222-A866-19FB4215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1D2C-4243-4CC0-B137-3000A13D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3B04-5D35-4BAE-844E-9D1F51BA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3AB-FBAD-4B37-B263-0A9C9CBF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70D7-50FA-4E9C-A6A5-41D992DD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D11A-7737-4928-96C6-042F517E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7136-E366-416D-8F7C-5A4805F6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385D-8733-4F00-B9D0-3424BD3A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F1D0-8868-466C-92CD-E80C7E28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30F-02FE-480B-9A1F-A6B18B1D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777A-E67A-4338-BBFD-1246D96F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994-6E8E-4661-B174-6B0AFA29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373-A043-49EF-B418-25AB76E9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792-1FE9-404A-A40C-118E4734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C855-3788-4D1D-9FD6-842053C8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0C5B-0F09-4D26-8EC1-8BBBB269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390E88-78FF-4705-A2BF-17CD00E03F58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7840BD-0330-4013-B219-F785CC93B5C1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ie_drei_Bogaty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jplus.ru/img4/m/a/madmaster/_04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2009-02/thumbs/1234929194_bogatyri.jpg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dreamworlds.ru/uploads/posts/2009-10/thumbs/1254665637_f_497042ec08ec4.jpg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a/Vastnetsov_1914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9/Muromets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3/Dobrinya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8/&#1044;&#1086;&#1073;&#1088;&#1099;&#1085;&#1103;_&#1053;&#1080;&#1082;&#1080;&#1090;&#1080;&#1095;.jpg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upload.wikimedia.org/wikipedia/commons/f/f4/Zmey.jpg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6/&#1040;&#1083;&#1077;&#1096;&#1072;_&#1055;&#1086;&#1087;&#1086;&#1074;&#1080;&#1095;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2/Silnyi_bogatyr&apos;_Alesha_Popovich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at8.blog.ru/lr/0913ac037285f9c6203aa9d8914751b6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img.ipvod.ru/ipvodimages/350x450/5416.jpg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929360" cy="40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Богатыри</a:t>
            </a:r>
            <a:br>
              <a:rPr sz="3600"/>
            </a:b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Герои шагнули со страниц книг…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28880" y="4929120"/>
            <a:ext cx="5114520" cy="11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4342a"/>
                </a:solidFill>
                <a:latin typeface="Franklin Gothic Book"/>
              </a:rPr>
              <a:t>Выполнил 6Б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icture 4">
            <a:hlinkClick r:id="rId1"/>
          </p:cNvPr>
          <p:cNvSpPr/>
          <p:nvPr/>
        </p:nvSpPr>
        <p:spPr>
          <a:xfrm>
            <a:off x="2571840" y="2786040"/>
            <a:ext cx="4000320" cy="265320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85960" y="64296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Спасибо за внимание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icture 2">
            <a:hlinkClick r:id="rId1"/>
          </p:cNvPr>
          <p:cNvSpPr/>
          <p:nvPr/>
        </p:nvSpPr>
        <p:spPr>
          <a:xfrm>
            <a:off x="1357200" y="2071800"/>
            <a:ext cx="6143400" cy="411480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Русские Богатыри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icture 4">
            <a:hlinkClick r:id="rId1"/>
          </p:cNvPr>
          <p:cNvSpPr/>
          <p:nvPr/>
        </p:nvSpPr>
        <p:spPr>
          <a:xfrm rot="320400">
            <a:off x="414720" y="1463400"/>
            <a:ext cx="4025160" cy="450036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icture 6">
            <a:hlinkClick r:id="rId3"/>
          </p:cNvPr>
          <p:cNvSpPr/>
          <p:nvPr/>
        </p:nvSpPr>
        <p:spPr>
          <a:xfrm rot="21133800">
            <a:off x="5290200" y="1412640"/>
            <a:ext cx="3242880" cy="4504320"/>
          </a:xfrm>
          <a:prstGeom prst="roundRect">
            <a:avLst>
              <a:gd name="adj" fmla="val 8594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369540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Илья Муромец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7480" y="4564080"/>
            <a:ext cx="869616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3000"/>
          </a:bodyPr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лья́ Муромец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(полное былинное имя —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лья Муромец сын Иванович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) — один из главных героев русского былинного эпоса, богатырь, воплощающий народный идеал героя-воина, народного заступника. Фигурирует в киевском цикле былин: «Илья Муромец и Соловей-разбойник», «Илья Муромец и Идолищ Поганое», «Ссора Ильи Муромца с князем Владимиром», «Бой Ильи Муромца с Жидовином»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icture 5">
            <a:hlinkClick r:id="rId1"/>
          </p:cNvPr>
          <p:cNvSpPr/>
          <p:nvPr/>
        </p:nvSpPr>
        <p:spPr>
          <a:xfrm>
            <a:off x="4071960" y="642960"/>
            <a:ext cx="4428720" cy="373104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48384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гласно былинам, богатырь Илья Муромец до 30 лет «не владел» руками и ногами, а затем получил чудесное исцеление от старцев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амятник Илье Муромцу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0" name="Picture 2" descr="Файл:Muromets2.jpg">
            <a:hlinkClick r:id="rId1"/>
          </p:cNvPr>
          <p:cNvPicPr/>
          <p:nvPr/>
        </p:nvPicPr>
        <p:blipFill>
          <a:blip r:embed="rId2"/>
          <a:stretch/>
        </p:blipFill>
        <p:spPr>
          <a:xfrm rot="583800">
            <a:off x="5241960" y="1364400"/>
            <a:ext cx="3357360" cy="4549680"/>
          </a:xfrm>
          <a:prstGeom prst="rect">
            <a:avLst/>
          </a:prstGeom>
          <a:ln cap="sq" w="190500">
            <a:solidFill>
              <a:srgbClr val="c8c6bd"/>
            </a:solidFill>
            <a:miter/>
          </a:ln>
          <a:effectLst>
            <a:outerShdw algn="bl" blurRad="254160" rotWithShape="0">
              <a:srgbClr val="000000">
                <a:alpha val="43000"/>
              </a:srgbClr>
            </a:outerShdw>
          </a:effectLst>
          <a:scene3d>
            <a:camera fov="5400000" prst="perspectiveFront"/>
            <a:lightRig dir="t" rig="threePt">
              <a:rot lat="0" lon="0" rev="21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4096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Добры́ня Ники́тич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— второй по популярности после Ильи Муромца богатырь эпоса Киевской Руси. Он часто изображается служилым богатырём при князе Владимире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3" name="Picture 2" descr="Файл:Dobriny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928800"/>
            <a:ext cx="3857400" cy="52243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4200" y="4143240"/>
            <a:ext cx="8686440" cy="24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9000"/>
          </a:bodyPr>
          <a:p>
            <a:pPr marL="3052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Былинные сюжеты, в которых участвует Добрыня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брыня бьётся со змеем Горынычем на р. Пучае (иначе Израе) и освобождает племянницу князя Владимира Забаву Путятину или его дочь Марфину, или сестру Марью Дивовну;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брыня вместе с Дунаем едет к королю Ляховицкому, чтобы посвататься от имени Владимира за Апраксу-королевичну, которую затем и привозит в Киев;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стречается с поляницей Настасьей, бьётся с ней, а затем женится на ней;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езжает надолго от жены, которая собирается выйти замуж за Алёшу Поповича. Приезд в день свадьбы и расстраивает свадьбу;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" name="Picture 2">
            <a:hlinkClick r:id="rId1"/>
          </p:cNvPr>
          <p:cNvSpPr/>
          <p:nvPr/>
        </p:nvSpPr>
        <p:spPr>
          <a:xfrm rot="21337200">
            <a:off x="5714640" y="214200"/>
            <a:ext cx="3071520" cy="409788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icture 4">
            <a:hlinkClick r:id="rId3"/>
          </p:cNvPr>
          <p:cNvSpPr/>
          <p:nvPr/>
        </p:nvSpPr>
        <p:spPr>
          <a:xfrm rot="303000">
            <a:off x="1017000" y="127800"/>
            <a:ext cx="3071520" cy="3769920"/>
          </a:xfrm>
          <a:prstGeom prst="roundRect">
            <a:avLst>
              <a:gd name="adj" fmla="val 8594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Алеша Попович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76676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00240" indent="-300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лёша Попо́вич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— фольклорный собирательный образ богатыря в русском былинном эпосе. Алёша Попович как младший входит третьим по значению в богатырскую троицу вместе с Ильёй Муромцем и Добрыней Никитичем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10" name="Picture 2" descr="Файл:Алеша Попович.jpg">
            <a:hlinkClick r:id="rId1"/>
          </p:cNvPr>
          <p:cNvPicPr/>
          <p:nvPr/>
        </p:nvPicPr>
        <p:blipFill>
          <a:blip r:embed="rId2"/>
          <a:stretch/>
        </p:blipFill>
        <p:spPr>
          <a:xfrm rot="258000">
            <a:off x="5370120" y="1257480"/>
            <a:ext cx="3214440" cy="4267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43360" y="1278000"/>
            <a:ext cx="4400280" cy="55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ыкновенно считается, что историческим прототипом Алёши Поповича послужил суздальский боярин Александр (Олеша) Попович. Согласно летописям, это был знаменитый «храбр» (отборный воин), служивший сначала Всеволоду Большое Гнездо, а затем его сыну Константину Всеволодовичу против его брата и претендента на владимирский стол Юрия Всеволодовича, причём Александр Попович сразил в поединках нескольких лучших воинов Юрия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13" name="Picture 2" descr="Файл:Silnyi bogatyr' Alesha Popo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3880" y="1285560"/>
            <a:ext cx="3571560" cy="44294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0080" y="42876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Русские Богатыри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icture 4">
            <a:hlinkClick r:id="rId1"/>
          </p:cNvPr>
          <p:cNvSpPr/>
          <p:nvPr/>
        </p:nvSpPr>
        <p:spPr>
          <a:xfrm rot="345000">
            <a:off x="320760" y="1601640"/>
            <a:ext cx="5076360" cy="380952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icture 6">
            <a:hlinkClick r:id="rId3"/>
          </p:cNvPr>
          <p:cNvSpPr/>
          <p:nvPr/>
        </p:nvSpPr>
        <p:spPr>
          <a:xfrm rot="21095400">
            <a:off x="5835600" y="1537920"/>
            <a:ext cx="2752200" cy="3809520"/>
          </a:xfrm>
          <a:prstGeom prst="roundRect">
            <a:avLst>
              <a:gd name="adj" fmla="val 8594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24</TotalTime>
  <Application>LibreOffice/7.4.7.2$Linux_X86_64 LibreOffice_project/40$Build-2</Application>
  <AppVersion>15.0000</AppVersion>
  <Words>297</Words>
  <Paragraphs>2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09-11-12T08:22:18Z</dcterms:modified>
  <cp:revision>4</cp:revision>
  <dc:subject/>
  <dc:title>  Былины Герои шагнули со страниц книг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