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D53-AB35-4E68-9881-5C8C4AB1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AB3-43E3-49CA-A0AB-CA9CA924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C6D-88F3-4EFC-82FD-23C6B085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C6F-F65B-42DF-9672-180FC680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06D7-B20D-40FE-9E55-2323EFA7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DFFF-85E1-47D0-AD76-5669C1D5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BB49-397D-48D8-8081-0E1F873F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9FC3-DBDA-485D-B921-202E65F0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D751-10AB-4E8C-AC8C-C7BA89D2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A204-B1BC-4DC3-BECF-9834D714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513C-37BC-45F0-8C5A-E05305DD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1D4-1F25-44D9-8099-52F77C8B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91FF-0655-49F6-9EAD-2D890D3C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4636-12D4-407C-82CD-43C96FE4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E5CE-9027-44ED-B822-AD0F7C3C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23FA-AC3A-478A-A6F9-B732D15F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DADE-E96C-4B8C-B976-530649C3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E4F-70FD-40F0-856F-201AB7F8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5FC-49E3-4EEC-BE47-5996BC69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877-137B-434E-8FBE-796B76B4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375-17A1-4EE2-87BD-C8CABE81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395-616A-4B1A-AF40-A37CA7C9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3AA-4017-4A02-9A1B-3B03C873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7B5-5E3A-4AE1-9606-FF7DB18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6550A5-9A7F-422E-8A0D-2E6F01E4AF1C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1AA380-6275-41A0-A638-F92FECA2E3D4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ie_drei_Bogaty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jplus.ru/img4/m/a/madmaster/_0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2009-02/thumbs/1234929194_bogatyri.jp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dreamworlds.ru/uploads/posts/2009-10/thumbs/1254665637_f_497042ec08ec4.jp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a/Vastnetsov_191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9/Muromets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3/Dobriny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&#1044;&#1086;&#1073;&#1088;&#1099;&#1085;&#1103;_&#1053;&#1080;&#1082;&#1080;&#1090;&#1080;&#1095;.jpg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upload.wikimedia.org/wikipedia/commons/f/f4/Zmey.jp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6/&#1040;&#1083;&#1077;&#1096;&#1072;_&#1055;&#1086;&#1087;&#1086;&#1074;&#1080;&#1095;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2/Silnyi_bogatyr&apos;_Alesha_Popovich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8.blog.ru/lr/0913ac037285f9c6203aa9d8914751b6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img.ipvod.ru/ipvodimages/350x450/5416.jpg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929360" cy="40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Богатыри</a:t>
            </a:r>
            <a:br>
              <a:rPr sz="3600"/>
            </a:b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Герои шагнули со страниц книг…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28880" y="4929120"/>
            <a:ext cx="5114520" cy="11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4342a"/>
                </a:solidFill>
                <a:latin typeface="Franklin Gothic Book"/>
              </a:rPr>
              <a:t>Выполнил 6Б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icture 4">
            <a:hlinkClick r:id="rId1"/>
          </p:cNvPr>
          <p:cNvSpPr/>
          <p:nvPr/>
        </p:nvSpPr>
        <p:spPr>
          <a:xfrm>
            <a:off x="2571840" y="2786040"/>
            <a:ext cx="4000320" cy="26532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5960" y="6429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Спасибо за внимание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icture 2">
            <a:hlinkClick r:id="rId1"/>
          </p:cNvPr>
          <p:cNvSpPr/>
          <p:nvPr/>
        </p:nvSpPr>
        <p:spPr>
          <a:xfrm>
            <a:off x="1357200" y="2071800"/>
            <a:ext cx="6143400" cy="41148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Русские Богатыр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icture 4">
            <a:hlinkClick r:id="rId1"/>
          </p:cNvPr>
          <p:cNvSpPr/>
          <p:nvPr/>
        </p:nvSpPr>
        <p:spPr>
          <a:xfrm rot="320400">
            <a:off x="414720" y="1463400"/>
            <a:ext cx="4025160" cy="45003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icture 6">
            <a:hlinkClick r:id="rId3"/>
          </p:cNvPr>
          <p:cNvSpPr/>
          <p:nvPr/>
        </p:nvSpPr>
        <p:spPr>
          <a:xfrm rot="21133800">
            <a:off x="5290200" y="1412640"/>
            <a:ext cx="3242880" cy="45043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369540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Илья Муромец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7480" y="4564080"/>
            <a:ext cx="869616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ья́ Муромец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(полное былинное имя —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ья Муромец сын Иванович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 — один из главных героев русского былинного эпоса, богатырь, воплощающий народный идеал героя-воина, народного заступника. Фигурирует в киевском цикле былин: «Илья Муромец и Соловей-разбойник», «Илья Муромец и Идолищ Поганое», «Ссора Ильи Муромца с князем Владимиром», «Бой Ильи Муромца с Жидовином»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icture 5">
            <a:hlinkClick r:id="rId1"/>
          </p:cNvPr>
          <p:cNvSpPr/>
          <p:nvPr/>
        </p:nvSpPr>
        <p:spPr>
          <a:xfrm>
            <a:off x="4071960" y="642960"/>
            <a:ext cx="4428720" cy="37310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8384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гласно былинам, богатырь Илья Муромец до 30 лет «не владел» руками и ногами, а затем получил чудесное исцеление от старцев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амятник Илье Муромцу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" name="Picture 2" descr="Файл:Muromets2.jpg">
            <a:hlinkClick r:id="rId1"/>
          </p:cNvPr>
          <p:cNvPicPr/>
          <p:nvPr/>
        </p:nvPicPr>
        <p:blipFill>
          <a:blip r:embed="rId2"/>
          <a:stretch/>
        </p:blipFill>
        <p:spPr>
          <a:xfrm rot="583800">
            <a:off x="5241960" y="1364400"/>
            <a:ext cx="3357360" cy="454968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4096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обры́ня Ники́тич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— второй по популярности после Ильи Муромца богатырь эпоса Киевской Руси. Он часто изображается служилым богатырём при князе Владимире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3" name="Picture 2" descr="Файл:Dobrin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928800"/>
            <a:ext cx="3857400" cy="5224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4200" y="4143240"/>
            <a:ext cx="8686440" cy="24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9000"/>
          </a:bodyPr>
          <a:p>
            <a:pPr marL="3052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Былинные сюжеты, в которых участвует Добрыня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брыня бьётся со змеем Горынычем на р. Пучае (иначе Израе) и освобождает племянницу князя Владимира Забаву Путятину или его дочь Марфину, или сестру Марью Дивовну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брыня вместе с Дунаем едет к королю Ляховицкому, чтобы посвататься от имени Владимира за Апраксу-королевичну, которую затем и привозит в Киев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тречается с поляницей Настасьей, бьётся с ней, а затем женится на ней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езжает надолго от жены, которая собирается выйти замуж за Алёшу Поповича. Приезд в день свадьбы и расстраивает свадьбу;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icture 2">
            <a:hlinkClick r:id="rId1"/>
          </p:cNvPr>
          <p:cNvSpPr/>
          <p:nvPr/>
        </p:nvSpPr>
        <p:spPr>
          <a:xfrm rot="21337200">
            <a:off x="5714640" y="214200"/>
            <a:ext cx="3071520" cy="409788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icture 4">
            <a:hlinkClick r:id="rId3"/>
          </p:cNvPr>
          <p:cNvSpPr/>
          <p:nvPr/>
        </p:nvSpPr>
        <p:spPr>
          <a:xfrm rot="303000">
            <a:off x="1017000" y="127800"/>
            <a:ext cx="3071520" cy="37699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Алеша Попович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76676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00240" indent="-3002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лёша Попо́вич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— фольклорный собирательный образ богатыря в русском былинном эпосе. Алёша Попович как младший входит третьим по значению в богатырскую троицу вместе с Ильёй Муромцем и Добрыней Никитичем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0" name="Picture 2" descr="Файл:Алеша Попович.jpg">
            <a:hlinkClick r:id="rId1"/>
          </p:cNvPr>
          <p:cNvPicPr/>
          <p:nvPr/>
        </p:nvPicPr>
        <p:blipFill>
          <a:blip r:embed="rId2"/>
          <a:stretch/>
        </p:blipFill>
        <p:spPr>
          <a:xfrm rot="258000">
            <a:off x="5370120" y="1257480"/>
            <a:ext cx="3214440" cy="4267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3360" y="1278000"/>
            <a:ext cx="4400280" cy="55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ыкновенно считается, что историческим прототипом Алёши Поповича послужил суздальский боярин Александр (Олеша) Попович. Согласно летописям, это был знаменитый «храбр» (отборный воин), служивший сначала Всеволоду Большое Гнездо, а затем его сыну Константину Всеволодовичу против его брата и претендента на владимирский стол Юрия Всеволодовича, причём Александр Попович сразил в поединках нескольких лучших воинов Юрия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3" name="Picture 2" descr="Файл:Silnyi bogatyr' Alesha Pop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3880" y="1285560"/>
            <a:ext cx="3571560" cy="44294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Русские Богатыри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icture 4">
            <a:hlinkClick r:id="rId1"/>
          </p:cNvPr>
          <p:cNvSpPr/>
          <p:nvPr/>
        </p:nvSpPr>
        <p:spPr>
          <a:xfrm rot="345000">
            <a:off x="320760" y="1601640"/>
            <a:ext cx="5076360" cy="380952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icture 6">
            <a:hlinkClick r:id="rId3"/>
          </p:cNvPr>
          <p:cNvSpPr/>
          <p:nvPr/>
        </p:nvSpPr>
        <p:spPr>
          <a:xfrm rot="21095400">
            <a:off x="5835600" y="1537920"/>
            <a:ext cx="2752200" cy="38095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4</TotalTime>
  <Application>LibreOffice/7.4.7.2$Linux_X86_64 LibreOffice_project/40$Build-2</Application>
  <AppVersion>15.0000</AppVersion>
  <Words>297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09-11-12T08:22:18Z</dcterms:modified>
  <cp:revision>4</cp:revision>
  <dc:subject/>
  <dc:title>  Былины Герои шагнули со страниц книг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