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548-CCA6-4023-8D8B-5AC59B39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F2B-2202-4A71-B908-820382DA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7E2-E807-43E4-B17C-8659C89A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94B-D5C2-4061-999C-6B2539A3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738-1E45-4ACC-B4E0-2462DD05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B73-194F-4518-A7EB-AF68595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861B-3369-489D-BCBF-500F6464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1640-B439-4783-8F70-65AEAD45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1F0-04A6-4401-9225-E51300CF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CC7-A3C9-425C-8BCB-5289244A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5AE-E004-40D2-890F-F89E059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824-0B2B-4F45-A4C2-62D3F28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6CF-8A6E-497C-81F9-0D8F12E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4AC8-2D42-4318-A2D6-0006110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5C1-492C-4692-8524-3DA70550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C16-5F88-476E-A4B2-303522A5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9A3-B283-4564-8AD9-9FBC030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DA6-CFC8-42B8-8F2C-6677717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68F-CE93-497F-88D2-10CC5C1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362-4260-4BBA-8054-61AC962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7B8-0FA5-4B0E-8E04-9EAE0DDB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BCC-2F58-42B5-8FC1-23EB839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A7E-E0C4-43F5-88AE-EFE4AAF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2D4-BDF2-4E13-B4AF-DE1A21A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4E0A4A-5C3E-495D-8D45-71BC3234B5C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41A8D3-470D-4093-A761-A494F303862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e_drei_Bogaty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jplus.ru/img4/m/a/madmaster/_0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2/thumbs/1234929194_bogatyri.jp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reamworlds.ru/uploads/posts/2009-10/thumbs/1254665637_f_497042ec08ec4.jp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a/Vastnetsov_191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9/Muromets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3/Dobriny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&#1044;&#1086;&#1073;&#1088;&#1099;&#1085;&#1103;_&#1053;&#1080;&#1082;&#1080;&#1090;&#1080;&#1095;.jpg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upload.wikimedia.org/wikipedia/commons/f/f4/Zmey.jp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6/&#1040;&#1083;&#1077;&#1096;&#1072;_&#1055;&#1086;&#1087;&#1086;&#1074;&#1080;&#1095;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2/Silnyi_bogatyr&apos;_Alesha_Popovich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8.blog.ru/lr/0913ac037285f9c6203aa9d8914751b6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img.ipvod.ru/ipvodimages/350x450/5416.jp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929360" cy="40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Богатыри</a:t>
            </a: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Герои шагнули со страниц книг…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28880" y="492912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4342a"/>
                </a:solidFill>
                <a:latin typeface="Franklin Gothic Book"/>
              </a:rPr>
              <a:t>Выполнил 6Б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cture 4">
            <a:hlinkClick r:id="rId1"/>
          </p:cNvPr>
          <p:cNvSpPr/>
          <p:nvPr/>
        </p:nvSpPr>
        <p:spPr>
          <a:xfrm>
            <a:off x="2571840" y="2786040"/>
            <a:ext cx="4000320" cy="26532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5960" y="6429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Спасибо за внимани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icture 2">
            <a:hlinkClick r:id="rId1"/>
          </p:cNvPr>
          <p:cNvSpPr/>
          <p:nvPr/>
        </p:nvSpPr>
        <p:spPr>
          <a:xfrm>
            <a:off x="1357200" y="2071800"/>
            <a:ext cx="6143400" cy="4114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icture 4">
            <a:hlinkClick r:id="rId1"/>
          </p:cNvPr>
          <p:cNvSpPr/>
          <p:nvPr/>
        </p:nvSpPr>
        <p:spPr>
          <a:xfrm rot="320400">
            <a:off x="414720" y="1463400"/>
            <a:ext cx="4025160" cy="4500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6">
            <a:hlinkClick r:id="rId3"/>
          </p:cNvPr>
          <p:cNvSpPr/>
          <p:nvPr/>
        </p:nvSpPr>
        <p:spPr>
          <a:xfrm rot="21133800">
            <a:off x="5290200" y="1412640"/>
            <a:ext cx="3242880" cy="45043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369540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Илья Муромец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7480" y="4564080"/>
            <a:ext cx="869616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́ Муромец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полное былинное имя —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 Муромец сын Ивано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 — один из главных героев русского былинного эпоса, богатырь, воплощающий народный идеал героя-воина, народного заступника. Фигурирует в киевском цикле былин: «Илья Муромец и Соловей-разбойник», «Илья Муромец и Идолищ Поганое», «Ссора Ильи Муромца с князем Владимиром», «Бой Ильи Муромца с Жидовином»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icture 5">
            <a:hlinkClick r:id="rId1"/>
          </p:cNvPr>
          <p:cNvSpPr/>
          <p:nvPr/>
        </p:nvSpPr>
        <p:spPr>
          <a:xfrm>
            <a:off x="4071960" y="642960"/>
            <a:ext cx="4428720" cy="37310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8384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гласно былинам, богатырь Илья Муромец до 30 лет «не владел» руками и ногами, а затем получил чудесное исцеление от старцев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амятник Илье Муромцу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" name="Picture 2" descr="Файл:Muromets2.jpg">
            <a:hlinkClick r:id="rId1"/>
          </p:cNvPr>
          <p:cNvPicPr/>
          <p:nvPr/>
        </p:nvPicPr>
        <p:blipFill>
          <a:blip r:embed="rId2"/>
          <a:stretch/>
        </p:blipFill>
        <p:spPr>
          <a:xfrm rot="583800">
            <a:off x="5241960" y="1364400"/>
            <a:ext cx="3357360" cy="454968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4096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обры́ня Ники́т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— второй по популярности после Ильи Муромца богатырь эпоса Киевской Руси. Он часто изображается служилым богатырём при князе Владимире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3" name="Picture 2" descr="Файл:Dobrin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928800"/>
            <a:ext cx="3857400" cy="5224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4143240"/>
            <a:ext cx="8686440" cy="24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9000"/>
          </a:bodyPr>
          <a:p>
            <a:pPr marL="3052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Былинные сюжеты, в которых участвует Добрыня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бьётся со змеем Горынычем на р. Пучае (иначе Израе) и освобождает племянницу князя Владимира Забаву Путятину или его дочь Марфину, или сестру Марью Дивовн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вместе с Дунаем едет к королю Ляховицкому, чтобы посвататься от имени Владимира за Апраксу-королевичну, которую затем и привозит в Киев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тречается с поляницей Настасьей, бьётся с ней, а затем женится на ней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езжает надолго от жены, которая собирается выйти замуж за Алёшу Поповича. Приезд в день свадьбы и расстраивает свадьб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icture 2">
            <a:hlinkClick r:id="rId1"/>
          </p:cNvPr>
          <p:cNvSpPr/>
          <p:nvPr/>
        </p:nvSpPr>
        <p:spPr>
          <a:xfrm rot="21337200">
            <a:off x="5714640" y="214200"/>
            <a:ext cx="3071520" cy="409788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3"/>
          </p:cNvPr>
          <p:cNvSpPr/>
          <p:nvPr/>
        </p:nvSpPr>
        <p:spPr>
          <a:xfrm rot="303000">
            <a:off x="1017000" y="127800"/>
            <a:ext cx="3071520" cy="37699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Алеша Попович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76676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лёша Попо́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— фольклорный собирательный образ богатыря в русском былинном эпосе. Алёша Попович как младший входит третьим по значению в богатырскую троицу вместе с Ильёй Муромцем и Добрыней Никитичем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0" name="Picture 2" descr="Файл:Алеша Попович.jpg">
            <a:hlinkClick r:id="rId1"/>
          </p:cNvPr>
          <p:cNvPicPr/>
          <p:nvPr/>
        </p:nvPicPr>
        <p:blipFill>
          <a:blip r:embed="rId2"/>
          <a:stretch/>
        </p:blipFill>
        <p:spPr>
          <a:xfrm rot="258000">
            <a:off x="5370120" y="1257480"/>
            <a:ext cx="3214440" cy="4267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3360" y="1278000"/>
            <a:ext cx="4400280" cy="55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ыкновенно считается, что историческим прототипом Алёши Поповича послужил суздальский боярин Александр (Олеша) Попович. Согласно летописям, это был знаменитый «храбр» (отборный воин), служивший сначала Всеволоду Большое Гнездо, а затем его сыну Константину Всеволодовичу против его брата и претендента на владимирский стол Юрия Всеволодовича, причём Александр Попович сразил в поединках нескольких лучших воинов Юри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3" name="Picture 2" descr="Файл:Silnyi bogatyr' Alesha Pop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3880" y="1285560"/>
            <a:ext cx="3571560" cy="44294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icture 4">
            <a:hlinkClick r:id="rId1"/>
          </p:cNvPr>
          <p:cNvSpPr/>
          <p:nvPr/>
        </p:nvSpPr>
        <p:spPr>
          <a:xfrm rot="345000">
            <a:off x="320760" y="1601640"/>
            <a:ext cx="5076360" cy="38095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icture 6">
            <a:hlinkClick r:id="rId3"/>
          </p:cNvPr>
          <p:cNvSpPr/>
          <p:nvPr/>
        </p:nvSpPr>
        <p:spPr>
          <a:xfrm rot="21095400">
            <a:off x="5835600" y="1537920"/>
            <a:ext cx="2752200" cy="38095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4</TotalTime>
  <Application>LibreOffice/7.4.7.2$Linux_X86_64 LibreOffice_project/40$Build-2</Application>
  <AppVersion>15.0000</AppVersion>
  <Words>297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2T08:22:18Z</dcterms:modified>
  <cp:revision>4</cp:revision>
  <dc:subject/>
  <dc:title>  Былины Герои шагнули со страниц книг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