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8DE-6866-4207-A8AC-3AC7E616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B7C-4AA6-4AA9-978E-F69C6A7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EEF-FA1C-4A28-A3D8-AE3C7D34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3B5-82D7-458B-8D47-F4370DEE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BD5-5FD8-4004-B341-063F8019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5FC-28EA-42EB-A485-BF22A13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46E-D19F-4CB2-B7FB-F1123C21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782-3BB7-4C37-9C51-AAE35C4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166-ACBB-43DA-BF36-5D28DDFB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3AD-3154-4689-B235-9E408D3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890-3A2F-477F-9824-0CC5F3D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9B4-CEC4-4E1D-BF29-52B2F7E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2F0-4D2C-4DF6-AB6C-64512BD4B5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 БАБЫ-ЯГИ в литературе и музык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286000"/>
            <a:ext cx="8501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интегрированному уроку литературы и музы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6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тютская Е.Е.  учитель музы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воздева О.А. учитель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У СПО ЧГ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зовательная программе общего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Чапаевск Самарской об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ворческая мастерска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2" descr="2_000_0"/>
          <p:cNvPicPr/>
          <p:nvPr/>
        </p:nvPicPr>
        <p:blipFill>
          <a:blip r:embed="rId1"/>
          <a:stretch/>
        </p:blipFill>
        <p:spPr>
          <a:xfrm>
            <a:off x="2556000" y="1052640"/>
            <a:ext cx="4005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_000_0"/>
          <p:cNvPicPr/>
          <p:nvPr/>
        </p:nvPicPr>
        <p:blipFill>
          <a:blip r:embed="rId1"/>
          <a:stretch/>
        </p:blipFill>
        <p:spPr>
          <a:xfrm>
            <a:off x="3749760" y="380880"/>
            <a:ext cx="164448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ический или тяжелый деревянный сосуд, в котором толкут что-либо. Здесь: деревянный предмет, Баба-Яга в нем летает по воздух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ту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ржень с утолщенным округленным концом, употребляемый для толчения чего-либо в ступ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ка с привязанным на конце пучками хвойных веток (или мочалом, тряпками) для обметания и прочищения труб (дымоходов, печ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мел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6_000_0"/>
          <p:cNvPicPr/>
          <p:nvPr/>
        </p:nvPicPr>
        <p:blipFill>
          <a:blip r:embed="rId1"/>
          <a:stretch/>
        </p:blipFill>
        <p:spPr>
          <a:xfrm>
            <a:off x="611280" y="476280"/>
            <a:ext cx="4078080" cy="561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88000" y="333000"/>
            <a:ext cx="3898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а-Яга, колдунья, ведьма, ужасное существо, засохшая карга, зловредная старуха, злая волшебница, чудовищное существ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1981080"/>
          <a:ext cx="8229600" cy="463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водимое впечат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обенности телосло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0" descr="5_000_0"/>
          <p:cNvPicPr/>
          <p:nvPr/>
        </p:nvPicPr>
        <p:blipFill>
          <a:blip r:embed="rId1"/>
          <a:stretch/>
        </p:blipFill>
        <p:spPr>
          <a:xfrm>
            <a:off x="7308720" y="189000"/>
            <a:ext cx="151776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изги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ч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навлива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пчется на мес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тся вприпрыж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ом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глядыв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и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ни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7" descr="3_000_0"/>
          <p:cNvPicPr/>
          <p:nvPr/>
        </p:nvPicPr>
        <p:blipFill>
          <a:blip r:embed="rId1"/>
          <a:stretch/>
        </p:blipFill>
        <p:spPr>
          <a:xfrm>
            <a:off x="4648320" y="1197000"/>
            <a:ext cx="4100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002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луш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рев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ист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ухомо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ревн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уп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0" descr="BARKBW"/>
          <p:cNvPicPr/>
          <p:nvPr/>
        </p:nvPicPr>
        <p:blipFill>
          <a:blip r:embed="rId1"/>
          <a:stretch/>
        </p:blipFill>
        <p:spPr>
          <a:xfrm>
            <a:off x="6227640" y="2205000"/>
            <a:ext cx="99720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лес9"/>
          <p:cNvPicPr/>
          <p:nvPr/>
        </p:nvPicPr>
        <p:blipFill>
          <a:blip r:embed="rId2"/>
          <a:stretch/>
        </p:blipFill>
        <p:spPr>
          <a:xfrm>
            <a:off x="5076720" y="836640"/>
            <a:ext cx="1355760" cy="89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лес1"/>
          <p:cNvPicPr/>
          <p:nvPr/>
        </p:nvPicPr>
        <p:blipFill>
          <a:blip r:embed="rId3"/>
          <a:stretch/>
        </p:blipFill>
        <p:spPr>
          <a:xfrm>
            <a:off x="5219640" y="3645000"/>
            <a:ext cx="1451160" cy="92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Времена года 1 - 03"/>
          <p:cNvPicPr/>
          <p:nvPr/>
        </p:nvPicPr>
        <p:blipFill>
          <a:blip r:embed="rId4"/>
          <a:stretch/>
        </p:blipFill>
        <p:spPr>
          <a:xfrm>
            <a:off x="2627280" y="1773360"/>
            <a:ext cx="1273320" cy="99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Горы 09"/>
          <p:cNvPicPr/>
          <p:nvPr/>
        </p:nvPicPr>
        <p:blipFill>
          <a:blip r:embed="rId5"/>
          <a:stretch/>
        </p:blipFill>
        <p:spPr>
          <a:xfrm>
            <a:off x="2050920" y="476280"/>
            <a:ext cx="1202040" cy="93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3_000_0"/>
          <p:cNvPicPr/>
          <p:nvPr/>
        </p:nvPicPr>
        <p:blipFill>
          <a:blip r:embed="rId6"/>
          <a:stretch/>
        </p:blipFill>
        <p:spPr>
          <a:xfrm>
            <a:off x="2843280" y="4292640"/>
            <a:ext cx="9255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ный ( но не обязательный!) пл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ление Бабы-Я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е внешний вид (портрет, одеж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о – злодей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новение Бабы-Я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4_000_0"/>
          <p:cNvPicPr/>
          <p:nvPr/>
        </p:nvPicPr>
        <p:blipFill>
          <a:blip r:embed="rId1"/>
          <a:stretch/>
        </p:blipFill>
        <p:spPr>
          <a:xfrm>
            <a:off x="2556000" y="3016080"/>
            <a:ext cx="367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_000_0"/>
          <p:cNvPicPr/>
          <p:nvPr/>
        </p:nvPicPr>
        <p:blipFill>
          <a:blip r:embed="rId1"/>
          <a:stretch/>
        </p:blipFill>
        <p:spPr>
          <a:xfrm>
            <a:off x="2535120" y="380880"/>
            <a:ext cx="4073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Отсканир_0"/>
          <p:cNvPicPr/>
          <p:nvPr/>
        </p:nvPicPr>
        <p:blipFill>
          <a:blip r:embed="rId1"/>
          <a:stretch/>
        </p:blipFill>
        <p:spPr>
          <a:xfrm>
            <a:off x="4716360" y="476280"/>
            <a:ext cx="3489480" cy="453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р Ильич Чай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40 - 18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0351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Детский альб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Баба - Я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1_000_0"/>
          <p:cNvPicPr/>
          <p:nvPr/>
        </p:nvPicPr>
        <p:blipFill>
          <a:blip r:embed="rId1"/>
          <a:stretch/>
        </p:blipFill>
        <p:spPr>
          <a:xfrm>
            <a:off x="3708360" y="549360"/>
            <a:ext cx="4977000" cy="554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Отсканир_0"/>
          <p:cNvPicPr/>
          <p:nvPr/>
        </p:nvPicPr>
        <p:blipFill>
          <a:blip r:embed="rId1"/>
          <a:stretch/>
        </p:blipFill>
        <p:spPr>
          <a:xfrm>
            <a:off x="2484360" y="237960"/>
            <a:ext cx="4896000" cy="4765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дест Петрович Мусорг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39 – 188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Картинки с выстав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тавка картин художника В.А. Гарт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Отсканир_0"/>
          <p:cNvPicPr/>
          <p:nvPr/>
        </p:nvPicPr>
        <p:blipFill>
          <a:blip r:embed="rId1"/>
          <a:stretch/>
        </p:blipFill>
        <p:spPr>
          <a:xfrm>
            <a:off x="611280" y="2565360"/>
            <a:ext cx="8064360" cy="346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Отсканир_0"/>
          <p:cNvPicPr/>
          <p:nvPr/>
        </p:nvPicPr>
        <p:blipFill>
          <a:blip r:embed="rId1"/>
          <a:stretch/>
        </p:blipFill>
        <p:spPr>
          <a:xfrm>
            <a:off x="950760" y="404640"/>
            <a:ext cx="4218120" cy="5691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96000" y="404280"/>
            <a:ext cx="289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збушка на курьих ножках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_000_0"/>
          <p:cNvPicPr/>
          <p:nvPr/>
        </p:nvPicPr>
        <p:blipFill>
          <a:blip r:embed="rId1"/>
          <a:stretch/>
        </p:blipFill>
        <p:spPr>
          <a:xfrm>
            <a:off x="2535120" y="380880"/>
            <a:ext cx="4073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нализ произвед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И.Чайковский «Баба-Я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с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.Мусоргский «Избушка на курьих ножк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т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с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ализ произвед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И.Чайковский «Баба-Я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одия – диссон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 – зловещий, устраш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 – быстр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– гром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тм – двухдо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 - сред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.Мусоргский «Избушка на курьих ножк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одия – диссон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 -  тревожный, беспокой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 – убыстряющи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– гром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тм – двухдо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 - низ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43:54Z</dcterms:created>
  <dc:creator>Клиент</dc:creator>
  <dc:description/>
  <dc:language>en-US</dc:language>
  <cp:lastModifiedBy>Admin</cp:lastModifiedBy>
  <dcterms:modified xsi:type="dcterms:W3CDTF">2010-08-23T16:11:39Z</dcterms:modified>
  <cp:revision>18</cp:revision>
  <dc:subject/>
  <dc:title>Слайд 1</dc:title>
</cp:coreProperties>
</file>