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2CF-9A9B-4846-8D3F-BF0CCC94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7AD-3AFB-4399-A78C-88751471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3288-83E3-4DEB-8C20-B21D5AF2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C22C-49AA-43EA-9E10-E65A7429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9BC-79E9-4D43-8ED3-2D270BD9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ABC-0B14-427B-94B6-E00A7BE1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FBE-349B-4E6F-9165-08C37A1F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FCA-D871-4633-862C-40E42072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05E-84D3-431F-85DA-C598ECEE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BC3-DD7C-4B87-92A5-C5D62814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B00E-EF54-4AC6-BB76-1F350F09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17BC-BF53-4634-8A8A-AC1AB4F8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E3DB-27D7-4A29-AE50-0557B54747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БРАЗ БАБЫ-ЯГИ в литературе и музык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840" y="2286000"/>
            <a:ext cx="85010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к интегрированному уроку литературы и музы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6 кла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то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тютская Е.Е.  учитель музы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воздева О.А. учитель литерату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У СПО ЧГ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разовательная программе общего образо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.Чапаевск Самарской об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Творческая мастерска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2" descr="2_000_0"/>
          <p:cNvPicPr/>
          <p:nvPr/>
        </p:nvPicPr>
        <p:blipFill>
          <a:blip r:embed="rId1"/>
          <a:stretch/>
        </p:blipFill>
        <p:spPr>
          <a:xfrm>
            <a:off x="2556000" y="1052640"/>
            <a:ext cx="4005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7_000_0"/>
          <p:cNvPicPr/>
          <p:nvPr/>
        </p:nvPicPr>
        <p:blipFill>
          <a:blip r:embed="rId1"/>
          <a:stretch/>
        </p:blipFill>
        <p:spPr>
          <a:xfrm>
            <a:off x="3749760" y="380880"/>
            <a:ext cx="1644480" cy="13716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аллический или тяжелый деревянный сосуд, в котором толкут что-либо. Здесь: деревянный предмет, Баба-Яга в нем летает по воздух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туп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ржень с утолщенным округленным концом, употребляемый для толчения чего-либо в ступ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пе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лка с привязанным на конце пучками хвойных веток (или мочалом, тряпками) для обметания и прочищения труб (дымоходов, пече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помел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6_000_0"/>
          <p:cNvPicPr/>
          <p:nvPr/>
        </p:nvPicPr>
        <p:blipFill>
          <a:blip r:embed="rId1"/>
          <a:stretch/>
        </p:blipFill>
        <p:spPr>
          <a:xfrm>
            <a:off x="611280" y="476280"/>
            <a:ext cx="4078080" cy="5616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788000" y="333000"/>
            <a:ext cx="3898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ба-Яга, колдунья, ведьма, ужасное существо, засохшая карга, зловредная старуха, злая волшебница, чудовищное существо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57200" y="1981080"/>
          <a:ext cx="8229600" cy="4632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изводимое впечат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обенности телослож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ц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лаз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л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еж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30" descr="5_000_0"/>
          <p:cNvPicPr/>
          <p:nvPr/>
        </p:nvPicPr>
        <p:blipFill>
          <a:blip r:embed="rId1"/>
          <a:stretch/>
        </p:blipFill>
        <p:spPr>
          <a:xfrm>
            <a:off x="7308720" y="189000"/>
            <a:ext cx="151776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изгива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рча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етс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анавливаетс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пчется на мест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ижется вприпрыжк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рома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глядыва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литс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рани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17" descr="3_000_0"/>
          <p:cNvPicPr/>
          <p:nvPr/>
        </p:nvPicPr>
        <p:blipFill>
          <a:blip r:embed="rId1"/>
          <a:stretch/>
        </p:blipFill>
        <p:spPr>
          <a:xfrm>
            <a:off x="4648320" y="1197000"/>
            <a:ext cx="41004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002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глуш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еревь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исть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ухомор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ревн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туп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10" descr="BARKBW"/>
          <p:cNvPicPr/>
          <p:nvPr/>
        </p:nvPicPr>
        <p:blipFill>
          <a:blip r:embed="rId1"/>
          <a:stretch/>
        </p:blipFill>
        <p:spPr>
          <a:xfrm>
            <a:off x="6227640" y="2205000"/>
            <a:ext cx="997200" cy="99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лес9"/>
          <p:cNvPicPr/>
          <p:nvPr/>
        </p:nvPicPr>
        <p:blipFill>
          <a:blip r:embed="rId2"/>
          <a:stretch/>
        </p:blipFill>
        <p:spPr>
          <a:xfrm>
            <a:off x="5076720" y="836640"/>
            <a:ext cx="1355760" cy="898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лес1"/>
          <p:cNvPicPr/>
          <p:nvPr/>
        </p:nvPicPr>
        <p:blipFill>
          <a:blip r:embed="rId3"/>
          <a:stretch/>
        </p:blipFill>
        <p:spPr>
          <a:xfrm>
            <a:off x="5219640" y="3645000"/>
            <a:ext cx="1451160" cy="922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Времена года 1 - 03"/>
          <p:cNvPicPr/>
          <p:nvPr/>
        </p:nvPicPr>
        <p:blipFill>
          <a:blip r:embed="rId4"/>
          <a:stretch/>
        </p:blipFill>
        <p:spPr>
          <a:xfrm>
            <a:off x="2627280" y="1773360"/>
            <a:ext cx="1273320" cy="996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Горы 09"/>
          <p:cNvPicPr/>
          <p:nvPr/>
        </p:nvPicPr>
        <p:blipFill>
          <a:blip r:embed="rId5"/>
          <a:stretch/>
        </p:blipFill>
        <p:spPr>
          <a:xfrm>
            <a:off x="2050920" y="476280"/>
            <a:ext cx="1202040" cy="931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3_000_0"/>
          <p:cNvPicPr/>
          <p:nvPr/>
        </p:nvPicPr>
        <p:blipFill>
          <a:blip r:embed="rId6"/>
          <a:stretch/>
        </p:blipFill>
        <p:spPr>
          <a:xfrm>
            <a:off x="2843280" y="4292640"/>
            <a:ext cx="9255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рный ( но не обязательный!) пл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явление Бабы-Яг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е внешний вид (портрет, одежд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йство – злодейст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чезновение Бабы-Яг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4" descr="4_000_0"/>
          <p:cNvPicPr/>
          <p:nvPr/>
        </p:nvPicPr>
        <p:blipFill>
          <a:blip r:embed="rId1"/>
          <a:stretch/>
        </p:blipFill>
        <p:spPr>
          <a:xfrm>
            <a:off x="2556000" y="3016080"/>
            <a:ext cx="36716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_000_0"/>
          <p:cNvPicPr/>
          <p:nvPr/>
        </p:nvPicPr>
        <p:blipFill>
          <a:blip r:embed="rId1"/>
          <a:stretch/>
        </p:blipFill>
        <p:spPr>
          <a:xfrm>
            <a:off x="2535120" y="380880"/>
            <a:ext cx="40737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Отсканир_0"/>
          <p:cNvPicPr/>
          <p:nvPr/>
        </p:nvPicPr>
        <p:blipFill>
          <a:blip r:embed="rId1"/>
          <a:stretch/>
        </p:blipFill>
        <p:spPr>
          <a:xfrm>
            <a:off x="4716360" y="476280"/>
            <a:ext cx="3489480" cy="4537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22900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тр Ильич Чайко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40 - 189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30351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Детский альбом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Баба - Яг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5" descr="1_000_0"/>
          <p:cNvPicPr/>
          <p:nvPr/>
        </p:nvPicPr>
        <p:blipFill>
          <a:blip r:embed="rId1"/>
          <a:stretch/>
        </p:blipFill>
        <p:spPr>
          <a:xfrm>
            <a:off x="3708360" y="549360"/>
            <a:ext cx="4977000" cy="5546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Отсканир_0"/>
          <p:cNvPicPr/>
          <p:nvPr/>
        </p:nvPicPr>
        <p:blipFill>
          <a:blip r:embed="rId1"/>
          <a:stretch/>
        </p:blipFill>
        <p:spPr>
          <a:xfrm>
            <a:off x="2484360" y="237960"/>
            <a:ext cx="4896000" cy="4765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1577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дест Петрович Мусорг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39 – 188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«Картинки с выставки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ставка картин художника В.А. Гартм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Отсканир_0"/>
          <p:cNvPicPr/>
          <p:nvPr/>
        </p:nvPicPr>
        <p:blipFill>
          <a:blip r:embed="rId1"/>
          <a:stretch/>
        </p:blipFill>
        <p:spPr>
          <a:xfrm>
            <a:off x="611280" y="2565360"/>
            <a:ext cx="8064360" cy="3465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Отсканир_0"/>
          <p:cNvPicPr/>
          <p:nvPr/>
        </p:nvPicPr>
        <p:blipFill>
          <a:blip r:embed="rId1"/>
          <a:stretch/>
        </p:blipFill>
        <p:spPr>
          <a:xfrm>
            <a:off x="950760" y="404640"/>
            <a:ext cx="4218120" cy="5691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796000" y="404280"/>
            <a:ext cx="2890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Избушка на курьих ножках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2_000_0"/>
          <p:cNvPicPr/>
          <p:nvPr/>
        </p:nvPicPr>
        <p:blipFill>
          <a:blip r:embed="rId1"/>
          <a:stretch/>
        </p:blipFill>
        <p:spPr>
          <a:xfrm>
            <a:off x="2535120" y="380880"/>
            <a:ext cx="40737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нализ произведен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.И.Чайковский «Баба-Яг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ло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ракте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м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нам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ит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гист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484280"/>
            <a:ext cx="4038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.П.Мусоргский «Избушка на курьих ножках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ло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ракте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м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нам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ит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гист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нализ произведен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.И.Чайковский «Баба-Яг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лодия – диссонан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 – зловещий, устрашающ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мп – быстр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намика – гром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тм – двухдоль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истр - сред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.П.Мусоргский «Избушка на курьих ножках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лодия – диссонан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 -  тревожный, беспокой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мп – убыстряющий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намика – гром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тм – двухдоль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истр - низ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3:43:54Z</dcterms:created>
  <dc:creator>Клиент</dc:creator>
  <dc:description/>
  <dc:language>en-US</dc:language>
  <cp:lastModifiedBy>Admin</cp:lastModifiedBy>
  <dcterms:modified xsi:type="dcterms:W3CDTF">2010-08-23T16:11:39Z</dcterms:modified>
  <cp:revision>18</cp:revision>
  <dc:subject/>
  <dc:title>Слайд 1</dc:title>
</cp:coreProperties>
</file>