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FF91-7D8E-49DB-98DE-D80A78AA0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E7BB-E677-45CA-8401-18C19892B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09B3-4EF9-4AD4-B621-5EAFAF7F3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CF61-B20E-4794-8499-6C4DFAEEF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CB68-8974-4B6C-AF28-50DCCDF2B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8DE1-0922-40B9-BA60-2A720394F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574D-8CB7-47BA-94E9-FFA049BEB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B26B-55F7-4BBA-84F2-C8287AA34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C079-6968-4334-90B0-BFB6E36D3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5007-7968-40E2-9314-956B7F1C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5949-5A6F-48D2-819B-4C194711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90F5-F714-440F-AC95-CA576C00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2486C-49CE-4C74-9FE4-5BAF9C41B66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2"/>
          <a:stretch/>
        </p:blipFill>
        <p:spPr>
          <a:xfrm>
            <a:off x="1122480" y="993600"/>
            <a:ext cx="6594480" cy="2730600"/>
          </a:xfrm>
          <a:prstGeom prst="rect">
            <a:avLst/>
          </a:prstGeom>
          <a:ln w="0">
            <a:noFill/>
          </a:ln>
        </p:spPr>
      </p:pic>
      <p:pic>
        <p:nvPicPr>
          <p:cNvPr id="42" name="Подзаголовок 2" descr=""/>
          <p:cNvPicPr/>
          <p:nvPr/>
        </p:nvPicPr>
        <p:blipFill>
          <a:blip r:embed="rId3"/>
          <a:stretch/>
        </p:blipFill>
        <p:spPr>
          <a:xfrm>
            <a:off x="1901880" y="3822840"/>
            <a:ext cx="534024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Методические объеди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 учителей начальных класс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 учителей гуманитарного цик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 учителей художественно-эстетических дисципли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 учителей естественно-математического цик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Заголовок 1"/>
          <p:cNvSpPr/>
          <p:nvPr/>
        </p:nvSpPr>
        <p:spPr>
          <a:xfrm>
            <a:off x="1219320" y="472428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Изменятся сроки проведения  предметных дек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Заголовок 1" descr=""/>
          <p:cNvPicPr/>
          <p:nvPr/>
        </p:nvPicPr>
        <p:blipFill>
          <a:blip r:embed="rId1"/>
          <a:stretch/>
        </p:blipFill>
        <p:spPr>
          <a:xfrm>
            <a:off x="530280" y="60480"/>
            <a:ext cx="8289720" cy="1244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371600" y="1447560"/>
            <a:ext cx="7238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f4b4b"/>
                </a:solidFill>
                <a:latin typeface="Times New Roman"/>
              </a:rPr>
              <a:t>Основная цель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f4b4b"/>
                </a:solidFill>
                <a:latin typeface="Times New Roman"/>
              </a:rPr>
              <a:t>   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</a:rPr>
              <a:t>создание такого образовательного пространства, которое формирует личность, способную жить в ситуации социальной неопределенности, ставящей перед личностью вопросы и требующих от нее самостоятельных ответов, создание системы обучения, обеспечивающей развитие каждого ученика в соответствии с его интересами, возможностям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 на 2012 – 2013 уч.г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14400" y="6858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601"/>
              </a:spcBef>
              <a:buClr>
                <a:srgbClr val="a28e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должить работу над методической темой школ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601"/>
              </a:spcBef>
              <a:buClr>
                <a:srgbClr val="a28e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еспечить непрерывность образования педагогических кадров через систему повышения квалифика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601"/>
              </a:spcBef>
              <a:buClr>
                <a:srgbClr val="a28e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вершенствовать систему мониторинга и диагностики успешности образования, уровня профессиональной компетентности и методической подготовки педагог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601"/>
              </a:spcBef>
              <a:buClr>
                <a:srgbClr val="a28e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ктивизировать работу педагогического коллектива по организации исследовательской, проектной деятельности учащихс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601"/>
              </a:spcBef>
              <a:buClr>
                <a:srgbClr val="a28e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должить изучение и внедрение в практику работы школы здоровьесберегающих технологий в урочной и внеурочной педагогической деятель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601"/>
              </a:spcBef>
              <a:buClr>
                <a:srgbClr val="a28e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илить воспитательный потенциал школы, обеспечить индивидуальное педагогическое сопровождение учащих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равления методической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762120" y="17521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00"/>
              </a:spcBef>
              <a:buClr>
                <a:srgbClr val="a28e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бота методического совет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700"/>
              </a:spcBef>
              <a:buClr>
                <a:srgbClr val="a28e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бота с методическими объединениям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700"/>
              </a:spcBef>
              <a:buClr>
                <a:srgbClr val="a28e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вышение квалификации, педагогического мастерств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700"/>
              </a:spcBef>
              <a:buClr>
                <a:srgbClr val="a28e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учно-исследовательская работа учащихся и учител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ходя из результатов работы в 2011 – 2012 уч. го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144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601"/>
              </a:spcBef>
              <a:buClr>
                <a:srgbClr val="a28e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2012-2013 учебном году настоятельно рекомендуется обобщить работу по выявлению и распространению актуального/ передового педагогического опы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601"/>
              </a:spcBef>
              <a:buClr>
                <a:srgbClr val="a28e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целью повышения роста профессионального мастерства продолжить курировать вопросы повышения квалификации и аттестации педагогических кад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601"/>
              </a:spcBef>
              <a:buClr>
                <a:srgbClr val="a28e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имулировать участие педагогов школы в городских, областных семинарах, областных, Всероссийских конференциях, педагогических чтениях, а также участие в национальных проектах, городских, областных программах по различным направлениям образовательной деятельности согласно критериям оценки результативности профессиональной деятель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53352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вести в постоянную практику организацию и проведение единых методических дней и обучающих семинар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ктивизировать работу учителей  над темами по самообразован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должить работу  по приобщению учащихся и учителей к научно-исследовательской работе, с целью создания научного общества учащих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863640" y="411480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сновная цель всей методической работы  - разработать программу развития шко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Результаты муниципального этапа Всероссийской олимпиады школь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04920" y="1066680"/>
          <a:ext cx="8592840" cy="3546720"/>
        </p:xfrm>
        <a:graphic>
          <a:graphicData uri="http://schemas.openxmlformats.org/drawingml/2006/table">
            <a:tbl>
              <a:tblPr/>
              <a:tblGrid>
                <a:gridCol w="469800"/>
                <a:gridCol w="2301840"/>
                <a:gridCol w="1039680"/>
                <a:gridCol w="1519560"/>
                <a:gridCol w="1473120"/>
                <a:gridCol w="17888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.И. УЧЕН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ИД  ДИПЛО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ЕДМ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Ч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дрявцева Екатерин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з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сский язы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удникова Т.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раменко Але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з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сский язы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илякова Л.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димкина Екатер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з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еограф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лосова Е.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арасова Наталь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з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сский язы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лякина Т.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здря Анастас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з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тератур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илякова Л.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ныптева Кс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з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тератур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рсикова Г.Ф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ротикова Рег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бед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ирокова Н.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анкова Евг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з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ирокова Н.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</a:tbl>
          </a:graphicData>
        </a:graphic>
      </p:graphicFrame>
      <p:sp>
        <p:nvSpPr>
          <p:cNvPr id="55" name="Прямоугольник 4"/>
          <p:cNvSpPr/>
          <p:nvPr/>
        </p:nvSpPr>
        <p:spPr>
          <a:xfrm>
            <a:off x="1676520" y="472428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Продолжить работу над выявлением одарённых детей по различным направлениям с целью их дальнейшей подготовки к участию  в олимпиадах различного вида и уров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Проектно-исследовательская деятельность учащихся. Конференция «Шаг в науку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Цель конференции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здание творческой образовательной среды для учащихся и педагогов и активное приобщение учащихся к исследовательской работе, связанной с решением актуальных пробле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Самообразование педагог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тодическая самообразовательная работа  целостная система, направленная на достижение результатов – промежуточных и конечных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ё цель - повышение квалификации, восполнение пробелов и недостатков учебного курса, его усовершенствование. Самообразование учителя - необходимое условие эффективности педагогической деятель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4T10:16:19Z</dcterms:created>
  <dc:creator>Татьяна</dc:creator>
  <dc:description/>
  <dc:language>en-US</dc:language>
  <cp:lastModifiedBy>XTreme</cp:lastModifiedBy>
  <dcterms:modified xsi:type="dcterms:W3CDTF">2005-10-30T23:13:51Z</dcterms:modified>
  <cp:revision>14</cp:revision>
  <dc:subject/>
  <dc:title>Интерактивные  методы обучения</dc:title>
</cp:coreProperties>
</file>