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878A-0C8B-4A52-9D90-8048F579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2EDD-0C73-44D2-AFF6-FDA47D80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CF67-D181-4122-B2A4-643A691A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A4FA-7CF2-49C6-96BA-08C20A186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F270-ABE3-4087-A183-62B92666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5255-362D-415D-9E5E-20E3B72C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A43B-0CC3-4975-A802-FD9CB422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28AF-4C72-476D-A65D-B3089E93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BBAE-3AF5-4D7C-AFA5-2A68884A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9794-138C-4573-AFBF-0B36250E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00E5-1B7F-4947-9F82-CB6D881A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1053-04CF-41D9-9A55-1629F7D6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4F44-EF00-4704-8756-3F8D42B114B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1122480" y="993600"/>
            <a:ext cx="6594480" cy="2730600"/>
          </a:xfrm>
          <a:prstGeom prst="rect">
            <a:avLst/>
          </a:prstGeom>
          <a:ln w="0">
            <a:noFill/>
          </a:ln>
        </p:spPr>
      </p:pic>
      <p:pic>
        <p:nvPicPr>
          <p:cNvPr id="42" name="Подзаголовок 2" descr=""/>
          <p:cNvPicPr/>
          <p:nvPr/>
        </p:nvPicPr>
        <p:blipFill>
          <a:blip r:embed="rId3"/>
          <a:stretch/>
        </p:blipFill>
        <p:spPr>
          <a:xfrm>
            <a:off x="1901880" y="3822840"/>
            <a:ext cx="534024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Методические объ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 учителей начальных класс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 учителей гуманитарного цик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 учителей художественно-эстетических дисципл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 учителей естественно-математического цик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1219320" y="472428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Изменятся сроки проведения  предметных дек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530280" y="60480"/>
            <a:ext cx="8289720" cy="1244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371600" y="144756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f4b4b"/>
                </a:solidFill>
                <a:latin typeface="Times New Roman"/>
              </a:rPr>
              <a:t>Основная цель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f4b4b"/>
                </a:solidFill>
                <a:latin typeface="Times New Roman"/>
              </a:rPr>
              <a:t> 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создание такого образовательного пространства, которое формирует личность, способную жить в ситуации социальной неопределенности, ставящей перед личностью вопросы и требующих от нее самостоятельных ответов, создание системы обучения, обеспечивающей развитие каждого ученика в соответствии с его интересами, возможностя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на 2012 – 2013 уч.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14400" y="6858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олжить работу над методической темой шко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601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ить непрерывность образования педагогических кадров через систему повышения квалифик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601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ершенствовать систему мониторинга и диагностики успешности образования, уровня профессиональной компетентности и методической подготовки педагог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601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тивизировать работу педагогического коллектива по организации исследовательской, проектной деятельности учащих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601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олжить изучение и внедрение в практику работы школы здоровьесберегающих технологий в урочной и внеурочной педагог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601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илить воспитательный потенциал школы, обеспечить индивидуальное педагогическое сопровождение учащих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авления методическ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62120" y="17521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а методического совет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7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а с методическими объединениям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7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ышение квалификации, педагогического мастерств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7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чно-исследовательская работа учащихся и учите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ходя из результатов работы в 2011 – 2012 уч. го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144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2012-2013 учебном году настоятельно рекомендуется обобщить работу по выявлению и распространению актуального/ передового педагогического опы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601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целью повышения роста профессионального мастерства продолжить курировать вопросы повышения квалификации и аттестации педагогических кад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601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имулировать участие педагогов школы в городских, областных семинарах, областных, Всероссийских конференциях, педагогических чтениях, а также участие в национальных проектах, городских, областных программах по различным направлениям образовательной деятельности согласно критериям оценки результативности профессиональной деятель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3352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вести в постоянную практику организацию и проведение единых методических дней и обучающих семина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тивизировать работу учителей  над темами по самообразован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олжить работу  по приобщению учащихся и учителей к научно-исследовательской работе, с целью создания научного общества учащих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863640" y="411480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сновная цель всей методической работы  - разработать программу развития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Результаты муниципального этапа Всероссийской олимпиады шк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04920" y="1066680"/>
          <a:ext cx="8592840" cy="3546720"/>
        </p:xfrm>
        <a:graphic>
          <a:graphicData uri="http://schemas.openxmlformats.org/drawingml/2006/table">
            <a:tbl>
              <a:tblPr/>
              <a:tblGrid>
                <a:gridCol w="469800"/>
                <a:gridCol w="2301840"/>
                <a:gridCol w="1039680"/>
                <a:gridCol w="1519560"/>
                <a:gridCol w="1473120"/>
                <a:gridCol w="17888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.И. УЧЕ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Д  ДИПЛО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М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Ч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дрявцева Екатери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с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удникова Т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раменко Ал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с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лякова Л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димкина Екатер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ограф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лосова Е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расова Натал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с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якина Т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здря Анаста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терату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лякова Л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ныптева Кс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терату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сикова Г.Ф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ротикова Рег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бед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окова Н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нкова Евг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окова Н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  <p:sp>
        <p:nvSpPr>
          <p:cNvPr id="55" name="Прямоугольник 4"/>
          <p:cNvSpPr/>
          <p:nvPr/>
        </p:nvSpPr>
        <p:spPr>
          <a:xfrm>
            <a:off x="1676520" y="47242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одолжить работу над выявлением одарённых детей по различным направлениям с целью их дальнейшей подготовки к участию  в олимпиадах различного вида и уров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роектно-исследовательская деятельность учащихся. Конференция «Шаг в наук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ль конференции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ние творческой образовательной среды для учащихся и педагогов и активное приобщение учащихся к исследовательской работе, связанной с решением актуальных пробл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Самообразование педаг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одическая самообразовательная работа  целостная система, направленная на достижение результатов – промежуточных и конечны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ё цель - повышение квалификации, восполнение пробелов и недостатков учебного курса, его усовершенствование. Самообразование учителя - необходимое условие эффективности педагогической деятель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0:16:19Z</dcterms:created>
  <dc:creator>Татьяна</dc:creator>
  <dc:description/>
  <dc:language>en-US</dc:language>
  <cp:lastModifiedBy>XTreme</cp:lastModifiedBy>
  <dcterms:modified xsi:type="dcterms:W3CDTF">2005-10-30T23:13:51Z</dcterms:modified>
  <cp:revision>14</cp:revision>
  <dc:subject/>
  <dc:title>Интерактивные  методы обучения</dc:title>
</cp:coreProperties>
</file>