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E6F-83F1-4F6C-B29D-6883EFBA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574-D157-4546-A12A-EF12601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1CE-8C0C-429F-A8D9-1B97D37E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466-1B85-434E-9744-E81AA264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F4D-2316-4B65-B633-3FFE2BF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66C-A7F3-42C7-8940-722B5442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3A9-2B4D-4980-AFC5-ADC1A773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A71-30AA-497B-9A26-BD414E2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313-5916-4B6B-AF18-5554F25C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F25-3789-4B62-82D7-D595733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0BD-B174-4029-B3A0-A10064C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B96-32AC-4382-822D-A60F6CF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F2E5-1042-47E8-BFD8-23BCB23123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1122480" y="993600"/>
            <a:ext cx="6594480" cy="27306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01880" y="3822840"/>
            <a:ext cx="5340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гуманитарн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художественно-эстетических дисцип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1219320" y="4724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зменятся сроки проведения  предметных дек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30280" y="60480"/>
            <a:ext cx="8289720" cy="124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7160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4b4b"/>
                </a:solidFill>
                <a:latin typeface="Times New Roman"/>
              </a:rPr>
              <a:t>Основная це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4b4b"/>
                </a:solidFill>
                <a:latin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создание такого образовательного пространства, которое формирует личность, способную жить в ситуации социальной неопределенности, ставящей перед личностью вопросы и требующих от нее самостоятельных ответов, создание системы обучения, обеспечивающей развитие каждого ученика в соответствии с его интересами, возможностя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2012 – 2013 уч.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над методической тем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непрерывность образования педагогических кадров через систему повышения квал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ть систему мониторинга и диагностики успешности образования, уровня профессиональной компетентности и методической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педагогического коллектива по организации исследовательской, проектной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изучение и внедрение в практику работы школы здоровьесберегающих технологий в урочной и внеурочной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ть воспитательный потенциал школы, обеспечить индивидуальное педагогическое сопровождение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7521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методического со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методическими объединения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квалификации, педагогического мастер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исследовательская работа учащихся и уч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одя из результатов работы в 2011 – 2012 уч. г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12-2013 учебном году настоятельно рекомендуется обобщить работу по выявлению и распространению актуального/ передов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целью повышения роста профессионального мастерства продолжить курировать вопросы повышения квалификации и аттестации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овать участие педагогов школы в городских, областных семинарах, областных, Всероссийских конференциях, педагогических чтениях, а также участие в национальных проектах, городских, областных программах по различным направлениям образовательной деятельности согласно критериям оценки результативности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в постоянную практику организацию и проведение единых методических дней и обучающих семин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учителей  над темами по само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 по приобщению учащихся и учителей к научно-исследовательской работе, с целью создания научного общества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863640" y="41148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ая цель всей методической работы  - разработать программу развития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зультаты муниципального этапа Всероссийской олимпиады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066680"/>
          <a:ext cx="8592840" cy="3546720"/>
        </p:xfrm>
        <a:graphic>
          <a:graphicData uri="http://schemas.openxmlformats.org/drawingml/2006/table">
            <a:tbl>
              <a:tblPr/>
              <a:tblGrid>
                <a:gridCol w="469800"/>
                <a:gridCol w="2301840"/>
                <a:gridCol w="1039680"/>
                <a:gridCol w="1519560"/>
                <a:gridCol w="1473120"/>
                <a:gridCol w="178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.И.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 ДИПЛ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дрявцева Екате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удников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раменко А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мкин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расова Ната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якин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я 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ныптева 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сикова Г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тикова Рег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кова Евг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4"/>
          <p:cNvSpPr/>
          <p:nvPr/>
        </p:nvSpPr>
        <p:spPr>
          <a:xfrm>
            <a:off x="1676520" y="4724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должить работу над выявлением одарённых детей по различным направлениям с целью их дальнейшей подготовки к участию  в олимпиадах различного вида и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ектно-исследовательская деятельность учащихся. Конференция «Шаг в нау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конференци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творческой образовательной среды для учащихся и педагогов и активное приобщение учащихся к исследовательской работе, связанной с решением актуальных проб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амообразование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самообразовательная работа  целостная система, направленная на достижение результатов – промежуточных и конечны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цель - повышение квалификации, восполнение пробелов и недостатков учебного курса, его усовершенствование. Самообразование учителя - необходимое условие эффективност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XTreme</cp:lastModifiedBy>
  <dcterms:modified xsi:type="dcterms:W3CDTF">2005-10-30T23:13:51Z</dcterms:modified>
  <cp:revision>14</cp:revision>
  <dc:subject/>
  <dc:title>Интерактивные  методы обучения</dc:title>
</cp:coreProperties>
</file>