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DBF-37D4-4ED7-881B-EAF57449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55A-25A7-4C8C-BBFB-4571FEA5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465-2D8C-4DB8-9E34-315EAC2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391-A53E-4177-84BD-10CFEA1D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D35A-B0C8-483B-8026-8140AEC3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7527-227F-4368-A852-C155ED43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E952-739F-404D-9A13-705C0CDB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1532-09A5-41ED-8772-F2FD0E57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DF39-1180-441D-91EC-431332FC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4D5A-C805-4A66-90A5-D4A99EB5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27E5-4093-41FA-B824-C30C12B7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0BA-2649-43D3-8A52-FCF44209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4713-20F7-4DC0-802E-AB710883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0B7A-0B39-41F1-9447-A30157E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0E31-4B78-4EAC-B274-9CE8AF29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805-49D2-4C3D-BA7A-5C39C7A9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1BC1-2C46-48ED-8DE9-C87A0ED3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00ED-8DD4-43AA-A58D-053FBB70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58F-1648-4953-A1F9-A9F635DC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430-3011-4921-83F7-56A44FF6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81A-7C3F-4A45-9C20-13A36C6A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49B-E96D-4C38-9BC0-1719692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377-F9AA-4AFE-A2BC-15A1CA3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C86-5052-429B-8310-4B3CFDD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A256-1350-4DAE-910F-72830DE72FF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FE4B-FF86-4349-A94B-1634CD5B880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Артикуляционная гимнастик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как средство формирования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авильного звукопроизнош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4653000"/>
            <a:ext cx="8775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Презентацию подготовила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Голубева Елена Геннадьевна, учитель-логопед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МДОУ «Детский сад № 1 «Сказка » п. Советский Республики Марий Эл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DSCN0245"/>
          <p:cNvPicPr/>
          <p:nvPr/>
        </p:nvPicPr>
        <p:blipFill>
          <a:blip r:embed="rId1"/>
          <a:stretch/>
        </p:blipFill>
        <p:spPr>
          <a:xfrm>
            <a:off x="2749680" y="2054160"/>
            <a:ext cx="388908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2920" y="1484280"/>
            <a:ext cx="87868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ШМЕЛЬ» Рот открыт. Язык в виде чашечки поднят вверх, боковые края прижаты к коренным зубам, передний край свободен. Посередине языка идет воздушная струя, подключается голос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ШАДКА» Присосать язык к небу, щелкнуть языком. Цокать медленно и сильно, тянуть подъязычную связ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МАЛЯР» Рот открыт. Широким кончиком языка, как кисточкой, ведем от верхних резцов до мягкого неб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ЧАСИКИ». Рот приоткрыт. Губы растянуты в улыбку. Кончиком узкого языка попеременно тянуться под счет педагога к уголкам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ЗМЕЙКА». Рот широко открыт. Узкий язык сильно выдвинуть вперед и убрать в 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АРМОШКА». Рот раскрыт. Язык присосать к небу. Не отрвая язык от неба, сильно оттягивать вниз нижнюю челю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ФУТБОЛ», «СПРЯЧЬ КОНФЕТКУ». Рот закрыт. Напряженным языком упереться то в одну, то в другую ще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ЧИСТИТЬ ЗУБЫ». Рот закрыт. Круговым движением языка провести между губами и зуба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ОБЛИЖЕМ ГУБКИ». Рот приоткрыт. Облизать сначала верхнюю, затем нижнюю губу по кругу. Каждое упражнение выполняется 6—8 раз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РАЗВИТИЯ ДЫХАНИЯ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760" y="2071440"/>
            <a:ext cx="85262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ЗАГНАТЬ МЯЧ В ВОРОТА» Вытянуть губы вперёд трубочкой и длительно дуть на ватный шарик, загоняя его между двумя кубиками. Следить, чтобы не надувались щёки, задувать шарик на одном выдох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ТО ДАЛЬШЕ ЗАГОНИТ МЯЧ» Улыбнуться, положить широкий передний край языка на нижнюю губу. И, как бы произнося длительно звук Ф, сдувать ватку на противоположный край сто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ФОКУС» Учить направлять воздушную струю посередине языка. Рот приоткрыть, язык «чашечкой» высунуть вперед и приподнять, плавно выдохнуть на ватку, лежащую на кончике носа, или на челочк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ДУЙ В ТРУБОЧКУ» Сделать трубочку языком, подуть в пузырёк, чтобы послышался сви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ПНИ ШАРИК» Набрать в щёки воздух. Расслабить щёки, выпуская воздух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АДУЙ ИГРУШКУ» Небольшие надувные игрушки дети приносят из дома. Следует их надуть, набирая воздух через нос и медленно выдыхая его в отверстие игрушки. Потом можно с ней поигра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АБОТА ВОСПИТАТЕЛЯ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И ЛОГОПЕ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5840" y="2017800"/>
          <a:ext cx="8669160" cy="4674960"/>
        </p:xfrm>
        <a:graphic>
          <a:graphicData uri="http://schemas.openxmlformats.org/drawingml/2006/table">
            <a:tbl>
              <a:tblPr/>
              <a:tblGrid>
                <a:gridCol w="4333680"/>
                <a:gridCol w="433548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ef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Лого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efd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по формированию правильного звукопроизно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 по исправлению звукопроизно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1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2800" spc="-1" strike="noStrike">
                          <a:solidFill>
                            <a:srgbClr val="7030a0"/>
                          </a:solidFill>
                          <a:latin typeface="Tahoma"/>
                        </a:rPr>
                        <a:t>Подготовительный эта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очнение движений органов артикуляционного  аппарата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в игровой  форме уточняет с детьми  определенные движения и положения органов артикуляционного аппарата, необходимые для правильного              произношения звука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определенных  положений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ровка движений органов артику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12"/>
                        </a:lnSpc>
                        <a:spcBef>
                          <a:spcPts val="1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яционного аппар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зависимости от характер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я звука логопед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батывает и тренирует дви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ов артикуляционного аппарат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орые были неправильными и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сем отсутствова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22040"/>
            <a:ext cx="7792920" cy="109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Этап появления зву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5840" y="2000160"/>
          <a:ext cx="8669160" cy="4754520"/>
        </p:xfrm>
        <a:graphic>
          <a:graphicData uri="http://schemas.openxmlformats.org/drawingml/2006/table">
            <a:tbl>
              <a:tblPr/>
              <a:tblGrid>
                <a:gridCol w="4259160"/>
                <a:gridCol w="4410000"/>
              </a:tblGrid>
              <a:tr h="47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очнение звука или его  вызывание по подра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использует способность ребенка     к    подра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бирая  звуковые образы звука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звукоподражания),соответствующие данному   звуку, воспита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епляет произнесение  звука с теми детьми, у    которых он есть, и вызывает    по подражанию у тех детей,  которые его еще не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износят,      фиксируя  внимание ребенка на     звучании и артикуляции 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звука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звука обычно бол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ный процесс, чем вызывание зву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ботанные на предыдущем этап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движения орга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ого аппарата тепе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одятся в комплекс движений, 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им образом вырабатыв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я нужного звука. Путе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ен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д зеркалом 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ет ее, а затем, применя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приемы, получа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е произнес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лированного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1023"/>
                        </a:lnSpc>
                        <a:spcBef>
                          <a:spcPts val="11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ahoma"/>
              </a:rPr>
              <a:t>Этап усвоения звука (правильное произношение звука в речи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5840" y="2017800"/>
          <a:ext cx="8669160" cy="4626000"/>
        </p:xfrm>
        <a:graphic>
          <a:graphicData uri="http://schemas.openxmlformats.org/drawingml/2006/table">
            <a:tbl>
              <a:tblPr/>
              <a:tblGrid>
                <a:gridCol w="4333680"/>
                <a:gridCol w="4335480"/>
              </a:tblGrid>
              <a:tr h="462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ие правильного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ношения зву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  уточняется в словах, фразах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шках,  стихотворениях, рассказа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 дается не весь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, а выборочно,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ts val="986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мотрению  воспита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атизация зву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е введение звука в речь: слог, слово, предложение, потешки, стихотворения, рассказ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aaefd1"/>
                      </a:solidFill>
                    </a:lnL>
                    <a:lnR w="5760">
                      <a:solidFill>
                        <a:srgbClr val="aaefd1"/>
                      </a:solidFill>
                    </a:lnR>
                    <a:lnT w="5760">
                      <a:solidFill>
                        <a:srgbClr val="aaefd1"/>
                      </a:solidFill>
                    </a:lnT>
                    <a:lnB w="5760">
                      <a:solidFill>
                        <a:srgbClr val="aaefd1"/>
                      </a:solidFill>
                    </a:lnB>
                    <a:solidFill>
                      <a:srgbClr val="f1fc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за внимание!!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Артикуляционная гимнасти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0040" y="192888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икуляционный аппара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совокупность органов, обеспечивающих образование звуков речи. Включает голосовой аппарат, мышцы глотки, языка, мягкого нёба, губ, щёк и нижней челюсти, зубы и д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ртикуляционная гимнасти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ставляет собой комплекс правильно выполняемых детьми, отработанных с логопедом артикуляционных упраж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ым назначением артикуляционной гимнастики является развитие, укрепление и совершенствование артикуляционной мотори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348000"/>
          <a:ext cx="6096240" cy="16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6200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523880" y="2043000"/>
          <a:ext cx="6096240" cy="27720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72000">
                <a:tc>
                  <a:txBody>
                    <a:bodyPr lIns="24120" rIns="24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4120" marR="24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2"/>
          <p:cNvSpPr/>
          <p:nvPr/>
        </p:nvSpPr>
        <p:spPr>
          <a:xfrm>
            <a:off x="3429000" y="64800"/>
            <a:ext cx="53578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Твердое нёбо                  мягкое нёбо                        маленький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000680" y="642960"/>
            <a:ext cx="488628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979560" y="491040"/>
            <a:ext cx="10431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альвеол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з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Верхние г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Кончик язы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яя губ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ие зу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Нижние альвеол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Спинка язы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Корень язы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                                                                                                                                                                        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комендации к проведению артикуляционной гимнастики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480" y="2000160"/>
            <a:ext cx="8669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Артикуляционная гимнастика проводится ежедневно по 3-5 минут несколько раз в ден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) в детском саду с логопедом во время индивидуальных занятий в сентябре-октябр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) в детском саду с воспитателем и самостоятельно под руководством дежурного ребен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) с родителями до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яется артикуляционная гимнастика стоя или сидя перед зеркалом с обязательным соблюдением правильной осан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обходимо добиваться четкого, точного, плавного выполнения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ачале артикуляционные движения выполняются медленно, неторопливо, но постепенно, по мере овладения ими, темп артикуляционной гимнастики увеличива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8480" indent="-168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-642960"/>
            <a:ext cx="77929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Рекомендации к проведению артикуляционной гимнастики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5480" y="2017800"/>
            <a:ext cx="866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лекс артикуляционной гимнастики неуклонно усложняется и расширяется за счет вновь отобранных с логопедом упражн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ое упражнение выполняется от 5 до 20 раз. Количество повторений возрастает по мере совершенствования артикуляционной моторики параллельно с увеличением темпа дви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но и желательно выполнение артикуляционной гимнастики под счет, под музыку, с хлопками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айтесь, чтобы занятия были регулярны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принуждать детей заниматься, лучше предложить поиграть с языч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ругайте детей за неудачи, но обязательно хвалите даже за незначительные успех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7480" indent="-177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на развитие артикуляционной мотори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ышц нижней челю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имических мыш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губных мышц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мышц язы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ражнения для развития правильного    речевого дых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ГУБ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2285640"/>
            <a:ext cx="82155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ЛЫБ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Удерживание губ в улыбке. Зубы не вид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ЗАБОРЧИК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Рот закрыт. Верхние и нижние зубы обнажены. Губы растянуты в улыб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УБОЧКА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ытягивание губ вперед длинной трубоч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БУБЛИК», «РУПО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. Зубы сомкнуты. Губы округлены и чуть вытянуты вперед. Верхние и нижние резцы вид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дование положений губ: 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БОРЧИК»—«БУБЛИК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УЛЫБКА »—« ТРУБОЧКА 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«КРОЛИК»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убы сомкнуты. Верхняя губа приподнята и обнажает верхние резц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68280"/>
            <a:ext cx="8812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НАКАЗАТЬ НЕПОСЛУШНЫЙ ЯЗЫК». Приоткрыть рот, положить язык на нижнюю губу и, пошлепывая его губами, произносить звуки ПЯ-ПЯ-ПЯ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ЛОПАТОЧКА». Рот открыт, широкий расслабленный язык лежит на нижней губ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ОЧИСТИМ ЗУБЫ» Улыбнуться, показать зубы, приоткрыть рот и кончиком языка «почистить» нижние зубы, делая сначала движения языком из стороны в сторону (язык находится у дёсен, а не скользит по нижнему краю зубов), потом снизу вверх (кончик языка широкий, начинать движения от корней нижних зубов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ОРКА», «КИСКА СЕРДИТСЯ». Рот открыт. Кончик языка упирается в нижние резцы, спинка языка поднята ввер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ТРУБОЧКА ЯЗЫЧКОМ». Рот открыт. Боковые края языка загнуты вверх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РИКЛЕЙ КОНФЕТКУ» Положить широкий язык на нижнюю губу. На кончик языка положить тоненький кусочек ириски, прикле­ить конфетку к небу за верхними резца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ГРИБОК». Рот открыт. Язык присосать к неб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ВКУСНОЕ ВАРЕНЬЕ». Рот открыт. Широким языком облизать верхнюю губу и убрать язык в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ЧАШЕЧКА». Рот широко открыт. Передний и боковые края широкого языка подняты, но не касаются зуб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УПРАЖНЕНИЯ ДЛЯ ЯЗЫ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4200" y="2017800"/>
            <a:ext cx="8740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ТРЕЛОЧКА»; Рот открыт. Широким языком облизать верхнюю губу и убрать язык в глубь р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ЧЕЛИ». Рот открыт. Напряженным языком тянуться к носу и подбородку, либо к верхним и нижним резца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ИНДЮК». Приоткрыть рот, производить движения широким передним краем языка по верхней губе вперед и назад, стараясь не отрывать язык от губы, добавить голоса пока не послышится: БЛ-БЛ (как индюк болбочет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ароход гудит».Приоткрыть рот и длительно произносить звук [ы]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САМОЛЕТ ГУДИТ».Рот приокрыт. Губы   растянуты,   при длительном произнесении звука [ы] проталкиваем кончик   языка   между верхними  и  нижними резцами, удерживаем его в  этом   положении. Слышится 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АВТОМАТ» Рот закрыт. Напряженным кончиком языка постучать в зубы,  многократно и отчетливо произнося  «т-т-т». Убыстрять темп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ПУЛЕМЕТ» Напряженным кончиком языка постучать в сомкнутые зубы, отчетливо и многократно произнося «д-д-д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 БАРАБАНЩИКИ » Улыбнуться, открыть рот и постучать кончиком языка в верхние резцы, многократно и отчетливо произнося «д-д-д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43:02Z</dcterms:created>
  <dc:creator>Андрей</dc:creator>
  <dc:description/>
  <dc:language>en-US</dc:language>
  <cp:lastModifiedBy>Вин7</cp:lastModifiedBy>
  <dcterms:modified xsi:type="dcterms:W3CDTF">2012-02-01T11:40:24Z</dcterms:modified>
  <cp:revision>35</cp:revision>
  <dc:subject/>
  <dc:title>Артикуляционная гимнастика</dc:title>
</cp:coreProperties>
</file>