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9AA-2C01-4116-827F-9B5CE51A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3DD-AA26-42F3-A8C4-4D960385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BD9-8497-453F-B145-C63FC6B3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3E0-E172-4D51-9764-6485C0F9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FB0E-E939-4E47-AF23-CBD22220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9BCD-E94F-4E05-A435-21B6517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93D8-3FAC-421E-B1FC-F5158C47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DDE-D118-4B2A-9482-4019F4C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7292-41EA-4E04-8C76-05CE9FBF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CCA7-073B-425E-B1FE-1947EDE9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E128-A032-477E-B95A-B1E5C73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8A0-50FB-4C14-855B-BE446F2E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5094-0C33-4A79-80BA-A59A4D2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226E-AE2F-4F96-8AFC-1854D1AD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4C8F-C4A7-40B2-B3FB-E6F7D17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5A1E-7783-4AAD-BE24-C1977552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F64E-AEB3-4EA3-BC7B-085465B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00D-EF79-4A57-95FE-0818CB6D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C05-59B5-449A-B26A-F9D92536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FB4-098B-4EE5-A9C2-A54FD74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DE1-8EFA-4AC6-936C-9B3D906B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191-80E3-4FFB-8ECB-3A72BB9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0B2-025B-4247-936A-E79B1FB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988-5B61-4782-979E-87A8BFE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1DEC-CD36-4ED0-8837-6591B77B00F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32BE-E48C-4EFE-9A45-369CD142B76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ртикуляционная гимнастик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средство формировани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вильного звукопроизнош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4653000"/>
            <a:ext cx="8775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Презентацию подготовил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Голубева Елена Геннадьевна, учитель-логопе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МДОУ «Детский сад № 1 «Сказка » п. Советский Республики Марий Э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DSCN0245"/>
          <p:cNvPicPr/>
          <p:nvPr/>
        </p:nvPicPr>
        <p:blipFill>
          <a:blip r:embed="rId1"/>
          <a:stretch/>
        </p:blipFill>
        <p:spPr>
          <a:xfrm>
            <a:off x="2749680" y="2054160"/>
            <a:ext cx="38890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920" y="1484280"/>
            <a:ext cx="8786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ШМЕЛЬ» Рот открыт. Язык в виде чашечки поднят вверх, боковые края прижаты к коренным зубам, передний край свободен. Посередине языка идет воздушная струя, подключается гол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ШАДКА» Присосать язык к небу, щелкнуть языком. Цокать медленно и сильно, тянуть подъязычную связ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МАЛЯР» Рот открыт. Широким кончиком языка, как кисточкой, ведем от верхних резцов до мягкого неб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СИКИ». Рот приоткрыт. Губы растянуты в улыбку. Кончиком узкого языка попеременно тянуться под счет педагога к уголкам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МЕЙКА». Рот широко открыт. Узкий язык сильно выдвинуть вперед и убрать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АРМОШКА». Рот раскрыт. Язык присосать к небу. Не отрвая язык от неба, сильно оттягивать вниз нижнюю челю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УТБОЛ», «СПРЯЧЬ КОНФЕТКУ». Рот закрыт. Напряженным языком упереться то в одну, то в другую ще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ТЬ ЗУБЫ». Рот закрыт. Круговым движением языка провести между губами и зуб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ЛИЖЕМ ГУБКИ». Рот приоткрыт. Облизать сначала верхнюю, затем нижнюю губу по кругу. Каждое упражнение выполняется 6—8 ра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РАЗВИТИЯ ДЫХАНИЯ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2071440"/>
            <a:ext cx="85262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АГНАТЬ МЯЧ В ВОРОТА» Вытянуть губы вперёд трубочкой и длительно дуть на ватный шарик, загоняя его между двумя кубиками. Следить, чтобы не надувались щёки, задувать шарик на одном выдох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ТО ДАЛЬШЕ ЗАГОНИТ МЯЧ» Улыбнуться, положить широкий передний край языка на нижнюю губу. И, как бы произнося длительно звук Ф, сдувать ватку на противоположный край сто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ОКУС» Учить направлять воздушную струю посередине языка. Рот приоткрыть, язык «чашечкой» высунуть вперед и приподнять, плавно выдохнуть на ватку, лежащую на кончике носа, или на челоч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ДУЙ В ТРУБОЧКУ» Сделать трубочку языком, подуть в пузырёк, чтобы послышался сви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НИ ШАРИК» Набрать в щёки воздух. Расслабить щёки, выпуская воздух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ДУЙ ИГРУШКУ» Небольшие надувные игрушки дети приносят из дома. Следует их надуть, набирая воздух через нос и медленно выдыхая его в отверстие игрушки. Потом можно с ней поигр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АБОТА ВОСПИТАТЕЛЯ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И ЛОГОПЕ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5840" y="2017800"/>
          <a:ext cx="8669160" cy="467496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формированию правильного звукопроизно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исправлению звукопроиз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одготовительный эт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движений органов артикуляционного  аппарат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в игровой  форме уточняет с детьми  определенные движения и положения органов артикуляционного аппарата, необходимые для правильного              произношения звук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определенных  положений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овка движений органов артику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яционного аппар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зависимости от характер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я звука логопед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батывает и тренирует дви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ов артикуляционного аппарат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ые были неправильными и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сем отсутствов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появления зв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2000160"/>
          <a:ext cx="8669160" cy="4754520"/>
        </p:xfrm>
        <a:graphic>
          <a:graphicData uri="http://schemas.openxmlformats.org/drawingml/2006/table">
            <a:tbl>
              <a:tblPr/>
              <a:tblGrid>
                <a:gridCol w="4259160"/>
                <a:gridCol w="4410000"/>
              </a:tblGrid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звука или его  вызывание по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использует способность ребенка     к   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ирая  звуковые образы звука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вукоподражания),соответствующие данному   звуку, воспит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епляет произнесение  звука с теми детьми, у    которых он есть, и вызывает    по подражанию у тех детей,  которые его еще не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сят,      фиксируя  внимание ребенка на     звучании и артикуляции 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обычно бол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й процесс, чем вызывание зву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ботанные на предыдущем этап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движения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ого аппарата тепе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ятся в комплекс движений,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 вырабатыв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я нужного звука. Пут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д зеркалом 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т ее, а затем, применя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приемы, получа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е произнес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анного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усвоения звука (правильное произношение звука в речи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5840" y="2017800"/>
          <a:ext cx="8669160" cy="462600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62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правильного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я зву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  уточняется в словах, фраза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ах,  стихотворениях, рассказа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дается не весь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, а выборочно,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мотрению  воспита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ация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е введение звука в речь: слог, слово, предложение, потешки, стихотворения, рассказ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Артикуляционная гимнаст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040" y="192888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ый аппара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совокупность органов, обеспечивающих образование звуков речи. Включает голосовой аппарат, мышцы глотки, языка, мягкого нёба, губ, щёк и нижней челюсти, зубы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ая гимнасти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ставляет собой комплекс правильно выполняемых детьми, отработанных с логопедом артикуляционных упраж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 назначением артикуляционной гимнастики является развитие, укрепление и совершенствование артикуляционной мото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523880" y="2043000"/>
          <a:ext cx="6096240" cy="277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7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3429000" y="64800"/>
            <a:ext cx="5357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Твердое нёбо                  мягкое нёбо                        маленький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000680" y="642960"/>
            <a:ext cx="488628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979560" y="491040"/>
            <a:ext cx="10431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г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нчик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яя губ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Спинка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рень язы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480" y="2000160"/>
            <a:ext cx="8669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Артикуляционная гимнастика проводится ежедневно по 3-5 минут несколько раз в ден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) в детском саду с логопедом во время индивидуальных занятий в сентябре-октябр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) в детском саду с воспитателем и самостоятельно под руководством дежурного ребен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) с родителями до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яется артикуляционная гимнастика стоя или сидя перед зеркалом с обязательным соблюдением правильной осан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бходимо добиваться четкого, точного, плавного выполнения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ачале артикуляционные движения выполняются медленно, неторопливо, но постепенно, по мере овладения ими, темп артикуляционной гимнастики увеличив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642960"/>
            <a:ext cx="77929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5480" y="2017800"/>
            <a:ext cx="866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 артикуляционной гимнастики неуклонно усложняется и расширяется за счет вновь отобранных с логопедом упражн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ое упражнение выполняется от 5 до 20 раз. Количество повторений возрастает по мере совершенствования артикуляционной моторики параллельно с увеличением темпа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о и желательно выполнение артикуляционной гимнастики под счет, под музыку, с хлопками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айтесь, чтобы занятия были регуляр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принуждать детей заниматься, лучше предложить поиграть с языч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ругайте детей за неудачи, но обязательно хвалите даже за незначительные успе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на развитие артикуляционной мотори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нижней челю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имически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губны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язы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правильного    речевого дых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ГУБ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2285640"/>
            <a:ext cx="82155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Удерживание губ в улыбке. Зубы не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АБОРЧИК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Рот закрыт. Верхние и нижние зубы обнажены. Губы растянуты в улыб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БОЧ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ытягивание губ вперед длинной трубоч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БУБЛИК», «РУПО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 Зубы сомкнуты. Губы округлены и чуть вытянуты вперед. Верхние и нижние резцы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дование положений губ: 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ОРЧИК»—«БУБЛИК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 »—« ТРУБОЧ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РОЛИК»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убы сомкнуты. Верхняя губа приподнята и обнажает верхние резц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68280"/>
            <a:ext cx="8812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КАЗАТЬ НЕПОСЛУШНЫЙ ЯЗЫК». Приоткрыть рот, положить язык на нижнюю губу и, пошлепывая его губами, произносить звуки ПЯ-ПЯ-ПЯ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АТОЧКА». Рот открыт, широкий расслабленный язык лежит на нижней губ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М ЗУБЫ» Улыбнуться, показать зубы, приоткрыть рот и кончиком языка «почистить» нижние зубы, делая сначала движения языком из стороны в сторону (язык находится у дёсен, а не скользит по нижнему краю зубов), потом снизу вверх (кончик языка широкий, начинать движения от корней нижних зубов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ОРКА», «КИСКА СЕРДИТСЯ». Рот открыт. Кончик языка упирается в нижние резцы, спинка языка поднята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ТРУБОЧКА ЯЗЫЧКОМ». Рот открыт. Боковые края языка загнуты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ИКЛЕЙ КОНФЕТКУ» Положить широкий язык на нижнюю губу. На кончик языка положить тоненький кусочек ириски, прикле­ить конфетку к небу за верхними резца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РИБОК». Рот открыт. Язык присосать к неб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ВКУСНОЕ ВАРЕНЬЕ». Рот открыт. Широким языком облизать верхнюю губу и убрать язык в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ШЕЧКА». Рот широко открыт. Передний и боковые края широкого языка подняты, но не касаются зуб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00" y="2017800"/>
            <a:ext cx="8740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ТРЕЛОЧКА»; Рот открыт. Широким языком облизать верхнюю губу и убрать язык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ЧЕЛИ». Рот открыт. Напряженным языком тянуться к носу и подбородку, либо к верхним и нижним резца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ИНДЮК». Приоткрыть рот, производить движения широким передним краем языка по верхней губе вперед и назад, стараясь не отрывать язык от губы, добавить голоса пока не послышится: БЛ-БЛ (как индюк болбочет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ароход гудит».Приоткрыть рот и длительно произносить звук [ы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АМОЛЕТ ГУДИТ».Рот приокрыт. Губы   растянуты,   при длительном произнесении звука [ы] проталкиваем кончик   языка   между верхними  и  нижними резцами, удерживаем его в  этом   положении. Слышится 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АВТОМАТ» Рот закрыт. Напряженным кончиком языка постучать в зубы,  многократно и отчетливо произнося  «т-т-т». Убыстрять темп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УЛЕМЕТ» Напряженным кончиком языка постучать в сомкнутые зубы, отчетливо и многократн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 БАРАБАНЩИКИ » Улыбнуться, открыть рот и постучать кончиком языка в верхние резцы, многократно и отчетлив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43:02Z</dcterms:created>
  <dc:creator>Андрей</dc:creator>
  <dc:description/>
  <dc:language>en-US</dc:language>
  <cp:lastModifiedBy>Вин7</cp:lastModifiedBy>
  <dcterms:modified xsi:type="dcterms:W3CDTF">2012-02-01T11:40:24Z</dcterms:modified>
  <cp:revision>35</cp:revision>
  <dc:subject/>
  <dc:title>Артикуляционная гимнастика</dc:title>
</cp:coreProperties>
</file>