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D6E-1E3F-4417-8591-3CC0BAF7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97B-E4D4-495D-9C53-23FE3CBC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1B4-D6C2-42A5-B708-B0823A07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C55-878B-42B2-8700-B8AAAC30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ADB-4C13-4183-AFC2-06C045F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681-E214-4926-876E-4C8A8C8B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6ED-CEA3-48E0-9B36-A6551BA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50B-8AAE-4550-B3ED-4C43565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7D3-6F8C-4793-B14B-5762B8ED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3EA-08D0-4A2A-8C54-3CB0E16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CCF-B255-47B3-BD04-ED1AF8E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3B0-1F69-4346-BDA1-7A0C0910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ECA-64E7-4C93-8149-87B43697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ведение в стереометр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16720" y="1989000"/>
            <a:ext cx="2376360" cy="935280"/>
          </a:xfrm>
          <a:prstGeom prst="parallelogram">
            <a:avLst>
              <a:gd name="adj" fmla="val 6352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492280"/>
            <a:ext cx="158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349360"/>
            <a:ext cx="71280" cy="71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2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93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92428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исные латинские буквы А,В,С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924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чные латинские буквы а,в,с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,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9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еческие буквы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50882" t="20776" r="12765" b="20916"/>
          <a:stretch/>
        </p:blipFill>
        <p:spPr>
          <a:xfrm>
            <a:off x="324000" y="3689280"/>
            <a:ext cx="2574720" cy="276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9122" t="23433" r="10105" b="18259"/>
          <a:stretch/>
        </p:blipFill>
        <p:spPr>
          <a:xfrm>
            <a:off x="4859280" y="3645000"/>
            <a:ext cx="3097440" cy="2963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638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0280"/>
            <a:ext cx="8229600" cy="1368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сновные фигуры в простран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 точки: А; В; С; 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е прямой: а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АВ, В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оскости - это фигуры, на которых выполняется планиметрия и для которых верны аксиомы стереомет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ения плоск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716280"/>
                <a:ext cx="15289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сновные понятия стер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26920" y="4869000"/>
            <a:ext cx="5616720" cy="1005840"/>
            <a:chOff x="826920" y="4869000"/>
            <a:chExt cx="5616720" cy="1005840"/>
          </a:xfrm>
        </p:grpSpPr>
        <p:grpSp>
          <p:nvGrpSpPr>
            <p:cNvPr id="121" name=""/>
            <p:cNvGrpSpPr/>
            <p:nvPr/>
          </p:nvGrpSpPr>
          <p:grpSpPr>
            <a:xfrm>
              <a:off x="826920" y="4869000"/>
              <a:ext cx="5616720" cy="1005840"/>
              <a:chOff x="826920" y="4869000"/>
              <a:chExt cx="5616720" cy="1005840"/>
            </a:xfrm>
          </p:grpSpPr>
          <p:sp>
            <p:nvSpPr>
              <p:cNvPr id="122" name=""/>
              <p:cNvSpPr/>
              <p:nvPr/>
            </p:nvSpPr>
            <p:spPr>
              <a:xfrm>
                <a:off x="826920" y="4939920"/>
                <a:ext cx="5616720" cy="934920"/>
              </a:xfrm>
              <a:prstGeom prst="parallelogram">
                <a:avLst>
                  <a:gd name="adj" fmla="val 150193"/>
                </a:avLst>
              </a:prstGeom>
              <a:gradFill rotWithShape="0">
                <a:gsLst>
                  <a:gs pos="0">
                    <a:srgbClr val="0066ff"/>
                  </a:gs>
                  <a:gs pos="100000">
                    <a:srgbClr val="3333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2916000" y="4869000"/>
                <a:ext cx="2519640" cy="862920"/>
                <a:chOff x="2916000" y="4869000"/>
                <a:chExt cx="2519640" cy="8629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916000" y="51559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32360" y="515592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35280" y="5660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13200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Р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51280" y="5300280"/>
                  <a:ext cx="50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075280" y="4869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1835280" y="537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4360" y="4221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C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4360" y="4941720"/>
            <a:ext cx="360360" cy="505080"/>
            <a:chOff x="684360" y="4941720"/>
            <a:chExt cx="360360" cy="505080"/>
          </a:xfrm>
        </p:grpSpPr>
        <p:sp>
          <p:nvSpPr>
            <p:cNvPr id="133" name=""/>
            <p:cNvSpPr/>
            <p:nvPr/>
          </p:nvSpPr>
          <p:spPr>
            <a:xfrm>
              <a:off x="755640" y="5373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5003280" y="4005360"/>
            <a:ext cx="863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66920" y="5877000"/>
            <a:ext cx="360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500360" y="5229360"/>
            <a:ext cx="43164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4360" y="4241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2"/>
              <p:cNvSpPr txBox="1"/>
              <p:nvPr/>
            </p:nvSpPr>
            <p:spPr>
              <a:xfrm>
                <a:off x="6372360" y="5300640"/>
                <a:ext cx="2016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6588000" y="1989000"/>
                <a:ext cx="1895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Parallelogram 19459"/>
          <p:cNvSpPr/>
          <p:nvPr/>
        </p:nvSpPr>
        <p:spPr>
          <a:xfrm>
            <a:off x="755640" y="3357720"/>
            <a:ext cx="5183280" cy="1944360"/>
          </a:xfrm>
          <a:prstGeom prst="parallelogram">
            <a:avLst>
              <a:gd name="adj" fmla="val 6664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258920" y="465300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Oval 19463"/>
          <p:cNvSpPr/>
          <p:nvPr/>
        </p:nvSpPr>
        <p:spPr>
          <a:xfrm>
            <a:off x="2700360" y="400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464"/>
          <p:cNvSpPr/>
          <p:nvPr/>
        </p:nvSpPr>
        <p:spPr>
          <a:xfrm>
            <a:off x="2844720" y="3645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9465"/>
          <p:cNvSpPr/>
          <p:nvPr/>
        </p:nvSpPr>
        <p:spPr>
          <a:xfrm>
            <a:off x="4213080" y="234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466"/>
          <p:cNvSpPr/>
          <p:nvPr/>
        </p:nvSpPr>
        <p:spPr>
          <a:xfrm>
            <a:off x="4357440" y="2135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6702480" y="2924280"/>
                <a:ext cx="19558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∉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7248600" y="1924200"/>
                <a:ext cx="18954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Parallelogram 22532"/>
          <p:cNvSpPr/>
          <p:nvPr/>
        </p:nvSpPr>
        <p:spPr>
          <a:xfrm>
            <a:off x="755640" y="3357720"/>
            <a:ext cx="5183280" cy="1944360"/>
          </a:xfrm>
          <a:prstGeom prst="parallelogram">
            <a:avLst>
              <a:gd name="adj" fmla="val 6664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1258920" y="465300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Oval 22534"/>
          <p:cNvSpPr/>
          <p:nvPr/>
        </p:nvSpPr>
        <p:spPr>
          <a:xfrm>
            <a:off x="2700360" y="400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2535"/>
          <p:cNvSpPr/>
          <p:nvPr/>
        </p:nvSpPr>
        <p:spPr>
          <a:xfrm>
            <a:off x="2844720" y="364500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536"/>
          <p:cNvSpPr/>
          <p:nvPr/>
        </p:nvSpPr>
        <p:spPr>
          <a:xfrm>
            <a:off x="2700360" y="393372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537"/>
          <p:cNvSpPr/>
          <p:nvPr/>
        </p:nvSpPr>
        <p:spPr>
          <a:xfrm>
            <a:off x="4357800" y="21351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2540"/>
          <p:cNvSpPr/>
          <p:nvPr/>
        </p:nvSpPr>
        <p:spPr>
          <a:xfrm flipH="1">
            <a:off x="2771640" y="2492280"/>
            <a:ext cx="720720" cy="15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2541"/>
          <p:cNvSpPr/>
          <p:nvPr/>
        </p:nvSpPr>
        <p:spPr>
          <a:xfrm flipH="1">
            <a:off x="2124000" y="3860640"/>
            <a:ext cx="720720" cy="1513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2542"/>
          <p:cNvSpPr/>
          <p:nvPr/>
        </p:nvSpPr>
        <p:spPr>
          <a:xfrm flipH="1">
            <a:off x="1403280" y="5345280"/>
            <a:ext cx="720720" cy="151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2543"/>
          <p:cNvSpPr/>
          <p:nvPr/>
        </p:nvSpPr>
        <p:spPr>
          <a:xfrm flipV="1">
            <a:off x="2050920" y="4149720"/>
            <a:ext cx="302580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2544"/>
          <p:cNvSpPr/>
          <p:nvPr/>
        </p:nvSpPr>
        <p:spPr>
          <a:xfrm flipV="1">
            <a:off x="3851280" y="2565000"/>
            <a:ext cx="172872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2545"/>
          <p:cNvSpPr/>
          <p:nvPr/>
        </p:nvSpPr>
        <p:spPr>
          <a:xfrm>
            <a:off x="2773440" y="24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2546"/>
          <p:cNvSpPr/>
          <p:nvPr/>
        </p:nvSpPr>
        <p:spPr>
          <a:xfrm>
            <a:off x="4286160" y="4221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764400" y="4044960"/>
                <a:ext cx="18320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∉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2"/>
              <p:cNvSpPr txBox="1"/>
              <p:nvPr/>
            </p:nvSpPr>
            <p:spPr>
              <a:xfrm>
                <a:off x="6372360" y="2997360"/>
                <a:ext cx="25668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6622920" y="1962000"/>
                <a:ext cx="2521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∩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Parallelogram 23556"/>
          <p:cNvSpPr/>
          <p:nvPr/>
        </p:nvSpPr>
        <p:spPr>
          <a:xfrm>
            <a:off x="468360" y="2421000"/>
            <a:ext cx="5183280" cy="1944720"/>
          </a:xfrm>
          <a:prstGeom prst="parallelogram">
            <a:avLst>
              <a:gd name="adj" fmla="val 6663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6"/>
              <p:cNvSpPr txBox="1"/>
              <p:nvPr/>
            </p:nvSpPr>
            <p:spPr>
              <a:xfrm>
                <a:off x="1763640" y="5589720"/>
                <a:ext cx="809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Shape 23574"/>
          <p:cNvSpPr/>
          <p:nvPr/>
        </p:nvSpPr>
        <p:spPr>
          <a:xfrm>
            <a:off x="468360" y="4365720"/>
            <a:ext cx="5327640" cy="19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4"/>
              <p:cNvSpPr txBox="1"/>
              <p:nvPr/>
            </p:nvSpPr>
            <p:spPr>
              <a:xfrm>
                <a:off x="1692360" y="2492280"/>
                <a:ext cx="80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5"/>
              <p:cNvSpPr txBox="1"/>
              <p:nvPr/>
            </p:nvSpPr>
            <p:spPr>
              <a:xfrm>
                <a:off x="3665520" y="3767040"/>
                <a:ext cx="606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468360" y="333360"/>
            <a:ext cx="8229600" cy="863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чти черт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метрически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0920" y="1773360"/>
            <a:ext cx="4190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очка – вершина Прямая – ребро Плоскость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р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4716360" y="3716280"/>
            <a:ext cx="2895480" cy="2438280"/>
            <a:chOff x="4716360" y="3716280"/>
            <a:chExt cx="2895480" cy="2438280"/>
          </a:xfrm>
        </p:grpSpPr>
        <p:sp>
          <p:nvSpPr>
            <p:cNvPr id="176" name="Line 7"/>
            <p:cNvSpPr/>
            <p:nvPr/>
          </p:nvSpPr>
          <p:spPr>
            <a:xfrm flipV="1">
              <a:off x="4792320" y="5316480"/>
              <a:ext cx="2743200" cy="1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4716360" y="3716280"/>
              <a:ext cx="144756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5554440" y="3716280"/>
              <a:ext cx="2057400" cy="24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0"/>
          <p:cNvSpPr/>
          <p:nvPr/>
        </p:nvSpPr>
        <p:spPr>
          <a:xfrm>
            <a:off x="5580000" y="3716280"/>
            <a:ext cx="2057400" cy="2438280"/>
          </a:xfrm>
          <a:prstGeom prst="pie">
            <a:avLst/>
          </a:pr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7093080" y="2565360"/>
            <a:ext cx="1726920" cy="504720"/>
          </a:xfrm>
          <a:noFill/>
          <a:ln w="28440">
            <a:solidFill>
              <a:srgbClr val="3366ff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>
            <a:off x="7524720" y="4076640"/>
            <a:ext cx="1214640" cy="504720"/>
          </a:xfrm>
          <a:noFill/>
          <a:ln w="28440">
            <a:solidFill>
              <a:srgbClr val="0000ff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г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580000" y="3759120"/>
            <a:ext cx="588960" cy="23670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3059280" y="5589720"/>
            <a:ext cx="1218960" cy="504720"/>
          </a:xfrm>
          <a:noFill/>
          <a:ln w="28440">
            <a:solidFill>
              <a:srgbClr val="0000ff"/>
            </a:solidFill>
            <a:miter/>
            <a:headEnd len="lg" type="diamond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95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450"/>
                            </p:stCondLst>
                            <p:childTnLst>
                              <p:par>
                                <p:cTn id="4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95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45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евозможное возможно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381040" cy="2504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2160" y="41497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урнал "Квант" (№10 (1980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Невозможный объект 3" descr=""/>
          <p:cNvPicPr/>
          <p:nvPr/>
        </p:nvPicPr>
        <p:blipFill>
          <a:blip r:embed="rId2"/>
          <a:stretch/>
        </p:blipFill>
        <p:spPr>
          <a:xfrm>
            <a:off x="3132000" y="1484280"/>
            <a:ext cx="2376720" cy="176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867280" y="1197000"/>
            <a:ext cx="2949840" cy="31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3671640" cy="2023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635280" y="4292640"/>
            <a:ext cx="2880000" cy="1942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588000" y="4149720"/>
            <a:ext cx="23940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324320" cy="2905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179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Закрепление №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омашнее задание: введение, №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я: Учеб. для 10-11 кл. сред. шк./ Л.С. Атанасян, В.Ф. Бутузов, С.Б. Кадомцев и др.- 2-е изд.-М.: Просвещение, 20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инович Е.М. Задачи и упражнения на готовых чертежах. 7-9 классы. Геометрия.-М.: Илекса, Харьков: Гимназ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19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a6221"/>
                </a:solidFill>
                <a:latin typeface="Georgia"/>
              </a:rPr>
              <a:t>Геометрия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2103120"/>
            <a:ext cx="6707160" cy="146844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Georgia"/>
              </a:rPr>
              <a:t>Планиметр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365"/>
          <p:cNvSpPr/>
          <p:nvPr/>
        </p:nvSpPr>
        <p:spPr>
          <a:xfrm>
            <a:off x="1979640" y="3716280"/>
            <a:ext cx="6978600" cy="13129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Georgia"/>
              </a:rPr>
              <a:t>Стереометрия</a:t>
            </a:r>
            <a:r>
              <a:rPr b="0" i="1" lang="en-US" sz="8000" spc="-1" strike="noStrike">
                <a:solidFill>
                  <a:srgbClr val="cc00cc"/>
                </a:solidFill>
                <a:latin typeface="Constanti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5366"/>
          <p:cNvSpPr/>
          <p:nvPr/>
        </p:nvSpPr>
        <p:spPr>
          <a:xfrm flipH="1">
            <a:off x="2039760" y="1714680"/>
            <a:ext cx="8654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368"/>
          <p:cNvSpPr/>
          <p:nvPr/>
        </p:nvSpPr>
        <p:spPr>
          <a:xfrm>
            <a:off x="2197080" y="5013360"/>
            <a:ext cx="310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cc"/>
                </a:solidFill>
                <a:latin typeface="Arial"/>
              </a:rPr>
              <a:t>stereos</a:t>
            </a:r>
            <a:r>
              <a:rPr b="1" i="1" lang="ru-RU" sz="60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369"/>
          <p:cNvSpPr/>
          <p:nvPr/>
        </p:nvSpPr>
        <p:spPr>
          <a:xfrm>
            <a:off x="5148360" y="5084640"/>
            <a:ext cx="376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телесный, твердый, объемный, простран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5370"/>
          <p:cNvSpPr/>
          <p:nvPr/>
        </p:nvSpPr>
        <p:spPr>
          <a:xfrm>
            <a:off x="7215120" y="1643040"/>
            <a:ext cx="503280" cy="209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подраздел геометрии, изучающий свойства фигур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900000" y="3645000"/>
            <a:ext cx="2016000" cy="2016000"/>
            <a:chOff x="900000" y="3645000"/>
            <a:chExt cx="2016000" cy="2016000"/>
          </a:xfrm>
        </p:grpSpPr>
        <p:sp>
          <p:nvSpPr>
            <p:cNvPr id="52" name="AutoShape 5"/>
            <p:cNvSpPr/>
            <p:nvPr/>
          </p:nvSpPr>
          <p:spPr>
            <a:xfrm>
              <a:off x="900000" y="3645000"/>
              <a:ext cx="2016000" cy="2016000"/>
            </a:xfrm>
            <a:prstGeom prst="cube">
              <a:avLst>
                <a:gd name="adj" fmla="val 25000"/>
              </a:avLst>
            </a:prstGeom>
            <a:blipFill rotWithShape="0">
              <a:blip r:embed="rId1">
                <a:alphaModFix amt="50000"/>
              </a:blip>
              <a:srcRect/>
              <a:stretch/>
            </a:blip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376280" y="3664080"/>
              <a:ext cx="12600" cy="14716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377720" y="5165640"/>
              <a:ext cx="152712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911160" y="5135760"/>
              <a:ext cx="450720" cy="5079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3333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4"/>
          <p:cNvGrpSpPr/>
          <p:nvPr/>
        </p:nvGrpSpPr>
        <p:grpSpPr>
          <a:xfrm>
            <a:off x="4643280" y="2997360"/>
            <a:ext cx="2079720" cy="2374920"/>
            <a:chOff x="4643280" y="2997360"/>
            <a:chExt cx="2079720" cy="2374920"/>
          </a:xfrm>
        </p:grpSpPr>
        <p:sp>
          <p:nvSpPr>
            <p:cNvPr id="57" name="Line 15"/>
            <p:cNvSpPr/>
            <p:nvPr/>
          </p:nvSpPr>
          <p:spPr>
            <a:xfrm flipV="1">
              <a:off x="4697640" y="4555800"/>
              <a:ext cx="1970280" cy="1368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4643280" y="2997360"/>
              <a:ext cx="1039680" cy="2374920"/>
            </a:xfrm>
            <a:prstGeom prst="pie">
              <a:avLst/>
            </a:prstGeom>
            <a:blipFill rotWithShape="0">
              <a:blip r:embed="rId4">
                <a:alphaModFix amt="50000"/>
              </a:blip>
              <a:srcRect/>
              <a:stretch/>
            </a:blip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5245200" y="2997360"/>
              <a:ext cx="1477800" cy="2374920"/>
            </a:xfrm>
            <a:prstGeom prst="pie">
              <a:avLst/>
            </a:prstGeom>
            <a:blipFill rotWithShape="0">
              <a:blip r:embed="rId5">
                <a:alphaModFix amt="50000"/>
              </a:blip>
              <a:srcRect/>
              <a:stretch/>
            </a:blip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ер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4437000"/>
            <a:ext cx="1873440" cy="165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99"/>
              </a:gs>
              <a:gs pos="50000">
                <a:srgbClr val="99cc00"/>
              </a:gs>
              <a:gs pos="100000">
                <a:srgbClr val="0099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6300720" y="2852640"/>
            <a:ext cx="2374920" cy="3098880"/>
            <a:chOff x="6300720" y="2852640"/>
            <a:chExt cx="2374920" cy="3098880"/>
          </a:xfrm>
        </p:grpSpPr>
        <p:sp>
          <p:nvSpPr>
            <p:cNvPr id="63" name="AutoShape 10"/>
            <p:cNvSpPr/>
            <p:nvPr/>
          </p:nvSpPr>
          <p:spPr>
            <a:xfrm>
              <a:off x="6300720" y="2852640"/>
              <a:ext cx="2374920" cy="3098880"/>
            </a:xfrm>
            <a:prstGeom prst="cube">
              <a:avLst>
                <a:gd name="adj" fmla="val 25000"/>
              </a:avLst>
            </a:prstGeom>
            <a:blipFill rotWithShape="0">
              <a:blip r:embed="rId6">
                <a:alphaModFix amt="50000"/>
              </a:blip>
              <a:srcRect/>
              <a:stretch/>
            </a:blip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"/>
            <p:cNvSpPr/>
            <p:nvPr/>
          </p:nvSpPr>
          <p:spPr>
            <a:xfrm>
              <a:off x="6872400" y="2867400"/>
              <a:ext cx="6120" cy="2612160"/>
            </a:xfrm>
            <a:prstGeom prst="pi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6862680" y="5473440"/>
              <a:ext cx="1800360" cy="0"/>
            </a:xfrm>
            <a:prstGeom prst="line">
              <a:avLst/>
            </a:prstGeom>
            <a:ln w="2844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"/>
            <p:cNvSpPr/>
            <p:nvPr/>
          </p:nvSpPr>
          <p:spPr>
            <a:xfrm>
              <a:off x="6315120" y="5479920"/>
              <a:ext cx="523800" cy="4442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2844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6028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r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05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о - это множество, элементами которого являются точки и в котором выполняется система аксиом стереометрии, описывающая свойства точек, прямых и плоскостей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2448000" cy="5112000"/>
          </a:xfrm>
          <a:prstGeom prst="rect">
            <a:avLst/>
          </a:prstGeom>
          <a:solidFill>
            <a:srgbClr val="e2f3f4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жен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хн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хитекто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дель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кар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екальщ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грон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дов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бельщ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пожнику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72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еометрия нуж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784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60280"/>
            <a:ext cx="8569440" cy="936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333399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чебный материал 10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сиомы стереомет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раллельность прямых и плоск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пендикулярность прямых и плоск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до научиться делать чертежи и уметь чита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ый чертеж поможет понять, представить и проиллюстрировать содержан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люч к изучению стереометрии - пространственное воображение в сочетании с логикой мышления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ля изучения стер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Стер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080" y="112536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аздел  геометрии,  в  котор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зучаются свойства  фигу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 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2421000"/>
            <a:ext cx="86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Основные фигуры в пространств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4365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4520" y="3716280"/>
            <a:ext cx="5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941720"/>
            <a:ext cx="24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484360" y="3499920"/>
            <a:ext cx="2808360" cy="108108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27480" y="3421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9640" y="4365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4437000"/>
            <a:ext cx="5329080" cy="2303640"/>
          </a:xfrm>
          <a:custGeom>
            <a:avLst/>
            <a:gdLst/>
            <a:ahLst/>
            <a:rect l="l" t="t" r="r" b="b"/>
            <a:pathLst>
              <a:path w="3900" h="3240">
                <a:moveTo>
                  <a:pt x="600" y="1350"/>
                </a:moveTo>
                <a:cubicBezTo>
                  <a:pt x="750" y="1350"/>
                  <a:pt x="1110" y="1410"/>
                  <a:pt x="1320" y="1350"/>
                </a:cubicBezTo>
                <a:cubicBezTo>
                  <a:pt x="1530" y="1290"/>
                  <a:pt x="1740" y="1140"/>
                  <a:pt x="1860" y="990"/>
                </a:cubicBezTo>
                <a:cubicBezTo>
                  <a:pt x="1980" y="840"/>
                  <a:pt x="1950" y="600"/>
                  <a:pt x="2040" y="450"/>
                </a:cubicBezTo>
                <a:cubicBezTo>
                  <a:pt x="2130" y="300"/>
                  <a:pt x="2190" y="150"/>
                  <a:pt x="2400" y="90"/>
                </a:cubicBezTo>
                <a:cubicBezTo>
                  <a:pt x="2610" y="30"/>
                  <a:pt x="3060" y="0"/>
                  <a:pt x="3300" y="90"/>
                </a:cubicBezTo>
                <a:cubicBezTo>
                  <a:pt x="3540" y="180"/>
                  <a:pt x="3780" y="390"/>
                  <a:pt x="3840" y="630"/>
                </a:cubicBezTo>
                <a:cubicBezTo>
                  <a:pt x="3900" y="870"/>
                  <a:pt x="3750" y="1260"/>
                  <a:pt x="3660" y="1530"/>
                </a:cubicBezTo>
                <a:cubicBezTo>
                  <a:pt x="3570" y="1800"/>
                  <a:pt x="3390" y="2040"/>
                  <a:pt x="3300" y="2250"/>
                </a:cubicBezTo>
                <a:cubicBezTo>
                  <a:pt x="3210" y="2460"/>
                  <a:pt x="3210" y="2640"/>
                  <a:pt x="3120" y="2790"/>
                </a:cubicBezTo>
                <a:cubicBezTo>
                  <a:pt x="3030" y="2940"/>
                  <a:pt x="2940" y="3090"/>
                  <a:pt x="2760" y="3150"/>
                </a:cubicBezTo>
                <a:cubicBezTo>
                  <a:pt x="2580" y="3210"/>
                  <a:pt x="2280" y="3180"/>
                  <a:pt x="2040" y="3150"/>
                </a:cubicBezTo>
                <a:cubicBezTo>
                  <a:pt x="1800" y="3120"/>
                  <a:pt x="1620" y="2970"/>
                  <a:pt x="1320" y="2970"/>
                </a:cubicBezTo>
                <a:cubicBezTo>
                  <a:pt x="1020" y="2970"/>
                  <a:pt x="390" y="3240"/>
                  <a:pt x="240" y="3150"/>
                </a:cubicBezTo>
                <a:cubicBezTo>
                  <a:pt x="90" y="3060"/>
                  <a:pt x="450" y="2610"/>
                  <a:pt x="420" y="2430"/>
                </a:cubicBezTo>
                <a:cubicBezTo>
                  <a:pt x="390" y="2250"/>
                  <a:pt x="120" y="2220"/>
                  <a:pt x="60" y="2070"/>
                </a:cubicBezTo>
                <a:cubicBezTo>
                  <a:pt x="0" y="1920"/>
                  <a:pt x="0" y="1650"/>
                  <a:pt x="60" y="1530"/>
                </a:cubicBezTo>
                <a:cubicBezTo>
                  <a:pt x="120" y="1410"/>
                  <a:pt x="330" y="1380"/>
                  <a:pt x="420" y="1350"/>
                </a:cubicBezTo>
                <a:cubicBezTo>
                  <a:pt x="510" y="1320"/>
                  <a:pt x="450" y="1350"/>
                  <a:pt x="600" y="1350"/>
                </a:cubicBezTo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3645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8172360" y="4734000"/>
                <a:ext cx="720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300720" y="342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4508640"/>
            <a:ext cx="3708360" cy="2160360"/>
          </a:xfrm>
          <a:prstGeom prst="parallelogram">
            <a:avLst>
              <a:gd name="adj" fmla="val 42914"/>
            </a:avLst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028000" y="4695840"/>
                <a:ext cx="792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4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40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9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4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639720"/>
            <a:ext cx="8278920" cy="5857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7412"/>
          <p:cNvSpPr/>
          <p:nvPr/>
        </p:nvSpPr>
        <p:spPr>
          <a:xfrm>
            <a:off x="2556720" y="18511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A, B, C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416"/>
          <p:cNvSpPr/>
          <p:nvPr/>
        </p:nvSpPr>
        <p:spPr>
          <a:xfrm>
            <a:off x="3418560" y="3579840"/>
            <a:ext cx="27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a, b, c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417"/>
          <p:cNvSpPr/>
          <p:nvPr/>
        </p:nvSpPr>
        <p:spPr>
          <a:xfrm>
            <a:off x="2845080" y="45068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418"/>
          <p:cNvSpPr/>
          <p:nvPr/>
        </p:nvSpPr>
        <p:spPr>
          <a:xfrm>
            <a:off x="3493440" y="4327560"/>
            <a:ext cx="31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, CD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"/>
              <p:cNvSpPr txBox="1"/>
              <p:nvPr/>
            </p:nvSpPr>
            <p:spPr>
              <a:xfrm>
                <a:off x="3276720" y="5665680"/>
                <a:ext cx="1260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4284720" y="5524560"/>
                <a:ext cx="126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5448240" y="5595840"/>
                <a:ext cx="1211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0T03:15:55Z</dcterms:created>
  <dc:creator>Админ</dc:creator>
  <dc:description/>
  <dc:language>en-US</dc:language>
  <cp:lastModifiedBy>Админ</cp:lastModifiedBy>
  <dcterms:modified xsi:type="dcterms:W3CDTF">2011-09-12T09:10:44Z</dcterms:modified>
  <cp:revision>9</cp:revision>
  <dc:subject/>
  <dc:title>Введение в сереометрию</dc:title>
</cp:coreProperties>
</file>