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9CC-6FBC-492B-8DD0-D53328EF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D83-3609-44FC-AB61-936F11B4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B5E-E67D-4948-AB9C-02BA7B24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74D-3978-4EEF-9431-44BACB89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5853-8663-4589-AD7F-2091977E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0D19-354D-48D9-86AD-FF1CE7B7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E007-AABD-4C9B-A5F2-C0BCFA2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E06-59D2-499C-BA72-0D5778A6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6BC4-4CAC-4BE5-9DC1-90DA732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6155-F766-4336-8746-447F1100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ADBE-8B5B-4DF3-91A3-C96C61E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141-D01C-4FC1-BA4B-BEB05B80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0D15-E7F0-4F76-904F-85F70DC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2334-C238-4DFC-811B-AE274EB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714-B692-4F83-8E90-A6997E94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B33-DA98-4C9B-A377-09297973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9E98-3FAD-488E-AE63-794BBB19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6E8A-2F1A-4B1F-990F-50D30817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3BC2-7CE7-4CBB-9445-FF8675FB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08739-C044-48F4-9BC7-54B8861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6CBF-FAC0-4935-810A-6095C5A2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2BF6-4971-495D-80DD-D933FE97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130-68E9-4395-A862-0BCDE97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0948-9BE2-4C32-9B3A-EB2CAFAB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24FE-0A81-4EB0-8888-0021B2B2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5188-752E-480B-8A73-CF1153C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F90D-4734-40D5-983D-A530E4E4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019E-410D-445F-9112-076377D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8B2F-67C0-4BBE-990B-5F0C3CF7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8021-3742-4A32-9E6B-988E9E63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630C-4062-4F5D-81CF-30D4D641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C0EF-EAE6-45DA-9019-8EBA2886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9859-24A0-45AD-A1EB-B4F056BC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CC9-8CA4-433A-8A3E-B0614AB8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2ECFE-D4FC-461B-9416-4BAE5EB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DD4E-80B4-45B4-9C61-DCF59CC0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FDBA-3CFC-411F-B766-D1CF11C1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7F7F-0AA8-4DE3-88EA-09CFD49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0C14-1EE5-4CF3-8393-AACE30B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A380-7EB4-4A05-A36E-EC0E31BE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29846-8F58-4BDD-9965-5DE80059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EA6F-6CE5-4A0C-AB80-B495FCE9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5819-AB81-4204-86F5-B40E5A60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574D-6864-4B82-9A8E-3B7A50D7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B98-AD4F-4AA3-9798-77F8EC0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9630-156B-4767-AFE7-486704C3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9F10-100B-49F1-9DCE-058F4FA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F3627-3584-46DE-8EC1-48B8DDC4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EBBDC-EF5B-49F2-8386-3EC5C158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37CAF-0D2C-4647-BE8F-3CB4FF71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BA57-F453-49A9-A642-A5B5FF5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F1A4D-0142-4BB8-B8D2-0B8C1203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9556A-DE42-49AC-9B7C-440FD56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58C9-62BD-45E9-AEF0-7FFD731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B7C8E-4451-4D84-9255-C66DEE42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DA3-3C44-44A2-9A9B-1C5774BE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0D03-B754-4AC4-844A-E7E32577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E34-CA24-4996-8853-B98A178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D2B-4833-4F69-BF90-C11B670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D61-895A-4125-A44B-2B3A5AAC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C234-5157-486A-A37E-00B15AD61258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7FB4-17B1-4F2D-90E3-8C52A2586CE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4372-98F6-4132-A8E0-5A363FA1ADD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441B-45E7-417B-886C-BCD5134BED7D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4E1F-27F0-4EA1-936C-817645E89D1F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2139840" y="189000"/>
            <a:ext cx="511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ниципальное 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гельсского  муниципального  района  Саратовской  обла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TextBox 4"/>
          <p:cNvGrpSpPr/>
          <p:nvPr/>
        </p:nvGrpSpPr>
        <p:grpSpPr>
          <a:xfrm>
            <a:off x="1238400" y="1828800"/>
            <a:ext cx="6576840" cy="1712880"/>
            <a:chOff x="1238400" y="1828800"/>
            <a:chExt cx="6576840" cy="1712880"/>
          </a:xfrm>
        </p:grpSpPr>
        <p:pic>
          <p:nvPicPr>
            <p:cNvPr id="220" name="TextBox 4" descr=""/>
            <p:cNvPicPr/>
            <p:nvPr/>
          </p:nvPicPr>
          <p:blipFill>
            <a:blip r:embed="rId1"/>
            <a:stretch/>
          </p:blipFill>
          <p:spPr>
            <a:xfrm>
              <a:off x="1238400" y="1828800"/>
              <a:ext cx="657684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4"/>
            <p:cNvSpPr/>
            <p:nvPr/>
          </p:nvSpPr>
          <p:spPr>
            <a:xfrm>
              <a:off x="1600200" y="1916280"/>
              <a:ext cx="61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Comic Sans MS"/>
                </a:rPr>
                <a:t>Изложение 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Comic Sans MS"/>
                </a:rPr>
                <a:t>«Олимпийские игры»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Заголовок 3"/>
          <p:cNvSpPr/>
          <p:nvPr/>
        </p:nvSpPr>
        <p:spPr>
          <a:xfrm>
            <a:off x="2682720" y="3284640"/>
            <a:ext cx="4032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0101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d0101"/>
                </a:solidFill>
                <a:latin typeface="Times New Roman"/>
                <a:ea typeface="Times New Roman"/>
              </a:rPr>
              <a:t>в 3 классе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203640" y="5600880"/>
            <a:ext cx="270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Автор: Волкова Наталья Александро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6377"/>
          <p:cNvPicPr/>
          <p:nvPr/>
        </p:nvPicPr>
        <p:blipFill>
          <a:blip r:embed="rId2"/>
          <a:stretch/>
        </p:blipFill>
        <p:spPr>
          <a:xfrm>
            <a:off x="611280" y="3359160"/>
            <a:ext cx="2801880" cy="349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" descr=""/>
          <p:cNvPicPr/>
          <p:nvPr/>
        </p:nvPicPr>
        <p:blipFill>
          <a:blip r:embed="rId3"/>
          <a:stretch/>
        </p:blipFill>
        <p:spPr>
          <a:xfrm>
            <a:off x="6012000" y="3352680"/>
            <a:ext cx="251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4"/>
          <p:cNvGrpSpPr/>
          <p:nvPr/>
        </p:nvGrpSpPr>
        <p:grpSpPr>
          <a:xfrm>
            <a:off x="4127400" y="676440"/>
            <a:ext cx="4778640" cy="5072040"/>
            <a:chOff x="4127400" y="676440"/>
            <a:chExt cx="4778640" cy="5072040"/>
          </a:xfrm>
        </p:grpSpPr>
        <p:pic>
          <p:nvPicPr>
            <p:cNvPr id="227" name="Rectangle 4" descr=""/>
            <p:cNvPicPr/>
            <p:nvPr/>
          </p:nvPicPr>
          <p:blipFill>
            <a:blip r:embed="rId1"/>
            <a:stretch/>
          </p:blipFill>
          <p:spPr>
            <a:xfrm>
              <a:off x="4127400" y="676440"/>
              <a:ext cx="477864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3"/>
            <p:cNvSpPr/>
            <p:nvPr/>
          </p:nvSpPr>
          <p:spPr>
            <a:xfrm>
              <a:off x="4140360" y="692280"/>
              <a:ext cx="4752720" cy="50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О спорт, ты – мир!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Надежда мира.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Надежда мира всех времен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И славит мир своих кумиров,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Их силой духа покорён!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Горит гирлянда поколений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Стремленьем к совершенству тел.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С огнём в душе от Прометея,</a:t>
              </a: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Здесь нет понятия «предел».</a:t>
              </a:r>
              <a:br>
                <a:rPr sz="2200"/>
              </a:br>
              <a:br>
                <a:rPr sz="2200"/>
              </a:b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Times New Roman"/>
                </a:rPr>
                <a:t>Пьер де Кубертен «Ода к спорту»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9" name="Picture 12" descr=""/>
          <p:cNvPicPr/>
          <p:nvPr/>
        </p:nvPicPr>
        <p:blipFill>
          <a:blip r:embed="rId2"/>
          <a:stretch/>
        </p:blipFill>
        <p:spPr>
          <a:xfrm>
            <a:off x="49320" y="291960"/>
            <a:ext cx="2687400" cy="231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"/>
          <p:cNvPicPr/>
          <p:nvPr/>
        </p:nvPicPr>
        <p:blipFill>
          <a:blip r:embed="rId3"/>
          <a:stretch/>
        </p:blipFill>
        <p:spPr>
          <a:xfrm>
            <a:off x="1968480" y="3889440"/>
            <a:ext cx="2286000" cy="2468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4"/>
          <a:stretch/>
        </p:blipFill>
        <p:spPr>
          <a:xfrm>
            <a:off x="938160" y="2163600"/>
            <a:ext cx="279864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989000"/>
            <a:ext cx="70581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Изложение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Олимпийские игры.</a:t>
            </a:r>
            <a:endParaRPr b="0" lang="en-US" sz="4400" spc="-1" strike="noStrike">
              <a:solidFill>
                <a:srgbClr val="26262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yrillicOld"/>
              </a:rPr>
              <a:t>Родина Олимпийских игр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4" name="Picture 5" descr="46430953_4"/>
          <p:cNvPicPr/>
          <p:nvPr/>
        </p:nvPicPr>
        <p:blipFill>
          <a:blip r:embed="rId1"/>
          <a:stretch/>
        </p:blipFill>
        <p:spPr>
          <a:xfrm>
            <a:off x="1981080" y="3486240"/>
            <a:ext cx="3157560" cy="2895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2004Panathinaikon"/>
          <p:cNvPicPr/>
          <p:nvPr/>
        </p:nvPicPr>
        <p:blipFill>
          <a:blip r:embed="rId2"/>
          <a:stretch/>
        </p:blipFill>
        <p:spPr>
          <a:xfrm>
            <a:off x="5943600" y="3376440"/>
            <a:ext cx="2687760" cy="3043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greece2"/>
          <p:cNvPicPr/>
          <p:nvPr/>
        </p:nvPicPr>
        <p:blipFill>
          <a:blip r:embed="rId3"/>
          <a:stretch/>
        </p:blipFill>
        <p:spPr>
          <a:xfrm>
            <a:off x="324000" y="963720"/>
            <a:ext cx="3260520" cy="2498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4"/>
          <a:stretch/>
        </p:blipFill>
        <p:spPr>
          <a:xfrm>
            <a:off x="3998880" y="963720"/>
            <a:ext cx="28227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8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_FuturaRoundTtlCmDFr"/>
              </a:rPr>
              <a:t>Олимпийские атрибуты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39" name="Picture 5" descr="6377"/>
          <p:cNvPicPr/>
          <p:nvPr/>
        </p:nvPicPr>
        <p:blipFill>
          <a:blip r:embed="rId1"/>
          <a:srcRect l="1693" t="0" r="0" b="12856"/>
          <a:stretch/>
        </p:blipFill>
        <p:spPr>
          <a:xfrm>
            <a:off x="5148360" y="1413000"/>
            <a:ext cx="3684600" cy="5445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5f2386969cdce907842f0684ab4edee3_big"/>
          <p:cNvPicPr/>
          <p:nvPr/>
        </p:nvPicPr>
        <p:blipFill>
          <a:blip r:embed="rId2"/>
          <a:srcRect l="-203" t="0" r="0" b="27033"/>
          <a:stretch/>
        </p:blipFill>
        <p:spPr>
          <a:xfrm>
            <a:off x="826920" y="1938240"/>
            <a:ext cx="3738600" cy="491976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" descr=""/>
          <p:cNvPicPr/>
          <p:nvPr/>
        </p:nvPicPr>
        <p:blipFill>
          <a:blip r:embed="rId3"/>
          <a:stretch/>
        </p:blipFill>
        <p:spPr>
          <a:xfrm>
            <a:off x="5553000" y="4230720"/>
            <a:ext cx="2779920" cy="9316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6" descr=""/>
          <p:cNvPicPr/>
          <p:nvPr/>
        </p:nvPicPr>
        <p:blipFill>
          <a:blip r:embed="rId4"/>
          <a:stretch/>
        </p:blipFill>
        <p:spPr>
          <a:xfrm>
            <a:off x="1311120" y="5310360"/>
            <a:ext cx="2737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475920"/>
            <a:ext cx="2297160" cy="9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План.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88840" y="1412640"/>
            <a:ext cx="742824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оревнования у города Олимпия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вященный обычай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marL="447840" indent="-447840">
              <a:lnSpc>
                <a:spcPct val="200000"/>
              </a:lnSpc>
              <a:spcBef>
                <a:spcPts val="700"/>
              </a:spcBef>
              <a:buClr>
                <a:srgbClr val="ad0101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лавный обычай живёт.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  <a:ea typeface="Arial"/>
              </a:rPr>
              <a:t>Орфографическая подготовка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03640" y="1413000"/>
            <a:ext cx="27367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ан…вил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…р…шо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о…кие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юнош…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…б…рались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…тали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…щенный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…являлась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…ртивна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…езжаются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…ходят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4035600" y="1006560"/>
            <a:ext cx="944280" cy="101736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4" descr=""/>
          <p:cNvPicPr/>
          <p:nvPr/>
        </p:nvPicPr>
        <p:blipFill>
          <a:blip r:embed="rId2"/>
          <a:stretch/>
        </p:blipFill>
        <p:spPr>
          <a:xfrm>
            <a:off x="3859200" y="1438200"/>
            <a:ext cx="944640" cy="10191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5" descr=""/>
          <p:cNvPicPr/>
          <p:nvPr/>
        </p:nvPicPr>
        <p:blipFill>
          <a:blip r:embed="rId3"/>
          <a:stretch/>
        </p:blipFill>
        <p:spPr>
          <a:xfrm>
            <a:off x="3408480" y="1438200"/>
            <a:ext cx="944280" cy="10191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6" descr=""/>
          <p:cNvPicPr/>
          <p:nvPr/>
        </p:nvPicPr>
        <p:blipFill>
          <a:blip r:embed="rId4"/>
          <a:stretch/>
        </p:blipFill>
        <p:spPr>
          <a:xfrm>
            <a:off x="3591000" y="1871640"/>
            <a:ext cx="938160" cy="101772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7" descr=""/>
          <p:cNvPicPr/>
          <p:nvPr/>
        </p:nvPicPr>
        <p:blipFill>
          <a:blip r:embed="rId5"/>
          <a:stretch/>
        </p:blipFill>
        <p:spPr>
          <a:xfrm>
            <a:off x="3408480" y="2736720"/>
            <a:ext cx="944280" cy="101772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8" descr=""/>
          <p:cNvPicPr/>
          <p:nvPr/>
        </p:nvPicPr>
        <p:blipFill>
          <a:blip r:embed="rId6"/>
          <a:stretch/>
        </p:blipFill>
        <p:spPr>
          <a:xfrm>
            <a:off x="3852720" y="2736720"/>
            <a:ext cx="963720" cy="101772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9" descr=""/>
          <p:cNvPicPr/>
          <p:nvPr/>
        </p:nvPicPr>
        <p:blipFill>
          <a:blip r:embed="rId7"/>
          <a:stretch/>
        </p:blipFill>
        <p:spPr>
          <a:xfrm>
            <a:off x="3449520" y="3164040"/>
            <a:ext cx="933480" cy="102384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0" descr=""/>
          <p:cNvPicPr/>
          <p:nvPr/>
        </p:nvPicPr>
        <p:blipFill>
          <a:blip r:embed="rId8"/>
          <a:stretch/>
        </p:blipFill>
        <p:spPr>
          <a:xfrm>
            <a:off x="3565440" y="3597120"/>
            <a:ext cx="946080" cy="10242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11" descr=""/>
          <p:cNvPicPr/>
          <p:nvPr/>
        </p:nvPicPr>
        <p:blipFill>
          <a:blip r:embed="rId9"/>
          <a:stretch/>
        </p:blipFill>
        <p:spPr>
          <a:xfrm>
            <a:off x="3565440" y="4029120"/>
            <a:ext cx="970200" cy="101916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12" descr=""/>
          <p:cNvPicPr/>
          <p:nvPr/>
        </p:nvPicPr>
        <p:blipFill>
          <a:blip r:embed="rId10"/>
          <a:stretch/>
        </p:blipFill>
        <p:spPr>
          <a:xfrm>
            <a:off x="3571920" y="4535640"/>
            <a:ext cx="939600" cy="101736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13" descr=""/>
          <p:cNvPicPr/>
          <p:nvPr/>
        </p:nvPicPr>
        <p:blipFill>
          <a:blip r:embed="rId11"/>
          <a:stretch/>
        </p:blipFill>
        <p:spPr>
          <a:xfrm>
            <a:off x="3389400" y="4968720"/>
            <a:ext cx="974520" cy="101772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14" descr=""/>
          <p:cNvPicPr/>
          <p:nvPr/>
        </p:nvPicPr>
        <p:blipFill>
          <a:blip r:embed="rId12"/>
          <a:stretch/>
        </p:blipFill>
        <p:spPr>
          <a:xfrm>
            <a:off x="3571920" y="5394240"/>
            <a:ext cx="944640" cy="102564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15" descr=""/>
          <p:cNvPicPr/>
          <p:nvPr/>
        </p:nvPicPr>
        <p:blipFill>
          <a:blip r:embed="rId13"/>
          <a:stretch/>
        </p:blipFill>
        <p:spPr>
          <a:xfrm>
            <a:off x="4035600" y="2298600"/>
            <a:ext cx="9633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172908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216072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2484360" y="4292640"/>
            <a:ext cx="201636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Picture 9" descr=""/>
          <p:cNvPicPr/>
          <p:nvPr/>
        </p:nvPicPr>
        <p:blipFill>
          <a:blip r:embed="rId4"/>
          <a:stretch/>
        </p:blipFill>
        <p:spPr>
          <a:xfrm>
            <a:off x="4498920" y="765000"/>
            <a:ext cx="18734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4" name="Picture 10" descr=""/>
          <p:cNvPicPr/>
          <p:nvPr/>
        </p:nvPicPr>
        <p:blipFill>
          <a:blip r:embed="rId5"/>
          <a:stretch/>
        </p:blipFill>
        <p:spPr>
          <a:xfrm>
            <a:off x="6659640" y="765000"/>
            <a:ext cx="20876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11" descr=""/>
          <p:cNvPicPr/>
          <p:nvPr/>
        </p:nvPicPr>
        <p:blipFill>
          <a:blip r:embed="rId6"/>
          <a:stretch/>
        </p:blipFill>
        <p:spPr>
          <a:xfrm>
            <a:off x="6948360" y="4292640"/>
            <a:ext cx="188604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6" name="Picture 12" descr=""/>
          <p:cNvPicPr/>
          <p:nvPr/>
        </p:nvPicPr>
        <p:blipFill>
          <a:blip r:embed="rId7"/>
          <a:stretch/>
        </p:blipFill>
        <p:spPr>
          <a:xfrm>
            <a:off x="2413080" y="765000"/>
            <a:ext cx="1871640" cy="17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7" name="Picture 16" descr=""/>
          <p:cNvPicPr/>
          <p:nvPr/>
        </p:nvPicPr>
        <p:blipFill>
          <a:blip r:embed="rId8"/>
          <a:stretch/>
        </p:blipFill>
        <p:spPr>
          <a:xfrm>
            <a:off x="252360" y="4292640"/>
            <a:ext cx="2016000" cy="17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8" name="Rectangle 17" descr=""/>
          <p:cNvPicPr/>
          <p:nvPr/>
        </p:nvPicPr>
        <p:blipFill>
          <a:blip r:embed="rId9"/>
          <a:stretch/>
        </p:blipFill>
        <p:spPr>
          <a:xfrm>
            <a:off x="92160" y="2444760"/>
            <a:ext cx="90025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Box 1"/>
          <p:cNvGrpSpPr/>
          <p:nvPr/>
        </p:nvGrpSpPr>
        <p:grpSpPr>
          <a:xfrm>
            <a:off x="1414440" y="590400"/>
            <a:ext cx="6044400" cy="1006560"/>
            <a:chOff x="1414440" y="590400"/>
            <a:chExt cx="6044400" cy="1006560"/>
          </a:xfrm>
        </p:grpSpPr>
        <p:pic>
          <p:nvPicPr>
            <p:cNvPr id="270" name="TextBox 1" descr=""/>
            <p:cNvPicPr/>
            <p:nvPr/>
          </p:nvPicPr>
          <p:blipFill>
            <a:blip r:embed="rId1"/>
            <a:stretch/>
          </p:blipFill>
          <p:spPr>
            <a:xfrm>
              <a:off x="1414440" y="590400"/>
              <a:ext cx="59562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"/>
            <p:cNvSpPr/>
            <p:nvPr/>
          </p:nvSpPr>
          <p:spPr>
            <a:xfrm>
              <a:off x="1685160" y="647640"/>
              <a:ext cx="577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ad0101"/>
                  </a:solidFill>
                  <a:latin typeface="Comic Sans MS"/>
                </a:rPr>
                <a:t>Список используемых источник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2" name="Прямоугольник 2"/>
          <p:cNvSpPr/>
          <p:nvPr/>
        </p:nvSpPr>
        <p:spPr>
          <a:xfrm>
            <a:off x="755640" y="1197000"/>
            <a:ext cx="756144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. И. Дереклее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Двигательные игры, тренинги и уроки здоровья. М., ВАКО,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. И. Ковалько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доровьесберегающие технологии в начальной школе. М., ВАКО, 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. Н. Максимук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борник текстов для изложений 1-4 классов. М., ВАКО, 2006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.А. Обухова, Н. А. Лемяски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Школа докторов природы или 135 уроков здоровья.  М., ВАКО, 2004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 Г. Рамзае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усский язык. Книга для учителя. М., Дрофа, 2003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. В. Узорова, Е. А. Нефедова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гры с пальчиками. М., АСТ «Астрель», 2006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motivators.ru/sites/default/files/imagecache/main-motivator/motivator-11767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картинка «Спорт - это жизн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mages.yandex.ru/yandsearch?p=2&amp;text=%D0%BA%D0%B0%D1%80%D1%82%D0%B8%D0%BD%D0%BA%D0%B8%20%D0%BE%20%D1%81%D0%BF%D0%BE%D1%80%D1%82%D0%B5&amp;noreask=1&amp;lr=11147&amp;rpt=imag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картинки о спорт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</a:rPr>
              <a:t>http://images.yandex.ru/yandsearch?text=%D0%BA%D0%B0%D1%80%D1%82%D0%B8%D0%BD%D0%BA%D0%B8%20%D0%B0%D1%82%D1%80%D0%B8%D0%B1%D1%83%D1%82%D1%8B%20%D0%BE%D0%BB%D0%B8%D0%BC%D0%BF%D0%B8%D0%B9%D1%81%D0%BA%D0%B8%D1%85%20%D0%B8%D0%B3%D1%80&amp;stype=image&amp;noreask=1&amp;lr=11147</a:t>
            </a:r>
            <a:r>
              <a:rPr b="0" lang="ru-RU" sz="1400" spc="-1" strike="noStrike" u="sng">
                <a:solidFill>
                  <a:srgbClr val="cc6600"/>
                </a:solidFill>
                <a:uFillTx/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картинки «Атрибуты Олимпийских игр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photoshopstar.com/wp-content/uploads/2008/08/142.jpg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 логотип (эмблема) Олимпийских иг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04:11:33Z</dcterms:created>
  <dc:creator>Котёнок</dc:creator>
  <dc:description/>
  <dc:language>en-US</dc:language>
  <cp:lastModifiedBy>Никитенко</cp:lastModifiedBy>
  <dcterms:modified xsi:type="dcterms:W3CDTF">2013-01-23T11:18:15Z</dcterms:modified>
  <cp:revision>35</cp:revision>
  <dc:subject/>
  <dc:title>О спорт, ты – мир! Надежда мира. Надежда мира всех времен  И славит мир своих кумиров, Их силой духа покорён!  Горит гирлянда поколений Стремленьем к совершенству тел. С огнём в душе от Прометея, Здесь нет понятия «предел».                        Пьер де Кубертен                                   «Ода к спорту»</dc:title>
</cp:coreProperties>
</file>