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559-E674-4F16-AECF-D2CA0B07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78D-6854-4BCB-BBC1-4608459F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6AE-9ADA-4751-9620-EC8D1EF8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D10-7EC5-4004-90F7-3873250A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90A9-E297-43EB-8396-CC36DCDD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E6E2-18B0-4A6F-A53A-BF05C54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3F1-89D0-4ED1-9B01-B21CBA60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932E-5F74-4D64-B21E-0A4619D3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FF98-DA37-4FF4-A12A-7007460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21F-94AC-42E4-BFAC-4231F6A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A8C3-FE75-4248-8EEC-1CB346A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7EB-E6CC-4FAD-A475-587850AF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07E1-1FE3-4132-8894-598254B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017-A02B-4912-A9BB-74F8D018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CC61-46E1-414D-9278-336958F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FC5C-4A6F-40A4-B6F7-F586D2D7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C2C8-8A34-4861-A16E-C50AD177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5A9D-0148-4C57-90D7-DC7F9BD3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1262-1354-4195-8F39-9E4DE2DA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0AFA-D881-42AC-8A42-E13B9F0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431A-1725-4DAA-8076-ECBF5338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04D2-888A-4C87-800B-8B3CBDB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E91-C56A-4178-BC12-9960B13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A227-75CA-42B7-889C-93D6BA3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8354-486B-4AE0-BCCC-A300763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86A7-9874-4514-87ED-6F6F694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4E35-4BD8-4958-98F6-25C56B9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0458-9019-4E90-B6B9-375BF65F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A2CA-8300-47D9-9257-411054B1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750E-70E3-4D56-AA07-2D540663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654E-4303-4883-8887-C89CBD56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62B0-61E9-4869-9843-83341301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EF02-58DA-44F1-ACD1-7D78AAC1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58D-8588-4B99-B17E-07497F15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302D-7F10-4F87-9C9C-A3E6166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7F6E-116E-4562-A9B8-D948AD9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6C663-442E-4CD0-AFF2-DD17D9EC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03EE-F6D4-4F9E-A649-DCC1F31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0097-7168-4628-BFA8-83B3E776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4A49-EA07-4FE7-B23D-633B6B3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261B-DBF9-4877-8325-84635B1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86CB-0ECB-497B-83AB-424B487B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47769-4C33-4963-8FC0-8CE8013F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9AF1-0991-4329-BC52-F5C8EC03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7E9-B7EF-4086-9F26-A011E44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B351A-DB6F-4F4E-B375-1F876763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3671-046D-4427-8966-155620F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779C-630D-4956-BD75-88811E41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CE89-93FC-4D9D-9495-2680652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2F84-BC22-40D0-A96B-672E7EA4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70B9-2FFB-4390-AFBA-8E8A092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05E0-B9D7-422D-BF63-71537EB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E1D99-C32C-43BD-849A-34E7302C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3913-4A1A-4953-B74B-30B6D98A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3658-2EC4-4565-8C0B-E17641D7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982-FC9F-421C-8530-836111CE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51C55-EAC9-4AD8-A9CC-4BA7F4F6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FD7-D03E-481B-85A6-37DC532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F02-AE7D-45BA-A0BC-3AC7C842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3DF-4E78-4278-A777-569D4C6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3B04-6AD3-482E-9DE8-8A27121C9A1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206D-C911-4045-B978-02C570124AB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7D6F-E1C7-4C82-BF15-9FA24568D66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7A00-7449-4697-ABB4-97915AB8C38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A57-49F9-4DE0-B729-B4009526C8A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2139840" y="189000"/>
            <a:ext cx="511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ниципальное 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гельсского  муниципального  района  Саратовской 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TextBox 4"/>
          <p:cNvGrpSpPr/>
          <p:nvPr/>
        </p:nvGrpSpPr>
        <p:grpSpPr>
          <a:xfrm>
            <a:off x="1238400" y="1828800"/>
            <a:ext cx="6576840" cy="1712880"/>
            <a:chOff x="1238400" y="1828800"/>
            <a:chExt cx="6576840" cy="1712880"/>
          </a:xfrm>
        </p:grpSpPr>
        <p:pic>
          <p:nvPicPr>
            <p:cNvPr id="220" name="TextBox 4" descr=""/>
            <p:cNvPicPr/>
            <p:nvPr/>
          </p:nvPicPr>
          <p:blipFill>
            <a:blip r:embed="rId1"/>
            <a:stretch/>
          </p:blipFill>
          <p:spPr>
            <a:xfrm>
              <a:off x="1238400" y="1828800"/>
              <a:ext cx="657684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"/>
            <p:cNvSpPr/>
            <p:nvPr/>
          </p:nvSpPr>
          <p:spPr>
            <a:xfrm>
              <a:off x="1600200" y="1916280"/>
              <a:ext cx="61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Comic Sans MS"/>
                </a:rPr>
                <a:t>Изложение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Comic Sans MS"/>
                </a:rPr>
                <a:t>«Олимпийские игры»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Заголовок 3"/>
          <p:cNvSpPr/>
          <p:nvPr/>
        </p:nvSpPr>
        <p:spPr>
          <a:xfrm>
            <a:off x="2682720" y="3284640"/>
            <a:ext cx="4032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0101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0101"/>
                </a:solidFill>
                <a:latin typeface="Times New Roman"/>
                <a:ea typeface="Times New Roman"/>
              </a:rPr>
              <a:t>в 3 классе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03640" y="5600880"/>
            <a:ext cx="270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втор: Волкова Наталья Александро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6377"/>
          <p:cNvPicPr/>
          <p:nvPr/>
        </p:nvPicPr>
        <p:blipFill>
          <a:blip r:embed="rId2"/>
          <a:stretch/>
        </p:blipFill>
        <p:spPr>
          <a:xfrm>
            <a:off x="611280" y="3359160"/>
            <a:ext cx="2801880" cy="349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" descr=""/>
          <p:cNvPicPr/>
          <p:nvPr/>
        </p:nvPicPr>
        <p:blipFill>
          <a:blip r:embed="rId3"/>
          <a:stretch/>
        </p:blipFill>
        <p:spPr>
          <a:xfrm>
            <a:off x="6012000" y="3352680"/>
            <a:ext cx="251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4"/>
          <p:cNvGrpSpPr/>
          <p:nvPr/>
        </p:nvGrpSpPr>
        <p:grpSpPr>
          <a:xfrm>
            <a:off x="4127400" y="676440"/>
            <a:ext cx="4778640" cy="5072040"/>
            <a:chOff x="4127400" y="676440"/>
            <a:chExt cx="4778640" cy="5072040"/>
          </a:xfrm>
        </p:grpSpPr>
        <p:pic>
          <p:nvPicPr>
            <p:cNvPr id="227" name="Rectangle 4" descr=""/>
            <p:cNvPicPr/>
            <p:nvPr/>
          </p:nvPicPr>
          <p:blipFill>
            <a:blip r:embed="rId1"/>
            <a:stretch/>
          </p:blipFill>
          <p:spPr>
            <a:xfrm>
              <a:off x="4127400" y="676440"/>
              <a:ext cx="477864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3"/>
            <p:cNvSpPr/>
            <p:nvPr/>
          </p:nvSpPr>
          <p:spPr>
            <a:xfrm>
              <a:off x="4140360" y="692280"/>
              <a:ext cx="475272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О спорт, ты – мир!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Надежда мира.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Надежда мира всех времен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И славит мир своих кумиров,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Их силой духа покорён!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Горит гирлянда поколений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Стремленьем к совершенству тел.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С огнём в душе от Прометея,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Здесь нет понятия «предел».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</a:rPr>
                <a:t>Пьер де Кубертен «Ода к спорту»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9" name="Picture 12" descr=""/>
          <p:cNvPicPr/>
          <p:nvPr/>
        </p:nvPicPr>
        <p:blipFill>
          <a:blip r:embed="rId2"/>
          <a:stretch/>
        </p:blipFill>
        <p:spPr>
          <a:xfrm>
            <a:off x="49320" y="291960"/>
            <a:ext cx="2687400" cy="231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/>
          <p:cNvPicPr/>
          <p:nvPr/>
        </p:nvPicPr>
        <p:blipFill>
          <a:blip r:embed="rId3"/>
          <a:stretch/>
        </p:blipFill>
        <p:spPr>
          <a:xfrm>
            <a:off x="1968480" y="3889440"/>
            <a:ext cx="2286000" cy="246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4"/>
          <a:stretch/>
        </p:blipFill>
        <p:spPr>
          <a:xfrm>
            <a:off x="938160" y="2163600"/>
            <a:ext cx="279864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058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Изложение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Олимпийские игры.</a:t>
            </a:r>
            <a:endParaRPr b="0" lang="en-US" sz="4400" spc="-1" strike="noStrike">
              <a:solidFill>
                <a:srgbClr val="26262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yrillicOld"/>
              </a:rPr>
              <a:t>Родина Олимпийских игр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4" name="Picture 5" descr="46430953_4"/>
          <p:cNvPicPr/>
          <p:nvPr/>
        </p:nvPicPr>
        <p:blipFill>
          <a:blip r:embed="rId1"/>
          <a:stretch/>
        </p:blipFill>
        <p:spPr>
          <a:xfrm>
            <a:off x="1981080" y="3486240"/>
            <a:ext cx="3157560" cy="2895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2004Panathinaikon"/>
          <p:cNvPicPr/>
          <p:nvPr/>
        </p:nvPicPr>
        <p:blipFill>
          <a:blip r:embed="rId2"/>
          <a:stretch/>
        </p:blipFill>
        <p:spPr>
          <a:xfrm>
            <a:off x="5943600" y="3376440"/>
            <a:ext cx="2687760" cy="3043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greece2"/>
          <p:cNvPicPr/>
          <p:nvPr/>
        </p:nvPicPr>
        <p:blipFill>
          <a:blip r:embed="rId3"/>
          <a:stretch/>
        </p:blipFill>
        <p:spPr>
          <a:xfrm>
            <a:off x="324000" y="963720"/>
            <a:ext cx="3260520" cy="2498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4"/>
          <a:stretch/>
        </p:blipFill>
        <p:spPr>
          <a:xfrm>
            <a:off x="3998880" y="963720"/>
            <a:ext cx="2822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_FuturaRoundTtlCmDFr"/>
              </a:rPr>
              <a:t>Олимпийские атрибут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9" name="Picture 5" descr="6377"/>
          <p:cNvPicPr/>
          <p:nvPr/>
        </p:nvPicPr>
        <p:blipFill>
          <a:blip r:embed="rId1"/>
          <a:srcRect l="1693" t="0" r="0" b="12856"/>
          <a:stretch/>
        </p:blipFill>
        <p:spPr>
          <a:xfrm>
            <a:off x="5148360" y="1413000"/>
            <a:ext cx="3684600" cy="5445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5f2386969cdce907842f0684ab4edee3_big"/>
          <p:cNvPicPr/>
          <p:nvPr/>
        </p:nvPicPr>
        <p:blipFill>
          <a:blip r:embed="rId2"/>
          <a:srcRect l="-203" t="0" r="0" b="27033"/>
          <a:stretch/>
        </p:blipFill>
        <p:spPr>
          <a:xfrm>
            <a:off x="826920" y="1938240"/>
            <a:ext cx="3738600" cy="4919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3"/>
          <a:stretch/>
        </p:blipFill>
        <p:spPr>
          <a:xfrm>
            <a:off x="5553000" y="4230720"/>
            <a:ext cx="2779920" cy="9316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6" descr=""/>
          <p:cNvPicPr/>
          <p:nvPr/>
        </p:nvPicPr>
        <p:blipFill>
          <a:blip r:embed="rId4"/>
          <a:stretch/>
        </p:blipFill>
        <p:spPr>
          <a:xfrm>
            <a:off x="1311120" y="5310360"/>
            <a:ext cx="27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475920"/>
            <a:ext cx="229716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План.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88840" y="1412640"/>
            <a:ext cx="742824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оревнования у города Олимп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вященный обыча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лавный обычай живёт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Орфографическая подготовка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03640" y="1413000"/>
            <a:ext cx="27367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ан…ви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…р…ш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…кие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нош…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…б…рались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…та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…щенный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…являлась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…ртивна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…езжаютс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…ходят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4035600" y="1006560"/>
            <a:ext cx="944280" cy="10173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" descr=""/>
          <p:cNvPicPr/>
          <p:nvPr/>
        </p:nvPicPr>
        <p:blipFill>
          <a:blip r:embed="rId2"/>
          <a:stretch/>
        </p:blipFill>
        <p:spPr>
          <a:xfrm>
            <a:off x="3859200" y="1438200"/>
            <a:ext cx="944640" cy="1019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5" descr=""/>
          <p:cNvPicPr/>
          <p:nvPr/>
        </p:nvPicPr>
        <p:blipFill>
          <a:blip r:embed="rId3"/>
          <a:stretch/>
        </p:blipFill>
        <p:spPr>
          <a:xfrm>
            <a:off x="3408480" y="1438200"/>
            <a:ext cx="944280" cy="10191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6" descr=""/>
          <p:cNvPicPr/>
          <p:nvPr/>
        </p:nvPicPr>
        <p:blipFill>
          <a:blip r:embed="rId4"/>
          <a:stretch/>
        </p:blipFill>
        <p:spPr>
          <a:xfrm>
            <a:off x="3591000" y="1871640"/>
            <a:ext cx="93816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7" descr=""/>
          <p:cNvPicPr/>
          <p:nvPr/>
        </p:nvPicPr>
        <p:blipFill>
          <a:blip r:embed="rId5"/>
          <a:stretch/>
        </p:blipFill>
        <p:spPr>
          <a:xfrm>
            <a:off x="3408480" y="2736720"/>
            <a:ext cx="94428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8" descr=""/>
          <p:cNvPicPr/>
          <p:nvPr/>
        </p:nvPicPr>
        <p:blipFill>
          <a:blip r:embed="rId6"/>
          <a:stretch/>
        </p:blipFill>
        <p:spPr>
          <a:xfrm>
            <a:off x="3852720" y="2736720"/>
            <a:ext cx="96372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9" descr=""/>
          <p:cNvPicPr/>
          <p:nvPr/>
        </p:nvPicPr>
        <p:blipFill>
          <a:blip r:embed="rId7"/>
          <a:stretch/>
        </p:blipFill>
        <p:spPr>
          <a:xfrm>
            <a:off x="3449520" y="316404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" descr=""/>
          <p:cNvPicPr/>
          <p:nvPr/>
        </p:nvPicPr>
        <p:blipFill>
          <a:blip r:embed="rId8"/>
          <a:stretch/>
        </p:blipFill>
        <p:spPr>
          <a:xfrm>
            <a:off x="3565440" y="3597120"/>
            <a:ext cx="946080" cy="10242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1" descr=""/>
          <p:cNvPicPr/>
          <p:nvPr/>
        </p:nvPicPr>
        <p:blipFill>
          <a:blip r:embed="rId9"/>
          <a:stretch/>
        </p:blipFill>
        <p:spPr>
          <a:xfrm>
            <a:off x="3565440" y="4029120"/>
            <a:ext cx="970200" cy="101916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2" descr=""/>
          <p:cNvPicPr/>
          <p:nvPr/>
        </p:nvPicPr>
        <p:blipFill>
          <a:blip r:embed="rId10"/>
          <a:stretch/>
        </p:blipFill>
        <p:spPr>
          <a:xfrm>
            <a:off x="3571920" y="4535640"/>
            <a:ext cx="939600" cy="101736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13" descr=""/>
          <p:cNvPicPr/>
          <p:nvPr/>
        </p:nvPicPr>
        <p:blipFill>
          <a:blip r:embed="rId11"/>
          <a:stretch/>
        </p:blipFill>
        <p:spPr>
          <a:xfrm>
            <a:off x="3389400" y="4968720"/>
            <a:ext cx="974520" cy="101772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14" descr=""/>
          <p:cNvPicPr/>
          <p:nvPr/>
        </p:nvPicPr>
        <p:blipFill>
          <a:blip r:embed="rId12"/>
          <a:stretch/>
        </p:blipFill>
        <p:spPr>
          <a:xfrm>
            <a:off x="3571920" y="5394240"/>
            <a:ext cx="944640" cy="102564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15" descr=""/>
          <p:cNvPicPr/>
          <p:nvPr/>
        </p:nvPicPr>
        <p:blipFill>
          <a:blip r:embed="rId13"/>
          <a:stretch/>
        </p:blipFill>
        <p:spPr>
          <a:xfrm>
            <a:off x="4035600" y="2298600"/>
            <a:ext cx="9633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172908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216072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201636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Picture 9" descr=""/>
          <p:cNvPicPr/>
          <p:nvPr/>
        </p:nvPicPr>
        <p:blipFill>
          <a:blip r:embed="rId4"/>
          <a:stretch/>
        </p:blipFill>
        <p:spPr>
          <a:xfrm>
            <a:off x="4498920" y="765000"/>
            <a:ext cx="18734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Picture 10" descr=""/>
          <p:cNvPicPr/>
          <p:nvPr/>
        </p:nvPicPr>
        <p:blipFill>
          <a:blip r:embed="rId5"/>
          <a:stretch/>
        </p:blipFill>
        <p:spPr>
          <a:xfrm>
            <a:off x="6659640" y="765000"/>
            <a:ext cx="20876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11" descr=""/>
          <p:cNvPicPr/>
          <p:nvPr/>
        </p:nvPicPr>
        <p:blipFill>
          <a:blip r:embed="rId6"/>
          <a:stretch/>
        </p:blipFill>
        <p:spPr>
          <a:xfrm>
            <a:off x="6948360" y="4292640"/>
            <a:ext cx="188604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6" name="Picture 12" descr=""/>
          <p:cNvPicPr/>
          <p:nvPr/>
        </p:nvPicPr>
        <p:blipFill>
          <a:blip r:embed="rId7"/>
          <a:stretch/>
        </p:blipFill>
        <p:spPr>
          <a:xfrm>
            <a:off x="2413080" y="765000"/>
            <a:ext cx="18716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7" name="Picture 16" descr=""/>
          <p:cNvPicPr/>
          <p:nvPr/>
        </p:nvPicPr>
        <p:blipFill>
          <a:blip r:embed="rId8"/>
          <a:stretch/>
        </p:blipFill>
        <p:spPr>
          <a:xfrm>
            <a:off x="252360" y="4292640"/>
            <a:ext cx="201600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8" name="Rectangle 17" descr=""/>
          <p:cNvPicPr/>
          <p:nvPr/>
        </p:nvPicPr>
        <p:blipFill>
          <a:blip r:embed="rId9"/>
          <a:stretch/>
        </p:blipFill>
        <p:spPr>
          <a:xfrm>
            <a:off x="92160" y="2444760"/>
            <a:ext cx="90025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Box 1"/>
          <p:cNvGrpSpPr/>
          <p:nvPr/>
        </p:nvGrpSpPr>
        <p:grpSpPr>
          <a:xfrm>
            <a:off x="1414440" y="590400"/>
            <a:ext cx="6044400" cy="1006560"/>
            <a:chOff x="1414440" y="590400"/>
            <a:chExt cx="6044400" cy="1006560"/>
          </a:xfrm>
        </p:grpSpPr>
        <p:pic>
          <p:nvPicPr>
            <p:cNvPr id="270" name="TextBox 1" descr=""/>
            <p:cNvPicPr/>
            <p:nvPr/>
          </p:nvPicPr>
          <p:blipFill>
            <a:blip r:embed="rId1"/>
            <a:stretch/>
          </p:blipFill>
          <p:spPr>
            <a:xfrm>
              <a:off x="1414440" y="590400"/>
              <a:ext cx="5956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"/>
            <p:cNvSpPr/>
            <p:nvPr/>
          </p:nvSpPr>
          <p:spPr>
            <a:xfrm>
              <a:off x="1685160" y="647640"/>
              <a:ext cx="577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d0101"/>
                  </a:solidFill>
                  <a:latin typeface="Comic Sans MS"/>
                </a:rPr>
                <a:t>Список используемых источник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2" name="Прямоугольник 2"/>
          <p:cNvSpPr/>
          <p:nvPr/>
        </p:nvSpPr>
        <p:spPr>
          <a:xfrm>
            <a:off x="755640" y="1197000"/>
            <a:ext cx="756144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. И. Дереклее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Двигательные игры, тренинги и уроки здоровья. М., ВАКО,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. И. Ковалько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доровьесберегающие технологии в начальной школе. М., ВАКО, 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. Н. Максимук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борник текстов для изложений 1-4 классов. М., ВАКО, 2006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.А. Обухова, Н. А. Лемяски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Школа докторов природы или 135 уроков здоровья.  М., ВАКО,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 Г. Рамзае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усский язык. Книга для учителя. М., Дрофа, 2003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. В. Узорова, Е. А. Нефедо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гры с пальчиками. М., АСТ «Астрель», 2006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motivators.ru/sites/default/files/imagecache/main-motivator/motivator-11767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картинка «Спорт - это жизн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ages.yandex.ru/yandsearch?p=2&amp;text=%D0%BA%D0%B0%D1%80%D1%82%D0%B8%D0%BD%D0%BA%D0%B8%20%D0%BE%20%D1%81%D0%BF%D0%BE%D1%80%D1%82%D0%B5&amp;noreask=1&amp;lr=11147&amp;rpt=imag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картинки о спорт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</a:rPr>
              <a:t>http://images.yandex.ru/yandsearch?text=%D0%BA%D0%B0%D1%80%D1%82%D0%B8%D0%BD%D0%BA%D0%B8%20%D0%B0%D1%82%D1%80%D0%B8%D0%B1%D1%83%D1%82%D1%8B%20%D0%BE%D0%BB%D0%B8%D0%BC%D0%BF%D0%B8%D0%B9%D1%81%D0%BA%D0%B8%D1%85%20%D0%B8%D0%B3%D1%80&amp;stype=image&amp;noreask=1&amp;lr=11147</a:t>
            </a:r>
            <a:r>
              <a:rPr b="0" lang="ru-RU" sz="1400" spc="-1" strike="noStrike" u="sng">
                <a:solidFill>
                  <a:srgbClr val="cc66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картинки «Атрибуты Олимпийских игр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photoshopstar.com/wp-content/uploads/2008/08/142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 логотип (эмблема) Олимпийских иг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04:11:33Z</dcterms:created>
  <dc:creator>Котёнок</dc:creator>
  <dc:description/>
  <dc:language>en-US</dc:language>
  <cp:lastModifiedBy>Никитенко</cp:lastModifiedBy>
  <dcterms:modified xsi:type="dcterms:W3CDTF">2013-01-23T11:18:15Z</dcterms:modified>
  <cp:revision>35</cp:revision>
  <dc:subject/>
  <dc:title>О спорт, ты – мир! Надежда мира. Надежда мира всех времен  И славит мир своих кумиров, Их силой духа покорён!  Горит гирлянда поколений Стремленьем к совершенству тел. С огнём в душе от Прометея, Здесь нет понятия «предел».                        Пьер де Кубертен                                   «Ода к спорту»</dc:title>
</cp:coreProperties>
</file>