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464-2DF9-4D05-AE58-BDF2C62C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7CE-77B1-4A19-8DBD-4FB36CC9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60B-D954-4D93-B854-7C163855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44F-C9DB-4412-8690-CE1A2049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74C0-1B8A-4CCE-B4E1-0D1B3A59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2B6-7EC4-4951-96D3-D2F372F9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7268-AC36-418C-A8B4-973EC64F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38A2-4418-49E4-9E4C-678FD50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6A9D-93D2-4B06-B003-C76395DF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9E4A-413B-402E-8C1C-7D6B0997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EA3C-673C-41E3-8A6E-138B9F0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3E4-088D-4CDD-83F6-BB7CF2B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5EDA-BCC9-4EFA-A6DC-3D2BFB6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AD4C-86F3-4162-992C-90CE70F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AF89-2843-41CF-8179-B978D87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FD45-68FD-46A7-BB27-7F974BF7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B8C8-1B27-4B98-B975-BDC50090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1F9E-3782-40E4-8108-808BE204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5F27-1E47-4064-A52F-BEC53168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BAB8-E519-4008-B360-BA344450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5302-EAC4-4488-A82D-A8722044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C84C-DB4F-42AD-8F3D-2015D9A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C53-38F8-4425-87C0-4155B780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D242-E840-49B3-8B1A-E000019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E011-606F-4B9C-BA85-92B2193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4D01-1400-4FE5-BF08-C65AE1F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58A7-3850-42F0-9352-76F9B84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ADB6-3329-4A5A-9D58-1195E828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898F-4E10-4D62-9863-821E09E2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3F46-5C6C-4DC8-8B6A-DDF31830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1EF3-7CDC-441D-AF0D-506745B3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F4E5-99DD-4A33-B40A-4CADAD8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AEF6-0D55-4C12-8E44-D9A5C03B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249-3F92-4C0A-94C4-ABAFC6A8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9BD8-AF28-43E5-91B0-0654A45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BF2F-297D-40F5-84E0-C542992E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A4DD-ADAA-4F44-8EFE-F7302344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18B6-8FE6-46A8-A477-6BE8131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A4DA-BFB7-4C1A-AD3C-1DFC9864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56C72-2882-4CD5-AF0E-11076B41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3D78-4C4D-4022-BC5A-B94D516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ECB9-795B-4105-801F-D9F1ACA7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9272-3949-4289-BF0E-C102FD8D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2F53-82D9-4739-AB3D-7C2C834D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3C5-B123-4022-AC54-090616A2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FB324-8815-47FE-92A9-8FA7DDE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DEE45-1E01-4470-B8BF-49D7CF73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4FDB-8F7C-4B39-88BB-3346737F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67E5-37D1-4875-8B24-B97F8C6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4D2B-824B-4EAC-AE1C-8201C5E3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E613-936B-4CE1-B0ED-A5D86C9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6F531-3976-4590-AFF7-6A32ED92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625E-8F82-487F-9531-4F245F5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B2D9E-CFD4-4FBD-80DB-9FB39B2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959B-ED60-4DA5-999D-7F845B68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978-2DE0-491B-B77A-7AC09BC8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1462-BB7F-4F6B-8A4B-5C3F5397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6A2-63A1-4265-A98A-95F6C7F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826-8A5A-49E7-BD78-0BDD0DB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32D-F022-4565-AFF2-27E5E49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6CC3-875E-4111-8CC1-616035611FB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A41B-F40F-4D5C-B3FE-CEAEB1FF30D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090E-DFB0-443E-BC60-3D57E763000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AD8D-3272-40A3-995D-80A9406F3B3A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8518-E566-4677-B568-F5B07EC45AF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2139840" y="189000"/>
            <a:ext cx="511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ниципальное 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гельсского  муниципального  района  Саратовской 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TextBox 4"/>
          <p:cNvGrpSpPr/>
          <p:nvPr/>
        </p:nvGrpSpPr>
        <p:grpSpPr>
          <a:xfrm>
            <a:off x="1238400" y="1828800"/>
            <a:ext cx="6576840" cy="1712880"/>
            <a:chOff x="1238400" y="1828800"/>
            <a:chExt cx="6576840" cy="1712880"/>
          </a:xfrm>
        </p:grpSpPr>
        <p:pic>
          <p:nvPicPr>
            <p:cNvPr id="220" name="TextBox 4" descr=""/>
            <p:cNvPicPr/>
            <p:nvPr/>
          </p:nvPicPr>
          <p:blipFill>
            <a:blip r:embed="rId1"/>
            <a:stretch/>
          </p:blipFill>
          <p:spPr>
            <a:xfrm>
              <a:off x="1238400" y="1828800"/>
              <a:ext cx="657684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"/>
            <p:cNvSpPr/>
            <p:nvPr/>
          </p:nvSpPr>
          <p:spPr>
            <a:xfrm>
              <a:off x="1600200" y="1916280"/>
              <a:ext cx="61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Comic Sans MS"/>
                </a:rPr>
                <a:t>Изложение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Comic Sans MS"/>
                </a:rPr>
                <a:t>«Олимпийские игры»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Заголовок 3"/>
          <p:cNvSpPr/>
          <p:nvPr/>
        </p:nvSpPr>
        <p:spPr>
          <a:xfrm>
            <a:off x="2682720" y="3284640"/>
            <a:ext cx="4032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0101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0101"/>
                </a:solidFill>
                <a:latin typeface="Times New Roman"/>
                <a:ea typeface="Times New Roman"/>
              </a:rPr>
              <a:t>в 3 классе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03640" y="5600880"/>
            <a:ext cx="270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втор: Волкова Наталья Александро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6377"/>
          <p:cNvPicPr/>
          <p:nvPr/>
        </p:nvPicPr>
        <p:blipFill>
          <a:blip r:embed="rId2"/>
          <a:stretch/>
        </p:blipFill>
        <p:spPr>
          <a:xfrm>
            <a:off x="611280" y="3359160"/>
            <a:ext cx="2801880" cy="349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" descr=""/>
          <p:cNvPicPr/>
          <p:nvPr/>
        </p:nvPicPr>
        <p:blipFill>
          <a:blip r:embed="rId3"/>
          <a:stretch/>
        </p:blipFill>
        <p:spPr>
          <a:xfrm>
            <a:off x="6012000" y="3352680"/>
            <a:ext cx="251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4"/>
          <p:cNvGrpSpPr/>
          <p:nvPr/>
        </p:nvGrpSpPr>
        <p:grpSpPr>
          <a:xfrm>
            <a:off x="4127400" y="676440"/>
            <a:ext cx="4778640" cy="5072040"/>
            <a:chOff x="4127400" y="676440"/>
            <a:chExt cx="4778640" cy="5072040"/>
          </a:xfrm>
        </p:grpSpPr>
        <p:pic>
          <p:nvPicPr>
            <p:cNvPr id="227" name="Rectangle 4" descr=""/>
            <p:cNvPicPr/>
            <p:nvPr/>
          </p:nvPicPr>
          <p:blipFill>
            <a:blip r:embed="rId1"/>
            <a:stretch/>
          </p:blipFill>
          <p:spPr>
            <a:xfrm>
              <a:off x="4127400" y="676440"/>
              <a:ext cx="477864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3"/>
            <p:cNvSpPr/>
            <p:nvPr/>
          </p:nvSpPr>
          <p:spPr>
            <a:xfrm>
              <a:off x="4140360" y="692280"/>
              <a:ext cx="475272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О спорт, ты – мир!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Надежда мира.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Надежда мира всех времен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И славит мир своих кумиров,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Их силой духа покорён!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Горит гирлянда поколений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Стремленьем к совершенству тел.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С огнём в душе от Прометея,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Здесь нет понятия «предел».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</a:rPr>
                <a:t>Пьер де Кубертен «Ода к спорту»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9" name="Picture 12" descr=""/>
          <p:cNvPicPr/>
          <p:nvPr/>
        </p:nvPicPr>
        <p:blipFill>
          <a:blip r:embed="rId2"/>
          <a:stretch/>
        </p:blipFill>
        <p:spPr>
          <a:xfrm>
            <a:off x="49320" y="291960"/>
            <a:ext cx="2687400" cy="231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/>
          <p:cNvPicPr/>
          <p:nvPr/>
        </p:nvPicPr>
        <p:blipFill>
          <a:blip r:embed="rId3"/>
          <a:stretch/>
        </p:blipFill>
        <p:spPr>
          <a:xfrm>
            <a:off x="1968480" y="3889440"/>
            <a:ext cx="2286000" cy="246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4"/>
          <a:stretch/>
        </p:blipFill>
        <p:spPr>
          <a:xfrm>
            <a:off x="938160" y="2163600"/>
            <a:ext cx="279864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058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Изложение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Олимпийские игры.</a:t>
            </a:r>
            <a:endParaRPr b="0" lang="en-US" sz="4400" spc="-1" strike="noStrike">
              <a:solidFill>
                <a:srgbClr val="26262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yrillicOld"/>
              </a:rPr>
              <a:t>Родина Олимпийских игр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4" name="Picture 5" descr="46430953_4"/>
          <p:cNvPicPr/>
          <p:nvPr/>
        </p:nvPicPr>
        <p:blipFill>
          <a:blip r:embed="rId1"/>
          <a:stretch/>
        </p:blipFill>
        <p:spPr>
          <a:xfrm>
            <a:off x="1981080" y="3486240"/>
            <a:ext cx="3157560" cy="2895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2004Panathinaikon"/>
          <p:cNvPicPr/>
          <p:nvPr/>
        </p:nvPicPr>
        <p:blipFill>
          <a:blip r:embed="rId2"/>
          <a:stretch/>
        </p:blipFill>
        <p:spPr>
          <a:xfrm>
            <a:off x="5943600" y="3376440"/>
            <a:ext cx="2687760" cy="3043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greece2"/>
          <p:cNvPicPr/>
          <p:nvPr/>
        </p:nvPicPr>
        <p:blipFill>
          <a:blip r:embed="rId3"/>
          <a:stretch/>
        </p:blipFill>
        <p:spPr>
          <a:xfrm>
            <a:off x="324000" y="963720"/>
            <a:ext cx="3260520" cy="2498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4"/>
          <a:stretch/>
        </p:blipFill>
        <p:spPr>
          <a:xfrm>
            <a:off x="3998880" y="963720"/>
            <a:ext cx="2822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_FuturaRoundTtlCmDFr"/>
              </a:rPr>
              <a:t>Олимпийские атрибут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9" name="Picture 5" descr="6377"/>
          <p:cNvPicPr/>
          <p:nvPr/>
        </p:nvPicPr>
        <p:blipFill>
          <a:blip r:embed="rId1"/>
          <a:srcRect l="1693" t="0" r="0" b="12856"/>
          <a:stretch/>
        </p:blipFill>
        <p:spPr>
          <a:xfrm>
            <a:off x="5148360" y="1413000"/>
            <a:ext cx="3684600" cy="5445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5f2386969cdce907842f0684ab4edee3_big"/>
          <p:cNvPicPr/>
          <p:nvPr/>
        </p:nvPicPr>
        <p:blipFill>
          <a:blip r:embed="rId2"/>
          <a:srcRect l="-203" t="0" r="0" b="27033"/>
          <a:stretch/>
        </p:blipFill>
        <p:spPr>
          <a:xfrm>
            <a:off x="826920" y="1938240"/>
            <a:ext cx="3738600" cy="4919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3"/>
          <a:stretch/>
        </p:blipFill>
        <p:spPr>
          <a:xfrm>
            <a:off x="5553000" y="4230720"/>
            <a:ext cx="2779920" cy="9316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6" descr=""/>
          <p:cNvPicPr/>
          <p:nvPr/>
        </p:nvPicPr>
        <p:blipFill>
          <a:blip r:embed="rId4"/>
          <a:stretch/>
        </p:blipFill>
        <p:spPr>
          <a:xfrm>
            <a:off x="1311120" y="5310360"/>
            <a:ext cx="27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475920"/>
            <a:ext cx="229716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План.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88840" y="1412640"/>
            <a:ext cx="742824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оревнования у города Олимп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вященный обыча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лавный обычай живёт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Орфографическая подготовка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03640" y="1413000"/>
            <a:ext cx="27367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ан…ви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…р…ш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…кие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нош…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…б…рались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…та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…щенный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…являлась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…ртивна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…езжаютс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…ходят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4035600" y="1006560"/>
            <a:ext cx="944280" cy="10173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" descr=""/>
          <p:cNvPicPr/>
          <p:nvPr/>
        </p:nvPicPr>
        <p:blipFill>
          <a:blip r:embed="rId2"/>
          <a:stretch/>
        </p:blipFill>
        <p:spPr>
          <a:xfrm>
            <a:off x="3859200" y="1438200"/>
            <a:ext cx="944640" cy="1019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5" descr=""/>
          <p:cNvPicPr/>
          <p:nvPr/>
        </p:nvPicPr>
        <p:blipFill>
          <a:blip r:embed="rId3"/>
          <a:stretch/>
        </p:blipFill>
        <p:spPr>
          <a:xfrm>
            <a:off x="3408480" y="1438200"/>
            <a:ext cx="944280" cy="10191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6" descr=""/>
          <p:cNvPicPr/>
          <p:nvPr/>
        </p:nvPicPr>
        <p:blipFill>
          <a:blip r:embed="rId4"/>
          <a:stretch/>
        </p:blipFill>
        <p:spPr>
          <a:xfrm>
            <a:off x="3591000" y="1871640"/>
            <a:ext cx="93816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7" descr=""/>
          <p:cNvPicPr/>
          <p:nvPr/>
        </p:nvPicPr>
        <p:blipFill>
          <a:blip r:embed="rId5"/>
          <a:stretch/>
        </p:blipFill>
        <p:spPr>
          <a:xfrm>
            <a:off x="3408480" y="2736720"/>
            <a:ext cx="94428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8" descr=""/>
          <p:cNvPicPr/>
          <p:nvPr/>
        </p:nvPicPr>
        <p:blipFill>
          <a:blip r:embed="rId6"/>
          <a:stretch/>
        </p:blipFill>
        <p:spPr>
          <a:xfrm>
            <a:off x="3852720" y="2736720"/>
            <a:ext cx="96372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9" descr=""/>
          <p:cNvPicPr/>
          <p:nvPr/>
        </p:nvPicPr>
        <p:blipFill>
          <a:blip r:embed="rId7"/>
          <a:stretch/>
        </p:blipFill>
        <p:spPr>
          <a:xfrm>
            <a:off x="3449520" y="316404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" descr=""/>
          <p:cNvPicPr/>
          <p:nvPr/>
        </p:nvPicPr>
        <p:blipFill>
          <a:blip r:embed="rId8"/>
          <a:stretch/>
        </p:blipFill>
        <p:spPr>
          <a:xfrm>
            <a:off x="3565440" y="3597120"/>
            <a:ext cx="946080" cy="10242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1" descr=""/>
          <p:cNvPicPr/>
          <p:nvPr/>
        </p:nvPicPr>
        <p:blipFill>
          <a:blip r:embed="rId9"/>
          <a:stretch/>
        </p:blipFill>
        <p:spPr>
          <a:xfrm>
            <a:off x="3565440" y="4029120"/>
            <a:ext cx="970200" cy="101916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2" descr=""/>
          <p:cNvPicPr/>
          <p:nvPr/>
        </p:nvPicPr>
        <p:blipFill>
          <a:blip r:embed="rId10"/>
          <a:stretch/>
        </p:blipFill>
        <p:spPr>
          <a:xfrm>
            <a:off x="3571920" y="4535640"/>
            <a:ext cx="939600" cy="101736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13" descr=""/>
          <p:cNvPicPr/>
          <p:nvPr/>
        </p:nvPicPr>
        <p:blipFill>
          <a:blip r:embed="rId11"/>
          <a:stretch/>
        </p:blipFill>
        <p:spPr>
          <a:xfrm>
            <a:off x="3389400" y="4968720"/>
            <a:ext cx="974520" cy="101772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14" descr=""/>
          <p:cNvPicPr/>
          <p:nvPr/>
        </p:nvPicPr>
        <p:blipFill>
          <a:blip r:embed="rId12"/>
          <a:stretch/>
        </p:blipFill>
        <p:spPr>
          <a:xfrm>
            <a:off x="3571920" y="5394240"/>
            <a:ext cx="944640" cy="102564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15" descr=""/>
          <p:cNvPicPr/>
          <p:nvPr/>
        </p:nvPicPr>
        <p:blipFill>
          <a:blip r:embed="rId13"/>
          <a:stretch/>
        </p:blipFill>
        <p:spPr>
          <a:xfrm>
            <a:off x="4035600" y="2298600"/>
            <a:ext cx="9633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172908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216072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201636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Picture 9" descr=""/>
          <p:cNvPicPr/>
          <p:nvPr/>
        </p:nvPicPr>
        <p:blipFill>
          <a:blip r:embed="rId4"/>
          <a:stretch/>
        </p:blipFill>
        <p:spPr>
          <a:xfrm>
            <a:off x="4498920" y="765000"/>
            <a:ext cx="18734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Picture 10" descr=""/>
          <p:cNvPicPr/>
          <p:nvPr/>
        </p:nvPicPr>
        <p:blipFill>
          <a:blip r:embed="rId5"/>
          <a:stretch/>
        </p:blipFill>
        <p:spPr>
          <a:xfrm>
            <a:off x="6659640" y="765000"/>
            <a:ext cx="20876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11" descr=""/>
          <p:cNvPicPr/>
          <p:nvPr/>
        </p:nvPicPr>
        <p:blipFill>
          <a:blip r:embed="rId6"/>
          <a:stretch/>
        </p:blipFill>
        <p:spPr>
          <a:xfrm>
            <a:off x="6948360" y="4292640"/>
            <a:ext cx="188604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6" name="Picture 12" descr=""/>
          <p:cNvPicPr/>
          <p:nvPr/>
        </p:nvPicPr>
        <p:blipFill>
          <a:blip r:embed="rId7"/>
          <a:stretch/>
        </p:blipFill>
        <p:spPr>
          <a:xfrm>
            <a:off x="2413080" y="765000"/>
            <a:ext cx="18716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7" name="Picture 16" descr=""/>
          <p:cNvPicPr/>
          <p:nvPr/>
        </p:nvPicPr>
        <p:blipFill>
          <a:blip r:embed="rId8"/>
          <a:stretch/>
        </p:blipFill>
        <p:spPr>
          <a:xfrm>
            <a:off x="252360" y="4292640"/>
            <a:ext cx="201600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8" name="Rectangle 17" descr=""/>
          <p:cNvPicPr/>
          <p:nvPr/>
        </p:nvPicPr>
        <p:blipFill>
          <a:blip r:embed="rId9"/>
          <a:stretch/>
        </p:blipFill>
        <p:spPr>
          <a:xfrm>
            <a:off x="92160" y="2444760"/>
            <a:ext cx="90025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Box 1"/>
          <p:cNvGrpSpPr/>
          <p:nvPr/>
        </p:nvGrpSpPr>
        <p:grpSpPr>
          <a:xfrm>
            <a:off x="1414440" y="590400"/>
            <a:ext cx="6044400" cy="1006560"/>
            <a:chOff x="1414440" y="590400"/>
            <a:chExt cx="6044400" cy="1006560"/>
          </a:xfrm>
        </p:grpSpPr>
        <p:pic>
          <p:nvPicPr>
            <p:cNvPr id="270" name="TextBox 1" descr=""/>
            <p:cNvPicPr/>
            <p:nvPr/>
          </p:nvPicPr>
          <p:blipFill>
            <a:blip r:embed="rId1"/>
            <a:stretch/>
          </p:blipFill>
          <p:spPr>
            <a:xfrm>
              <a:off x="1414440" y="590400"/>
              <a:ext cx="5956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"/>
            <p:cNvSpPr/>
            <p:nvPr/>
          </p:nvSpPr>
          <p:spPr>
            <a:xfrm>
              <a:off x="1685160" y="647640"/>
              <a:ext cx="577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d0101"/>
                  </a:solidFill>
                  <a:latin typeface="Comic Sans MS"/>
                </a:rPr>
                <a:t>Список используемых источник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2" name="Прямоугольник 2"/>
          <p:cNvSpPr/>
          <p:nvPr/>
        </p:nvSpPr>
        <p:spPr>
          <a:xfrm>
            <a:off x="755640" y="1197000"/>
            <a:ext cx="756144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. И. Дереклее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Двигательные игры, тренинги и уроки здоровья. М., ВАКО,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. И. Ковалько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доровьесберегающие технологии в начальной школе. М., ВАКО, 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. Н. Максимук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борник текстов для изложений 1-4 классов. М., ВАКО, 2006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.А. Обухова, Н. А. Лемяски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Школа докторов природы или 135 уроков здоровья.  М., ВАКО,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 Г. Рамзае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усский язык. Книга для учителя. М., Дрофа, 2003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. В. Узорова, Е. А. Нефедо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гры с пальчиками. М., АСТ «Астрель», 2006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motivators.ru/sites/default/files/imagecache/main-motivator/motivator-11767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картинка «Спорт - это жизн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ages.yandex.ru/yandsearch?p=2&amp;text=%D0%BA%D0%B0%D1%80%D1%82%D0%B8%D0%BD%D0%BA%D0%B8%20%D0%BE%20%D1%81%D0%BF%D0%BE%D1%80%D1%82%D0%B5&amp;noreask=1&amp;lr=11147&amp;rpt=imag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картинки о спорт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</a:rPr>
              <a:t>http://images.yandex.ru/yandsearch?text=%D0%BA%D0%B0%D1%80%D1%82%D0%B8%D0%BD%D0%BA%D0%B8%20%D0%B0%D1%82%D1%80%D0%B8%D0%B1%D1%83%D1%82%D1%8B%20%D0%BE%D0%BB%D0%B8%D0%BC%D0%BF%D0%B8%D0%B9%D1%81%D0%BA%D0%B8%D1%85%20%D0%B8%D0%B3%D1%80&amp;stype=image&amp;noreask=1&amp;lr=11147</a:t>
            </a:r>
            <a:r>
              <a:rPr b="0" lang="ru-RU" sz="1400" spc="-1" strike="noStrike" u="sng">
                <a:solidFill>
                  <a:srgbClr val="cc66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картинки «Атрибуты Олимпийских игр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photoshopstar.com/wp-content/uploads/2008/08/142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 логотип (эмблема) Олимпийских иг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04:11:33Z</dcterms:created>
  <dc:creator>Котёнок</dc:creator>
  <dc:description/>
  <dc:language>en-US</dc:language>
  <cp:lastModifiedBy>Никитенко</cp:lastModifiedBy>
  <dcterms:modified xsi:type="dcterms:W3CDTF">2013-01-23T11:18:15Z</dcterms:modified>
  <cp:revision>35</cp:revision>
  <dc:subject/>
  <dc:title>О спорт, ты – мир! Надежда мира. Надежда мира всех времен  И славит мир своих кумиров, Их силой духа покорён!  Горит гирлянда поколений Стремленьем к совершенству тел. С огнём в душе от Прометея, Здесь нет понятия «предел».                        Пьер де Кубертен                                   «Ода к спорту»</dc:title>
</cp:coreProperties>
</file>